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D3B-28EB-42B7-9772-481149B4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731-D053-4605-8F66-25087462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19F-EDAD-4152-B5A1-9B6ECF7C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03A-C074-4221-A310-6213A924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487-4506-4042-9CA3-48DC8CD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1AE-960E-4942-B253-036DA8ED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508-25D4-4DCB-A1AA-F051BEE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6CE-9D40-4EA6-A54F-B51C5D84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70F-58D7-435B-8541-EA7CF1E5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0B0-369B-47B9-AAB3-25B5D5D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58C-BF36-42C3-9F6A-DC13E2B1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CFF-1B67-46CC-A43C-4C3EA16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AED-93B5-49CC-B7E4-93B6DFAC7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377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169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69343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70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391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63248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962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839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99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17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9343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55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54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78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05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87440" y="762120"/>
            <a:ext cx="819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8680" y="966960"/>
            <a:ext cx="848664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6600" y="609480"/>
            <a:ext cx="7930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47760" y="457200"/>
            <a:ext cx="8448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04920" y="444600"/>
            <a:ext cx="84582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4678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5438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6201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0866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85800" y="800280"/>
            <a:ext cx="77724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60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1:18:34Z</dcterms:created>
  <dc:creator>Dr. Ashraf Abdelaziz</dc:creator>
  <dc:description/>
  <dc:language>en-US</dc:language>
  <cp:lastModifiedBy>Dr. Ashraf Abdelaziz</cp:lastModifiedBy>
  <dcterms:modified xsi:type="dcterms:W3CDTF">2013-12-02T12:23:50Z</dcterms:modified>
  <cp:revision>1</cp:revision>
  <dc:subject/>
  <dc:title>Slide 1</dc:title>
</cp:coreProperties>
</file>