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203-990E-464D-8D37-158531A5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7B9-3A7E-416C-959E-A253741A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9C2-07C1-4270-92E0-756D9565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98E-5A7F-4304-8153-6A699A52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BE4-4DBD-4858-9E5C-DB056810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C0F-FDA8-448E-8DB7-5266F8ED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2E7-B61A-475E-94EA-6B321BA7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DAF-7987-42AA-82F9-31E1255C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F94-54FF-490A-9109-80A04494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10F-EABA-4CA3-8590-17B9F7D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25D-DFF7-41ED-9CC8-D9CBBB0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07B-3BBD-46B7-85EE-6C31D5DA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F2E0-CF66-4456-A04F-50E53E1D5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377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169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69343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70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391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63248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962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839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99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17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9343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55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454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878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05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87440" y="762120"/>
            <a:ext cx="819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8680" y="966960"/>
            <a:ext cx="848664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06600" y="609480"/>
            <a:ext cx="7930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47760" y="457200"/>
            <a:ext cx="8448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04920" y="444600"/>
            <a:ext cx="84582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46784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5438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6201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0866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85800" y="800280"/>
            <a:ext cx="77724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60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1:18:34Z</dcterms:created>
  <dc:creator>Dr. Ashraf Abdelaziz</dc:creator>
  <dc:description/>
  <dc:language>en-US</dc:language>
  <cp:lastModifiedBy>Dr. Ashraf Abdelaziz</cp:lastModifiedBy>
  <dcterms:modified xsi:type="dcterms:W3CDTF">2013-12-02T12:23:50Z</dcterms:modified>
  <cp:revision>1</cp:revision>
  <dc:subject/>
  <dc:title>Slide 1</dc:title>
</cp:coreProperties>
</file>