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BBB7-A46B-4B8E-98E7-DD4E59956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7615-F1B6-49A8-8581-2368824F3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3338-1127-449B-8BD3-1E4C58C08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574F-71D3-49E9-9352-129B45E7A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B9E4-E098-429A-8C48-996EFB9D18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B5D7-801C-4D8C-95F0-389CD6A30D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C9F7-9082-4A49-B96A-9B9C1057E9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81DF-77FB-4141-9312-A7375F0E80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FEB0-B1D5-4070-8297-D47ECDDCD8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89A8-3E31-4517-8A75-4EDFFE05BA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3FE3-5F1A-4722-BFBF-A30C39339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24D8-332D-4012-A068-70ED34BB3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677E8-038C-4EBA-95D5-56F00FE00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DAC0-12F0-4C8C-81B7-2E32E96773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F08A-2176-4F38-9C9A-587E8E718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A12B-4066-48C5-BD70-6352607BD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C6AA-FB66-485C-8D73-4C12758761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35F-D3FB-4606-B719-0BB084E60D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C1B-356F-481A-8512-86C698B98C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01B-6736-4A18-B6CD-9A35930460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7C4-4083-4D2B-8E42-8C94546AA5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481-FD5B-43C0-8663-10D0D989A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8A6C-63CB-4745-990A-9CF28252F1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193-E35D-4984-A8E8-02960F8549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8ED-4BDD-49E8-A59B-D78C0A5672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D79-D8D4-4363-8F58-C2F4754FCD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C40-E358-4D76-B0CF-8A91CA035D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D08-A141-4C07-AC7B-576B1002B5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F34-41A0-449C-B0F2-9A9750484F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F78-6BE4-45AF-9E1C-591EBEF6DE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80EC8-3F16-46E4-90BA-DE0BF4463E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BC06F-FC86-4678-91CF-AB9B2DF9E3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54EE8-F531-4CB6-88C8-F131C1C4E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D114-8ACE-4AA7-B8CE-4F775AA8A4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200B4-14D8-430E-AC27-7BC3232A99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E9FEB-C6B2-44A5-BDE8-8354D4FEEB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CA29B-2591-4509-9039-ADD81E96A6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11276-107D-45F9-932D-C596559034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33E19-B885-4AB5-A39C-2D6D511244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D65B-C0E6-4803-B289-80BD816CE8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FC8AB-C43F-427C-9F7B-D5BC1C920C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F3012-9F5C-4E6C-9EA3-1591EDEE38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A9DCB-FBFA-48B6-A257-9FCD84D36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BEE5-BCE9-4950-87AC-FF828419E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2848-B736-4947-885F-680BA5F33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5A07-433A-46F4-80C7-7A5FA33C1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8B96-2AD1-42C0-ACD1-CF6780222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94F9-CF00-430D-8F9B-D3BB5DA65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691-880D-4F72-ACD9-980F7952B2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A63-8253-4B79-BCF7-CEB4D55B8C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2052-418F-40DB-9C7E-075B842AD0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FCFD-E71D-4326-8954-D69DFE195CD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Rel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9529-29FE-47F4-898F-1EA5FE5C7F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tuple is distinct; there are no duplicate tup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attributes has no significa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tuples has no significance, theoretical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12E-E5A7-4844-A11B-E7A716DF80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1532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 attribute, or set of attributes, that uniquely identifies a tuple with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 each tuple of R, values of CK uniquely identify that tuple (uniquenes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proper subset of CK has the uniqueness property (irreducibility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264C-5C08-4D2D-909B-CCE914332A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27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 selected to identify tuples uniquely within 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ternate Ke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s that are not selected to be primary key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reign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ttribute, or set of attributes, within one relation that matches candidate key of some (possibly same)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AAE-DBE6-4796-AE38-2DEECF2E0E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value for an attribute that is currently unknown or not applicable for tupl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eals with incomplete or exceptional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the absence of a value and is not the same as zero or spaces, which are valu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C35B-7F15-4DCA-B3DA-15D5CCE262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 a base relation, no attribute of a primary key can be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foreign key exists in a relation, either foreign key value must match a candidate key value of some tuple in its home relation or foreign key value must be wholly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0DB-6BE0-4502-A323-7F08C17CEB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General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rules specified by users or database administrators that define or constrain some aspect of the enterpri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4E9-4B5C-4E01-BAA4-759DE6B32B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 Re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corresponding to an entity in conceptual schema, whose tuples are physically stored in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ynamic result of one or more relational operations operating on base relations to produce another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9DEF-48A1-4ECB-B306-D980E61BFF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1360" y="155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virtual relation that does not necessarily actually exist in the database but is produced upon request, at time of reques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ents of a view are defined as a query on one or more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s are dynamic, meaning that changes made to base relations that affect view attributes are immediately reflected in the view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7019-56D4-444C-B7F6-65F743B71C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urpose of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vides powerful and flexible security mechanism by hiding parts of database from certain user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mits users to access data in a customized way, so that same data can be seen by different users in different ways, at same ti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 simplify complex operations on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B93-2E35-47E6-9615-8E075FB504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552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pdates to a base relation should be immediately reflected in all views that reference that base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the view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updateabl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, underlying base relation should reflect chan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20B-42CD-4415-AD91-917B8689D5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4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erminology of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ables are used to represent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ies of database rel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identify CK, PK, and FK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eaning of entity integrity and referential integr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urpose and advantages of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79C9-C592-4D9C-AE55-C6B7F403611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re are restrictions on types of modifications that can be made through view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allowed if query involves a single base relation and contains a candidate key of base relation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multiple base rel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aggregation or grouping oper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05AF-4B4C-4632-B409-0FEB6735F2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772776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s a table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Only applies to logical structure of the database, not the physical structur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s a named column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main is the set of allowable values for one or more attribu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5A14-1A0D-48D5-B407-FE16C9EF55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uple is a row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is the number of attribut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is the number of tupl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al Database is a collection of normalized relations with distinct relation nam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21F4-D2E2-4A0D-8DE0-4A3EE3FA03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stances of  Branch and Staf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4" descr="C03NF01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503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4003-CB13-488D-BBDA-6A5CF4B276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Attribute Domai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5" descr="C03NF02"/>
          <p:cNvPicPr/>
          <p:nvPr/>
        </p:nvPicPr>
        <p:blipFill>
          <a:blip r:embed="rId1"/>
          <a:stretch/>
        </p:blipFill>
        <p:spPr>
          <a:xfrm>
            <a:off x="539640" y="1700280"/>
            <a:ext cx="7728120" cy="316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1D08-B415-4BA5-ABF3-21E5D042E5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lternative Terminology for Relational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C03NT01"/>
          <p:cNvPicPr/>
          <p:nvPr/>
        </p:nvPicPr>
        <p:blipFill>
          <a:blip r:embed="rId1"/>
          <a:stretch/>
        </p:blipFill>
        <p:spPr>
          <a:xfrm>
            <a:off x="539640" y="1916280"/>
            <a:ext cx="772812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5E2-6E90-4424-8E80-793B2BB12C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4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defined by a set of attribute and domain name pai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1(A1:D1,A2:D2,A3:D3,....,An:D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al database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t of relation schemas, each with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{R1,R2,R3, ... , R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74B-01E0-4377-A8C1-AB907ADFCF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 name is distinct from all other relation names in relatio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cell of relation contains exactly one atomic (single)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attribute has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ues of an attribute are all from the same doma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3 of textbook
Database Systems: A Practical Approach to Design, Implementation and Management</dc:description>
  <dc:language>en-US</dc:language>
  <cp:lastModifiedBy>h</cp:lastModifiedBy>
  <cp:lastPrinted>1998-07-28T13:47:34Z</cp:lastPrinted>
  <dcterms:modified xsi:type="dcterms:W3CDTF">2014-02-17T21:56:58Z</dcterms:modified>
  <cp:revision>58</cp:revision>
  <dc:subject>Database Systems</dc:subject>
  <dc:title>Chapter 3</dc:title>
</cp:coreProperties>
</file>