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4575-1D8C-4191-A451-D6939670D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0206-2E5C-4390-8B96-2F784CFDF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8E13-6CCD-4AA3-95B5-B14FB6ADD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8CBC-F5E0-4FD4-ADA8-DFA17E3AF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9148-07B6-4F20-B2F4-3F1A5F641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4581-6F02-4EEB-875D-AF177C2DD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F2CF-BA2E-42CD-9CDF-4FA4936852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8461-B19B-49F2-91F4-D5ADC0229D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6A3E-7671-4CD1-9A56-7E885772AF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84CB-7FB2-43EA-ADD8-5592620F6A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A392-647D-4A8D-B336-68EABECACD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65B7-3427-4672-9DF3-8235D1CDC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4F74-AF3B-4201-BED5-C5A1F903DD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854E-52CF-40D9-956D-D1529501CE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8A09-6A1D-4B33-8534-DE7152D89A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7E6B-D752-418B-9571-5F65965F75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06C3-13FB-4AD4-A08F-C56C307789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A0F-5C66-48AB-82A1-8EA26579C6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78B-6028-4D4B-9667-D93C3F4AD3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2C1-0422-4C91-B4FA-B0984B321E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71B-183A-4461-BD14-263AADD3F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BEC-20CD-4D39-85F2-DBB604A5E9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D754-152E-4BAF-ADE2-5B99A24667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CF8-E8F7-408F-878C-CC2173087E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393-2912-43BF-8FA5-9B4A5C638D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48A-E9AB-49E4-BFB2-E209AFF89C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DC5-DA7F-492C-9D36-738F73FD1D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814-5974-4BFD-9290-1F48FC65C0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563-09E2-47C6-BDF9-BCC280B5DB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566-152B-4A2F-AD99-1537AD9D79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77350-3BE6-4A44-A437-E0F4F786C6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C66B9-6F33-4C01-9328-24A183522A9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2E839-49E0-42D8-B634-9A513EECA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41FD-83F9-4883-83D9-86B6FA64E4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3CE7-D01F-4AC5-A527-391A535154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C8963-7DB2-4E0D-998A-A204C9F705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A6002-0CDA-43C5-A6A0-A2542CB278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DB30C-9739-4D3B-BE08-8A641006D2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4F997-70AC-4DB6-B2D0-053C7A4C65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6EFA-159D-42F2-A86F-0616942D1A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3FECC-387B-4D5A-9343-A4146EAB37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1B8EB-C5D4-4BD8-88C3-5FC8AA1F83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4D7FC-F34F-471A-88A7-3A919978C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F975-7A45-4008-A1FD-5786260FB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D2C0-8FF0-48D8-8AAA-7CE4D9E01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9F6E-6D54-40E5-BAAD-BAEBB15B9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EF46-7126-43A2-A41A-1AD0274E7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81DE-E00C-40A6-9041-483F1C6F0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A66-978E-4D71-BB5A-E0F8BF0FD4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576D-1E8D-4D1C-A850-AE878E80F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1AC-CEE0-4502-AA08-CC633147F01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0A44-EEE3-4279-9E49-35E9A8D3626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Rel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8876-D80F-40FC-AE53-366E707F70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tuple is distinct; there are no duplicate tup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attributes has no significa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tuples has no significance, theoretical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498-CCD0-49F3-8F6A-BA1BC92043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1532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 attribute, or set of attributes, that uniquely identifies a tuple with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 each tuple of R, values of CK uniquely identify that tuple (uniquenes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proper subset of CK has the uniqueness property (irreducibility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5AC-9435-41A9-B7B0-FE02BB10CE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27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 selected to identify tuples uniquely within 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ternate Ke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s that are not selected to be primary key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reign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ttribute, or set of attributes, within one relation that matches candidate key of some (possibly same)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C089-3ACE-430D-8AFD-F8C853DDA5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value for an attribute that is currently unknown or not applicable for tupl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eals with incomplete or exceptional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the absence of a value and is not the same as zero or spaces, which are valu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E559-EE92-488B-81BD-DB347290DC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 a base relation, no attribute of a primary key can be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foreign key exists in a relation, either foreign key value must match a candidate key value of some tuple in its home relation or foreign key value must be wholly nul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1D40-AAF9-4981-BA17-2F8F3DC982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General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dditional rules specified by users or database administrators that define or constrain some aspect of the enterpri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51D-62F9-4184-9FDE-34AFAACDD63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 Re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corresponding to an entity in conceptual schema, whose tuples are physically stored in datab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ynamic result of one or more relational operations operating on base relations to produce another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51E-CDEC-400A-AF4C-BF20CB5BCC7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1360" y="155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virtual relation that does not necessarily actually exist in the database but is produced upon request, at time of reques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tents of a view are defined as a query on one or more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iews are dynamic, meaning that changes made to base relations that affect view attributes are immediately reflected in the view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1C5D-D6F9-4BCA-9783-1B35C4514B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urpose of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vides powerful and flexible security mechanism by hiding parts of database from certain user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ermits users to access data in a customized way, so that same data can be seen by different users in different ways, at same ti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 simplify complex operations on base relatio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8EE4-E9DC-44F1-AC93-9C7D95E455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5520" y="15573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pdates to a base relation should be immediately reflected in all views that reference that base rela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the view is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updateabl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, underlying base relation should reflect chan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83B-F981-4B10-A63E-58F6083349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4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erminology of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ables are used to represent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ies of database rel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identify CK, PK, and FK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eaning of entity integrity and referential integr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urpose and advantages of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7FA-567F-4ED7-A761-BC2D85B84D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Updating View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re are restrictions on types of modifications that can be made through view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allowed if query involves a single base relation and contains a candidate key of base relation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multiple base rel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Updates are not allowed involving aggregation or grouping operation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F91A-5B62-415E-AFF3-9627AB6105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772776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s a table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Only applies to logical structure of the database, not the physical structur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s a named column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main is the set of allowable values for one or more attribu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ECD-B6B8-419F-BB01-E3212AC9B0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uple is a row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is the number of attribut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is the number of tupl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al Database is a collection of normalized relations with distinct relation nam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47C3-664F-4AC2-A358-586D3B40EE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stances of  Branch and Staf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4" descr="C03NF01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503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147-A3FA-4CC0-96DE-74EAB128A55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Attribute Domai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5" descr="C03NF02"/>
          <p:cNvPicPr/>
          <p:nvPr/>
        </p:nvPicPr>
        <p:blipFill>
          <a:blip r:embed="rId1"/>
          <a:stretch/>
        </p:blipFill>
        <p:spPr>
          <a:xfrm>
            <a:off x="539640" y="1700280"/>
            <a:ext cx="7728120" cy="316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D34F-EB68-41D3-9A59-A19E8EA6CC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lternative Terminology for Relational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C03NT01"/>
          <p:cNvPicPr/>
          <p:nvPr/>
        </p:nvPicPr>
        <p:blipFill>
          <a:blip r:embed="rId1"/>
          <a:stretch/>
        </p:blipFill>
        <p:spPr>
          <a:xfrm>
            <a:off x="539640" y="1916280"/>
            <a:ext cx="772812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576-6684-469A-A5C4-2FC522FF8F3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4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defined by a set of attribute and domain name pai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1(A1:D1,A2:D2,A3:D3,....,An:D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al database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t of relation schemas, each with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{R1,R2,R3, ... , R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4CA5-85F6-49D4-A0D5-FFDFFBCDFE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 name is distinct from all other relation names in relatio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cell of relation contains exactly one atomic (single)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attribute has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ues of an attribute are all from the same doma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3 of textbook
Database Systems: A Practical Approach to Design, Implementation and Management</dc:description>
  <dc:language>en-US</dc:language>
  <cp:lastModifiedBy>h</cp:lastModifiedBy>
  <cp:lastPrinted>1998-07-28T13:47:34Z</cp:lastPrinted>
  <dcterms:modified xsi:type="dcterms:W3CDTF">2014-02-17T21:56:58Z</dcterms:modified>
  <cp:revision>58</cp:revision>
  <dc:subject>Database Systems</dc:subject>
  <dc:title>Chapter 3</dc:title>
</cp:coreProperties>
</file>