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20.png" ContentType="image/png"/>
  <Override PartName="/ppt/media/image2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3CD-B7A9-41C0-92AA-3197ADA6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CBD-3995-475D-9AF8-6388E836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A9E4-4C59-46B8-92EC-FD8D3C4B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D9F-22AF-425B-A861-DBD6CC43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8C5-666A-42D3-B6C5-849F90A7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E6F2-7F15-4094-A1AC-D77E5977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633-049A-4AF0-91F2-5CBB2F79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7369-0A05-482D-A618-1A308B8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62B3-083B-4649-8922-96E1AFC2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E09-D796-43D3-B1E9-08D615A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6FA-4AE1-40C1-BEFB-DFD66FF9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2B0-A2C4-4118-8EDC-C8B04AB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FB9A-D17D-4125-8FD2-BC6CC4FCE9F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112B-99FF-485C-9186-31981B05BD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06840" y="2997360"/>
            <a:ext cx="7526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 VOLUME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7C25-6663-49D0-AFB7-01E1562E8E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28560" y="189000"/>
            <a:ext cx="4518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ght or Mass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11280" y="907920"/>
            <a:ext cx="765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mon term used for weight relationship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640" y="2276640"/>
            <a:ext cx="46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oisture content (w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lso referred to a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ater cont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is defined as the ratio of weight of water to the weight of solids in a given volume of soi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1547640" y="4437000"/>
                <a:ext cx="172728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12"/>
          <p:cNvSpPr/>
          <p:nvPr/>
        </p:nvSpPr>
        <p:spPr>
          <a:xfrm>
            <a:off x="471960" y="1452600"/>
            <a:ext cx="29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9200" indent="-295200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istur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14"/>
          <p:cNvGrpSpPr/>
          <p:nvPr/>
        </p:nvGrpSpPr>
        <p:grpSpPr>
          <a:xfrm>
            <a:off x="5435640" y="2060640"/>
            <a:ext cx="3473280" cy="4197240"/>
            <a:chOff x="5435640" y="2060640"/>
            <a:chExt cx="3473280" cy="4197240"/>
          </a:xfrm>
        </p:grpSpPr>
        <p:pic>
          <p:nvPicPr>
            <p:cNvPr id="110" name="Picture 15" descr=""/>
            <p:cNvPicPr/>
            <p:nvPr/>
          </p:nvPicPr>
          <p:blipFill>
            <a:blip r:embed="rId1"/>
            <a:stretch/>
          </p:blipFill>
          <p:spPr>
            <a:xfrm>
              <a:off x="5694480" y="2203560"/>
              <a:ext cx="321444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16"/>
            <p:cNvSpPr/>
            <p:nvPr/>
          </p:nvSpPr>
          <p:spPr>
            <a:xfrm>
              <a:off x="5435640" y="2060640"/>
              <a:ext cx="8636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F0B2-DAFE-469E-9978-FF8E1DA9B6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468360" y="1125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Unit weight (total, wet or moist unit weight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is the weight of soil per unit vol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1"/>
              <p:cNvSpPr txBox="1"/>
              <p:nvPr/>
            </p:nvSpPr>
            <p:spPr>
              <a:xfrm>
                <a:off x="2195640" y="1989000"/>
                <a:ext cx="11109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Text Box 12"/>
          <p:cNvSpPr/>
          <p:nvPr/>
        </p:nvSpPr>
        <p:spPr>
          <a:xfrm>
            <a:off x="328680" y="189000"/>
            <a:ext cx="6618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ght-Volume, Mass-Volume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3"/>
              <p:cNvSpPr txBox="1"/>
              <p:nvPr/>
            </p:nvSpPr>
            <p:spPr>
              <a:xfrm>
                <a:off x="3851280" y="3213000"/>
                <a:ext cx="13017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3780000" y="4653000"/>
                <a:ext cx="1428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1619280" y="5877000"/>
                <a:ext cx="31431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Text Box 18"/>
          <p:cNvSpPr/>
          <p:nvPr/>
        </p:nvSpPr>
        <p:spPr>
          <a:xfrm>
            <a:off x="324000" y="3521160"/>
            <a:ext cx="268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Solid unit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96720" y="472428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Unit weight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423360" y="64152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. Unit Weights (N/m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3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r kN/m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35"/>
          <p:cNvGrpSpPr/>
          <p:nvPr/>
        </p:nvGrpSpPr>
        <p:grpSpPr>
          <a:xfrm>
            <a:off x="5670720" y="1557360"/>
            <a:ext cx="3473280" cy="4197240"/>
            <a:chOff x="5670720" y="1557360"/>
            <a:chExt cx="3473280" cy="4197240"/>
          </a:xfrm>
        </p:grpSpPr>
        <p:pic>
          <p:nvPicPr>
            <p:cNvPr id="123" name="Picture 36" descr=""/>
            <p:cNvPicPr/>
            <p:nvPr/>
          </p:nvPicPr>
          <p:blipFill>
            <a:blip r:embed="rId1"/>
            <a:stretch/>
          </p:blipFill>
          <p:spPr>
            <a:xfrm>
              <a:off x="5929560" y="1700280"/>
              <a:ext cx="321444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7"/>
            <p:cNvSpPr/>
            <p:nvPr/>
          </p:nvSpPr>
          <p:spPr>
            <a:xfrm>
              <a:off x="5670720" y="1557360"/>
              <a:ext cx="8636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0FCF-CDB6-4681-9F2A-9997755E077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66400" y="363600"/>
            <a:ext cx="6449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ght-Volume, Mass-Volume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8"/>
              <p:cNvSpPr txBox="1"/>
              <p:nvPr/>
            </p:nvSpPr>
            <p:spPr>
              <a:xfrm>
                <a:off x="971640" y="3500280"/>
                <a:ext cx="45082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00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Text Box 11"/>
          <p:cNvSpPr/>
          <p:nvPr/>
        </p:nvSpPr>
        <p:spPr>
          <a:xfrm>
            <a:off x="468360" y="1268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Dry unit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2"/>
              <p:cNvSpPr txBox="1"/>
              <p:nvPr/>
            </p:nvSpPr>
            <p:spPr>
              <a:xfrm>
                <a:off x="2195640" y="1844640"/>
                <a:ext cx="1333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Text Box 13"/>
          <p:cNvSpPr/>
          <p:nvPr/>
        </p:nvSpPr>
        <p:spPr>
          <a:xfrm>
            <a:off x="468360" y="292428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Saturated unit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468360" y="486900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. Submerged unit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619280" y="5661000"/>
                <a:ext cx="18716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33" name="Group 18"/>
          <p:cNvGrpSpPr/>
          <p:nvPr/>
        </p:nvGrpSpPr>
        <p:grpSpPr>
          <a:xfrm>
            <a:off x="5670720" y="1341360"/>
            <a:ext cx="3473280" cy="4197240"/>
            <a:chOff x="5670720" y="1341360"/>
            <a:chExt cx="3473280" cy="4197240"/>
          </a:xfrm>
        </p:grpSpPr>
        <p:pic>
          <p:nvPicPr>
            <p:cNvPr id="134" name="Picture 19" descr=""/>
            <p:cNvPicPr/>
            <p:nvPr/>
          </p:nvPicPr>
          <p:blipFill>
            <a:blip r:embed="rId1"/>
            <a:stretch/>
          </p:blipFill>
          <p:spPr>
            <a:xfrm>
              <a:off x="5929560" y="1484280"/>
              <a:ext cx="321444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20"/>
            <p:cNvSpPr/>
            <p:nvPr/>
          </p:nvSpPr>
          <p:spPr>
            <a:xfrm>
              <a:off x="5670720" y="1341360"/>
              <a:ext cx="8636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F1F4-0BA3-4B68-A1C6-3B40EA16953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51720" y="30240"/>
            <a:ext cx="48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II. Densities (g/cm</a:t>
            </a:r>
            <a:r>
              <a:rPr b="1" lang="en-US" sz="2800" spc="-1" strike="noStrike" u="sng" baseline="30000">
                <a:solidFill>
                  <a:srgbClr val="333399"/>
                </a:solidFill>
                <a:uFillTx/>
                <a:latin typeface="Arial"/>
              </a:rPr>
              <a:t>3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r kg/m</a:t>
            </a:r>
            <a:r>
              <a:rPr b="1" lang="en-US" sz="2800" spc="-1" strike="noStrike" u="sng" baseline="30000">
                <a:solidFill>
                  <a:srgbClr val="333399"/>
                </a:solidFill>
                <a:uFillTx/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324000" y="549360"/>
            <a:ext cx="820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wt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a derived unit, working with mass densities  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oil may sometimes be conven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324000" y="136512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 unit of mass density is kilograms per cubic meter (k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e can write the density equations by replacing weight with mass in all equations in the preceding sl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324000" y="2516040"/>
            <a:ext cx="820872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nsity of water 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ries slightly, depending on the temperature. At 4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water is at its densest, exactly equ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r 1g/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606960" y="3573360"/>
            <a:ext cx="67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tionship between unit weight and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826920" y="3886200"/>
            <a:ext cx="7632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unit weights of soil in N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n be obtained from densities in kg/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9"/>
              <p:cNvSpPr txBox="1"/>
              <p:nvPr/>
            </p:nvSpPr>
            <p:spPr>
              <a:xfrm>
                <a:off x="1908000" y="4749840"/>
                <a:ext cx="5185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07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44" name="Picture 31" descr=""/>
          <p:cNvPicPr/>
          <p:nvPr/>
        </p:nvPicPr>
        <p:blipFill>
          <a:blip r:embed="rId1"/>
          <a:stretch/>
        </p:blipFill>
        <p:spPr>
          <a:xfrm>
            <a:off x="611280" y="5516640"/>
            <a:ext cx="7993080" cy="1008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C7F-D2C9-4BDB-B0DE-BD9C8930BC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260280"/>
            <a:ext cx="5112000" cy="620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nsity and Unit W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250920" y="907920"/>
            <a:ext cx="468144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Mass is a measure of a body's inertia, or its "quantity of matter". Mass does not changed at different pla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Weight is force, the force of gravity acting on a body. The value is different at various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PMingLiU"/>
              </a:rPr>
              <a:t>The unit weight is more frequently used than the density is (e.g. in calculating the overburden pressu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5291280" y="1065240"/>
                <a:ext cx="3578040" cy="416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nsity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ni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Weigh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den>
                        </m:f>
                      </m:e>
                      <m:e/>
                      <m:e>
                        <m:r>
                          <m:t xml:space="preserve">g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u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avity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ate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γ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/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0" name="Text Box 8"/>
          <p:cNvSpPr/>
          <p:nvPr/>
        </p:nvSpPr>
        <p:spPr>
          <a:xfrm>
            <a:off x="660240" y="5446800"/>
            <a:ext cx="820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te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 density/or unit weight are ratios which connects the volumetric side of the PHASE DIAGRAM with the mass/or weight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9B4A-E6C1-4D19-A30B-5E37923A16B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24360" y="404640"/>
            <a:ext cx="763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lationships Between Various Physic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519120" y="1000080"/>
            <a:ext cx="7940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he weight - volume relationships needed in soil mechanics can be derived from appropriate combinations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undamental definitions. They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828360" y="2852640"/>
            <a:ext cx="348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id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gree of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nit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cific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6056-EAC9-4321-A3AF-CB12AAFD70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403280" y="574560"/>
            <a:ext cx="5832720" cy="192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7" name="Text Box 5"/>
          <p:cNvSpPr/>
          <p:nvPr/>
        </p:nvSpPr>
        <p:spPr>
          <a:xfrm>
            <a:off x="515160" y="44280"/>
            <a:ext cx="702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Relationship between void ratio and po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68360" y="2637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. Relationship among Void ratio, Degree of Saturation, Water content, and Specific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1836720" y="3571920"/>
                <a:ext cx="51116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Text Box 8"/>
          <p:cNvSpPr/>
          <p:nvPr/>
        </p:nvSpPr>
        <p:spPr>
          <a:xfrm>
            <a:off x="684360" y="4724280"/>
            <a:ext cx="845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ing the denominator and numerator of the R.H.S.  by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ff"/>
                </a:solidFill>
                <a:latin typeface="Arial"/>
              </a:rPr>
              <a:t>v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iel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4211640" y="5229360"/>
                <a:ext cx="209556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Text Box 10"/>
          <p:cNvSpPr/>
          <p:nvPr/>
        </p:nvSpPr>
        <p:spPr>
          <a:xfrm>
            <a:off x="755640" y="602136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 very useful relation for solving THREE-PHASE RELATIONS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9735-02A0-484E-A875-C254816A1BE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692360" y="755640"/>
            <a:ext cx="6480000" cy="5727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65" name="Rectangle 5"/>
          <p:cNvSpPr/>
          <p:nvPr/>
        </p:nvSpPr>
        <p:spPr>
          <a:xfrm>
            <a:off x="4211640" y="5877000"/>
            <a:ext cx="1152360" cy="50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78560" y="152280"/>
            <a:ext cx="2599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xtbook der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62E-BAB8-4B15-ACAC-C961CE489C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468360" y="333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. Relationship among Unit Weight, Void Ratio, Degree of Saturation and Specific Gr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095480" y="1432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6"/>
              <p:cNvSpPr txBox="1"/>
              <p:nvPr/>
            </p:nvSpPr>
            <p:spPr>
              <a:xfrm>
                <a:off x="722160" y="1413000"/>
                <a:ext cx="75250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2916360" y="2637000"/>
                <a:ext cx="2539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Text Box 8"/>
          <p:cNvSpPr/>
          <p:nvPr/>
        </p:nvSpPr>
        <p:spPr>
          <a:xfrm>
            <a:off x="613440" y="39337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900000" y="450864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it weights for dry, fully saturated and submerged cases can be  derived from the upper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900000" y="5229360"/>
            <a:ext cx="77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ater content can be used instead of degree of sat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1"/>
              <p:cNvSpPr txBox="1"/>
              <p:nvPr/>
            </p:nvSpPr>
            <p:spPr>
              <a:xfrm>
                <a:off x="7380360" y="5661000"/>
                <a:ext cx="1333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b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12"/>
          <p:cNvSpPr/>
          <p:nvPr/>
        </p:nvSpPr>
        <p:spPr>
          <a:xfrm>
            <a:off x="900000" y="5695920"/>
            <a:ext cx="77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bmerged unit weight can be approximat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EDF2-8431-4ECB-9990-C3A031F7E3F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"/>
          <p:cNvPicPr/>
          <p:nvPr/>
        </p:nvPicPr>
        <p:blipFill>
          <a:blip r:embed="rId1"/>
          <a:stretch/>
        </p:blipFill>
        <p:spPr>
          <a:xfrm>
            <a:off x="1116000" y="1084320"/>
            <a:ext cx="7846920" cy="5010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79" name="Text Box 7"/>
          <p:cNvSpPr/>
          <p:nvPr/>
        </p:nvSpPr>
        <p:spPr>
          <a:xfrm>
            <a:off x="468720" y="411120"/>
            <a:ext cx="5161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ous Unit Weigh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2"/>
          <p:cNvSpPr/>
          <p:nvPr/>
        </p:nvSpPr>
        <p:spPr>
          <a:xfrm>
            <a:off x="1968480" y="2637000"/>
            <a:ext cx="1066680" cy="50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92C3-B55D-48CB-A93F-5163E705919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250920" y="836640"/>
            <a:ext cx="84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il deposits comprise the accumulated solid particles plus the void space between the p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50920" y="1590840"/>
            <a:ext cx="84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void spaces are partially or completely filled 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wa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othe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iqui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50920" y="2421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ids space not occupied by fluid are filled with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ai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othe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a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250920" y="2924280"/>
            <a:ext cx="8445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ence soil deposits are referred to a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three-phase syste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i.e.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oli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Liqui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wa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 +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a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ai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82520" y="379440"/>
            <a:ext cx="16682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oil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003640" y="3635280"/>
            <a:ext cx="2592720" cy="296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soil3"/>
          <p:cNvPicPr/>
          <p:nvPr/>
        </p:nvPicPr>
        <p:blipFill>
          <a:blip r:embed="rId2"/>
          <a:stretch/>
        </p:blipFill>
        <p:spPr>
          <a:xfrm>
            <a:off x="1403280" y="3873600"/>
            <a:ext cx="18399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3203-0A64-4037-855A-4DA9283B301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8028000" cy="50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335160" y="1890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"/>
          <p:cNvSpPr/>
          <p:nvPr/>
        </p:nvSpPr>
        <p:spPr>
          <a:xfrm>
            <a:off x="5165640" y="289872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6"/>
          <p:cNvSpPr/>
          <p:nvPr/>
        </p:nvSpPr>
        <p:spPr>
          <a:xfrm>
            <a:off x="6593040" y="397836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7"/>
          <p:cNvSpPr/>
          <p:nvPr/>
        </p:nvSpPr>
        <p:spPr>
          <a:xfrm>
            <a:off x="4932360" y="4896000"/>
            <a:ext cx="647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2"/>
          <p:cNvSpPr/>
          <p:nvPr/>
        </p:nvSpPr>
        <p:spPr>
          <a:xfrm>
            <a:off x="6300720" y="5661000"/>
            <a:ext cx="86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7"/>
              <p:cNvSpPr txBox="1"/>
              <p:nvPr/>
            </p:nvSpPr>
            <p:spPr>
              <a:xfrm>
                <a:off x="6702480" y="1174680"/>
                <a:ext cx="172872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9"/>
              <p:cNvSpPr txBox="1"/>
              <p:nvPr/>
            </p:nvSpPr>
            <p:spPr>
              <a:xfrm>
                <a:off x="6748560" y="2017800"/>
                <a:ext cx="12762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TextBox 10"/>
          <p:cNvSpPr/>
          <p:nvPr/>
        </p:nvSpPr>
        <p:spPr>
          <a:xfrm>
            <a:off x="4099320" y="14144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Instead thin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ight Arrow 11"/>
          <p:cNvSpPr/>
          <p:nvPr/>
        </p:nvSpPr>
        <p:spPr>
          <a:xfrm>
            <a:off x="6208560" y="1514520"/>
            <a:ext cx="293760" cy="200160"/>
          </a:xfrm>
          <a:prstGeom prst="rightArrow">
            <a:avLst>
              <a:gd name="adj1" fmla="val 50000"/>
              <a:gd name="adj2" fmla="val 50137"/>
            </a:avLst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3FC7-E2CD-49AF-A945-C9A135C4C7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9640" y="765000"/>
            <a:ext cx="8282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eld density testing (i.e., sand replacement method) has show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u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ns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compacted road base to be 2.06 t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a water content of 11.6%. Specific gravity of the soil grains is 2.69. Calculate the dry density, porosity, void ratio and degree of saturation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971640" y="2997360"/>
            <a:ext cx="4895640" cy="335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95" name="Text Box 6"/>
          <p:cNvSpPr/>
          <p:nvPr/>
        </p:nvSpPr>
        <p:spPr>
          <a:xfrm>
            <a:off x="495360" y="2412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"/>
          <p:cNvSpPr/>
          <p:nvPr/>
        </p:nvSpPr>
        <p:spPr>
          <a:xfrm>
            <a:off x="5412960" y="638028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Rounded MT Bold"/>
              </a:rPr>
              <a:t>The rest is vey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875B-D2AF-4B78-AF1B-43E8321F01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208720" cy="3200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5762880" cy="2486160"/>
          </a:xfrm>
          <a:prstGeom prst="rect">
            <a:avLst/>
          </a:prstGeom>
          <a:ln w="0">
            <a:noFill/>
          </a:ln>
        </p:spPr>
      </p:pic>
      <p:sp>
        <p:nvSpPr>
          <p:cNvPr id="200" name="Line 6"/>
          <p:cNvSpPr/>
          <p:nvPr/>
        </p:nvSpPr>
        <p:spPr>
          <a:xfrm>
            <a:off x="511200" y="1312920"/>
            <a:ext cx="1079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0080" y="399960"/>
            <a:ext cx="193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97AD-74A5-4DA5-85DB-B1BF382FEE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6505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7979-0171-4D4C-B11E-508750456B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4753080" cy="3714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394200" y="4292640"/>
            <a:ext cx="2027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r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2987640" y="5445000"/>
                <a:ext cx="1800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G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1280" y="4797360"/>
            <a:ext cx="7885080" cy="585720"/>
          </a:xfrm>
          <a:prstGeom prst="rect">
            <a:avLst/>
          </a:prstGeom>
          <a:ln w="0">
            <a:noFill/>
          </a:ln>
        </p:spPr>
      </p:pic>
      <p:sp>
        <p:nvSpPr>
          <p:cNvPr id="209" name="Line 8"/>
          <p:cNvSpPr/>
          <p:nvPr/>
        </p:nvSpPr>
        <p:spPr>
          <a:xfrm flipV="1">
            <a:off x="716040" y="5097600"/>
            <a:ext cx="107928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"/>
          <p:cNvSpPr/>
          <p:nvPr/>
        </p:nvSpPr>
        <p:spPr>
          <a:xfrm>
            <a:off x="5800680" y="5445000"/>
            <a:ext cx="124920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 =25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= 0.6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A59D-0044-4AA1-BAA7-FA1A5FF4ED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108000" y="119160"/>
            <a:ext cx="8531280" cy="4317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2"/>
          <a:stretch/>
        </p:blipFill>
        <p:spPr>
          <a:xfrm>
            <a:off x="914400" y="4351320"/>
            <a:ext cx="3352680" cy="11811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270000" y="0"/>
            <a:ext cx="1939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6532560" y="2246400"/>
            <a:ext cx="1823760" cy="296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V= 0.0282 m</a:t>
            </a:r>
            <a:r>
              <a:rPr b="0" lang="en-US" sz="20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0" lang="en-US" sz="20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S = 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w = 18.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G</a:t>
            </a:r>
            <a:r>
              <a:rPr b="0" lang="en-US" sz="2000" spc="-1" strike="noStrike" baseline="-25000">
                <a:solidFill>
                  <a:srgbClr val="00206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 = 2.5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Arial"/>
              </a:rPr>
              <a:t>Requir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 baseline="-25000">
                <a:solidFill>
                  <a:srgbClr val="00206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C083-B409-4F34-B939-F6C987974E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6791400" cy="270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611280" y="476280"/>
            <a:ext cx="799308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3888-1147-4092-91F7-950821082B8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778440" cy="544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5651640" y="4626000"/>
            <a:ext cx="3313080" cy="21207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D7D4-164C-423E-945E-83D2468B84F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49840" y="476280"/>
            <a:ext cx="20278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ur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432640" cy="81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5" name="Object 4"/>
              <p:cNvSpPr txBox="1"/>
              <p:nvPr/>
            </p:nvSpPr>
            <p:spPr>
              <a:xfrm>
                <a:off x="419040" y="2203560"/>
                <a:ext cx="5448240" cy="23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G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</m:den>
                        </m:f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33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rom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</m:den>
                        </m:f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78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6" name="Straight Connector 2"/>
          <p:cNvSpPr/>
          <p:nvPr/>
        </p:nvSpPr>
        <p:spPr>
          <a:xfrm>
            <a:off x="3492360" y="251928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9"/>
          <p:cNvSpPr/>
          <p:nvPr/>
        </p:nvSpPr>
        <p:spPr>
          <a:xfrm>
            <a:off x="4427640" y="3141720"/>
            <a:ext cx="133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1"/>
          <p:cNvSpPr/>
          <p:nvPr/>
        </p:nvSpPr>
        <p:spPr>
          <a:xfrm>
            <a:off x="3780000" y="3859200"/>
            <a:ext cx="1368360" cy="20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6745320" y="1698480"/>
            <a:ext cx="1631520" cy="12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 = 5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w = 18.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G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= 2.5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3851-4724-4A48-B059-36311833E4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82520" y="138240"/>
            <a:ext cx="29300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ative D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684360" y="1809720"/>
            <a:ext cx="786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relative density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also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nsity index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s commonly used to indicate the IN SITU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ensenes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loosenes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granular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684360" y="620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ative dens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s the parameter that compare the volume reduction achieved from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mpac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o the maximum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ossibl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volume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1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6696360" cy="3073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5" name="Text Box 12"/>
          <p:cNvSpPr/>
          <p:nvPr/>
        </p:nvSpPr>
        <p:spPr>
          <a:xfrm>
            <a:off x="1283040" y="6165720"/>
            <a:ext cx="636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Arial"/>
              </a:rPr>
              <a:t>Volume reduction from compaction of granular s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8544-54A2-4C05-A51A-E544FFEF47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68360" y="2421000"/>
            <a:ext cx="82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perties such 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trength, compressibility, permeabil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re directly related to the ratio and interaction of thes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thre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ph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80720" y="595440"/>
            <a:ext cx="341316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ENERAL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68360" y="3716280"/>
            <a:ext cx="822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fore, an understanding of the terminology and definitions relating to soil composition is fundamental to the study of soil mechanics and geotechnical engineering as a who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468360" y="1209600"/>
            <a:ext cx="82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lk soil as it exists in nature is a more or less random accumulation of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oi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icl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wate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i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s shown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DCDB-A7FF-42AE-81C7-8422233C7E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2340000" y="981000"/>
            <a:ext cx="3168720" cy="1473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2556000" y="2565360"/>
            <a:ext cx="5184720" cy="11365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179280" y="189000"/>
            <a:ext cx="860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Calibri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an be expressed either in terms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oid ratio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ry densiti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6444720" y="1197000"/>
            <a:ext cx="2279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y e not 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" descr=""/>
          <p:cNvPicPr/>
          <p:nvPr/>
        </p:nvPicPr>
        <p:blipFill>
          <a:blip r:embed="rId3"/>
          <a:stretch/>
        </p:blipFill>
        <p:spPr>
          <a:xfrm>
            <a:off x="399960" y="3860640"/>
            <a:ext cx="8583840" cy="2097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09A7-65CD-46CC-8089-34313CE03D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1080" y="401760"/>
            <a:ext cx="1896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24000" y="1052640"/>
            <a:ext cx="842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lative density of a natural soil very strongly affects its engineering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values o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y vary from a minimum of zero for ver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 to a maximum of 100% for a ver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e irregular size and shape of granular particles, it is not possible to obtain a ZERO volume of voids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Do you remember well-graded vs. poorly-graded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ST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est designation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-425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-425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07) provide procedure for determining maximum and minimum dry unit weights of granular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08CC-7454-4E61-ADA1-AE246A9AF6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395280" y="18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ular soils a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qualitative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scribed according to their relative densities as shown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539640" y="4667400"/>
            <a:ext cx="82803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lative density has been restrict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nu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s because of the difficulty of determin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clayey soils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quidity Inde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fine-grained soils is of similar use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granular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176720" cy="2968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C3CC-56AC-465F-8727-23E1ADD4C3D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cs-soil-diagram-2"/>
          <p:cNvPicPr/>
          <p:nvPr/>
        </p:nvPicPr>
        <p:blipFill>
          <a:blip r:embed="rId1"/>
          <a:stretch/>
        </p:blipFill>
        <p:spPr>
          <a:xfrm>
            <a:off x="2570040" y="2924280"/>
            <a:ext cx="6467760" cy="3697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148200" y="24922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179480" y="24922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e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22200" y="64764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 purpose of study and analysis it is convenient to represent the soil mass by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PHASE DIAGRA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with part of the diagram representing the solid particles, part representing water or liquid, and another part air or other 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254880" y="163440"/>
            <a:ext cx="2768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HAS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oil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1680" y="2590920"/>
            <a:ext cx="2592360" cy="2965320"/>
          </a:xfrm>
          <a:prstGeom prst="rect">
            <a:avLst/>
          </a:prstGeom>
          <a:ln w="0">
            <a:noFill/>
          </a:ln>
        </p:spPr>
      </p:pic>
      <p:sp>
        <p:nvSpPr>
          <p:cNvPr id="63" name="Right Arrow 1"/>
          <p:cNvSpPr/>
          <p:nvPr/>
        </p:nvSpPr>
        <p:spPr>
          <a:xfrm>
            <a:off x="2135160" y="3213000"/>
            <a:ext cx="500040" cy="3351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CBD3-4617-4355-B8D9-0070DE97090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soil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258920" y="1049400"/>
            <a:ext cx="6913440" cy="5433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66" name="Text Box 3"/>
          <p:cNvSpPr/>
          <p:nvPr/>
        </p:nvSpPr>
        <p:spPr>
          <a:xfrm>
            <a:off x="162000" y="18900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Phase diagram in terms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B52A-D5F2-4B90-85C0-C2BFE7AD61D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phase relation"/>
          <p:cNvPicPr/>
          <p:nvPr/>
        </p:nvPicPr>
        <p:blipFill>
          <a:blip r:embed="rId1"/>
          <a:stretch/>
        </p:blipFill>
        <p:spPr>
          <a:xfrm>
            <a:off x="900000" y="1125360"/>
            <a:ext cx="7596360" cy="5235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412560" y="260280"/>
            <a:ext cx="290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ossible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18E7-B150-465B-B7FC-F3AF105A34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68360" y="189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3333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volume of a given soil sample can be express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2484360" y="1052640"/>
                <a:ext cx="45626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Text Box 11"/>
          <p:cNvSpPr/>
          <p:nvPr/>
        </p:nvSpPr>
        <p:spPr>
          <a:xfrm>
            <a:off x="179280" y="1484280"/>
            <a:ext cx="497916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 = Total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Volume of soil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Volume of vo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Volume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7960" indent="-507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= Volume of 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39640" y="33274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3333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that the weight of the air i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gligi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can give the total weight of the sample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3"/>
              <p:cNvSpPr txBox="1"/>
              <p:nvPr/>
            </p:nvSpPr>
            <p:spPr>
              <a:xfrm>
                <a:off x="2293920" y="4221000"/>
                <a:ext cx="239724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Text Box 14"/>
          <p:cNvSpPr/>
          <p:nvPr/>
        </p:nvSpPr>
        <p:spPr>
          <a:xfrm>
            <a:off x="540360" y="4941720"/>
            <a:ext cx="35643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weight of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weight of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5670720"/>
            <a:ext cx="8064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333399"/>
              </a:buClr>
              <a:buSzPct val="15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ngineering practice we usually measure the total volume,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 mass of water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e mass of dry soli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1B6F-6090-4CDE-9785-54B2E191DF5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6320" y="209520"/>
            <a:ext cx="3364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olume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4000" y="765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olumetric ratios that are very useful in geotechnical engineering , and these can be determined directly from the phas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323640" y="2419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oid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8"/>
              <p:cNvSpPr txBox="1"/>
              <p:nvPr/>
            </p:nvSpPr>
            <p:spPr>
              <a:xfrm>
                <a:off x="2771640" y="2205000"/>
                <a:ext cx="10479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9"/>
          <p:cNvSpPr/>
          <p:nvPr/>
        </p:nvSpPr>
        <p:spPr>
          <a:xfrm>
            <a:off x="324720" y="371628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0"/>
              <p:cNvSpPr txBox="1"/>
              <p:nvPr/>
            </p:nvSpPr>
            <p:spPr>
              <a:xfrm>
                <a:off x="2771640" y="3500280"/>
                <a:ext cx="10796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Text Box 11"/>
          <p:cNvSpPr/>
          <p:nvPr/>
        </p:nvSpPr>
        <p:spPr>
          <a:xfrm>
            <a:off x="395280" y="49878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 Degree of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12"/>
              <p:cNvSpPr txBox="1"/>
              <p:nvPr/>
            </p:nvSpPr>
            <p:spPr>
              <a:xfrm>
                <a:off x="2700360" y="4724280"/>
                <a:ext cx="11746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Text Box 14"/>
          <p:cNvSpPr/>
          <p:nvPr/>
        </p:nvSpPr>
        <p:spPr>
          <a:xfrm>
            <a:off x="611280" y="587700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rosity and degree of saturation are commonly expressed as a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percentag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6"/>
          <p:cNvGrpSpPr/>
          <p:nvPr/>
        </p:nvGrpSpPr>
        <p:grpSpPr>
          <a:xfrm>
            <a:off x="4716360" y="1608120"/>
            <a:ext cx="3473280" cy="4197240"/>
            <a:chOff x="4716360" y="1608120"/>
            <a:chExt cx="3473280" cy="4197240"/>
          </a:xfrm>
        </p:grpSpPr>
        <p:pic>
          <p:nvPicPr>
            <p:cNvPr id="89" name="Picture 5" descr=""/>
            <p:cNvPicPr/>
            <p:nvPr/>
          </p:nvPicPr>
          <p:blipFill>
            <a:blip r:embed="rId1"/>
            <a:stretch/>
          </p:blipFill>
          <p:spPr>
            <a:xfrm>
              <a:off x="4975200" y="1751040"/>
              <a:ext cx="3214440" cy="40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15"/>
            <p:cNvSpPr/>
            <p:nvPr/>
          </p:nvSpPr>
          <p:spPr>
            <a:xfrm>
              <a:off x="4716360" y="1608120"/>
              <a:ext cx="86364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F3A1-058D-4874-8EE5-BCA7769FF9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5940360" y="1773360"/>
            <a:ext cx="1905120" cy="3733200"/>
            <a:chOff x="5940360" y="1773360"/>
            <a:chExt cx="1905120" cy="3733200"/>
          </a:xfrm>
        </p:grpSpPr>
        <p:sp>
          <p:nvSpPr>
            <p:cNvPr id="93" name="Rectangle 5"/>
            <p:cNvSpPr/>
            <p:nvPr/>
          </p:nvSpPr>
          <p:spPr>
            <a:xfrm>
              <a:off x="5940360" y="3601800"/>
              <a:ext cx="1905120" cy="1904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6"/>
            <p:cNvSpPr/>
            <p:nvPr/>
          </p:nvSpPr>
          <p:spPr>
            <a:xfrm>
              <a:off x="5940360" y="1773360"/>
              <a:ext cx="1905120" cy="99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5940360" y="2687400"/>
              <a:ext cx="1905120" cy="914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6397560" y="2916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at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6473880" y="207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549840" y="428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11"/>
          <p:cNvSpPr/>
          <p:nvPr/>
        </p:nvSpPr>
        <p:spPr>
          <a:xfrm>
            <a:off x="684360" y="1413000"/>
            <a:ext cx="377172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is illustr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1054080" y="2349360"/>
            <a:ext cx="129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1054080" y="334008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=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054080" y="42544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0:05:42Z</dcterms:created>
  <dc:creator>TENEBRA</dc:creator>
  <dc:description/>
  <dc:language>en-US</dc:language>
  <cp:lastModifiedBy>shamrani</cp:lastModifiedBy>
  <cp:lastPrinted>2015-10-03T11:16:32Z</cp:lastPrinted>
  <dcterms:modified xsi:type="dcterms:W3CDTF">2017-09-15T11:50:18Z</dcterms:modified>
  <cp:revision>70</cp:revision>
  <dc:subject/>
  <dc:title>Slide 1</dc:title>
</cp:coreProperties>
</file>