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0.wmf" ContentType="image/x-wmf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9AD-A0AC-49C3-AB52-1B430B1E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D1D-2541-487C-8F11-2B9BC473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F44-C884-451F-BFB7-78FF4498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0B4-1805-4298-9C67-53062125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35D-C75D-4861-94B6-4C173065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9FD-DBFF-4A12-BDAE-CAF3B35A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F20-A7AC-4CC1-A089-1F2F00CD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F30-17FA-420A-91BD-8FF7712E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6D0-6216-4D37-87C6-E5F092D5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ECF-51C1-48AF-836C-39EC2F7E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4B9-61BB-4C21-8368-F6238FC9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989-0DF3-4C7F-9F28-74FE1907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8631-CB63-4872-9739-9695958438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287F-CDF9-4F6F-9E46-03FA9B34B8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06840" y="2997360"/>
            <a:ext cx="7526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 VOLUME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D818-E3CF-4C6C-A818-D5A535F530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28560" y="189000"/>
            <a:ext cx="4518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ght or M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11280" y="907920"/>
            <a:ext cx="76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mon term used for weight relationship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640" y="2276640"/>
            <a:ext cx="468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oisture content (w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lso referred to a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ater cont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defined as the ratio of weight of water to the weight of solids in a given volume of so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1547640" y="4437000"/>
                <a:ext cx="17272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2"/>
          <p:cNvSpPr/>
          <p:nvPr/>
        </p:nvSpPr>
        <p:spPr>
          <a:xfrm>
            <a:off x="471960" y="145260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9200" indent="-295200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istur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4"/>
          <p:cNvGrpSpPr/>
          <p:nvPr/>
        </p:nvGrpSpPr>
        <p:grpSpPr>
          <a:xfrm>
            <a:off x="5435640" y="2060640"/>
            <a:ext cx="3473280" cy="4197240"/>
            <a:chOff x="5435640" y="2060640"/>
            <a:chExt cx="3473280" cy="4197240"/>
          </a:xfrm>
        </p:grpSpPr>
        <p:pic>
          <p:nvPicPr>
            <p:cNvPr id="110" name="Picture 15" descr=""/>
            <p:cNvPicPr/>
            <p:nvPr/>
          </p:nvPicPr>
          <p:blipFill>
            <a:blip r:embed="rId1"/>
            <a:stretch/>
          </p:blipFill>
          <p:spPr>
            <a:xfrm>
              <a:off x="5694480" y="2203560"/>
              <a:ext cx="321444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16"/>
            <p:cNvSpPr/>
            <p:nvPr/>
          </p:nvSpPr>
          <p:spPr>
            <a:xfrm>
              <a:off x="5435640" y="2060640"/>
              <a:ext cx="8636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FCE6-1634-49F9-8867-2D96B5E91F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68360" y="11253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Unit weight (total, wet or moist unit weight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the weight of soil per unit vol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2195640" y="1989000"/>
                <a:ext cx="11109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Text Box 12"/>
          <p:cNvSpPr/>
          <p:nvPr/>
        </p:nvSpPr>
        <p:spPr>
          <a:xfrm>
            <a:off x="328680" y="189000"/>
            <a:ext cx="6618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ght-Volume, Mass-Volume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3"/>
              <p:cNvSpPr txBox="1"/>
              <p:nvPr/>
            </p:nvSpPr>
            <p:spPr>
              <a:xfrm>
                <a:off x="3851280" y="3213000"/>
                <a:ext cx="13017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3780000" y="4653000"/>
                <a:ext cx="1428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1619280" y="5877000"/>
                <a:ext cx="31431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 Box 18"/>
          <p:cNvSpPr/>
          <p:nvPr/>
        </p:nvSpPr>
        <p:spPr>
          <a:xfrm>
            <a:off x="324000" y="3521160"/>
            <a:ext cx="26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Solid unit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96720" y="472428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 Unit weight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423360" y="64152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. Unit Weights (N/m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 kN/m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5"/>
          <p:cNvGrpSpPr/>
          <p:nvPr/>
        </p:nvGrpSpPr>
        <p:grpSpPr>
          <a:xfrm>
            <a:off x="5670720" y="1557360"/>
            <a:ext cx="3473280" cy="4197240"/>
            <a:chOff x="5670720" y="1557360"/>
            <a:chExt cx="3473280" cy="4197240"/>
          </a:xfrm>
        </p:grpSpPr>
        <p:pic>
          <p:nvPicPr>
            <p:cNvPr id="123" name="Picture 36" descr=""/>
            <p:cNvPicPr/>
            <p:nvPr/>
          </p:nvPicPr>
          <p:blipFill>
            <a:blip r:embed="rId1"/>
            <a:stretch/>
          </p:blipFill>
          <p:spPr>
            <a:xfrm>
              <a:off x="5929560" y="1700280"/>
              <a:ext cx="321444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37"/>
            <p:cNvSpPr/>
            <p:nvPr/>
          </p:nvSpPr>
          <p:spPr>
            <a:xfrm>
              <a:off x="5670720" y="1557360"/>
              <a:ext cx="8636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1389-5BCF-4FBD-9A73-662E604095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66400" y="363600"/>
            <a:ext cx="6449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ght-Volume, Mass-Volume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971640" y="3500280"/>
                <a:ext cx="45082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0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1"/>
          <p:cNvSpPr/>
          <p:nvPr/>
        </p:nvSpPr>
        <p:spPr>
          <a:xfrm>
            <a:off x="468360" y="1268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 Dry unit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2"/>
              <p:cNvSpPr txBox="1"/>
              <p:nvPr/>
            </p:nvSpPr>
            <p:spPr>
              <a:xfrm>
                <a:off x="2195640" y="1844640"/>
                <a:ext cx="1333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 Box 13"/>
          <p:cNvSpPr/>
          <p:nvPr/>
        </p:nvSpPr>
        <p:spPr>
          <a:xfrm>
            <a:off x="468360" y="2924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. Saturated unit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68360" y="486900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. Submerged unit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619280" y="5661000"/>
                <a:ext cx="18716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33" name="Group 18"/>
          <p:cNvGrpSpPr/>
          <p:nvPr/>
        </p:nvGrpSpPr>
        <p:grpSpPr>
          <a:xfrm>
            <a:off x="5670720" y="1341360"/>
            <a:ext cx="3473280" cy="4197240"/>
            <a:chOff x="5670720" y="1341360"/>
            <a:chExt cx="3473280" cy="4197240"/>
          </a:xfrm>
        </p:grpSpPr>
        <p:pic>
          <p:nvPicPr>
            <p:cNvPr id="134" name="Picture 19" descr=""/>
            <p:cNvPicPr/>
            <p:nvPr/>
          </p:nvPicPr>
          <p:blipFill>
            <a:blip r:embed="rId1"/>
            <a:stretch/>
          </p:blipFill>
          <p:spPr>
            <a:xfrm>
              <a:off x="5929560" y="1484280"/>
              <a:ext cx="321444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20"/>
            <p:cNvSpPr/>
            <p:nvPr/>
          </p:nvSpPr>
          <p:spPr>
            <a:xfrm>
              <a:off x="5670720" y="1341360"/>
              <a:ext cx="8636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0CB-87C6-4ED0-BC7A-5DC9C37853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51720" y="30240"/>
            <a:ext cx="48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I. Densities (g/cm</a:t>
            </a:r>
            <a:r>
              <a:rPr b="1" lang="en-US" sz="2800" spc="-1" strike="noStrike" u="sng" baseline="30000">
                <a:solidFill>
                  <a:srgbClr val="333399"/>
                </a:solidFill>
                <a:uFillTx/>
                <a:latin typeface="Arial"/>
              </a:rPr>
              <a:t>3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r kg/m</a:t>
            </a:r>
            <a:r>
              <a:rPr b="1" lang="en-US" sz="2800" spc="-1" strike="noStrike" u="sng" baseline="30000">
                <a:solidFill>
                  <a:srgbClr val="333399"/>
                </a:solidFill>
                <a:uFillTx/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24000" y="549360"/>
            <a:ext cx="820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wt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erived unit, working with mass densities  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oil may sometimes be conven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324000" y="136512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 unit of mass density is kilograms per cubic meter (k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e can write the density equations by replacing weight with mass in all equations in the preceding sl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324000" y="2516040"/>
            <a:ext cx="820872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nsity of water 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ries slightly, depending on the temperature. At 4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water is at its densest, exactly equ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1g/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606960" y="35733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lationship between unit weight and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826920" y="3886200"/>
            <a:ext cx="7632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it weights of soil in N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be obtained from densities in k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9"/>
              <p:cNvSpPr txBox="1"/>
              <p:nvPr/>
            </p:nvSpPr>
            <p:spPr>
              <a:xfrm>
                <a:off x="1908000" y="4749840"/>
                <a:ext cx="5185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7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44" name="Picture 31" descr=""/>
          <p:cNvPicPr/>
          <p:nvPr/>
        </p:nvPicPr>
        <p:blipFill>
          <a:blip r:embed="rId1"/>
          <a:stretch/>
        </p:blipFill>
        <p:spPr>
          <a:xfrm>
            <a:off x="611280" y="5516640"/>
            <a:ext cx="7993080" cy="100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32E3-2338-419B-9872-5BAFA234B8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9280" y="260280"/>
            <a:ext cx="5112000" cy="62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nsity and Unit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50920" y="907920"/>
            <a:ext cx="468144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Mass is a measure of a body's inertia, or its "quantity of matter". Mass does not changed at different pla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Weight is force, the force of gravity acting on a body. The value is different at various p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The unit weight is more frequently used than the density is (e.g. in calculating the overburden pressu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291280" y="1065240"/>
                <a:ext cx="3578040" cy="416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nsity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i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Weigh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den>
                        </m:f>
                      </m:e>
                      <m:e/>
                      <m:e>
                        <m:r>
                          <m:t xml:space="preserve">g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avity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ate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0" name="Text Box 8"/>
          <p:cNvSpPr/>
          <p:nvPr/>
        </p:nvSpPr>
        <p:spPr>
          <a:xfrm>
            <a:off x="660240" y="544680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e density/or unit weight are ratios which connects the volumetric side of the PHASE DIAGRAM with the mass/or weight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E394-189A-4E56-B07A-4C33089F8C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24360" y="404640"/>
            <a:ext cx="763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ationships Between Various Phys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19120" y="1000080"/>
            <a:ext cx="794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e weight - volume relationships needed in soil mechanics can be derived from appropriate combinations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undamental definitions.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28360" y="2852640"/>
            <a:ext cx="348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id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gree of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t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cific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5104-6E93-4446-B55F-39894F8EB0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403280" y="574560"/>
            <a:ext cx="5832720" cy="192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7" name="Text Box 5"/>
          <p:cNvSpPr/>
          <p:nvPr/>
        </p:nvSpPr>
        <p:spPr>
          <a:xfrm>
            <a:off x="515160" y="4428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Relationship between void ratio and po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68360" y="2637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Relationship among Void ratio, Degree of Saturation, Water content, and Specific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1836720" y="3571920"/>
                <a:ext cx="51116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Text Box 8"/>
          <p:cNvSpPr/>
          <p:nvPr/>
        </p:nvSpPr>
        <p:spPr>
          <a:xfrm>
            <a:off x="684360" y="4724280"/>
            <a:ext cx="845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the denominator and numerator of the R.H.S.  by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v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211640" y="5229360"/>
                <a:ext cx="20955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Text Box 10"/>
          <p:cNvSpPr/>
          <p:nvPr/>
        </p:nvSpPr>
        <p:spPr>
          <a:xfrm>
            <a:off x="755640" y="602136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a very useful relation for solving THREE-PHASE RELATIONSHI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6CF7-78B2-4BC6-8287-D41EC28510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692360" y="755640"/>
            <a:ext cx="6480000" cy="572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5" name="Rectangle 5"/>
          <p:cNvSpPr/>
          <p:nvPr/>
        </p:nvSpPr>
        <p:spPr>
          <a:xfrm>
            <a:off x="4211640" y="5877000"/>
            <a:ext cx="115236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78560" y="152280"/>
            <a:ext cx="2599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xtbook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D7C3-2475-4587-9214-784008BB1D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68360" y="333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Relationship among Unit Weight, Void Ratio, Degree of Saturation and Specific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95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722160" y="1413000"/>
                <a:ext cx="75250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2916360" y="2637000"/>
                <a:ext cx="2539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Text Box 8"/>
          <p:cNvSpPr/>
          <p:nvPr/>
        </p:nvSpPr>
        <p:spPr>
          <a:xfrm>
            <a:off x="613440" y="39337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900000" y="450864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it weights for dry, fully saturated and submerged cases can be  derived from the upper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900000" y="5229360"/>
            <a:ext cx="77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content can be used instead of degree of sat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1"/>
              <p:cNvSpPr txBox="1"/>
              <p:nvPr/>
            </p:nvSpPr>
            <p:spPr>
              <a:xfrm>
                <a:off x="7380360" y="5661000"/>
                <a:ext cx="1333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2"/>
          <p:cNvSpPr/>
          <p:nvPr/>
        </p:nvSpPr>
        <p:spPr>
          <a:xfrm>
            <a:off x="900000" y="5695920"/>
            <a:ext cx="77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merged unit weight can be approximat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3B51-F777-4097-9E87-C8B55F47BE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1116000" y="1084320"/>
            <a:ext cx="7846920" cy="501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9" name="Text Box 7"/>
          <p:cNvSpPr/>
          <p:nvPr/>
        </p:nvSpPr>
        <p:spPr>
          <a:xfrm>
            <a:off x="468720" y="411120"/>
            <a:ext cx="5161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ous Unit Weigh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2"/>
          <p:cNvSpPr/>
          <p:nvPr/>
        </p:nvSpPr>
        <p:spPr>
          <a:xfrm>
            <a:off x="1968480" y="2637000"/>
            <a:ext cx="10666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5F5A-EA3D-4B45-A21D-5B858E8430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250920" y="836640"/>
            <a:ext cx="84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il deposits comprise the accumulated solid particles plus the void space between th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50920" y="1590840"/>
            <a:ext cx="84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void spaces are partially or completely filled 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a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othe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iqui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50920" y="2421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ids space not occupied by fluid are filled with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ai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othe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a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50920" y="2924280"/>
            <a:ext cx="844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nce soil deposits are referred to a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three-phase sys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i.e.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oli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Liqui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wa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 +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a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ai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82520" y="379440"/>
            <a:ext cx="16682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oil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003640" y="3635280"/>
            <a:ext cx="2592720" cy="296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soil3"/>
          <p:cNvPicPr/>
          <p:nvPr/>
        </p:nvPicPr>
        <p:blipFill>
          <a:blip r:embed="rId2"/>
          <a:stretch/>
        </p:blipFill>
        <p:spPr>
          <a:xfrm>
            <a:off x="1403280" y="3873600"/>
            <a:ext cx="18399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E301-BE4E-44C0-BC12-1502FE6BB5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8028000" cy="50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335160" y="1890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"/>
          <p:cNvSpPr/>
          <p:nvPr/>
        </p:nvSpPr>
        <p:spPr>
          <a:xfrm>
            <a:off x="5165640" y="289872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6"/>
          <p:cNvSpPr/>
          <p:nvPr/>
        </p:nvSpPr>
        <p:spPr>
          <a:xfrm>
            <a:off x="6593040" y="3978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7"/>
          <p:cNvSpPr/>
          <p:nvPr/>
        </p:nvSpPr>
        <p:spPr>
          <a:xfrm>
            <a:off x="4932360" y="48960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2"/>
          <p:cNvSpPr/>
          <p:nvPr/>
        </p:nvSpPr>
        <p:spPr>
          <a:xfrm>
            <a:off x="6300720" y="56610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6702480" y="1174680"/>
                <a:ext cx="17287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6748560" y="2017800"/>
                <a:ext cx="12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TextBox 10"/>
          <p:cNvSpPr/>
          <p:nvPr/>
        </p:nvSpPr>
        <p:spPr>
          <a:xfrm>
            <a:off x="4099320" y="14144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Instead thin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ight Arrow 11"/>
          <p:cNvSpPr/>
          <p:nvPr/>
        </p:nvSpPr>
        <p:spPr>
          <a:xfrm>
            <a:off x="6208560" y="1514520"/>
            <a:ext cx="293760" cy="20016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52CB-CEB5-4294-B585-4E9790D8A5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9640" y="765000"/>
            <a:ext cx="8282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 density testing (i.e., sand replacement method) has show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u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ns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compacted road base to be 2.06 t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a water content of 11.6%. Specific gravity of the soil grains is 2.69. Calculate the dry density, porosity, void ratio and degree of saturation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4895640" cy="335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Text Box 6"/>
          <p:cNvSpPr/>
          <p:nvPr/>
        </p:nvSpPr>
        <p:spPr>
          <a:xfrm>
            <a:off x="495360" y="2412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5412960" y="63802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The rest is vey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DCC3-2E06-4623-84E5-DD8A4E8EC5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08720" cy="3200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5762880" cy="2486160"/>
          </a:xfrm>
          <a:prstGeom prst="rect">
            <a:avLst/>
          </a:prstGeom>
          <a:ln w="0">
            <a:noFill/>
          </a:ln>
        </p:spPr>
      </p:pic>
      <p:sp>
        <p:nvSpPr>
          <p:cNvPr id="200" name="Line 6"/>
          <p:cNvSpPr/>
          <p:nvPr/>
        </p:nvSpPr>
        <p:spPr>
          <a:xfrm>
            <a:off x="511200" y="1312920"/>
            <a:ext cx="1079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0080" y="399960"/>
            <a:ext cx="193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A03F-3577-44F9-A390-0A820AE7CE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505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C097-98F9-42D0-AAE2-E4CC033514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4753080" cy="3714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394200" y="4292640"/>
            <a:ext cx="2027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r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2987640" y="5445000"/>
                <a:ext cx="1800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611280" y="4797360"/>
            <a:ext cx="7885080" cy="585720"/>
          </a:xfrm>
          <a:prstGeom prst="rect">
            <a:avLst/>
          </a:prstGeom>
          <a:ln w="0">
            <a:noFill/>
          </a:ln>
        </p:spPr>
      </p:pic>
      <p:sp>
        <p:nvSpPr>
          <p:cNvPr id="209" name="Line 8"/>
          <p:cNvSpPr/>
          <p:nvPr/>
        </p:nvSpPr>
        <p:spPr>
          <a:xfrm flipV="1">
            <a:off x="716040" y="5097600"/>
            <a:ext cx="107928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5800680" y="5445000"/>
            <a:ext cx="124920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=25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= 0.6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63B5-D585-45EF-9ABD-47023C5AB9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08000" y="119160"/>
            <a:ext cx="8531280" cy="4317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914400" y="4351320"/>
            <a:ext cx="3352680" cy="11811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70000" y="0"/>
            <a:ext cx="193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6532560" y="2246400"/>
            <a:ext cx="1823760" cy="296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V= 0.0282 m</a:t>
            </a:r>
            <a:r>
              <a:rPr b="0" lang="en-US" sz="20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0" lang="en-US" sz="2000" spc="-1" strike="noStrike" baseline="-25000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S =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w = 18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206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= 2.5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equir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 baseline="-25000">
                <a:solidFill>
                  <a:srgbClr val="00206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3A3-F85F-4575-8448-BDB7A3959B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791400" cy="270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99308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6ED8-1B83-45F6-AC2B-6D9840A9F5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778440" cy="5445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5651640" y="4626000"/>
            <a:ext cx="3313080" cy="2120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341E-A87A-413B-9F57-1FFFCD7232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49840" y="476280"/>
            <a:ext cx="2027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r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432640" cy="81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419040" y="2203560"/>
                <a:ext cx="5448240" cy="23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</m:den>
                        </m:f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</m:den>
                        </m:f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7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Straight Connector 2"/>
          <p:cNvSpPr/>
          <p:nvPr/>
        </p:nvSpPr>
        <p:spPr>
          <a:xfrm>
            <a:off x="3492360" y="251928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9"/>
          <p:cNvSpPr/>
          <p:nvPr/>
        </p:nvSpPr>
        <p:spPr>
          <a:xfrm>
            <a:off x="4427640" y="3141720"/>
            <a:ext cx="133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1"/>
          <p:cNvSpPr/>
          <p:nvPr/>
        </p:nvSpPr>
        <p:spPr>
          <a:xfrm>
            <a:off x="3780000" y="3859200"/>
            <a:ext cx="1368360" cy="2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6745320" y="1698480"/>
            <a:ext cx="1631520" cy="12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 =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w = 18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= 2.5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F984-C44A-4E2C-B928-853CA01F62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82520" y="138240"/>
            <a:ext cx="2930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ative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684360" y="1809720"/>
            <a:ext cx="78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lative density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also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nsity inde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s commonly used to indicate the IN SITU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ensenes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loosenes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granular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684360" y="620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ative dens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s the parameter that compare the volume reduction achieved from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mpac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o the maximum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ossibl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volume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6696360" cy="307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5" name="Text Box 12"/>
          <p:cNvSpPr/>
          <p:nvPr/>
        </p:nvSpPr>
        <p:spPr>
          <a:xfrm>
            <a:off x="1283040" y="6165720"/>
            <a:ext cx="636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030a0"/>
                </a:solidFill>
                <a:uFillTx/>
                <a:latin typeface="Arial"/>
              </a:rPr>
              <a:t>Volume reduction from compaction of granular s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2571-4081-4ABF-AB59-C7799D6479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68360" y="2421000"/>
            <a:ext cx="82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erties such a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trength, compressibility, permeabil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re directly related to the ratio and interaction of thes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thre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h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80720" y="595440"/>
            <a:ext cx="34131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RAL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68360" y="3716280"/>
            <a:ext cx="822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fore, an understanding of the terminology and definitions relating to soil composition is fundamental to the study of soil mechanics and geotechnical engineering as a who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68360" y="1209600"/>
            <a:ext cx="82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lk soil as it exists in nature is a more or less random accumulation of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oi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rticl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wa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i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s shown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5373-E9AB-4348-97EA-285D1EB7D7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3168720" cy="1473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5184720" cy="11365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179280" y="189000"/>
            <a:ext cx="860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an be expressed either in terms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oid ratio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ry densiti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6444720" y="1197000"/>
            <a:ext cx="2279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y e not 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" descr=""/>
          <p:cNvPicPr/>
          <p:nvPr/>
        </p:nvPicPr>
        <p:blipFill>
          <a:blip r:embed="rId3"/>
          <a:stretch/>
        </p:blipFill>
        <p:spPr>
          <a:xfrm>
            <a:off x="399960" y="3860640"/>
            <a:ext cx="8583840" cy="2097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DC52-EBF5-4307-AFFD-814346CB70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81080" y="401760"/>
            <a:ext cx="1896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24000" y="1052640"/>
            <a:ext cx="8424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lative density of a natural soil very strongly affects its engineering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values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y vary from a minimum of zero for ver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 to a maximum of 100% for a ver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e irregular size and shape of granular particles, it is not possible to obtain a ZERO volume of voids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Do you remember well-graded vs. poorly-graded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T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st designation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-425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-425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007) provide procedure for determining maximum and minimum dry unit weights of granular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31CC-62D9-4608-889D-2010750603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95280" y="18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ular soils a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qualitative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scribed according to their relative densities as shown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539640" y="46674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relative density has been restrict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nu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s because of the difficulty of determin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clayey soils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quidity Ind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fine-grained soils is of similar use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granular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176720" cy="2968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363C-1D8F-4953-A6E3-274F792C62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cs-soil-diagram-2"/>
          <p:cNvPicPr/>
          <p:nvPr/>
        </p:nvPicPr>
        <p:blipFill>
          <a:blip r:embed="rId1"/>
          <a:stretch/>
        </p:blipFill>
        <p:spPr>
          <a:xfrm>
            <a:off x="2570040" y="2924280"/>
            <a:ext cx="6467760" cy="3697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148200" y="2492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179480" y="24922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2200" y="64764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purpose of study and analysis it is convenient to represent the soil mass by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PHASE DIAGRA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with part of the diagram representing the solid particles, part representing water or liquid, and another part air or other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54880" y="163440"/>
            <a:ext cx="27684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S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oil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1680" y="2590920"/>
            <a:ext cx="2592360" cy="2965320"/>
          </a:xfrm>
          <a:prstGeom prst="rect">
            <a:avLst/>
          </a:prstGeom>
          <a:ln w="0">
            <a:noFill/>
          </a:ln>
        </p:spPr>
      </p:pic>
      <p:sp>
        <p:nvSpPr>
          <p:cNvPr id="63" name="Right Arrow 1"/>
          <p:cNvSpPr/>
          <p:nvPr/>
        </p:nvSpPr>
        <p:spPr>
          <a:xfrm>
            <a:off x="2135160" y="3213000"/>
            <a:ext cx="500040" cy="3351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8B95-08AD-47CA-8E13-DA7A0D7A4F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soil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58920" y="1049400"/>
            <a:ext cx="6913440" cy="54338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66" name="Text Box 3"/>
          <p:cNvSpPr/>
          <p:nvPr/>
        </p:nvSpPr>
        <p:spPr>
          <a:xfrm>
            <a:off x="162000" y="18900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Phase diagram in terms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1524-3591-465F-9F74-F397E9ACCC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phase relation"/>
          <p:cNvPicPr/>
          <p:nvPr/>
        </p:nvPicPr>
        <p:blipFill>
          <a:blip r:embed="rId1"/>
          <a:stretch/>
        </p:blipFill>
        <p:spPr>
          <a:xfrm>
            <a:off x="900000" y="1125360"/>
            <a:ext cx="7596360" cy="5235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412560" y="260280"/>
            <a:ext cx="29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ssible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00D5-2F48-4824-AD08-29BE963B31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68360" y="189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3333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volume of a given soil sample can be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2484360" y="1052640"/>
                <a:ext cx="45626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Text Box 11"/>
          <p:cNvSpPr/>
          <p:nvPr/>
        </p:nvSpPr>
        <p:spPr>
          <a:xfrm>
            <a:off x="179280" y="1484280"/>
            <a:ext cx="49791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 = Total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Volume of soil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Volume of v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Volume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Volume of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39640" y="33274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3333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that the weight of the air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gligi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e can give the total weight of the sampl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3"/>
              <p:cNvSpPr txBox="1"/>
              <p:nvPr/>
            </p:nvSpPr>
            <p:spPr>
              <a:xfrm>
                <a:off x="2293920" y="4221000"/>
                <a:ext cx="23972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Text Box 14"/>
          <p:cNvSpPr/>
          <p:nvPr/>
        </p:nvSpPr>
        <p:spPr>
          <a:xfrm>
            <a:off x="540360" y="4941720"/>
            <a:ext cx="356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weight of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weight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5670720"/>
            <a:ext cx="8064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3333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gineering practice we usually measure the total volume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mass of water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e mass of dry soli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8C08-C25C-465C-BE27-C65E13A16C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6320" y="209520"/>
            <a:ext cx="3364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ume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4000" y="765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lumetric ratios that are very useful in geotechnical engineering , and these can be determined directly from the phas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23640" y="2419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id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8"/>
              <p:cNvSpPr txBox="1"/>
              <p:nvPr/>
            </p:nvSpPr>
            <p:spPr>
              <a:xfrm>
                <a:off x="2771640" y="2205000"/>
                <a:ext cx="10479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 Box 9"/>
          <p:cNvSpPr/>
          <p:nvPr/>
        </p:nvSpPr>
        <p:spPr>
          <a:xfrm>
            <a:off x="324720" y="37162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2771640" y="3500280"/>
                <a:ext cx="1079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Text Box 11"/>
          <p:cNvSpPr/>
          <p:nvPr/>
        </p:nvSpPr>
        <p:spPr>
          <a:xfrm>
            <a:off x="395280" y="49878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 Degree of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2700360" y="4724280"/>
                <a:ext cx="1174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14"/>
          <p:cNvSpPr/>
          <p:nvPr/>
        </p:nvSpPr>
        <p:spPr>
          <a:xfrm>
            <a:off x="611280" y="5877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rosity and degree of saturation are commonly expressed as a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percentag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4716360" y="1608120"/>
            <a:ext cx="3473280" cy="4197240"/>
            <a:chOff x="4716360" y="1608120"/>
            <a:chExt cx="3473280" cy="4197240"/>
          </a:xfrm>
        </p:grpSpPr>
        <p:pic>
          <p:nvPicPr>
            <p:cNvPr id="89" name="Picture 5" descr=""/>
            <p:cNvPicPr/>
            <p:nvPr/>
          </p:nvPicPr>
          <p:blipFill>
            <a:blip r:embed="rId1"/>
            <a:stretch/>
          </p:blipFill>
          <p:spPr>
            <a:xfrm>
              <a:off x="4975200" y="1751040"/>
              <a:ext cx="321444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15"/>
            <p:cNvSpPr/>
            <p:nvPr/>
          </p:nvSpPr>
          <p:spPr>
            <a:xfrm>
              <a:off x="4716360" y="1608120"/>
              <a:ext cx="8636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D7E9-C578-4290-85AE-A7E0219F3C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5940360" y="1773360"/>
            <a:ext cx="1905120" cy="3733200"/>
            <a:chOff x="5940360" y="1773360"/>
            <a:chExt cx="1905120" cy="3733200"/>
          </a:xfrm>
        </p:grpSpPr>
        <p:sp>
          <p:nvSpPr>
            <p:cNvPr id="93" name="Rectangle 5"/>
            <p:cNvSpPr/>
            <p:nvPr/>
          </p:nvSpPr>
          <p:spPr>
            <a:xfrm>
              <a:off x="5940360" y="3601800"/>
              <a:ext cx="1905120" cy="1904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5940360" y="1773360"/>
              <a:ext cx="190512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5940360" y="2687400"/>
              <a:ext cx="1905120" cy="914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6397560" y="2916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6473880" y="207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549840" y="428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11"/>
          <p:cNvSpPr/>
          <p:nvPr/>
        </p:nvSpPr>
        <p:spPr>
          <a:xfrm>
            <a:off x="684360" y="1413000"/>
            <a:ext cx="3771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is illust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1054080" y="234936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1054080" y="334008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=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054080" y="42544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0:05:42Z</dcterms:created>
  <dc:creator>TENEBRA</dc:creator>
  <dc:description/>
  <dc:language>en-US</dc:language>
  <cp:lastModifiedBy>shamrani</cp:lastModifiedBy>
  <cp:lastPrinted>2015-10-03T11:16:32Z</cp:lastPrinted>
  <dcterms:modified xsi:type="dcterms:W3CDTF">2017-09-15T11:50:18Z</dcterms:modified>
  <cp:revision>70</cp:revision>
  <dc:subject/>
  <dc:title>Slide 1</dc:title>
</cp:coreProperties>
</file>