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9.jpeg" ContentType="image/jpeg"/>
  <Override PartName="/ppt/media/image9.png" ContentType="image/pn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4.jpeg" ContentType="image/jpeg"/>
  <Override PartName="/ppt/media/image2.png" ContentType="image/png"/>
  <Override PartName="/ppt/media/image25.png" ContentType="image/png"/>
  <Override PartName="/ppt/media/image29.jpeg" ContentType="image/jpeg"/>
  <Override PartName="/ppt/media/image28.png" ContentType="image/png"/>
  <Override PartName="/ppt/media/image16.png" ContentType="image/png"/>
  <Override PartName="/ppt/media/image27.png" ContentType="image/png"/>
  <Override PartName="/ppt/media/image15.png" ContentType="image/png"/>
  <Override PartName="/ppt/media/image24.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3.png" ContentType="image/png"/>
  <Override PartName="/ppt/media/image2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D6FAD-9B1F-4612-82DE-F11D48E03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292C8-67F2-4887-9C75-60869752B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B2AD5-8903-4540-BB90-25200BF9A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4AC5D-E0F3-47FA-91FA-56B76703E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71FAD-8EE8-4AC6-891E-D40E8B7B1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D5BD1-725B-40C3-AFA5-70099522A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F22FF-A4BF-48FE-A192-C6A76A35C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F4B97-C651-4906-9DEA-15D46C7A8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3D5B7-6A1F-48A4-8D5D-8E639CC13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ED1F2-D1AC-43F4-9529-A3D6A45DC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31049-4FCB-46C8-A0F3-0BB26BD0C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EDB7A-42A1-4470-8C05-F3FA6955B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296F-03F0-4B89-A7BD-5569907B414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محاضرة الخامسة </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قرر </a:t>
            </a:r>
            <a:r>
              <a:rPr b="0" lang="ar-SA" sz="3200" spc="-1" strike="noStrike">
                <a:solidFill>
                  <a:srgbClr val="000000"/>
                </a:solidFill>
                <a:latin typeface="Calibri"/>
              </a:rPr>
              <a:t>317</a:t>
            </a:r>
            <a:r>
              <a:rPr b="0" lang="ar-SA" sz="3200" spc="-1" strike="noStrike">
                <a:solidFill>
                  <a:srgbClr val="000000"/>
                </a:solidFill>
                <a:latin typeface="Calibri"/>
              </a:rPr>
              <a:t> جغر تطبيقات الاستشعار عن بع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طرق التحسين في المرئية الفضائ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طرق زيادة التباين</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2" descr=""/>
          <p:cNvPicPr/>
          <p:nvPr/>
        </p:nvPicPr>
        <p:blipFill>
          <a:blip r:embed="rId1"/>
          <a:stretch/>
        </p:blipFill>
        <p:spPr>
          <a:xfrm>
            <a:off x="100080" y="1484280"/>
            <a:ext cx="8943840" cy="518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stretch"/>
          <p:cNvPicPr/>
          <p:nvPr/>
        </p:nvPicPr>
        <p:blipFill>
          <a:blip r:embed="rId1"/>
          <a:srcRect l="0" t="24156" r="2564" b="2413"/>
          <a:stretch/>
        </p:blipFill>
        <p:spPr>
          <a:xfrm>
            <a:off x="0" y="1639800"/>
            <a:ext cx="8686800" cy="483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128520" y="536400"/>
            <a:ext cx="8886960" cy="579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0" y="32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457200" y="74520"/>
            <a:ext cx="8229600" cy="671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Users\Asus1\Desktop\تبوك\picccrs\imagesCA8XLFFI.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95400" y="3240"/>
            <a:ext cx="93348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صورة 1" descr=""/>
          <p:cNvPicPr/>
          <p:nvPr/>
        </p:nvPicPr>
        <p:blipFill>
          <a:blip r:embed="rId1"/>
          <a:stretch/>
        </p:blipFill>
        <p:spPr>
          <a:xfrm>
            <a:off x="324000" y="260280"/>
            <a:ext cx="8569080" cy="626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8080"/>
            <a:ext cx="8229600" cy="561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نسب النطاقات</a:t>
            </a:r>
            <a:endParaRPr b="0" lang="en-US" sz="4400" spc="-1" strike="noStrike">
              <a:solidFill>
                <a:srgbClr val="000000"/>
              </a:solidFill>
              <a:latin typeface="Calibri"/>
            </a:endParaRPr>
          </a:p>
        </p:txBody>
      </p:sp>
      <p:sp>
        <p:nvSpPr>
          <p:cNvPr id="64" name=""/>
          <p:cNvSpPr txBox="1"/>
          <p:nvPr/>
        </p:nvSpPr>
        <p:spPr>
          <a:xfrm>
            <a:off x="468360" y="620640"/>
            <a:ext cx="8229600" cy="4525920"/>
          </a:xfrm>
          <a:prstGeom prst="rect">
            <a:avLst/>
          </a:prstGeom>
          <a:noFill/>
          <a:ln w="0">
            <a:noFill/>
          </a:ln>
        </p:spPr>
        <p:txBody>
          <a:bodyPr anchor="t">
            <a:normAutofit fontScale="72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ي هذه الطريقة ينسب نطاق الى اخر وذلك بقسمة القيمة الرقمية لكل عنصر صورة في نطاق معين على القيمة الرقمية لعنصر الصورة نفسه في النطاق الاخر.</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هذه الطريقة تساعد على تمييز الظواهر المتشابهة  لأنها تبين الاختلافات في انحدارات منحنيات اطياف المواد بين نطاقين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كما ان تطبيقها يساعد حل مشكلة اختلاف كمية الطاقة المنعكسة من الاجسام التي تتكون من المادة نفسها بسبب تأثير طبوغرافية السطح (عامل الظل).</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يؤخذ على هذه الطريقة انها تخفي الفروق في معامل الانعكاس للأجسام التي تختلف في كمية الاشعة المنعكسة منها مما يجعل التمييز بينها امرا صعبا ويحدث ذلك عندما تكون انحدارات منحنيات اطيافها متشابه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
          <p:cNvPicPr/>
          <p:nvPr/>
        </p:nvPicPr>
        <p:blipFill>
          <a:blip r:embed="rId1"/>
          <a:stretch/>
        </p:blipFill>
        <p:spPr>
          <a:xfrm>
            <a:off x="-112680" y="115920"/>
            <a:ext cx="9256680" cy="684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3" descr=""/>
          <p:cNvPicPr/>
          <p:nvPr/>
        </p:nvPicPr>
        <p:blipFill>
          <a:blip r:embed="rId1"/>
          <a:stretch/>
        </p:blipFill>
        <p:spPr>
          <a:xfrm>
            <a:off x="-57240" y="47520"/>
            <a:ext cx="9258480" cy="6762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تحليل المركبات الرئيسية</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عيوب الصور ذات النطاقات المتعددة وجود علاقة قوية بين كثير من نطاقاتها أي تحتوي هذه النطاقات على نفس المعلومات ولها هستوغرامات متشابهة في الشكل والتوزيع وتظهر صورها متقاربة في المحتوى الاشعاعي عند عرضها على الشاشة . ويسمى ذلك بتكرار المعلومات في النطاقات وتحل هذه المشكلة من خلال تقنية تقوم بضغط وتجميع معلومات الصورة الاصلية باختزال </a:t>
            </a:r>
            <a:r>
              <a:rPr b="0" lang="ar-SA" sz="3200" spc="-1" strike="noStrike">
                <a:solidFill>
                  <a:srgbClr val="000000"/>
                </a:solidFill>
                <a:latin typeface="Calibri"/>
              </a:rPr>
              <a:t>7</a:t>
            </a:r>
            <a:r>
              <a:rPr b="0" lang="ar-SA" sz="3200" spc="-1" strike="noStrike">
                <a:solidFill>
                  <a:srgbClr val="000000"/>
                </a:solidFill>
                <a:latin typeface="Calibri"/>
              </a:rPr>
              <a:t> نطاقات لصورة </a:t>
            </a:r>
            <a:r>
              <a:rPr b="0" lang="en-US" sz="3200" spc="-1" strike="noStrike">
                <a:solidFill>
                  <a:srgbClr val="000000"/>
                </a:solidFill>
                <a:latin typeface="Calibri"/>
              </a:rPr>
              <a:t>  </a:t>
            </a:r>
            <a:r>
              <a:rPr b="0" lang="en-US" sz="3200" spc="-1" strike="noStrike">
                <a:solidFill>
                  <a:srgbClr val="000000"/>
                </a:solidFill>
                <a:latin typeface="Calibri"/>
              </a:rPr>
              <a:t>TM</a:t>
            </a:r>
            <a:r>
              <a:rPr b="0" lang="en-US" sz="3200" spc="-1" strike="noStrike">
                <a:solidFill>
                  <a:srgbClr val="000000"/>
                </a:solidFill>
                <a:latin typeface="Calibri"/>
              </a:rPr>
              <a:t>)</a:t>
            </a:r>
            <a:r>
              <a:rPr b="0" lang="ar-SA" sz="3200" spc="-1" strike="noStrike">
                <a:solidFill>
                  <a:srgbClr val="000000"/>
                </a:solidFill>
                <a:latin typeface="Calibri"/>
              </a:rPr>
              <a:t>) في </a:t>
            </a:r>
            <a:r>
              <a:rPr b="0" lang="ar-SA" sz="3200" spc="-1" strike="noStrike">
                <a:solidFill>
                  <a:srgbClr val="000000"/>
                </a:solidFill>
                <a:latin typeface="Calibri"/>
              </a:rPr>
              <a:t>3</a:t>
            </a:r>
            <a:r>
              <a:rPr b="0" lang="ar-SA" sz="3200" spc="-1" strike="noStrike">
                <a:solidFill>
                  <a:srgbClr val="000000"/>
                </a:solidFill>
                <a:latin typeface="Calibri"/>
              </a:rPr>
              <a:t> نطاقات مع المحافظة على المحتويات الاشعاعية للصورة الاصل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260280"/>
            <a:ext cx="8229600" cy="586584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9" name="Picture 2" descr=""/>
          <p:cNvPicPr/>
          <p:nvPr/>
        </p:nvPicPr>
        <p:blipFill>
          <a:blip r:embed="rId1"/>
          <a:stretch/>
        </p:blipFill>
        <p:spPr>
          <a:xfrm>
            <a:off x="250920" y="0"/>
            <a:ext cx="8642160" cy="6742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0" y="23184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
          <p:cNvPicPr/>
          <p:nvPr/>
        </p:nvPicPr>
        <p:blipFill>
          <a:blip r:embed="rId1"/>
          <a:stretch/>
        </p:blipFill>
        <p:spPr>
          <a:xfrm>
            <a:off x="179280" y="189000"/>
            <a:ext cx="8856720" cy="626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C:\Users\Asus1\Desktop\تبوك\picccrs\imagesCAWSG9NE.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28440" y="252360"/>
            <a:ext cx="9200880" cy="6353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89000"/>
            <a:ext cx="8229600" cy="5937120"/>
          </a:xfrm>
          <a:prstGeom prst="rect">
            <a:avLst/>
          </a:prstGeom>
          <a:noFill/>
          <a:ln w="0">
            <a:noFill/>
          </a:ln>
        </p:spPr>
        <p:txBody>
          <a:bodyPr anchor="t">
            <a:normAutofit fontScale="92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قصد بدمج بيانات الصور انها عملية دمج نوعين من انواع الصور في صورة واحدة للاستفادة من الخصائص الموجودة في كل صورة ويمكن ان تتم هذه العملية بين عدة انواع من بيانات الاستشعار عن بعد كدمج الصور المتعددة الاطياف مع صورة الرادار. او دمج الصور المتعددة الاطياف مع بيانات الارتفاعات الرقمية ومن اشهرها  دمج صورة متعددة الاطياف ذات درجة وضوح منخفض مع صورة احادية الطيف ذات درجة وضوح اعلى وتحتل نفس القطاع من الطيف الكهرومغناطيسي وهذه العملية مهمة لأغراض العرض والتفسير البصري ولا يقصد بها تحليل البيانات رقميا. مثل دمج مرئية سبوت متعددة الاطياف مع مرئية سبوت احادية الطيف.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620280"/>
            <a:ext cx="8229600" cy="550548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6" name="Picture 2" descr=""/>
          <p:cNvPicPr/>
          <p:nvPr/>
        </p:nvPicPr>
        <p:blipFill>
          <a:blip r:embed="rId1"/>
          <a:stretch/>
        </p:blipFill>
        <p:spPr>
          <a:xfrm>
            <a:off x="395280" y="189000"/>
            <a:ext cx="8569440" cy="619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6840" y="836280"/>
            <a:ext cx="8435880" cy="5545080"/>
          </a:xfrm>
          <a:prstGeom prst="rect">
            <a:avLst/>
          </a:prstGeom>
          <a:noFill/>
          <a:ln w="0">
            <a:noFill/>
          </a:ln>
        </p:spPr>
        <p:txBody>
          <a:bodyPr anchor="t">
            <a:normAutofit/>
          </a:bodyPr>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ويشترط ان تكون الصور مصححة هندسيا. بحيث يكون لكلتا الصورتين نفس المرجع الجغرافي. بحيث تكون متزامنة قدر المستطاع.</a:t>
            </a:r>
            <a:endParaRPr b="0" lang="en-US" sz="4400" spc="-1" strike="noStrike">
              <a:solidFill>
                <a:srgbClr val="000000"/>
              </a:solidFill>
              <a:latin typeface="Calibri"/>
            </a:endParaRPr>
          </a:p>
          <a:p>
            <a:pPr marL="343080" indent="-3430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stretch/>
        </p:blipFill>
        <p:spPr>
          <a:xfrm>
            <a:off x="-176040" y="376200"/>
            <a:ext cx="9496080" cy="6105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0" y="32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0" y="141120"/>
            <a:ext cx="9144000" cy="6581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123840" y="141120"/>
            <a:ext cx="9391680" cy="6581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
          <p:cNvPicPr/>
          <p:nvPr/>
        </p:nvPicPr>
        <p:blipFill>
          <a:blip r:embed="rId1"/>
          <a:stretch/>
        </p:blipFill>
        <p:spPr>
          <a:xfrm>
            <a:off x="0" y="189000"/>
            <a:ext cx="8820000" cy="6669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52560" y="3240"/>
            <a:ext cx="924912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
          <p:cNvPicPr/>
          <p:nvPr/>
        </p:nvPicPr>
        <p:blipFill>
          <a:blip r:embed="rId1"/>
          <a:stretch/>
        </p:blipFill>
        <p:spPr>
          <a:xfrm>
            <a:off x="0" y="32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صورة 1" descr=""/>
          <p:cNvPicPr/>
          <p:nvPr/>
        </p:nvPicPr>
        <p:blipFill>
          <a:blip r:embed="rId1"/>
          <a:stretch/>
        </p:blipFill>
        <p:spPr>
          <a:xfrm>
            <a:off x="108000" y="115920"/>
            <a:ext cx="8928000" cy="6742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مراجع</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صالح، محمد عبدالله، (</a:t>
            </a:r>
            <a:r>
              <a:rPr b="0" lang="ar-SA" sz="3200" spc="-1" strike="noStrike">
                <a:solidFill>
                  <a:srgbClr val="000000"/>
                </a:solidFill>
                <a:latin typeface="Calibri"/>
              </a:rPr>
              <a:t>1992</a:t>
            </a:r>
            <a:r>
              <a:rPr b="0" lang="ar-SA" sz="3200" spc="-1" strike="noStrike">
                <a:solidFill>
                  <a:srgbClr val="000000"/>
                </a:solidFill>
                <a:latin typeface="Calibri"/>
              </a:rPr>
              <a:t>م)، مرئية الاسـتشـعار عن بعد: جمع بياناتها  وتحليلها، مركز البحوث، كلية الآداب، جامعة الملك سـعود، الرياض، الإصـدار  رقم </a:t>
            </a:r>
            <a:r>
              <a:rPr b="0" lang="ar-SA" sz="3200" spc="-1" strike="noStrike">
                <a:solidFill>
                  <a:srgbClr val="000000"/>
                </a:solidFill>
                <a:latin typeface="Calibri"/>
              </a:rPr>
              <a:t>27</a:t>
            </a:r>
            <a:r>
              <a:rPr b="0"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عمران، علي بن ابراهيم، (</a:t>
            </a:r>
            <a:r>
              <a:rPr b="0" lang="ar-SA" sz="3200" spc="-1" strike="noStrike">
                <a:solidFill>
                  <a:srgbClr val="000000"/>
                </a:solidFill>
                <a:latin typeface="Calibri"/>
              </a:rPr>
              <a:t>2012</a:t>
            </a:r>
            <a:r>
              <a:rPr b="0" lang="ar-SA" sz="3200" spc="-1" strike="noStrike">
                <a:solidFill>
                  <a:srgbClr val="000000"/>
                </a:solidFill>
                <a:latin typeface="Calibri"/>
              </a:rPr>
              <a:t>م)، مقدمة في الاستشعار عن بعد ومعالجة الصور رقميا، المؤلف، الرياض.</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3" descr=""/>
          <p:cNvPicPr/>
          <p:nvPr/>
        </p:nvPicPr>
        <p:blipFill>
          <a:blip r:embed="rId1"/>
          <a:stretch/>
        </p:blipFill>
        <p:spPr>
          <a:xfrm>
            <a:off x="-57240" y="47520"/>
            <a:ext cx="9258480" cy="676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404280"/>
            <a:ext cx="8229600" cy="57214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 تركز القيم الرقمية في جزء ضيق من المقياس يؤدي الى صعوبة التمييز بين الظواهر بصريا. ويمكن التغلب على هذه المشكلة من خلال نشر القيم الرقمية على كامل المقياس الرمادي.</a:t>
            </a:r>
            <a:endParaRPr b="0" lang="en-US" sz="3200" spc="-1" strike="noStrike">
              <a:solidFill>
                <a:srgbClr val="000000"/>
              </a:solidFill>
              <a:latin typeface="Calibri"/>
            </a:endParaRPr>
          </a:p>
        </p:txBody>
      </p:sp>
      <p:sp>
        <p:nvSpPr>
          <p:cNvPr id="47" name="عنصر نائب للمحتوى 2"/>
          <p:cNvSpPr/>
          <p:nvPr/>
        </p:nvSpPr>
        <p:spPr>
          <a:xfrm>
            <a:off x="46836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 تركز القيم الرقمية في جزء ضيق من المقياس يؤدي الى صعوبة التمييز بين الظواهر بصريا. ويمكن التغلب على هذه المشكلة من خلال نشر القيم الرقمية على كامل المقياس الرمادي.</a:t>
            </a: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صورة 1" descr=""/>
          <p:cNvPicPr/>
          <p:nvPr/>
        </p:nvPicPr>
        <p:blipFill>
          <a:blip r:embed="rId1"/>
          <a:stretch/>
        </p:blipFill>
        <p:spPr>
          <a:xfrm>
            <a:off x="468360" y="2424240"/>
            <a:ext cx="8229600" cy="39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صورة 4" descr=""/>
          <p:cNvPicPr/>
          <p:nvPr/>
        </p:nvPicPr>
        <p:blipFill>
          <a:blip r:embed="rId1"/>
          <a:stretch/>
        </p:blipFill>
        <p:spPr>
          <a:xfrm>
            <a:off x="324000" y="333360"/>
            <a:ext cx="8640720" cy="626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صورة 3" descr=""/>
          <p:cNvPicPr/>
          <p:nvPr/>
        </p:nvPicPr>
        <p:blipFill>
          <a:blip r:embed="rId1"/>
          <a:stretch/>
        </p:blipFill>
        <p:spPr>
          <a:xfrm>
            <a:off x="324000" y="333360"/>
            <a:ext cx="8569080" cy="604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539640" y="333000"/>
            <a:ext cx="8229600" cy="5505480"/>
          </a:xfrm>
          <a:prstGeom prst="rect">
            <a:avLst/>
          </a:prstGeom>
          <a:noFill/>
          <a:ln w="0">
            <a:noFill/>
          </a:ln>
        </p:spPr>
        <p:txBody>
          <a:bodyPr anchor="t">
            <a:normAutofit fontScale="85000"/>
          </a:bodyPr>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ستقبل المستشعرات عن بعد الاشعة المنعكسة من المعالم على سطح الارض وتختلف كمية الاشعة المنعكسة من معلم الى اخر بناء على عدة اسباب منها اختلاف الخصائص الطيفية والهندسية بين المعالم والاختلاف النسبي لمواقع هذه المعالم بالنسبة للشمس وهذا الاختلاف بالانعكاس يؤدي الى وجود تباين بين المعالم في الصورة حيث تحتل قيم السطوع لمعظم الصور جزءا محدودا فقط من المدى الديناميكي وهو ما يؤدي الى انتاج صور منخفضة التباين يصعب على المفسر من خلالها القدرة على التفريق بين المعالم المختلفة ذات قيم السطوع المتقاربة .وتحسين تباين هذه الصور يتم من خلال الاستفادة من كامل المدى الديناميكي لقيم سطوع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260280"/>
            <a:ext cx="8229600" cy="5865840"/>
          </a:xfrm>
          <a:prstGeom prst="rect">
            <a:avLst/>
          </a:prstGeom>
          <a:noFill/>
          <a:ln w="0">
            <a:noFill/>
          </a:ln>
        </p:spPr>
        <p:txBody>
          <a:bodyPr anchor="t">
            <a:norm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جهاز العرض بشد التباين في الصورة الاصلية لإحلال المدى الضيق من قيم السطوع فيها لكامل المدى الديناميكي ومن ثم الحصول على صورة يمكن للعين البشرية ان تفرق بين المعالم المختلفة فيها من خلال قيم سطوع متباعدة.</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15:53:06Z</dcterms:created>
  <dc:creator>admin</dc:creator>
  <dc:description/>
  <dc:language>en-US</dc:language>
  <cp:lastModifiedBy>mey</cp:lastModifiedBy>
  <dcterms:modified xsi:type="dcterms:W3CDTF">2014-03-11T12:37:57Z</dcterms:modified>
  <cp:revision>26</cp:revision>
  <dc:subject/>
  <dc:title>الشريحة 1</dc:title>
</cp:coreProperties>
</file>