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B76-4A79-4D72-A262-68B6FAB19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85B-F429-4A37-AABD-03961A29DEAA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B6B-4C4E-41E0-8249-7A49C0911FC8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765-1893-4A07-A773-8AB0FF6E3CF3}" type="slidenum">
              <a:rPr b="0" lang="en-US" sz="1200" spc="-1" strike="noStrike">
                <a:solidFill>
                  <a:srgbClr val="2929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801-FE37-4709-A0D0-9E9AC3B9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982-6AE3-4CA1-BAF8-F6A7D456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B0D-767F-4174-B412-64C1BC86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B03-D6C8-4985-80CE-657D08E1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105-8FD2-4EF9-8B0A-7788F15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F857-7D8D-437B-B9EF-0180429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80DE-4062-4939-A1FC-8AA1BDDD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FE47-05A4-4C83-A14B-E5127F5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303-F724-4DEA-BE8D-175DD31B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BA89-C0C7-4506-8801-0B7FA24A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CB65-0463-40F5-A89B-B07572D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625-2568-44D9-8F75-45C79172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56F6-1656-4973-9186-57933D3A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D4F-7B03-4334-9ACB-173918E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5DED-D1C8-4E68-8FB1-B1F5292C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499-F383-4685-8904-E6923AA2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EDD-C661-4B38-87BF-CF72462D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80D5-2EE3-4782-B32A-9903AC1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A00A-6E71-42E7-A447-D5C961BC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DA7C-6F49-42E1-8745-D21A370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60B6-E12A-49B1-AA8F-E146F406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0726-B849-4106-B8A6-0B8203C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501-1E08-44DA-94C2-419BD1E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D6E6-EA2D-4012-AB77-91FE619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6B73-DE4D-495D-84B4-721E9B5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A192-4B86-47AD-AD8A-C6FE5D6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200B-3ACB-48C2-9ADA-79C397A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748F-8B7D-4500-B198-C0A0EB1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0A0E-E462-420E-AFAB-217C0325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B159-D9C8-4163-8697-DE34D824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00A0-F12A-46C4-A8DB-28DF4D04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6360-7862-4D92-A628-B84A00D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AA5CD-51DC-49CC-A7A5-424E046A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09C-AD51-42A7-9649-44B09F1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EB03-DBF2-4FA6-A713-C6DD410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01B90-F962-4DD8-A7ED-81ECB40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B76F-FA17-4E51-927E-404CFE31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145A-7A08-4E26-B600-BB16191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9F46-9088-4ED0-BD2F-3124866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B1A5-9F93-4CCF-9DF4-A8860C8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2552-B066-4CF6-AE5C-2066BB0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6A19-82EF-410A-9F9F-5F709F5D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FB3A-6531-4925-9F31-8CC557A4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FCCD-E9DD-46F9-9675-EA8706EB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D76-417D-4C87-9D56-E92EC3C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272C-F187-424D-B187-DC86483B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69FA3-E584-482C-8F98-1274105D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85793-9E8F-44C5-A796-EBA59AB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860B-375B-48C8-B07D-CBB300CE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BE8C-7F31-46DA-BF45-7AC46FD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756F-2EE2-4492-BC12-DE8CAB6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D1F2-E3F1-4312-8450-C483B9A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F3D52-CB01-4FC0-8DB1-701B6DD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02AD-898D-4389-AAD3-78312112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99A3-1E30-4833-AB2D-0B4DEC4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74F-4055-4805-A0D1-FC6CCBC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4BAFD-26C5-43E8-815F-79E95C2A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7F9-5FB2-42FE-94D9-7492426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B9C-406B-4F69-92FD-E5094D1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51D-A1E1-4163-B1DF-C2FA878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D27-5B18-4EFE-A0BF-EA03247D8C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2E8-BDC9-49DA-B4E9-8D167E79D9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9A4-6EC3-4657-818A-310074D2DE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33C7-E3BB-420F-8870-8076B0014F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iang_Ch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3135-A2AC-4086-AFF3-80E492AA21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52560" y="2286000"/>
            <a:ext cx="723888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57576e"/>
                </a:solidFill>
                <a:latin typeface="Arial"/>
              </a:rPr>
              <a:t>Eigenvalues and Eigenvectors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igenvalues and Eigenvector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ect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 of matr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is an eigenvalue of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f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alues and eigenvectors are only defined for square matrices (i.e.,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igenvectors are not unique (e.g., if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 an eigenvector, so is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k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Zero vector is a trivial solution to the eigenvalue equation for any number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is not considered as an eigenvecto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 linear transformation implied by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not change the direction of the eigenvector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but change only their magnitud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331160" y="190512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(assume non-zero x)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240" y="3189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 summarize the computational approach for determin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igenpairs (</a:t>
            </a:r>
            <a:r>
              <a:rPr b="0" lang="en-US" sz="20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) (eigenvalues and eigen vector) a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wo-step procedur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1" name="Picture 5" descr="PPT429"/>
          <p:cNvPicPr/>
          <p:nvPr/>
        </p:nvPicPr>
        <p:blipFill>
          <a:blip r:embed="rId1"/>
          <a:stretch/>
        </p:blipFill>
        <p:spPr>
          <a:xfrm>
            <a:off x="838080" y="990720"/>
            <a:ext cx="6782040" cy="939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PPT42A"/>
          <p:cNvPicPr/>
          <p:nvPr/>
        </p:nvPicPr>
        <p:blipFill>
          <a:blip r:embed="rId2"/>
          <a:stretch/>
        </p:blipFill>
        <p:spPr>
          <a:xfrm>
            <a:off x="914400" y="1981080"/>
            <a:ext cx="6400800" cy="1252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30492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pai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4" name="Picture 8" descr="PPT42C"/>
          <p:cNvPicPr/>
          <p:nvPr/>
        </p:nvPicPr>
        <p:blipFill>
          <a:blip r:embed="rId3"/>
          <a:stretch/>
        </p:blipFill>
        <p:spPr>
          <a:xfrm>
            <a:off x="4668840" y="3224160"/>
            <a:ext cx="1295280" cy="662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80880" y="3962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Find the eigenvalues.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36" name="Picture 10" descr="PPT42D"/>
          <p:cNvPicPr/>
          <p:nvPr/>
        </p:nvPicPr>
        <p:blipFill>
          <a:blip r:embed="rId4"/>
          <a:stretch/>
        </p:blipFill>
        <p:spPr>
          <a:xfrm>
            <a:off x="4334040" y="3886200"/>
            <a:ext cx="4572000" cy="1015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PPT42E"/>
          <p:cNvPicPr/>
          <p:nvPr/>
        </p:nvPicPr>
        <p:blipFill>
          <a:blip r:embed="rId5"/>
          <a:stretch/>
        </p:blipFill>
        <p:spPr>
          <a:xfrm>
            <a:off x="228600" y="5181480"/>
            <a:ext cx="86868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eigenvalues are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086280" y="343080"/>
          <a:ext cx="20574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343080"/>
                    <a:ext cx="20574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7"/>
          <p:cNvSpPr/>
          <p:nvPr/>
        </p:nvSpPr>
        <p:spPr>
          <a:xfrm>
            <a:off x="228600" y="762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Step II.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o find corresponding eigenvectors we solv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572000" y="83520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 - </a:t>
            </a:r>
            <a:r>
              <a:rPr b="0" i="1" lang="en-US" sz="2400" spc="-1" strike="noStrike">
                <a:solidFill>
                  <a:srgbClr val="29293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292934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)x = 0  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i = 1,2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44" name="Picture 9" descr="PPT430"/>
          <p:cNvPicPr/>
          <p:nvPr/>
        </p:nvPicPr>
        <p:blipFill>
          <a:blip r:embed="rId3"/>
          <a:stretch/>
        </p:blipFill>
        <p:spPr>
          <a:xfrm>
            <a:off x="228600" y="1219320"/>
            <a:ext cx="8381880" cy="2361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PT431"/>
          <p:cNvPicPr/>
          <p:nvPr/>
        </p:nvPicPr>
        <p:blipFill>
          <a:blip r:embed="rId4"/>
          <a:stretch/>
        </p:blipFill>
        <p:spPr>
          <a:xfrm>
            <a:off x="304920" y="3505320"/>
            <a:ext cx="7467480" cy="2361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45720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Note: rref means row reduced echelon form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mputing </a:t>
            </a:r>
            <a:r>
              <a:rPr b="0" lang="el-GR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  <a:ea typeface="Times New Roman"/>
              </a:rPr>
              <a:t> and v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o find the eigenvalues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of a matrix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find the roots of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racteristic polynomial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733920" y="2819520"/>
            <a:ext cx="2438280" cy="58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1981080" y="3886200"/>
            <a:ext cx="1981440" cy="1216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532800" y="4267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8f6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5943600" cy="917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0"/>
          <p:cNvSpPr/>
          <p:nvPr/>
        </p:nvSpPr>
        <p:spPr>
          <a:xfrm>
            <a:off x="7620120" y="4572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3a299"/>
          </a:solidFill>
          <a:ln cap="sq" w="1260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7260120" y="389736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x=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858000" y="5234040"/>
                <a:ext cx="1752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7"/>
          <p:cNvSpPr/>
          <p:nvPr/>
        </p:nvSpPr>
        <p:spPr>
          <a:xfrm>
            <a:off x="328680" y="609480"/>
            <a:ext cx="71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Find eigenvalues and eigen 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7302600" y="419040"/>
                <a:ext cx="1135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TextBox 5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The characteristic polynomial is                               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220968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7"/>
          <p:cNvSpPr/>
          <p:nvPr/>
        </p:nvSpPr>
        <p:spPr>
          <a:xfrm>
            <a:off x="79200" y="6858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3" name="Picture 8" descr="PPT438"/>
          <p:cNvPicPr/>
          <p:nvPr/>
        </p:nvPicPr>
        <p:blipFill>
          <a:blip r:embed="rId1"/>
          <a:stretch/>
        </p:blipFill>
        <p:spPr>
          <a:xfrm>
            <a:off x="2895480" y="1600200"/>
            <a:ext cx="2514600" cy="12747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1776240" y="781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d the eigenvalues and corresponding eigenvectors of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8680" y="2971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characteristic polynomial i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6" name="Picture 11" descr="PPT439"/>
          <p:cNvPicPr/>
          <p:nvPr/>
        </p:nvPicPr>
        <p:blipFill>
          <a:blip r:embed="rId2"/>
          <a:stretch/>
        </p:blipFill>
        <p:spPr>
          <a:xfrm>
            <a:off x="4610160" y="3048120"/>
            <a:ext cx="2209680" cy="447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2"/>
          <p:cNvSpPr/>
          <p:nvPr/>
        </p:nvSpPr>
        <p:spPr>
          <a:xfrm>
            <a:off x="380880" y="362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ts fa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68" name="Picture 13" descr="PPT43A"/>
          <p:cNvPicPr/>
          <p:nvPr/>
        </p:nvPicPr>
        <p:blipFill>
          <a:blip r:embed="rId3"/>
          <a:stretch/>
        </p:blipFill>
        <p:spPr>
          <a:xfrm>
            <a:off x="4168800" y="3537000"/>
            <a:ext cx="2286000" cy="423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4"/>
          <p:cNvSpPr/>
          <p:nvPr/>
        </p:nvSpPr>
        <p:spPr>
          <a:xfrm>
            <a:off x="576360" y="4084560"/>
            <a:ext cx="54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the eigenvalues are 1, 2, and 3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270" name="Picture 15" descr="PPT43B"/>
          <p:cNvPicPr/>
          <p:nvPr/>
        </p:nvPicPr>
        <p:blipFill>
          <a:blip r:embed="rId4"/>
          <a:stretch/>
        </p:blipFill>
        <p:spPr>
          <a:xfrm>
            <a:off x="3581280" y="4892760"/>
            <a:ext cx="1524240" cy="1185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PPT43C"/>
          <p:cNvPicPr/>
          <p:nvPr/>
        </p:nvPicPr>
        <p:blipFill>
          <a:blip r:embed="rId5"/>
          <a:stretch/>
        </p:blipFill>
        <p:spPr>
          <a:xfrm>
            <a:off x="5307120" y="4933800"/>
            <a:ext cx="1371600" cy="1176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PPT43D"/>
          <p:cNvPicPr/>
          <p:nvPr/>
        </p:nvPicPr>
        <p:blipFill>
          <a:blip r:embed="rId6"/>
          <a:stretch/>
        </p:blipFill>
        <p:spPr>
          <a:xfrm>
            <a:off x="6818400" y="4979880"/>
            <a:ext cx="1371600" cy="1130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8"/>
          <p:cNvSpPr/>
          <p:nvPr/>
        </p:nvSpPr>
        <p:spPr>
          <a:xfrm>
            <a:off x="10152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rresponding eigenvectors are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7:09:25Z</dcterms:created>
  <dc:creator>Bokkasam Sasi Bokkasam</dc:creator>
  <dc:description/>
  <dc:language>en-US</dc:language>
  <cp:lastModifiedBy>Nadia MS</cp:lastModifiedBy>
  <cp:lastPrinted>2016-05-03T08:20:37Z</cp:lastPrinted>
  <dcterms:modified xsi:type="dcterms:W3CDTF">2017-02-08T20:38:25Z</dcterms:modified>
  <cp:revision>331</cp:revision>
  <dc:subject/>
  <dc:title>PowerPoint Presentation</dc:title>
</cp:coreProperties>
</file>