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E60-4841-4891-865C-09084DE44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1811-1469-4CC7-B76E-2BD96AF2611E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D28-0EA3-43FB-9742-B090C050C6C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04A-7661-4E98-B779-5CCD3A2D9A4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633-75F1-4B8F-8FDF-7B9B8945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7E6-2AD2-47A3-94DA-15F4B24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59E-9E32-4E79-8002-3DB62B50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ADC-6A69-499A-A828-718B213E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21D9-1258-44F9-94DB-34970E8A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8633-F5E4-4ABA-A864-DB6A655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53DA-9C3D-4B32-A583-890D401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F31-3110-4178-B5E9-5CC9084D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C5B-A5C4-4E21-B8B4-006D60CE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FF59-AC58-4067-80CB-77DCE0AE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CF5-E11F-4D72-BB57-690C25F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64C-795E-4842-93A0-8024C964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A2AF-C99E-4B28-A89F-8AD9342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A0D-BEE1-49C1-96EE-603BD52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8BAD-F8FA-41C4-BB90-AEAFAE1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47B-11E7-4D16-95BC-D363B60B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5B1-99F5-4DE2-954C-BE88A451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9921-29EB-4F18-9A69-1E9F4E5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9CE4-8200-4D3D-9C8B-0D337C5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BE57-9A30-4F2A-9836-FF509A0D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C70F-64E9-4524-86F6-F39CD877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53CA-C7C4-49C3-8DD8-9E21677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BD8-AD1D-4968-8A08-878C116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88EA-DC9E-4B76-A270-D9A78B46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0F9B-E8AA-4B33-8DAB-A36D281F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367B-EA08-4F83-9447-9860D96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D781-C211-41EE-A93C-7F70660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9443-41F6-465B-B6EB-7E4C8E58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B437-09A0-47C8-80A4-B58C75B5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1A02-DB6F-48A6-AEFA-401E4E13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0EB9-161A-41D4-BFB5-6B930D30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87EC-9546-407E-BD17-39A45A4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E4CE-FA88-408E-A309-3856CB1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F58-5726-4BD1-B3B9-9AEDF13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CACCD-9805-4C32-896E-3C4BCCC0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6F93-E67C-4A59-8E0F-B0E7B128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A2E2-8781-49E7-AB13-874448B7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1FA8-9AA6-4335-B8EA-B6FB6C0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EDB9-68BB-491A-961E-F294890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F769-C21F-48D7-9521-9459860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69C0-1ED9-41E1-8A9F-305395BC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3087-1220-4B55-BA66-9E9CB55A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432E-524D-47E0-BE9B-65803445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5B33-39DA-4CC1-A3A6-1EA7947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7A4-678A-4628-A968-0809C846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63E7-35F9-491E-B12B-1767D490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00FB-0126-4756-ABD6-B6A5032A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DB12-6BEB-4B00-8E0E-C363C6C8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ECFC-A3EF-4283-9C00-0196CCF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1E04-3F82-4EEC-A3DA-84E39AA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0490-D661-4627-B139-FA7E450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C7390-6240-4E4B-8779-D5C401E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751D-C9B8-40C2-8494-A0A5F50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42C1E-DD53-46F8-BDAD-CA2AF668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F5E2-3D52-4FEB-A107-20B8A360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BC7-DB7B-494E-AC56-BC8D04A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AFC0-BD52-49FF-909D-1AE81551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C10-3364-4986-8EC9-7878D94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054-8A31-41B9-8548-DB0C290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7B6-D295-44DB-B29A-13C9F82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2530-6D73-426E-AE90-E710DD4A88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8628-2CBF-4ACB-81B2-C93F5D2994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73FB-F1AD-4424-B176-E0A4164527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F4F-C429-46BF-A400-FD30B28399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3451-FA5F-4AF5-B2AD-BEB73F9945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Eigenvalues and Eigenvector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igenvalues and Eigenvecto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ect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 of matr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is an eigenvalue of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f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alues and eigenvectors are only defined for square matrices (i.e.,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ectors are not unique (e.g., if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, so is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k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Zero vector is a trivial solution to the eigenvalue equation for any number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is not considered as an eigenvecto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 linear transformation implied by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not change the direction of the eigenvector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but change only their magnitud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331160" y="19051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(assume non-zero x)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240" y="3189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 summarize the computational approach for determin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igenpairs (</a:t>
            </a:r>
            <a:r>
              <a:rPr b="0" lang="en-US" sz="20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) (eigenvalues and eigen vector) a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-step proced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1" name="Picture 5" descr="PPT429"/>
          <p:cNvPicPr/>
          <p:nvPr/>
        </p:nvPicPr>
        <p:blipFill>
          <a:blip r:embed="rId1"/>
          <a:stretch/>
        </p:blipFill>
        <p:spPr>
          <a:xfrm>
            <a:off x="838080" y="990720"/>
            <a:ext cx="6782040" cy="939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PPT42A"/>
          <p:cNvPicPr/>
          <p:nvPr/>
        </p:nvPicPr>
        <p:blipFill>
          <a:blip r:embed="rId2"/>
          <a:stretch/>
        </p:blipFill>
        <p:spPr>
          <a:xfrm>
            <a:off x="914400" y="1981080"/>
            <a:ext cx="6400800" cy="1252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0492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pai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4" name="Picture 8" descr="PPT42C"/>
          <p:cNvPicPr/>
          <p:nvPr/>
        </p:nvPicPr>
        <p:blipFill>
          <a:blip r:embed="rId3"/>
          <a:stretch/>
        </p:blipFill>
        <p:spPr>
          <a:xfrm>
            <a:off x="4668840" y="322416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8088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Find the eigenvalues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6" name="Picture 10" descr="PPT42D"/>
          <p:cNvPicPr/>
          <p:nvPr/>
        </p:nvPicPr>
        <p:blipFill>
          <a:blip r:embed="rId4"/>
          <a:stretch/>
        </p:blipFill>
        <p:spPr>
          <a:xfrm>
            <a:off x="4334040" y="3886200"/>
            <a:ext cx="4572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PPT42E"/>
          <p:cNvPicPr/>
          <p:nvPr/>
        </p:nvPicPr>
        <p:blipFill>
          <a:blip r:embed="rId5"/>
          <a:stretch/>
        </p:blipFill>
        <p:spPr>
          <a:xfrm>
            <a:off x="228600" y="5181480"/>
            <a:ext cx="86868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eigenvalues are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086280" y="343080"/>
          <a:ext cx="20574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343080"/>
                    <a:ext cx="20574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7"/>
          <p:cNvSpPr/>
          <p:nvPr/>
        </p:nvSpPr>
        <p:spPr>
          <a:xfrm>
            <a:off x="228600" y="762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o find corresponding eigenvectors we solv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572000" y="83520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 - </a:t>
            </a:r>
            <a:r>
              <a:rPr b="0" i="1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)x = 0  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i = 1,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4" name="Picture 9" descr="PPT430"/>
          <p:cNvPicPr/>
          <p:nvPr/>
        </p:nvPicPr>
        <p:blipFill>
          <a:blip r:embed="rId3"/>
          <a:stretch/>
        </p:blipFill>
        <p:spPr>
          <a:xfrm>
            <a:off x="228600" y="1219320"/>
            <a:ext cx="8381880" cy="2361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PT431"/>
          <p:cNvPicPr/>
          <p:nvPr/>
        </p:nvPicPr>
        <p:blipFill>
          <a:blip r:embed="rId4"/>
          <a:stretch/>
        </p:blipFill>
        <p:spPr>
          <a:xfrm>
            <a:off x="304920" y="3505320"/>
            <a:ext cx="7467480" cy="2361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45720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Note: rref means row reduced echelon form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uting </a:t>
            </a:r>
            <a:r>
              <a:rPr b="0" lang="el-GR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 and v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o find the eigenvalue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of a matrix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find the roots o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racteristic polynomia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2438280" cy="58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1981440" cy="1216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532800" y="4267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5943600" cy="917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0"/>
          <p:cNvSpPr/>
          <p:nvPr/>
        </p:nvSpPr>
        <p:spPr>
          <a:xfrm>
            <a:off x="7620120" y="4572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7260120" y="389736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858000" y="5234040"/>
                <a:ext cx="1752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7"/>
          <p:cNvSpPr/>
          <p:nvPr/>
        </p:nvSpPr>
        <p:spPr>
          <a:xfrm>
            <a:off x="328680" y="60948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values and eigen 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7302600" y="419040"/>
                <a:ext cx="1135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TextBox 5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 characteristic polynomial is                              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22096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7"/>
          <p:cNvSpPr/>
          <p:nvPr/>
        </p:nvSpPr>
        <p:spPr>
          <a:xfrm>
            <a:off x="79200" y="6858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3" name="Picture 8" descr="PPT438"/>
          <p:cNvPicPr/>
          <p:nvPr/>
        </p:nvPicPr>
        <p:blipFill>
          <a:blip r:embed="rId1"/>
          <a:stretch/>
        </p:blipFill>
        <p:spPr>
          <a:xfrm>
            <a:off x="2895480" y="1600200"/>
            <a:ext cx="2514600" cy="12747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776240" y="781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d the eigenvalues and corresponding eigen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8680" y="2971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characteristic polynomial i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6" name="Picture 11" descr="PPT439"/>
          <p:cNvPicPr/>
          <p:nvPr/>
        </p:nvPicPr>
        <p:blipFill>
          <a:blip r:embed="rId2"/>
          <a:stretch/>
        </p:blipFill>
        <p:spPr>
          <a:xfrm>
            <a:off x="4610160" y="3048120"/>
            <a:ext cx="2209680" cy="447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2"/>
          <p:cNvSpPr/>
          <p:nvPr/>
        </p:nvSpPr>
        <p:spPr>
          <a:xfrm>
            <a:off x="380880" y="362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ts fa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8" name="Picture 13" descr="PPT43A"/>
          <p:cNvPicPr/>
          <p:nvPr/>
        </p:nvPicPr>
        <p:blipFill>
          <a:blip r:embed="rId3"/>
          <a:stretch/>
        </p:blipFill>
        <p:spPr>
          <a:xfrm>
            <a:off x="4168800" y="3537000"/>
            <a:ext cx="2286000" cy="423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4"/>
          <p:cNvSpPr/>
          <p:nvPr/>
        </p:nvSpPr>
        <p:spPr>
          <a:xfrm>
            <a:off x="576360" y="408456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the eigenvalues are 1, 2, and 3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70" name="Picture 15" descr="PPT43B"/>
          <p:cNvPicPr/>
          <p:nvPr/>
        </p:nvPicPr>
        <p:blipFill>
          <a:blip r:embed="rId4"/>
          <a:stretch/>
        </p:blipFill>
        <p:spPr>
          <a:xfrm>
            <a:off x="3581280" y="4892760"/>
            <a:ext cx="1524240" cy="1185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PPT43C"/>
          <p:cNvPicPr/>
          <p:nvPr/>
        </p:nvPicPr>
        <p:blipFill>
          <a:blip r:embed="rId5"/>
          <a:stretch/>
        </p:blipFill>
        <p:spPr>
          <a:xfrm>
            <a:off x="5307120" y="493380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PPT43D"/>
          <p:cNvPicPr/>
          <p:nvPr/>
        </p:nvPicPr>
        <p:blipFill>
          <a:blip r:embed="rId6"/>
          <a:stretch/>
        </p:blipFill>
        <p:spPr>
          <a:xfrm>
            <a:off x="6818400" y="4979880"/>
            <a:ext cx="1371600" cy="1130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8"/>
          <p:cNvSpPr/>
          <p:nvPr/>
        </p:nvSpPr>
        <p:spPr>
          <a:xfrm>
            <a:off x="10152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rresponding eigenve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05-03T08:20:37Z</cp:lastPrinted>
  <dcterms:modified xsi:type="dcterms:W3CDTF">2017-02-08T20:38:25Z</dcterms:modified>
  <cp:revision>331</cp:revision>
  <dc:subject/>
  <dc:title>PowerPoint Presentation</dc:title>
</cp:coreProperties>
</file>