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BFEA-DEB7-4AEA-BAE1-D3CA0A506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F927-BB1C-4FD9-A388-A1E6E136D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656E-502B-4BFE-A5F9-97CF8B271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4B46-6397-4040-AF59-4DD61F584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29B08-F660-49FD-8E6E-DA1F2CEB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FE60-7DA8-489A-ADC0-24D62C0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FAD8-6C5D-4690-B6D3-F7FC9E14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D2F3-2207-4C9C-8B55-08112CBA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3D2CF-3DB2-4370-9930-4A51C892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8C8D2-CB37-44B6-A518-F6FBD102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DE806-8535-4DEF-BF12-6547886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1C02-F762-46CE-A91F-DDCDE63AC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2750C-A990-462F-88A5-DE4389A0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ECC75-9BC3-470B-8120-A683C76C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633C4-71DA-411B-AEB1-B0AC7E5C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7889D-1730-4CC2-A61D-D2FBE160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1A6B6-487B-4D20-A5CC-A6D07286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2883-61D9-4DF5-B837-D50EC2CE1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CFE9-D8A3-4384-856B-98A27C556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9FF5-ECB6-44CF-96B3-1F272F598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7192-EE91-445F-9C0D-76CEF1B6C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BD1E-835A-4D1A-9C79-9FD1905A1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245A-208A-4683-B419-7FADDEB51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5C01-D666-4161-9762-A212FC78C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6-</a:t>
            </a:r>
            <a:fld id="{881CC1CF-07D4-47DA-90F4-B61A9D2B09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1160" y="6576840"/>
            <a:ext cx="289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6: Business Plan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6520-82F8-408D-AD90-5DD2A8E497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5AD412A5-D6CA-4489-BBF8-41F3E92B48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MPj03855530000[1]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054760" cy="396252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txBody>
          <a:bodyPr lIns="88920" rIns="88920" tIns="46080" bIns="46080" anchor="ctr">
            <a:noAutofit/>
          </a:bodyPr>
          <a:p>
            <a:pPr marL="316080"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ducting a Feasibility Analysis and Crafting a Winn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usiness Pla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00" y="647712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Chapter 6: Business Plan                      Copyright ©2012 Pearson Education, Inc. publishing as Prentice Hall                                                      6-1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35FC861A-1B1D-424F-8D0D-7111921576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reat of New Entr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rger the pool of potential new entrants, the less attractive an industry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more attractive to new entrants w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vantages of economies of scale are abs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pital requirements to enter are low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t advantages are not related to company siz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yers are not loyal to existing bran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overnment does not restrict the entrance of new companie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C3B750C2-AFD7-42B2-B5BA-76CFD97023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reat of Substitu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itute products or services can turn an industry on its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more attractive to new entrants w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 substitutes are not readily 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ces of substitute products are not significantly lower than those of the industry’s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yers’ switching costs are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781680" cy="1431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ve Forces Matrix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1295280" y="1676520"/>
          <a:ext cx="658836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8836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4"/>
          <p:cNvSpPr/>
          <p:nvPr/>
        </p:nvSpPr>
        <p:spPr>
          <a:xfrm>
            <a:off x="8610480" y="6553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19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0" y="6553080"/>
            <a:ext cx="189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6: Business Plan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3BAFEDC1-F047-4D4F-87CC-61F79A9111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33200" y="533160"/>
            <a:ext cx="6615000" cy="1190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duct or Service 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s the degree to which a product or service idea appeals to potential customers and identifies the resources necessary to produce i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customers willing to purchase our good or servi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we provide the product or service to customers at a profi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48630046-2E12-4764-B7C0-B4BC4F7382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research – collect data firsthand and analyz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 surveys and questionna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ary research – gather data that already has been compiled and analyze i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o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-home t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28880" y="533160"/>
            <a:ext cx="6619680" cy="1190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duct or Service 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B580285F-A9E9-4B90-8396-8E0E8811A5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nancial 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apital requireme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must have an estimate of how much start-up capital is required to launch the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stimated earn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forecasted income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turn on invest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ombining the previous two estimates to determine how much investors can expect their investments to retu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BDB7CD04-8BB1-4DCD-986B-C0FCCFDC46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Business Plan I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ystematic evaluation of a venture’s chances for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y to determine the risks facing a ven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ame plan for managing a business successfu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ol for comparing actual and target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mportant tool for attracting ca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C2A4F550-3F9F-4379-8728-1FD6E4B50C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2160" y="302760"/>
            <a:ext cx="6566040" cy="1422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aea"/>
                </a:solidFill>
                <a:latin typeface="Tahoma"/>
              </a:rPr>
              <a:t>A Business Plan:</a:t>
            </a:r>
            <a:br>
              <a:rPr sz="4100"/>
            </a:br>
            <a:r>
              <a:rPr b="1" lang="en-US" sz="4100" spc="-1" strike="noStrike">
                <a:solidFill>
                  <a:srgbClr val="eaeaea"/>
                </a:solidFill>
                <a:latin typeface="Tahoma"/>
              </a:rPr>
              <a:t>Two Essential Functions</a:t>
            </a:r>
            <a:endParaRPr b="1" lang="en-US" sz="4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1800" y="1981080"/>
            <a:ext cx="5651280" cy="2286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ing the company by charting its future course and defining its strategy for following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9" descr="MPj03853180000[1]"/>
          <p:cNvPicPr/>
          <p:nvPr/>
        </p:nvPicPr>
        <p:blipFill>
          <a:blip r:embed="rId1"/>
          <a:stretch/>
        </p:blipFill>
        <p:spPr>
          <a:xfrm>
            <a:off x="6804000" y="1849320"/>
            <a:ext cx="2325600" cy="310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MPj03418890000[1]"/>
          <p:cNvPicPr/>
          <p:nvPr/>
        </p:nvPicPr>
        <p:blipFill>
          <a:blip r:embed="rId2"/>
          <a:stretch/>
        </p:blipFill>
        <p:spPr>
          <a:xfrm>
            <a:off x="6805440" y="5029200"/>
            <a:ext cx="2291040" cy="1523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5"/>
          <p:cNvSpPr/>
          <p:nvPr/>
        </p:nvSpPr>
        <p:spPr>
          <a:xfrm>
            <a:off x="914400" y="4191120"/>
            <a:ext cx="5651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Attracting lenders and investors who will provide needed capit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56918507-2833-46E8-8EB0-C321A65B91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n is a reflection of its cre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the primary benefit of preparing a plan is the realization that a business idea just won’t work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al value in preparing a plan is not as much in the plan itself as it is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creating i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6C7C67B0-4363-43BE-840A-964863AE903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78168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the Time to Build a Business Pla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47676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ough building a plan does not guarantee success, i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crease your chances of succeeding i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n is like a road map that serves as a guide on a journey through unfamiliar, harsh, and dangerous territory. Don’t attempt the trip without a map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j0197719"/>
          <p:cNvPicPr/>
          <p:nvPr/>
        </p:nvPicPr>
        <p:blipFill>
          <a:blip r:embed="rId1"/>
          <a:stretch/>
        </p:blipFill>
        <p:spPr>
          <a:xfrm>
            <a:off x="6684840" y="2911320"/>
            <a:ext cx="2133720" cy="1432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63BAA768-D5F6-435A-B003-CF1F228F5E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28600" y="304920"/>
            <a:ext cx="569412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5680" y="1981080"/>
            <a:ext cx="6775560" cy="4191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preneurs do not lack creative ideas, b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particular idea a viable foundation for creating a successful busines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sibility study addresses the question: “Should we proceed with this business idea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708E99BD-4BDB-4C3F-BCA7-998F2D5C16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321680" cy="765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lements of 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page and table of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cutive summ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y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and industry pro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on of products/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6699240" y="1827360"/>
            <a:ext cx="2138400" cy="2928960"/>
            <a:chOff x="6699240" y="1827360"/>
            <a:chExt cx="2138400" cy="2928960"/>
          </a:xfrm>
        </p:grpSpPr>
        <p:sp>
          <p:nvSpPr>
            <p:cNvPr id="200" name="Line 5"/>
            <p:cNvSpPr/>
            <p:nvPr/>
          </p:nvSpPr>
          <p:spPr>
            <a:xfrm>
              <a:off x="8247240" y="1963800"/>
              <a:ext cx="0" cy="147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201" name="Object 2"/>
            <p:cNvGraphicFramePr/>
            <p:nvPr/>
          </p:nvGraphicFramePr>
          <p:xfrm>
            <a:off x="6699240" y="1827360"/>
            <a:ext cx="2138400" cy="29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99240" y="1827360"/>
                      <a:ext cx="2138400" cy="29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3"/>
            <p:cNvGraphicFramePr/>
            <p:nvPr/>
          </p:nvGraphicFramePr>
          <p:xfrm>
            <a:off x="7315200" y="2438280"/>
            <a:ext cx="1362240" cy="143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2438280"/>
                      <a:ext cx="1362240" cy="143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F7C950C4-93F8-4074-8621-24CAA5860F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ing Strate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e that a market ex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customer inte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ument market claims with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arget custom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tising and promo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size and tr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BS00876_"/>
          <p:cNvPicPr/>
          <p:nvPr/>
        </p:nvPicPr>
        <p:blipFill>
          <a:blip r:embed="rId1"/>
          <a:stretch/>
        </p:blipFill>
        <p:spPr>
          <a:xfrm>
            <a:off x="6019920" y="3886200"/>
            <a:ext cx="206676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46AEDAFF-CDDA-4DBB-AEB5-11B0780D27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763560"/>
            <a:ext cx="7469280" cy="76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lements of 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5827680" cy="761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ing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6553080" y="2209680"/>
            <a:ext cx="2138400" cy="2928960"/>
            <a:chOff x="6553080" y="2209680"/>
            <a:chExt cx="2138400" cy="2928960"/>
          </a:xfrm>
        </p:grpSpPr>
        <p:sp>
          <p:nvSpPr>
            <p:cNvPr id="215" name="Line 5"/>
            <p:cNvSpPr/>
            <p:nvPr/>
          </p:nvSpPr>
          <p:spPr>
            <a:xfrm>
              <a:off x="8100720" y="2346120"/>
              <a:ext cx="0" cy="147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216" name="Object 2"/>
            <p:cNvGraphicFramePr/>
            <p:nvPr/>
          </p:nvGraphicFramePr>
          <p:xfrm>
            <a:off x="6553080" y="2209680"/>
            <a:ext cx="2138400" cy="29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53080" y="2209680"/>
                      <a:ext cx="2138400" cy="29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3"/>
            <p:cNvGraphicFramePr/>
            <p:nvPr/>
          </p:nvGraphicFramePr>
          <p:xfrm>
            <a:off x="7169040" y="2820960"/>
            <a:ext cx="1361880" cy="14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9040" y="2820960"/>
                      <a:ext cx="1361880" cy="14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Text Box 8"/>
          <p:cNvSpPr/>
          <p:nvPr/>
        </p:nvSpPr>
        <p:spPr>
          <a:xfrm>
            <a:off x="7009200" y="1447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971640" y="2573280"/>
            <a:ext cx="55227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titor analysi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’ and managers’ rés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és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lan of operation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l forecast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91AF3F4C-F30C-4EAF-BA0B-9CC3630610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nancial Forecas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ed financial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hly for one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ly for next tw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ome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h 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 expendi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13" descr="MCBS00878_0000[1]"/>
          <p:cNvPicPr/>
          <p:nvPr/>
        </p:nvPicPr>
        <p:blipFill>
          <a:blip r:embed="rId1"/>
          <a:stretch/>
        </p:blipFill>
        <p:spPr>
          <a:xfrm>
            <a:off x="6477120" y="3200400"/>
            <a:ext cx="18414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8D4A57E1-53DA-4927-9EDA-CC456F0B16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nancial Forecas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forec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sim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ik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stic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 assumptions on which forecasts are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7" descr="MCEN00190_0000[1]"/>
          <p:cNvPicPr/>
          <p:nvPr/>
        </p:nvPicPr>
        <p:blipFill>
          <a:blip r:embed="rId1"/>
          <a:stretch/>
        </p:blipFill>
        <p:spPr>
          <a:xfrm>
            <a:off x="5410080" y="2209680"/>
            <a:ext cx="1738440" cy="22100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7009200" y="1447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9075D9E4-BD99-4814-982E-834B66B1A1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763560"/>
            <a:ext cx="7469280" cy="76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lements of 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5827680" cy="761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ing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6553080" y="2209680"/>
            <a:ext cx="2138400" cy="2928960"/>
            <a:chOff x="6553080" y="2209680"/>
            <a:chExt cx="2138400" cy="2928960"/>
          </a:xfrm>
        </p:grpSpPr>
        <p:sp>
          <p:nvSpPr>
            <p:cNvPr id="238" name="Line 5"/>
            <p:cNvSpPr/>
            <p:nvPr/>
          </p:nvSpPr>
          <p:spPr>
            <a:xfrm>
              <a:off x="8100720" y="2346120"/>
              <a:ext cx="0" cy="147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239" name="Object 2"/>
            <p:cNvGraphicFramePr/>
            <p:nvPr/>
          </p:nvGraphicFramePr>
          <p:xfrm>
            <a:off x="6553080" y="2209680"/>
            <a:ext cx="2138400" cy="29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53080" y="2209680"/>
                      <a:ext cx="2138400" cy="29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3"/>
            <p:cNvGraphicFramePr/>
            <p:nvPr/>
          </p:nvGraphicFramePr>
          <p:xfrm>
            <a:off x="7169040" y="2820960"/>
            <a:ext cx="1361880" cy="14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9040" y="2820960"/>
                      <a:ext cx="1361880" cy="14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3" name="Text Box 8"/>
          <p:cNvSpPr/>
          <p:nvPr/>
        </p:nvSpPr>
        <p:spPr>
          <a:xfrm>
            <a:off x="7009200" y="1447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971640" y="2573280"/>
            <a:ext cx="55227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titor analysi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’ and managers’ rés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és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lan of operation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l forecast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oan/investment propos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3930806A-37E4-42C9-AAAF-F0EFE28E25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8600" y="304920"/>
            <a:ext cx="569412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asibility Stu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5680" y="2118960"/>
            <a:ext cx="6775560" cy="3879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ame as a business pl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s as a filter, screening out ideas that lack the potential for building a successful busines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efo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entrepreneur commits the necessary resources to building a business pla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vestigative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j0398789"/>
          <p:cNvPicPr/>
          <p:nvPr/>
        </p:nvPicPr>
        <p:blipFill>
          <a:blip r:embed="rId1"/>
          <a:stretch/>
        </p:blipFill>
        <p:spPr>
          <a:xfrm>
            <a:off x="7391520" y="4952880"/>
            <a:ext cx="1361880" cy="1905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A02F44BF-6BE1-42F9-9935-C45A7DDD3F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"/>
          <p:cNvSpPr/>
          <p:nvPr/>
        </p:nvSpPr>
        <p:spPr>
          <a:xfrm>
            <a:off x="1600200" y="1600200"/>
            <a:ext cx="3048120" cy="2971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dustry and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 Feasibility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4114800" y="1676520"/>
            <a:ext cx="3048120" cy="2971800"/>
          </a:xfrm>
          <a:prstGeom prst="ellips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or Service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2743200" y="3352680"/>
            <a:ext cx="3048120" cy="29718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lements of a Feasibility Analysi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00157E56-F7F5-4462-8990-5834A8FE3B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73236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dustry and Market Feasibility Analysi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45680" y="2118960"/>
            <a:ext cx="6775560" cy="3879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o areas of foc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ing how attractive an industry is overall as a “home” for a new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ing possible niches a small business can occupy profitabl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0E4E3DD8-742D-4F92-91CE-BD587C8089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73236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ve Forces Mode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4000"/>
          </a:bodyPr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ve forces interact with one another to determine the setting in which companies compete and, hence, the attractiveness of the indust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alry among companies in the indu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gaining power of suppl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gaining power of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at of new ent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at of substitute products or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729293CD-956C-4D60-A455-E05325BFAE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06752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ivalry Among Compan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9000"/>
          </a:bodyPr>
          <a:p>
            <a:pPr marL="347400" indent="-3474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est of the five fo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y is more attractive wh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competitors is large, or, at the other extreme, quite sm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ors are not similar in size or capa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growing f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to sell a differentiated product or service ex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A568E4DC-79D7-4C93-931B-5F70296B6E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rgaining Power of Suppli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5000"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eater the leverage of suppliers, the less attractive th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y is more attractive wh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suppliers sell a commodity pro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itutes are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itching costs are 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ms account for a small portion of the cost of finished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A683D5CE-6365-4A6D-8052-205A1E097D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rgaining Power of Buy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s’ influence is high when number of customers is small and cost of switching to a competitor’s product is l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more attractive w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’ switching costs are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 of buyers is la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 want differentiated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 find it difficult to collect information for comparing suppl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ems account for a small portion of customers’ finished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9:50:38Z</dcterms:created>
  <dc:creator>Norman M. Scarborough</dc:creator>
  <dc:description>Esentials, 2/e.</dc:description>
  <cp:keywords/>
  <dc:language>en-US</dc:language>
  <cp:lastModifiedBy>UsEr</cp:lastModifiedBy>
  <cp:lastPrinted>1995-03-21T17:16:20Z</cp:lastPrinted>
  <dcterms:modified xsi:type="dcterms:W3CDTF">2015-09-13T11:51:46Z</dcterms:modified>
  <cp:revision>102</cp:revision>
  <dc:subject/>
  <dc:title> Chapter 1:The Foundations of Entrepreneurship</dc:title>
</cp:coreProperties>
</file>