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3FE8C-29EA-4F57-A4CC-2196785A0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5DDEE-BA5F-406D-96BE-5C854FAEB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1433-056E-4D4A-A44D-0A99704B1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5382F-3F90-4724-8FE7-5940D90C0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A8440-FED5-452D-8E2B-000979DE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13538-6EA4-42CE-800F-34BB8FC4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4060A-6254-4A33-98A7-DFA1843C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599F8-B68E-40E3-9ABC-9CB691E0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2FBF4-9674-49DB-A958-834FFCF5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CF816-2619-4109-8ACE-F9A01BF3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AFA25-50B5-48F0-825D-1F56CE27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8254C-A7E0-417F-AAA9-4A330106F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376A5-462F-42E1-A516-627A6CCF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FF80E-773D-4C72-9488-7EE2D8A0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7EC52-FF08-44C8-8616-AEE7A05B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B0810-619B-455E-B8A0-24557DB0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23374-92B3-4BCF-A093-7F0F9AC8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BD7F3-80C4-421E-9D01-6A7FDA6B7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B5CE4-2D67-42FC-8615-F7BDADFC1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F8133-F758-4BA3-A110-94576E9D8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8B6F8-313A-4072-84CE-A597093C5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52342-408A-4F07-83A8-0DE7FC626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34140-F3ED-4989-828C-EAA57F0FA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38E56-D5BA-46EB-90DE-67F62CDE1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6-</a:t>
            </a:r>
            <a:fld id="{7D45A944-577C-4AB3-9455-527FE6C3446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1160" y="6576840"/>
            <a:ext cx="28954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6: Business Plan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1E58-B03E-4B55-A884-5D257CDB3EE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E151315F-FB64-4882-824F-A23A2415CA4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0" descr="MPj03855530000[1]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054760" cy="396252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txBody>
          <a:bodyPr lIns="88920" rIns="88920" tIns="46080" bIns="46080" anchor="ctr">
            <a:noAutofit/>
          </a:bodyPr>
          <a:p>
            <a:pPr marL="316080"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nducting a Feasibility Analysis and Crafting a Winning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Business Pla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28600" y="6477120"/>
            <a:ext cx="868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</a:rPr>
              <a:t>Chapter 6: Business Plan                      Copyright ©2012 Pearson Education, Inc. publishing as Prentice Hall                                                      6-1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BC8FE0C4-A6C5-4DA5-906E-59B350AED0F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277040" cy="13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reat of New Entra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/>
          </a:bodyPr>
          <a:p>
            <a:pPr marL="351000" indent="-3510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rger the pool of potential new entrants, the less attractive an industry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y is more attractive to new entrants wh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dvantages of economies of scale are abs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apital requirements to enter are low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st advantages are not related to company siz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uyers are not loyal to existing brand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spcBef>
                <a:spcPts val="55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overnment does not restrict the entrance of new companies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3BE6274A-ED4B-4395-965B-52362630D89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277040" cy="13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reat of Substitut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/>
          </a:bodyPr>
          <a:p>
            <a:pPr marL="351000" indent="-3510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titute products or services can turn an industry on its 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y is more attractive to new entrants wh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lity substitutes are not readily avail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ces of substitute products are not significantly lower than those of the industry’s 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yers’ switching costs are hi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781680" cy="1431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ive Forces Matrix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279440" y="6553080"/>
            <a:ext cx="656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9" name="Object 2"/>
          <p:cNvGraphicFramePr/>
          <p:nvPr/>
        </p:nvGraphicFramePr>
        <p:xfrm>
          <a:off x="1295280" y="1676520"/>
          <a:ext cx="658836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658836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Box 4"/>
          <p:cNvSpPr/>
          <p:nvPr/>
        </p:nvSpPr>
        <p:spPr>
          <a:xfrm>
            <a:off x="8610480" y="65530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19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0" y="6553080"/>
            <a:ext cx="189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6: Business Plan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5D9732E2-3F6C-4E10-91CC-B6F632B4EB5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33200" y="533160"/>
            <a:ext cx="6615000" cy="1190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duct or Service Feasibility Analy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ermines the degree to which a product or service idea appeals to potential customers and identifies the resources necessary to produce it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ques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customers willing to purchase our good or servi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we provide the product or service to customers at a profit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99124230-EF04-4389-9459-F41A5235857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ry research – collect data firsthand and analyze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stomer surveys and questionnai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 grou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ary research – gather data that already has been compiled and analyze it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otyp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-home t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028880" y="533160"/>
            <a:ext cx="6619680" cy="1190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duct or Service Feasibility Analy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BEF53322-EFFB-402A-B07D-D63456728AE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2668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inancial Feasibility Analy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apital requiremen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must have an estimate of how much start-up capital is required to launch the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stimated earning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forecasted income stat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eturn on invest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combining the previous two estimates to determine how much investors can expect their investments to retur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B7986A41-C4FE-4053-8D86-F79D7FEEBD3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Business Plan Is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ystematic evaluation of a venture’s chances for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ay to determine the risks facing a ven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ame plan for managing a business successfu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ool for comparing actual and target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important tool for attracting capi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1265008D-5568-4455-97CA-B2BF59D1492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82160" y="302760"/>
            <a:ext cx="6566040" cy="14223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aea"/>
                </a:solidFill>
                <a:latin typeface="Tahoma"/>
              </a:rPr>
              <a:t>A Business Plan:</a:t>
            </a:r>
            <a:br>
              <a:rPr sz="4100"/>
            </a:br>
            <a:r>
              <a:rPr b="1" lang="en-US" sz="4100" spc="-1" strike="noStrike">
                <a:solidFill>
                  <a:srgbClr val="eaeaea"/>
                </a:solidFill>
                <a:latin typeface="Tahoma"/>
              </a:rPr>
              <a:t>Two Essential Functions</a:t>
            </a:r>
            <a:endParaRPr b="1" lang="en-US" sz="4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01800" y="1981080"/>
            <a:ext cx="5651280" cy="2286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ing the company by charting its future course and defining its strategy for following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9" descr="MPj03853180000[1]"/>
          <p:cNvPicPr/>
          <p:nvPr/>
        </p:nvPicPr>
        <p:blipFill>
          <a:blip r:embed="rId1"/>
          <a:stretch/>
        </p:blipFill>
        <p:spPr>
          <a:xfrm>
            <a:off x="6804000" y="1849320"/>
            <a:ext cx="2325600" cy="3103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MPj03418890000[1]"/>
          <p:cNvPicPr/>
          <p:nvPr/>
        </p:nvPicPr>
        <p:blipFill>
          <a:blip r:embed="rId2"/>
          <a:stretch/>
        </p:blipFill>
        <p:spPr>
          <a:xfrm>
            <a:off x="6805440" y="5029200"/>
            <a:ext cx="2291040" cy="15238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5"/>
          <p:cNvSpPr/>
          <p:nvPr/>
        </p:nvSpPr>
        <p:spPr>
          <a:xfrm>
            <a:off x="914400" y="4191120"/>
            <a:ext cx="5651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Attracting lenders and investors who will provide needed capital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13F4EA4A-1EDF-4B62-A0DC-41617F6B738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Business Pl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lan is a reflection of its crea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the primary benefit of preparing a plan is the realization that a business idea just won’t work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al value in preparing a plan is not as much in the plan itself as it is in 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roc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creating it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3BC61092-E8AB-4586-AD87-2E5C7897AAB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781680" cy="13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Take the Time to Build a Business Pla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6476760" cy="4267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hough building a plan does not guarantee success, i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o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crease your chances of succeeding in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lan is like a road map that serves as a guide on a journey through unfamiliar, harsh, and dangerous territory. Don’t attempt the trip without a map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4" descr="j0197719"/>
          <p:cNvPicPr/>
          <p:nvPr/>
        </p:nvPicPr>
        <p:blipFill>
          <a:blip r:embed="rId1"/>
          <a:stretch/>
        </p:blipFill>
        <p:spPr>
          <a:xfrm>
            <a:off x="6684840" y="2911320"/>
            <a:ext cx="2133720" cy="1432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092DC531-C41D-4DF7-AFE3-5809B00284C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28600" y="304920"/>
            <a:ext cx="5694120" cy="13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easibility Analy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45680" y="1981080"/>
            <a:ext cx="6775560" cy="4191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repreneurs do not lack creative ideas, bu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 particular idea a viable foundation for creating a successful business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asibility study addresses the question: “Should we proceed with this business idea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B12DB8B5-6AD0-4410-A147-DFE50962659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321680" cy="765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 Elements of a Business Pl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tle page and table of cont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ecutive summa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sion stat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ny 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 and industry pro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 strate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ption of products/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6699240" y="1827360"/>
            <a:ext cx="2138400" cy="2928960"/>
            <a:chOff x="6699240" y="1827360"/>
            <a:chExt cx="2138400" cy="2928960"/>
          </a:xfrm>
        </p:grpSpPr>
        <p:sp>
          <p:nvSpPr>
            <p:cNvPr id="200" name="Line 5"/>
            <p:cNvSpPr/>
            <p:nvPr/>
          </p:nvSpPr>
          <p:spPr>
            <a:xfrm>
              <a:off x="8247240" y="1963800"/>
              <a:ext cx="0" cy="147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201" name="Object 2"/>
            <p:cNvGraphicFramePr/>
            <p:nvPr/>
          </p:nvGraphicFramePr>
          <p:xfrm>
            <a:off x="6699240" y="1827360"/>
            <a:ext cx="2138400" cy="292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99240" y="1827360"/>
                      <a:ext cx="2138400" cy="292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Object 3"/>
            <p:cNvGraphicFramePr/>
            <p:nvPr/>
          </p:nvGraphicFramePr>
          <p:xfrm>
            <a:off x="7315200" y="2438280"/>
            <a:ext cx="1362240" cy="1432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2438280"/>
                      <a:ext cx="1362240" cy="143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in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BEDD364E-6567-4171-BED8-F00261C1C62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rketing Strateg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e that a market ex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customer inter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cument market claims with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ese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arget custom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ertising and promo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ket size and tre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tion an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c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4" descr="BS00876_"/>
          <p:cNvPicPr/>
          <p:nvPr/>
        </p:nvPicPr>
        <p:blipFill>
          <a:blip r:embed="rId1"/>
          <a:stretch/>
        </p:blipFill>
        <p:spPr>
          <a:xfrm>
            <a:off x="6019920" y="3886200"/>
            <a:ext cx="2066760" cy="230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309235AD-B2C0-4CD9-B98D-7670F22D129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763560"/>
            <a:ext cx="7469280" cy="766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 Elements of a Business Pl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5827680" cy="761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eting strate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6553080" y="2209680"/>
            <a:ext cx="2138400" cy="2928960"/>
            <a:chOff x="6553080" y="2209680"/>
            <a:chExt cx="2138400" cy="2928960"/>
          </a:xfrm>
        </p:grpSpPr>
        <p:sp>
          <p:nvSpPr>
            <p:cNvPr id="215" name="Line 5"/>
            <p:cNvSpPr/>
            <p:nvPr/>
          </p:nvSpPr>
          <p:spPr>
            <a:xfrm>
              <a:off x="8100720" y="2346120"/>
              <a:ext cx="0" cy="147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216" name="Object 2"/>
            <p:cNvGraphicFramePr/>
            <p:nvPr/>
          </p:nvGraphicFramePr>
          <p:xfrm>
            <a:off x="6553080" y="2209680"/>
            <a:ext cx="2138400" cy="292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553080" y="2209680"/>
                      <a:ext cx="2138400" cy="292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Object 3"/>
            <p:cNvGraphicFramePr/>
            <p:nvPr/>
          </p:nvGraphicFramePr>
          <p:xfrm>
            <a:off x="7169040" y="2820960"/>
            <a:ext cx="1361880" cy="143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9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69040" y="2820960"/>
                      <a:ext cx="1361880" cy="143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0" name="Text Box 8"/>
          <p:cNvSpPr/>
          <p:nvPr/>
        </p:nvSpPr>
        <p:spPr>
          <a:xfrm>
            <a:off x="7009200" y="144792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971640" y="2573280"/>
            <a:ext cx="552276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etitor analysis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wners’ and managers’ rés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és 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lan of operation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Financial forecasts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1174A5A8-E312-427C-B3A3-2637D450C8E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inancial Forecas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ed financial stat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thly for one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rterly for next tw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ome stat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 sh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sh F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ital expendi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13" descr="MCBS00878_0000[1]"/>
          <p:cNvPicPr/>
          <p:nvPr/>
        </p:nvPicPr>
        <p:blipFill>
          <a:blip r:embed="rId1"/>
          <a:stretch/>
        </p:blipFill>
        <p:spPr>
          <a:xfrm>
            <a:off x="6477120" y="3200400"/>
            <a:ext cx="184140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56424699-9E55-4F19-9056-EF855A00D5E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inancial Forecas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foreca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simis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Lik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timis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listic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 assumptions on which forecasts are ba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7" descr="MCEN00190_0000[1]"/>
          <p:cNvPicPr/>
          <p:nvPr/>
        </p:nvPicPr>
        <p:blipFill>
          <a:blip r:embed="rId1"/>
          <a:stretch/>
        </p:blipFill>
        <p:spPr>
          <a:xfrm>
            <a:off x="5410080" y="2209680"/>
            <a:ext cx="1738440" cy="22100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7009200" y="144792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2C8F017A-8C30-40C5-8BA7-16A83146949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763560"/>
            <a:ext cx="7469280" cy="766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 Elements of a Business Pl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5827680" cy="761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eting strate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6553080" y="2209680"/>
            <a:ext cx="2138400" cy="2928960"/>
            <a:chOff x="6553080" y="2209680"/>
            <a:chExt cx="2138400" cy="2928960"/>
          </a:xfrm>
        </p:grpSpPr>
        <p:sp>
          <p:nvSpPr>
            <p:cNvPr id="238" name="Line 5"/>
            <p:cNvSpPr/>
            <p:nvPr/>
          </p:nvSpPr>
          <p:spPr>
            <a:xfrm>
              <a:off x="8100720" y="2346120"/>
              <a:ext cx="0" cy="147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239" name="Object 2"/>
            <p:cNvGraphicFramePr/>
            <p:nvPr/>
          </p:nvGraphicFramePr>
          <p:xfrm>
            <a:off x="6553080" y="2209680"/>
            <a:ext cx="2138400" cy="292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553080" y="2209680"/>
                      <a:ext cx="2138400" cy="292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Object 3"/>
            <p:cNvGraphicFramePr/>
            <p:nvPr/>
          </p:nvGraphicFramePr>
          <p:xfrm>
            <a:off x="7169040" y="2820960"/>
            <a:ext cx="1361880" cy="143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69040" y="2820960"/>
                      <a:ext cx="1361880" cy="143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3" name="Text Box 8"/>
          <p:cNvSpPr/>
          <p:nvPr/>
        </p:nvSpPr>
        <p:spPr>
          <a:xfrm>
            <a:off x="7009200" y="144792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971640" y="2573280"/>
            <a:ext cx="552276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etitor analysis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wners’ and managers’ rés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és 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lan of operation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Financial forecasts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oan/investment proposal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6A7DFEEB-6592-4160-BDE3-E8ECE966D9A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28600" y="304920"/>
            <a:ext cx="5694120" cy="13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easibility Stu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45680" y="2118960"/>
            <a:ext cx="6775560" cy="3879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same as a business pl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es as a filter, screening out ideas that lack the potential for building a successful busines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efo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 entrepreneur commits the necessary resources to building a business pla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investigative t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j0398789"/>
          <p:cNvPicPr/>
          <p:nvPr/>
        </p:nvPicPr>
        <p:blipFill>
          <a:blip r:embed="rId1"/>
          <a:stretch/>
        </p:blipFill>
        <p:spPr>
          <a:xfrm>
            <a:off x="7391520" y="4952880"/>
            <a:ext cx="1361880" cy="1905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2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223A4B59-4DB4-4661-9DE3-D66435439F4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val 2"/>
          <p:cNvSpPr/>
          <p:nvPr/>
        </p:nvSpPr>
        <p:spPr>
          <a:xfrm>
            <a:off x="1600200" y="1600200"/>
            <a:ext cx="3048120" cy="2971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dustry and 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arket Feasibility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4114800" y="1676520"/>
            <a:ext cx="3048120" cy="2971800"/>
          </a:xfrm>
          <a:prstGeom prst="ellipse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or Service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asibility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2743200" y="3352680"/>
            <a:ext cx="3048120" cy="297180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ncial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asibility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Elements of a Feasibility Analysi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5AD217B5-CB4E-4728-8728-E0DA48BC65D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6732360" cy="13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Industry and Market Feasibility Analysi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45680" y="2118960"/>
            <a:ext cx="6775560" cy="3879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wo areas of focu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ermining how attractive an industry is overall as a “home” for a new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ing possible niches a small business can occupy profitably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1374DA0D-DD14-455B-86A5-3ADD82C8F3B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6732360" cy="13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ive Forces Mode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449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 fontScale="94000"/>
          </a:bodyPr>
          <a:p>
            <a:pPr marL="329760" indent="-3297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ve forces interact with one another to determine the setting in which companies compete and, hence, the attractiveness of the industr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17360" indent="-365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valry among companies in the indus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17360" indent="-365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rgaining power of suppl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17360" indent="-365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rgaining power of buy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17360" indent="-365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at of new ent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17360" indent="-365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at of substitute products or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81459565-F737-47E8-AEF4-1BA3E9A7258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067520" cy="13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ivalry Among Compan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 fontScale="99000"/>
          </a:bodyPr>
          <a:p>
            <a:pPr marL="347400" indent="-3474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ongest of the five fo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7400" indent="-3474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y is more attractive wh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21320" indent="-3344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mber of competitors is large, or, at the other extreme, quite sm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21320" indent="-3344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etitors are not similar in size or capa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21320" indent="-3344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y is growing f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21320" indent="-3344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portunity to sell a differentiated product or service ex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2F5D714C-1CA6-43AB-801D-E6346B9E047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277040" cy="13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argaining Power of Suppli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 fontScale="95000"/>
          </a:bodyPr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eater the leverage of suppliers, the less attractive the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y is more attractive wh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79920" indent="-321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suppliers sell a commodity produ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9920" indent="-321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titutes are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9920" indent="-321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witching costs are 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9920" indent="-321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ems account for a small portion of the cost of finished produ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2736720" y="6553080"/>
            <a:ext cx="4578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7180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6-</a:t>
            </a:r>
            <a:fld id="{17C25D3C-F857-420C-B3A1-AD809574DF0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277040" cy="1342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argaining Power of Buy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rmAutofit/>
          </a:bodyPr>
          <a:p>
            <a:pPr marL="351000" indent="-3510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yers’ influence is high when number of customers is small and cost of switching to a competitor’s product is lo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y is more attractive wh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stomers’ switching costs are hi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umber of buyers is lar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stomers want differentiated 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stomers find it difficult to collect information for comparing suppli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3176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ems account for a small portion of customers’ finished 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9:50:38Z</dcterms:created>
  <dc:creator>Norman M. Scarborough</dc:creator>
  <dc:description>Esentials, 2/e.</dc:description>
  <cp:keywords/>
  <dc:language>en-US</dc:language>
  <cp:lastModifiedBy>UsEr</cp:lastModifiedBy>
  <cp:lastPrinted>1995-03-21T17:16:20Z</cp:lastPrinted>
  <dcterms:modified xsi:type="dcterms:W3CDTF">2015-09-13T11:51:46Z</dcterms:modified>
  <cp:revision>102</cp:revision>
  <dc:subject/>
  <dc:title> Chapter 1:The Foundations of Entrepreneurship</dc:title>
</cp:coreProperties>
</file>