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0AE-41B6-4F2D-BE69-7DC385B1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8FC-2454-408D-B8DB-1ACA0ADE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5F1-34BC-4391-A127-44C13D31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BD3-1F5E-4D7A-B457-E4DB0732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D8FD-9371-4C9D-959E-73EF452E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FDE1-F699-4122-8447-B62D47B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7737-E7AA-4691-BB5F-D4B84A47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C9DF-A19C-4E1E-9ABA-A86F895E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F059-56EE-429E-838B-48FA79A7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0A60-14C5-4036-A70C-08847415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16F-9FBF-4820-BB6D-4FF9D0CB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0F1-E339-45B2-8782-4CD7A86B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81D6-D519-48C8-8808-0DA245A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6A99-85B2-4761-8B78-88BE9AB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D1B0-7F36-468D-9A72-9BD7EFA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E819-9C3F-4115-BC65-8B3CCA1B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E7D3-2971-47FA-B6E3-4FA86220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335-61EB-4443-9DFB-665CAF39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E0D-F6EF-4008-9D0B-A4BF279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E1B-4572-4902-BE4C-42389355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D7E-F920-4422-9C69-E19F619A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B41-204C-4A28-8ACD-C9B5E87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1DD-09FF-421C-9A45-21A1595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E24-09D2-46B8-93F0-6C9D624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FE1E-0929-4500-BE91-29EA0929BC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031-4108-4C9B-8238-90AE848C32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507440" cy="823680"/>
          </a:xfrm>
          <a:prstGeom prst="rect">
            <a:avLst/>
          </a:prstGeom>
          <a:solidFill>
            <a:srgbClr val="c58bf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11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- علاقة تركيب الـ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NA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بالوظائف التي يقوم بها 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93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e4005c"/>
                </a:solidFill>
                <a:uFillTx/>
                <a:latin typeface="Arial"/>
              </a:rPr>
              <a:t>اولا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خزين المعلومات البيولوجية لتصنيع البروتينات الخلوية في الخلية الصح وفي الوقت المناسب وبالكميات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ظيفة الاساسية للمادة الوراثية وهي عملية معق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قدرة ا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لى تخزين المعلومات مبنية في التركيب الجزيئ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علومات تخزن في تتابعات ازواج القواعد النيتروجينية الموجودة داخل ا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هذه التتابعات ضرور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تصنيع ا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NA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بروت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نعزال الدقيق للكروموسومات خلال انقسام الخ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ضاعف الكروموسوم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ليف الكرومورسومات بطريقة تلائم وجودها في النواه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صغي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مميزات الشفرة الوراث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ية(تتابع خطي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يس بها فواصل داخل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الميه تقريب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لاثية القواع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داخ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بهمه : كل شفرة تحدد حمض اميني واحد فق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حلة , أي أن حمض اميني يحدد بأكثر من كودون واحد فيما عدا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p/m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ها اشارة بدءواشارة انهاء .(الاشك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88120" cy="599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08880" cy="5607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333360"/>
            <a:ext cx="5832360" cy="619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- وظائف كل م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mRN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ضروري لتحديد تكوين تتابع الاحماض الامينية في الببتيده العديدة (القالب خلال الترج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tRNA</a:t>
            </a:r>
            <a:r>
              <a:rPr b="0" lang="en-US" sz="2400" spc="-1" strike="noStrike">
                <a:solidFill>
                  <a:srgbClr val="e4005c"/>
                </a:solidFill>
                <a:latin typeface="Arial"/>
              </a:rPr>
              <a:t>s</a:t>
            </a: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ل الشفرات الموجوده ف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مل الاحماض الامينية المختلفة من السيتوسول الى الريبوس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e4005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RNA</a:t>
            </a:r>
            <a:r>
              <a:rPr b="0" lang="en-US" sz="2400" spc="-1" strike="noStrike">
                <a:solidFill>
                  <a:srgbClr val="e4005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حدى المكونات الرئيسية في تركيب الريبوس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الريبوسوم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موقع تصنيع البروتينات المختلفة في الخل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005c"/>
                </a:solidFill>
                <a:latin typeface="Arial"/>
              </a:rPr>
              <a:t>رابعا : التبا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لا يتغير عادة ولكن في مناسبات نادرة نسبيا           تغير في المعلومات المخز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ساس مبنى في التركيب الجزيئي ل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الطفر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هي أي تغير متوارث في المادة الوراثية لايكون ناشئا عن الاتحادات الجديدة وهي المادة الاولية للتط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ساس الاشكال المختلفة للج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005c"/>
                </a:solidFill>
                <a:latin typeface="Arial"/>
              </a:rPr>
              <a:t>تأثيرات نافع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استمرار وتنوع الحياة / التكيف مع المتغيرات البيئ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005c"/>
                </a:solidFill>
                <a:latin typeface="Arial"/>
              </a:rPr>
              <a:t>تأثيرات ضار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اكثر الطف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امراض وراث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اشكال غير مرغوب فيها (الشكل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331640" y="1341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47640" y="981000"/>
            <a:ext cx="41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يحد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01840" y="260280"/>
            <a:ext cx="5115240" cy="6193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005c"/>
                </a:solidFill>
                <a:latin typeface="Arial"/>
              </a:rPr>
              <a:t>ثانيا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ضاعف والانتقال من خلية لأخرى وبالتالي من الاباء الى النس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قدرة الـ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لى التضاعف مبنية ايضا في تركيبه الجزي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م بالنمط شبه المحاف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conservative model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حدث في الفتر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دورة الخل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خضع للقاع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-C/A-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م في الاتجا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حدث بسرعه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شأ واحد في البدائية / العديد من المناشئ في الراقية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نائي الاتج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قيق ج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حتاج الى بوادئ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حتاج الى عوامل متعددة لحدوثه وتنظيمه.   (الشكلا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292428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775640" cy="5977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6124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4292640"/>
            <a:ext cx="115272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c"/>
                </a:solidFill>
                <a:latin typeface="Arial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ثالثا: التعب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العتبير الجيني(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gene expression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جمل العمليات التي يتم بواستطها تحويل المعلومات المشفرة في الجين الى الشكل المظهرى المشاه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الاستنساخ 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Transcription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:(الشكلان 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11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 -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12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92360" y="3715920"/>
            <a:ext cx="1584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5084640"/>
            <a:ext cx="1584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869000"/>
            <a:ext cx="172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835280" y="4221000"/>
            <a:ext cx="180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348000" y="3500280"/>
            <a:ext cx="25081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R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51280" y="3933720"/>
            <a:ext cx="1619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R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1280" y="4653000"/>
            <a:ext cx="16192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R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92360" y="5516640"/>
            <a:ext cx="375300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نواع أخرى من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69780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672680" cy="620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.الترجمة : 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تابع القواعد(النيوكليوتيدات) لل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يترجم الى تتابع الاحماض الامينية المكونه للببتيدة العدي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قدرة ال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لأن يترجم الى تتابع الاحماض الامينية يعتمد على الشفرة الوراث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شفرة الوراثي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عبارة عن المعلومات التي توجد في تتابع ازواج القواعد التي تحدد تتابع الاحماض الامينية في الببتيدة العديدة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لاقه بين تتابع القواعد في ال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ا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مستنسخ) وتتابع الاحماض الامينية في الببتيدة العد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جموع كل الكودونات (الـ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الكودون : 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عبارة عن تتابع يتألف م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واعد (نيوكليوتيدات) متجاورة في ال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ذي يحدد إما حمض اميني في سلسلة البيبتيدة العديدة او انهاء عملية تصنيع البيبتيدة العدي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الكودون المضاد : 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anticad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تابع يتألف م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واعد (نيوكلوتيدات ) يوجد في منطقه معينه من الـ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والذي يميز (يقوم بقراءة) كودون او اكثر في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6:42:05Z</dcterms:created>
  <dc:creator>هلا</dc:creator>
  <dc:description/>
  <dc:language>en-US</dc:language>
  <cp:lastModifiedBy>هلا</cp:lastModifiedBy>
  <dcterms:modified xsi:type="dcterms:W3CDTF">2007-11-06T20:30:54Z</dcterms:modified>
  <cp:revision>4</cp:revision>
  <dc:subject/>
  <dc:title>الشريحة 1</dc:title>
</cp:coreProperties>
</file>