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758-6BF3-4E06-9023-19611F98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D3B-28A1-4703-ABE3-CCBAD17A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670-52E5-4B9E-80B1-D2E934A1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817-73FA-4A29-833D-FB903A8E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FD1A-8A8B-49F5-AC16-AACAC46D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B452-030B-4922-9D36-52A2CA49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E0CC-5C20-4E7E-800E-3F8CA0B4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AF8E-66A2-4F6A-B870-C5BB442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97AF-F8A2-4569-AB10-176C43A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8073-10D6-4F30-9B6D-429AFA7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5F37-57AC-4E4A-BB5C-3DDE9FC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2C1-FD07-4B1B-841B-15DCFED0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D0B3-C110-4B9B-B83E-66E934E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540-35F0-4484-9391-303C28FD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55A-2B63-481C-B1D3-E66B6500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7CD8-3DB6-4F58-98A1-D9578074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C710-9131-4752-BF0E-12C10DC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CEB-76F8-4CCC-9C84-D30C131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51C-5076-4AF7-A416-2CA8BD55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C6B-4232-4AE6-A58C-37905F0A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83F-E2DA-44B2-B745-B1678E7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835-E4CF-4F3B-9B3C-A570665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0D0-B4DD-4BA0-BC6A-E67D4D3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2EC-9A23-41C5-8D00-3CDA988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65C4-FC47-45FF-858E-22B726544F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7CDA-0DC7-4F07-A65A-1B2221962D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507440" cy="823680"/>
          </a:xfrm>
          <a:prstGeom prst="rect">
            <a:avLst/>
          </a:prstGeom>
          <a:solidFill>
            <a:srgbClr val="c58bf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11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- علاقة تركيب الـ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NA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بالوظائف التي يقوم بها 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93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e4005c"/>
                </a:solidFill>
                <a:uFillTx/>
                <a:latin typeface="Arial"/>
              </a:rPr>
              <a:t>اولا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خزين المعلومات البيولوجية لتصنيع البروتينات الخلوية في الخلية الصح وفي الوقت المناسب وبالكميات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ظيفة الاساسية للمادة الوراثية وهي عملية معق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قدرة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تخزين المعلومات مبنية في التركيب الجزيئ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علومات تخزن في تتابعات ازواج القواعد النيتروجينية الموجودة داخل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هذه التتابعات ضرور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تصنيع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NA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بروت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نعزال الدقيق للكروموسومات خلال انقسام الخ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ضاعف الكروموسوم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ليف الكرومورسومات بطريقة تلائم وجودها في النواه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صغي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مميزات الشفرة الوراث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ية(تتابع خطي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يس بها فواصل داخ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الميه تقريب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لاثية القواع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تداخ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بهمه : كل شفرة تحدد حمض اميني واحد فق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حلة , أي أن حمض اميني يحدد بأكثر من كودون واحد فيما عدا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p/m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ها اشارة بدءواشارة انهاء .(الاشك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88120" cy="599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08880" cy="5607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5832360" cy="619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- وظائف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mRN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ضروري لتحديد تكوين تتابع الاحماض الامينية في الببتيده العديدة (القالب خلال الترج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tRNA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ل الشفرات الموجوده ف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مل الاحماض الامينية المختلفة من السيتوسول الى الريبوس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RNA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حدى المكونات الرئيسية في تركيب الريبوس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3200" spc="-1" strike="noStrike">
                <a:solidFill>
                  <a:srgbClr val="e4005c"/>
                </a:solidFill>
                <a:latin typeface="Arial"/>
              </a:rPr>
              <a:t>الريبوسو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موقع تصنيع البروتينات المختلفة في الخ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رابعا : التبا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لا يتغير عادة ولكن في مناسبات نادرة نسبيا           تغير في المعلومات المخز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ساس مبنى في التركيب الجزيئي ل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الطفر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هي أي تغير متوارث في المادة الوراثية لايكون ناشئا عن الاتحادات الجديدة وهي المادة الاولية للتط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اس الاشكال المختلفة للج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تأثيرات نافع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استمرار وتنوع الحياة / التكيف مع المتغيرات البيئ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تأثيرات ضار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اكثر الطف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امراض وراث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اشكال غير مرغوب فيها (الشكل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331640" y="1341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47640" y="981000"/>
            <a:ext cx="41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يحد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01840" y="260280"/>
            <a:ext cx="5115240" cy="6193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005c"/>
                </a:solidFill>
                <a:latin typeface="Arial"/>
              </a:rPr>
              <a:t>ثانيا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ضاعف والانتقال من خلية لأخرى وبالتالي من الاباء الى الن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قدرة الـ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التضاعف مبنية ايضا في تركيبه الجزي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م بالنمط شبه المحاف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conservative model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دث في الفتر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دورة الخل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خضع للقاع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-C/A-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م في الاتجا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دث بسرعه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شأ واحد في البدائية / العديد من المناشئ في الراقية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نائي الاتج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قيق ج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تاج الى بوادئ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حتاج الى عوامل متعددة لحدوثه وتنظيمه.   (الشكلا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292428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775640" cy="5977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6124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4292640"/>
            <a:ext cx="115272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c"/>
                </a:solidFill>
                <a:latin typeface="Arial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ثالثا: التعب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عتبير الجيني(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gene expression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جمل العمليات التي يتم بواستطها تحويل المعلومات المشفرة في الجين الى الشكل المظهرى المشاه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استنساخ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Transcription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:(الشكلان 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11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 -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12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92360" y="3715920"/>
            <a:ext cx="1584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5084640"/>
            <a:ext cx="158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869000"/>
            <a:ext cx="172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35280" y="4221000"/>
            <a:ext cx="180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348000" y="3500280"/>
            <a:ext cx="25081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51280" y="3933720"/>
            <a:ext cx="1619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4653000"/>
            <a:ext cx="16192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92360" y="5516640"/>
            <a:ext cx="375300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نواع أخرى من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697800" cy="626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672680" cy="620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.الترجمة :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تابع القواعد(النيوكليوتيدات) ل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يترجم الى تتابع الاحماض الامينية المكونه للببتيدة الع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قدرة ا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لأن يترجم الى تتابع الاحماض الامينية يعتمد على الشفرة الوراث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شفرة الوراثي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عبارة عن المعلومات التي توجد في تتابع ازواج القواعد التي تحدد تتابع الاحماض الامينية في الببتيدة العديد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لاقه بين تتابع القواعد في ال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ا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مستنسخ) وتتابع الاحماض الامينية في الببتيدة العد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جموع كل الكودونات (الـ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كودون :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عبارة عن تتابع يتألف م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واعد (نيوكليوتيدات) متجاورة في ا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ذي يحدد إما حمض اميني في سلسلة البيبتيدة العديدة او انهاء عملية تصنيع البيبتيدة العدي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005c"/>
                </a:solidFill>
                <a:latin typeface="Arial"/>
              </a:rPr>
              <a:t>الكودون المضاد : </a:t>
            </a: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anticad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تابع يتألف م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واعد (نيوكلوتيدات ) يوجد في منطقه معينه من الـ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الذي يميز (يقوم بقراءة) كودون او اكثر في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6:42:05Z</dcterms:created>
  <dc:creator>هلا</dc:creator>
  <dc:description/>
  <dc:language>en-US</dc:language>
  <cp:lastModifiedBy>هلا</cp:lastModifiedBy>
  <dcterms:modified xsi:type="dcterms:W3CDTF">2007-11-06T20:30:54Z</dcterms:modified>
  <cp:revision>4</cp:revision>
  <dc:subject/>
  <dc:title>الشريحة 1</dc:title>
</cp:coreProperties>
</file>