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79620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796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7960" y="3796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9080" y="144792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3400" y="144792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796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9080" y="3796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3400" y="3796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76520" y="228600"/>
            <a:ext cx="7162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904760" y="3796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57960" y="3796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04760" y="379620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904760" y="379620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3796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57960" y="3796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49080" y="144792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93400" y="144792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904760" y="3796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249080" y="3796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93400" y="3796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228600"/>
            <a:ext cx="7162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796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7960" y="3796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7960" y="144792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79620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1219320" y="1219320"/>
            <a:ext cx="7619760" cy="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" name="Picture 6" descr="stopwatch"/>
          <p:cNvPicPr/>
          <p:nvPr/>
        </p:nvPicPr>
        <p:blipFill>
          <a:blip r:embed="rId2"/>
          <a:stretch/>
        </p:blipFill>
        <p:spPr>
          <a:xfrm>
            <a:off x="228600" y="228600"/>
            <a:ext cx="13143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969696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69696"/>
                </a:solidFill>
                <a:latin typeface="Arial"/>
                <a:ea typeface="Arial"/>
              </a:rPr>
              <a:t>Work Systems and the Methods, Measurement, and Management of Work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"/>
                <a:ea typeface="Arial"/>
              </a:rPr>
              <a:t>by Mikell P. Groover, ISBN 0-13-140650-7.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"/>
                <a:ea typeface="Arial"/>
              </a:rPr>
              <a:t>©2007 Pearson Education, Inc., Upper Saddle River, NJ.  All rights reserved.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irect Time Stud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66520" y="144792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Time Study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Work Cycles to be T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tudy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erformance Ratin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t judges the performance or pace of the worker relative to the definition of standard performance used by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performa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pace than standa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pace than standa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3.2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2" name="Picture 3" descr="13"/>
          <p:cNvPicPr/>
          <p:nvPr/>
        </p:nvPicPr>
        <p:blipFill>
          <a:blip r:embed="rId1"/>
          <a:stretch/>
        </p:blipFill>
        <p:spPr>
          <a:xfrm>
            <a:off x="4114800" y="304920"/>
            <a:ext cx="4267080" cy="5638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62120" y="2286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time study for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pply Allowanc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FD allowance is added to the normal time to compute the standar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f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f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wance factor for personal time, fatigue, and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of the allowance factor is to inflate the value of standard time in order to account for the various reasons why the worker loses time during the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rect time study was taken on a manual work element using the snapback method. The regular cycle consisted of three elements, a, b, and c. Element d is an irregular element performed every five cyc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rk elemen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b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c           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time (min)    0.56      0.25      0.50      1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ormance rating      100%     80%     110%   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(a) normal time and (b) standard time for th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Normal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6(1.00) + 0.25(0.80) + 0.50(1.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.10(1.0)/5 = 1.53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Standard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53(1 + 0.15) = 1.76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chine Cycle in the Task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work cycle includes machine-paced elements, then standard time may include a machine allowance applied to the machin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f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ormal time for worker (external)  element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achine cycle time (assumed constant)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achine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ycle-to-Cycle Time Variation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from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hand and body 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in the placement of part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e quality of the starting work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worker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errors by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umber of Cycles to be Time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476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cycles, calculate sample standard deviatio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Student t distribu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419720" y="2209680"/>
                <a:ext cx="16002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4419720" y="3962520"/>
                <a:ext cx="12189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erformance Ratin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t observes and rates the worker’s performance relative to the definition of standar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difficult and controversial step in direct tim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conflict of interest between the worker and the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performance rating method is based on speed or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raits of a Good Rating Syste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among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rker who can perform at 125% on one task should be able to do the same on other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among analy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explain and easy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a well-defined concept of standar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performance during th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irect Time Study - Define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and continuous observation of a task using a stopwatch or other timekeeping device to record the time taken to accomplish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observing and recording the time, an appraisal of the worker’s performance level is made to obtain the normal time for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are then used to compute a standard time for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ime Study Equipmen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stopw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stopw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ca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visual and audio record of method used b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ized techniques in direct tim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Cs and P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echanical Stopwatch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5" name="Picture 3" descr="13"/>
          <p:cNvPicPr/>
          <p:nvPr/>
        </p:nvPicPr>
        <p:blipFill>
          <a:blip r:embed="rId1"/>
          <a:stretch/>
        </p:blipFill>
        <p:spPr>
          <a:xfrm>
            <a:off x="3809880" y="1523880"/>
            <a:ext cx="4197600" cy="3849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762120" y="28954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in decimal minu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lectronic Stopwatch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3" descr="13"/>
          <p:cNvPicPr/>
          <p:nvPr/>
        </p:nvPicPr>
        <p:blipFill>
          <a:blip r:embed="rId1"/>
          <a:stretch/>
        </p:blipFill>
        <p:spPr>
          <a:xfrm>
            <a:off x="3809880" y="1447920"/>
            <a:ext cx="4102200" cy="4101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990720" y="2362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read-ou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irect Time Study Procedu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ocument the standar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task into work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he work elements to obtain the observed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worker’s pace relative to standard performance to obtain normal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performance rating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llowance factor to compute standar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f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 the Standard Metho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“one best metho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worker’s advice if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shoul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steps in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tools, gauges, equipment and equipment settings (e.g., feeds and speeds) if appli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elements and their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standard method is defined, it should not be possible for the operator to make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3.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9" name="Picture 3" descr="13"/>
          <p:cNvPicPr/>
          <p:nvPr/>
        </p:nvPicPr>
        <p:blipFill>
          <a:blip r:embed="rId1"/>
          <a:stretch/>
        </p:blipFill>
        <p:spPr>
          <a:xfrm>
            <a:off x="4038480" y="304920"/>
            <a:ext cx="4165560" cy="5613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914400" y="2286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o document the standard metho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hy Documentation is Importan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production – repeat orders after a significant time l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improvements by operator – to restudy task, must be able to prove a change has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utes about method – operator complains that standard is too 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erator using the standard meth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standard data system – good documentation is essential for developing a standard dat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ivide Task into Work Element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work element should consist of a logical group of mo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point of one element should be the end point of the preceding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should have a readily identifiable en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elements should not be too long nor too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irregular elements, machine elements, interna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ime the Work Element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should be timed over several work cycles to obtain a reliable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watch timing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back timing method – stopwatch is reset to zero at the start of each work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timing method – stopwatch is allowed to run continuously throughout the duration of the work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dvantages of Each Timing Metho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snapback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t can readily see how element times vary from cycle to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btraction necessary to obtain individual elem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continuous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cannot be omitted by mi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and irregular elements can be more readily distingu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ion and resetting of the stopwatch is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3:42:03Z</dcterms:created>
  <dc:creator>Groover</dc:creator>
  <dc:description/>
  <dc:language>en-US</dc:language>
  <cp:lastModifiedBy>Tamer Khalaf</cp:lastModifiedBy>
  <dcterms:modified xsi:type="dcterms:W3CDTF">2012-03-10T04:47:52Z</dcterms:modified>
  <cp:revision>16</cp:revision>
  <dc:subject/>
  <dc:title>Direct Time Study</dc:title>
</cp:coreProperties>
</file>