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3265B-F814-458F-B6C3-B714E7E5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7FB90-46ED-41F1-A638-5B0C6300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8853C-37B8-4045-89E9-9D540415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D7F31-4081-42A8-98AD-C9EF712E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48B0D-8A2B-49ED-84A1-DA5625E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26A3-B217-4C38-83B4-E6DA3F5C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A6B53-6DD8-4F88-849A-419FE98A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C4E83-292C-4D2B-B01A-D5BFC897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1845D-18C0-457C-BBD2-A1F2129C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70D11-A0B8-497E-AED5-4111FF99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5EC61-3352-4409-B67F-152F3494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622A1-7E8E-4D3F-9AA9-48BED162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5CEA2-AE00-474E-B7D5-8DA3D5B7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9AA9A-DAE4-40AE-8F50-514E448D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BF6FC-EA00-4A1C-B674-FA618395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C5DC1-4931-4DE0-8FDF-4E5BE8E7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8F21D-A8BB-4167-AB24-A8A3F14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8748D-E9E8-4EF7-86A5-A6120DC5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5096A-BD3E-4B65-858C-AFF3372A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79C15-F6E2-4E46-8C80-7B25BFD4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221F-237A-48CF-8E0C-0A396F383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104B2-2E8D-4D08-A783-1A684A7F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E7E9C-E4E3-438A-9796-4E5C92C7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EA3CE-8CDD-4A95-A360-742E3C44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26314-FAB9-4EB2-B2EC-AB0186FC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5F9C6-7890-47BD-BAC1-24E5CB90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6A2E2-8050-41DD-90CA-967E0A96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62530-8FB9-4D8F-BB09-D950AD0D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9B359-FDE7-4733-AF31-9FDCB50B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9C92A-73B6-4E83-9CF1-0DED439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DF4-D25A-40E1-B467-700F4D80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DA180-7875-4220-B83C-042A6745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D5A52-F8D6-4140-BD69-CB786CA0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C880D-F0FE-4265-BA5A-1093602D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0DBC1-8E89-4C3A-BC0E-4BAEDB31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43EC1-8066-4233-8AD3-409ADA39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66D3D-5FDA-4F38-BA97-BBA57A78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B94F6-1AAB-4A79-92B9-3E17A439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7F666-5722-4474-A593-0670D775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77AEF-0D63-4E79-8D57-FB206CA1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0379D-FEC0-4E77-AC95-1048E13B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0B95-0334-4FDE-8763-B9117B0F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EC1DD-8BC7-42DB-9F77-736FC39F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542A8-9A91-49EF-A333-00B5979E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E353F8-EE2E-4952-9409-5A0B505D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32006-9EF7-49FA-844C-FEA2FEBE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F56D3-76C6-41D6-8893-ABF11FBE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963AD-42DC-42C6-BEF0-1A6E7880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2FF0D-9CF6-4CD5-9AE3-18541793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71C2D-F698-4C58-9865-9EB4A4D4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3D518-5EED-4D5C-B0AD-D0BC2A6C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4A666-8CC3-4BC2-A295-DE2B606F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9F8-F09A-4C2E-9423-78A1F3FE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A37AF-0BB6-4050-B971-9A977D86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679D2-F278-4595-B73F-9F2E4A1B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5BD2D-DC13-4EC1-A4E4-CF7A9609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167D2-BE6D-491A-BD5D-379EE798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36301-AA59-414C-AFA1-2B237BF8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24CA3-4FE2-4DCC-B14F-C843B71F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8EA87-D27D-4958-9E6B-7C4FDF75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16FB3-D801-4652-BEF7-9819A9D6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DE48FA-4283-442B-923F-86E59899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74E49-D70D-42F7-9ACA-C1900FB7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4A9-4B80-4BC8-961D-453BAF37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730C6-1C47-4139-AD22-F2B55E53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3B6B5-C053-4D00-9A00-A22D18E3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1626E2-9E91-4715-96B0-1C225EE3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13121-53DD-4F41-BE9F-DDE4E3BF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03258-E1C9-43AC-857C-88E634B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42736-351F-4C72-9F86-755793A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B559A-42F1-42C8-A05C-A93A3DCC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B5C53-D3F1-4F90-96BD-CC08B14C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5AD00-949E-4CDF-989C-DE5C5327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E5EA3-583D-4424-9107-E7E284D9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0088-38A1-46D9-B416-D84ED96A0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ECB0BE-22B8-42A5-B623-D6D5D7C9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7B894-A9B1-4F44-8E21-E8231E7A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64D92-A2C0-4472-9AD5-D60E5582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B59F8-E97F-4971-AA44-11A1914F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3B1F9-CC78-463D-B6A7-712D2AD2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9CF6DE-A925-4E14-81F7-3EE94086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0A95E-B1A2-4849-908E-248ECCBF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E6600-D402-429E-9750-88083DAC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77B60-3663-489F-8939-0373334E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B4978-4450-463C-BEE3-48DD4202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C3B-AD4E-495E-AB76-A0EF0658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4D586-E4B7-4778-A08A-DA612857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B98604-8283-41ED-9776-7093ACBC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92CF6-B3A7-42F1-9EAA-45E4E757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17837-C2ED-4FF9-9D7E-389E2B51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C32538-B38D-4FB8-A4D0-D0831BA5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B3EA3-AC30-4EEE-BC40-F0C458C2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E790F7-4D08-48C9-8CDD-47512B9D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AF3FE-CC86-4363-906D-557412A5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F0E37-DCAC-4254-8BE5-33D2042A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E59729-DDA1-4645-94D4-AF2858A9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6632-6639-4CD4-AF80-AC63FE8F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17856-D04A-4A2F-A1D2-867218F7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4BBA68-CD85-4FD7-B063-639CCDA9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61AAA-00C5-4FDC-A1FA-2C025DB9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BC5A2-0068-4E15-ACDE-0DB3D4A9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C6A72-D3D1-4871-A3EF-9E5DEFB0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EE7289-4D2A-4655-B62A-FB19A6FE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64FE4-AB93-4745-A7CF-4AFC4D29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A1488-52AB-45EB-8E54-6A506435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8160B-F04B-4260-89D1-210A3AC9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336D4-C068-4A8E-ADCE-904BBC06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610-B25B-489E-82AD-B6493F9F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06F1BE-FE46-40B8-A6EE-B69E75EB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B62B44-71E9-48B9-A64E-F606BB67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1359A-5F9F-4D93-B410-ABE038AD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3736EE-DDB7-43F4-9323-716C05C9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8730E0-DD4A-4211-9C33-588EC132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50D-02D0-4D8E-BEF5-04EEED9E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46C-1392-434F-B99C-A6C659B5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74C7-C91C-4A65-9DBF-79879855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0B9-77A5-47E9-9556-930DCA8C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E982-0088-47E2-9F18-64F3513C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B4E9-0644-4C65-8CE1-E92B77D0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94A0-CA35-4357-AEE1-A3379113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8EBB-D52E-43D9-9D84-64F6F58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927B-F23B-46A7-870E-0021314E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1056-A79F-4E3E-A552-934BDCF4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14CC-A83A-4951-8159-D14B8C65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3F96-98C3-48C4-9817-73979271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A3AB-BC50-4F50-8305-D19CB18A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43C3-81D2-4180-9B03-EE7A396D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E480-92EA-44D9-80D7-65A0CE8C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2FF4-61AF-4F4F-9636-8276427C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2A99-E072-4E47-9F99-4B5AD4F0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4A49C-340C-4E57-A01F-D13E0F56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90BBB-CAB1-4AFA-A8D8-1CEE8478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49D00-36F7-4766-AFB6-1BE33495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94681-2A74-4021-A3F8-ABC02E5A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3C72-B441-4A34-B453-DF837942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F149-9D1E-435E-B26A-46CDF65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8EC74-506E-4666-B8CA-8E5E6D4E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43CC-3A0E-4499-8284-9C793324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2CF10-7C53-498A-BA54-2007AA9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98FE-9562-488E-BFB2-F1181AB7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27D8-9B07-4359-930E-33493235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B8C1-4059-482F-AD9F-A8043D93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369C7-BB3A-4FCB-9A3F-4FB47F27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8AF3-A0D7-436D-9917-48BAFC38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F666-817E-4A0B-94E1-C85FBC6D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7F6C-11C9-4B7C-8AC8-ABAC08D9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D8748-3312-4D2A-B1B6-521071ED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F545-2792-49A5-92FC-EC24FFD8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E961-1E3C-42AD-9691-88190213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E8B7B-D174-42EB-941F-BBE11A85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B81BF-033E-430F-8280-F4996C43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B6B0-B005-489F-9222-413AEB23C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C4EE7-51E8-4857-9590-33DBA45B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09AB6-39B8-471D-A3C2-4F0F1994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09C21-D636-4AAE-83E8-484D72DC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5ED1F-F52A-48A0-B0E4-A6243A10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FB725-33BD-43AB-869C-FA9A3125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C2649-C0AA-4F7C-ACC4-D0798C17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DDA38-C8DC-4C9C-AE67-93470BF3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6A141-ED27-4CBA-B38A-3DAC8896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545F2-CCE2-41F9-AC81-C38284C0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EB0F-919F-4D33-B68A-D99D1E0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D5AB9-564A-4A3B-86F6-FB9220BD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F9C27-808D-4DD9-98E9-6505657A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18873-F9A6-4294-BA21-308709DD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1B212-C397-421E-B0BA-D65A489C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81315-405F-4F10-BB4E-A1884441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73F51-29DF-412F-8032-CEE0A90A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C99B5-0EF0-4B9E-89B0-9960D22E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429D9-4EAF-4A30-8504-7AD4BA62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5EE6B-5DEE-4BC1-A287-5A5B0384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CAFD6-EDA2-458F-82F0-7BA7A6D6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08B6-0EAA-462D-AEBA-965CC233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30F40-BE2E-41DD-A57D-1C51F7F9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060FF-9E9D-4BB4-B032-31CD3A8C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03A4E-1103-4B4D-9E06-5E741E7F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55CEC-9DBA-4519-98CA-C704149D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6FAB8-0847-423C-BE27-67F05777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35DD-5B3C-471B-9C95-BDBA967E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D0BC-208C-4165-9B2A-BB5DABFEB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26D9CCA5-7C2A-426D-A0A0-7B451957802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ADF8-073E-4A8A-A799-1EE95D5CDF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65529B20-E393-4B4D-8D0B-AB9C15825D4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95E-0B11-423A-B815-DF0C008667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E0415339-F661-461C-856B-3DB5C0627803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771E-155A-48F7-A368-56F633A039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0BEBB810-916E-4B08-88B1-E0100ED2DC4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6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3593-3A23-42BA-B2F4-0423644ECE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2E94ADD3-5F64-47CF-8910-643278A5F2E1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D458-10A8-464D-89C1-9292C7EB02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6013842C-28EA-471B-B60D-7DCBFB664FF8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92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907C-4A9C-4BAE-9888-536DA5B11A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E712A82C-F466-468B-993F-91129D4D596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C19D-F8B8-4252-82D2-D9CD3AE1E7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52CE6EEC-B3C7-42A8-8AF6-D61FD8A55C9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8" name="TextBox 4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FCF8-1F10-446A-8364-6F155DBED9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9131-A7AA-429B-84B8-35A641F4A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1608BCFF-73C5-4EEB-AE51-D01414474DF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F053-4EC3-49A4-9F70-EC408BF01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0DDAB798-096B-42A0-98EE-92BF57E6C35B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D3CD-1665-4028-AE3A-B3DCF154B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D8658B2B-944D-45E0-8293-374593992265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2ACE-79B6-4F2D-ABE3-410E53D41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555AAE49-AF0E-47BE-9213-BA5F787C56B9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3D01-C4B6-483C-AECA-9B20B7452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78D5E1E5-BE85-4BC0-AC75-FEB9CF8A712D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050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053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0C3D246-6CF6-4877-8957-02EE49DF6165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055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CE6CDCB5-099D-4638-B308-AB63C149B606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6F3-3797-4AD4-BF23-08392EF3F4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3"/>
          <p:cNvSpPr/>
          <p:nvPr/>
        </p:nvSpPr>
        <p:spPr>
          <a:xfrm>
            <a:off x="8476920" y="6613560"/>
            <a:ext cx="8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5–</a:t>
            </a:r>
            <a:fld id="{89B5487C-AC8C-482E-B766-EFC8AE0D2A3C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2"/>
          <a:stretch/>
        </p:blipFill>
        <p:spPr>
          <a:xfrm>
            <a:off x="8763120" y="76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8"/>
          <p:cNvSpPr/>
          <p:nvPr/>
        </p:nvSpPr>
        <p:spPr>
          <a:xfrm rot="16200000">
            <a:off x="6714000" y="2505600"/>
            <a:ext cx="46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95959"/>
                </a:solidFill>
                <a:latin typeface="Sylfaen"/>
                <a:ea typeface="Arial"/>
              </a:rPr>
              <a:t>Copyright © 2014 by McGraw Hill Education (India) Private Limited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aur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entaur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CA69-FD87-4AB2-801A-E21E24B8FC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9" descr=""/>
          <p:cNvPicPr/>
          <p:nvPr/>
        </p:nvPicPr>
        <p:blipFill>
          <a:blip r:embed="rId2"/>
          <a:stretch/>
        </p:blipFill>
        <p:spPr>
          <a:xfrm>
            <a:off x="1981080" y="0"/>
            <a:ext cx="5562720" cy="6858000"/>
          </a:xfrm>
          <a:prstGeom prst="rect">
            <a:avLst/>
          </a:prstGeom>
          <a:ln w="0">
            <a:noFill/>
          </a:ln>
        </p:spPr>
      </p:pic>
      <p:pic>
        <p:nvPicPr>
          <p:cNvPr id="727" name="TextBox 7" descr=""/>
          <p:cNvPicPr/>
          <p:nvPr/>
        </p:nvPicPr>
        <p:blipFill>
          <a:blip r:embed="rId3"/>
          <a:stretch/>
        </p:blipFill>
        <p:spPr>
          <a:xfrm>
            <a:off x="-73080" y="0"/>
            <a:ext cx="2298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690408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&amp; Diseconomies of Sc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Group 1056"/>
          <p:cNvGrpSpPr/>
          <p:nvPr/>
        </p:nvGrpSpPr>
        <p:grpSpPr>
          <a:xfrm>
            <a:off x="64800" y="1600200"/>
            <a:ext cx="8691840" cy="5254560"/>
            <a:chOff x="64800" y="1600200"/>
            <a:chExt cx="8691840" cy="5254560"/>
          </a:xfrm>
        </p:grpSpPr>
        <p:sp>
          <p:nvSpPr>
            <p:cNvPr id="782" name="Rectangle 1030"/>
            <p:cNvSpPr/>
            <p:nvPr/>
          </p:nvSpPr>
          <p:spPr>
            <a:xfrm>
              <a:off x="685800" y="62485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031"/>
            <p:cNvSpPr/>
            <p:nvPr/>
          </p:nvSpPr>
          <p:spPr>
            <a:xfrm>
              <a:off x="3124080" y="62485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032"/>
            <p:cNvSpPr/>
            <p:nvPr/>
          </p:nvSpPr>
          <p:spPr>
            <a:xfrm>
              <a:off x="1454040" y="2216160"/>
              <a:ext cx="7302600" cy="3873600"/>
            </a:xfrm>
            <a:prstGeom prst="rect">
              <a:avLst/>
            </a:prstGeom>
            <a:solidFill>
              <a:srgbClr val="ffc8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Group 1033"/>
            <p:cNvGrpSpPr/>
            <p:nvPr/>
          </p:nvGrpSpPr>
          <p:grpSpPr>
            <a:xfrm>
              <a:off x="1600200" y="2957400"/>
              <a:ext cx="2019240" cy="1177920"/>
              <a:chOff x="1600200" y="2957400"/>
              <a:chExt cx="2019240" cy="1177920"/>
            </a:xfrm>
          </p:grpSpPr>
          <p:graphicFrame>
            <p:nvGraphicFramePr>
              <p:cNvPr id="786" name="Object 1034"/>
              <p:cNvGraphicFramePr/>
              <p:nvPr/>
            </p:nvGraphicFramePr>
            <p:xfrm>
              <a:off x="1600200" y="3505320"/>
              <a:ext cx="2019240" cy="630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87" name="Object 103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600200" y="3505320"/>
                        <a:ext cx="2019240" cy="630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88" name="Rectangle 1035"/>
              <p:cNvSpPr/>
              <p:nvPr/>
            </p:nvSpPr>
            <p:spPr>
              <a:xfrm>
                <a:off x="2054160" y="2957400"/>
                <a:ext cx="119196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100-uni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Group 1036"/>
            <p:cNvGrpSpPr/>
            <p:nvPr/>
          </p:nvGrpSpPr>
          <p:grpSpPr>
            <a:xfrm>
              <a:off x="3124080" y="3643200"/>
              <a:ext cx="2019600" cy="1101960"/>
              <a:chOff x="3124080" y="3643200"/>
              <a:chExt cx="2019600" cy="1101960"/>
            </a:xfrm>
          </p:grpSpPr>
          <p:graphicFrame>
            <p:nvGraphicFramePr>
              <p:cNvPr id="790" name="Object 1037"/>
              <p:cNvGraphicFramePr/>
              <p:nvPr/>
            </p:nvGraphicFramePr>
            <p:xfrm>
              <a:off x="3124080" y="4114800"/>
              <a:ext cx="2019600" cy="630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91" name="Object 103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124080" y="4114800"/>
                        <a:ext cx="2019600" cy="63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92" name="Rectangle 1038"/>
              <p:cNvSpPr/>
              <p:nvPr/>
            </p:nvSpPr>
            <p:spPr>
              <a:xfrm>
                <a:off x="3502080" y="3643200"/>
                <a:ext cx="119196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200-uni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1039"/>
            <p:cNvGrpSpPr/>
            <p:nvPr/>
          </p:nvGrpSpPr>
          <p:grpSpPr>
            <a:xfrm>
              <a:off x="4800600" y="4024440"/>
              <a:ext cx="2019240" cy="1177920"/>
              <a:chOff x="4800600" y="4024440"/>
              <a:chExt cx="2019240" cy="1177920"/>
            </a:xfrm>
          </p:grpSpPr>
          <p:graphicFrame>
            <p:nvGraphicFramePr>
              <p:cNvPr id="794" name="Object 1040"/>
              <p:cNvGraphicFramePr/>
              <p:nvPr/>
            </p:nvGraphicFramePr>
            <p:xfrm>
              <a:off x="4800600" y="4572000"/>
              <a:ext cx="2019240" cy="630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95" name="Object 1040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800600" y="4572000"/>
                        <a:ext cx="2019240" cy="63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96" name="Rectangle 1041"/>
              <p:cNvSpPr/>
              <p:nvPr/>
            </p:nvSpPr>
            <p:spPr>
              <a:xfrm>
                <a:off x="5254560" y="4024440"/>
                <a:ext cx="119196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300-uni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1042"/>
            <p:cNvGrpSpPr/>
            <p:nvPr/>
          </p:nvGrpSpPr>
          <p:grpSpPr>
            <a:xfrm>
              <a:off x="6629400" y="3871800"/>
              <a:ext cx="2019240" cy="1025640"/>
              <a:chOff x="6629400" y="3871800"/>
              <a:chExt cx="2019240" cy="1025640"/>
            </a:xfrm>
          </p:grpSpPr>
          <p:graphicFrame>
            <p:nvGraphicFramePr>
              <p:cNvPr id="798" name="Object 1043"/>
              <p:cNvGraphicFramePr/>
              <p:nvPr/>
            </p:nvGraphicFramePr>
            <p:xfrm>
              <a:off x="6629400" y="4267080"/>
              <a:ext cx="2019240" cy="630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99" name="Object 1043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629400" y="4267080"/>
                        <a:ext cx="2019240" cy="630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00" name="Rectangle 1044"/>
              <p:cNvSpPr/>
              <p:nvPr/>
            </p:nvSpPr>
            <p:spPr>
              <a:xfrm>
                <a:off x="7007400" y="3871800"/>
                <a:ext cx="119196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400-uni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plan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Rectangle 1045"/>
            <p:cNvSpPr/>
            <p:nvPr/>
          </p:nvSpPr>
          <p:spPr>
            <a:xfrm>
              <a:off x="3719880" y="6157800"/>
              <a:ext cx="1342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1046"/>
            <p:cNvSpPr/>
            <p:nvPr/>
          </p:nvSpPr>
          <p:spPr>
            <a:xfrm>
              <a:off x="5038560" y="6400800"/>
              <a:ext cx="105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1047"/>
            <p:cNvSpPr/>
            <p:nvPr/>
          </p:nvSpPr>
          <p:spPr>
            <a:xfrm>
              <a:off x="64800" y="3186000"/>
              <a:ext cx="1391400" cy="10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nit cos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f outpu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048"/>
            <p:cNvSpPr/>
            <p:nvPr/>
          </p:nvSpPr>
          <p:spPr>
            <a:xfrm>
              <a:off x="8229600" y="6397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1049"/>
            <p:cNvSpPr/>
            <p:nvPr/>
          </p:nvSpPr>
          <p:spPr>
            <a:xfrm>
              <a:off x="380880" y="1600200"/>
              <a:ext cx="7010640" cy="429120"/>
            </a:xfrm>
            <a:prstGeom prst="rect">
              <a:avLst/>
            </a:prstGeom>
            <a:solidFill>
              <a:srgbClr val="e1e1d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Economies of Scale and the Learning Curve work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1050"/>
            <p:cNvSpPr/>
            <p:nvPr/>
          </p:nvSpPr>
          <p:spPr>
            <a:xfrm>
              <a:off x="2209680" y="2209680"/>
              <a:ext cx="762120" cy="838440"/>
            </a:xfrm>
            <a:prstGeom prst="downArrow">
              <a:avLst>
                <a:gd name="adj1" fmla="val 50000"/>
                <a:gd name="adj2" fmla="val 2750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1051"/>
            <p:cNvSpPr/>
            <p:nvPr/>
          </p:nvSpPr>
          <p:spPr>
            <a:xfrm>
              <a:off x="3809880" y="2209680"/>
              <a:ext cx="762120" cy="1295640"/>
            </a:xfrm>
            <a:prstGeom prst="downArrow">
              <a:avLst>
                <a:gd name="adj1" fmla="val 50000"/>
                <a:gd name="adj2" fmla="val 4250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1052"/>
            <p:cNvSpPr/>
            <p:nvPr/>
          </p:nvSpPr>
          <p:spPr>
            <a:xfrm>
              <a:off x="5410080" y="2209680"/>
              <a:ext cx="762120" cy="1828800"/>
            </a:xfrm>
            <a:prstGeom prst="downArrow">
              <a:avLst>
                <a:gd name="adj1" fmla="val 50000"/>
                <a:gd name="adj2" fmla="val 5999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 Box 1053"/>
            <p:cNvSpPr/>
            <p:nvPr/>
          </p:nvSpPr>
          <p:spPr>
            <a:xfrm>
              <a:off x="3886200" y="5562720"/>
              <a:ext cx="4724280" cy="429120"/>
            </a:xfrm>
            <a:prstGeom prst="rect">
              <a:avLst/>
            </a:prstGeom>
            <a:solidFill>
              <a:srgbClr val="e1e1d1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Diseconomies of Scale start work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054"/>
            <p:cNvSpPr/>
            <p:nvPr/>
          </p:nvSpPr>
          <p:spPr>
            <a:xfrm>
              <a:off x="7238880" y="4800600"/>
              <a:ext cx="685800" cy="6714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105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E3C3A300-DF1F-43B9-B932-B74135297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42900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rning Cur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3733920" y="533520"/>
            <a:ext cx="5181480" cy="109944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plants produce more products, they gain experience in the best production methods and reduce their costs per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6"/>
          <p:cNvGrpSpPr/>
          <p:nvPr/>
        </p:nvGrpSpPr>
        <p:grpSpPr>
          <a:xfrm>
            <a:off x="683280" y="1987560"/>
            <a:ext cx="7827840" cy="4183920"/>
            <a:chOff x="683280" y="1987560"/>
            <a:chExt cx="7827840" cy="4183920"/>
          </a:xfrm>
        </p:grpSpPr>
        <p:sp>
          <p:nvSpPr>
            <p:cNvPr id="815" name="Rectangle 7"/>
            <p:cNvSpPr/>
            <p:nvPr/>
          </p:nvSpPr>
          <p:spPr>
            <a:xfrm>
              <a:off x="2158920" y="1987560"/>
              <a:ext cx="5759640" cy="3573360"/>
            </a:xfrm>
            <a:prstGeom prst="rect">
              <a:avLst/>
            </a:prstGeom>
            <a:solidFill>
              <a:srgbClr val="a6f69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rc 8"/>
            <p:cNvSpPr/>
            <p:nvPr/>
          </p:nvSpPr>
          <p:spPr>
            <a:xfrm>
              <a:off x="2508120" y="2154240"/>
              <a:ext cx="5077080" cy="279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e1e1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2314440" y="5686560"/>
              <a:ext cx="6196680" cy="48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Total accumulated production of uni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683280" y="2975040"/>
              <a:ext cx="1394640" cy="12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Cost o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per uni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9" name="Group 11"/>
            <p:cNvGrpSpPr/>
            <p:nvPr/>
          </p:nvGrpSpPr>
          <p:grpSpPr>
            <a:xfrm>
              <a:off x="3123720" y="2514600"/>
              <a:ext cx="2286360" cy="533520"/>
              <a:chOff x="3123720" y="2514600"/>
              <a:chExt cx="2286360" cy="533520"/>
            </a:xfrm>
          </p:grpSpPr>
          <p:sp>
            <p:nvSpPr>
              <p:cNvPr id="820" name="Line 12"/>
              <p:cNvSpPr/>
              <p:nvPr/>
            </p:nvSpPr>
            <p:spPr>
              <a:xfrm flipH="1">
                <a:off x="3123720" y="2819520"/>
                <a:ext cx="83844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Text Box 13"/>
              <p:cNvSpPr/>
              <p:nvPr/>
            </p:nvSpPr>
            <p:spPr>
              <a:xfrm>
                <a:off x="4038480" y="2514600"/>
                <a:ext cx="1371600" cy="398880"/>
              </a:xfrm>
              <a:prstGeom prst="rect">
                <a:avLst/>
              </a:prstGeom>
              <a:solidFill>
                <a:srgbClr val="e1e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Yesterda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Group 14"/>
            <p:cNvGrpSpPr/>
            <p:nvPr/>
          </p:nvGrpSpPr>
          <p:grpSpPr>
            <a:xfrm>
              <a:off x="4419720" y="3124080"/>
              <a:ext cx="1523880" cy="990720"/>
              <a:chOff x="4419720" y="3124080"/>
              <a:chExt cx="1523880" cy="990720"/>
            </a:xfrm>
          </p:grpSpPr>
          <p:sp>
            <p:nvSpPr>
              <p:cNvPr id="823" name="Line 15"/>
              <p:cNvSpPr/>
              <p:nvPr/>
            </p:nvSpPr>
            <p:spPr>
              <a:xfrm flipH="1">
                <a:off x="4419720" y="3505320"/>
                <a:ext cx="45720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16"/>
              <p:cNvSpPr/>
              <p:nvPr/>
            </p:nvSpPr>
            <p:spPr>
              <a:xfrm>
                <a:off x="5029200" y="3124080"/>
                <a:ext cx="914400" cy="398880"/>
              </a:xfrm>
              <a:prstGeom prst="rect">
                <a:avLst/>
              </a:prstGeom>
              <a:solidFill>
                <a:srgbClr val="e1e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da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7"/>
            <p:cNvGrpSpPr/>
            <p:nvPr/>
          </p:nvGrpSpPr>
          <p:grpSpPr>
            <a:xfrm>
              <a:off x="6400800" y="3505320"/>
              <a:ext cx="1371600" cy="1143000"/>
              <a:chOff x="6400800" y="3505320"/>
              <a:chExt cx="1371600" cy="1143000"/>
            </a:xfrm>
          </p:grpSpPr>
          <p:sp>
            <p:nvSpPr>
              <p:cNvPr id="826" name="Line 18"/>
              <p:cNvSpPr/>
              <p:nvPr/>
            </p:nvSpPr>
            <p:spPr>
              <a:xfrm>
                <a:off x="6553080" y="3962520"/>
                <a:ext cx="0" cy="685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19"/>
              <p:cNvSpPr/>
              <p:nvPr/>
            </p:nvSpPr>
            <p:spPr>
              <a:xfrm>
                <a:off x="6400800" y="3505320"/>
                <a:ext cx="1371600" cy="398880"/>
              </a:xfrm>
              <a:prstGeom prst="rect">
                <a:avLst/>
              </a:prstGeom>
              <a:solidFill>
                <a:srgbClr val="e1e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m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8" name="Text Box 2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557F690F-C2F7-48CC-A056-D622A9026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83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Capacity focus – the idea that a production facility works best when it is concentrated on a limited set of production objectives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Focused factory or plant within a plant (PWP) concept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Capacity flexibility – the ability to rapidly increase or decrease product levels or the ability to shift rapidly from one product or service to another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Comes from the plant, processes, and workers or from strategies that use the capacity of other organizations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34"/>
          <p:cNvSpPr/>
          <p:nvPr/>
        </p:nvSpPr>
        <p:spPr>
          <a:xfrm>
            <a:off x="304920" y="914400"/>
            <a:ext cx="8610480" cy="548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229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Planning: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13"/>
          <p:cNvGrpSpPr/>
          <p:nvPr/>
        </p:nvGrpSpPr>
        <p:grpSpPr>
          <a:xfrm>
            <a:off x="1697040" y="1643040"/>
            <a:ext cx="6943680" cy="558720"/>
            <a:chOff x="1697040" y="1643040"/>
            <a:chExt cx="6943680" cy="558720"/>
          </a:xfrm>
        </p:grpSpPr>
        <p:sp>
          <p:nvSpPr>
            <p:cNvPr id="836" name="Line 7"/>
            <p:cNvSpPr/>
            <p:nvPr/>
          </p:nvSpPr>
          <p:spPr>
            <a:xfrm>
              <a:off x="8108640" y="192240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8"/>
            <p:cNvSpPr/>
            <p:nvPr/>
          </p:nvSpPr>
          <p:spPr>
            <a:xfrm>
              <a:off x="3346200" y="192240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9"/>
            <p:cNvSpPr/>
            <p:nvPr/>
          </p:nvSpPr>
          <p:spPr>
            <a:xfrm>
              <a:off x="5738760" y="192240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10"/>
            <p:cNvSpPr/>
            <p:nvPr/>
          </p:nvSpPr>
          <p:spPr>
            <a:xfrm>
              <a:off x="1697040" y="1643040"/>
              <a:ext cx="165708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11"/>
            <p:cNvSpPr/>
            <p:nvPr/>
          </p:nvSpPr>
          <p:spPr>
            <a:xfrm>
              <a:off x="4089240" y="1643040"/>
              <a:ext cx="165744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12"/>
            <p:cNvSpPr/>
            <p:nvPr/>
          </p:nvSpPr>
          <p:spPr>
            <a:xfrm>
              <a:off x="6481440" y="1643040"/>
              <a:ext cx="165744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Rectangle 14"/>
          <p:cNvSpPr/>
          <p:nvPr/>
        </p:nvSpPr>
        <p:spPr>
          <a:xfrm>
            <a:off x="279360" y="1447920"/>
            <a:ext cx="134316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5"/>
          <p:cNvSpPr/>
          <p:nvPr/>
        </p:nvSpPr>
        <p:spPr>
          <a:xfrm>
            <a:off x="2155320" y="259092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6"/>
          <p:cNvSpPr/>
          <p:nvPr/>
        </p:nvSpPr>
        <p:spPr>
          <a:xfrm>
            <a:off x="4647960" y="259092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7"/>
          <p:cNvSpPr/>
          <p:nvPr/>
        </p:nvSpPr>
        <p:spPr>
          <a:xfrm>
            <a:off x="7170480" y="259092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8"/>
          <p:cNvSpPr/>
          <p:nvPr/>
        </p:nvSpPr>
        <p:spPr>
          <a:xfrm>
            <a:off x="1981080" y="990720"/>
            <a:ext cx="5257800" cy="459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balanced stages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19"/>
          <p:cNvGrpSpPr/>
          <p:nvPr/>
        </p:nvGrpSpPr>
        <p:grpSpPr>
          <a:xfrm>
            <a:off x="1874880" y="4691160"/>
            <a:ext cx="6943680" cy="558720"/>
            <a:chOff x="1874880" y="4691160"/>
            <a:chExt cx="6943680" cy="558720"/>
          </a:xfrm>
        </p:grpSpPr>
        <p:sp>
          <p:nvSpPr>
            <p:cNvPr id="848" name="Line 20"/>
            <p:cNvSpPr/>
            <p:nvPr/>
          </p:nvSpPr>
          <p:spPr>
            <a:xfrm>
              <a:off x="8286480" y="497052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21"/>
            <p:cNvSpPr/>
            <p:nvPr/>
          </p:nvSpPr>
          <p:spPr>
            <a:xfrm>
              <a:off x="3524040" y="4970520"/>
              <a:ext cx="53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22"/>
            <p:cNvSpPr/>
            <p:nvPr/>
          </p:nvSpPr>
          <p:spPr>
            <a:xfrm>
              <a:off x="5916600" y="497052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23"/>
            <p:cNvSpPr/>
            <p:nvPr/>
          </p:nvSpPr>
          <p:spPr>
            <a:xfrm>
              <a:off x="1874880" y="4691160"/>
              <a:ext cx="165708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24"/>
            <p:cNvSpPr/>
            <p:nvPr/>
          </p:nvSpPr>
          <p:spPr>
            <a:xfrm>
              <a:off x="4267080" y="4691160"/>
              <a:ext cx="165744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25"/>
            <p:cNvSpPr/>
            <p:nvPr/>
          </p:nvSpPr>
          <p:spPr>
            <a:xfrm>
              <a:off x="6659280" y="4691160"/>
              <a:ext cx="1657440" cy="558720"/>
            </a:xfrm>
            <a:prstGeom prst="roundRect">
              <a:avLst>
                <a:gd name="adj" fmla="val 12468"/>
              </a:avLst>
            </a:prstGeom>
            <a:solidFill>
              <a:srgbClr val="c0fe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Stage 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26"/>
          <p:cNvSpPr/>
          <p:nvPr/>
        </p:nvSpPr>
        <p:spPr>
          <a:xfrm>
            <a:off x="457200" y="4495680"/>
            <a:ext cx="134316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7"/>
          <p:cNvSpPr/>
          <p:nvPr/>
        </p:nvSpPr>
        <p:spPr>
          <a:xfrm>
            <a:off x="2333160" y="563868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8"/>
          <p:cNvSpPr/>
          <p:nvPr/>
        </p:nvSpPr>
        <p:spPr>
          <a:xfrm>
            <a:off x="4825800" y="563868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9"/>
          <p:cNvSpPr/>
          <p:nvPr/>
        </p:nvSpPr>
        <p:spPr>
          <a:xfrm>
            <a:off x="7348320" y="5638680"/>
            <a:ext cx="101052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,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0"/>
          <p:cNvSpPr/>
          <p:nvPr/>
        </p:nvSpPr>
        <p:spPr>
          <a:xfrm>
            <a:off x="2133720" y="4038480"/>
            <a:ext cx="5257800" cy="4597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anced stages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28600" y="3047760"/>
            <a:ext cx="8610480" cy="87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Maintaining System Bal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utput of one stage is the exact input requirements for the next stag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3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094CC5EE-553B-476B-B30B-DF3ED2567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8" dur="1" fill="hold"/>
                                  <p:tgtEl>
                                    <p:spTgt spid="8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Capacit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Forecast sales within each individual produ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alculate equipment and labor requirements to meet the fore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4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Project equipment and labor availability over the planning horiz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AACDDD70-F834-4991-B3F9-4E941B27E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8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184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apacity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1905120" y="1295280"/>
            <a:ext cx="7238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anufacturer produces two lines of mustard, FancyFine and Generic line.  Each is sold in small and family-size plastic bott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table shows forecast demand for the next four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7" descr=""/>
          <p:cNvPicPr/>
          <p:nvPr/>
        </p:nvPicPr>
        <p:blipFill>
          <a:blip r:embed="rId1"/>
          <a:stretch/>
        </p:blipFill>
        <p:spPr>
          <a:xfrm>
            <a:off x="1905120" y="3962520"/>
            <a:ext cx="6933960" cy="235260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8"/>
          <p:cNvSpPr/>
          <p:nvPr/>
        </p:nvSpPr>
        <p:spPr>
          <a:xfrm>
            <a:off x="8229600" y="639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27E078BE-4167-41C0-9370-6BD931555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apacity Requirements (Continued): Product from a Capacity View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752120" y="1828800"/>
            <a:ext cx="6583320" cy="28195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Are we really producing two different types of mustards from the standpoint of capacity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swer: No, it’s the same product just packaged differently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Group 17"/>
          <p:cNvGrpSpPr/>
          <p:nvPr/>
        </p:nvGrpSpPr>
        <p:grpSpPr>
          <a:xfrm>
            <a:off x="1981080" y="4800600"/>
            <a:ext cx="4368960" cy="1336680"/>
            <a:chOff x="1981080" y="4800600"/>
            <a:chExt cx="4368960" cy="1336680"/>
          </a:xfrm>
        </p:grpSpPr>
        <p:grpSp>
          <p:nvGrpSpPr>
            <p:cNvPr id="878" name="Group 9"/>
            <p:cNvGrpSpPr/>
            <p:nvPr/>
          </p:nvGrpSpPr>
          <p:grpSpPr>
            <a:xfrm>
              <a:off x="2344680" y="4800600"/>
              <a:ext cx="3654360" cy="888840"/>
              <a:chOff x="2344680" y="4800600"/>
              <a:chExt cx="3654360" cy="888840"/>
            </a:xfrm>
          </p:grpSpPr>
          <p:sp>
            <p:nvSpPr>
              <p:cNvPr id="879" name="Freeform 7"/>
              <p:cNvSpPr/>
              <p:nvPr/>
            </p:nvSpPr>
            <p:spPr>
              <a:xfrm>
                <a:off x="2344680" y="4800600"/>
                <a:ext cx="3654360" cy="888840"/>
              </a:xfrm>
              <a:custGeom>
                <a:avLst/>
                <a:gdLst/>
                <a:ahLst/>
                <a:rect l="l" t="t" r="r" b="b"/>
                <a:pathLst>
                  <a:path w="2302" h="560">
                    <a:moveTo>
                      <a:pt x="42" y="81"/>
                    </a:moveTo>
                    <a:lnTo>
                      <a:pt x="69" y="59"/>
                    </a:lnTo>
                    <a:lnTo>
                      <a:pt x="96" y="41"/>
                    </a:lnTo>
                    <a:lnTo>
                      <a:pt x="122" y="26"/>
                    </a:lnTo>
                    <a:lnTo>
                      <a:pt x="150" y="15"/>
                    </a:lnTo>
                    <a:lnTo>
                      <a:pt x="176" y="9"/>
                    </a:lnTo>
                    <a:lnTo>
                      <a:pt x="207" y="3"/>
                    </a:lnTo>
                    <a:lnTo>
                      <a:pt x="239" y="2"/>
                    </a:lnTo>
                    <a:lnTo>
                      <a:pt x="270" y="4"/>
                    </a:lnTo>
                    <a:lnTo>
                      <a:pt x="306" y="10"/>
                    </a:lnTo>
                    <a:lnTo>
                      <a:pt x="340" y="17"/>
                    </a:lnTo>
                    <a:lnTo>
                      <a:pt x="376" y="24"/>
                    </a:lnTo>
                    <a:lnTo>
                      <a:pt x="412" y="30"/>
                    </a:lnTo>
                    <a:lnTo>
                      <a:pt x="455" y="35"/>
                    </a:lnTo>
                    <a:lnTo>
                      <a:pt x="502" y="39"/>
                    </a:lnTo>
                    <a:lnTo>
                      <a:pt x="563" y="46"/>
                    </a:lnTo>
                    <a:lnTo>
                      <a:pt x="642" y="53"/>
                    </a:lnTo>
                    <a:lnTo>
                      <a:pt x="710" y="60"/>
                    </a:lnTo>
                    <a:lnTo>
                      <a:pt x="899" y="68"/>
                    </a:lnTo>
                    <a:lnTo>
                      <a:pt x="1106" y="71"/>
                    </a:lnTo>
                    <a:lnTo>
                      <a:pt x="1241" y="71"/>
                    </a:lnTo>
                    <a:lnTo>
                      <a:pt x="1347" y="71"/>
                    </a:lnTo>
                    <a:lnTo>
                      <a:pt x="1458" y="67"/>
                    </a:lnTo>
                    <a:lnTo>
                      <a:pt x="1569" y="60"/>
                    </a:lnTo>
                    <a:lnTo>
                      <a:pt x="1731" y="44"/>
                    </a:lnTo>
                    <a:lnTo>
                      <a:pt x="1827" y="34"/>
                    </a:lnTo>
                    <a:lnTo>
                      <a:pt x="1956" y="17"/>
                    </a:lnTo>
                    <a:lnTo>
                      <a:pt x="2009" y="7"/>
                    </a:lnTo>
                    <a:lnTo>
                      <a:pt x="2049" y="0"/>
                    </a:lnTo>
                    <a:lnTo>
                      <a:pt x="2089" y="0"/>
                    </a:lnTo>
                    <a:lnTo>
                      <a:pt x="2129" y="9"/>
                    </a:lnTo>
                    <a:lnTo>
                      <a:pt x="2172" y="26"/>
                    </a:lnTo>
                    <a:lnTo>
                      <a:pt x="2201" y="46"/>
                    </a:lnTo>
                    <a:lnTo>
                      <a:pt x="2230" y="68"/>
                    </a:lnTo>
                    <a:lnTo>
                      <a:pt x="2281" y="139"/>
                    </a:lnTo>
                    <a:lnTo>
                      <a:pt x="2301" y="227"/>
                    </a:lnTo>
                    <a:lnTo>
                      <a:pt x="2286" y="326"/>
                    </a:lnTo>
                    <a:lnTo>
                      <a:pt x="2195" y="444"/>
                    </a:lnTo>
                    <a:lnTo>
                      <a:pt x="1988" y="508"/>
                    </a:lnTo>
                    <a:lnTo>
                      <a:pt x="1368" y="559"/>
                    </a:lnTo>
                    <a:lnTo>
                      <a:pt x="779" y="535"/>
                    </a:lnTo>
                    <a:lnTo>
                      <a:pt x="297" y="467"/>
                    </a:lnTo>
                    <a:lnTo>
                      <a:pt x="95" y="400"/>
                    </a:lnTo>
                    <a:lnTo>
                      <a:pt x="42" y="349"/>
                    </a:lnTo>
                    <a:lnTo>
                      <a:pt x="4" y="258"/>
                    </a:lnTo>
                    <a:lnTo>
                      <a:pt x="0" y="180"/>
                    </a:lnTo>
                    <a:lnTo>
                      <a:pt x="42" y="81"/>
                    </a:lnTo>
                  </a:path>
                </a:pathLst>
              </a:cu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8"/>
              <p:cNvSpPr/>
              <p:nvPr/>
            </p:nvSpPr>
            <p:spPr>
              <a:xfrm>
                <a:off x="2351160" y="4867200"/>
                <a:ext cx="3646440" cy="819000"/>
              </a:xfrm>
              <a:custGeom>
                <a:avLst/>
                <a:gdLst/>
                <a:ahLst/>
                <a:rect l="l" t="t" r="r" b="b"/>
                <a:pathLst>
                  <a:path w="2297" h="516">
                    <a:moveTo>
                      <a:pt x="37" y="35"/>
                    </a:moveTo>
                    <a:lnTo>
                      <a:pt x="65" y="23"/>
                    </a:lnTo>
                    <a:lnTo>
                      <a:pt x="90" y="15"/>
                    </a:lnTo>
                    <a:lnTo>
                      <a:pt x="120" y="9"/>
                    </a:lnTo>
                    <a:lnTo>
                      <a:pt x="152" y="5"/>
                    </a:lnTo>
                    <a:lnTo>
                      <a:pt x="186" y="5"/>
                    </a:lnTo>
                    <a:lnTo>
                      <a:pt x="224" y="10"/>
                    </a:lnTo>
                    <a:lnTo>
                      <a:pt x="264" y="16"/>
                    </a:lnTo>
                    <a:lnTo>
                      <a:pt x="290" y="22"/>
                    </a:lnTo>
                    <a:lnTo>
                      <a:pt x="319" y="27"/>
                    </a:lnTo>
                    <a:lnTo>
                      <a:pt x="346" y="30"/>
                    </a:lnTo>
                    <a:lnTo>
                      <a:pt x="372" y="33"/>
                    </a:lnTo>
                    <a:lnTo>
                      <a:pt x="404" y="38"/>
                    </a:lnTo>
                    <a:lnTo>
                      <a:pt x="433" y="40"/>
                    </a:lnTo>
                    <a:lnTo>
                      <a:pt x="471" y="43"/>
                    </a:lnTo>
                    <a:lnTo>
                      <a:pt x="518" y="47"/>
                    </a:lnTo>
                    <a:lnTo>
                      <a:pt x="559" y="50"/>
                    </a:lnTo>
                    <a:lnTo>
                      <a:pt x="604" y="52"/>
                    </a:lnTo>
                    <a:lnTo>
                      <a:pt x="657" y="55"/>
                    </a:lnTo>
                    <a:lnTo>
                      <a:pt x="706" y="57"/>
                    </a:lnTo>
                    <a:lnTo>
                      <a:pt x="785" y="61"/>
                    </a:lnTo>
                    <a:lnTo>
                      <a:pt x="875" y="64"/>
                    </a:lnTo>
                    <a:lnTo>
                      <a:pt x="957" y="65"/>
                    </a:lnTo>
                    <a:lnTo>
                      <a:pt x="1026" y="65"/>
                    </a:lnTo>
                    <a:lnTo>
                      <a:pt x="1105" y="66"/>
                    </a:lnTo>
                    <a:lnTo>
                      <a:pt x="1191" y="67"/>
                    </a:lnTo>
                    <a:lnTo>
                      <a:pt x="1287" y="67"/>
                    </a:lnTo>
                    <a:lnTo>
                      <a:pt x="1382" y="67"/>
                    </a:lnTo>
                    <a:lnTo>
                      <a:pt x="1436" y="67"/>
                    </a:lnTo>
                    <a:lnTo>
                      <a:pt x="1486" y="66"/>
                    </a:lnTo>
                    <a:lnTo>
                      <a:pt x="1536" y="65"/>
                    </a:lnTo>
                    <a:lnTo>
                      <a:pt x="1584" y="62"/>
                    </a:lnTo>
                    <a:lnTo>
                      <a:pt x="1643" y="57"/>
                    </a:lnTo>
                    <a:lnTo>
                      <a:pt x="1706" y="52"/>
                    </a:lnTo>
                    <a:lnTo>
                      <a:pt x="1781" y="45"/>
                    </a:lnTo>
                    <a:lnTo>
                      <a:pt x="1855" y="38"/>
                    </a:lnTo>
                    <a:lnTo>
                      <a:pt x="1920" y="31"/>
                    </a:lnTo>
                    <a:lnTo>
                      <a:pt x="1975" y="23"/>
                    </a:lnTo>
                    <a:lnTo>
                      <a:pt x="2036" y="13"/>
                    </a:lnTo>
                    <a:lnTo>
                      <a:pt x="2081" y="5"/>
                    </a:lnTo>
                    <a:lnTo>
                      <a:pt x="2106" y="1"/>
                    </a:lnTo>
                    <a:lnTo>
                      <a:pt x="2129" y="0"/>
                    </a:lnTo>
                    <a:lnTo>
                      <a:pt x="2156" y="3"/>
                    </a:lnTo>
                    <a:lnTo>
                      <a:pt x="2180" y="9"/>
                    </a:lnTo>
                    <a:lnTo>
                      <a:pt x="2207" y="20"/>
                    </a:lnTo>
                    <a:lnTo>
                      <a:pt x="2236" y="35"/>
                    </a:lnTo>
                    <a:lnTo>
                      <a:pt x="2276" y="96"/>
                    </a:lnTo>
                    <a:lnTo>
                      <a:pt x="2296" y="184"/>
                    </a:lnTo>
                    <a:lnTo>
                      <a:pt x="2281" y="282"/>
                    </a:lnTo>
                    <a:lnTo>
                      <a:pt x="2191" y="400"/>
                    </a:lnTo>
                    <a:lnTo>
                      <a:pt x="1983" y="464"/>
                    </a:lnTo>
                    <a:lnTo>
                      <a:pt x="1363" y="515"/>
                    </a:lnTo>
                    <a:lnTo>
                      <a:pt x="775" y="491"/>
                    </a:lnTo>
                    <a:lnTo>
                      <a:pt x="293" y="424"/>
                    </a:lnTo>
                    <a:lnTo>
                      <a:pt x="90" y="357"/>
                    </a:lnTo>
                    <a:lnTo>
                      <a:pt x="37" y="306"/>
                    </a:lnTo>
                    <a:lnTo>
                      <a:pt x="0" y="214"/>
                    </a:lnTo>
                    <a:lnTo>
                      <a:pt x="16" y="77"/>
                    </a:lnTo>
                    <a:lnTo>
                      <a:pt x="37" y="35"/>
                    </a:lnTo>
                  </a:path>
                </a:pathLst>
              </a:custGeom>
              <a:solidFill>
                <a:srgbClr val="ff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12"/>
            <p:cNvGrpSpPr/>
            <p:nvPr/>
          </p:nvGrpSpPr>
          <p:grpSpPr>
            <a:xfrm>
              <a:off x="1981080" y="4916520"/>
              <a:ext cx="4368960" cy="804600"/>
              <a:chOff x="1981080" y="4916520"/>
              <a:chExt cx="4368960" cy="804600"/>
            </a:xfrm>
          </p:grpSpPr>
          <p:sp>
            <p:nvSpPr>
              <p:cNvPr id="882" name="Freeform 10"/>
              <p:cNvSpPr/>
              <p:nvPr/>
            </p:nvSpPr>
            <p:spPr>
              <a:xfrm>
                <a:off x="1981080" y="4916520"/>
                <a:ext cx="4368960" cy="804600"/>
              </a:xfrm>
              <a:custGeom>
                <a:avLst/>
                <a:gdLst/>
                <a:ahLst/>
                <a:rect l="l" t="t" r="r" b="b"/>
                <a:pathLst>
                  <a:path w="2752" h="507">
                    <a:moveTo>
                      <a:pt x="292" y="2"/>
                    </a:moveTo>
                    <a:lnTo>
                      <a:pt x="255" y="5"/>
                    </a:lnTo>
                    <a:lnTo>
                      <a:pt x="228" y="9"/>
                    </a:lnTo>
                    <a:lnTo>
                      <a:pt x="196" y="17"/>
                    </a:lnTo>
                    <a:lnTo>
                      <a:pt x="167" y="26"/>
                    </a:lnTo>
                    <a:lnTo>
                      <a:pt x="144" y="34"/>
                    </a:lnTo>
                    <a:lnTo>
                      <a:pt x="122" y="43"/>
                    </a:lnTo>
                    <a:lnTo>
                      <a:pt x="100" y="53"/>
                    </a:lnTo>
                    <a:lnTo>
                      <a:pt x="82" y="65"/>
                    </a:lnTo>
                    <a:lnTo>
                      <a:pt x="64" y="78"/>
                    </a:lnTo>
                    <a:lnTo>
                      <a:pt x="50" y="92"/>
                    </a:lnTo>
                    <a:lnTo>
                      <a:pt x="35" y="108"/>
                    </a:lnTo>
                    <a:lnTo>
                      <a:pt x="21" y="127"/>
                    </a:lnTo>
                    <a:lnTo>
                      <a:pt x="11" y="147"/>
                    </a:lnTo>
                    <a:lnTo>
                      <a:pt x="3" y="171"/>
                    </a:lnTo>
                    <a:lnTo>
                      <a:pt x="0" y="188"/>
                    </a:lnTo>
                    <a:lnTo>
                      <a:pt x="0" y="207"/>
                    </a:lnTo>
                    <a:lnTo>
                      <a:pt x="3" y="227"/>
                    </a:lnTo>
                    <a:lnTo>
                      <a:pt x="8" y="246"/>
                    </a:lnTo>
                    <a:lnTo>
                      <a:pt x="15" y="261"/>
                    </a:lnTo>
                    <a:lnTo>
                      <a:pt x="24" y="277"/>
                    </a:lnTo>
                    <a:lnTo>
                      <a:pt x="39" y="293"/>
                    </a:lnTo>
                    <a:lnTo>
                      <a:pt x="52" y="307"/>
                    </a:lnTo>
                    <a:lnTo>
                      <a:pt x="74" y="324"/>
                    </a:lnTo>
                    <a:lnTo>
                      <a:pt x="93" y="336"/>
                    </a:lnTo>
                    <a:lnTo>
                      <a:pt x="119" y="348"/>
                    </a:lnTo>
                    <a:lnTo>
                      <a:pt x="146" y="357"/>
                    </a:lnTo>
                    <a:lnTo>
                      <a:pt x="189" y="371"/>
                    </a:lnTo>
                    <a:lnTo>
                      <a:pt x="255" y="387"/>
                    </a:lnTo>
                    <a:lnTo>
                      <a:pt x="404" y="421"/>
                    </a:lnTo>
                    <a:lnTo>
                      <a:pt x="553" y="445"/>
                    </a:lnTo>
                    <a:lnTo>
                      <a:pt x="732" y="469"/>
                    </a:lnTo>
                    <a:lnTo>
                      <a:pt x="976" y="492"/>
                    </a:lnTo>
                    <a:lnTo>
                      <a:pt x="1167" y="506"/>
                    </a:lnTo>
                    <a:lnTo>
                      <a:pt x="1475" y="506"/>
                    </a:lnTo>
                    <a:lnTo>
                      <a:pt x="1729" y="499"/>
                    </a:lnTo>
                    <a:lnTo>
                      <a:pt x="2132" y="475"/>
                    </a:lnTo>
                    <a:lnTo>
                      <a:pt x="2313" y="455"/>
                    </a:lnTo>
                    <a:lnTo>
                      <a:pt x="2488" y="417"/>
                    </a:lnTo>
                    <a:lnTo>
                      <a:pt x="2589" y="380"/>
                    </a:lnTo>
                    <a:lnTo>
                      <a:pt x="2623" y="364"/>
                    </a:lnTo>
                    <a:lnTo>
                      <a:pt x="2644" y="351"/>
                    </a:lnTo>
                    <a:lnTo>
                      <a:pt x="2666" y="336"/>
                    </a:lnTo>
                    <a:lnTo>
                      <a:pt x="2687" y="317"/>
                    </a:lnTo>
                    <a:lnTo>
                      <a:pt x="2703" y="300"/>
                    </a:lnTo>
                    <a:lnTo>
                      <a:pt x="2722" y="279"/>
                    </a:lnTo>
                    <a:lnTo>
                      <a:pt x="2738" y="251"/>
                    </a:lnTo>
                    <a:lnTo>
                      <a:pt x="2747" y="224"/>
                    </a:lnTo>
                    <a:lnTo>
                      <a:pt x="2751" y="202"/>
                    </a:lnTo>
                    <a:lnTo>
                      <a:pt x="2751" y="185"/>
                    </a:lnTo>
                    <a:lnTo>
                      <a:pt x="2747" y="162"/>
                    </a:lnTo>
                    <a:lnTo>
                      <a:pt x="2739" y="143"/>
                    </a:lnTo>
                    <a:lnTo>
                      <a:pt x="2727" y="121"/>
                    </a:lnTo>
                    <a:lnTo>
                      <a:pt x="2714" y="104"/>
                    </a:lnTo>
                    <a:lnTo>
                      <a:pt x="2695" y="86"/>
                    </a:lnTo>
                    <a:lnTo>
                      <a:pt x="2671" y="68"/>
                    </a:lnTo>
                    <a:lnTo>
                      <a:pt x="2650" y="55"/>
                    </a:lnTo>
                    <a:lnTo>
                      <a:pt x="2625" y="41"/>
                    </a:lnTo>
                    <a:lnTo>
                      <a:pt x="2597" y="30"/>
                    </a:lnTo>
                    <a:lnTo>
                      <a:pt x="2559" y="19"/>
                    </a:lnTo>
                    <a:lnTo>
                      <a:pt x="2528" y="11"/>
                    </a:lnTo>
                    <a:lnTo>
                      <a:pt x="2486" y="3"/>
                    </a:lnTo>
                    <a:lnTo>
                      <a:pt x="2445" y="0"/>
                    </a:lnTo>
                    <a:lnTo>
                      <a:pt x="2419" y="2"/>
                    </a:lnTo>
                    <a:lnTo>
                      <a:pt x="2393" y="5"/>
                    </a:lnTo>
                    <a:lnTo>
                      <a:pt x="2357" y="12"/>
                    </a:lnTo>
                    <a:lnTo>
                      <a:pt x="2313" y="24"/>
                    </a:lnTo>
                    <a:lnTo>
                      <a:pt x="2273" y="36"/>
                    </a:lnTo>
                    <a:lnTo>
                      <a:pt x="2238" y="46"/>
                    </a:lnTo>
                    <a:lnTo>
                      <a:pt x="2127" y="70"/>
                    </a:lnTo>
                    <a:lnTo>
                      <a:pt x="2087" y="78"/>
                    </a:lnTo>
                    <a:lnTo>
                      <a:pt x="2050" y="85"/>
                    </a:lnTo>
                    <a:lnTo>
                      <a:pt x="1997" y="92"/>
                    </a:lnTo>
                    <a:lnTo>
                      <a:pt x="1924" y="99"/>
                    </a:lnTo>
                    <a:lnTo>
                      <a:pt x="1841" y="104"/>
                    </a:lnTo>
                    <a:lnTo>
                      <a:pt x="1756" y="110"/>
                    </a:lnTo>
                    <a:lnTo>
                      <a:pt x="1626" y="114"/>
                    </a:lnTo>
                    <a:lnTo>
                      <a:pt x="1507" y="116"/>
                    </a:lnTo>
                    <a:lnTo>
                      <a:pt x="1381" y="115"/>
                    </a:lnTo>
                    <a:lnTo>
                      <a:pt x="1248" y="114"/>
                    </a:lnTo>
                    <a:lnTo>
                      <a:pt x="1169" y="111"/>
                    </a:lnTo>
                    <a:lnTo>
                      <a:pt x="1068" y="107"/>
                    </a:lnTo>
                    <a:lnTo>
                      <a:pt x="981" y="104"/>
                    </a:lnTo>
                    <a:lnTo>
                      <a:pt x="924" y="101"/>
                    </a:lnTo>
                    <a:lnTo>
                      <a:pt x="860" y="95"/>
                    </a:lnTo>
                    <a:lnTo>
                      <a:pt x="794" y="90"/>
                    </a:lnTo>
                    <a:lnTo>
                      <a:pt x="728" y="83"/>
                    </a:lnTo>
                    <a:lnTo>
                      <a:pt x="669" y="76"/>
                    </a:lnTo>
                    <a:lnTo>
                      <a:pt x="607" y="65"/>
                    </a:lnTo>
                    <a:lnTo>
                      <a:pt x="544" y="53"/>
                    </a:lnTo>
                    <a:lnTo>
                      <a:pt x="490" y="40"/>
                    </a:lnTo>
                    <a:lnTo>
                      <a:pt x="419" y="19"/>
                    </a:lnTo>
                    <a:lnTo>
                      <a:pt x="369" y="7"/>
                    </a:lnTo>
                    <a:lnTo>
                      <a:pt x="329" y="2"/>
                    </a:lnTo>
                    <a:lnTo>
                      <a:pt x="292" y="2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11"/>
              <p:cNvSpPr/>
              <p:nvPr/>
            </p:nvSpPr>
            <p:spPr>
              <a:xfrm>
                <a:off x="2070000" y="5102280"/>
                <a:ext cx="4183200" cy="618840"/>
              </a:xfrm>
              <a:custGeom>
                <a:avLst/>
                <a:gdLst/>
                <a:ahLst/>
                <a:rect l="l" t="t" r="r" b="b"/>
                <a:pathLst>
                  <a:path w="2635" h="390">
                    <a:moveTo>
                      <a:pt x="257" y="0"/>
                    </a:moveTo>
                    <a:lnTo>
                      <a:pt x="220" y="3"/>
                    </a:lnTo>
                    <a:lnTo>
                      <a:pt x="183" y="10"/>
                    </a:lnTo>
                    <a:lnTo>
                      <a:pt x="149" y="19"/>
                    </a:lnTo>
                    <a:lnTo>
                      <a:pt x="120" y="32"/>
                    </a:lnTo>
                    <a:lnTo>
                      <a:pt x="88" y="47"/>
                    </a:lnTo>
                    <a:lnTo>
                      <a:pt x="56" y="66"/>
                    </a:lnTo>
                    <a:lnTo>
                      <a:pt x="35" y="86"/>
                    </a:lnTo>
                    <a:lnTo>
                      <a:pt x="13" y="107"/>
                    </a:lnTo>
                    <a:lnTo>
                      <a:pt x="5" y="128"/>
                    </a:lnTo>
                    <a:lnTo>
                      <a:pt x="3" y="150"/>
                    </a:lnTo>
                    <a:lnTo>
                      <a:pt x="0" y="170"/>
                    </a:lnTo>
                    <a:lnTo>
                      <a:pt x="5" y="193"/>
                    </a:lnTo>
                    <a:lnTo>
                      <a:pt x="18" y="208"/>
                    </a:lnTo>
                    <a:lnTo>
                      <a:pt x="37" y="219"/>
                    </a:lnTo>
                    <a:lnTo>
                      <a:pt x="63" y="231"/>
                    </a:lnTo>
                    <a:lnTo>
                      <a:pt x="90" y="241"/>
                    </a:lnTo>
                    <a:lnTo>
                      <a:pt x="133" y="254"/>
                    </a:lnTo>
                    <a:lnTo>
                      <a:pt x="199" y="271"/>
                    </a:lnTo>
                    <a:lnTo>
                      <a:pt x="348" y="304"/>
                    </a:lnTo>
                    <a:lnTo>
                      <a:pt x="497" y="328"/>
                    </a:lnTo>
                    <a:lnTo>
                      <a:pt x="676" y="352"/>
                    </a:lnTo>
                    <a:lnTo>
                      <a:pt x="921" y="375"/>
                    </a:lnTo>
                    <a:lnTo>
                      <a:pt x="1111" y="389"/>
                    </a:lnTo>
                    <a:lnTo>
                      <a:pt x="1419" y="389"/>
                    </a:lnTo>
                    <a:lnTo>
                      <a:pt x="1674" y="382"/>
                    </a:lnTo>
                    <a:lnTo>
                      <a:pt x="2076" y="358"/>
                    </a:lnTo>
                    <a:lnTo>
                      <a:pt x="2257" y="338"/>
                    </a:lnTo>
                    <a:lnTo>
                      <a:pt x="2433" y="301"/>
                    </a:lnTo>
                    <a:lnTo>
                      <a:pt x="2533" y="265"/>
                    </a:lnTo>
                    <a:lnTo>
                      <a:pt x="2567" y="248"/>
                    </a:lnTo>
                    <a:lnTo>
                      <a:pt x="2588" y="235"/>
                    </a:lnTo>
                    <a:lnTo>
                      <a:pt x="2610" y="219"/>
                    </a:lnTo>
                    <a:lnTo>
                      <a:pt x="2631" y="201"/>
                    </a:lnTo>
                    <a:lnTo>
                      <a:pt x="2634" y="165"/>
                    </a:lnTo>
                    <a:lnTo>
                      <a:pt x="2634" y="140"/>
                    </a:lnTo>
                    <a:lnTo>
                      <a:pt x="2626" y="116"/>
                    </a:lnTo>
                    <a:lnTo>
                      <a:pt x="2597" y="81"/>
                    </a:lnTo>
                    <a:lnTo>
                      <a:pt x="2570" y="57"/>
                    </a:lnTo>
                    <a:lnTo>
                      <a:pt x="2528" y="35"/>
                    </a:lnTo>
                    <a:lnTo>
                      <a:pt x="2472" y="17"/>
                    </a:lnTo>
                    <a:lnTo>
                      <a:pt x="2433" y="8"/>
                    </a:lnTo>
                    <a:lnTo>
                      <a:pt x="2374" y="2"/>
                    </a:lnTo>
                    <a:lnTo>
                      <a:pt x="2326" y="0"/>
                    </a:lnTo>
                    <a:lnTo>
                      <a:pt x="2270" y="5"/>
                    </a:lnTo>
                    <a:lnTo>
                      <a:pt x="2220" y="15"/>
                    </a:lnTo>
                    <a:lnTo>
                      <a:pt x="2159" y="32"/>
                    </a:lnTo>
                    <a:lnTo>
                      <a:pt x="2087" y="44"/>
                    </a:lnTo>
                    <a:lnTo>
                      <a:pt x="2012" y="55"/>
                    </a:lnTo>
                    <a:lnTo>
                      <a:pt x="1905" y="69"/>
                    </a:lnTo>
                    <a:lnTo>
                      <a:pt x="1809" y="77"/>
                    </a:lnTo>
                    <a:lnTo>
                      <a:pt x="1695" y="84"/>
                    </a:lnTo>
                    <a:lnTo>
                      <a:pt x="1572" y="93"/>
                    </a:lnTo>
                    <a:lnTo>
                      <a:pt x="1432" y="94"/>
                    </a:lnTo>
                    <a:lnTo>
                      <a:pt x="1311" y="96"/>
                    </a:lnTo>
                    <a:lnTo>
                      <a:pt x="1212" y="96"/>
                    </a:lnTo>
                    <a:lnTo>
                      <a:pt x="1103" y="91"/>
                    </a:lnTo>
                    <a:lnTo>
                      <a:pt x="1022" y="89"/>
                    </a:lnTo>
                    <a:lnTo>
                      <a:pt x="958" y="86"/>
                    </a:lnTo>
                    <a:lnTo>
                      <a:pt x="891" y="83"/>
                    </a:lnTo>
                    <a:lnTo>
                      <a:pt x="822" y="76"/>
                    </a:lnTo>
                    <a:lnTo>
                      <a:pt x="745" y="69"/>
                    </a:lnTo>
                    <a:lnTo>
                      <a:pt x="665" y="60"/>
                    </a:lnTo>
                    <a:lnTo>
                      <a:pt x="608" y="52"/>
                    </a:lnTo>
                    <a:lnTo>
                      <a:pt x="550" y="44"/>
                    </a:lnTo>
                    <a:lnTo>
                      <a:pt x="491" y="33"/>
                    </a:lnTo>
                    <a:lnTo>
                      <a:pt x="443" y="23"/>
                    </a:lnTo>
                    <a:lnTo>
                      <a:pt x="393" y="10"/>
                    </a:lnTo>
                    <a:lnTo>
                      <a:pt x="340" y="3"/>
                    </a:lnTo>
                    <a:lnTo>
                      <a:pt x="292" y="0"/>
                    </a:lnTo>
                    <a:lnTo>
                      <a:pt x="257" y="0"/>
                    </a:lnTo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16"/>
            <p:cNvGrpSpPr/>
            <p:nvPr/>
          </p:nvGrpSpPr>
          <p:grpSpPr>
            <a:xfrm>
              <a:off x="2050920" y="5184720"/>
              <a:ext cx="4240440" cy="952560"/>
              <a:chOff x="2050920" y="5184720"/>
              <a:chExt cx="4240440" cy="952560"/>
            </a:xfrm>
          </p:grpSpPr>
          <p:sp>
            <p:nvSpPr>
              <p:cNvPr id="885" name="Freeform 13"/>
              <p:cNvSpPr/>
              <p:nvPr/>
            </p:nvSpPr>
            <p:spPr>
              <a:xfrm>
                <a:off x="2050920" y="5184720"/>
                <a:ext cx="4240440" cy="952560"/>
              </a:xfrm>
              <a:custGeom>
                <a:avLst/>
                <a:gdLst/>
                <a:ahLst/>
                <a:rect l="l" t="t" r="r" b="b"/>
                <a:pathLst>
                  <a:path w="2671" h="600">
                    <a:moveTo>
                      <a:pt x="292" y="0"/>
                    </a:moveTo>
                    <a:lnTo>
                      <a:pt x="261" y="2"/>
                    </a:lnTo>
                    <a:lnTo>
                      <a:pt x="231" y="5"/>
                    </a:lnTo>
                    <a:lnTo>
                      <a:pt x="189" y="14"/>
                    </a:lnTo>
                    <a:lnTo>
                      <a:pt x="155" y="29"/>
                    </a:lnTo>
                    <a:lnTo>
                      <a:pt x="128" y="45"/>
                    </a:lnTo>
                    <a:lnTo>
                      <a:pt x="104" y="60"/>
                    </a:lnTo>
                    <a:lnTo>
                      <a:pt x="80" y="80"/>
                    </a:lnTo>
                    <a:lnTo>
                      <a:pt x="60" y="100"/>
                    </a:lnTo>
                    <a:lnTo>
                      <a:pt x="43" y="119"/>
                    </a:lnTo>
                    <a:lnTo>
                      <a:pt x="31" y="137"/>
                    </a:lnTo>
                    <a:lnTo>
                      <a:pt x="23" y="152"/>
                    </a:lnTo>
                    <a:lnTo>
                      <a:pt x="9" y="192"/>
                    </a:lnTo>
                    <a:lnTo>
                      <a:pt x="5" y="216"/>
                    </a:lnTo>
                    <a:lnTo>
                      <a:pt x="1" y="241"/>
                    </a:lnTo>
                    <a:lnTo>
                      <a:pt x="0" y="270"/>
                    </a:lnTo>
                    <a:lnTo>
                      <a:pt x="1" y="297"/>
                    </a:lnTo>
                    <a:lnTo>
                      <a:pt x="4" y="325"/>
                    </a:lnTo>
                    <a:lnTo>
                      <a:pt x="11" y="346"/>
                    </a:lnTo>
                    <a:lnTo>
                      <a:pt x="19" y="363"/>
                    </a:lnTo>
                    <a:lnTo>
                      <a:pt x="32" y="387"/>
                    </a:lnTo>
                    <a:lnTo>
                      <a:pt x="48" y="408"/>
                    </a:lnTo>
                    <a:lnTo>
                      <a:pt x="62" y="426"/>
                    </a:lnTo>
                    <a:lnTo>
                      <a:pt x="80" y="441"/>
                    </a:lnTo>
                    <a:lnTo>
                      <a:pt x="107" y="459"/>
                    </a:lnTo>
                    <a:lnTo>
                      <a:pt x="132" y="473"/>
                    </a:lnTo>
                    <a:lnTo>
                      <a:pt x="168" y="486"/>
                    </a:lnTo>
                    <a:lnTo>
                      <a:pt x="203" y="497"/>
                    </a:lnTo>
                    <a:lnTo>
                      <a:pt x="239" y="506"/>
                    </a:lnTo>
                    <a:lnTo>
                      <a:pt x="277" y="514"/>
                    </a:lnTo>
                    <a:lnTo>
                      <a:pt x="334" y="526"/>
                    </a:lnTo>
                    <a:lnTo>
                      <a:pt x="408" y="538"/>
                    </a:lnTo>
                    <a:lnTo>
                      <a:pt x="483" y="549"/>
                    </a:lnTo>
                    <a:lnTo>
                      <a:pt x="544" y="556"/>
                    </a:lnTo>
                    <a:lnTo>
                      <a:pt x="599" y="563"/>
                    </a:lnTo>
                    <a:lnTo>
                      <a:pt x="655" y="570"/>
                    </a:lnTo>
                    <a:lnTo>
                      <a:pt x="711" y="575"/>
                    </a:lnTo>
                    <a:lnTo>
                      <a:pt x="794" y="582"/>
                    </a:lnTo>
                    <a:lnTo>
                      <a:pt x="874" y="587"/>
                    </a:lnTo>
                    <a:lnTo>
                      <a:pt x="970" y="591"/>
                    </a:lnTo>
                    <a:lnTo>
                      <a:pt x="1064" y="594"/>
                    </a:lnTo>
                    <a:lnTo>
                      <a:pt x="1156" y="597"/>
                    </a:lnTo>
                    <a:lnTo>
                      <a:pt x="1260" y="598"/>
                    </a:lnTo>
                    <a:lnTo>
                      <a:pt x="1355" y="599"/>
                    </a:lnTo>
                    <a:lnTo>
                      <a:pt x="1457" y="598"/>
                    </a:lnTo>
                    <a:lnTo>
                      <a:pt x="1557" y="597"/>
                    </a:lnTo>
                    <a:lnTo>
                      <a:pt x="1664" y="593"/>
                    </a:lnTo>
                    <a:lnTo>
                      <a:pt x="1741" y="589"/>
                    </a:lnTo>
                    <a:lnTo>
                      <a:pt x="1813" y="586"/>
                    </a:lnTo>
                    <a:lnTo>
                      <a:pt x="1903" y="581"/>
                    </a:lnTo>
                    <a:lnTo>
                      <a:pt x="1975" y="575"/>
                    </a:lnTo>
                    <a:lnTo>
                      <a:pt x="2041" y="568"/>
                    </a:lnTo>
                    <a:lnTo>
                      <a:pt x="2109" y="560"/>
                    </a:lnTo>
                    <a:lnTo>
                      <a:pt x="2212" y="547"/>
                    </a:lnTo>
                    <a:lnTo>
                      <a:pt x="2284" y="536"/>
                    </a:lnTo>
                    <a:lnTo>
                      <a:pt x="2351" y="526"/>
                    </a:lnTo>
                    <a:lnTo>
                      <a:pt x="2409" y="514"/>
                    </a:lnTo>
                    <a:lnTo>
                      <a:pt x="2460" y="502"/>
                    </a:lnTo>
                    <a:lnTo>
                      <a:pt x="2499" y="490"/>
                    </a:lnTo>
                    <a:lnTo>
                      <a:pt x="2537" y="475"/>
                    </a:lnTo>
                    <a:lnTo>
                      <a:pt x="2569" y="456"/>
                    </a:lnTo>
                    <a:lnTo>
                      <a:pt x="2595" y="437"/>
                    </a:lnTo>
                    <a:lnTo>
                      <a:pt x="2618" y="418"/>
                    </a:lnTo>
                    <a:lnTo>
                      <a:pt x="2634" y="401"/>
                    </a:lnTo>
                    <a:lnTo>
                      <a:pt x="2646" y="382"/>
                    </a:lnTo>
                    <a:lnTo>
                      <a:pt x="2657" y="363"/>
                    </a:lnTo>
                    <a:lnTo>
                      <a:pt x="2665" y="338"/>
                    </a:lnTo>
                    <a:lnTo>
                      <a:pt x="2668" y="320"/>
                    </a:lnTo>
                    <a:lnTo>
                      <a:pt x="2670" y="289"/>
                    </a:lnTo>
                    <a:lnTo>
                      <a:pt x="2668" y="257"/>
                    </a:lnTo>
                    <a:lnTo>
                      <a:pt x="2667" y="232"/>
                    </a:lnTo>
                    <a:lnTo>
                      <a:pt x="2662" y="192"/>
                    </a:lnTo>
                    <a:lnTo>
                      <a:pt x="2655" y="169"/>
                    </a:lnTo>
                    <a:lnTo>
                      <a:pt x="2644" y="148"/>
                    </a:lnTo>
                    <a:lnTo>
                      <a:pt x="2626" y="120"/>
                    </a:lnTo>
                    <a:lnTo>
                      <a:pt x="2609" y="97"/>
                    </a:lnTo>
                    <a:lnTo>
                      <a:pt x="2590" y="80"/>
                    </a:lnTo>
                    <a:lnTo>
                      <a:pt x="2559" y="55"/>
                    </a:lnTo>
                    <a:lnTo>
                      <a:pt x="2532" y="40"/>
                    </a:lnTo>
                    <a:lnTo>
                      <a:pt x="2503" y="26"/>
                    </a:lnTo>
                    <a:lnTo>
                      <a:pt x="2466" y="12"/>
                    </a:lnTo>
                    <a:lnTo>
                      <a:pt x="2429" y="3"/>
                    </a:lnTo>
                    <a:lnTo>
                      <a:pt x="2388" y="0"/>
                    </a:lnTo>
                    <a:lnTo>
                      <a:pt x="2361" y="0"/>
                    </a:lnTo>
                    <a:lnTo>
                      <a:pt x="2336" y="4"/>
                    </a:lnTo>
                    <a:lnTo>
                      <a:pt x="2290" y="12"/>
                    </a:lnTo>
                    <a:lnTo>
                      <a:pt x="2250" y="18"/>
                    </a:lnTo>
                    <a:lnTo>
                      <a:pt x="2197" y="26"/>
                    </a:lnTo>
                    <a:lnTo>
                      <a:pt x="2151" y="31"/>
                    </a:lnTo>
                    <a:lnTo>
                      <a:pt x="2066" y="40"/>
                    </a:lnTo>
                    <a:lnTo>
                      <a:pt x="1984" y="46"/>
                    </a:lnTo>
                    <a:lnTo>
                      <a:pt x="1901" y="54"/>
                    </a:lnTo>
                    <a:lnTo>
                      <a:pt x="1830" y="58"/>
                    </a:lnTo>
                    <a:lnTo>
                      <a:pt x="1769" y="62"/>
                    </a:lnTo>
                    <a:lnTo>
                      <a:pt x="1710" y="65"/>
                    </a:lnTo>
                    <a:lnTo>
                      <a:pt x="1629" y="69"/>
                    </a:lnTo>
                    <a:lnTo>
                      <a:pt x="1564" y="71"/>
                    </a:lnTo>
                    <a:lnTo>
                      <a:pt x="1476" y="72"/>
                    </a:lnTo>
                    <a:lnTo>
                      <a:pt x="1350" y="73"/>
                    </a:lnTo>
                    <a:lnTo>
                      <a:pt x="1264" y="72"/>
                    </a:lnTo>
                    <a:lnTo>
                      <a:pt x="1149" y="72"/>
                    </a:lnTo>
                    <a:lnTo>
                      <a:pt x="1069" y="69"/>
                    </a:lnTo>
                    <a:lnTo>
                      <a:pt x="991" y="66"/>
                    </a:lnTo>
                    <a:lnTo>
                      <a:pt x="921" y="62"/>
                    </a:lnTo>
                    <a:lnTo>
                      <a:pt x="838" y="58"/>
                    </a:lnTo>
                    <a:lnTo>
                      <a:pt x="771" y="54"/>
                    </a:lnTo>
                    <a:lnTo>
                      <a:pt x="716" y="50"/>
                    </a:lnTo>
                    <a:lnTo>
                      <a:pt x="654" y="45"/>
                    </a:lnTo>
                    <a:lnTo>
                      <a:pt x="573" y="37"/>
                    </a:lnTo>
                    <a:lnTo>
                      <a:pt x="501" y="29"/>
                    </a:lnTo>
                    <a:lnTo>
                      <a:pt x="454" y="24"/>
                    </a:lnTo>
                    <a:lnTo>
                      <a:pt x="415" y="17"/>
                    </a:lnTo>
                    <a:lnTo>
                      <a:pt x="381" y="10"/>
                    </a:lnTo>
                    <a:lnTo>
                      <a:pt x="354" y="5"/>
                    </a:lnTo>
                    <a:lnTo>
                      <a:pt x="318" y="1"/>
                    </a:lnTo>
                    <a:lnTo>
                      <a:pt x="292" y="0"/>
                    </a:lnTo>
                  </a:path>
                </a:pathLst>
              </a:custGeom>
              <a:solidFill>
                <a:srgbClr val="ffa040"/>
              </a:solidFill>
              <a:ln cap="rnd" w="12600">
                <a:solidFill>
                  <a:srgbClr val="ffa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4"/>
              <p:cNvSpPr/>
              <p:nvPr/>
            </p:nvSpPr>
            <p:spPr>
              <a:xfrm>
                <a:off x="2052720" y="5186160"/>
                <a:ext cx="4235400" cy="417600"/>
              </a:xfrm>
              <a:custGeom>
                <a:avLst/>
                <a:gdLst/>
                <a:ahLst/>
                <a:rect l="l" t="t" r="r" b="b"/>
                <a:pathLst>
                  <a:path w="2668" h="263">
                    <a:moveTo>
                      <a:pt x="291" y="0"/>
                    </a:moveTo>
                    <a:lnTo>
                      <a:pt x="260" y="2"/>
                    </a:lnTo>
                    <a:lnTo>
                      <a:pt x="230" y="5"/>
                    </a:lnTo>
                    <a:lnTo>
                      <a:pt x="189" y="14"/>
                    </a:lnTo>
                    <a:lnTo>
                      <a:pt x="154" y="29"/>
                    </a:lnTo>
                    <a:lnTo>
                      <a:pt x="127" y="45"/>
                    </a:lnTo>
                    <a:lnTo>
                      <a:pt x="103" y="60"/>
                    </a:lnTo>
                    <a:lnTo>
                      <a:pt x="79" y="80"/>
                    </a:lnTo>
                    <a:lnTo>
                      <a:pt x="60" y="100"/>
                    </a:lnTo>
                    <a:lnTo>
                      <a:pt x="42" y="118"/>
                    </a:lnTo>
                    <a:lnTo>
                      <a:pt x="30" y="137"/>
                    </a:lnTo>
                    <a:lnTo>
                      <a:pt x="22" y="152"/>
                    </a:lnTo>
                    <a:lnTo>
                      <a:pt x="8" y="192"/>
                    </a:lnTo>
                    <a:lnTo>
                      <a:pt x="4" y="215"/>
                    </a:lnTo>
                    <a:lnTo>
                      <a:pt x="0" y="241"/>
                    </a:lnTo>
                    <a:lnTo>
                      <a:pt x="0" y="262"/>
                    </a:lnTo>
                    <a:lnTo>
                      <a:pt x="7" y="236"/>
                    </a:lnTo>
                    <a:lnTo>
                      <a:pt x="16" y="218"/>
                    </a:lnTo>
                    <a:lnTo>
                      <a:pt x="24" y="205"/>
                    </a:lnTo>
                    <a:lnTo>
                      <a:pt x="39" y="184"/>
                    </a:lnTo>
                    <a:lnTo>
                      <a:pt x="56" y="164"/>
                    </a:lnTo>
                    <a:lnTo>
                      <a:pt x="74" y="147"/>
                    </a:lnTo>
                    <a:lnTo>
                      <a:pt x="95" y="132"/>
                    </a:lnTo>
                    <a:lnTo>
                      <a:pt x="111" y="122"/>
                    </a:lnTo>
                    <a:lnTo>
                      <a:pt x="133" y="110"/>
                    </a:lnTo>
                    <a:lnTo>
                      <a:pt x="157" y="99"/>
                    </a:lnTo>
                    <a:lnTo>
                      <a:pt x="181" y="91"/>
                    </a:lnTo>
                    <a:lnTo>
                      <a:pt x="210" y="84"/>
                    </a:lnTo>
                    <a:lnTo>
                      <a:pt x="239" y="77"/>
                    </a:lnTo>
                    <a:lnTo>
                      <a:pt x="270" y="75"/>
                    </a:lnTo>
                    <a:lnTo>
                      <a:pt x="300" y="75"/>
                    </a:lnTo>
                    <a:lnTo>
                      <a:pt x="327" y="76"/>
                    </a:lnTo>
                    <a:lnTo>
                      <a:pt x="393" y="87"/>
                    </a:lnTo>
                    <a:lnTo>
                      <a:pt x="435" y="94"/>
                    </a:lnTo>
                    <a:lnTo>
                      <a:pt x="486" y="100"/>
                    </a:lnTo>
                    <a:lnTo>
                      <a:pt x="536" y="106"/>
                    </a:lnTo>
                    <a:lnTo>
                      <a:pt x="595" y="110"/>
                    </a:lnTo>
                    <a:lnTo>
                      <a:pt x="658" y="114"/>
                    </a:lnTo>
                    <a:lnTo>
                      <a:pt x="717" y="119"/>
                    </a:lnTo>
                    <a:lnTo>
                      <a:pt x="791" y="123"/>
                    </a:lnTo>
                    <a:lnTo>
                      <a:pt x="871" y="127"/>
                    </a:lnTo>
                    <a:lnTo>
                      <a:pt x="977" y="130"/>
                    </a:lnTo>
                    <a:lnTo>
                      <a:pt x="1069" y="133"/>
                    </a:lnTo>
                    <a:lnTo>
                      <a:pt x="1129" y="134"/>
                    </a:lnTo>
                    <a:lnTo>
                      <a:pt x="1222" y="135"/>
                    </a:lnTo>
                    <a:lnTo>
                      <a:pt x="1278" y="136"/>
                    </a:lnTo>
                    <a:lnTo>
                      <a:pt x="1352" y="137"/>
                    </a:lnTo>
                    <a:lnTo>
                      <a:pt x="1414" y="137"/>
                    </a:lnTo>
                    <a:lnTo>
                      <a:pt x="1483" y="136"/>
                    </a:lnTo>
                    <a:lnTo>
                      <a:pt x="1580" y="134"/>
                    </a:lnTo>
                    <a:lnTo>
                      <a:pt x="1655" y="132"/>
                    </a:lnTo>
                    <a:lnTo>
                      <a:pt x="1726" y="129"/>
                    </a:lnTo>
                    <a:lnTo>
                      <a:pt x="1780" y="128"/>
                    </a:lnTo>
                    <a:lnTo>
                      <a:pt x="1839" y="124"/>
                    </a:lnTo>
                    <a:lnTo>
                      <a:pt x="1892" y="121"/>
                    </a:lnTo>
                    <a:lnTo>
                      <a:pt x="1940" y="119"/>
                    </a:lnTo>
                    <a:lnTo>
                      <a:pt x="2011" y="114"/>
                    </a:lnTo>
                    <a:lnTo>
                      <a:pt x="2056" y="110"/>
                    </a:lnTo>
                    <a:lnTo>
                      <a:pt x="2106" y="106"/>
                    </a:lnTo>
                    <a:lnTo>
                      <a:pt x="2149" y="102"/>
                    </a:lnTo>
                    <a:lnTo>
                      <a:pt x="2179" y="100"/>
                    </a:lnTo>
                    <a:lnTo>
                      <a:pt x="2218" y="96"/>
                    </a:lnTo>
                    <a:lnTo>
                      <a:pt x="2261" y="89"/>
                    </a:lnTo>
                    <a:lnTo>
                      <a:pt x="2293" y="85"/>
                    </a:lnTo>
                    <a:lnTo>
                      <a:pt x="2320" y="80"/>
                    </a:lnTo>
                    <a:lnTo>
                      <a:pt x="2351" y="77"/>
                    </a:lnTo>
                    <a:lnTo>
                      <a:pt x="2382" y="76"/>
                    </a:lnTo>
                    <a:lnTo>
                      <a:pt x="2413" y="77"/>
                    </a:lnTo>
                    <a:lnTo>
                      <a:pt x="2447" y="81"/>
                    </a:lnTo>
                    <a:lnTo>
                      <a:pt x="2484" y="90"/>
                    </a:lnTo>
                    <a:lnTo>
                      <a:pt x="2509" y="99"/>
                    </a:lnTo>
                    <a:lnTo>
                      <a:pt x="2535" y="109"/>
                    </a:lnTo>
                    <a:lnTo>
                      <a:pt x="2564" y="124"/>
                    </a:lnTo>
                    <a:lnTo>
                      <a:pt x="2588" y="140"/>
                    </a:lnTo>
                    <a:lnTo>
                      <a:pt x="2607" y="157"/>
                    </a:lnTo>
                    <a:lnTo>
                      <a:pt x="2626" y="180"/>
                    </a:lnTo>
                    <a:lnTo>
                      <a:pt x="2641" y="201"/>
                    </a:lnTo>
                    <a:lnTo>
                      <a:pt x="2653" y="225"/>
                    </a:lnTo>
                    <a:lnTo>
                      <a:pt x="2667" y="256"/>
                    </a:lnTo>
                    <a:lnTo>
                      <a:pt x="2666" y="231"/>
                    </a:lnTo>
                    <a:lnTo>
                      <a:pt x="2661" y="192"/>
                    </a:lnTo>
                    <a:lnTo>
                      <a:pt x="2654" y="168"/>
                    </a:lnTo>
                    <a:lnTo>
                      <a:pt x="2643" y="148"/>
                    </a:lnTo>
                    <a:lnTo>
                      <a:pt x="2624" y="120"/>
                    </a:lnTo>
                    <a:lnTo>
                      <a:pt x="2607" y="97"/>
                    </a:lnTo>
                    <a:lnTo>
                      <a:pt x="2589" y="80"/>
                    </a:lnTo>
                    <a:lnTo>
                      <a:pt x="2558" y="55"/>
                    </a:lnTo>
                    <a:lnTo>
                      <a:pt x="2531" y="39"/>
                    </a:lnTo>
                    <a:lnTo>
                      <a:pt x="2502" y="26"/>
                    </a:lnTo>
                    <a:lnTo>
                      <a:pt x="2465" y="12"/>
                    </a:lnTo>
                    <a:lnTo>
                      <a:pt x="2428" y="3"/>
                    </a:lnTo>
                    <a:lnTo>
                      <a:pt x="2387" y="0"/>
                    </a:lnTo>
                    <a:lnTo>
                      <a:pt x="2360" y="0"/>
                    </a:lnTo>
                    <a:lnTo>
                      <a:pt x="2334" y="4"/>
                    </a:lnTo>
                    <a:lnTo>
                      <a:pt x="2289" y="12"/>
                    </a:lnTo>
                    <a:lnTo>
                      <a:pt x="2249" y="18"/>
                    </a:lnTo>
                    <a:lnTo>
                      <a:pt x="2196" y="26"/>
                    </a:lnTo>
                    <a:lnTo>
                      <a:pt x="2149" y="31"/>
                    </a:lnTo>
                    <a:lnTo>
                      <a:pt x="2112" y="34"/>
                    </a:lnTo>
                    <a:lnTo>
                      <a:pt x="2065" y="39"/>
                    </a:lnTo>
                    <a:lnTo>
                      <a:pt x="1983" y="46"/>
                    </a:lnTo>
                    <a:lnTo>
                      <a:pt x="1900" y="54"/>
                    </a:lnTo>
                    <a:lnTo>
                      <a:pt x="1829" y="58"/>
                    </a:lnTo>
                    <a:lnTo>
                      <a:pt x="1768" y="62"/>
                    </a:lnTo>
                    <a:lnTo>
                      <a:pt x="1709" y="65"/>
                    </a:lnTo>
                    <a:lnTo>
                      <a:pt x="1628" y="69"/>
                    </a:lnTo>
                    <a:lnTo>
                      <a:pt x="1562" y="70"/>
                    </a:lnTo>
                    <a:lnTo>
                      <a:pt x="1475" y="72"/>
                    </a:lnTo>
                    <a:lnTo>
                      <a:pt x="1349" y="73"/>
                    </a:lnTo>
                    <a:lnTo>
                      <a:pt x="1263" y="72"/>
                    </a:lnTo>
                    <a:lnTo>
                      <a:pt x="1148" y="72"/>
                    </a:lnTo>
                    <a:lnTo>
                      <a:pt x="1068" y="69"/>
                    </a:lnTo>
                    <a:lnTo>
                      <a:pt x="990" y="66"/>
                    </a:lnTo>
                    <a:lnTo>
                      <a:pt x="920" y="62"/>
                    </a:lnTo>
                    <a:lnTo>
                      <a:pt x="837" y="58"/>
                    </a:lnTo>
                    <a:lnTo>
                      <a:pt x="770" y="54"/>
                    </a:lnTo>
                    <a:lnTo>
                      <a:pt x="715" y="50"/>
                    </a:lnTo>
                    <a:lnTo>
                      <a:pt x="653" y="45"/>
                    </a:lnTo>
                    <a:lnTo>
                      <a:pt x="572" y="37"/>
                    </a:lnTo>
                    <a:lnTo>
                      <a:pt x="500" y="29"/>
                    </a:lnTo>
                    <a:lnTo>
                      <a:pt x="454" y="24"/>
                    </a:lnTo>
                    <a:lnTo>
                      <a:pt x="414" y="17"/>
                    </a:lnTo>
                    <a:lnTo>
                      <a:pt x="388" y="12"/>
                    </a:lnTo>
                    <a:lnTo>
                      <a:pt x="352" y="4"/>
                    </a:lnTo>
                    <a:lnTo>
                      <a:pt x="317" y="1"/>
                    </a:lnTo>
                    <a:lnTo>
                      <a:pt x="291" y="0"/>
                    </a:lnTo>
                  </a:path>
                </a:pathLst>
              </a:custGeom>
              <a:solidFill>
                <a:srgbClr val="ffc080"/>
              </a:solidFill>
              <a:ln cap="rnd" w="12600">
                <a:solidFill>
                  <a:srgbClr val="ffa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5"/>
              <p:cNvSpPr/>
              <p:nvPr/>
            </p:nvSpPr>
            <p:spPr>
              <a:xfrm>
                <a:off x="2523960" y="5656320"/>
                <a:ext cx="3297240" cy="465120"/>
              </a:xfrm>
              <a:custGeom>
                <a:avLst/>
                <a:gdLst/>
                <a:ahLst/>
                <a:rect l="l" t="t" r="r" b="b"/>
                <a:pathLst>
                  <a:path w="2077" h="293">
                    <a:moveTo>
                      <a:pt x="197" y="2"/>
                    </a:moveTo>
                    <a:lnTo>
                      <a:pt x="325" y="9"/>
                    </a:lnTo>
                    <a:lnTo>
                      <a:pt x="473" y="19"/>
                    </a:lnTo>
                    <a:lnTo>
                      <a:pt x="633" y="26"/>
                    </a:lnTo>
                    <a:lnTo>
                      <a:pt x="819" y="29"/>
                    </a:lnTo>
                    <a:lnTo>
                      <a:pt x="1117" y="33"/>
                    </a:lnTo>
                    <a:lnTo>
                      <a:pt x="1227" y="34"/>
                    </a:lnTo>
                    <a:lnTo>
                      <a:pt x="1316" y="32"/>
                    </a:lnTo>
                    <a:lnTo>
                      <a:pt x="1388" y="29"/>
                    </a:lnTo>
                    <a:lnTo>
                      <a:pt x="1448" y="27"/>
                    </a:lnTo>
                    <a:lnTo>
                      <a:pt x="1509" y="25"/>
                    </a:lnTo>
                    <a:lnTo>
                      <a:pt x="1581" y="22"/>
                    </a:lnTo>
                    <a:lnTo>
                      <a:pt x="1646" y="17"/>
                    </a:lnTo>
                    <a:lnTo>
                      <a:pt x="1699" y="13"/>
                    </a:lnTo>
                    <a:lnTo>
                      <a:pt x="1750" y="9"/>
                    </a:lnTo>
                    <a:lnTo>
                      <a:pt x="1802" y="3"/>
                    </a:lnTo>
                    <a:lnTo>
                      <a:pt x="1852" y="0"/>
                    </a:lnTo>
                    <a:lnTo>
                      <a:pt x="1901" y="1"/>
                    </a:lnTo>
                    <a:lnTo>
                      <a:pt x="1948" y="6"/>
                    </a:lnTo>
                    <a:lnTo>
                      <a:pt x="1981" y="15"/>
                    </a:lnTo>
                    <a:lnTo>
                      <a:pt x="2012" y="29"/>
                    </a:lnTo>
                    <a:lnTo>
                      <a:pt x="2036" y="44"/>
                    </a:lnTo>
                    <a:lnTo>
                      <a:pt x="2056" y="63"/>
                    </a:lnTo>
                    <a:lnTo>
                      <a:pt x="2069" y="84"/>
                    </a:lnTo>
                    <a:lnTo>
                      <a:pt x="2076" y="107"/>
                    </a:lnTo>
                    <a:lnTo>
                      <a:pt x="2076" y="133"/>
                    </a:lnTo>
                    <a:lnTo>
                      <a:pt x="2065" y="163"/>
                    </a:lnTo>
                    <a:lnTo>
                      <a:pt x="2052" y="181"/>
                    </a:lnTo>
                    <a:lnTo>
                      <a:pt x="2028" y="198"/>
                    </a:lnTo>
                    <a:lnTo>
                      <a:pt x="2000" y="211"/>
                    </a:lnTo>
                    <a:lnTo>
                      <a:pt x="1975" y="222"/>
                    </a:lnTo>
                    <a:lnTo>
                      <a:pt x="1927" y="237"/>
                    </a:lnTo>
                    <a:lnTo>
                      <a:pt x="1839" y="252"/>
                    </a:lnTo>
                    <a:lnTo>
                      <a:pt x="1780" y="259"/>
                    </a:lnTo>
                    <a:lnTo>
                      <a:pt x="1695" y="267"/>
                    </a:lnTo>
                    <a:lnTo>
                      <a:pt x="1615" y="274"/>
                    </a:lnTo>
                    <a:lnTo>
                      <a:pt x="1538" y="280"/>
                    </a:lnTo>
                    <a:lnTo>
                      <a:pt x="1464" y="283"/>
                    </a:lnTo>
                    <a:lnTo>
                      <a:pt x="1411" y="286"/>
                    </a:lnTo>
                    <a:lnTo>
                      <a:pt x="1347" y="289"/>
                    </a:lnTo>
                    <a:lnTo>
                      <a:pt x="1281" y="290"/>
                    </a:lnTo>
                    <a:lnTo>
                      <a:pt x="1209" y="292"/>
                    </a:lnTo>
                    <a:lnTo>
                      <a:pt x="1134" y="291"/>
                    </a:lnTo>
                    <a:lnTo>
                      <a:pt x="1068" y="291"/>
                    </a:lnTo>
                    <a:lnTo>
                      <a:pt x="999" y="291"/>
                    </a:lnTo>
                    <a:lnTo>
                      <a:pt x="804" y="289"/>
                    </a:lnTo>
                    <a:lnTo>
                      <a:pt x="744" y="286"/>
                    </a:lnTo>
                    <a:lnTo>
                      <a:pt x="712" y="285"/>
                    </a:lnTo>
                    <a:lnTo>
                      <a:pt x="667" y="283"/>
                    </a:lnTo>
                    <a:lnTo>
                      <a:pt x="631" y="282"/>
                    </a:lnTo>
                    <a:lnTo>
                      <a:pt x="588" y="279"/>
                    </a:lnTo>
                    <a:lnTo>
                      <a:pt x="545" y="278"/>
                    </a:lnTo>
                    <a:lnTo>
                      <a:pt x="507" y="277"/>
                    </a:lnTo>
                    <a:lnTo>
                      <a:pt x="462" y="273"/>
                    </a:lnTo>
                    <a:lnTo>
                      <a:pt x="417" y="269"/>
                    </a:lnTo>
                    <a:lnTo>
                      <a:pt x="374" y="265"/>
                    </a:lnTo>
                    <a:lnTo>
                      <a:pt x="324" y="259"/>
                    </a:lnTo>
                    <a:lnTo>
                      <a:pt x="221" y="244"/>
                    </a:lnTo>
                    <a:lnTo>
                      <a:pt x="187" y="239"/>
                    </a:lnTo>
                    <a:lnTo>
                      <a:pt x="157" y="234"/>
                    </a:lnTo>
                    <a:lnTo>
                      <a:pt x="131" y="229"/>
                    </a:lnTo>
                    <a:lnTo>
                      <a:pt x="101" y="222"/>
                    </a:lnTo>
                    <a:lnTo>
                      <a:pt x="72" y="211"/>
                    </a:lnTo>
                    <a:lnTo>
                      <a:pt x="45" y="197"/>
                    </a:lnTo>
                    <a:lnTo>
                      <a:pt x="24" y="179"/>
                    </a:lnTo>
                    <a:lnTo>
                      <a:pt x="12" y="163"/>
                    </a:lnTo>
                    <a:lnTo>
                      <a:pt x="4" y="143"/>
                    </a:lnTo>
                    <a:lnTo>
                      <a:pt x="0" y="121"/>
                    </a:lnTo>
                    <a:lnTo>
                      <a:pt x="4" y="97"/>
                    </a:lnTo>
                    <a:lnTo>
                      <a:pt x="15" y="75"/>
                    </a:lnTo>
                    <a:lnTo>
                      <a:pt x="34" y="53"/>
                    </a:lnTo>
                    <a:lnTo>
                      <a:pt x="52" y="38"/>
                    </a:lnTo>
                    <a:lnTo>
                      <a:pt x="84" y="22"/>
                    </a:lnTo>
                    <a:lnTo>
                      <a:pt x="119" y="9"/>
                    </a:lnTo>
                    <a:lnTo>
                      <a:pt x="155" y="3"/>
                    </a:lnTo>
                    <a:lnTo>
                      <a:pt x="197" y="2"/>
                    </a:lnTo>
                  </a:path>
                </a:pathLst>
              </a:custGeom>
              <a:solidFill>
                <a:srgbClr val="e07000"/>
              </a:solidFill>
              <a:ln cap="rnd" w="12600">
                <a:solidFill>
                  <a:srgbClr val="ffa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8" name="Text Box 1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C724EA36-173E-4165-88F7-DB8A872E6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6" dur="1" fill="hold"/>
                                  <p:tgtEl>
                                    <p:spTgt spid="8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5648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apacity Requirements (Continued) : Equipment and Labor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2" name="Picture 6" descr=""/>
          <p:cNvPicPr/>
          <p:nvPr/>
        </p:nvPicPr>
        <p:blipFill>
          <a:blip r:embed="rId1"/>
          <a:stretch/>
        </p:blipFill>
        <p:spPr>
          <a:xfrm>
            <a:off x="870120" y="2057400"/>
            <a:ext cx="8273880" cy="120348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7"/>
          <p:cNvSpPr/>
          <p:nvPr/>
        </p:nvSpPr>
        <p:spPr>
          <a:xfrm>
            <a:off x="1676520" y="3505320"/>
            <a:ext cx="74674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100,000 units-per-year machines are available for small-bottle production.  Two operators required per mach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120,000 units-per-year machines are available for family-sized-bottle production.  Three operators required per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8"/>
          <p:cNvSpPr/>
          <p:nvPr/>
        </p:nvSpPr>
        <p:spPr>
          <a:xfrm>
            <a:off x="8229600" y="639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2AF2D312-CEFE-4E3E-BAA9-AA02344DD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pic>
        <p:nvPicPr>
          <p:cNvPr id="897" name="Content Placeholder 4" descr=""/>
          <p:cNvPicPr/>
          <p:nvPr/>
        </p:nvPicPr>
        <p:blipFill>
          <a:blip r:embed="rId2"/>
          <a:stretch/>
        </p:blipFill>
        <p:spPr>
          <a:xfrm>
            <a:off x="438120" y="1560600"/>
            <a:ext cx="8267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Title 1" descr=""/>
          <p:cNvPicPr/>
          <p:nvPr/>
        </p:nvPicPr>
        <p:blipFill>
          <a:blip r:embed="rId1"/>
          <a:stretch/>
        </p:blipFill>
        <p:spPr>
          <a:xfrm>
            <a:off x="457200" y="-30240"/>
            <a:ext cx="8229600" cy="191952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The relationship between service capacity utilization and service quality is critical.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Utilization is measured by the portion of time servers are busy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39480" indent="-3394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Optimal levels of utilization are context specific.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Low rates are appropriate when the degree of uncertainty (in demand) is high and/or the stakes are high (e.g., emergency rooms, fire departments)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35480" indent="-282960">
              <a:spcBef>
                <a:spcPts val="601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Higher rates are possible for predictable services or those without extensive customer contact (e.g., commuter trains, postal sorting)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833120" y="175248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914400" y="182880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1981080" y="35812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Capacit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Title 1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53684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Rate of service utilization and service quality are directly linked.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2"/>
          <a:stretch/>
        </p:blipFill>
        <p:spPr>
          <a:xfrm>
            <a:off x="1828800" y="2895480"/>
            <a:ext cx="5249880" cy="3657600"/>
          </a:xfrm>
          <a:prstGeom prst="rect">
            <a:avLst/>
          </a:prstGeom>
          <a:ln w="0">
            <a:noFill/>
          </a:ln>
        </p:spPr>
      </p:pic>
      <p:grpSp>
        <p:nvGrpSpPr>
          <p:cNvPr id="903" name="TextBox 4"/>
          <p:cNvGrpSpPr/>
          <p:nvPr/>
        </p:nvGrpSpPr>
        <p:grpSpPr>
          <a:xfrm>
            <a:off x="-103320" y="2835360"/>
            <a:ext cx="2749680" cy="1419120"/>
            <a:chOff x="-103320" y="2835360"/>
            <a:chExt cx="2749680" cy="1419120"/>
          </a:xfrm>
        </p:grpSpPr>
        <p:pic>
          <p:nvPicPr>
            <p:cNvPr id="904" name="TextBox 4" descr=""/>
            <p:cNvPicPr/>
            <p:nvPr/>
          </p:nvPicPr>
          <p:blipFill>
            <a:blip r:embed="rId3"/>
            <a:stretch/>
          </p:blipFill>
          <p:spPr>
            <a:xfrm>
              <a:off x="-103320" y="2835360"/>
              <a:ext cx="274968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0" y="2895480"/>
              <a:ext cx="2590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"/>
                </a:rPr>
                <a:t>Arrivals exceed services – many customers are never ser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06" name="Straight Arrow Connector 6"/>
          <p:cNvCxnSpPr/>
          <p:nvPr/>
        </p:nvCxnSpPr>
        <p:spPr>
          <a:xfrm>
            <a:off x="2590920" y="3495600"/>
            <a:ext cx="1219680" cy="6199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907" name="TextBox 8"/>
          <p:cNvGrpSpPr/>
          <p:nvPr/>
        </p:nvGrpSpPr>
        <p:grpSpPr>
          <a:xfrm>
            <a:off x="5608800" y="5505480"/>
            <a:ext cx="2687400" cy="1144440"/>
            <a:chOff x="5608800" y="5505480"/>
            <a:chExt cx="2687400" cy="1144440"/>
          </a:xfrm>
        </p:grpSpPr>
        <p:pic>
          <p:nvPicPr>
            <p:cNvPr id="908" name="TextBox 8" descr=""/>
            <p:cNvPicPr/>
            <p:nvPr/>
          </p:nvPicPr>
          <p:blipFill>
            <a:blip r:embed="rId4"/>
            <a:stretch/>
          </p:blipFill>
          <p:spPr>
            <a:xfrm>
              <a:off x="5608800" y="5505480"/>
              <a:ext cx="26874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5715000" y="55627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"/>
                </a:rPr>
                <a:t>Sufficient capacity to provide quality 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0" name="Straight Arrow Connector 9"/>
          <p:cNvCxnSpPr/>
          <p:nvPr/>
        </p:nvCxnSpPr>
        <p:spPr>
          <a:xfrm flipH="1" flipV="1">
            <a:off x="5104800" y="5562000"/>
            <a:ext cx="610200" cy="4626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911" name="TextBox 12"/>
          <p:cNvGrpSpPr/>
          <p:nvPr/>
        </p:nvGrpSpPr>
        <p:grpSpPr>
          <a:xfrm>
            <a:off x="6066000" y="2212920"/>
            <a:ext cx="2803320" cy="1526040"/>
            <a:chOff x="6066000" y="2212920"/>
            <a:chExt cx="2803320" cy="1526040"/>
          </a:xfrm>
        </p:grpSpPr>
        <p:pic>
          <p:nvPicPr>
            <p:cNvPr id="912" name="TextBox 12" descr=""/>
            <p:cNvPicPr/>
            <p:nvPr/>
          </p:nvPicPr>
          <p:blipFill>
            <a:blip r:embed="rId5"/>
            <a:stretch/>
          </p:blipFill>
          <p:spPr>
            <a:xfrm>
              <a:off x="6066000" y="2212920"/>
              <a:ext cx="28033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6172200" y="2273400"/>
              <a:ext cx="2590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entury"/>
                </a:rPr>
                <a:t>Service quality declines – disruptions or high arrival levels lead to long wait ti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14" name="Straight Arrow Connector 13"/>
          <p:cNvCxnSpPr/>
          <p:nvPr/>
        </p:nvCxnSpPr>
        <p:spPr>
          <a:xfrm flipH="1">
            <a:off x="5866560" y="3473280"/>
            <a:ext cx="1600920" cy="3470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642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Utilization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057400" y="2057400"/>
            <a:ext cx="6262560" cy="316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spcAft>
                <a:spcPts val="6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operating point is near 70% of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spcAft>
                <a:spcPts val="6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70% to 100% of service capacity, what do you think happens to service qualit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EBC32AE7-A9D4-4058-8381-7D74F4589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9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6" dur="1" fill="hold"/>
                                  <p:tgtEl>
                                    <p:spTgt spid="9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680840" y="1949400"/>
            <a:ext cx="5786280" cy="88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Chapter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A6183CD5-3F1A-4A7F-AE22-865E9B20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2057040" y="1752480"/>
            <a:ext cx="6072120" cy="38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 Capacity Planning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Utilization &amp; Best Operating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ies &amp; Dis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perience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Focus, Flexibility &amp;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ing Capac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Utilization &amp; Servic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8"/>
          <p:cNvSpPr/>
          <p:nvPr/>
        </p:nvSpPr>
        <p:spPr>
          <a:xfrm>
            <a:off x="1447920" y="838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9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7AEB6E87-34FB-4251-9CC2-AFC6EF35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7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076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egic Capacity Planning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75248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Capa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be defined as the ability to hold, receive, store, or accommo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2625"/>
              </a:spcAft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Strategic capacity plan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n approach for determining the overall capacity level of capital intensive resources, including facilities, equipment, and overall labor forc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4BD0951B-5FAD-4537-A0C0-777AFF561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7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31052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057040" y="3123720"/>
            <a:ext cx="6661080" cy="225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acity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e of output actually achie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operating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for which the process was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9"/>
              <p:cNvSpPr txBox="1"/>
              <p:nvPr/>
            </p:nvSpPr>
            <p:spPr>
              <a:xfrm>
                <a:off x="304920" y="1600200"/>
                <a:ext cx="838188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apacity utilization ra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pacity us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est operating leve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6" name="Text Box 10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A8ECF38C-05E0-45DC-92C6-7FD504B41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7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03" dur="1" fill="hold"/>
                                  <p:tgtEl>
                                    <p:spTgt spid="7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36044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"/>
              </a:rPr>
              <a:t>Capacity utilization rate </a:t>
            </a: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– a measure of how close the firm is to its best possible operating level 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"/>
              </a:rPr>
              <a:t>Economies of scale </a:t>
            </a: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– the idea that as a planet gets larger and volume increases, the average cost per unit tends to drop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entury"/>
              </a:rPr>
              <a:t>Diseconomies of scale </a:t>
            </a:r>
            <a:r>
              <a:rPr b="0" lang="en-US" sz="2700" spc="-1" strike="noStrike">
                <a:solidFill>
                  <a:srgbClr val="000000"/>
                </a:solidFill>
                <a:latin typeface="Century"/>
              </a:rPr>
              <a:t>– at some point, the plant becomes too large and average cost per unit begins to increase </a:t>
            </a:r>
            <a:endParaRPr b="0" lang="en-US" sz="27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57056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Title 1" descr=""/>
          <p:cNvPicPr/>
          <p:nvPr/>
        </p:nvPicPr>
        <p:blipFill>
          <a:blip r:embed="rId1"/>
          <a:stretch/>
        </p:blipFill>
        <p:spPr>
          <a:xfrm>
            <a:off x="201600" y="255600"/>
            <a:ext cx="8734320" cy="1360440"/>
          </a:xfrm>
          <a:prstGeom prst="rect">
            <a:avLst/>
          </a:prstGeom>
          <a:ln w="0">
            <a:noFill/>
          </a:ln>
        </p:spPr>
      </p:pic>
      <p:pic>
        <p:nvPicPr>
          <p:cNvPr id="751" name="Content Placeholder 4" descr=""/>
          <p:cNvPicPr/>
          <p:nvPr/>
        </p:nvPicPr>
        <p:blipFill>
          <a:blip r:embed="rId2"/>
          <a:stretch/>
        </p:blipFill>
        <p:spPr>
          <a:xfrm>
            <a:off x="433440" y="1584360"/>
            <a:ext cx="827712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8580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Operating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304920" y="936720"/>
            <a:ext cx="8229600" cy="119124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Engineers design engines and assembly lines to operate at an ideal or “best operating level” to maximize output and minimize 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7"/>
          <p:cNvGrpSpPr/>
          <p:nvPr/>
        </p:nvGrpSpPr>
        <p:grpSpPr>
          <a:xfrm>
            <a:off x="2880" y="2365200"/>
            <a:ext cx="8823600" cy="4416840"/>
            <a:chOff x="2880" y="2365200"/>
            <a:chExt cx="8823600" cy="4416840"/>
          </a:xfrm>
        </p:grpSpPr>
        <p:sp>
          <p:nvSpPr>
            <p:cNvPr id="755" name="Rectangle 8"/>
            <p:cNvSpPr/>
            <p:nvPr/>
          </p:nvSpPr>
          <p:spPr>
            <a:xfrm>
              <a:off x="1523880" y="2365200"/>
              <a:ext cx="7302600" cy="3873240"/>
            </a:xfrm>
            <a:prstGeom prst="rect">
              <a:avLst/>
            </a:prstGeom>
            <a:solidFill>
              <a:srgbClr val="a6f69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9"/>
            <p:cNvSpPr/>
            <p:nvPr/>
          </p:nvSpPr>
          <p:spPr>
            <a:xfrm>
              <a:off x="2603520" y="3209760"/>
              <a:ext cx="2052720" cy="1430280"/>
            </a:xfrm>
            <a:custGeom>
              <a:avLst/>
              <a:gdLst/>
              <a:ahLst/>
              <a:rect l="l" t="t" r="r" b="b"/>
              <a:pathLst>
                <a:path w="1293" h="901">
                  <a:moveTo>
                    <a:pt x="0" y="0"/>
                  </a:moveTo>
                  <a:lnTo>
                    <a:pt x="3" y="33"/>
                  </a:lnTo>
                  <a:lnTo>
                    <a:pt x="8" y="67"/>
                  </a:lnTo>
                  <a:lnTo>
                    <a:pt x="16" y="101"/>
                  </a:lnTo>
                  <a:lnTo>
                    <a:pt x="25" y="132"/>
                  </a:lnTo>
                  <a:lnTo>
                    <a:pt x="39" y="166"/>
                  </a:lnTo>
                  <a:lnTo>
                    <a:pt x="52" y="199"/>
                  </a:lnTo>
                  <a:lnTo>
                    <a:pt x="66" y="231"/>
                  </a:lnTo>
                  <a:lnTo>
                    <a:pt x="83" y="262"/>
                  </a:lnTo>
                  <a:lnTo>
                    <a:pt x="102" y="295"/>
                  </a:lnTo>
                  <a:lnTo>
                    <a:pt x="125" y="327"/>
                  </a:lnTo>
                  <a:lnTo>
                    <a:pt x="147" y="358"/>
                  </a:lnTo>
                  <a:lnTo>
                    <a:pt x="172" y="386"/>
                  </a:lnTo>
                  <a:lnTo>
                    <a:pt x="197" y="417"/>
                  </a:lnTo>
                  <a:lnTo>
                    <a:pt x="224" y="446"/>
                  </a:lnTo>
                  <a:lnTo>
                    <a:pt x="252" y="474"/>
                  </a:lnTo>
                  <a:lnTo>
                    <a:pt x="283" y="503"/>
                  </a:lnTo>
                  <a:lnTo>
                    <a:pt x="316" y="531"/>
                  </a:lnTo>
                  <a:lnTo>
                    <a:pt x="349" y="557"/>
                  </a:lnTo>
                  <a:lnTo>
                    <a:pt x="382" y="583"/>
                  </a:lnTo>
                  <a:lnTo>
                    <a:pt x="418" y="609"/>
                  </a:lnTo>
                  <a:lnTo>
                    <a:pt x="454" y="633"/>
                  </a:lnTo>
                  <a:lnTo>
                    <a:pt x="491" y="659"/>
                  </a:lnTo>
                  <a:lnTo>
                    <a:pt x="529" y="679"/>
                  </a:lnTo>
                  <a:lnTo>
                    <a:pt x="571" y="703"/>
                  </a:lnTo>
                  <a:lnTo>
                    <a:pt x="610" y="723"/>
                  </a:lnTo>
                  <a:lnTo>
                    <a:pt x="651" y="744"/>
                  </a:lnTo>
                  <a:lnTo>
                    <a:pt x="693" y="762"/>
                  </a:lnTo>
                  <a:lnTo>
                    <a:pt x="737" y="781"/>
                  </a:lnTo>
                  <a:lnTo>
                    <a:pt x="782" y="799"/>
                  </a:lnTo>
                  <a:lnTo>
                    <a:pt x="826" y="814"/>
                  </a:lnTo>
                  <a:lnTo>
                    <a:pt x="870" y="827"/>
                  </a:lnTo>
                  <a:lnTo>
                    <a:pt x="915" y="840"/>
                  </a:lnTo>
                  <a:lnTo>
                    <a:pt x="962" y="853"/>
                  </a:lnTo>
                  <a:lnTo>
                    <a:pt x="1009" y="864"/>
                  </a:lnTo>
                  <a:lnTo>
                    <a:pt x="1053" y="874"/>
                  </a:lnTo>
                  <a:lnTo>
                    <a:pt x="1100" y="882"/>
                  </a:lnTo>
                  <a:lnTo>
                    <a:pt x="1150" y="889"/>
                  </a:lnTo>
                  <a:lnTo>
                    <a:pt x="1197" y="895"/>
                  </a:lnTo>
                  <a:lnTo>
                    <a:pt x="1245" y="897"/>
                  </a:lnTo>
                  <a:lnTo>
                    <a:pt x="1292" y="9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0"/>
            <p:cNvSpPr/>
            <p:nvPr/>
          </p:nvSpPr>
          <p:spPr>
            <a:xfrm>
              <a:off x="2603520" y="31698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1"/>
            <p:cNvSpPr/>
            <p:nvPr/>
          </p:nvSpPr>
          <p:spPr>
            <a:xfrm>
              <a:off x="4813200" y="3209760"/>
              <a:ext cx="2038320" cy="1430280"/>
            </a:xfrm>
            <a:custGeom>
              <a:avLst/>
              <a:gdLst/>
              <a:ahLst/>
              <a:rect l="l" t="t" r="r" b="b"/>
              <a:pathLst>
                <a:path w="1284" h="901">
                  <a:moveTo>
                    <a:pt x="1283" y="0"/>
                  </a:moveTo>
                  <a:lnTo>
                    <a:pt x="1280" y="33"/>
                  </a:lnTo>
                  <a:lnTo>
                    <a:pt x="1275" y="67"/>
                  </a:lnTo>
                  <a:lnTo>
                    <a:pt x="1267" y="101"/>
                  </a:lnTo>
                  <a:lnTo>
                    <a:pt x="1258" y="132"/>
                  </a:lnTo>
                  <a:lnTo>
                    <a:pt x="1244" y="166"/>
                  </a:lnTo>
                  <a:lnTo>
                    <a:pt x="1233" y="199"/>
                  </a:lnTo>
                  <a:lnTo>
                    <a:pt x="1217" y="231"/>
                  </a:lnTo>
                  <a:lnTo>
                    <a:pt x="1200" y="262"/>
                  </a:lnTo>
                  <a:lnTo>
                    <a:pt x="1181" y="295"/>
                  </a:lnTo>
                  <a:lnTo>
                    <a:pt x="1158" y="327"/>
                  </a:lnTo>
                  <a:lnTo>
                    <a:pt x="1136" y="358"/>
                  </a:lnTo>
                  <a:lnTo>
                    <a:pt x="1111" y="386"/>
                  </a:lnTo>
                  <a:lnTo>
                    <a:pt x="1086" y="417"/>
                  </a:lnTo>
                  <a:lnTo>
                    <a:pt x="1059" y="446"/>
                  </a:lnTo>
                  <a:lnTo>
                    <a:pt x="1031" y="474"/>
                  </a:lnTo>
                  <a:lnTo>
                    <a:pt x="1000" y="503"/>
                  </a:lnTo>
                  <a:lnTo>
                    <a:pt x="970" y="531"/>
                  </a:lnTo>
                  <a:lnTo>
                    <a:pt x="937" y="557"/>
                  </a:lnTo>
                  <a:lnTo>
                    <a:pt x="903" y="583"/>
                  </a:lnTo>
                  <a:lnTo>
                    <a:pt x="867" y="609"/>
                  </a:lnTo>
                  <a:lnTo>
                    <a:pt x="831" y="633"/>
                  </a:lnTo>
                  <a:lnTo>
                    <a:pt x="792" y="659"/>
                  </a:lnTo>
                  <a:lnTo>
                    <a:pt x="756" y="679"/>
                  </a:lnTo>
                  <a:lnTo>
                    <a:pt x="715" y="703"/>
                  </a:lnTo>
                  <a:lnTo>
                    <a:pt x="676" y="723"/>
                  </a:lnTo>
                  <a:lnTo>
                    <a:pt x="634" y="744"/>
                  </a:lnTo>
                  <a:lnTo>
                    <a:pt x="593" y="762"/>
                  </a:lnTo>
                  <a:lnTo>
                    <a:pt x="549" y="781"/>
                  </a:lnTo>
                  <a:lnTo>
                    <a:pt x="507" y="799"/>
                  </a:lnTo>
                  <a:lnTo>
                    <a:pt x="463" y="814"/>
                  </a:lnTo>
                  <a:lnTo>
                    <a:pt x="418" y="827"/>
                  </a:lnTo>
                  <a:lnTo>
                    <a:pt x="374" y="840"/>
                  </a:lnTo>
                  <a:lnTo>
                    <a:pt x="327" y="853"/>
                  </a:lnTo>
                  <a:lnTo>
                    <a:pt x="280" y="864"/>
                  </a:lnTo>
                  <a:lnTo>
                    <a:pt x="235" y="874"/>
                  </a:lnTo>
                  <a:lnTo>
                    <a:pt x="188" y="882"/>
                  </a:lnTo>
                  <a:lnTo>
                    <a:pt x="141" y="889"/>
                  </a:lnTo>
                  <a:lnTo>
                    <a:pt x="94" y="895"/>
                  </a:lnTo>
                  <a:lnTo>
                    <a:pt x="47" y="897"/>
                  </a:lnTo>
                  <a:lnTo>
                    <a:pt x="0" y="90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2"/>
            <p:cNvSpPr/>
            <p:nvPr/>
          </p:nvSpPr>
          <p:spPr>
            <a:xfrm>
              <a:off x="6850080" y="31698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3"/>
            <p:cNvSpPr/>
            <p:nvPr/>
          </p:nvSpPr>
          <p:spPr>
            <a:xfrm>
              <a:off x="1557000" y="4392360"/>
              <a:ext cx="21092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Underutiliz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14"/>
            <p:cNvGrpSpPr/>
            <p:nvPr/>
          </p:nvGrpSpPr>
          <p:grpSpPr>
            <a:xfrm>
              <a:off x="4664160" y="4582800"/>
              <a:ext cx="3007080" cy="1141560"/>
              <a:chOff x="4664160" y="4582800"/>
              <a:chExt cx="3007080" cy="1141560"/>
            </a:xfrm>
          </p:grpSpPr>
          <p:sp>
            <p:nvSpPr>
              <p:cNvPr id="762" name="Line 15"/>
              <p:cNvSpPr/>
              <p:nvPr/>
            </p:nvSpPr>
            <p:spPr>
              <a:xfrm>
                <a:off x="4664160" y="4639680"/>
                <a:ext cx="63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Line 16"/>
              <p:cNvSpPr/>
              <p:nvPr/>
            </p:nvSpPr>
            <p:spPr>
              <a:xfrm flipH="1">
                <a:off x="4730400" y="4639680"/>
                <a:ext cx="889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Line 17"/>
              <p:cNvSpPr/>
              <p:nvPr/>
            </p:nvSpPr>
            <p:spPr>
              <a:xfrm flipH="1">
                <a:off x="4791240" y="5078160"/>
                <a:ext cx="542880" cy="0"/>
              </a:xfrm>
              <a:prstGeom prst="line">
                <a:avLst/>
              </a:prstGeom>
              <a:ln w="12600">
                <a:solidFill>
                  <a:srgbClr val="f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18"/>
              <p:cNvSpPr/>
              <p:nvPr/>
            </p:nvSpPr>
            <p:spPr>
              <a:xfrm flipV="1">
                <a:off x="4794120" y="4828320"/>
                <a:ext cx="0" cy="252360"/>
              </a:xfrm>
              <a:prstGeom prst="line">
                <a:avLst/>
              </a:prstGeom>
              <a:ln w="12600">
                <a:solidFill>
                  <a:srgbClr val="f8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19"/>
              <p:cNvSpPr/>
              <p:nvPr/>
            </p:nvSpPr>
            <p:spPr>
              <a:xfrm>
                <a:off x="4724280" y="4708080"/>
                <a:ext cx="142920" cy="13356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4" y="0"/>
                    </a:moveTo>
                    <a:lnTo>
                      <a:pt x="89" y="83"/>
                    </a:lnTo>
                    <a:lnTo>
                      <a:pt x="0" y="83"/>
                    </a:lnTo>
                    <a:lnTo>
                      <a:pt x="44" y="0"/>
                    </a:lnTo>
                  </a:path>
                </a:pathLst>
              </a:custGeom>
              <a:solidFill>
                <a:srgbClr val="f80000"/>
              </a:solidFill>
              <a:ln cap="rnd" w="12600">
                <a:solidFill>
                  <a:srgbClr val="f8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Oval 20"/>
              <p:cNvSpPr/>
              <p:nvPr/>
            </p:nvSpPr>
            <p:spPr>
              <a:xfrm>
                <a:off x="4730760" y="4582800"/>
                <a:ext cx="128520" cy="1188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Rectangle 21"/>
              <p:cNvSpPr/>
              <p:nvPr/>
            </p:nvSpPr>
            <p:spPr>
              <a:xfrm>
                <a:off x="5488920" y="4965120"/>
                <a:ext cx="2182320" cy="75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Best Operat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Leve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Rectangle 22"/>
            <p:cNvSpPr/>
            <p:nvPr/>
          </p:nvSpPr>
          <p:spPr>
            <a:xfrm>
              <a:off x="2880" y="3188880"/>
              <a:ext cx="1391400" cy="109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verag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unit cos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of outpu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3"/>
            <p:cNvSpPr/>
            <p:nvPr/>
          </p:nvSpPr>
          <p:spPr>
            <a:xfrm>
              <a:off x="3810240" y="6327360"/>
              <a:ext cx="134244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Volum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24"/>
            <p:cNvSpPr/>
            <p:nvPr/>
          </p:nvSpPr>
          <p:spPr>
            <a:xfrm>
              <a:off x="5181480" y="6555960"/>
              <a:ext cx="10512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25"/>
            <p:cNvSpPr/>
            <p:nvPr/>
          </p:nvSpPr>
          <p:spPr>
            <a:xfrm>
              <a:off x="5824080" y="4392360"/>
              <a:ext cx="195372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Overutiliz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Text Box 2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B3940A66-A792-404A-9A05-8402FE22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apacity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236196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ing one week of production, a plant produced 83 units of a product.  Its historic highest or best utilization recorded was 120 units per week.  What is this plant’s capacity utilization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228600" y="4038480"/>
            <a:ext cx="8610480" cy="2362320"/>
          </a:xfrm>
          <a:prstGeom prst="rect">
            <a:avLst/>
          </a:prstGeom>
          <a:solidFill>
            <a:srgbClr val="e1e1d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buClr>
                <a:srgbClr val="660033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utilization rate =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Capacity used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operating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3/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0.69 or 6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27D5850F-C586-4132-B6B9-D653D77C3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5" dur="1" fill="hold"/>
                                  <p:tgtEl>
                                    <p:spTgt spid="7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46" dur="1" fill="hold"/>
                                  <p:tgtEl>
                                    <p:spTgt spid="7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47" dur="1" fill="hold"/>
                                  <p:tgtEl>
                                    <p:spTgt spid="7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48" dur="1" fill="hold"/>
                                  <p:tgtEl>
                                    <p:spTgt spid="7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  <p:animClr clrSpc="rgb">
                                <p:cBhvr>
                                  <p:cTn id="149" dur="1" fill="hold"/>
                                  <p:tgtEl>
                                    <p:spTgt spid="7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7T17:56:34Z</dcterms:created>
  <dc:creator> </dc:creator>
  <dc:description/>
  <cp:keywords/>
  <dc:language>en-US</dc:language>
  <cp:lastModifiedBy>KSU S155-S9</cp:lastModifiedBy>
  <dcterms:modified xsi:type="dcterms:W3CDTF">2015-10-21T06:29:27Z</dcterms:modified>
  <cp:revision>60</cp:revision>
  <dc:subject/>
  <dc:title>Production  and Operations Management: Manufacturing and  Services</dc:title>
</cp:coreProperties>
</file>