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4C9F6-26C5-4283-915E-1E6F1A6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86BDC-4C56-4F1B-8C6A-3D98D17C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AEE4D-CB5D-4FD7-9EE6-F361C517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F00E1-7622-499F-8011-85E157D0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5D97D-0122-4B8E-AAEB-10E24AA6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D29F1-B689-4CCD-9665-07663E81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BAA46-DD50-476D-8246-B40CC3A3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F17A0-ECA0-4418-BACC-390CC6EF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E82B4-DB4D-436A-A7B0-8D5984A1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A12F5-A08A-4CD8-9FF0-E42951D1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FA68B-5C6F-44D4-A597-427D84D4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9E481-E2A7-448C-91AB-BEDF522F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1766F-B098-40F7-BF47-1806AB74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147B2-9C8A-4E11-B9A5-BD287A5E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F8545-AD7C-4207-9BE8-6C0AB9E2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216D3-A5F4-4BD2-9DC6-09D9061A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C8A2B-F23D-402D-B0BE-7CC54F64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2197F-C2A1-4CA5-8484-4BB06319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F717-6008-43CB-BBAA-428B2319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210E8-84EC-4DD6-AEBA-8953D904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94009-2E29-4E02-8EF0-F15EA177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785EC-0E1A-4918-A154-52BFCF30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3584B-9A8C-428D-91D3-33304297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3A6F3-86B8-4F7B-BE0B-6A7FE900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C8F93-A3E3-4506-B9A3-2B6DCD85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0C308-8A14-4303-9292-ADC8636F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37F82-40D8-4762-8651-8B233030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5ED61-2D69-4562-8234-C5295432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9FB33-6376-4D67-9AFA-3F9BEF7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DCA38-6638-4F39-8D3C-3943A461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B8B-703E-46BC-A5C4-2EBF8B65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C16D7-64FB-4B37-9800-4BF4E13A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5260E-57DC-4127-8A1A-0157E6EE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9BD53-B48E-4379-8792-5E3AA8FA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E66A5-B161-4E76-9839-534D2FC7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6BA5F-E563-4C4B-A7D9-5D7E1482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BD420-DBF3-4FD8-8D7D-6BBD1B08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8485D-52D4-4CF2-BAE0-EE0BDB9B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FCBF3-089C-414C-B4E1-F20D4E5D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64B69-2E71-4F58-A5E6-924548C3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BE6D0-8060-4859-AC25-EFD329D2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D75-F879-4688-BAA2-26781571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EE61B-1060-4386-B795-6CD091C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DD52B-2ADD-47F9-BFB0-53BB9DC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8481A-6154-4A35-9A84-AFD76A7A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FDD52-D04B-4279-94DD-B5067DFB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C7802-AA90-43E3-8920-563BFAC6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79256-9896-48EB-9F0B-E643DE8E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6719E-2881-4E9D-997B-CA477059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A29D5-3E11-4E20-B4CE-A1D32D4C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A3808-B50E-4B8E-89F5-C9FF1216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5B11B-1B71-4F95-82F1-78C9A6E5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C73-750E-4AC8-9BCC-941B88BA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72810-1A23-459E-9DF6-2F724F93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7F3EA-15E4-4AA7-87C3-669C5F4D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2700E-0479-4278-85B4-BA8E7F27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E3B09-8A0D-4EE3-B030-6A978D7A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25353-D601-4816-B817-E94808C7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AAA2D-ADA4-45F8-8C5D-70A00DC7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D0322-029E-42F4-BEA6-64D99529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10FE9-A0A3-4013-9947-D945E930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C794E-0707-40EC-9CA0-078D637A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1FA58-F24E-4C3A-ABF6-3AFEE2EB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223-F13D-4C2D-80DB-E07DCD91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08CDD-289F-4A1E-83C3-F6185994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E97A9-E07B-4DEA-B4D4-C987C329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6029A-0B41-4523-92E0-DEB052AB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71B82-8D94-496B-B2A4-286BA9EE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3DA52-4E99-41C8-B2D2-A6EEAE4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18B8F-6B3A-4A0D-A3D2-7D746062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72A0F-C3CA-46F2-B91C-612E47EA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081E9-4838-4317-907D-E2D4C30A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CFA16-1A03-4B7E-A1EF-77A24D38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17A76-EAA0-4F4D-8A2A-AAA422FA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9EE-22D7-4D66-B990-85776DD6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7871A-EA25-4CB9-AC9E-61BB79FF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470F4-86C1-4912-B358-1F1AC9C3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47FF8-DEFF-4253-B2E5-05828199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EBBE0-19C4-4112-8980-4CFF8E5E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E0100-3DBA-4F9C-855E-EB7573F2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B276E-CE82-41A8-9F63-992212D3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D5D6F-03B6-4D37-B87D-E2F4070D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34362-77E6-49B8-B397-826E347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88901-1A7C-4749-BEF2-FCFF2DE5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3751E-30E6-43ED-BB70-D309703A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BF1-9974-4237-A311-29E45431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48BD8-04BF-4F95-A7C9-99F0A54B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63154-F3B3-48C4-967F-678C1450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6D3A0-6380-43D6-8F86-D01897DB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42B0F-D499-4E4B-BA68-EECFD658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3BE57-55FB-4728-AEC0-7679CCA1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F299C-3FB4-46E0-BE87-ADC16219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11B06-9E4F-4516-8C2D-061FCBBC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B6399-3AF0-4DC7-98C5-EF9A8AFD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073E2-BBEA-4B8A-ACD4-3877ECA2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DEFB2-AC90-4D16-9DCE-856ECE81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402-1932-41A7-8424-FDDF4C67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46269-D85F-42EA-A25F-48618A4B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5B322-622F-4F91-A101-B7075407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DFD38-2294-40F6-A536-1DE549DE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B0907-7A38-4434-B42E-87A74C39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15751-1414-4ADF-BBE0-9BBA280B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032B8-DA15-49FD-9E83-B3BA0165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66BC3-211A-463C-8B62-FD785E32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B34F2-F8DF-4679-AB0B-49709BBA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36BAA-EBA7-4C54-8D5B-DA17CD3B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D4E16-CEF8-49DB-85A6-7CC09672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C35-5D22-4A1B-A1EB-50D7DAA8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54C78-28AC-4087-846C-CD1662F7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14167-A8F0-40F6-BA5B-A680BC0C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0ED2C-7814-4719-92C5-444337B1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7C53F-E60C-42C2-8916-ED904A75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41A72-234C-4454-9B11-A0BDEF5F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A92-9082-4529-A14E-D963298B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61F-1F1B-4175-B04D-82A05BB7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2D4-BDF6-4BB6-8A3A-594919A2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E5B-AD9D-4EE3-B03B-1DE8A090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6BCA-3DEF-443F-8F38-D0B21C79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4033-5B68-4922-89EE-73FEA87A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4B8D-2B91-4CB7-9914-DC6D5131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43BE-EB9A-4EE9-AA1A-B6BA02F8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FAB3-8AF0-4C7A-8C05-3A6394B0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BAB8-EECD-4142-A2FF-E2FFA263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54FD-C867-42B7-A509-2227013E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4D85-D7C0-40E2-AB56-C7911FB4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DAFB-AF8A-4FDC-97DD-5BE7D87B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089B-2753-4D71-A16E-84056E32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EA25-139B-45A7-9A69-51EF2DC2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0C9F-BD4D-4936-8F95-8AEA250A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C973-0970-4878-A5CA-9895990C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9EE5-9A81-4639-BBE4-118742A0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C42B-0EEC-4B7D-9430-0D9AF02A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721D-6992-4F88-AE83-9A2E3FEC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5A3C-FF68-4D66-BC7C-9D44B046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E1C7E-C494-44D5-A7AB-FA6803E8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07C4-BCE2-46C5-A3A1-A0AEFAEF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577C-D0F0-4E0A-9E12-109B6269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52B8-07C3-4904-A312-06E543E1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5D50-9E41-472F-80D0-4F1A05FD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B833-D8A7-4957-AE0F-636FF018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4E967-428C-4BEA-B9D0-1ADE5E37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1632-2D45-46D7-89A8-762E1C24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6B3F-CC62-4C72-95B2-21DF1DD5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4B0DB-FF56-4B16-B454-E675F131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7F2D-0331-4F12-87B5-795EF878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C7CA5-9F9E-46B5-B351-A60D9344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226EB-E9C6-46A1-8461-B5B3FA13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8A11-19EE-4957-935E-F40B24B1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F26A-0F8C-4203-A4C2-B1A19A82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CD09-FFC2-439C-8EDF-4685BDF2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B3C18-95DF-4630-A600-1D5F8003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B74F1-3ACE-43E8-B7B1-0ADA8F54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496A-AF32-4E7B-ACD6-AFC6220A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5D581-ED36-42CC-A2EB-FB47FCFF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99906-7A46-4719-A8C8-B59425A1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C80D1-0558-4C17-9EE9-378AFD30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39D2A-AAB1-46E6-BE0D-3587E28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0254B-77B0-4327-A70C-386ABAF6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61FDD-B397-4D69-B801-A9A19222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4E0E7-3D58-441A-9D13-E9B87E12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28A2-78FE-4407-ACE3-DC885EA0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2AEA7-03A3-4E52-A657-993ACE38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1D910-B4AA-4AA3-A9D9-DDC12815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DA9D0-9C38-4E02-A171-3B917583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4630F-6679-46FC-B951-60AEAB56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9F55B-DC74-4C00-A11F-5766456D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7AA01-FB86-4B9B-AD48-F36F0174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65EB5-90CA-46F2-9FA9-3F7A9C58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FD893-EFBA-4ED8-B065-2335CC59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53CBE-5751-4734-9371-3D0669B9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5A6B8-6639-4EE2-BFF8-31F8C117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3C75-BCFA-4913-BFEB-73C0DDCA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3686F-AC04-4518-B925-5C9C59D1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AAA2E-DC2E-4A8F-AA68-F77CE5FC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9C053-49BE-4D25-BFC0-CCD4B1BA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0A440-A6B8-451B-9E10-FB257C6F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A4548-0CD2-42F3-A422-7E33B7AD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AC6C-44D0-4153-AB64-947F393B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450C9-4D4F-47ED-8E04-C80012CE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A037C-B350-483A-A974-A482B3BD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F76D06FC-2085-4FF1-B28A-D1EDDC3F662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6E29-CCF8-42D8-A17B-5D7C7F6F9C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46B4ED58-C677-46B6-8218-4D9699C874F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FC06-0030-46F5-BCBD-74E2165D89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101F37EE-CCEA-413B-88A6-980753103EE9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A09E-FB53-4DAA-9C37-54646AA27F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733A65D8-159C-4F98-BF52-22B9087D3B3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8AF4-1EAE-4AD8-BBFD-608EA642FF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3A0843A2-4249-4AF1-B17A-D12B4A15804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2C9E-0D82-4284-A2AE-BAA3EA6C03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2363899A-FC47-4356-A35E-A99C1F6D955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92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7339-9876-45E1-9C16-3697F9DE13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3CA33858-1924-4D36-8C3B-0FC9EBF518F9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D949-6DF0-47BD-9CEC-6A490B3B77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2D60E9BB-825A-43D0-9435-5C5CAF21BA4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8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17B4-D131-4407-96E7-BB52BB604C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88E0-0C03-400D-9460-45E96CE45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71A92763-1551-421F-963A-B588A707F57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3710-D2F0-4C3A-AF19-F774EC96F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D16D8FA5-9029-42C4-A278-1D7FB3DFCEDD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97D5-30E5-40D6-A2A2-2CB197728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884ACFB1-FFFE-4CEC-AA3B-50AB558771D9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F0C3-D275-463D-AACB-BB4D36419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A52512D9-71C8-444A-8E2C-DC009A5B29E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767E-0041-4613-B076-07FB0BD87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29883480-57C1-4078-AA47-3C4B1B57DE2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050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053"/>
          <p:cNvSpPr/>
          <p:nvPr/>
        </p:nvSpPr>
        <p:spPr>
          <a:xfrm>
            <a:off x="8258040" y="650700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D504EAA2-FD7B-40A7-B103-87FDB10E7176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055" descr=""/>
          <p:cNvPicPr/>
          <p:nvPr/>
        </p:nvPicPr>
        <p:blipFill>
          <a:blip r:embed="rId3"/>
          <a:srcRect l="46677" t="0" r="0" b="0"/>
          <a:stretch/>
        </p:blipFill>
        <p:spPr>
          <a:xfrm>
            <a:off x="746748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CD6ACC39-7ECE-4CFB-818C-57862E3F053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FAC-20A0-43E6-BDD8-E1A9D5D765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25136F42-D38D-4822-9303-CD19EFAD28E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DDDE-0AFF-4662-BB7D-FAA39E8B121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1905120" y="1676520"/>
            <a:ext cx="70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6" descr=""/>
          <p:cNvPicPr/>
          <p:nvPr/>
        </p:nvPicPr>
        <p:blipFill>
          <a:blip r:embed="rId1"/>
          <a:srcRect l="46677" t="0" r="0" b="0"/>
          <a:stretch/>
        </p:blipFill>
        <p:spPr>
          <a:xfrm>
            <a:off x="7462800" y="-936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7"/>
          <p:cNvSpPr/>
          <p:nvPr/>
        </p:nvSpPr>
        <p:spPr>
          <a:xfrm>
            <a:off x="7936200" y="6611760"/>
            <a:ext cx="9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Tata McGr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9" descr=""/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727" name="TextBox 7" descr=""/>
          <p:cNvPicPr/>
          <p:nvPr/>
        </p:nvPicPr>
        <p:blipFill>
          <a:blip r:embed="rId3"/>
          <a:stretch/>
        </p:blipFill>
        <p:spPr>
          <a:xfrm>
            <a:off x="-73080" y="0"/>
            <a:ext cx="229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690408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&amp; Diseconomies of Sc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1056"/>
          <p:cNvGrpSpPr/>
          <p:nvPr/>
        </p:nvGrpSpPr>
        <p:grpSpPr>
          <a:xfrm>
            <a:off x="64800" y="1600200"/>
            <a:ext cx="8691840" cy="5254560"/>
            <a:chOff x="64800" y="1600200"/>
            <a:chExt cx="8691840" cy="5254560"/>
          </a:xfrm>
        </p:grpSpPr>
        <p:sp>
          <p:nvSpPr>
            <p:cNvPr id="782" name="Rectangle 1030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031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032"/>
            <p:cNvSpPr/>
            <p:nvPr/>
          </p:nvSpPr>
          <p:spPr>
            <a:xfrm>
              <a:off x="1454040" y="2216160"/>
              <a:ext cx="7302600" cy="3873600"/>
            </a:xfrm>
            <a:prstGeom prst="rect">
              <a:avLst/>
            </a:prstGeom>
            <a:solidFill>
              <a:srgbClr val="ffc8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Group 1033"/>
            <p:cNvGrpSpPr/>
            <p:nvPr/>
          </p:nvGrpSpPr>
          <p:grpSpPr>
            <a:xfrm>
              <a:off x="1600200" y="2957400"/>
              <a:ext cx="2019240" cy="1177920"/>
              <a:chOff x="1600200" y="2957400"/>
              <a:chExt cx="2019240" cy="1177920"/>
            </a:xfrm>
          </p:grpSpPr>
          <p:graphicFrame>
            <p:nvGraphicFramePr>
              <p:cNvPr id="786" name="Object 1034"/>
              <p:cNvGraphicFramePr/>
              <p:nvPr/>
            </p:nvGraphicFramePr>
            <p:xfrm>
              <a:off x="1600200" y="3505320"/>
              <a:ext cx="2019240" cy="63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87" name="Object 103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3505320"/>
                        <a:ext cx="2019240" cy="63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8" name="Rectangle 1035"/>
              <p:cNvSpPr/>
              <p:nvPr/>
            </p:nvSpPr>
            <p:spPr>
              <a:xfrm>
                <a:off x="2054160" y="2957400"/>
                <a:ext cx="119196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100-uni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1036"/>
            <p:cNvGrpSpPr/>
            <p:nvPr/>
          </p:nvGrpSpPr>
          <p:grpSpPr>
            <a:xfrm>
              <a:off x="3124080" y="3643200"/>
              <a:ext cx="2019600" cy="1101960"/>
              <a:chOff x="3124080" y="3643200"/>
              <a:chExt cx="2019600" cy="1101960"/>
            </a:xfrm>
          </p:grpSpPr>
          <p:graphicFrame>
            <p:nvGraphicFramePr>
              <p:cNvPr id="790" name="Object 1037"/>
              <p:cNvGraphicFramePr/>
              <p:nvPr/>
            </p:nvGraphicFramePr>
            <p:xfrm>
              <a:off x="3124080" y="4114800"/>
              <a:ext cx="2019600" cy="630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91" name="Object 103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24080" y="4114800"/>
                        <a:ext cx="2019600" cy="63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92" name="Rectangle 1038"/>
              <p:cNvSpPr/>
              <p:nvPr/>
            </p:nvSpPr>
            <p:spPr>
              <a:xfrm>
                <a:off x="3502080" y="3643200"/>
                <a:ext cx="119196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200-uni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039"/>
            <p:cNvGrpSpPr/>
            <p:nvPr/>
          </p:nvGrpSpPr>
          <p:grpSpPr>
            <a:xfrm>
              <a:off x="4800600" y="4024440"/>
              <a:ext cx="2019240" cy="1177920"/>
              <a:chOff x="4800600" y="4024440"/>
              <a:chExt cx="2019240" cy="1177920"/>
            </a:xfrm>
          </p:grpSpPr>
          <p:graphicFrame>
            <p:nvGraphicFramePr>
              <p:cNvPr id="794" name="Object 1040"/>
              <p:cNvGraphicFramePr/>
              <p:nvPr/>
            </p:nvGraphicFramePr>
            <p:xfrm>
              <a:off x="4800600" y="4572000"/>
              <a:ext cx="2019240" cy="630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95" name="Object 1040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00600" y="4572000"/>
                        <a:ext cx="2019240" cy="63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96" name="Rectangle 1041"/>
              <p:cNvSpPr/>
              <p:nvPr/>
            </p:nvSpPr>
            <p:spPr>
              <a:xfrm>
                <a:off x="5254560" y="4024440"/>
                <a:ext cx="119196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300-uni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1042"/>
            <p:cNvGrpSpPr/>
            <p:nvPr/>
          </p:nvGrpSpPr>
          <p:grpSpPr>
            <a:xfrm>
              <a:off x="6629400" y="3871800"/>
              <a:ext cx="2019240" cy="1025640"/>
              <a:chOff x="6629400" y="3871800"/>
              <a:chExt cx="2019240" cy="1025640"/>
            </a:xfrm>
          </p:grpSpPr>
          <p:graphicFrame>
            <p:nvGraphicFramePr>
              <p:cNvPr id="798" name="Object 1043"/>
              <p:cNvGraphicFramePr/>
              <p:nvPr/>
            </p:nvGraphicFramePr>
            <p:xfrm>
              <a:off x="6629400" y="4267080"/>
              <a:ext cx="2019240" cy="630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99" name="Object 104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629400" y="4267080"/>
                        <a:ext cx="2019240" cy="63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00" name="Rectangle 1044"/>
              <p:cNvSpPr/>
              <p:nvPr/>
            </p:nvSpPr>
            <p:spPr>
              <a:xfrm>
                <a:off x="7007400" y="3871800"/>
                <a:ext cx="119196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400-uni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Rectangle 1045"/>
            <p:cNvSpPr/>
            <p:nvPr/>
          </p:nvSpPr>
          <p:spPr>
            <a:xfrm>
              <a:off x="3719880" y="6157800"/>
              <a:ext cx="134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046"/>
            <p:cNvSpPr/>
            <p:nvPr/>
          </p:nvSpPr>
          <p:spPr>
            <a:xfrm>
              <a:off x="5038560" y="6400800"/>
              <a:ext cx="105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047"/>
            <p:cNvSpPr/>
            <p:nvPr/>
          </p:nvSpPr>
          <p:spPr>
            <a:xfrm>
              <a:off x="64800" y="3186000"/>
              <a:ext cx="139140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nit cos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f outpu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048"/>
            <p:cNvSpPr/>
            <p:nvPr/>
          </p:nvSpPr>
          <p:spPr>
            <a:xfrm>
              <a:off x="8229600" y="6397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1049"/>
            <p:cNvSpPr/>
            <p:nvPr/>
          </p:nvSpPr>
          <p:spPr>
            <a:xfrm>
              <a:off x="380880" y="1600200"/>
              <a:ext cx="7010640" cy="429120"/>
            </a:xfrm>
            <a:prstGeom prst="rect">
              <a:avLst/>
            </a:prstGeom>
            <a:solidFill>
              <a:srgbClr val="e1e1d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conomies of Scale and the Learning Curve work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1050"/>
            <p:cNvSpPr/>
            <p:nvPr/>
          </p:nvSpPr>
          <p:spPr>
            <a:xfrm>
              <a:off x="2209680" y="2209680"/>
              <a:ext cx="762120" cy="838440"/>
            </a:xfrm>
            <a:prstGeom prst="downArrow">
              <a:avLst>
                <a:gd name="adj1" fmla="val 50000"/>
                <a:gd name="adj2" fmla="val 2750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1051"/>
            <p:cNvSpPr/>
            <p:nvPr/>
          </p:nvSpPr>
          <p:spPr>
            <a:xfrm>
              <a:off x="3809880" y="2209680"/>
              <a:ext cx="762120" cy="1295640"/>
            </a:xfrm>
            <a:prstGeom prst="downArrow">
              <a:avLst>
                <a:gd name="adj1" fmla="val 50000"/>
                <a:gd name="adj2" fmla="val 4250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1052"/>
            <p:cNvSpPr/>
            <p:nvPr/>
          </p:nvSpPr>
          <p:spPr>
            <a:xfrm>
              <a:off x="5410080" y="2209680"/>
              <a:ext cx="762120" cy="1828800"/>
            </a:xfrm>
            <a:prstGeom prst="downArrow">
              <a:avLst>
                <a:gd name="adj1" fmla="val 50000"/>
                <a:gd name="adj2" fmla="val 5999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053"/>
            <p:cNvSpPr/>
            <p:nvPr/>
          </p:nvSpPr>
          <p:spPr>
            <a:xfrm>
              <a:off x="3886200" y="5562720"/>
              <a:ext cx="4724280" cy="429120"/>
            </a:xfrm>
            <a:prstGeom prst="rect">
              <a:avLst/>
            </a:prstGeom>
            <a:solidFill>
              <a:srgbClr val="e1e1d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economies of Scale start work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1054"/>
            <p:cNvSpPr/>
            <p:nvPr/>
          </p:nvSpPr>
          <p:spPr>
            <a:xfrm>
              <a:off x="7238880" y="4800600"/>
              <a:ext cx="685800" cy="6714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Text Box 105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D610790E-9BB8-401E-8F6F-89DD4FCE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429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rning Cur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3733920" y="533520"/>
            <a:ext cx="5181480" cy="109944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plants produce more products, they gain experience in the best production methods and reduce their costs per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6"/>
          <p:cNvGrpSpPr/>
          <p:nvPr/>
        </p:nvGrpSpPr>
        <p:grpSpPr>
          <a:xfrm>
            <a:off x="683280" y="1987560"/>
            <a:ext cx="7827840" cy="4183920"/>
            <a:chOff x="683280" y="1987560"/>
            <a:chExt cx="7827840" cy="4183920"/>
          </a:xfrm>
        </p:grpSpPr>
        <p:sp>
          <p:nvSpPr>
            <p:cNvPr id="815" name="Rectangle 7"/>
            <p:cNvSpPr/>
            <p:nvPr/>
          </p:nvSpPr>
          <p:spPr>
            <a:xfrm>
              <a:off x="2158920" y="1987560"/>
              <a:ext cx="5759640" cy="3573360"/>
            </a:xfrm>
            <a:prstGeom prst="rect">
              <a:avLst/>
            </a:prstGeom>
            <a:solidFill>
              <a:srgbClr val="a6f69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rc 8"/>
            <p:cNvSpPr/>
            <p:nvPr/>
          </p:nvSpPr>
          <p:spPr>
            <a:xfrm>
              <a:off x="2508120" y="2154240"/>
              <a:ext cx="5077080" cy="279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e1e1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2314440" y="5686560"/>
              <a:ext cx="61966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Total accumulated production of uni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683280" y="2975040"/>
              <a:ext cx="1394640" cy="12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ost o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er uni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11"/>
            <p:cNvGrpSpPr/>
            <p:nvPr/>
          </p:nvGrpSpPr>
          <p:grpSpPr>
            <a:xfrm>
              <a:off x="3123720" y="2514600"/>
              <a:ext cx="2286360" cy="533520"/>
              <a:chOff x="3123720" y="2514600"/>
              <a:chExt cx="2286360" cy="533520"/>
            </a:xfrm>
          </p:grpSpPr>
          <p:sp>
            <p:nvSpPr>
              <p:cNvPr id="820" name="Line 12"/>
              <p:cNvSpPr/>
              <p:nvPr/>
            </p:nvSpPr>
            <p:spPr>
              <a:xfrm flipH="1">
                <a:off x="3123720" y="2819520"/>
                <a:ext cx="83844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Text Box 13"/>
              <p:cNvSpPr/>
              <p:nvPr/>
            </p:nvSpPr>
            <p:spPr>
              <a:xfrm>
                <a:off x="4038480" y="2514600"/>
                <a:ext cx="1371600" cy="398880"/>
              </a:xfrm>
              <a:prstGeom prst="rect">
                <a:avLst/>
              </a:prstGeom>
              <a:solidFill>
                <a:srgbClr val="e1e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esterda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4"/>
            <p:cNvGrpSpPr/>
            <p:nvPr/>
          </p:nvGrpSpPr>
          <p:grpSpPr>
            <a:xfrm>
              <a:off x="4419720" y="3124080"/>
              <a:ext cx="1523880" cy="990720"/>
              <a:chOff x="4419720" y="3124080"/>
              <a:chExt cx="1523880" cy="990720"/>
            </a:xfrm>
          </p:grpSpPr>
          <p:sp>
            <p:nvSpPr>
              <p:cNvPr id="823" name="Line 15"/>
              <p:cNvSpPr/>
              <p:nvPr/>
            </p:nvSpPr>
            <p:spPr>
              <a:xfrm flipH="1">
                <a:off x="4419720" y="3505320"/>
                <a:ext cx="45720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Text Box 16"/>
              <p:cNvSpPr/>
              <p:nvPr/>
            </p:nvSpPr>
            <p:spPr>
              <a:xfrm>
                <a:off x="5029200" y="3124080"/>
                <a:ext cx="914400" cy="398880"/>
              </a:xfrm>
              <a:prstGeom prst="rect">
                <a:avLst/>
              </a:prstGeom>
              <a:solidFill>
                <a:srgbClr val="e1e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da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7"/>
            <p:cNvGrpSpPr/>
            <p:nvPr/>
          </p:nvGrpSpPr>
          <p:grpSpPr>
            <a:xfrm>
              <a:off x="6400800" y="3505320"/>
              <a:ext cx="1371600" cy="1143000"/>
              <a:chOff x="6400800" y="3505320"/>
              <a:chExt cx="1371600" cy="1143000"/>
            </a:xfrm>
          </p:grpSpPr>
          <p:sp>
            <p:nvSpPr>
              <p:cNvPr id="826" name="Line 18"/>
              <p:cNvSpPr/>
              <p:nvPr/>
            </p:nvSpPr>
            <p:spPr>
              <a:xfrm>
                <a:off x="6553080" y="3962520"/>
                <a:ext cx="0" cy="685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19"/>
              <p:cNvSpPr/>
              <p:nvPr/>
            </p:nvSpPr>
            <p:spPr>
              <a:xfrm>
                <a:off x="6400800" y="3505320"/>
                <a:ext cx="1371600" cy="398880"/>
              </a:xfrm>
              <a:prstGeom prst="rect">
                <a:avLst/>
              </a:prstGeom>
              <a:solidFill>
                <a:srgbClr val="e1e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m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8" name="Text Box 20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A5ED7206-3072-42E7-83A8-A6C8780DD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Capacity focus – the idea that a production facility works best when it is concentrated on a limited set of production objectives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Focused factory or plant within a plant (PWP) concept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Capacity flexibility – the ability to rapidly increase or decrease product levels or the ability to shift rapidly from one product or service to another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mes from the plant, processes, and workers or from strategies that use the capacity of other organization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34"/>
          <p:cNvSpPr/>
          <p:nvPr/>
        </p:nvSpPr>
        <p:spPr>
          <a:xfrm>
            <a:off x="304920" y="914400"/>
            <a:ext cx="861048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22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Planning: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3"/>
          <p:cNvGrpSpPr/>
          <p:nvPr/>
        </p:nvGrpSpPr>
        <p:grpSpPr>
          <a:xfrm>
            <a:off x="1697040" y="1643040"/>
            <a:ext cx="6943680" cy="558720"/>
            <a:chOff x="1697040" y="1643040"/>
            <a:chExt cx="6943680" cy="558720"/>
          </a:xfrm>
        </p:grpSpPr>
        <p:sp>
          <p:nvSpPr>
            <p:cNvPr id="836" name="Line 7"/>
            <p:cNvSpPr/>
            <p:nvPr/>
          </p:nvSpPr>
          <p:spPr>
            <a:xfrm>
              <a:off x="8108640" y="192240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"/>
            <p:cNvSpPr/>
            <p:nvPr/>
          </p:nvSpPr>
          <p:spPr>
            <a:xfrm>
              <a:off x="3346200" y="192240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9"/>
            <p:cNvSpPr/>
            <p:nvPr/>
          </p:nvSpPr>
          <p:spPr>
            <a:xfrm>
              <a:off x="5738760" y="19224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10"/>
            <p:cNvSpPr/>
            <p:nvPr/>
          </p:nvSpPr>
          <p:spPr>
            <a:xfrm>
              <a:off x="1697040" y="1643040"/>
              <a:ext cx="165708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11"/>
            <p:cNvSpPr/>
            <p:nvPr/>
          </p:nvSpPr>
          <p:spPr>
            <a:xfrm>
              <a:off x="4089240" y="1643040"/>
              <a:ext cx="165744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AutoShape 12"/>
            <p:cNvSpPr/>
            <p:nvPr/>
          </p:nvSpPr>
          <p:spPr>
            <a:xfrm>
              <a:off x="6481440" y="1643040"/>
              <a:ext cx="165744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Rectangle 14"/>
          <p:cNvSpPr/>
          <p:nvPr/>
        </p:nvSpPr>
        <p:spPr>
          <a:xfrm>
            <a:off x="279360" y="1447920"/>
            <a:ext cx="134316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5"/>
          <p:cNvSpPr/>
          <p:nvPr/>
        </p:nvSpPr>
        <p:spPr>
          <a:xfrm>
            <a:off x="2155320" y="259092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6"/>
          <p:cNvSpPr/>
          <p:nvPr/>
        </p:nvSpPr>
        <p:spPr>
          <a:xfrm>
            <a:off x="4647960" y="259092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7"/>
          <p:cNvSpPr/>
          <p:nvPr/>
        </p:nvSpPr>
        <p:spPr>
          <a:xfrm>
            <a:off x="7170480" y="259092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8"/>
          <p:cNvSpPr/>
          <p:nvPr/>
        </p:nvSpPr>
        <p:spPr>
          <a:xfrm>
            <a:off x="1981080" y="990720"/>
            <a:ext cx="5257800" cy="4597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balanced stages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19"/>
          <p:cNvGrpSpPr/>
          <p:nvPr/>
        </p:nvGrpSpPr>
        <p:grpSpPr>
          <a:xfrm>
            <a:off x="1874880" y="4691160"/>
            <a:ext cx="6943680" cy="558720"/>
            <a:chOff x="1874880" y="4691160"/>
            <a:chExt cx="6943680" cy="558720"/>
          </a:xfrm>
        </p:grpSpPr>
        <p:sp>
          <p:nvSpPr>
            <p:cNvPr id="848" name="Line 20"/>
            <p:cNvSpPr/>
            <p:nvPr/>
          </p:nvSpPr>
          <p:spPr>
            <a:xfrm>
              <a:off x="8286480" y="497052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21"/>
            <p:cNvSpPr/>
            <p:nvPr/>
          </p:nvSpPr>
          <p:spPr>
            <a:xfrm>
              <a:off x="3524040" y="497052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22"/>
            <p:cNvSpPr/>
            <p:nvPr/>
          </p:nvSpPr>
          <p:spPr>
            <a:xfrm>
              <a:off x="5916600" y="497052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23"/>
            <p:cNvSpPr/>
            <p:nvPr/>
          </p:nvSpPr>
          <p:spPr>
            <a:xfrm>
              <a:off x="1874880" y="4691160"/>
              <a:ext cx="165708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24"/>
            <p:cNvSpPr/>
            <p:nvPr/>
          </p:nvSpPr>
          <p:spPr>
            <a:xfrm>
              <a:off x="4267080" y="4691160"/>
              <a:ext cx="165744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25"/>
            <p:cNvSpPr/>
            <p:nvPr/>
          </p:nvSpPr>
          <p:spPr>
            <a:xfrm>
              <a:off x="6659280" y="4691160"/>
              <a:ext cx="165744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Rectangle 26"/>
          <p:cNvSpPr/>
          <p:nvPr/>
        </p:nvSpPr>
        <p:spPr>
          <a:xfrm>
            <a:off x="457200" y="4495680"/>
            <a:ext cx="134316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7"/>
          <p:cNvSpPr/>
          <p:nvPr/>
        </p:nvSpPr>
        <p:spPr>
          <a:xfrm>
            <a:off x="2333160" y="563868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8"/>
          <p:cNvSpPr/>
          <p:nvPr/>
        </p:nvSpPr>
        <p:spPr>
          <a:xfrm>
            <a:off x="4825800" y="563868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9"/>
          <p:cNvSpPr/>
          <p:nvPr/>
        </p:nvSpPr>
        <p:spPr>
          <a:xfrm>
            <a:off x="7348320" y="563868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0"/>
          <p:cNvSpPr/>
          <p:nvPr/>
        </p:nvSpPr>
        <p:spPr>
          <a:xfrm>
            <a:off x="2133720" y="4038480"/>
            <a:ext cx="5257800" cy="4597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lanced stages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86104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aintaining System Bal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utput of one stage is the exact input requirements for the next stag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3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CF46D2E7-3DE1-404B-9114-9D96FA00F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8" dur="1" fill="hold"/>
                                  <p:tgtEl>
                                    <p:spTgt spid="8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Capacity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Forecast sales within each individual produ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alculate equipment and labor requirements to meet th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Project equipment and labor availability over the planning horiz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6494C7F1-18C2-472D-BD7E-62A355C51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8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18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apacity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1905120" y="1295280"/>
            <a:ext cx="72388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nufacturer produces two lines of mustard, FancyFine and Generic line.  Each is sold in small and family-size plastic bott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table shows forecast demand for the next four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7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6933960" cy="235260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8"/>
          <p:cNvSpPr/>
          <p:nvPr/>
        </p:nvSpPr>
        <p:spPr>
          <a:xfrm>
            <a:off x="8229600" y="639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BF46D36F-524B-4B9B-A992-EF7E4B9AA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apacity Requirements (Continued): Product from a Capacity View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583320" cy="28195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 Are we really producing two different types of mustards from the standpoint of capacity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No, it’s the same product just packaged differently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7"/>
          <p:cNvGrpSpPr/>
          <p:nvPr/>
        </p:nvGrpSpPr>
        <p:grpSpPr>
          <a:xfrm>
            <a:off x="1981080" y="4800600"/>
            <a:ext cx="4368960" cy="1336680"/>
            <a:chOff x="1981080" y="4800600"/>
            <a:chExt cx="4368960" cy="1336680"/>
          </a:xfrm>
        </p:grpSpPr>
        <p:grpSp>
          <p:nvGrpSpPr>
            <p:cNvPr id="878" name="Group 9"/>
            <p:cNvGrpSpPr/>
            <p:nvPr/>
          </p:nvGrpSpPr>
          <p:grpSpPr>
            <a:xfrm>
              <a:off x="2344680" y="4800600"/>
              <a:ext cx="3654360" cy="888840"/>
              <a:chOff x="2344680" y="4800600"/>
              <a:chExt cx="3654360" cy="888840"/>
            </a:xfrm>
          </p:grpSpPr>
          <p:sp>
            <p:nvSpPr>
              <p:cNvPr id="879" name="Freeform 7"/>
              <p:cNvSpPr/>
              <p:nvPr/>
            </p:nvSpPr>
            <p:spPr>
              <a:xfrm>
                <a:off x="2344680" y="4800600"/>
                <a:ext cx="3654360" cy="888840"/>
              </a:xfrm>
              <a:custGeom>
                <a:avLst/>
                <a:gdLst/>
                <a:ahLst/>
                <a:rect l="l" t="t" r="r" b="b"/>
                <a:pathLst>
                  <a:path w="2302" h="560">
                    <a:moveTo>
                      <a:pt x="42" y="81"/>
                    </a:moveTo>
                    <a:lnTo>
                      <a:pt x="69" y="59"/>
                    </a:lnTo>
                    <a:lnTo>
                      <a:pt x="96" y="41"/>
                    </a:lnTo>
                    <a:lnTo>
                      <a:pt x="122" y="26"/>
                    </a:lnTo>
                    <a:lnTo>
                      <a:pt x="150" y="15"/>
                    </a:lnTo>
                    <a:lnTo>
                      <a:pt x="176" y="9"/>
                    </a:lnTo>
                    <a:lnTo>
                      <a:pt x="207" y="3"/>
                    </a:lnTo>
                    <a:lnTo>
                      <a:pt x="239" y="2"/>
                    </a:lnTo>
                    <a:lnTo>
                      <a:pt x="270" y="4"/>
                    </a:lnTo>
                    <a:lnTo>
                      <a:pt x="306" y="10"/>
                    </a:lnTo>
                    <a:lnTo>
                      <a:pt x="340" y="17"/>
                    </a:lnTo>
                    <a:lnTo>
                      <a:pt x="376" y="24"/>
                    </a:lnTo>
                    <a:lnTo>
                      <a:pt x="412" y="30"/>
                    </a:lnTo>
                    <a:lnTo>
                      <a:pt x="455" y="35"/>
                    </a:lnTo>
                    <a:lnTo>
                      <a:pt x="502" y="39"/>
                    </a:lnTo>
                    <a:lnTo>
                      <a:pt x="563" y="46"/>
                    </a:lnTo>
                    <a:lnTo>
                      <a:pt x="642" y="53"/>
                    </a:lnTo>
                    <a:lnTo>
                      <a:pt x="710" y="60"/>
                    </a:lnTo>
                    <a:lnTo>
                      <a:pt x="899" y="68"/>
                    </a:lnTo>
                    <a:lnTo>
                      <a:pt x="1106" y="71"/>
                    </a:lnTo>
                    <a:lnTo>
                      <a:pt x="1241" y="71"/>
                    </a:lnTo>
                    <a:lnTo>
                      <a:pt x="1347" y="71"/>
                    </a:lnTo>
                    <a:lnTo>
                      <a:pt x="1458" y="67"/>
                    </a:lnTo>
                    <a:lnTo>
                      <a:pt x="1569" y="60"/>
                    </a:lnTo>
                    <a:lnTo>
                      <a:pt x="1731" y="44"/>
                    </a:lnTo>
                    <a:lnTo>
                      <a:pt x="1827" y="34"/>
                    </a:lnTo>
                    <a:lnTo>
                      <a:pt x="1956" y="17"/>
                    </a:lnTo>
                    <a:lnTo>
                      <a:pt x="2009" y="7"/>
                    </a:lnTo>
                    <a:lnTo>
                      <a:pt x="2049" y="0"/>
                    </a:lnTo>
                    <a:lnTo>
                      <a:pt x="2089" y="0"/>
                    </a:lnTo>
                    <a:lnTo>
                      <a:pt x="2129" y="9"/>
                    </a:lnTo>
                    <a:lnTo>
                      <a:pt x="2172" y="26"/>
                    </a:lnTo>
                    <a:lnTo>
                      <a:pt x="2201" y="46"/>
                    </a:lnTo>
                    <a:lnTo>
                      <a:pt x="2230" y="68"/>
                    </a:lnTo>
                    <a:lnTo>
                      <a:pt x="2281" y="139"/>
                    </a:lnTo>
                    <a:lnTo>
                      <a:pt x="2301" y="227"/>
                    </a:lnTo>
                    <a:lnTo>
                      <a:pt x="2286" y="326"/>
                    </a:lnTo>
                    <a:lnTo>
                      <a:pt x="2195" y="444"/>
                    </a:lnTo>
                    <a:lnTo>
                      <a:pt x="1988" y="508"/>
                    </a:lnTo>
                    <a:lnTo>
                      <a:pt x="1368" y="559"/>
                    </a:lnTo>
                    <a:lnTo>
                      <a:pt x="779" y="535"/>
                    </a:lnTo>
                    <a:lnTo>
                      <a:pt x="297" y="467"/>
                    </a:lnTo>
                    <a:lnTo>
                      <a:pt x="95" y="400"/>
                    </a:lnTo>
                    <a:lnTo>
                      <a:pt x="42" y="349"/>
                    </a:lnTo>
                    <a:lnTo>
                      <a:pt x="4" y="258"/>
                    </a:lnTo>
                    <a:lnTo>
                      <a:pt x="0" y="180"/>
                    </a:lnTo>
                    <a:lnTo>
                      <a:pt x="42" y="81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8"/>
              <p:cNvSpPr/>
              <p:nvPr/>
            </p:nvSpPr>
            <p:spPr>
              <a:xfrm>
                <a:off x="2351160" y="4867200"/>
                <a:ext cx="3646440" cy="819000"/>
              </a:xfrm>
              <a:custGeom>
                <a:avLst/>
                <a:gdLst/>
                <a:ahLst/>
                <a:rect l="l" t="t" r="r" b="b"/>
                <a:pathLst>
                  <a:path w="2297" h="516">
                    <a:moveTo>
                      <a:pt x="37" y="35"/>
                    </a:moveTo>
                    <a:lnTo>
                      <a:pt x="65" y="23"/>
                    </a:lnTo>
                    <a:lnTo>
                      <a:pt x="90" y="15"/>
                    </a:lnTo>
                    <a:lnTo>
                      <a:pt x="120" y="9"/>
                    </a:lnTo>
                    <a:lnTo>
                      <a:pt x="152" y="5"/>
                    </a:lnTo>
                    <a:lnTo>
                      <a:pt x="186" y="5"/>
                    </a:lnTo>
                    <a:lnTo>
                      <a:pt x="224" y="10"/>
                    </a:lnTo>
                    <a:lnTo>
                      <a:pt x="264" y="16"/>
                    </a:lnTo>
                    <a:lnTo>
                      <a:pt x="290" y="22"/>
                    </a:lnTo>
                    <a:lnTo>
                      <a:pt x="319" y="27"/>
                    </a:lnTo>
                    <a:lnTo>
                      <a:pt x="346" y="30"/>
                    </a:lnTo>
                    <a:lnTo>
                      <a:pt x="372" y="33"/>
                    </a:lnTo>
                    <a:lnTo>
                      <a:pt x="404" y="38"/>
                    </a:lnTo>
                    <a:lnTo>
                      <a:pt x="433" y="40"/>
                    </a:lnTo>
                    <a:lnTo>
                      <a:pt x="471" y="43"/>
                    </a:lnTo>
                    <a:lnTo>
                      <a:pt x="518" y="47"/>
                    </a:lnTo>
                    <a:lnTo>
                      <a:pt x="559" y="50"/>
                    </a:lnTo>
                    <a:lnTo>
                      <a:pt x="604" y="52"/>
                    </a:lnTo>
                    <a:lnTo>
                      <a:pt x="657" y="55"/>
                    </a:lnTo>
                    <a:lnTo>
                      <a:pt x="706" y="57"/>
                    </a:lnTo>
                    <a:lnTo>
                      <a:pt x="785" y="61"/>
                    </a:lnTo>
                    <a:lnTo>
                      <a:pt x="875" y="64"/>
                    </a:lnTo>
                    <a:lnTo>
                      <a:pt x="957" y="65"/>
                    </a:lnTo>
                    <a:lnTo>
                      <a:pt x="1026" y="65"/>
                    </a:lnTo>
                    <a:lnTo>
                      <a:pt x="1105" y="66"/>
                    </a:lnTo>
                    <a:lnTo>
                      <a:pt x="1191" y="67"/>
                    </a:lnTo>
                    <a:lnTo>
                      <a:pt x="1287" y="67"/>
                    </a:lnTo>
                    <a:lnTo>
                      <a:pt x="1382" y="67"/>
                    </a:lnTo>
                    <a:lnTo>
                      <a:pt x="1436" y="67"/>
                    </a:lnTo>
                    <a:lnTo>
                      <a:pt x="1486" y="66"/>
                    </a:lnTo>
                    <a:lnTo>
                      <a:pt x="1536" y="65"/>
                    </a:lnTo>
                    <a:lnTo>
                      <a:pt x="1584" y="62"/>
                    </a:lnTo>
                    <a:lnTo>
                      <a:pt x="1643" y="57"/>
                    </a:lnTo>
                    <a:lnTo>
                      <a:pt x="1706" y="52"/>
                    </a:lnTo>
                    <a:lnTo>
                      <a:pt x="1781" y="45"/>
                    </a:lnTo>
                    <a:lnTo>
                      <a:pt x="1855" y="38"/>
                    </a:lnTo>
                    <a:lnTo>
                      <a:pt x="1920" y="31"/>
                    </a:lnTo>
                    <a:lnTo>
                      <a:pt x="1975" y="23"/>
                    </a:lnTo>
                    <a:lnTo>
                      <a:pt x="2036" y="13"/>
                    </a:lnTo>
                    <a:lnTo>
                      <a:pt x="2081" y="5"/>
                    </a:lnTo>
                    <a:lnTo>
                      <a:pt x="2106" y="1"/>
                    </a:lnTo>
                    <a:lnTo>
                      <a:pt x="2129" y="0"/>
                    </a:lnTo>
                    <a:lnTo>
                      <a:pt x="2156" y="3"/>
                    </a:lnTo>
                    <a:lnTo>
                      <a:pt x="2180" y="9"/>
                    </a:lnTo>
                    <a:lnTo>
                      <a:pt x="2207" y="20"/>
                    </a:lnTo>
                    <a:lnTo>
                      <a:pt x="2236" y="35"/>
                    </a:lnTo>
                    <a:lnTo>
                      <a:pt x="2276" y="96"/>
                    </a:lnTo>
                    <a:lnTo>
                      <a:pt x="2296" y="184"/>
                    </a:lnTo>
                    <a:lnTo>
                      <a:pt x="2281" y="282"/>
                    </a:lnTo>
                    <a:lnTo>
                      <a:pt x="2191" y="400"/>
                    </a:lnTo>
                    <a:lnTo>
                      <a:pt x="1983" y="464"/>
                    </a:lnTo>
                    <a:lnTo>
                      <a:pt x="1363" y="515"/>
                    </a:lnTo>
                    <a:lnTo>
                      <a:pt x="775" y="491"/>
                    </a:lnTo>
                    <a:lnTo>
                      <a:pt x="293" y="424"/>
                    </a:lnTo>
                    <a:lnTo>
                      <a:pt x="90" y="357"/>
                    </a:lnTo>
                    <a:lnTo>
                      <a:pt x="37" y="306"/>
                    </a:lnTo>
                    <a:lnTo>
                      <a:pt x="0" y="214"/>
                    </a:lnTo>
                    <a:lnTo>
                      <a:pt x="16" y="77"/>
                    </a:lnTo>
                    <a:lnTo>
                      <a:pt x="37" y="35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12"/>
            <p:cNvGrpSpPr/>
            <p:nvPr/>
          </p:nvGrpSpPr>
          <p:grpSpPr>
            <a:xfrm>
              <a:off x="1981080" y="4916520"/>
              <a:ext cx="4368960" cy="804600"/>
              <a:chOff x="1981080" y="4916520"/>
              <a:chExt cx="4368960" cy="804600"/>
            </a:xfrm>
          </p:grpSpPr>
          <p:sp>
            <p:nvSpPr>
              <p:cNvPr id="882" name="Freeform 10"/>
              <p:cNvSpPr/>
              <p:nvPr/>
            </p:nvSpPr>
            <p:spPr>
              <a:xfrm>
                <a:off x="1981080" y="4916520"/>
                <a:ext cx="4368960" cy="804600"/>
              </a:xfrm>
              <a:custGeom>
                <a:avLst/>
                <a:gdLst/>
                <a:ahLst/>
                <a:rect l="l" t="t" r="r" b="b"/>
                <a:pathLst>
                  <a:path w="2752" h="507">
                    <a:moveTo>
                      <a:pt x="292" y="2"/>
                    </a:moveTo>
                    <a:lnTo>
                      <a:pt x="255" y="5"/>
                    </a:lnTo>
                    <a:lnTo>
                      <a:pt x="228" y="9"/>
                    </a:lnTo>
                    <a:lnTo>
                      <a:pt x="196" y="17"/>
                    </a:lnTo>
                    <a:lnTo>
                      <a:pt x="167" y="26"/>
                    </a:lnTo>
                    <a:lnTo>
                      <a:pt x="144" y="34"/>
                    </a:lnTo>
                    <a:lnTo>
                      <a:pt x="122" y="43"/>
                    </a:lnTo>
                    <a:lnTo>
                      <a:pt x="100" y="53"/>
                    </a:lnTo>
                    <a:lnTo>
                      <a:pt x="82" y="65"/>
                    </a:lnTo>
                    <a:lnTo>
                      <a:pt x="64" y="78"/>
                    </a:lnTo>
                    <a:lnTo>
                      <a:pt x="50" y="92"/>
                    </a:lnTo>
                    <a:lnTo>
                      <a:pt x="35" y="108"/>
                    </a:lnTo>
                    <a:lnTo>
                      <a:pt x="21" y="127"/>
                    </a:lnTo>
                    <a:lnTo>
                      <a:pt x="11" y="147"/>
                    </a:lnTo>
                    <a:lnTo>
                      <a:pt x="3" y="171"/>
                    </a:lnTo>
                    <a:lnTo>
                      <a:pt x="0" y="188"/>
                    </a:lnTo>
                    <a:lnTo>
                      <a:pt x="0" y="207"/>
                    </a:lnTo>
                    <a:lnTo>
                      <a:pt x="3" y="227"/>
                    </a:lnTo>
                    <a:lnTo>
                      <a:pt x="8" y="246"/>
                    </a:lnTo>
                    <a:lnTo>
                      <a:pt x="15" y="261"/>
                    </a:lnTo>
                    <a:lnTo>
                      <a:pt x="24" y="277"/>
                    </a:lnTo>
                    <a:lnTo>
                      <a:pt x="39" y="293"/>
                    </a:lnTo>
                    <a:lnTo>
                      <a:pt x="52" y="307"/>
                    </a:lnTo>
                    <a:lnTo>
                      <a:pt x="74" y="324"/>
                    </a:lnTo>
                    <a:lnTo>
                      <a:pt x="93" y="336"/>
                    </a:lnTo>
                    <a:lnTo>
                      <a:pt x="119" y="348"/>
                    </a:lnTo>
                    <a:lnTo>
                      <a:pt x="146" y="357"/>
                    </a:lnTo>
                    <a:lnTo>
                      <a:pt x="189" y="371"/>
                    </a:lnTo>
                    <a:lnTo>
                      <a:pt x="255" y="387"/>
                    </a:lnTo>
                    <a:lnTo>
                      <a:pt x="404" y="421"/>
                    </a:lnTo>
                    <a:lnTo>
                      <a:pt x="553" y="445"/>
                    </a:lnTo>
                    <a:lnTo>
                      <a:pt x="732" y="469"/>
                    </a:lnTo>
                    <a:lnTo>
                      <a:pt x="976" y="492"/>
                    </a:lnTo>
                    <a:lnTo>
                      <a:pt x="1167" y="506"/>
                    </a:lnTo>
                    <a:lnTo>
                      <a:pt x="1475" y="506"/>
                    </a:lnTo>
                    <a:lnTo>
                      <a:pt x="1729" y="499"/>
                    </a:lnTo>
                    <a:lnTo>
                      <a:pt x="2132" y="475"/>
                    </a:lnTo>
                    <a:lnTo>
                      <a:pt x="2313" y="455"/>
                    </a:lnTo>
                    <a:lnTo>
                      <a:pt x="2488" y="417"/>
                    </a:lnTo>
                    <a:lnTo>
                      <a:pt x="2589" y="380"/>
                    </a:lnTo>
                    <a:lnTo>
                      <a:pt x="2623" y="364"/>
                    </a:lnTo>
                    <a:lnTo>
                      <a:pt x="2644" y="351"/>
                    </a:lnTo>
                    <a:lnTo>
                      <a:pt x="2666" y="336"/>
                    </a:lnTo>
                    <a:lnTo>
                      <a:pt x="2687" y="317"/>
                    </a:lnTo>
                    <a:lnTo>
                      <a:pt x="2703" y="300"/>
                    </a:lnTo>
                    <a:lnTo>
                      <a:pt x="2722" y="279"/>
                    </a:lnTo>
                    <a:lnTo>
                      <a:pt x="2738" y="251"/>
                    </a:lnTo>
                    <a:lnTo>
                      <a:pt x="2747" y="224"/>
                    </a:lnTo>
                    <a:lnTo>
                      <a:pt x="2751" y="202"/>
                    </a:lnTo>
                    <a:lnTo>
                      <a:pt x="2751" y="185"/>
                    </a:lnTo>
                    <a:lnTo>
                      <a:pt x="2747" y="162"/>
                    </a:lnTo>
                    <a:lnTo>
                      <a:pt x="2739" y="143"/>
                    </a:lnTo>
                    <a:lnTo>
                      <a:pt x="2727" y="121"/>
                    </a:lnTo>
                    <a:lnTo>
                      <a:pt x="2714" y="104"/>
                    </a:lnTo>
                    <a:lnTo>
                      <a:pt x="2695" y="86"/>
                    </a:lnTo>
                    <a:lnTo>
                      <a:pt x="2671" y="68"/>
                    </a:lnTo>
                    <a:lnTo>
                      <a:pt x="2650" y="55"/>
                    </a:lnTo>
                    <a:lnTo>
                      <a:pt x="2625" y="41"/>
                    </a:lnTo>
                    <a:lnTo>
                      <a:pt x="2597" y="30"/>
                    </a:lnTo>
                    <a:lnTo>
                      <a:pt x="2559" y="19"/>
                    </a:lnTo>
                    <a:lnTo>
                      <a:pt x="2528" y="11"/>
                    </a:lnTo>
                    <a:lnTo>
                      <a:pt x="2486" y="3"/>
                    </a:lnTo>
                    <a:lnTo>
                      <a:pt x="2445" y="0"/>
                    </a:lnTo>
                    <a:lnTo>
                      <a:pt x="2419" y="2"/>
                    </a:lnTo>
                    <a:lnTo>
                      <a:pt x="2393" y="5"/>
                    </a:lnTo>
                    <a:lnTo>
                      <a:pt x="2357" y="12"/>
                    </a:lnTo>
                    <a:lnTo>
                      <a:pt x="2313" y="24"/>
                    </a:lnTo>
                    <a:lnTo>
                      <a:pt x="2273" y="36"/>
                    </a:lnTo>
                    <a:lnTo>
                      <a:pt x="2238" y="46"/>
                    </a:lnTo>
                    <a:lnTo>
                      <a:pt x="2127" y="70"/>
                    </a:lnTo>
                    <a:lnTo>
                      <a:pt x="2087" y="78"/>
                    </a:lnTo>
                    <a:lnTo>
                      <a:pt x="2050" y="85"/>
                    </a:lnTo>
                    <a:lnTo>
                      <a:pt x="1997" y="92"/>
                    </a:lnTo>
                    <a:lnTo>
                      <a:pt x="1924" y="99"/>
                    </a:lnTo>
                    <a:lnTo>
                      <a:pt x="1841" y="104"/>
                    </a:lnTo>
                    <a:lnTo>
                      <a:pt x="1756" y="110"/>
                    </a:lnTo>
                    <a:lnTo>
                      <a:pt x="1626" y="114"/>
                    </a:lnTo>
                    <a:lnTo>
                      <a:pt x="1507" y="116"/>
                    </a:lnTo>
                    <a:lnTo>
                      <a:pt x="1381" y="115"/>
                    </a:lnTo>
                    <a:lnTo>
                      <a:pt x="1248" y="114"/>
                    </a:lnTo>
                    <a:lnTo>
                      <a:pt x="1169" y="111"/>
                    </a:lnTo>
                    <a:lnTo>
                      <a:pt x="1068" y="107"/>
                    </a:lnTo>
                    <a:lnTo>
                      <a:pt x="981" y="104"/>
                    </a:lnTo>
                    <a:lnTo>
                      <a:pt x="924" y="101"/>
                    </a:lnTo>
                    <a:lnTo>
                      <a:pt x="860" y="95"/>
                    </a:lnTo>
                    <a:lnTo>
                      <a:pt x="794" y="90"/>
                    </a:lnTo>
                    <a:lnTo>
                      <a:pt x="728" y="83"/>
                    </a:lnTo>
                    <a:lnTo>
                      <a:pt x="669" y="76"/>
                    </a:lnTo>
                    <a:lnTo>
                      <a:pt x="607" y="65"/>
                    </a:lnTo>
                    <a:lnTo>
                      <a:pt x="544" y="53"/>
                    </a:lnTo>
                    <a:lnTo>
                      <a:pt x="490" y="40"/>
                    </a:lnTo>
                    <a:lnTo>
                      <a:pt x="419" y="19"/>
                    </a:lnTo>
                    <a:lnTo>
                      <a:pt x="369" y="7"/>
                    </a:lnTo>
                    <a:lnTo>
                      <a:pt x="329" y="2"/>
                    </a:lnTo>
                    <a:lnTo>
                      <a:pt x="292" y="2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11"/>
              <p:cNvSpPr/>
              <p:nvPr/>
            </p:nvSpPr>
            <p:spPr>
              <a:xfrm>
                <a:off x="2070000" y="5102280"/>
                <a:ext cx="4183200" cy="618840"/>
              </a:xfrm>
              <a:custGeom>
                <a:avLst/>
                <a:gdLst/>
                <a:ahLst/>
                <a:rect l="l" t="t" r="r" b="b"/>
                <a:pathLst>
                  <a:path w="2635" h="390">
                    <a:moveTo>
                      <a:pt x="257" y="0"/>
                    </a:moveTo>
                    <a:lnTo>
                      <a:pt x="220" y="3"/>
                    </a:lnTo>
                    <a:lnTo>
                      <a:pt x="183" y="10"/>
                    </a:lnTo>
                    <a:lnTo>
                      <a:pt x="149" y="19"/>
                    </a:lnTo>
                    <a:lnTo>
                      <a:pt x="120" y="32"/>
                    </a:lnTo>
                    <a:lnTo>
                      <a:pt x="88" y="47"/>
                    </a:lnTo>
                    <a:lnTo>
                      <a:pt x="56" y="66"/>
                    </a:lnTo>
                    <a:lnTo>
                      <a:pt x="35" y="86"/>
                    </a:lnTo>
                    <a:lnTo>
                      <a:pt x="13" y="107"/>
                    </a:lnTo>
                    <a:lnTo>
                      <a:pt x="5" y="128"/>
                    </a:lnTo>
                    <a:lnTo>
                      <a:pt x="3" y="150"/>
                    </a:lnTo>
                    <a:lnTo>
                      <a:pt x="0" y="170"/>
                    </a:lnTo>
                    <a:lnTo>
                      <a:pt x="5" y="193"/>
                    </a:lnTo>
                    <a:lnTo>
                      <a:pt x="18" y="208"/>
                    </a:lnTo>
                    <a:lnTo>
                      <a:pt x="37" y="219"/>
                    </a:lnTo>
                    <a:lnTo>
                      <a:pt x="63" y="231"/>
                    </a:lnTo>
                    <a:lnTo>
                      <a:pt x="90" y="241"/>
                    </a:lnTo>
                    <a:lnTo>
                      <a:pt x="133" y="254"/>
                    </a:lnTo>
                    <a:lnTo>
                      <a:pt x="199" y="271"/>
                    </a:lnTo>
                    <a:lnTo>
                      <a:pt x="348" y="304"/>
                    </a:lnTo>
                    <a:lnTo>
                      <a:pt x="497" y="328"/>
                    </a:lnTo>
                    <a:lnTo>
                      <a:pt x="676" y="352"/>
                    </a:lnTo>
                    <a:lnTo>
                      <a:pt x="921" y="375"/>
                    </a:lnTo>
                    <a:lnTo>
                      <a:pt x="1111" y="389"/>
                    </a:lnTo>
                    <a:lnTo>
                      <a:pt x="1419" y="389"/>
                    </a:lnTo>
                    <a:lnTo>
                      <a:pt x="1674" y="382"/>
                    </a:lnTo>
                    <a:lnTo>
                      <a:pt x="2076" y="358"/>
                    </a:lnTo>
                    <a:lnTo>
                      <a:pt x="2257" y="338"/>
                    </a:lnTo>
                    <a:lnTo>
                      <a:pt x="2433" y="301"/>
                    </a:lnTo>
                    <a:lnTo>
                      <a:pt x="2533" y="265"/>
                    </a:lnTo>
                    <a:lnTo>
                      <a:pt x="2567" y="248"/>
                    </a:lnTo>
                    <a:lnTo>
                      <a:pt x="2588" y="235"/>
                    </a:lnTo>
                    <a:lnTo>
                      <a:pt x="2610" y="219"/>
                    </a:lnTo>
                    <a:lnTo>
                      <a:pt x="2631" y="201"/>
                    </a:lnTo>
                    <a:lnTo>
                      <a:pt x="2634" y="165"/>
                    </a:lnTo>
                    <a:lnTo>
                      <a:pt x="2634" y="140"/>
                    </a:lnTo>
                    <a:lnTo>
                      <a:pt x="2626" y="116"/>
                    </a:lnTo>
                    <a:lnTo>
                      <a:pt x="2597" y="81"/>
                    </a:lnTo>
                    <a:lnTo>
                      <a:pt x="2570" y="57"/>
                    </a:lnTo>
                    <a:lnTo>
                      <a:pt x="2528" y="35"/>
                    </a:lnTo>
                    <a:lnTo>
                      <a:pt x="2472" y="17"/>
                    </a:lnTo>
                    <a:lnTo>
                      <a:pt x="2433" y="8"/>
                    </a:lnTo>
                    <a:lnTo>
                      <a:pt x="2374" y="2"/>
                    </a:lnTo>
                    <a:lnTo>
                      <a:pt x="2326" y="0"/>
                    </a:lnTo>
                    <a:lnTo>
                      <a:pt x="2270" y="5"/>
                    </a:lnTo>
                    <a:lnTo>
                      <a:pt x="2220" y="15"/>
                    </a:lnTo>
                    <a:lnTo>
                      <a:pt x="2159" y="32"/>
                    </a:lnTo>
                    <a:lnTo>
                      <a:pt x="2087" y="44"/>
                    </a:lnTo>
                    <a:lnTo>
                      <a:pt x="2012" y="55"/>
                    </a:lnTo>
                    <a:lnTo>
                      <a:pt x="1905" y="69"/>
                    </a:lnTo>
                    <a:lnTo>
                      <a:pt x="1809" y="77"/>
                    </a:lnTo>
                    <a:lnTo>
                      <a:pt x="1695" y="84"/>
                    </a:lnTo>
                    <a:lnTo>
                      <a:pt x="1572" y="93"/>
                    </a:lnTo>
                    <a:lnTo>
                      <a:pt x="1432" y="94"/>
                    </a:lnTo>
                    <a:lnTo>
                      <a:pt x="1311" y="96"/>
                    </a:lnTo>
                    <a:lnTo>
                      <a:pt x="1212" y="96"/>
                    </a:lnTo>
                    <a:lnTo>
                      <a:pt x="1103" y="91"/>
                    </a:lnTo>
                    <a:lnTo>
                      <a:pt x="1022" y="89"/>
                    </a:lnTo>
                    <a:lnTo>
                      <a:pt x="958" y="86"/>
                    </a:lnTo>
                    <a:lnTo>
                      <a:pt x="891" y="83"/>
                    </a:lnTo>
                    <a:lnTo>
                      <a:pt x="822" y="76"/>
                    </a:lnTo>
                    <a:lnTo>
                      <a:pt x="745" y="69"/>
                    </a:lnTo>
                    <a:lnTo>
                      <a:pt x="665" y="60"/>
                    </a:lnTo>
                    <a:lnTo>
                      <a:pt x="608" y="52"/>
                    </a:lnTo>
                    <a:lnTo>
                      <a:pt x="550" y="44"/>
                    </a:lnTo>
                    <a:lnTo>
                      <a:pt x="491" y="33"/>
                    </a:lnTo>
                    <a:lnTo>
                      <a:pt x="443" y="23"/>
                    </a:lnTo>
                    <a:lnTo>
                      <a:pt x="393" y="10"/>
                    </a:lnTo>
                    <a:lnTo>
                      <a:pt x="340" y="3"/>
                    </a:lnTo>
                    <a:lnTo>
                      <a:pt x="292" y="0"/>
                    </a:lnTo>
                    <a:lnTo>
                      <a:pt x="257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16"/>
            <p:cNvGrpSpPr/>
            <p:nvPr/>
          </p:nvGrpSpPr>
          <p:grpSpPr>
            <a:xfrm>
              <a:off x="2050920" y="5184720"/>
              <a:ext cx="4240440" cy="952560"/>
              <a:chOff x="2050920" y="5184720"/>
              <a:chExt cx="4240440" cy="952560"/>
            </a:xfrm>
          </p:grpSpPr>
          <p:sp>
            <p:nvSpPr>
              <p:cNvPr id="885" name="Freeform 13"/>
              <p:cNvSpPr/>
              <p:nvPr/>
            </p:nvSpPr>
            <p:spPr>
              <a:xfrm>
                <a:off x="2050920" y="5184720"/>
                <a:ext cx="4240440" cy="952560"/>
              </a:xfrm>
              <a:custGeom>
                <a:avLst/>
                <a:gdLst/>
                <a:ahLst/>
                <a:rect l="l" t="t" r="r" b="b"/>
                <a:pathLst>
                  <a:path w="2671" h="600">
                    <a:moveTo>
                      <a:pt x="292" y="0"/>
                    </a:moveTo>
                    <a:lnTo>
                      <a:pt x="261" y="2"/>
                    </a:lnTo>
                    <a:lnTo>
                      <a:pt x="231" y="5"/>
                    </a:lnTo>
                    <a:lnTo>
                      <a:pt x="189" y="14"/>
                    </a:lnTo>
                    <a:lnTo>
                      <a:pt x="155" y="29"/>
                    </a:lnTo>
                    <a:lnTo>
                      <a:pt x="128" y="45"/>
                    </a:lnTo>
                    <a:lnTo>
                      <a:pt x="104" y="60"/>
                    </a:lnTo>
                    <a:lnTo>
                      <a:pt x="80" y="80"/>
                    </a:lnTo>
                    <a:lnTo>
                      <a:pt x="60" y="100"/>
                    </a:lnTo>
                    <a:lnTo>
                      <a:pt x="43" y="119"/>
                    </a:lnTo>
                    <a:lnTo>
                      <a:pt x="31" y="137"/>
                    </a:lnTo>
                    <a:lnTo>
                      <a:pt x="23" y="152"/>
                    </a:lnTo>
                    <a:lnTo>
                      <a:pt x="9" y="192"/>
                    </a:lnTo>
                    <a:lnTo>
                      <a:pt x="5" y="216"/>
                    </a:lnTo>
                    <a:lnTo>
                      <a:pt x="1" y="241"/>
                    </a:lnTo>
                    <a:lnTo>
                      <a:pt x="0" y="270"/>
                    </a:lnTo>
                    <a:lnTo>
                      <a:pt x="1" y="297"/>
                    </a:lnTo>
                    <a:lnTo>
                      <a:pt x="4" y="325"/>
                    </a:lnTo>
                    <a:lnTo>
                      <a:pt x="11" y="346"/>
                    </a:lnTo>
                    <a:lnTo>
                      <a:pt x="19" y="363"/>
                    </a:lnTo>
                    <a:lnTo>
                      <a:pt x="32" y="387"/>
                    </a:lnTo>
                    <a:lnTo>
                      <a:pt x="48" y="408"/>
                    </a:lnTo>
                    <a:lnTo>
                      <a:pt x="62" y="426"/>
                    </a:lnTo>
                    <a:lnTo>
                      <a:pt x="80" y="441"/>
                    </a:lnTo>
                    <a:lnTo>
                      <a:pt x="107" y="459"/>
                    </a:lnTo>
                    <a:lnTo>
                      <a:pt x="132" y="473"/>
                    </a:lnTo>
                    <a:lnTo>
                      <a:pt x="168" y="486"/>
                    </a:lnTo>
                    <a:lnTo>
                      <a:pt x="203" y="497"/>
                    </a:lnTo>
                    <a:lnTo>
                      <a:pt x="239" y="506"/>
                    </a:lnTo>
                    <a:lnTo>
                      <a:pt x="277" y="514"/>
                    </a:lnTo>
                    <a:lnTo>
                      <a:pt x="334" y="526"/>
                    </a:lnTo>
                    <a:lnTo>
                      <a:pt x="408" y="538"/>
                    </a:lnTo>
                    <a:lnTo>
                      <a:pt x="483" y="549"/>
                    </a:lnTo>
                    <a:lnTo>
                      <a:pt x="544" y="556"/>
                    </a:lnTo>
                    <a:lnTo>
                      <a:pt x="599" y="563"/>
                    </a:lnTo>
                    <a:lnTo>
                      <a:pt x="655" y="570"/>
                    </a:lnTo>
                    <a:lnTo>
                      <a:pt x="711" y="575"/>
                    </a:lnTo>
                    <a:lnTo>
                      <a:pt x="794" y="582"/>
                    </a:lnTo>
                    <a:lnTo>
                      <a:pt x="874" y="587"/>
                    </a:lnTo>
                    <a:lnTo>
                      <a:pt x="970" y="591"/>
                    </a:lnTo>
                    <a:lnTo>
                      <a:pt x="1064" y="594"/>
                    </a:lnTo>
                    <a:lnTo>
                      <a:pt x="1156" y="597"/>
                    </a:lnTo>
                    <a:lnTo>
                      <a:pt x="1260" y="598"/>
                    </a:lnTo>
                    <a:lnTo>
                      <a:pt x="1355" y="599"/>
                    </a:lnTo>
                    <a:lnTo>
                      <a:pt x="1457" y="598"/>
                    </a:lnTo>
                    <a:lnTo>
                      <a:pt x="1557" y="597"/>
                    </a:lnTo>
                    <a:lnTo>
                      <a:pt x="1664" y="593"/>
                    </a:lnTo>
                    <a:lnTo>
                      <a:pt x="1741" y="589"/>
                    </a:lnTo>
                    <a:lnTo>
                      <a:pt x="1813" y="586"/>
                    </a:lnTo>
                    <a:lnTo>
                      <a:pt x="1903" y="581"/>
                    </a:lnTo>
                    <a:lnTo>
                      <a:pt x="1975" y="575"/>
                    </a:lnTo>
                    <a:lnTo>
                      <a:pt x="2041" y="568"/>
                    </a:lnTo>
                    <a:lnTo>
                      <a:pt x="2109" y="560"/>
                    </a:lnTo>
                    <a:lnTo>
                      <a:pt x="2212" y="547"/>
                    </a:lnTo>
                    <a:lnTo>
                      <a:pt x="2284" y="536"/>
                    </a:lnTo>
                    <a:lnTo>
                      <a:pt x="2351" y="526"/>
                    </a:lnTo>
                    <a:lnTo>
                      <a:pt x="2409" y="514"/>
                    </a:lnTo>
                    <a:lnTo>
                      <a:pt x="2460" y="502"/>
                    </a:lnTo>
                    <a:lnTo>
                      <a:pt x="2499" y="490"/>
                    </a:lnTo>
                    <a:lnTo>
                      <a:pt x="2537" y="475"/>
                    </a:lnTo>
                    <a:lnTo>
                      <a:pt x="2569" y="456"/>
                    </a:lnTo>
                    <a:lnTo>
                      <a:pt x="2595" y="437"/>
                    </a:lnTo>
                    <a:lnTo>
                      <a:pt x="2618" y="418"/>
                    </a:lnTo>
                    <a:lnTo>
                      <a:pt x="2634" y="401"/>
                    </a:lnTo>
                    <a:lnTo>
                      <a:pt x="2646" y="382"/>
                    </a:lnTo>
                    <a:lnTo>
                      <a:pt x="2657" y="363"/>
                    </a:lnTo>
                    <a:lnTo>
                      <a:pt x="2665" y="338"/>
                    </a:lnTo>
                    <a:lnTo>
                      <a:pt x="2668" y="320"/>
                    </a:lnTo>
                    <a:lnTo>
                      <a:pt x="2670" y="289"/>
                    </a:lnTo>
                    <a:lnTo>
                      <a:pt x="2668" y="257"/>
                    </a:lnTo>
                    <a:lnTo>
                      <a:pt x="2667" y="232"/>
                    </a:lnTo>
                    <a:lnTo>
                      <a:pt x="2662" y="192"/>
                    </a:lnTo>
                    <a:lnTo>
                      <a:pt x="2655" y="169"/>
                    </a:lnTo>
                    <a:lnTo>
                      <a:pt x="2644" y="148"/>
                    </a:lnTo>
                    <a:lnTo>
                      <a:pt x="2626" y="120"/>
                    </a:lnTo>
                    <a:lnTo>
                      <a:pt x="2609" y="97"/>
                    </a:lnTo>
                    <a:lnTo>
                      <a:pt x="2590" y="80"/>
                    </a:lnTo>
                    <a:lnTo>
                      <a:pt x="2559" y="55"/>
                    </a:lnTo>
                    <a:lnTo>
                      <a:pt x="2532" y="40"/>
                    </a:lnTo>
                    <a:lnTo>
                      <a:pt x="2503" y="26"/>
                    </a:lnTo>
                    <a:lnTo>
                      <a:pt x="2466" y="12"/>
                    </a:lnTo>
                    <a:lnTo>
                      <a:pt x="2429" y="3"/>
                    </a:lnTo>
                    <a:lnTo>
                      <a:pt x="2388" y="0"/>
                    </a:lnTo>
                    <a:lnTo>
                      <a:pt x="2361" y="0"/>
                    </a:lnTo>
                    <a:lnTo>
                      <a:pt x="2336" y="4"/>
                    </a:lnTo>
                    <a:lnTo>
                      <a:pt x="2290" y="12"/>
                    </a:lnTo>
                    <a:lnTo>
                      <a:pt x="2250" y="18"/>
                    </a:lnTo>
                    <a:lnTo>
                      <a:pt x="2197" y="26"/>
                    </a:lnTo>
                    <a:lnTo>
                      <a:pt x="2151" y="31"/>
                    </a:lnTo>
                    <a:lnTo>
                      <a:pt x="2066" y="40"/>
                    </a:lnTo>
                    <a:lnTo>
                      <a:pt x="1984" y="46"/>
                    </a:lnTo>
                    <a:lnTo>
                      <a:pt x="1901" y="54"/>
                    </a:lnTo>
                    <a:lnTo>
                      <a:pt x="1830" y="58"/>
                    </a:lnTo>
                    <a:lnTo>
                      <a:pt x="1769" y="62"/>
                    </a:lnTo>
                    <a:lnTo>
                      <a:pt x="1710" y="65"/>
                    </a:lnTo>
                    <a:lnTo>
                      <a:pt x="1629" y="69"/>
                    </a:lnTo>
                    <a:lnTo>
                      <a:pt x="1564" y="71"/>
                    </a:lnTo>
                    <a:lnTo>
                      <a:pt x="1476" y="72"/>
                    </a:lnTo>
                    <a:lnTo>
                      <a:pt x="1350" y="73"/>
                    </a:lnTo>
                    <a:lnTo>
                      <a:pt x="1264" y="72"/>
                    </a:lnTo>
                    <a:lnTo>
                      <a:pt x="1149" y="72"/>
                    </a:lnTo>
                    <a:lnTo>
                      <a:pt x="1069" y="69"/>
                    </a:lnTo>
                    <a:lnTo>
                      <a:pt x="991" y="66"/>
                    </a:lnTo>
                    <a:lnTo>
                      <a:pt x="921" y="62"/>
                    </a:lnTo>
                    <a:lnTo>
                      <a:pt x="838" y="58"/>
                    </a:lnTo>
                    <a:lnTo>
                      <a:pt x="771" y="54"/>
                    </a:lnTo>
                    <a:lnTo>
                      <a:pt x="716" y="50"/>
                    </a:lnTo>
                    <a:lnTo>
                      <a:pt x="654" y="45"/>
                    </a:lnTo>
                    <a:lnTo>
                      <a:pt x="573" y="37"/>
                    </a:lnTo>
                    <a:lnTo>
                      <a:pt x="501" y="29"/>
                    </a:lnTo>
                    <a:lnTo>
                      <a:pt x="454" y="24"/>
                    </a:lnTo>
                    <a:lnTo>
                      <a:pt x="415" y="17"/>
                    </a:lnTo>
                    <a:lnTo>
                      <a:pt x="381" y="10"/>
                    </a:lnTo>
                    <a:lnTo>
                      <a:pt x="354" y="5"/>
                    </a:lnTo>
                    <a:lnTo>
                      <a:pt x="318" y="1"/>
                    </a:lnTo>
                    <a:lnTo>
                      <a:pt x="292" y="0"/>
                    </a:lnTo>
                  </a:path>
                </a:pathLst>
              </a:custGeom>
              <a:solidFill>
                <a:srgbClr val="ffa040"/>
              </a:solidFill>
              <a:ln cap="rnd" w="12600">
                <a:solidFill>
                  <a:srgbClr val="ffa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4"/>
              <p:cNvSpPr/>
              <p:nvPr/>
            </p:nvSpPr>
            <p:spPr>
              <a:xfrm>
                <a:off x="2052720" y="5186160"/>
                <a:ext cx="4235400" cy="417600"/>
              </a:xfrm>
              <a:custGeom>
                <a:avLst/>
                <a:gdLst/>
                <a:ahLst/>
                <a:rect l="l" t="t" r="r" b="b"/>
                <a:pathLst>
                  <a:path w="2668" h="263">
                    <a:moveTo>
                      <a:pt x="291" y="0"/>
                    </a:moveTo>
                    <a:lnTo>
                      <a:pt x="260" y="2"/>
                    </a:lnTo>
                    <a:lnTo>
                      <a:pt x="230" y="5"/>
                    </a:lnTo>
                    <a:lnTo>
                      <a:pt x="189" y="14"/>
                    </a:lnTo>
                    <a:lnTo>
                      <a:pt x="154" y="29"/>
                    </a:lnTo>
                    <a:lnTo>
                      <a:pt x="127" y="45"/>
                    </a:lnTo>
                    <a:lnTo>
                      <a:pt x="103" y="60"/>
                    </a:lnTo>
                    <a:lnTo>
                      <a:pt x="79" y="80"/>
                    </a:lnTo>
                    <a:lnTo>
                      <a:pt x="60" y="100"/>
                    </a:lnTo>
                    <a:lnTo>
                      <a:pt x="42" y="118"/>
                    </a:lnTo>
                    <a:lnTo>
                      <a:pt x="30" y="137"/>
                    </a:lnTo>
                    <a:lnTo>
                      <a:pt x="22" y="152"/>
                    </a:lnTo>
                    <a:lnTo>
                      <a:pt x="8" y="192"/>
                    </a:lnTo>
                    <a:lnTo>
                      <a:pt x="4" y="215"/>
                    </a:lnTo>
                    <a:lnTo>
                      <a:pt x="0" y="241"/>
                    </a:lnTo>
                    <a:lnTo>
                      <a:pt x="0" y="262"/>
                    </a:lnTo>
                    <a:lnTo>
                      <a:pt x="7" y="236"/>
                    </a:lnTo>
                    <a:lnTo>
                      <a:pt x="16" y="218"/>
                    </a:lnTo>
                    <a:lnTo>
                      <a:pt x="24" y="205"/>
                    </a:lnTo>
                    <a:lnTo>
                      <a:pt x="39" y="184"/>
                    </a:lnTo>
                    <a:lnTo>
                      <a:pt x="56" y="164"/>
                    </a:lnTo>
                    <a:lnTo>
                      <a:pt x="74" y="147"/>
                    </a:lnTo>
                    <a:lnTo>
                      <a:pt x="95" y="132"/>
                    </a:lnTo>
                    <a:lnTo>
                      <a:pt x="111" y="122"/>
                    </a:lnTo>
                    <a:lnTo>
                      <a:pt x="133" y="110"/>
                    </a:lnTo>
                    <a:lnTo>
                      <a:pt x="157" y="99"/>
                    </a:lnTo>
                    <a:lnTo>
                      <a:pt x="181" y="91"/>
                    </a:lnTo>
                    <a:lnTo>
                      <a:pt x="210" y="84"/>
                    </a:lnTo>
                    <a:lnTo>
                      <a:pt x="239" y="77"/>
                    </a:lnTo>
                    <a:lnTo>
                      <a:pt x="270" y="75"/>
                    </a:lnTo>
                    <a:lnTo>
                      <a:pt x="300" y="75"/>
                    </a:lnTo>
                    <a:lnTo>
                      <a:pt x="327" y="76"/>
                    </a:lnTo>
                    <a:lnTo>
                      <a:pt x="393" y="87"/>
                    </a:lnTo>
                    <a:lnTo>
                      <a:pt x="435" y="94"/>
                    </a:lnTo>
                    <a:lnTo>
                      <a:pt x="486" y="100"/>
                    </a:lnTo>
                    <a:lnTo>
                      <a:pt x="536" y="106"/>
                    </a:lnTo>
                    <a:lnTo>
                      <a:pt x="595" y="110"/>
                    </a:lnTo>
                    <a:lnTo>
                      <a:pt x="658" y="114"/>
                    </a:lnTo>
                    <a:lnTo>
                      <a:pt x="717" y="119"/>
                    </a:lnTo>
                    <a:lnTo>
                      <a:pt x="791" y="123"/>
                    </a:lnTo>
                    <a:lnTo>
                      <a:pt x="871" y="127"/>
                    </a:lnTo>
                    <a:lnTo>
                      <a:pt x="977" y="130"/>
                    </a:lnTo>
                    <a:lnTo>
                      <a:pt x="1069" y="133"/>
                    </a:lnTo>
                    <a:lnTo>
                      <a:pt x="1129" y="134"/>
                    </a:lnTo>
                    <a:lnTo>
                      <a:pt x="1222" y="135"/>
                    </a:lnTo>
                    <a:lnTo>
                      <a:pt x="1278" y="136"/>
                    </a:lnTo>
                    <a:lnTo>
                      <a:pt x="1352" y="137"/>
                    </a:lnTo>
                    <a:lnTo>
                      <a:pt x="1414" y="137"/>
                    </a:lnTo>
                    <a:lnTo>
                      <a:pt x="1483" y="136"/>
                    </a:lnTo>
                    <a:lnTo>
                      <a:pt x="1580" y="134"/>
                    </a:lnTo>
                    <a:lnTo>
                      <a:pt x="1655" y="132"/>
                    </a:lnTo>
                    <a:lnTo>
                      <a:pt x="1726" y="129"/>
                    </a:lnTo>
                    <a:lnTo>
                      <a:pt x="1780" y="128"/>
                    </a:lnTo>
                    <a:lnTo>
                      <a:pt x="1839" y="124"/>
                    </a:lnTo>
                    <a:lnTo>
                      <a:pt x="1892" y="121"/>
                    </a:lnTo>
                    <a:lnTo>
                      <a:pt x="1940" y="119"/>
                    </a:lnTo>
                    <a:lnTo>
                      <a:pt x="2011" y="114"/>
                    </a:lnTo>
                    <a:lnTo>
                      <a:pt x="2056" y="110"/>
                    </a:lnTo>
                    <a:lnTo>
                      <a:pt x="2106" y="106"/>
                    </a:lnTo>
                    <a:lnTo>
                      <a:pt x="2149" y="102"/>
                    </a:lnTo>
                    <a:lnTo>
                      <a:pt x="2179" y="100"/>
                    </a:lnTo>
                    <a:lnTo>
                      <a:pt x="2218" y="96"/>
                    </a:lnTo>
                    <a:lnTo>
                      <a:pt x="2261" y="89"/>
                    </a:lnTo>
                    <a:lnTo>
                      <a:pt x="2293" y="85"/>
                    </a:lnTo>
                    <a:lnTo>
                      <a:pt x="2320" y="80"/>
                    </a:lnTo>
                    <a:lnTo>
                      <a:pt x="2351" y="77"/>
                    </a:lnTo>
                    <a:lnTo>
                      <a:pt x="2382" y="76"/>
                    </a:lnTo>
                    <a:lnTo>
                      <a:pt x="2413" y="77"/>
                    </a:lnTo>
                    <a:lnTo>
                      <a:pt x="2447" y="81"/>
                    </a:lnTo>
                    <a:lnTo>
                      <a:pt x="2484" y="90"/>
                    </a:lnTo>
                    <a:lnTo>
                      <a:pt x="2509" y="99"/>
                    </a:lnTo>
                    <a:lnTo>
                      <a:pt x="2535" y="109"/>
                    </a:lnTo>
                    <a:lnTo>
                      <a:pt x="2564" y="124"/>
                    </a:lnTo>
                    <a:lnTo>
                      <a:pt x="2588" y="140"/>
                    </a:lnTo>
                    <a:lnTo>
                      <a:pt x="2607" y="157"/>
                    </a:lnTo>
                    <a:lnTo>
                      <a:pt x="2626" y="180"/>
                    </a:lnTo>
                    <a:lnTo>
                      <a:pt x="2641" y="201"/>
                    </a:lnTo>
                    <a:lnTo>
                      <a:pt x="2653" y="225"/>
                    </a:lnTo>
                    <a:lnTo>
                      <a:pt x="2667" y="256"/>
                    </a:lnTo>
                    <a:lnTo>
                      <a:pt x="2666" y="231"/>
                    </a:lnTo>
                    <a:lnTo>
                      <a:pt x="2661" y="192"/>
                    </a:lnTo>
                    <a:lnTo>
                      <a:pt x="2654" y="168"/>
                    </a:lnTo>
                    <a:lnTo>
                      <a:pt x="2643" y="148"/>
                    </a:lnTo>
                    <a:lnTo>
                      <a:pt x="2624" y="120"/>
                    </a:lnTo>
                    <a:lnTo>
                      <a:pt x="2607" y="97"/>
                    </a:lnTo>
                    <a:lnTo>
                      <a:pt x="2589" y="80"/>
                    </a:lnTo>
                    <a:lnTo>
                      <a:pt x="2558" y="55"/>
                    </a:lnTo>
                    <a:lnTo>
                      <a:pt x="2531" y="39"/>
                    </a:lnTo>
                    <a:lnTo>
                      <a:pt x="2502" y="26"/>
                    </a:lnTo>
                    <a:lnTo>
                      <a:pt x="2465" y="12"/>
                    </a:lnTo>
                    <a:lnTo>
                      <a:pt x="2428" y="3"/>
                    </a:lnTo>
                    <a:lnTo>
                      <a:pt x="2387" y="0"/>
                    </a:lnTo>
                    <a:lnTo>
                      <a:pt x="2360" y="0"/>
                    </a:lnTo>
                    <a:lnTo>
                      <a:pt x="2334" y="4"/>
                    </a:lnTo>
                    <a:lnTo>
                      <a:pt x="2289" y="12"/>
                    </a:lnTo>
                    <a:lnTo>
                      <a:pt x="2249" y="18"/>
                    </a:lnTo>
                    <a:lnTo>
                      <a:pt x="2196" y="26"/>
                    </a:lnTo>
                    <a:lnTo>
                      <a:pt x="2149" y="31"/>
                    </a:lnTo>
                    <a:lnTo>
                      <a:pt x="2112" y="34"/>
                    </a:lnTo>
                    <a:lnTo>
                      <a:pt x="2065" y="39"/>
                    </a:lnTo>
                    <a:lnTo>
                      <a:pt x="1983" y="46"/>
                    </a:lnTo>
                    <a:lnTo>
                      <a:pt x="1900" y="54"/>
                    </a:lnTo>
                    <a:lnTo>
                      <a:pt x="1829" y="58"/>
                    </a:lnTo>
                    <a:lnTo>
                      <a:pt x="1768" y="62"/>
                    </a:lnTo>
                    <a:lnTo>
                      <a:pt x="1709" y="65"/>
                    </a:lnTo>
                    <a:lnTo>
                      <a:pt x="1628" y="69"/>
                    </a:lnTo>
                    <a:lnTo>
                      <a:pt x="1562" y="70"/>
                    </a:lnTo>
                    <a:lnTo>
                      <a:pt x="1475" y="72"/>
                    </a:lnTo>
                    <a:lnTo>
                      <a:pt x="1349" y="73"/>
                    </a:lnTo>
                    <a:lnTo>
                      <a:pt x="1263" y="72"/>
                    </a:lnTo>
                    <a:lnTo>
                      <a:pt x="1148" y="72"/>
                    </a:lnTo>
                    <a:lnTo>
                      <a:pt x="1068" y="69"/>
                    </a:lnTo>
                    <a:lnTo>
                      <a:pt x="990" y="66"/>
                    </a:lnTo>
                    <a:lnTo>
                      <a:pt x="920" y="62"/>
                    </a:lnTo>
                    <a:lnTo>
                      <a:pt x="837" y="58"/>
                    </a:lnTo>
                    <a:lnTo>
                      <a:pt x="770" y="54"/>
                    </a:lnTo>
                    <a:lnTo>
                      <a:pt x="715" y="50"/>
                    </a:lnTo>
                    <a:lnTo>
                      <a:pt x="653" y="45"/>
                    </a:lnTo>
                    <a:lnTo>
                      <a:pt x="572" y="37"/>
                    </a:lnTo>
                    <a:lnTo>
                      <a:pt x="500" y="29"/>
                    </a:lnTo>
                    <a:lnTo>
                      <a:pt x="454" y="24"/>
                    </a:lnTo>
                    <a:lnTo>
                      <a:pt x="414" y="17"/>
                    </a:lnTo>
                    <a:lnTo>
                      <a:pt x="388" y="12"/>
                    </a:lnTo>
                    <a:lnTo>
                      <a:pt x="352" y="4"/>
                    </a:lnTo>
                    <a:lnTo>
                      <a:pt x="317" y="1"/>
                    </a:lnTo>
                    <a:lnTo>
                      <a:pt x="291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ffa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5"/>
              <p:cNvSpPr/>
              <p:nvPr/>
            </p:nvSpPr>
            <p:spPr>
              <a:xfrm>
                <a:off x="2523960" y="5656320"/>
                <a:ext cx="3297240" cy="465120"/>
              </a:xfrm>
              <a:custGeom>
                <a:avLst/>
                <a:gdLst/>
                <a:ahLst/>
                <a:rect l="l" t="t" r="r" b="b"/>
                <a:pathLst>
                  <a:path w="2077" h="293">
                    <a:moveTo>
                      <a:pt x="197" y="2"/>
                    </a:moveTo>
                    <a:lnTo>
                      <a:pt x="325" y="9"/>
                    </a:lnTo>
                    <a:lnTo>
                      <a:pt x="473" y="19"/>
                    </a:lnTo>
                    <a:lnTo>
                      <a:pt x="633" y="26"/>
                    </a:lnTo>
                    <a:lnTo>
                      <a:pt x="819" y="29"/>
                    </a:lnTo>
                    <a:lnTo>
                      <a:pt x="1117" y="33"/>
                    </a:lnTo>
                    <a:lnTo>
                      <a:pt x="1227" y="34"/>
                    </a:lnTo>
                    <a:lnTo>
                      <a:pt x="1316" y="32"/>
                    </a:lnTo>
                    <a:lnTo>
                      <a:pt x="1388" y="29"/>
                    </a:lnTo>
                    <a:lnTo>
                      <a:pt x="1448" y="27"/>
                    </a:lnTo>
                    <a:lnTo>
                      <a:pt x="1509" y="25"/>
                    </a:lnTo>
                    <a:lnTo>
                      <a:pt x="1581" y="22"/>
                    </a:lnTo>
                    <a:lnTo>
                      <a:pt x="1646" y="17"/>
                    </a:lnTo>
                    <a:lnTo>
                      <a:pt x="1699" y="13"/>
                    </a:lnTo>
                    <a:lnTo>
                      <a:pt x="1750" y="9"/>
                    </a:lnTo>
                    <a:lnTo>
                      <a:pt x="1802" y="3"/>
                    </a:lnTo>
                    <a:lnTo>
                      <a:pt x="1852" y="0"/>
                    </a:lnTo>
                    <a:lnTo>
                      <a:pt x="1901" y="1"/>
                    </a:lnTo>
                    <a:lnTo>
                      <a:pt x="1948" y="6"/>
                    </a:lnTo>
                    <a:lnTo>
                      <a:pt x="1981" y="15"/>
                    </a:lnTo>
                    <a:lnTo>
                      <a:pt x="2012" y="29"/>
                    </a:lnTo>
                    <a:lnTo>
                      <a:pt x="2036" y="44"/>
                    </a:lnTo>
                    <a:lnTo>
                      <a:pt x="2056" y="63"/>
                    </a:lnTo>
                    <a:lnTo>
                      <a:pt x="2069" y="84"/>
                    </a:lnTo>
                    <a:lnTo>
                      <a:pt x="2076" y="107"/>
                    </a:lnTo>
                    <a:lnTo>
                      <a:pt x="2076" y="133"/>
                    </a:lnTo>
                    <a:lnTo>
                      <a:pt x="2065" y="163"/>
                    </a:lnTo>
                    <a:lnTo>
                      <a:pt x="2052" y="181"/>
                    </a:lnTo>
                    <a:lnTo>
                      <a:pt x="2028" y="198"/>
                    </a:lnTo>
                    <a:lnTo>
                      <a:pt x="2000" y="211"/>
                    </a:lnTo>
                    <a:lnTo>
                      <a:pt x="1975" y="222"/>
                    </a:lnTo>
                    <a:lnTo>
                      <a:pt x="1927" y="237"/>
                    </a:lnTo>
                    <a:lnTo>
                      <a:pt x="1839" y="252"/>
                    </a:lnTo>
                    <a:lnTo>
                      <a:pt x="1780" y="259"/>
                    </a:lnTo>
                    <a:lnTo>
                      <a:pt x="1695" y="267"/>
                    </a:lnTo>
                    <a:lnTo>
                      <a:pt x="1615" y="274"/>
                    </a:lnTo>
                    <a:lnTo>
                      <a:pt x="1538" y="280"/>
                    </a:lnTo>
                    <a:lnTo>
                      <a:pt x="1464" y="283"/>
                    </a:lnTo>
                    <a:lnTo>
                      <a:pt x="1411" y="286"/>
                    </a:lnTo>
                    <a:lnTo>
                      <a:pt x="1347" y="289"/>
                    </a:lnTo>
                    <a:lnTo>
                      <a:pt x="1281" y="290"/>
                    </a:lnTo>
                    <a:lnTo>
                      <a:pt x="1209" y="292"/>
                    </a:lnTo>
                    <a:lnTo>
                      <a:pt x="1134" y="291"/>
                    </a:lnTo>
                    <a:lnTo>
                      <a:pt x="1068" y="291"/>
                    </a:lnTo>
                    <a:lnTo>
                      <a:pt x="999" y="291"/>
                    </a:lnTo>
                    <a:lnTo>
                      <a:pt x="804" y="289"/>
                    </a:lnTo>
                    <a:lnTo>
                      <a:pt x="744" y="286"/>
                    </a:lnTo>
                    <a:lnTo>
                      <a:pt x="712" y="285"/>
                    </a:lnTo>
                    <a:lnTo>
                      <a:pt x="667" y="283"/>
                    </a:lnTo>
                    <a:lnTo>
                      <a:pt x="631" y="282"/>
                    </a:lnTo>
                    <a:lnTo>
                      <a:pt x="588" y="279"/>
                    </a:lnTo>
                    <a:lnTo>
                      <a:pt x="545" y="278"/>
                    </a:lnTo>
                    <a:lnTo>
                      <a:pt x="507" y="277"/>
                    </a:lnTo>
                    <a:lnTo>
                      <a:pt x="462" y="273"/>
                    </a:lnTo>
                    <a:lnTo>
                      <a:pt x="417" y="269"/>
                    </a:lnTo>
                    <a:lnTo>
                      <a:pt x="374" y="265"/>
                    </a:lnTo>
                    <a:lnTo>
                      <a:pt x="324" y="259"/>
                    </a:lnTo>
                    <a:lnTo>
                      <a:pt x="221" y="244"/>
                    </a:lnTo>
                    <a:lnTo>
                      <a:pt x="187" y="239"/>
                    </a:lnTo>
                    <a:lnTo>
                      <a:pt x="157" y="234"/>
                    </a:lnTo>
                    <a:lnTo>
                      <a:pt x="131" y="229"/>
                    </a:lnTo>
                    <a:lnTo>
                      <a:pt x="101" y="222"/>
                    </a:lnTo>
                    <a:lnTo>
                      <a:pt x="72" y="211"/>
                    </a:lnTo>
                    <a:lnTo>
                      <a:pt x="45" y="197"/>
                    </a:lnTo>
                    <a:lnTo>
                      <a:pt x="24" y="179"/>
                    </a:lnTo>
                    <a:lnTo>
                      <a:pt x="12" y="163"/>
                    </a:lnTo>
                    <a:lnTo>
                      <a:pt x="4" y="143"/>
                    </a:lnTo>
                    <a:lnTo>
                      <a:pt x="0" y="121"/>
                    </a:lnTo>
                    <a:lnTo>
                      <a:pt x="4" y="97"/>
                    </a:lnTo>
                    <a:lnTo>
                      <a:pt x="15" y="75"/>
                    </a:lnTo>
                    <a:lnTo>
                      <a:pt x="34" y="53"/>
                    </a:lnTo>
                    <a:lnTo>
                      <a:pt x="52" y="38"/>
                    </a:lnTo>
                    <a:lnTo>
                      <a:pt x="84" y="22"/>
                    </a:lnTo>
                    <a:lnTo>
                      <a:pt x="119" y="9"/>
                    </a:lnTo>
                    <a:lnTo>
                      <a:pt x="155" y="3"/>
                    </a:lnTo>
                    <a:lnTo>
                      <a:pt x="197" y="2"/>
                    </a:lnTo>
                  </a:path>
                </a:pathLst>
              </a:custGeom>
              <a:solidFill>
                <a:srgbClr val="e07000"/>
              </a:solidFill>
              <a:ln cap="rnd" w="12600">
                <a:solidFill>
                  <a:srgbClr val="ffa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Text Box 1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754F0C52-271A-453F-8921-42395F2B3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6" dur="1" fill="hold"/>
                                  <p:tgtEl>
                                    <p:spTgt spid="8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56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apacity Requirements (Continued) : Equipment and Labor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6" descr=""/>
          <p:cNvPicPr/>
          <p:nvPr/>
        </p:nvPicPr>
        <p:blipFill>
          <a:blip r:embed="rId1"/>
          <a:stretch/>
        </p:blipFill>
        <p:spPr>
          <a:xfrm>
            <a:off x="870120" y="2057400"/>
            <a:ext cx="8273880" cy="120348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7"/>
          <p:cNvSpPr/>
          <p:nvPr/>
        </p:nvSpPr>
        <p:spPr>
          <a:xfrm>
            <a:off x="1676520" y="3505320"/>
            <a:ext cx="74674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100,000 units-per-year machines are available for small-bottle production.  Two operators required per mach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120,000 units-per-year machines are available for family-sized-bottle production.  Three operators required per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8"/>
          <p:cNvSpPr/>
          <p:nvPr/>
        </p:nvSpPr>
        <p:spPr>
          <a:xfrm>
            <a:off x="8229600" y="639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C86F7F03-54EE-497C-9760-2487FA3FF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pic>
        <p:nvPicPr>
          <p:cNvPr id="897" name="Content Placeholder 4" descr=""/>
          <p:cNvPicPr/>
          <p:nvPr/>
        </p:nvPicPr>
        <p:blipFill>
          <a:blip r:embed="rId2"/>
          <a:stretch/>
        </p:blipFill>
        <p:spPr>
          <a:xfrm>
            <a:off x="438120" y="1560600"/>
            <a:ext cx="8267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Title 1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8229600" cy="191952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The relationship between service capacity utilization and service quality is critical.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Utilization is measured by the portion of time servers are busy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Optimal levels of utilization are context specific.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ow rates are appropriate when the degree of uncertainty (in demand) is high and/or the stakes are high (e.g., emergency rooms, fire departments)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Higher rates are possible for predictable services or those without extensive customer contact (e.g., commuter trains, postal sorting)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833120" y="175248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914400" y="1828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1981080" y="35812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c Capacit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Title 1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Rate of service utilization and service quality are directly linked.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2"/>
          <a:stretch/>
        </p:blipFill>
        <p:spPr>
          <a:xfrm>
            <a:off x="1828800" y="2895480"/>
            <a:ext cx="52498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903" name="TextBox 4"/>
          <p:cNvGrpSpPr/>
          <p:nvPr/>
        </p:nvGrpSpPr>
        <p:grpSpPr>
          <a:xfrm>
            <a:off x="-103320" y="2835360"/>
            <a:ext cx="2749680" cy="1419120"/>
            <a:chOff x="-103320" y="2835360"/>
            <a:chExt cx="2749680" cy="1419120"/>
          </a:xfrm>
        </p:grpSpPr>
        <p:pic>
          <p:nvPicPr>
            <p:cNvPr id="904" name="TextBox 4" descr=""/>
            <p:cNvPicPr/>
            <p:nvPr/>
          </p:nvPicPr>
          <p:blipFill>
            <a:blip r:embed="rId3"/>
            <a:stretch/>
          </p:blipFill>
          <p:spPr>
            <a:xfrm>
              <a:off x="-103320" y="2835360"/>
              <a:ext cx="274968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0" y="2895480"/>
              <a:ext cx="259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"/>
                </a:rPr>
                <a:t>Arrivals exceed services – many customers are never ser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06" name="Straight Arrow Connector 6"/>
          <p:cNvCxnSpPr/>
          <p:nvPr/>
        </p:nvCxnSpPr>
        <p:spPr>
          <a:xfrm>
            <a:off x="2590920" y="3495600"/>
            <a:ext cx="1219680" cy="6199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907" name="TextBox 8"/>
          <p:cNvGrpSpPr/>
          <p:nvPr/>
        </p:nvGrpSpPr>
        <p:grpSpPr>
          <a:xfrm>
            <a:off x="5608800" y="5505480"/>
            <a:ext cx="2687400" cy="1144440"/>
            <a:chOff x="5608800" y="5505480"/>
            <a:chExt cx="2687400" cy="1144440"/>
          </a:xfrm>
        </p:grpSpPr>
        <p:pic>
          <p:nvPicPr>
            <p:cNvPr id="908" name="TextBox 8" descr=""/>
            <p:cNvPicPr/>
            <p:nvPr/>
          </p:nvPicPr>
          <p:blipFill>
            <a:blip r:embed="rId4"/>
            <a:stretch/>
          </p:blipFill>
          <p:spPr>
            <a:xfrm>
              <a:off x="5608800" y="5505480"/>
              <a:ext cx="26874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5715000" y="55627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"/>
                </a:rPr>
                <a:t>Sufficient capacity to provide quality 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0" name="Straight Arrow Connector 9"/>
          <p:cNvCxnSpPr/>
          <p:nvPr/>
        </p:nvCxnSpPr>
        <p:spPr>
          <a:xfrm flipH="1" flipV="1">
            <a:off x="5104800" y="5562000"/>
            <a:ext cx="610200" cy="4626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911" name="TextBox 12"/>
          <p:cNvGrpSpPr/>
          <p:nvPr/>
        </p:nvGrpSpPr>
        <p:grpSpPr>
          <a:xfrm>
            <a:off x="6066000" y="2212920"/>
            <a:ext cx="2803320" cy="1526040"/>
            <a:chOff x="6066000" y="2212920"/>
            <a:chExt cx="2803320" cy="1526040"/>
          </a:xfrm>
        </p:grpSpPr>
        <p:pic>
          <p:nvPicPr>
            <p:cNvPr id="912" name="TextBox 12" descr=""/>
            <p:cNvPicPr/>
            <p:nvPr/>
          </p:nvPicPr>
          <p:blipFill>
            <a:blip r:embed="rId5"/>
            <a:stretch/>
          </p:blipFill>
          <p:spPr>
            <a:xfrm>
              <a:off x="6066000" y="2212920"/>
              <a:ext cx="28033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6172200" y="2273400"/>
              <a:ext cx="2590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"/>
                </a:rPr>
                <a:t>Service quality declines – disruptions or high arrival levels lead to long wait ti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4" name="Straight Arrow Connector 13"/>
          <p:cNvCxnSpPr/>
          <p:nvPr/>
        </p:nvCxnSpPr>
        <p:spPr>
          <a:xfrm flipH="1">
            <a:off x="5866560" y="3473280"/>
            <a:ext cx="1600920" cy="3470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642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Utilization &amp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057400" y="2057400"/>
            <a:ext cx="6262560" cy="316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spcAft>
                <a:spcPts val="6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operating point is near 70% of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spcAft>
                <a:spcPts val="6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70% to 100% of service capacity, what do you think happens to service qual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16883404-740C-43D2-AC0F-98178AC8F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6" dur="1" fill="hold"/>
                                  <p:tgtEl>
                                    <p:spTgt spid="9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680840" y="1949400"/>
            <a:ext cx="5786280" cy="88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 of Chapter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ACD53618-5449-496C-9E6E-4A35B34F5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2057040" y="1752480"/>
            <a:ext cx="6072120" cy="38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 Capacity Planning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Utilization &amp; Best Operati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es &amp; Dis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perience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Focus, Flexibility &amp;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Capac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Utilization &amp; Servic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8"/>
          <p:cNvSpPr/>
          <p:nvPr/>
        </p:nvSpPr>
        <p:spPr>
          <a:xfrm>
            <a:off x="1447920" y="838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A77AC6ED-EF79-4C9A-AE65-05CE0BCC5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7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Capacity Planning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Capa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be defined as the ability to hold, receive, store, or accommo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Strategic capacity plan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n approach for determining the overall capacity level of capital intensive resources, including facilities, equipment, and overall labor forc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CC4B7B2F-337A-4CA8-AC09-F05A8CBFF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7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31052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Ut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057040" y="3123720"/>
            <a:ext cx="6661080" cy="22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e of output actually achie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operat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for which the process was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9"/>
              <p:cNvSpPr txBox="1"/>
              <p:nvPr/>
            </p:nvSpPr>
            <p:spPr>
              <a:xfrm>
                <a:off x="304920" y="1600200"/>
                <a:ext cx="83818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y utilization rat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pacity us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est operating leve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6" name="Text Box 10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E7CC04C5-63EC-4BD9-A931-B33134A10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7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03" dur="1" fill="hold"/>
                                  <p:tgtEl>
                                    <p:spTgt spid="7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"/>
              </a:rPr>
              <a:t>Capacity utilization rate </a:t>
            </a: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– a measure of how close the firm is to its best possible operating level 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"/>
              </a:rPr>
              <a:t>Economies of scale </a:t>
            </a: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– the idea that as a planet gets larger and volume increases, the average cost per unit tends to drop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"/>
              </a:rPr>
              <a:t>Diseconomies of scale </a:t>
            </a: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– at some point, the plant becomes too large and average cost per unit begins to increase 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5705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Title 1" descr=""/>
          <p:cNvPicPr/>
          <p:nvPr/>
        </p:nvPicPr>
        <p:blipFill>
          <a:blip r:embed="rId1"/>
          <a:stretch/>
        </p:blipFill>
        <p:spPr>
          <a:xfrm>
            <a:off x="201600" y="255600"/>
            <a:ext cx="8734320" cy="1360440"/>
          </a:xfrm>
          <a:prstGeom prst="rect">
            <a:avLst/>
          </a:prstGeom>
          <a:ln w="0">
            <a:noFill/>
          </a:ln>
        </p:spPr>
      </p:pic>
      <p:pic>
        <p:nvPicPr>
          <p:cNvPr id="751" name="Content Placeholder 4" descr=""/>
          <p:cNvPicPr/>
          <p:nvPr/>
        </p:nvPicPr>
        <p:blipFill>
          <a:blip r:embed="rId2"/>
          <a:stretch/>
        </p:blipFill>
        <p:spPr>
          <a:xfrm>
            <a:off x="433440" y="1584360"/>
            <a:ext cx="82771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858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Operating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304920" y="936720"/>
            <a:ext cx="8229600" cy="119124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Engineers design engines and assembly lines to operate at an ideal or “best operating level” to maximize output and minimize 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7"/>
          <p:cNvGrpSpPr/>
          <p:nvPr/>
        </p:nvGrpSpPr>
        <p:grpSpPr>
          <a:xfrm>
            <a:off x="2880" y="2365200"/>
            <a:ext cx="8823600" cy="4416840"/>
            <a:chOff x="2880" y="2365200"/>
            <a:chExt cx="8823600" cy="4416840"/>
          </a:xfrm>
        </p:grpSpPr>
        <p:sp>
          <p:nvSpPr>
            <p:cNvPr id="755" name="Rectangle 8"/>
            <p:cNvSpPr/>
            <p:nvPr/>
          </p:nvSpPr>
          <p:spPr>
            <a:xfrm>
              <a:off x="1523880" y="2365200"/>
              <a:ext cx="7302600" cy="3873240"/>
            </a:xfrm>
            <a:prstGeom prst="rect">
              <a:avLst/>
            </a:prstGeom>
            <a:solidFill>
              <a:srgbClr val="a6f69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"/>
            <p:cNvSpPr/>
            <p:nvPr/>
          </p:nvSpPr>
          <p:spPr>
            <a:xfrm>
              <a:off x="2603520" y="3209760"/>
              <a:ext cx="2052720" cy="1430280"/>
            </a:xfrm>
            <a:custGeom>
              <a:avLst/>
              <a:gdLst/>
              <a:ahLst/>
              <a:rect l="l" t="t" r="r" b="b"/>
              <a:pathLst>
                <a:path w="1293" h="901">
                  <a:moveTo>
                    <a:pt x="0" y="0"/>
                  </a:moveTo>
                  <a:lnTo>
                    <a:pt x="3" y="33"/>
                  </a:lnTo>
                  <a:lnTo>
                    <a:pt x="8" y="67"/>
                  </a:lnTo>
                  <a:lnTo>
                    <a:pt x="16" y="101"/>
                  </a:lnTo>
                  <a:lnTo>
                    <a:pt x="25" y="132"/>
                  </a:lnTo>
                  <a:lnTo>
                    <a:pt x="39" y="166"/>
                  </a:lnTo>
                  <a:lnTo>
                    <a:pt x="52" y="199"/>
                  </a:lnTo>
                  <a:lnTo>
                    <a:pt x="66" y="231"/>
                  </a:lnTo>
                  <a:lnTo>
                    <a:pt x="83" y="262"/>
                  </a:lnTo>
                  <a:lnTo>
                    <a:pt x="102" y="295"/>
                  </a:lnTo>
                  <a:lnTo>
                    <a:pt x="125" y="327"/>
                  </a:lnTo>
                  <a:lnTo>
                    <a:pt x="147" y="358"/>
                  </a:lnTo>
                  <a:lnTo>
                    <a:pt x="172" y="386"/>
                  </a:lnTo>
                  <a:lnTo>
                    <a:pt x="197" y="417"/>
                  </a:lnTo>
                  <a:lnTo>
                    <a:pt x="224" y="446"/>
                  </a:lnTo>
                  <a:lnTo>
                    <a:pt x="252" y="474"/>
                  </a:lnTo>
                  <a:lnTo>
                    <a:pt x="283" y="503"/>
                  </a:lnTo>
                  <a:lnTo>
                    <a:pt x="316" y="531"/>
                  </a:lnTo>
                  <a:lnTo>
                    <a:pt x="349" y="557"/>
                  </a:lnTo>
                  <a:lnTo>
                    <a:pt x="382" y="583"/>
                  </a:lnTo>
                  <a:lnTo>
                    <a:pt x="418" y="609"/>
                  </a:lnTo>
                  <a:lnTo>
                    <a:pt x="454" y="633"/>
                  </a:lnTo>
                  <a:lnTo>
                    <a:pt x="491" y="659"/>
                  </a:lnTo>
                  <a:lnTo>
                    <a:pt x="529" y="679"/>
                  </a:lnTo>
                  <a:lnTo>
                    <a:pt x="571" y="703"/>
                  </a:lnTo>
                  <a:lnTo>
                    <a:pt x="610" y="723"/>
                  </a:lnTo>
                  <a:lnTo>
                    <a:pt x="651" y="744"/>
                  </a:lnTo>
                  <a:lnTo>
                    <a:pt x="693" y="762"/>
                  </a:lnTo>
                  <a:lnTo>
                    <a:pt x="737" y="781"/>
                  </a:lnTo>
                  <a:lnTo>
                    <a:pt x="782" y="799"/>
                  </a:lnTo>
                  <a:lnTo>
                    <a:pt x="826" y="814"/>
                  </a:lnTo>
                  <a:lnTo>
                    <a:pt x="870" y="827"/>
                  </a:lnTo>
                  <a:lnTo>
                    <a:pt x="915" y="840"/>
                  </a:lnTo>
                  <a:lnTo>
                    <a:pt x="962" y="853"/>
                  </a:lnTo>
                  <a:lnTo>
                    <a:pt x="1009" y="864"/>
                  </a:lnTo>
                  <a:lnTo>
                    <a:pt x="1053" y="874"/>
                  </a:lnTo>
                  <a:lnTo>
                    <a:pt x="1100" y="882"/>
                  </a:lnTo>
                  <a:lnTo>
                    <a:pt x="1150" y="889"/>
                  </a:lnTo>
                  <a:lnTo>
                    <a:pt x="1197" y="895"/>
                  </a:lnTo>
                  <a:lnTo>
                    <a:pt x="1245" y="897"/>
                  </a:lnTo>
                  <a:lnTo>
                    <a:pt x="1292" y="9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0"/>
            <p:cNvSpPr/>
            <p:nvPr/>
          </p:nvSpPr>
          <p:spPr>
            <a:xfrm>
              <a:off x="2603520" y="31698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1"/>
            <p:cNvSpPr/>
            <p:nvPr/>
          </p:nvSpPr>
          <p:spPr>
            <a:xfrm>
              <a:off x="4813200" y="3209760"/>
              <a:ext cx="2038320" cy="1430280"/>
            </a:xfrm>
            <a:custGeom>
              <a:avLst/>
              <a:gdLst/>
              <a:ahLst/>
              <a:rect l="l" t="t" r="r" b="b"/>
              <a:pathLst>
                <a:path w="1284" h="901">
                  <a:moveTo>
                    <a:pt x="1283" y="0"/>
                  </a:moveTo>
                  <a:lnTo>
                    <a:pt x="1280" y="33"/>
                  </a:lnTo>
                  <a:lnTo>
                    <a:pt x="1275" y="67"/>
                  </a:lnTo>
                  <a:lnTo>
                    <a:pt x="1267" y="101"/>
                  </a:lnTo>
                  <a:lnTo>
                    <a:pt x="1258" y="132"/>
                  </a:lnTo>
                  <a:lnTo>
                    <a:pt x="1244" y="166"/>
                  </a:lnTo>
                  <a:lnTo>
                    <a:pt x="1233" y="199"/>
                  </a:lnTo>
                  <a:lnTo>
                    <a:pt x="1217" y="231"/>
                  </a:lnTo>
                  <a:lnTo>
                    <a:pt x="1200" y="262"/>
                  </a:lnTo>
                  <a:lnTo>
                    <a:pt x="1181" y="295"/>
                  </a:lnTo>
                  <a:lnTo>
                    <a:pt x="1158" y="327"/>
                  </a:lnTo>
                  <a:lnTo>
                    <a:pt x="1136" y="358"/>
                  </a:lnTo>
                  <a:lnTo>
                    <a:pt x="1111" y="386"/>
                  </a:lnTo>
                  <a:lnTo>
                    <a:pt x="1086" y="417"/>
                  </a:lnTo>
                  <a:lnTo>
                    <a:pt x="1059" y="446"/>
                  </a:lnTo>
                  <a:lnTo>
                    <a:pt x="1031" y="474"/>
                  </a:lnTo>
                  <a:lnTo>
                    <a:pt x="1000" y="503"/>
                  </a:lnTo>
                  <a:lnTo>
                    <a:pt x="970" y="531"/>
                  </a:lnTo>
                  <a:lnTo>
                    <a:pt x="937" y="557"/>
                  </a:lnTo>
                  <a:lnTo>
                    <a:pt x="903" y="583"/>
                  </a:lnTo>
                  <a:lnTo>
                    <a:pt x="867" y="609"/>
                  </a:lnTo>
                  <a:lnTo>
                    <a:pt x="831" y="633"/>
                  </a:lnTo>
                  <a:lnTo>
                    <a:pt x="792" y="659"/>
                  </a:lnTo>
                  <a:lnTo>
                    <a:pt x="756" y="679"/>
                  </a:lnTo>
                  <a:lnTo>
                    <a:pt x="715" y="703"/>
                  </a:lnTo>
                  <a:lnTo>
                    <a:pt x="676" y="723"/>
                  </a:lnTo>
                  <a:lnTo>
                    <a:pt x="634" y="744"/>
                  </a:lnTo>
                  <a:lnTo>
                    <a:pt x="593" y="762"/>
                  </a:lnTo>
                  <a:lnTo>
                    <a:pt x="549" y="781"/>
                  </a:lnTo>
                  <a:lnTo>
                    <a:pt x="507" y="799"/>
                  </a:lnTo>
                  <a:lnTo>
                    <a:pt x="463" y="814"/>
                  </a:lnTo>
                  <a:lnTo>
                    <a:pt x="418" y="827"/>
                  </a:lnTo>
                  <a:lnTo>
                    <a:pt x="374" y="840"/>
                  </a:lnTo>
                  <a:lnTo>
                    <a:pt x="327" y="853"/>
                  </a:lnTo>
                  <a:lnTo>
                    <a:pt x="280" y="864"/>
                  </a:lnTo>
                  <a:lnTo>
                    <a:pt x="235" y="874"/>
                  </a:lnTo>
                  <a:lnTo>
                    <a:pt x="188" y="882"/>
                  </a:lnTo>
                  <a:lnTo>
                    <a:pt x="141" y="889"/>
                  </a:lnTo>
                  <a:lnTo>
                    <a:pt x="94" y="895"/>
                  </a:lnTo>
                  <a:lnTo>
                    <a:pt x="47" y="897"/>
                  </a:lnTo>
                  <a:lnTo>
                    <a:pt x="0" y="9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2"/>
            <p:cNvSpPr/>
            <p:nvPr/>
          </p:nvSpPr>
          <p:spPr>
            <a:xfrm>
              <a:off x="6850080" y="31698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3"/>
            <p:cNvSpPr/>
            <p:nvPr/>
          </p:nvSpPr>
          <p:spPr>
            <a:xfrm>
              <a:off x="1557000" y="4392360"/>
              <a:ext cx="21092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Underutiliz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14"/>
            <p:cNvGrpSpPr/>
            <p:nvPr/>
          </p:nvGrpSpPr>
          <p:grpSpPr>
            <a:xfrm>
              <a:off x="4664160" y="4582800"/>
              <a:ext cx="3007080" cy="1141560"/>
              <a:chOff x="4664160" y="4582800"/>
              <a:chExt cx="3007080" cy="1141560"/>
            </a:xfrm>
          </p:grpSpPr>
          <p:sp>
            <p:nvSpPr>
              <p:cNvPr id="762" name="Line 15"/>
              <p:cNvSpPr/>
              <p:nvPr/>
            </p:nvSpPr>
            <p:spPr>
              <a:xfrm>
                <a:off x="4664160" y="4639680"/>
                <a:ext cx="63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16"/>
              <p:cNvSpPr/>
              <p:nvPr/>
            </p:nvSpPr>
            <p:spPr>
              <a:xfrm flipH="1">
                <a:off x="4730400" y="4639680"/>
                <a:ext cx="88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17"/>
              <p:cNvSpPr/>
              <p:nvPr/>
            </p:nvSpPr>
            <p:spPr>
              <a:xfrm flipH="1">
                <a:off x="4791240" y="5078160"/>
                <a:ext cx="542880" cy="0"/>
              </a:xfrm>
              <a:prstGeom prst="line">
                <a:avLst/>
              </a:prstGeom>
              <a:ln w="12600">
                <a:solidFill>
                  <a:srgbClr val="f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8"/>
              <p:cNvSpPr/>
              <p:nvPr/>
            </p:nvSpPr>
            <p:spPr>
              <a:xfrm flipV="1">
                <a:off x="4794120" y="4828320"/>
                <a:ext cx="0" cy="252360"/>
              </a:xfrm>
              <a:prstGeom prst="line">
                <a:avLst/>
              </a:prstGeom>
              <a:ln w="12600">
                <a:solidFill>
                  <a:srgbClr val="f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9"/>
              <p:cNvSpPr/>
              <p:nvPr/>
            </p:nvSpPr>
            <p:spPr>
              <a:xfrm>
                <a:off x="4724280" y="470808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4" y="0"/>
                    </a:moveTo>
                    <a:lnTo>
                      <a:pt x="89" y="83"/>
                    </a:lnTo>
                    <a:lnTo>
                      <a:pt x="0" y="83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80000"/>
              </a:solidFill>
              <a:ln cap="rnd" w="12600">
                <a:solidFill>
                  <a:srgbClr val="f8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Oval 20"/>
              <p:cNvSpPr/>
              <p:nvPr/>
            </p:nvSpPr>
            <p:spPr>
              <a:xfrm>
                <a:off x="4730760" y="4582800"/>
                <a:ext cx="128520" cy="118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Rectangle 21"/>
              <p:cNvSpPr/>
              <p:nvPr/>
            </p:nvSpPr>
            <p:spPr>
              <a:xfrm>
                <a:off x="5488920" y="4965120"/>
                <a:ext cx="218232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Best Operat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Leve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9" name="Rectangle 22"/>
            <p:cNvSpPr/>
            <p:nvPr/>
          </p:nvSpPr>
          <p:spPr>
            <a:xfrm>
              <a:off x="2880" y="3188880"/>
              <a:ext cx="1391400" cy="109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nit cos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f outpu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3"/>
            <p:cNvSpPr/>
            <p:nvPr/>
          </p:nvSpPr>
          <p:spPr>
            <a:xfrm>
              <a:off x="3810240" y="6327360"/>
              <a:ext cx="134244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24"/>
            <p:cNvSpPr/>
            <p:nvPr/>
          </p:nvSpPr>
          <p:spPr>
            <a:xfrm>
              <a:off x="5181480" y="6555960"/>
              <a:ext cx="1051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5"/>
            <p:cNvSpPr/>
            <p:nvPr/>
          </p:nvSpPr>
          <p:spPr>
            <a:xfrm>
              <a:off x="5824080" y="4392360"/>
              <a:ext cx="1953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verutiliz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Text Box 2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3A535C58-1DB7-4A26-A24B-D322026EE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apacity Ut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36196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one week of production, a plant produced 83 units of a product.  Its historic highest or best utilization recorded was 120 units per week.  What is this plant’s capacity utilization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228600" y="4038480"/>
            <a:ext cx="8610480" cy="23623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buClr>
                <a:srgbClr val="66003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utilization rate =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Capacity used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operating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83/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0.69 or 6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9D6F28A1-9CB1-4AC1-870D-E72F8AB3D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7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7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47" dur="1" fill="hold"/>
                                  <p:tgtEl>
                                    <p:spTgt spid="7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7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49" dur="1" fill="hold"/>
                                  <p:tgtEl>
                                    <p:spTgt spid="7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7T17:56:34Z</dcterms:created>
  <dc:creator> </dc:creator>
  <dc:description/>
  <cp:keywords/>
  <dc:language>en-US</dc:language>
  <cp:lastModifiedBy>KSU S155-S9</cp:lastModifiedBy>
  <dcterms:modified xsi:type="dcterms:W3CDTF">2015-10-21T06:29:27Z</dcterms:modified>
  <cp:revision>60</cp:revision>
  <dc:subject/>
  <dc:title>Production  and Operations Management: Manufacturing and  Services</dc:title>
</cp:coreProperties>
</file>