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A24-1BE8-4ED9-9031-C6F2D466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838-82FF-47CE-899E-BB0F51DA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BB8-B68A-4837-8402-B0E31258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EF87-A7E9-46F7-9643-C41AAA8E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A1B0-56A9-44F0-A8BD-59D2C649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FBF-0B21-4CBA-ABEF-05A72AE5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40F-DB66-4559-94D1-D4DC8E4A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6092-5996-4938-B302-1BF97522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17D-AC4B-4144-8DE5-B2B1F02B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78B-86C3-4B61-BC2F-68335CEF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16E3-99B5-4EAA-9B14-B67CDBFA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EE3-4077-42B9-B6E0-0DDA5770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8A33-F852-429F-BFF3-654439B5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FE0-AAFF-4C1A-8F66-22B125CF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1CE-AAFD-421C-80AF-4CDD66BB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8901-9791-4C87-920C-20B9669B3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5198-B9A7-4E96-898E-B7642A7B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9A9-99AC-4228-8ED1-D11E3F2C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C66-7720-4A4A-B1CD-B7A0C2BE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3093-3A69-427C-BF99-DF5E67E8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A0B9-B405-48CA-AD63-A76727EA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41D-F58F-4920-8A90-DB1D930E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FA8E-24E7-4F4E-93C4-420B4288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715-B14B-4F04-9F50-E6FC0294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5CF-0B9B-4881-8717-281CBE9B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6D3-0658-45F1-BD8F-047F6CB2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D43-2988-4462-9128-BBBB00B9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936-54A4-4287-814E-B1D2762D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BF37-5514-41C4-B2D5-74289668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A674-A4BF-4960-83EE-72B4CA01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B80-44DD-426C-B6F4-29B32550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650-3228-48E8-83F2-6B175435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760-EFC1-4233-BD64-A4CB7B73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0754-9B28-4FF1-B16B-3E0880B4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C31-CF3A-43AF-B5FE-E57B4A17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371-1131-42EA-99C5-AD49F4E8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390-11E6-41BB-B681-62DE407F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86F-A8EA-489B-83D8-607E4372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6BD-9BA7-487F-BEEE-8F76BCEC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462-5D7C-4A17-A7FB-F7945A48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B6C-70AF-41CF-8047-A4999BA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24A-4AC5-4304-993B-8DAC85F9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E6E-DACD-4EFA-9D64-AB5B57D1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EFC-DEA4-429D-8C9F-43B3B38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C38-C139-4A5C-8968-0E75265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526-CDC5-4EE1-852B-08C1586C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8F7-E8B9-4B12-873C-BD5AA695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A92-C0F7-420C-AA6A-A26C7FA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B80-7F18-4F7E-A783-F0C2E8C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5E7-2501-45A7-9037-8111A5A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998-F5A5-499D-981D-F7605FE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AC5FB092-8E2A-439F-A9CC-6BD0552E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DE198A69-C281-4535-BE92-C6A738C2D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anag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939D9E4-864C-41F3-AD56-4422DDE3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on Rat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eople hired for a particular job compared to number of individuals in the applicant 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ratio of 0.10 indicates that there were 10 qualified applicants for an open 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C54610C-AAD3-4324-B27A-606BBAF10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employees in private sector screened with regard to how they can help achieve profi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ivil service systems identify qualified applicants through competitive exa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considered for positions in not-for-profit organizations must be qualified and dedicated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FEEFD85C-BE76-49B3-988D-E7DEC1AA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tionary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that permits evaluating employees ability based up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 substitute for certain phases of the selection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40695"/>
          <p:cNvPicPr/>
          <p:nvPr/>
        </p:nvPicPr>
        <p:blipFill>
          <a:blip r:embed="rId1"/>
          <a:stretch/>
        </p:blipFill>
        <p:spPr>
          <a:xfrm>
            <a:off x="5486400" y="2360520"/>
            <a:ext cx="22464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98CEABC-73D5-4A9A-BE0C-56B2A8595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lection Process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883908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2860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43000" y="6477120"/>
            <a:ext cx="85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8610480" y="1066680"/>
            <a:ext cx="0" cy="530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88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95280" y="6324480"/>
            <a:ext cx="820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228240" y="609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28600" y="62388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248520" y="6858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8839080" y="6858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380880" y="838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8610480" y="91440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38088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6248160" y="9144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685800" y="275760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85800" y="153828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85800" y="336708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685800" y="3930480"/>
            <a:ext cx="39625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Employment Screening: Background and Reference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481500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85800" y="534816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85800" y="5881680"/>
            <a:ext cx="3962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85800" y="990720"/>
            <a:ext cx="3962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ed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 rot="16200000">
            <a:off x="5286960" y="2788560"/>
            <a:ext cx="449712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ed Ap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4648320" y="1676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464832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464832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4648320" y="4267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4648320" y="3505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4648320" y="2971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46483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26668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2666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26668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8"/>
          <p:cNvSpPr/>
          <p:nvPr/>
        </p:nvSpPr>
        <p:spPr>
          <a:xfrm>
            <a:off x="2666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668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26668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685800" y="213372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Applications and Résu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900425F-66F5-49EE-9153-6CBC9079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983960"/>
            <a:ext cx="68947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s obviously unqualifie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benefits - Applicant may be qualified for another position with the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60998A8-F504-4428-A4D3-B35A4796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 - Telephone Int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rrow pool of applicants before having  formal face-to-face inter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t down on wasted time and eff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cks advantages of face-to-face cont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possible to observe nonverbal c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3C9692B9-4CE6-48BE-8CEB-AD20A0A6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 - Videotaped Int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uctured interview format designed by hiring firm, interviewer can videotape  candidate’s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may not interact with the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place personal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broader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F0ED15E-ED1E-4AB5-A75C-494C05CA3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form must reflect not only firm’s informational needs, but also EEO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nformation is included and presented in standardized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vary from firm to firm, and even by job type within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" y="472428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B08A89C-5276-4634-BE14-EEAE97748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rinted Statements on  Application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05320" y="205740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es that information provided on form is accurate and tr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tate position i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employment at 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permission to have background and references che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j04044210000[1]"/>
          <p:cNvPicPr/>
          <p:nvPr/>
        </p:nvPicPr>
        <p:blipFill>
          <a:blip r:embed="rId1"/>
          <a:stretch/>
        </p:blipFill>
        <p:spPr>
          <a:xfrm>
            <a:off x="762120" y="2521080"/>
            <a:ext cx="23130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B1DC363-2DF5-4C47-90E0-7AA050F1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Résum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 - Goal-directed summary of experience, education, and training developed for use in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/managerial applicants often begin selection process by submitting résum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career objective for specific posi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mportant concept of releva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00A2ACD-B620-4618-B04E-9786DB28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choosing from group of applicants the individual best suited for a particular position and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selection process is to properly match people with jobs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performers contribute from 5-22 times more value to companies than midlevel or low 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A6AC31D-02B2-44C9-91D0-A95885BE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ding Résumés via the Intern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companies now use automated track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s deviating from assumed style are igno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 should be as computer/scanner friendly as 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C33D519-EAC4-4E9B-A9C3-B296D3B9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on of Select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Problems using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Properly Designed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A0E05902-B9F8-4891-859A-74480911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ject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2743200" cy="4525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and accurate means of selecting qualified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small in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ttitudes and job-related skills that interviews cannot recogn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5818241B-975C-4F95-BD72-9B93B782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Properly Designed Select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tandardiz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Uniformity of  procedures and conditions of administering tes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bjectiv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veryone scoring a test obtains sam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Frame of reference for comparing applicant's performance with that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DF426773-433E-49D2-AE23-1C64A645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Properly Designed Selection Test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vides consist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easures what it is supposed to measure (Basic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quirement for Job Rela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est must work without having adverse impact on minorities, females, and individuals with backgrounds or characteristics protected under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2879B435-2950-44B4-BAE1-4C600FD9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Employment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1768320"/>
            <a:ext cx="67500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gnitive ap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ychomotor 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-sample (simul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tional intere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4A336DC1-848B-4D04-91BE-4FA06F2A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214720"/>
            <a:ext cx="403884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ing being used to test skills required by applic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j0205582"/>
          <p:cNvPicPr/>
          <p:nvPr/>
        </p:nvPicPr>
        <p:blipFill>
          <a:blip r:embed="rId1"/>
          <a:stretch/>
        </p:blipFill>
        <p:spPr>
          <a:xfrm>
            <a:off x="5181480" y="2060640"/>
            <a:ext cx="2691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C43CBA0-4E78-46A7-BB75-1770ECFC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 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-oriented conversation where interviewer and applicant exchang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s to be primary method used to evaluate applica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is point, candidates appear to be qual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51046ADB-B15B-4ABA-A0CD-F87A5988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 Plan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pplicant’s application and résumé with job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questions related to qualities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tep-by-step plan to present position, company, division, and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to ask for examples of past job-related applicant behavi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6475699E-633A-4648-BD63-80F972C3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of the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392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cupational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 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0AFE412-D9D3-437D-8B85-D7199130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vironmental Factors Affecting the Selec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2984400" cy="4023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84240" y="2019240"/>
            <a:ext cx="5002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H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tiona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5AF1451E-F877-4AA3-81B1-463C8E0D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F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’s perception of degree to which prospective employee will fit in with  firm’s culture or valu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 also should consider organizational fit when debating whether or not to accept a job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D2F3072-B0F5-45AD-B2D5-D0167CAF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didate’s Role and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00400" y="2060280"/>
            <a:ext cx="5486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interviewer provides information about company, it is important for applicants to do their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MCj03043510000[1]"/>
          <p:cNvPicPr/>
          <p:nvPr/>
        </p:nvPicPr>
        <p:blipFill>
          <a:blip r:embed="rId1"/>
          <a:stretch/>
        </p:blipFill>
        <p:spPr>
          <a:xfrm>
            <a:off x="1066680" y="1984320"/>
            <a:ext cx="18338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E252D76-12DC-4375-BA43-3609F7F5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Inter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ject 3" descr=""/>
          <p:cNvPicPr/>
          <p:nvPr/>
        </p:nvPicPr>
        <p:blipFill>
          <a:blip r:embed="rId1"/>
          <a:stretch/>
        </p:blipFill>
        <p:spPr>
          <a:xfrm>
            <a:off x="779400" y="2103480"/>
            <a:ext cx="3227400" cy="3436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52640" y="1906200"/>
            <a:ext cx="40338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structured (nondirec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d (directive or pattern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46401EE3-B724-4C9D-9185-5B9075B8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tructured (Nondirective)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3" descr=""/>
          <p:cNvPicPr/>
          <p:nvPr/>
        </p:nvPicPr>
        <p:blipFill>
          <a:blip r:embed="rId1"/>
          <a:stretch/>
        </p:blipFill>
        <p:spPr>
          <a:xfrm>
            <a:off x="457200" y="2354400"/>
            <a:ext cx="2581200" cy="2849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s probing, open-ende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es applicant to do much of the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ten time-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legal w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1111FA4-5BF2-4F56-8020-B216F8B90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tructured Interview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 me about yours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your greatest streng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your greatest weaknes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ill our company benefit by having you as an employ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A7750CB-EE43-43CA-9936-72AF75F5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(Directive or Patterned)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ies of job-related questions asked of each applicant for particular j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s reliability and accuracy by reducing subjectivity and inconsistency of unstructured intervie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6F29AC31-CB4E-479D-AF5C-180FA5FCB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(Directive or Patterned) Interview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2581200" cy="2847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91000" y="1752480"/>
            <a:ext cx="532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u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knowledg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-sample simulat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 requirements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61EB281-246D-4263-9689-6DC4BC91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al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asked to relate actual incidents from past relevant to target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havior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Job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Relate a scenario where you were responsible for motivating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scribe situation where your expertise made a significant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38111555-4594-42E8-83B5-D6EEC001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Inter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ne-on-one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Applicant meets one-on-one with inter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roup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Several applicants interact in presence of one or more company represent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oard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Several firm representatives interview candidate at  sam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D700CAD9-6171-497D-B6EA-EF09508A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H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906560"/>
            <a:ext cx="40384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process affects, and is affected by, virtually every other HR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18239_"/>
          <p:cNvPicPr/>
          <p:nvPr/>
        </p:nvPicPr>
        <p:blipFill>
          <a:blip r:embed="rId1"/>
          <a:stretch/>
        </p:blipFill>
        <p:spPr>
          <a:xfrm>
            <a:off x="457200" y="1822320"/>
            <a:ext cx="40384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C0CDD9F-1710-4EFA-A17F-DD45BDFC7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 management is greatly influenced by legislation, executive orders, and cour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 -Why am I asking this ques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formation is job related, usually asking for the information is appropr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8D37309-900F-493D-9244-BF3C8307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of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2136600"/>
            <a:ext cx="4267080" cy="33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available to make selection decision can have major effect on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234131"/>
          <p:cNvPicPr/>
          <p:nvPr/>
        </p:nvPicPr>
        <p:blipFill>
          <a:blip r:embed="rId1"/>
          <a:stretch/>
        </p:blipFill>
        <p:spPr>
          <a:xfrm>
            <a:off x="1066680" y="2281320"/>
            <a:ext cx="29718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54D6D665-5E88-4DDC-82D9-651B0888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approaches to selection are generally taken for filling positions at different levels in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187423"/>
          <p:cNvPicPr/>
          <p:nvPr/>
        </p:nvPicPr>
        <p:blipFill>
          <a:blip r:embed="rId1"/>
          <a:stretch/>
        </p:blipFill>
        <p:spPr>
          <a:xfrm>
            <a:off x="5334120" y="1773360"/>
            <a:ext cx="2214360" cy="183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233018"/>
          <p:cNvPicPr/>
          <p:nvPr/>
        </p:nvPicPr>
        <p:blipFill>
          <a:blip r:embed="rId2"/>
          <a:stretch/>
        </p:blipFill>
        <p:spPr>
          <a:xfrm>
            <a:off x="5410080" y="3962520"/>
            <a:ext cx="2138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3958C30-1741-4441-BD21-846853C0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Hierarch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background checks and multiple interviews would most likely apply for the executive 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nt for a clerical position would probably take a word processing test and perhaps have a short employment 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06CFFB4-41DC-4888-9105-56786030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nt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qualified applicants recruited for a particula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2:49:11Z</dcterms:created>
  <dc:creator>Wayne Mondy</dc:creator>
  <dc:description/>
  <dc:language>en-US</dc:language>
  <cp:lastModifiedBy>KSU S155-S9</cp:lastModifiedBy>
  <dcterms:modified xsi:type="dcterms:W3CDTF">2015-10-05T09:21:32Z</dcterms:modified>
  <cp:revision>43</cp:revision>
  <dc:subject/>
  <dc:title>STRATEGIC HUMAN RESOURCE MANAGEMENT:  AN OVERVIEW</dc:title>
</cp:coreProperties>
</file>