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75D1-7A97-4BCD-B31F-CD33CE02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BCC-5FC6-4602-A1FE-7613154C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0DD1-28EE-4C73-B2E6-36BD0F63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1B43-A081-48DF-8E69-162A0BBB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2206-32C4-46F4-B169-4AFDEEDB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1035-8D19-4419-A0BF-64D6B2CD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87D2-EE62-4DCA-8170-01A817F1C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042D-DBAF-450B-BE92-F20F9AA4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1ADE-CCF6-4606-84AC-3741FA084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764A-0806-493E-B603-EF662CF0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D1BF-6675-4BD1-B8E7-7B25A7BA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2C50-5F9A-4E6E-AD28-20B2BCABD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CA9A-D007-4D1F-A7FE-DD4BE893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E699-F83E-4B61-91B5-DC78F419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E3DA-F188-4FA9-AA76-AC9BA095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A539-CCD2-4A91-B2AA-66614C9A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6D78-00FE-4EBB-B189-643C393B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A63-5062-4C4B-B3A8-390F5493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E6D4-A7B7-4401-9E4B-D6451AA58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1BD-D663-4BF7-B7F4-596CBD8B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3C4F-32ED-4087-AF78-9E7BABC6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6598-9BEB-4B8C-A9DC-3B9E2BD0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0F86-3969-4E21-AFFC-AA06F295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848C-FE39-4B2C-B52B-AB2B0AAE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E13E-D10E-46D2-AE38-D1BBBB934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C0EB-B87D-4FFA-A7B3-D58EFABD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61AC-E26B-4075-92C1-4EB08D5F6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7D0-3E19-49DF-8445-86A06FE6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427D-1667-4B56-A012-553B0777F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D341-4880-4FFF-AA84-F46D6482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936D-91A0-4C87-8E8A-E9994A7B0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F684-BA83-4BED-8299-0CAFF8ED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B17-3C92-4DFB-A86A-B5EAB2DE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DAD5-BE3F-48D3-A4B8-ACACBC2A0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E53-245A-4D43-B3E1-E4F4D71D7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752-73FC-42BF-A8A2-70BE48B8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D904-7C7D-42FA-9175-454546C7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3E9C-EC08-4A62-A376-F7415376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B2CB-21A9-4346-97FC-B2E06CF6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C13E-5E76-4BBF-AA61-6FDB3386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9029-3250-4F48-B310-85C379D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9AF-5CBF-4576-B6C4-DD20001C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D8C2-3138-4A84-B16B-B5D4FCFA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212-94AB-4F3C-BB09-D122A045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6DC0-2F83-4A20-A0E0-2E5E5CB3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24E-E79B-41B0-9426-D1731152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B6F-8EB3-4A35-AA8A-6903593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A77-02B8-4B2E-A242-10952ABB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02A-D259-41C1-B386-7C00D118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BB0-B9B1-45E4-B9F3-8071E8AC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006-30ED-4059-9C57-D5B14A05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6A152A67-0A7A-44CC-8360-A3E40934D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F65A5214-FB91-4151-8D32-199D10592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anage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Edi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2CB437C-9A9C-423F-9189-5CA5EAB6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on Rati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eople hired for a particular job compared to number of individuals in the applicant 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ratio of 0.10 indicates that there were 10 qualified applicants for an open 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B0E07F7-935C-4B55-8BFA-057DFDF8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 of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pective employees in private sector screened with regard to how they can help achieve profit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civil service systems identify qualified applicants through competitive exam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considered for positions in not-for-profit organizations must be qualified and dedicated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2B233D5-1E84-4DC3-A316-14D78E1D3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tionary Peri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that permits evaluating employees ability based up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 substitute for certain phases of the selection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b 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40695"/>
          <p:cNvPicPr/>
          <p:nvPr/>
        </p:nvPicPr>
        <p:blipFill>
          <a:blip r:embed="rId1"/>
          <a:stretch/>
        </p:blipFill>
        <p:spPr>
          <a:xfrm>
            <a:off x="5486400" y="2360520"/>
            <a:ext cx="2246400" cy="24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7D34C87-0568-4E11-98B5-4BF975F3B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lection Process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rnal Enviro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883908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28600" y="1233360"/>
            <a:ext cx="0" cy="523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243000" y="6477120"/>
            <a:ext cx="858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6"/>
          <p:cNvSpPr/>
          <p:nvPr/>
        </p:nvSpPr>
        <p:spPr>
          <a:xfrm>
            <a:off x="8610480" y="1066680"/>
            <a:ext cx="0" cy="530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380880" y="914400"/>
            <a:ext cx="0" cy="541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395280" y="6324480"/>
            <a:ext cx="820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228240" y="6094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28600" y="623880"/>
            <a:ext cx="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248520" y="6858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8839080" y="68580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 flipV="1">
            <a:off x="380880" y="838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8610480" y="914400"/>
            <a:ext cx="0" cy="50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"/>
          <p:cNvSpPr/>
          <p:nvPr/>
        </p:nvSpPr>
        <p:spPr>
          <a:xfrm>
            <a:off x="380880" y="838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6"/>
          <p:cNvSpPr/>
          <p:nvPr/>
        </p:nvSpPr>
        <p:spPr>
          <a:xfrm flipH="1">
            <a:off x="6248160" y="9144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685800" y="275760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85800" y="153828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liminary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685800" y="336708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ment Intervi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685800" y="3930480"/>
            <a:ext cx="396252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Employment Screening: Background and Reference Che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481500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85800" y="534816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85800" y="5881680"/>
            <a:ext cx="396252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mploy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685800" y="990720"/>
            <a:ext cx="3962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ed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 rot="16200000">
            <a:off x="5286960" y="2788560"/>
            <a:ext cx="4497120" cy="12027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ed Ap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4648320" y="1676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464832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4648320" y="49528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4648320" y="42670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4648320" y="3505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4648320" y="2971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2"/>
          <p:cNvSpPr/>
          <p:nvPr/>
        </p:nvSpPr>
        <p:spPr>
          <a:xfrm>
            <a:off x="4648320" y="22860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>
            <a:off x="266688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>
            <a:off x="26668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>
            <a:off x="26668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2666880" y="1905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8"/>
          <p:cNvSpPr/>
          <p:nvPr/>
        </p:nvSpPr>
        <p:spPr>
          <a:xfrm>
            <a:off x="26668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9"/>
          <p:cNvSpPr/>
          <p:nvPr/>
        </p:nvSpPr>
        <p:spPr>
          <a:xfrm>
            <a:off x="26668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0"/>
          <p:cNvSpPr/>
          <p:nvPr/>
        </p:nvSpPr>
        <p:spPr>
          <a:xfrm>
            <a:off x="26668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1"/>
          <p:cNvSpPr/>
          <p:nvPr/>
        </p:nvSpPr>
        <p:spPr>
          <a:xfrm>
            <a:off x="685800" y="2133720"/>
            <a:ext cx="39625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of Applications and Résu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03EC9BA-7456-4781-A4A8-67077044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983960"/>
            <a:ext cx="68947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oves obviously unqualified individu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benefits - Applicant may be qualified for another position with the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6A94B1D-D831-46C7-9BBE-7B9725DAC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 - Telephone Int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rrow pool of applicants before having  formal face-to-face intervie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t down on wasted time and eff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cks advantages of face-to-face conta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possible to observe nonverbal c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F36BE6C-C60D-4E54-AFE9-E5B86883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liminary Interview - Videotaped Interview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structured interview format designed by hiring firm, interviewer can videotape  candidate’s respo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er may not interact with the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place personal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for broader 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9499360-A923-4A7C-AB73-267554A6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Appl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5438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form must reflect not only firm’s informational needs, but also EEO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information is included and presented in standardized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vary from firm to firm, and even by job type within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5800" y="472428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4CE40DDE-F4C1-47E3-9D65-335604D4D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rinted Statements on  Application F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05320" y="2057400"/>
            <a:ext cx="533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es that information provided on form is accurate and tr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state position is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employment at wi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permission to have background and references check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MCj04044210000[1]"/>
          <p:cNvPicPr/>
          <p:nvPr/>
        </p:nvPicPr>
        <p:blipFill>
          <a:blip r:embed="rId1"/>
          <a:stretch/>
        </p:blipFill>
        <p:spPr>
          <a:xfrm>
            <a:off x="762120" y="2521080"/>
            <a:ext cx="23130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4B49C9C-D83E-4306-B3FF-19317E738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of Résumé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 - Goal-directed summary of experience, education, and training developed for use in selec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/managerial applicants often begin selection process by submitting résum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career objective for specific posi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mportant concept of relevan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1B5AF75-89E4-4A73-BB61-B01C2C679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choosing from group of applicants the individual best suited for a particular position and the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selection process is to properly match people with jobs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performers contribute from 5-22 times more value to companies than midlevel or low perfo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BBB314A-2534-4D0B-9E9C-6CEC340A9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ding Résumés via the Interne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companies now use automated track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s deviating from assumed style are igno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 should be as computer/scanner friendly as 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08BFF7B-9D87-46A8-8658-B210A4F5D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ministration of Select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Problems using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Properly Designed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31158206-7BA5-4D7C-A593-616149B1D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Selection 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ject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2743200" cy="4525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429000" y="16002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and accurate means of selecting qualified candi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small in comparis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ttitudes and job-related skills that interviews cannot recogn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26781814-4168-418F-B328-002831730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Properly Designed Selection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tandardiz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Uniformity of  procedures and conditions of administering tes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bjectivit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veryone scoring a test obtains same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Frame of reference for comparing applicant's performance with that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934BD3D-DF68-4E73-A985-2BD9D392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s of Properly Designed Selection Test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liabi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vides consisten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Measures what it is supposed to measure (Basic Requi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Requirement for Job Rela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est must work without having adverse impact on minorities, females, and individuals with backgrounds or characteristics protected under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5F400CC-B428-44FF-8BA1-5A14FEB4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Employment Te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1768320"/>
            <a:ext cx="6750000" cy="41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gnitive apt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ychomotor 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Know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-sample (simul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tional intere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6B9D651-B24E-4CAB-AB9F-BFD0543EA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et T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214720"/>
            <a:ext cx="403884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ing being used to test skills required by applic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j0205582"/>
          <p:cNvPicPr/>
          <p:nvPr/>
        </p:nvPicPr>
        <p:blipFill>
          <a:blip r:embed="rId1"/>
          <a:stretch/>
        </p:blipFill>
        <p:spPr>
          <a:xfrm>
            <a:off x="5181480" y="2060640"/>
            <a:ext cx="26910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DF86F30E-26FD-40BB-B2E2-A13131B4E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ployment 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-oriented conversation where interviewer and applicant exchange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s to be primary method used to evaluate applica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 this point, candidates appear to be qualif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7281414-13BD-444D-BF1B-55F88CE0B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view Plan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applicant’s application and résumé with job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questions related to qualities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tep-by-step plan to present position, company, division, and depar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to ask for examples of past job-related applicant behavi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AC95C07B-CCFF-4F8A-8FE1-079F68BA6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 of the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75392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cupational exper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ademic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personal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 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zational 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98D64E8-5305-4658-930F-100BD721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vironmental Factors Affecting the Selectio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Object 3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2984400" cy="4023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84240" y="2019240"/>
            <a:ext cx="50022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H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tionary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18A291E-48BD-4197-B327-FD4869BA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F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’s perception of degree to which prospective employee will fit in with  firm’s culture or valu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es also should consider organizational fit when debating whether or not to accept a job off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08FD2B26-A8E6-4BD5-AC55-35E8D1781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didate’s Role and Expec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00400" y="2060280"/>
            <a:ext cx="54864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le interviewer provides information about company, it is important for applicants to do their 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MCj03043510000[1]"/>
          <p:cNvPicPr/>
          <p:nvPr/>
        </p:nvPicPr>
        <p:blipFill>
          <a:blip r:embed="rId1"/>
          <a:stretch/>
        </p:blipFill>
        <p:spPr>
          <a:xfrm>
            <a:off x="1066680" y="1984320"/>
            <a:ext cx="183384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C3F8E79-A84C-499C-B9A0-2DB4276A1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Intervie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ject 3" descr=""/>
          <p:cNvPicPr/>
          <p:nvPr/>
        </p:nvPicPr>
        <p:blipFill>
          <a:blip r:embed="rId1"/>
          <a:stretch/>
        </p:blipFill>
        <p:spPr>
          <a:xfrm>
            <a:off x="779400" y="2103480"/>
            <a:ext cx="3227400" cy="3436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52640" y="1906200"/>
            <a:ext cx="403380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structured (nondirec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d (directive or pattern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CA8156B0-AECB-4F22-8B26-00F369393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tructured (Nondirective)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3" descr=""/>
          <p:cNvPicPr/>
          <p:nvPr/>
        </p:nvPicPr>
        <p:blipFill>
          <a:blip r:embed="rId1"/>
          <a:stretch/>
        </p:blipFill>
        <p:spPr>
          <a:xfrm>
            <a:off x="457200" y="2354400"/>
            <a:ext cx="2581200" cy="28494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ks probing, open-ende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courages applicant to do much of the t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ten time-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tential legal w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8BE5F16-39C9-49AB-8D8D-E145FD8C2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structured Interview 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l me about yoursel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your greatest streng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your greatest weaknes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ill our company benefit by having you as an employe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34A631EA-CA26-426F-AA08-AE7651FD1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(Directive or Patterned)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ies of job-related questions asked of each applicant for particular job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es reliability and accuracy by reducing subjectivity and inconsistency of unstructured interview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3C7E3388-60ED-4B20-A13F-4B7F98114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(Directive or Patterned) Interview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ject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2581200" cy="28479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591000" y="1752480"/>
            <a:ext cx="532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tuational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 knowledge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b-sample simulation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er requirements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567BBD35-722B-465B-9A33-728A6155E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havioral Int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nts asked to relate actual incidents from past relevant to target jo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ehavior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Job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Relate a scenario where you were responsible for motivating oth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escribe situation where your expertise made a significant differ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7DB462D5-7558-4001-B465-B74B34B15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hods of Inter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One-on-one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Applicant meets one-on-one with intervie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Group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Several applicants interact in presence of one or more company represent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Board interview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Several firm representatives interview candidate at  same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B09D154F-060E-4365-B659-4A84FCC39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HR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906560"/>
            <a:ext cx="40384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ion process affects, and is affected by, virtually every other HR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18239_"/>
          <p:cNvPicPr/>
          <p:nvPr/>
        </p:nvPicPr>
        <p:blipFill>
          <a:blip r:embed="rId1"/>
          <a:stretch/>
        </p:blipFill>
        <p:spPr>
          <a:xfrm>
            <a:off x="457200" y="1822320"/>
            <a:ext cx="40384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63DD121-FF93-40B1-8CBA-40300605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resource management is greatly influenced by legislation, executive orders, and court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ing principle -Why am I asking this ques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formation is job related, usually asking for the information is appropri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E3412D39-864D-4E4A-AB88-E0DDB6157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of Decision M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2136600"/>
            <a:ext cx="4267080" cy="33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available to make selection decision can have major effect on selection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j0234131"/>
          <p:cNvPicPr/>
          <p:nvPr/>
        </p:nvPicPr>
        <p:blipFill>
          <a:blip r:embed="rId1"/>
          <a:stretch/>
        </p:blipFill>
        <p:spPr>
          <a:xfrm>
            <a:off x="1066680" y="2281320"/>
            <a:ext cx="29718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10BB18A5-CDEF-4E7D-B85C-94F26926F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izational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fferent approaches to selection are generally taken for filling positions at different levels in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j0187423"/>
          <p:cNvPicPr/>
          <p:nvPr/>
        </p:nvPicPr>
        <p:blipFill>
          <a:blip r:embed="rId1"/>
          <a:stretch/>
        </p:blipFill>
        <p:spPr>
          <a:xfrm>
            <a:off x="5334120" y="1773360"/>
            <a:ext cx="2214360" cy="183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j0233018"/>
          <p:cNvPicPr/>
          <p:nvPr/>
        </p:nvPicPr>
        <p:blipFill>
          <a:blip r:embed="rId2"/>
          <a:stretch/>
        </p:blipFill>
        <p:spPr>
          <a:xfrm>
            <a:off x="5410080" y="3962520"/>
            <a:ext cx="2138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85CD2014-CA16-4FA7-9EE5-BF0EA9652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Hierarch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 background checks and multiple interviews would most likely apply for the executive 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pplicant for a clerical position would probably take a word processing test and perhaps have a short employment 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8 by Prenti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-</a:t>
            </a:r>
            <a:fld id="{953A4182-416F-42EA-97DF-442739EA9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nt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ber of qualified applicants recruited for a particular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1T12:49:11Z</dcterms:created>
  <dc:creator>Wayne Mondy</dc:creator>
  <dc:description/>
  <dc:language>en-US</dc:language>
  <cp:lastModifiedBy>KSU S155-S9</cp:lastModifiedBy>
  <dcterms:modified xsi:type="dcterms:W3CDTF">2015-10-05T09:21:32Z</dcterms:modified>
  <cp:revision>43</cp:revision>
  <dc:subject/>
  <dc:title>STRATEGIC HUMAN RESOURCE MANAGEMENT:  AN OVERVIEW</dc:title>
</cp:coreProperties>
</file>