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450-7C91-490D-B8F7-F4FEEFB6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34D-D1B5-4856-B65F-BA877DE1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A9D-842F-45CB-BE7E-ADCE9FDC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562-D436-4D69-AFDD-3EC6D36E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F56-A13D-42FB-B98B-7564FC4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5C7-D788-4AC8-8357-C0A8FC57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F10-1BA0-4837-87DB-135BE065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42F-0B5C-4A2F-A5D0-278C72D3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FCF-5354-46A9-83C0-D454CA8B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401-EC13-44FF-BA44-D7ACEB3C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8D5-E128-48F0-A575-3B7BC3C9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C6E-7D33-4ACD-AD7A-1C49513E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Ghulam Muhamm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78A9-E47B-4F9F-A2DB-B4148DDB9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عنصر نائب لرقم الشريحة 3"/>
          <p:cNvSpPr/>
          <p:nvPr/>
        </p:nvSpPr>
        <p:spPr>
          <a:xfrm>
            <a:off x="78487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16A4-DBA5-4482-BD55-C937D25FF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42900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1.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5"/>
              <p:cNvSpPr txBox="1"/>
              <p:nvPr/>
            </p:nvSpPr>
            <p:spPr>
              <a:xfrm>
                <a:off x="2971800" y="1042920"/>
                <a:ext cx="2610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rce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tur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Text Box 6"/>
          <p:cNvSpPr/>
          <p:nvPr/>
        </p:nvSpPr>
        <p:spPr>
          <a:xfrm>
            <a:off x="380880" y="156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Stable sys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If natural response approaches zero as time approaches infinity (LTI Syste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0880" y="210168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Marginally stable sys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If natural response neither decays nor grows but remains constant or oscillates as time approaches infin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57200" y="297180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BIB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Bounded Input, Bounded Output) yields stab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57200" y="35812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ble systems have closed-loop transfer functions with poles only in the left-half pla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rcRect l="0" t="15225" r="0" b="54324"/>
          <a:stretch/>
        </p:blipFill>
        <p:spPr>
          <a:xfrm>
            <a:off x="0" y="4419720"/>
            <a:ext cx="4465800" cy="1676160"/>
          </a:xfrm>
          <a:prstGeom prst="rect">
            <a:avLst/>
          </a:prstGeom>
          <a:ln w="0">
            <a:noFill/>
          </a:ln>
        </p:spPr>
      </p:pic>
      <p:sp>
        <p:nvSpPr>
          <p:cNvPr id="50" name="Line 11"/>
          <p:cNvSpPr/>
          <p:nvPr/>
        </p:nvSpPr>
        <p:spPr>
          <a:xfrm>
            <a:off x="4495680" y="4114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2" descr=""/>
          <p:cNvPicPr/>
          <p:nvPr/>
        </p:nvPicPr>
        <p:blipFill>
          <a:blip r:embed="rId2"/>
          <a:srcRect l="0" t="66437" r="0" b="3115"/>
          <a:stretch/>
        </p:blipFill>
        <p:spPr>
          <a:xfrm>
            <a:off x="4602240" y="4267080"/>
            <a:ext cx="4465440" cy="167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457200" y="66996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Stabil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 most important system specif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ounded Rectangular Callout 3"/>
          <p:cNvSpPr/>
          <p:nvPr/>
        </p:nvSpPr>
        <p:spPr>
          <a:xfrm>
            <a:off x="6095880" y="914400"/>
            <a:ext cx="1219320" cy="414360"/>
          </a:xfrm>
          <a:prstGeom prst="wedgeRoundRectCallout">
            <a:avLst>
              <a:gd name="adj1" fmla="val -75638"/>
              <a:gd name="adj2" fmla="val -8050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the total response of a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لتذييل 2"/>
          <p:cNvSpPr/>
          <p:nvPr/>
        </p:nvSpPr>
        <p:spPr>
          <a:xfrm>
            <a:off x="3200400" y="6351480"/>
            <a:ext cx="28954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8718-9975-450B-A53A-1675F72EA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523880" y="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ability in Stat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457200" y="923760"/>
                <a:ext cx="28195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Line 6"/>
          <p:cNvSpPr/>
          <p:nvPr/>
        </p:nvSpPr>
        <p:spPr>
          <a:xfrm>
            <a:off x="380880" y="2590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228600" y="2900520"/>
                <a:ext cx="52452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s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s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6172200" y="3165480"/>
                <a:ext cx="28065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s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3657600" cy="2049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5410080" y="4495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right-half-plane pole and two left-half-plane pol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062D-B86B-4D83-B1C0-C34A68046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438280" y="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2. Steady-State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295280" y="91440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ady-State Error:  The difference between the input and the output for a prescribed test input (step / ramp / parabola) a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2382840" y="1647720"/>
            <a:ext cx="37130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03CE-E235-46EB-98B2-B91E8EDD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95280" y="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valuating Steady-State Error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rcRect l="0" t="0" r="51853" b="36637"/>
          <a:stretch/>
        </p:blipFill>
        <p:spPr>
          <a:xfrm>
            <a:off x="1981080" y="838080"/>
            <a:ext cx="3962520" cy="12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152280" y="2438280"/>
                <a:ext cx="45720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and     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457200" y="2971800"/>
                <a:ext cx="241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8"/>
          <p:cNvSpPr/>
          <p:nvPr/>
        </p:nvSpPr>
        <p:spPr>
          <a:xfrm>
            <a:off x="304920" y="35812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ying final value theor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2895480" y="3581280"/>
                <a:ext cx="1752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181080" y="4181400"/>
                <a:ext cx="48481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Line 11"/>
          <p:cNvSpPr/>
          <p:nvPr/>
        </p:nvSpPr>
        <p:spPr>
          <a:xfrm>
            <a:off x="5105520" y="2438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257800" y="228600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Problem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d the steady-state error for the following system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5410080" y="2895480"/>
                <a:ext cx="1562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14"/>
          <p:cNvSpPr/>
          <p:nvPr/>
        </p:nvSpPr>
        <p:spPr>
          <a:xfrm>
            <a:off x="5791320" y="35812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input is step respon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5257800" y="41148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6"/>
              <p:cNvSpPr txBox="1"/>
              <p:nvPr/>
            </p:nvSpPr>
            <p:spPr>
              <a:xfrm>
                <a:off x="6553080" y="4119480"/>
                <a:ext cx="1828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Text Box 17"/>
          <p:cNvSpPr/>
          <p:nvPr/>
        </p:nvSpPr>
        <p:spPr>
          <a:xfrm>
            <a:off x="5410080" y="4876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) is stable, hen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) is s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8"/>
              <p:cNvSpPr txBox="1"/>
              <p:nvPr/>
            </p:nvSpPr>
            <p:spPr>
              <a:xfrm>
                <a:off x="6311880" y="5911920"/>
                <a:ext cx="11556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Text Box 19"/>
          <p:cNvSpPr/>
          <p:nvPr/>
        </p:nvSpPr>
        <p:spPr>
          <a:xfrm>
            <a:off x="5334120" y="54100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ying final value theore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3048120" y="3200400"/>
            <a:ext cx="1523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4572000" y="3200400"/>
            <a:ext cx="19051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A64C-7244-4E2A-90CF-289DBE1B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295280" y="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valuating Steady-State Error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Comic Sans MS"/>
                <a:ea typeface="ＭＳ Ｐゴシック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rcRect l="50928" t="19808" r="0" b="20793"/>
          <a:stretch/>
        </p:blipFill>
        <p:spPr>
          <a:xfrm>
            <a:off x="2362320" y="76212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152280" y="2209680"/>
                <a:ext cx="394992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and    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2280" y="2666880"/>
                <a:ext cx="164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228600" y="3505320"/>
                <a:ext cx="16635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Text Box 9"/>
          <p:cNvSpPr/>
          <p:nvPr/>
        </p:nvSpPr>
        <p:spPr>
          <a:xfrm>
            <a:off x="2057400" y="3581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Final-value theore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28600" y="4419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input: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457200" y="4803840"/>
                <a:ext cx="37720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Text Box 12"/>
          <p:cNvSpPr/>
          <p:nvPr/>
        </p:nvSpPr>
        <p:spPr>
          <a:xfrm>
            <a:off x="380880" y="57150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zero steady-state err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3"/>
              <p:cNvSpPr txBox="1"/>
              <p:nvPr/>
            </p:nvSpPr>
            <p:spPr>
              <a:xfrm>
                <a:off x="2819520" y="5778360"/>
                <a:ext cx="1143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Line 14"/>
          <p:cNvSpPr/>
          <p:nvPr/>
        </p:nvSpPr>
        <p:spPr>
          <a:xfrm>
            <a:off x="228600" y="4191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4267080" y="21337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4648320" y="21337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mp input: 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17"/>
              <p:cNvSpPr txBox="1"/>
              <p:nvPr/>
            </p:nvSpPr>
            <p:spPr>
              <a:xfrm>
                <a:off x="4389480" y="2421000"/>
                <a:ext cx="4549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m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Text Box 18"/>
          <p:cNvSpPr/>
          <p:nvPr/>
        </p:nvSpPr>
        <p:spPr>
          <a:xfrm>
            <a:off x="4419720" y="34290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zero steady-state err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9"/>
              <p:cNvSpPr txBox="1"/>
              <p:nvPr/>
            </p:nvSpPr>
            <p:spPr>
              <a:xfrm>
                <a:off x="6804000" y="3436920"/>
                <a:ext cx="1251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20"/>
          <p:cNvSpPr/>
          <p:nvPr/>
        </p:nvSpPr>
        <p:spPr>
          <a:xfrm>
            <a:off x="4648320" y="42670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abolic input: (1/2)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21"/>
              <p:cNvSpPr txBox="1"/>
              <p:nvPr/>
            </p:nvSpPr>
            <p:spPr>
              <a:xfrm>
                <a:off x="4335480" y="4562640"/>
                <a:ext cx="47592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raboli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Text Box 22"/>
          <p:cNvSpPr/>
          <p:nvPr/>
        </p:nvSpPr>
        <p:spPr>
          <a:xfrm>
            <a:off x="4419720" y="54100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zero steady-state err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3"/>
              <p:cNvSpPr txBox="1"/>
              <p:nvPr/>
            </p:nvSpPr>
            <p:spPr>
              <a:xfrm>
                <a:off x="6831000" y="5486400"/>
                <a:ext cx="13222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A7EF-810E-45FB-BFB0-64AE9DAB1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066680" y="0"/>
            <a:ext cx="70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valuating Steady-State Error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Comic Sans MS"/>
                <a:ea typeface="ＭＳ Ｐゴシック"/>
              </a:rPr>
              <a:t>-exampl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3809880" cy="1177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228600" y="1905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  <a:ea typeface="ＭＳ Ｐゴシック"/>
              </a:rPr>
              <a:t>Probl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295280" y="1933560"/>
            <a:ext cx="678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nd steady-state errors for inputs 5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, 5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, and 5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) to the above syste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228600" y="23302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  <a:ea typeface="ＭＳ Ｐゴシック"/>
              </a:rPr>
              <a:t>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6781680" y="1295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): unity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295280" y="23623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, the system is s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2"/>
              <p:cNvSpPr txBox="1"/>
              <p:nvPr/>
            </p:nvSpPr>
            <p:spPr>
              <a:xfrm>
                <a:off x="1371600" y="2916360"/>
                <a:ext cx="34290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3"/>
              <p:cNvSpPr txBox="1"/>
              <p:nvPr/>
            </p:nvSpPr>
            <p:spPr>
              <a:xfrm>
                <a:off x="1371600" y="3835440"/>
                <a:ext cx="3276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t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4"/>
              <p:cNvSpPr txBox="1"/>
              <p:nvPr/>
            </p:nvSpPr>
            <p:spPr>
              <a:xfrm>
                <a:off x="1371600" y="4802040"/>
                <a:ext cx="3352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Text Box 15"/>
          <p:cNvSpPr/>
          <p:nvPr/>
        </p:nvSpPr>
        <p:spPr>
          <a:xfrm>
            <a:off x="533520" y="57913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aplace of 5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(t) is 10 /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 10 times the outp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6"/>
          <p:cNvSpPr/>
          <p:nvPr/>
        </p:nvSpPr>
        <p:spPr>
          <a:xfrm flipV="1">
            <a:off x="358128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7" descr=""/>
          <p:cNvPicPr/>
          <p:nvPr/>
        </p:nvPicPr>
        <p:blipFill>
          <a:blip r:embed="rId2"/>
          <a:stretch/>
        </p:blipFill>
        <p:spPr>
          <a:xfrm>
            <a:off x="5578560" y="2514600"/>
            <a:ext cx="3076560" cy="380988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>
            <a:off x="4952880" y="3200400"/>
            <a:ext cx="144792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"/>
          <p:cNvSpPr/>
          <p:nvPr/>
        </p:nvSpPr>
        <p:spPr>
          <a:xfrm>
            <a:off x="4724280" y="4114800"/>
            <a:ext cx="228600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AB58-8485-4E33-907D-DCC5F6AC3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066680" y="0"/>
            <a:ext cx="701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valuating Steady-State Error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Comic Sans MS"/>
                <a:ea typeface="ＭＳ Ｐゴシック"/>
              </a:rPr>
              <a:t>-example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3886200" cy="9939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6781680" y="1263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integration,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>
            <a:off x="4038480" y="1447920"/>
            <a:ext cx="27432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V="1">
            <a:off x="4038480" y="1371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1590840" y="2514600"/>
                <a:ext cx="2990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"/>
              <p:cNvSpPr txBox="1"/>
              <p:nvPr/>
            </p:nvSpPr>
            <p:spPr>
              <a:xfrm>
                <a:off x="1217520" y="3433680"/>
                <a:ext cx="35863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t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1"/>
              <p:cNvSpPr txBox="1"/>
              <p:nvPr/>
            </p:nvSpPr>
            <p:spPr>
              <a:xfrm>
                <a:off x="1371600" y="4400640"/>
                <a:ext cx="33526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Text Box 12"/>
          <p:cNvSpPr/>
          <p:nvPr/>
        </p:nvSpPr>
        <p:spPr>
          <a:xfrm>
            <a:off x="5486400" y="439884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integrations will make it constant and 3 or more will make it z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4800240" y="4703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2514600" y="54864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kill-Assessment Exercise 7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1703-3F19-48EB-929D-D19ACFFD6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438280" y="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atic Error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609480" y="114300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ition constant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2666880" y="1200240"/>
                <a:ext cx="12891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7"/>
          <p:cNvSpPr/>
          <p:nvPr/>
        </p:nvSpPr>
        <p:spPr>
          <a:xfrm>
            <a:off x="609480" y="175248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locity constant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8"/>
              <p:cNvSpPr txBox="1"/>
              <p:nvPr/>
            </p:nvSpPr>
            <p:spPr>
              <a:xfrm>
                <a:off x="2631960" y="1809720"/>
                <a:ext cx="136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 Box 9"/>
          <p:cNvSpPr/>
          <p:nvPr/>
        </p:nvSpPr>
        <p:spPr>
          <a:xfrm>
            <a:off x="228600" y="2330280"/>
            <a:ext cx="243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leration constant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2622600" y="2354400"/>
                <a:ext cx="14508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Line 12"/>
          <p:cNvSpPr/>
          <p:nvPr/>
        </p:nvSpPr>
        <p:spPr>
          <a:xfrm>
            <a:off x="441972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457200" y="30481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4"/>
              <p:cNvSpPr txBox="1"/>
              <p:nvPr/>
            </p:nvSpPr>
            <p:spPr>
              <a:xfrm>
                <a:off x="457200" y="3416400"/>
                <a:ext cx="31878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9" name="Picture 15" descr=""/>
          <p:cNvPicPr/>
          <p:nvPr/>
        </p:nvPicPr>
        <p:blipFill>
          <a:blip r:embed="rId1"/>
          <a:srcRect l="0" t="34862" r="0" b="41171"/>
          <a:stretch/>
        </p:blipFill>
        <p:spPr>
          <a:xfrm>
            <a:off x="4495680" y="1447920"/>
            <a:ext cx="4496040" cy="94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0" name="Object 16"/>
              <p:cNvSpPr txBox="1"/>
              <p:nvPr/>
            </p:nvSpPr>
            <p:spPr>
              <a:xfrm>
                <a:off x="4660920" y="3505320"/>
                <a:ext cx="3492360" cy="17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step input, 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ramp input,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parabolic input, 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B8F2-DD37-47E3-9D5C-67539C9D0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743200" y="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ste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695840" cy="11779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380880" y="2438280"/>
            <a:ext cx="3124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0: 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; (no integ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1: 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1; (one integ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2: 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2; (two integr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"/>
          <p:cNvSpPr/>
          <p:nvPr/>
        </p:nvSpPr>
        <p:spPr>
          <a:xfrm flipV="1">
            <a:off x="1447920" y="1523880"/>
            <a:ext cx="2286000" cy="990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2"/>
          <a:stretch/>
        </p:blipFill>
        <p:spPr>
          <a:xfrm>
            <a:off x="4433760" y="2666880"/>
            <a:ext cx="4100760" cy="1036800"/>
          </a:xfrm>
          <a:prstGeom prst="rect">
            <a:avLst/>
          </a:prstGeom>
          <a:ln w="0">
            <a:noFill/>
          </a:ln>
        </p:spPr>
      </p:pic>
      <p:sp>
        <p:nvSpPr>
          <p:cNvPr id="298" name="Line 9"/>
          <p:cNvSpPr/>
          <p:nvPr/>
        </p:nvSpPr>
        <p:spPr>
          <a:xfrm>
            <a:off x="4038480" y="2209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038480" y="2209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457200" y="39625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228600" y="4191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  <a:ea typeface="ＭＳ Ｐゴシック"/>
              </a:rPr>
              <a:t>Probl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228600" y="4844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  <a:ea typeface="ＭＳ Ｐゴシック"/>
              </a:rPr>
              <a:t>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1295280" y="419112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d the value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o that there is 10% error in the steady st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5"/>
          <p:cNvSpPr/>
          <p:nvPr/>
        </p:nvSpPr>
        <p:spPr>
          <a:xfrm flipH="1">
            <a:off x="4343400" y="3581280"/>
            <a:ext cx="4572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1295280" y="4876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1295280" y="541008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nput should be ramp, because only ramp yields a finite error in Type 1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8"/>
              <p:cNvSpPr txBox="1"/>
              <p:nvPr/>
            </p:nvSpPr>
            <p:spPr>
              <a:xfrm>
                <a:off x="5562720" y="4114800"/>
                <a:ext cx="3416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Text Box 19"/>
          <p:cNvSpPr/>
          <p:nvPr/>
        </p:nvSpPr>
        <p:spPr>
          <a:xfrm>
            <a:off x="5562720" y="5562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6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E019-09F7-4ABD-A98B-3CA4C4EEC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14400" y="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eady-State Error for Disturb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3657600" cy="1175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380880" y="2209680"/>
                <a:ext cx="40896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  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304920" y="3657600"/>
                <a:ext cx="3200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8"/>
              <p:cNvSpPr txBox="1"/>
              <p:nvPr/>
            </p:nvSpPr>
            <p:spPr>
              <a:xfrm>
                <a:off x="304920" y="4468680"/>
                <a:ext cx="4311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for step disturb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6" name="Line 9"/>
          <p:cNvSpPr/>
          <p:nvPr/>
        </p:nvSpPr>
        <p:spPr>
          <a:xfrm>
            <a:off x="487692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0" descr=""/>
          <p:cNvPicPr/>
          <p:nvPr/>
        </p:nvPicPr>
        <p:blipFill>
          <a:blip r:embed="rId2"/>
          <a:stretch/>
        </p:blipFill>
        <p:spPr>
          <a:xfrm>
            <a:off x="4876920" y="2155680"/>
            <a:ext cx="4114800" cy="119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Object 11"/>
              <p:cNvSpPr txBox="1"/>
              <p:nvPr/>
            </p:nvSpPr>
            <p:spPr>
              <a:xfrm>
                <a:off x="5702400" y="4191120"/>
                <a:ext cx="2755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Line 12"/>
          <p:cNvSpPr/>
          <p:nvPr/>
        </p:nvSpPr>
        <p:spPr>
          <a:xfrm flipV="1">
            <a:off x="4648320" y="4876560"/>
            <a:ext cx="1523880" cy="609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63F8-BC22-46BA-9500-901FF3BBD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0" y="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eady-State Error for Nonunity Feedback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rcRect l="0" t="0" r="58463" b="70898"/>
          <a:stretch/>
        </p:blipFill>
        <p:spPr>
          <a:xfrm>
            <a:off x="380880" y="1433520"/>
            <a:ext cx="2819520" cy="1461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2"/>
          <a:srcRect l="46155" t="58208" r="0" b="6454"/>
          <a:stretch/>
        </p:blipFill>
        <p:spPr>
          <a:xfrm>
            <a:off x="5181480" y="1295280"/>
            <a:ext cx="3353040" cy="1629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7"/>
          <p:cNvSpPr/>
          <p:nvPr/>
        </p:nvSpPr>
        <p:spPr>
          <a:xfrm>
            <a:off x="3809880" y="1905120"/>
            <a:ext cx="1219320" cy="533160"/>
          </a:xfrm>
          <a:prstGeom prst="rightArrow">
            <a:avLst>
              <a:gd name="adj1" fmla="val 50000"/>
              <a:gd name="adj2" fmla="val 571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533520" y="3124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9" descr=""/>
          <p:cNvPicPr/>
          <p:nvPr/>
        </p:nvPicPr>
        <p:blipFill>
          <a:blip r:embed="rId3"/>
          <a:stretch/>
        </p:blipFill>
        <p:spPr>
          <a:xfrm>
            <a:off x="380880" y="3505320"/>
            <a:ext cx="3657600" cy="148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8" name="Object 10"/>
              <p:cNvSpPr txBox="1"/>
              <p:nvPr/>
            </p:nvSpPr>
            <p:spPr>
              <a:xfrm>
                <a:off x="4114800" y="3352680"/>
                <a:ext cx="4572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Text Box 11"/>
          <p:cNvSpPr/>
          <p:nvPr/>
        </p:nvSpPr>
        <p:spPr>
          <a:xfrm>
            <a:off x="4191120" y="4191120"/>
            <a:ext cx="4038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e 0, as no integration. For step input, static error constant is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2"/>
              <p:cNvSpPr txBox="1"/>
              <p:nvPr/>
            </p:nvSpPr>
            <p:spPr>
              <a:xfrm>
                <a:off x="4648320" y="4856040"/>
                <a:ext cx="2641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3"/>
              <p:cNvSpPr txBox="1"/>
              <p:nvPr/>
            </p:nvSpPr>
            <p:spPr>
              <a:xfrm>
                <a:off x="5130720" y="5587920"/>
                <a:ext cx="21081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Text Box 14"/>
          <p:cNvSpPr/>
          <p:nvPr/>
        </p:nvSpPr>
        <p:spPr>
          <a:xfrm>
            <a:off x="304920" y="563868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egative value means the output step is larger than the input st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6"/>
          <p:cNvSpPr/>
          <p:nvPr/>
        </p:nvSpPr>
        <p:spPr>
          <a:xfrm flipH="1">
            <a:off x="4343400" y="58672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8057-7C92-4219-A066-64C48D5E1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057400" y="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outh-Hurwitz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04920" y="83808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method Provides stability information with solving for system po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"/>
          <p:cNvGrpSpPr/>
          <p:nvPr/>
        </p:nvGrpSpPr>
        <p:grpSpPr>
          <a:xfrm>
            <a:off x="1771560" y="1149480"/>
            <a:ext cx="838440" cy="380880"/>
            <a:chOff x="1771560" y="1149480"/>
            <a:chExt cx="838440" cy="380880"/>
          </a:xfrm>
        </p:grpSpPr>
        <p:sp>
          <p:nvSpPr>
            <p:cNvPr id="59" name="Line 8"/>
            <p:cNvSpPr/>
            <p:nvPr/>
          </p:nvSpPr>
          <p:spPr>
            <a:xfrm>
              <a:off x="1771560" y="1149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1771560" y="15303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0"/>
          <p:cNvSpPr/>
          <p:nvPr/>
        </p:nvSpPr>
        <p:spPr>
          <a:xfrm>
            <a:off x="2743200" y="136224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How man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les are in left / right plane or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xis,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not 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38160" y="1706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h Table Gen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" descr=""/>
          <p:cNvPicPr/>
          <p:nvPr/>
        </p:nvPicPr>
        <p:blipFill>
          <a:blip r:embed="rId1"/>
          <a:stretch/>
        </p:blipFill>
        <p:spPr>
          <a:xfrm>
            <a:off x="-57240" y="2201760"/>
            <a:ext cx="3657600" cy="766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2"/>
          <a:stretch/>
        </p:blipFill>
        <p:spPr>
          <a:xfrm>
            <a:off x="417600" y="3591000"/>
            <a:ext cx="300996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3"/>
          <a:stretch/>
        </p:blipFill>
        <p:spPr>
          <a:xfrm>
            <a:off x="4191120" y="2782800"/>
            <a:ext cx="4682880" cy="3389400"/>
          </a:xfrm>
          <a:prstGeom prst="rect">
            <a:avLst/>
          </a:prstGeom>
          <a:ln w="0">
            <a:noFill/>
          </a:ln>
        </p:spPr>
      </p:pic>
      <p:cxnSp>
        <p:nvCxnSpPr>
          <p:cNvPr id="66" name="Straight Arrow Connector 3"/>
          <p:cNvCxnSpPr/>
          <p:nvPr/>
        </p:nvCxnSpPr>
        <p:spPr>
          <a:xfrm>
            <a:off x="1676160" y="3962520"/>
            <a:ext cx="1080" cy="38160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67" name="Straight Arrow Connector 15"/>
          <p:cNvCxnSpPr/>
          <p:nvPr/>
        </p:nvCxnSpPr>
        <p:spPr>
          <a:xfrm flipV="1">
            <a:off x="1771560" y="3993840"/>
            <a:ext cx="496080" cy="29448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68" name="Straight Arrow Connector 17"/>
          <p:cNvCxnSpPr/>
          <p:nvPr/>
        </p:nvCxnSpPr>
        <p:spPr>
          <a:xfrm>
            <a:off x="2285640" y="3994200"/>
            <a:ext cx="1080" cy="29448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69" name="Straight Arrow Connector 18"/>
          <p:cNvCxnSpPr/>
          <p:nvPr/>
        </p:nvCxnSpPr>
        <p:spPr>
          <a:xfrm flipV="1">
            <a:off x="2395080" y="3993480"/>
            <a:ext cx="500760" cy="25308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70" name="Straight Arrow Connector 24"/>
          <p:cNvCxnSpPr/>
          <p:nvPr/>
        </p:nvCxnSpPr>
        <p:spPr>
          <a:xfrm>
            <a:off x="2895120" y="4051080"/>
            <a:ext cx="1080" cy="29268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71" name="Rectangle 10"/>
          <p:cNvSpPr/>
          <p:nvPr/>
        </p:nvSpPr>
        <p:spPr>
          <a:xfrm>
            <a:off x="236160" y="306540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Denomina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1584360" y="3122640"/>
            <a:ext cx="2124000" cy="314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2"/>
          <p:cNvSpPr/>
          <p:nvPr/>
        </p:nvSpPr>
        <p:spPr>
          <a:xfrm>
            <a:off x="5446800" y="244476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ed Ro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عنصر نائب لرقم الشريحة 3"/>
          <p:cNvSpPr/>
          <p:nvPr/>
        </p:nvSpPr>
        <p:spPr>
          <a:xfrm>
            <a:off x="80773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54BB-17BF-4194-A930-616734E9B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371600" y="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outh-Hurwitz Criterion: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6005520" y="695160"/>
            <a:ext cx="3000240" cy="170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80880" y="2938320"/>
            <a:ext cx="6499440" cy="3081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343080" y="194796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ow many </a:t>
            </a: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sign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70c0"/>
                </a:solidFill>
                <a:latin typeface="Times New Roman"/>
              </a:rPr>
              <a:t>changes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in the first column </a:t>
            </a:r>
            <a:r>
              <a:rPr b="0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the number of poles in the right-half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209680" y="2459160"/>
            <a:ext cx="0" cy="290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2819520" y="365760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2819520" y="472428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019400" y="247176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such poles : unstab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ounded Rectangular Callout 12"/>
          <p:cNvSpPr/>
          <p:nvPr/>
        </p:nvSpPr>
        <p:spPr>
          <a:xfrm>
            <a:off x="7391520" y="3438360"/>
            <a:ext cx="1676160" cy="513000"/>
          </a:xfrm>
          <a:prstGeom prst="wedgeRoundRectCallout">
            <a:avLst>
              <a:gd name="adj1" fmla="val -75638"/>
              <a:gd name="adj2" fmla="val -8050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Any row can be multiplied by a positive number. the row was multiplied by 1/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114480" y="1590840"/>
            <a:ext cx="55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f0"/>
                </a:solidFill>
                <a:latin typeface="Arial"/>
              </a:rPr>
              <a:t>Interpreting the Basic Routh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ounded Rectangle 2"/>
          <p:cNvSpPr/>
          <p:nvPr/>
        </p:nvSpPr>
        <p:spPr>
          <a:xfrm>
            <a:off x="1066680" y="2795760"/>
            <a:ext cx="2057400" cy="34527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452760"/>
              <a:gd name="textAreaBottom" fmla="*/ 3352320 h 3452760"/>
            </a:gdLst>
            <a:ahLst/>
            <a:rect l="textAreaLeft" t="textAreaTop" r="textAreaRight" b="textAreaBottom"/>
            <a:pathLst>
              <a:path w="21600" h="36247">
                <a:moveTo>
                  <a:pt x="3600" y="0"/>
                </a:moveTo>
                <a:arcTo wR="3600" hR="3600" stAng="16200000" swAng="-5400000"/>
                <a:lnTo>
                  <a:pt x="0" y="32647"/>
                </a:lnTo>
                <a:arcTo wR="3600" hR="3600" stAng="10800000" swAng="-5400000"/>
                <a:lnTo>
                  <a:pt x="18000" y="36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230120" y="59421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the first colum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344600" y="527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 the Routh table for the system shown in 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6080" y="5461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PROBL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6440" y="9986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47840" y="990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irst step is to find the equivalent closed-loop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>
            <a:off x="3505320" y="2529000"/>
            <a:ext cx="38088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018200" y="4179960"/>
            <a:ext cx="2125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the number of roots of the polynomial that are in the right half-plane is equal to the number of sign changes in the first colum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374F-BE4B-4D35-B980-816B47FC7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14400" y="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outh-Hurwitz Criterion: 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90920" y="5335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1. Zero Only in the Firs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152280" y="3003480"/>
            <a:ext cx="3581640" cy="306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4076640" y="2644920"/>
            <a:ext cx="4953240" cy="342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2057400" y="1917720"/>
                <a:ext cx="36576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1"/>
          <p:cNvSpPr/>
          <p:nvPr/>
        </p:nvSpPr>
        <p:spPr>
          <a:xfrm>
            <a:off x="0" y="906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first element of a row is </a:t>
            </a:r>
            <a:r>
              <a:rPr b="0" i="1" lang="en-US" sz="1800" spc="-1" strike="noStrike">
                <a:solidFill>
                  <a:srgbClr val="00b0f0"/>
                </a:solidFill>
                <a:latin typeface="Times New Roman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division by zero in the next 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ight Arrow 2"/>
          <p:cNvSpPr/>
          <p:nvPr/>
        </p:nvSpPr>
        <p:spPr>
          <a:xfrm>
            <a:off x="3695760" y="123984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70c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ectangle 3" descr=""/>
          <p:cNvPicPr/>
          <p:nvPr/>
        </p:nvPicPr>
        <p:blipFill>
          <a:blip r:embed="rId3"/>
          <a:stretch/>
        </p:blipFill>
        <p:spPr>
          <a:xfrm>
            <a:off x="4218120" y="907920"/>
            <a:ext cx="4925880" cy="774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343440" y="205596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0022-68E6-44D7-9C0E-9D6F41922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14400" y="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outh-Hurwitz Criterion: 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3880" y="5335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Zero Only in the First Column: reverse coeffic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870120" y="4602240"/>
                <a:ext cx="3276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760320" y="5808600"/>
                <a:ext cx="3219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Text Box 8"/>
          <p:cNvSpPr/>
          <p:nvPr/>
        </p:nvSpPr>
        <p:spPr>
          <a:xfrm>
            <a:off x="136440" y="542304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erse coeffici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5029200" y="2900520"/>
            <a:ext cx="3962520" cy="3402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141840" y="41734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38160" y="944640"/>
            <a:ext cx="8953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olynomial that has the reciprocal roots of the original, is another method that can be used when a zero appears only in the first column of a 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551960" y="17287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 is replaced by l/d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4160" y="170172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iprocal roo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701880" y="1749600"/>
            <a:ext cx="3310200" cy="350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495360" y="2219400"/>
            <a:ext cx="3048120" cy="496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4"/>
          <a:stretch/>
        </p:blipFill>
        <p:spPr>
          <a:xfrm>
            <a:off x="495360" y="2690640"/>
            <a:ext cx="3571920" cy="600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5"/>
          <a:stretch/>
        </p:blipFill>
        <p:spPr>
          <a:xfrm>
            <a:off x="349200" y="3351240"/>
            <a:ext cx="3973680" cy="576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4724280" y="2173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ince there are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</a:rPr>
              <a:t>two sign changes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, the system is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</a:rPr>
              <a:t>unstabl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and has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</a:rPr>
              <a:t>two right-half-plane p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Straight Arrow Connector 12"/>
          <p:cNvCxnSpPr/>
          <p:nvPr/>
        </p:nvCxnSpPr>
        <p:spPr>
          <a:xfrm flipV="1">
            <a:off x="6857640" y="2716200"/>
            <a:ext cx="376920" cy="2618280"/>
          </a:xfrm>
          <a:prstGeom prst="straightConnector1">
            <a:avLst/>
          </a:prstGeom>
          <a:ln w="6480">
            <a:solidFill>
              <a:srgbClr val="00cc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لتذييل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267C-C91A-46FD-A8A8-8B6E360D6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14400" y="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outh-Hurwitz Criterion: 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124080" y="395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2. Entire Row is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371600" y="3224160"/>
            <a:ext cx="6416640" cy="28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2892600" y="1806480"/>
                <a:ext cx="30542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228600" y="2043000"/>
                <a:ext cx="16128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Line 10"/>
          <p:cNvSpPr/>
          <p:nvPr/>
        </p:nvSpPr>
        <p:spPr>
          <a:xfrm>
            <a:off x="380880" y="2362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0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990720" y="2454120"/>
                <a:ext cx="1752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Line 13"/>
          <p:cNvSpPr/>
          <p:nvPr/>
        </p:nvSpPr>
        <p:spPr>
          <a:xfrm>
            <a:off x="1143000" y="3124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11430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04920" y="6172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ab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-11160" y="816120"/>
            <a:ext cx="91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</a:rPr>
              <a:t>entire ro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s of </a:t>
            </a:r>
            <a:r>
              <a:rPr b="0" i="1" lang="en-US" sz="1800" spc="-1" strike="noStrike">
                <a:solidFill>
                  <a:srgbClr val="0070c0"/>
                </a:solidFill>
                <a:latin typeface="Times New Roman"/>
              </a:rPr>
              <a:t>ze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cause there is an even polynomial that is a factor of the original polynomial (only even power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 and hav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ots that are symmetrical about the origin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62280" y="15764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ular Callout 16"/>
          <p:cNvSpPr/>
          <p:nvPr/>
        </p:nvSpPr>
        <p:spPr>
          <a:xfrm>
            <a:off x="7953480" y="3586320"/>
            <a:ext cx="1081080" cy="371160"/>
          </a:xfrm>
          <a:prstGeom prst="wedgeRoundRectCallout">
            <a:avLst>
              <a:gd name="adj1" fmla="val -62240"/>
              <a:gd name="adj2" fmla="val 18847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the row was multiplied by 1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ounded Rectangular Callout 17"/>
          <p:cNvSpPr/>
          <p:nvPr/>
        </p:nvSpPr>
        <p:spPr>
          <a:xfrm>
            <a:off x="7953480" y="4119480"/>
            <a:ext cx="1081080" cy="370080"/>
          </a:xfrm>
          <a:prstGeom prst="wedgeRoundRectCallout">
            <a:avLst>
              <a:gd name="adj1" fmla="val -62240"/>
              <a:gd name="adj2" fmla="val 18847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entire row consists of z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لتذييل 2"/>
          <p:cNvSpPr/>
          <p:nvPr/>
        </p:nvSpPr>
        <p:spPr>
          <a:xfrm>
            <a:off x="4000680" y="641844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6A4E-1823-43AE-931F-1DB713278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523880" y="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ole Distribution via Routh Table with Row of Z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308400" y="2717640"/>
            <a:ext cx="5257800" cy="353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76320" y="1266840"/>
                <a:ext cx="4572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76320" y="2133720"/>
                <a:ext cx="175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601560" y="2598840"/>
                <a:ext cx="18288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 Box 9"/>
          <p:cNvSpPr/>
          <p:nvPr/>
        </p:nvSpPr>
        <p:spPr>
          <a:xfrm>
            <a:off x="1981080" y="2133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:Even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3079800" y="40384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30798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3079800" y="6248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 rot="16200000">
            <a:off x="2149560" y="50889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sig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2851200" y="26668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28512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28512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7"/>
          <p:cNvSpPr/>
          <p:nvPr/>
        </p:nvSpPr>
        <p:spPr>
          <a:xfrm rot="16200000">
            <a:off x="1845000" y="3336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sign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8" descr="6-14"/>
          <p:cNvPicPr/>
          <p:nvPr/>
        </p:nvPicPr>
        <p:blipFill>
          <a:blip r:embed="rId2"/>
          <a:srcRect l="1802" t="17707" r="1802" b="7510"/>
          <a:stretch/>
        </p:blipFill>
        <p:spPr>
          <a:xfrm>
            <a:off x="4724280" y="914400"/>
            <a:ext cx="4343400" cy="1339920"/>
          </a:xfrm>
          <a:prstGeom prst="rect">
            <a:avLst/>
          </a:prstGeom>
          <a:ln w="0">
            <a:noFill/>
          </a:ln>
        </p:spPr>
      </p:pic>
      <p:sp>
        <p:nvSpPr>
          <p:cNvPr id="157" name="Line 19"/>
          <p:cNvSpPr/>
          <p:nvPr/>
        </p:nvSpPr>
        <p:spPr>
          <a:xfrm>
            <a:off x="4648320" y="1066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ounded Rectangular Callout 19"/>
          <p:cNvSpPr/>
          <p:nvPr/>
        </p:nvSpPr>
        <p:spPr>
          <a:xfrm>
            <a:off x="1574640" y="4427640"/>
            <a:ext cx="1081080" cy="369720"/>
          </a:xfrm>
          <a:prstGeom prst="wedgeRoundRectCallout">
            <a:avLst>
              <a:gd name="adj1" fmla="val 96870"/>
              <a:gd name="adj2" fmla="val -12944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entire row consists of z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ounded Rectangular Callout 20"/>
          <p:cNvSpPr/>
          <p:nvPr/>
        </p:nvSpPr>
        <p:spPr>
          <a:xfrm>
            <a:off x="1227240" y="3352680"/>
            <a:ext cx="1203120" cy="370080"/>
          </a:xfrm>
          <a:prstGeom prst="wedgeRoundRectCallout">
            <a:avLst>
              <a:gd name="adj1" fmla="val 116935"/>
              <a:gd name="adj2" fmla="val -5606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the row was multiplied by 1/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ounded Rectangular Callout 21"/>
          <p:cNvSpPr/>
          <p:nvPr/>
        </p:nvSpPr>
        <p:spPr>
          <a:xfrm>
            <a:off x="1190520" y="3814920"/>
            <a:ext cx="1203480" cy="371160"/>
          </a:xfrm>
          <a:prstGeom prst="wedgeRoundRectCallout">
            <a:avLst>
              <a:gd name="adj1" fmla="val 116935"/>
              <a:gd name="adj2" fmla="val -5606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the row was multiplied by 1/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ounded Rectangular Callout 22"/>
          <p:cNvSpPr/>
          <p:nvPr/>
        </p:nvSpPr>
        <p:spPr>
          <a:xfrm>
            <a:off x="1311120" y="4957920"/>
            <a:ext cx="1203480" cy="371160"/>
          </a:xfrm>
          <a:prstGeom prst="wedgeRoundRectCallout">
            <a:avLst>
              <a:gd name="adj1" fmla="val 116935"/>
              <a:gd name="adj2" fmla="val -5606"/>
              <a:gd name="adj3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0070c0"/>
                </a:solidFill>
                <a:latin typeface="Times New Roman"/>
              </a:rPr>
              <a:t>the row was multiplied by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350280" y="2518560"/>
            <a:ext cx="1137240" cy="2094840"/>
            <a:chOff x="350280" y="2518560"/>
            <a:chExt cx="1137240" cy="2094840"/>
          </a:xfrm>
        </p:grpSpPr>
        <p:cxnSp>
          <p:nvCxnSpPr>
            <p:cNvPr id="163" name="Straight Arrow Connector 2"/>
            <p:cNvCxnSpPr/>
            <p:nvPr/>
          </p:nvCxnSpPr>
          <p:spPr>
            <a:xfrm flipH="1" flipV="1">
              <a:off x="350280" y="2518560"/>
              <a:ext cx="14760" cy="209484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164" name="Straight Connector 7"/>
            <p:cNvSpPr/>
            <p:nvPr/>
          </p:nvSpPr>
          <p:spPr>
            <a:xfrm>
              <a:off x="364680" y="4613400"/>
              <a:ext cx="1122840" cy="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Rectangle 9"/>
          <p:cNvSpPr/>
          <p:nvPr/>
        </p:nvSpPr>
        <p:spPr>
          <a:xfrm>
            <a:off x="92160" y="54720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No sign changes exist from the s4 row down to the s° 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108000" y="63216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ust have all four of its poles on the jw-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عنصر نائب للتذييل 2"/>
          <p:cNvSpPr/>
          <p:nvPr/>
        </p:nvSpPr>
        <p:spPr>
          <a:xfrm>
            <a:off x="3033720" y="63532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EFC2-C783-43E3-BBD5-BD4798560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523880" y="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ability Design via Routh-Hurw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162240" cy="893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228600" y="3616200"/>
            <a:ext cx="3048120" cy="217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304920" y="2362320"/>
                <a:ext cx="22730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Text Box 9"/>
          <p:cNvSpPr/>
          <p:nvPr/>
        </p:nvSpPr>
        <p:spPr>
          <a:xfrm>
            <a:off x="3962520" y="9907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 1386, the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962520" y="1523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1386, then two sign changes; two right-half plane poles and one left-half plane pole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s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962520" y="25146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1386, an entire row of zeros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2" descr=""/>
          <p:cNvPicPr/>
          <p:nvPr/>
        </p:nvPicPr>
        <p:blipFill>
          <a:blip r:embed="rId3"/>
          <a:stretch/>
        </p:blipFill>
        <p:spPr>
          <a:xfrm>
            <a:off x="6019920" y="3586320"/>
            <a:ext cx="2819160" cy="190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Object 13"/>
              <p:cNvSpPr txBox="1"/>
              <p:nvPr/>
            </p:nvSpPr>
            <p:spPr>
              <a:xfrm>
                <a:off x="4699080" y="2971800"/>
                <a:ext cx="2997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86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Line 14"/>
          <p:cNvSpPr/>
          <p:nvPr/>
        </p:nvSpPr>
        <p:spPr>
          <a:xfrm>
            <a:off x="571500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7150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715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 rot="16200000">
            <a:off x="4708800" y="455544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sig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4724280" y="57592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poles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xis and one left-half plan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عنصر نائب للتذييل 2"/>
          <p:cNvSpPr/>
          <p:nvPr/>
        </p:nvSpPr>
        <p:spPr>
          <a:xfrm>
            <a:off x="3086280" y="63244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455: Dr. Nassim Amm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B5CE-5A0B-4B31-A62E-B4D868053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3880" y="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Factoring via Routh-Hurw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2438280" y="1782720"/>
            <a:ext cx="5029200" cy="24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2133720" y="990720"/>
                <a:ext cx="27302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7"/>
          <p:cNvSpPr/>
          <p:nvPr/>
        </p:nvSpPr>
        <p:spPr>
          <a:xfrm>
            <a:off x="152280" y="990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ctor the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533520" y="1600200"/>
                <a:ext cx="1218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469800" y="4648320"/>
                <a:ext cx="6540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2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23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if</dc:creator>
  <dc:description/>
  <dc:language>en-US</dc:language>
  <cp:lastModifiedBy>nassim ammour</cp:lastModifiedBy>
  <dcterms:modified xsi:type="dcterms:W3CDTF">2017-03-27T04:57:39Z</dcterms:modified>
  <cp:revision>30</cp:revision>
  <dc:subject/>
  <dc:title>PowerPoint Presentation</dc:title>
</cp:coreProperties>
</file>