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AE5DD-1BC8-4545-87E9-5F569CC1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886AE3-BE36-495C-A36F-42869426AE9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ACC2F4-D939-4528-86F3-C3A3B6919B47}"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584314-D7B1-4E78-AE26-DAFCB48A11C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6279BD-9658-4164-B527-7153C5243EB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2905AE-1532-4714-A8FA-118C0DB4F26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6A85CD-D508-4276-BA51-CAB283D6D59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1F6862-2CF4-420C-AED8-064F7B33999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13D3A-7BFD-423E-837F-869859D71F7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BE599B-91AC-4690-A046-277BCA53D7E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DB6B05-0036-456D-9EBF-A78B2BF0DB15}"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80BDBB-7F6B-4787-B950-6FE7D91434A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6AFB2F-CFC6-48BB-B7ED-B6BE82B91E2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200BE-1863-40DE-AAB8-7D6015D57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328B-7896-45F3-8381-BE3DBF307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257E6-48EE-45B6-99A7-6F6B6CFEB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5A96F0-AF73-46EA-84A4-548BA9E1F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F6ACF-6595-4009-9695-81347D797E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30408-8402-4F16-A49C-FB96255E0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D52482-0D8B-44ED-9E69-47619BC29C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928F7-2BCB-4CAE-B4F7-54998F127D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001C3-F068-4115-96D3-68A5F2330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672D95-F7A6-44EC-A740-1977FCA364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668A73-8221-4FED-8C00-0C7FA192CB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DB8AFF-5179-4F08-9B9A-C2C5D379A3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CE820-A52A-42D9-87FC-4B4EBA8A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9989E4-6B2F-4E54-A6C8-BA33CF8127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873A30-29A4-43C1-8CB3-E35D9C9097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23526B-E18D-48A3-8388-CC8E4C6314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DA6603-1373-4784-BBF3-CDB254CFEA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2F2E6F-13AD-4E00-8CF3-8947AEFB16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3ACFD4-A8AD-4FB9-BE2B-274A2117C3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5FDF79-6A14-4584-BE43-0333A5F9A2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7C76A7-3061-4321-981A-615AF5671D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7E7B75-5B8C-4112-A0E4-27F35F6E04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C65EE2-C277-4750-88CB-499324EF4E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BE2F5-01B4-46F8-A681-D802BEC96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603D03-0301-4FB9-8A24-14626B1297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785113-342E-45FC-A5B1-0F99B64848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96E1E2-A824-4275-BBCD-2061276143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089B00-0FC8-4A2F-B2D7-0797E67C3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AB628E-EBB4-4175-9657-1E25E6D2B5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58FDAF-0181-4B85-A6B8-7F6820F52D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F9C6EC-9DDE-4DA1-B309-228E3EEEFA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3F7E21-4CFF-4998-9380-3AC6E125D6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FF6C97-E429-4EE0-A2D1-01FC4AE751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86E22F-7789-4E26-9225-A9DBFEE39F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877EA-BF7D-4017-A4B5-E4A14C1D8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A6AD09-E800-485A-BFC3-6640DC48FF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B46918-D4E1-44DE-9B2C-830A6ED478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2FEDA4-9D0C-412C-99C7-8FA7B2E010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B0FE1A-5EBD-4D2C-89E9-051324D112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CA25AB-3C33-4805-8805-A1A06CE086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2EAE9D-BD67-415E-91A7-D4CB432B53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5BD4FA-B8DC-4644-A661-3F4252A7F0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BEFDA8-B606-430B-A4C5-E36F47B40E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D79D88-63D0-44FE-B646-1DB6F8A212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262F87-41D6-44E4-9956-87CA77B99D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166E0-4961-4313-B68A-401FE71DD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0C3339-2907-44BE-B53B-AF152DE287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A305BB-3559-469B-867D-FBB66BC20F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811122-3159-48AB-8350-321C9DAEEB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A8911E-DE2C-46D2-ABDC-0D77522571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BF7ACA-4A7E-4BD8-ADD0-C7C98CF99D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CD3582-5297-4576-88E6-965578A403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604EFD-88B8-466D-AA0A-2865CEE133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F83657-B61F-4A95-8781-697E22CEEA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C09955-44C4-4441-82AA-66A895A7F7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B2E899-F9F1-4078-8CCB-1F66E24CFA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C287C-CB80-4695-8475-79157ADE6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60BCB7-B017-4B88-A07E-D798195385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5D6D99-E0C3-49D9-9F7D-E22D95E955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0564E9-B97A-4D75-8351-587C78B663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532156-0C29-4294-BC8E-BC652F3A77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FDA841-C117-420D-9500-5A0A0EC150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F03A25-3758-47F3-A13C-A84E53B902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BC5BB4-9FAC-4C12-B0E0-CB8477CB02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6CE78B-DE02-490B-8654-9FAE990756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0B958B-6827-4138-8F3C-134F7747FE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7D5900-EF02-4000-860A-751621267E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E7274-09DF-487D-90D5-36511E43E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58071A-E41A-480D-960B-CB224CD79E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533A1C-915C-437F-A1A6-8C21664B30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26995E-A6C1-4886-B917-82CAAD3406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9F4F0D-CDB8-4185-895A-8B171C368B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869F33-EF52-4874-AB94-99976C3BBE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1FC0D8-0A3D-4FAB-84B1-583AFB666F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D859CD-ADA9-4E38-B25A-DD01821B73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3CA3BE-48EF-4A54-8B16-F53FA69816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BA6B2F-CD0F-4566-8BEC-0D5B5963D97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EC4EF-F5B0-4772-956A-CA9F91037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271C5-2AA4-4384-9E3A-C692268C7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ABA24-A86B-499B-A82C-BE17A6067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273D-6B92-4E64-8FC3-2FF87F22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789A-AF23-4363-B9F8-2DAC034CD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58FFC-4D55-4737-84ED-3D4241C6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46A2-D64C-402B-89DF-7A789E36F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4271D-29B5-4C96-8A4F-FC0A5D5B7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47701-E39C-48CD-9105-51913BA48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7E8C0D-81A6-4C0A-A46B-54ED0FB2C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524E3-A28C-4122-AA57-8EF421285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5E06C-01F3-4431-8E83-3419A4916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3401B-0FC9-4105-B669-CE3559677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BDC08-8448-46CC-9D19-68B33A470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BEB1-FC07-41FB-A98D-E7940C00F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C999D-3255-4785-B7BB-E6636B6EF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570D5-46CA-4495-B456-CF8130A7F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97388-B7E2-4B45-AADA-8F8B631D1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EC03F-26FE-4810-800E-4A2CFB241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9ACAE-C352-4F34-B88B-77398C8D1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7ACD3-C7A2-4EBC-A145-C1885E3A99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F2FB80-DF22-43F6-8ACB-7D7EB26CB0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C807B-F16F-44E8-8232-EAE558A47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1A163-3235-48D1-97F1-8DD68AD77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C1EC6-68AE-4A03-92A6-8CC08F735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10C4C-99AC-475B-9EB0-56F46554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1848D-4AE9-4FDF-A0D4-27BED4BAB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1AAEF-BBDF-4EF2-A5D7-67A152CAE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ACE94-7FB7-4EF1-B3FB-5AECB84F6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DB804-D8C9-4CD4-B501-18801EBEC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146E5-B688-46B9-AA63-7EA5A2E82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0FBA9-1846-4595-AC67-78E8FF8B6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ECC19-6BFD-4B20-A041-8034A785A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EAE00C-7BB4-4D38-AD7E-80F47024C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AF340-FA36-4F57-A392-56C14DD9D5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566F9A-C1DC-4381-A5A3-AAD863FF61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E27A-F5D6-47BD-9F06-53C910055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341E0-DB78-4A6D-849F-76BE6976B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3820A-0408-48B8-817E-9BEB1AD337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C031B-0BAF-43AC-9851-2E314C95BD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9892B-6A3E-4573-B756-4D1FAE955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9AB08-F664-43CD-B93F-EEFC1C687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C3E41-1010-4D0E-9352-BD69227CC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BE52C-8C39-4F66-96A9-2ECA04F12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FE129-B8F0-496F-AD00-D822E438B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3F15F-16BB-4AB7-9186-C8F9719ED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9B1256-FC57-44F0-B934-34D317AB5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5402-676E-4E17-949B-561077908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E3E09D-B4ED-489B-8DFE-42D477D70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A6E441-C4F8-4EA7-B30C-A1C8B18098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DC17A-FEA9-4EB6-BF73-8E2635ADD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C6687-3AD0-46A2-A829-D353B77410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F1749-0E5E-40CD-92A3-577A9A958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EB5D6-9E74-48D4-A81D-5A87A45D93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E67ABA-C860-4AE0-AAEF-0F2B2E10C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C1178-E1A7-4BE4-88B2-4AC242615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FBB77-FF20-4DAA-B393-373A8891F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97C4B-BF18-47C2-BEF2-79492505F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4826-BC51-40E9-AB26-D5EE2BC66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E37A7-A6D5-4824-B126-A65075D16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549DB-18A0-4C67-AD58-3C3C8644B6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D2C97-A0DE-45FC-BD51-6E177B6CC8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9AB851-BEBE-4453-BC03-AB11007E3D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3D6463-252D-440E-B4D0-235F49606D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E12A1-CCCD-40AC-9069-78AF0985A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5D7F9-D973-4989-B8F3-7E489FCD2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8095B-AAC9-44CD-A694-BC0846E9E0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27C2C-3E30-4C10-95E3-CECD7FB87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D3E8F-F312-49F1-92B8-09DAF0CED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8115-3583-4D22-BAEE-F2B23F4F0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DA116-186F-41ED-976B-A31AE3FE1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7685B-7926-4D1B-99A3-F34582F2B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B1652-1495-443B-B736-8099D7A8C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5588D9-54BB-4525-9960-DAD5F31AC7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3AF7E-7BA7-4149-B408-A57D6BEF3A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DA43EB-E44C-4E19-AC17-784CDE8EF4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EC051-8356-4F75-9417-C61517045C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817BC7-9CE1-403A-B580-974B1D3C53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C79FDF-91DE-4754-943C-6FD7F6A59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F47E5-B24B-4DAE-999B-750CE8905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2E12-87FA-4533-98B4-C5110A1F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F4F07-78F1-4CB9-8D21-33E774F4C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ABAE1-2783-451A-A02E-284DC2486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6BAC6-6C9F-4BEB-958A-35F4E3478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A0641-CE6D-4B09-B580-D5F4628D8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8E5ED-4340-48B7-B52E-673BFB1136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268D87-0DC4-4F17-B1A1-F0CE638B45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0BDD78-85ED-4EFA-B6E5-37BB49DB29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7B8E5B-F121-46D8-BFA5-8C832F5D64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51FE0-C392-4F0F-A171-172080807E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FAE66-2B7A-4671-B1BA-B15363C95E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E6A3-7EF8-4120-850F-FF4594E63875}"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9E6A-66F0-446F-9AAC-00021680A4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83C5-81B7-4A4D-AAE8-17F12BA0BD27}"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12BC-0483-4E17-90F5-0CD42C82F6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584F-4268-4202-8CC5-EC9C7ED66AB6}"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0752-547F-4996-A2BA-206CAC85B9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3449-0402-42C9-81A1-C6015B51F184}"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E076-E021-4D7B-96F0-B18679163F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E529-DBFF-409A-9500-32AFB0A96DFE}"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C8A6-0A9F-483D-BF9F-5C5586CCB6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C4B7-5E93-46C9-A4EF-70319EDDE6B7}"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AC27-8AC6-47D4-8CA4-7E78CB75FE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852F-1B19-4D39-8E6B-2599979238FF}"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7EDC-A6A4-48D3-9072-A4952813CE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F624-ABBC-4F48-905D-0FB9F2F4770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B9F6-48FA-4B64-ADFF-0C72846D19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ADDA-1662-46C7-9EA1-DAEB97AFC94D}"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ED80-0225-4764-AC50-11553DC22A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B037-7D4C-41EE-93C9-AA2769079BA1}"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778E-4E8E-4805-B354-ABADF6440D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C18F-E12C-4723-96C1-3B5EA49346D3}"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27BE-40FC-445F-B4A0-6247114176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EFE3-D62D-43C5-9ECB-96B73F753F93}"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95C5-8A6F-465E-8F00-AE614D8427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66AB-3E48-49D1-B705-46237D7BF3F0}"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AFB8-7759-4C2C-BA64-D7C5EEB84B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4E42-A44B-4D19-87A2-D2401DAC5394}"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D48-EE04-4A2C-A7E9-7C0059980E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4000"/>
          </a:bodyPr>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The following contingency table summarizes relevant data.</a:t>
            </a:r>
            <a:endParaRPr b="0" lang="en-US" sz="2800" spc="-1" strike="noStrike">
              <a:solidFill>
                <a:srgbClr val="000000"/>
              </a:solidFill>
              <a:latin typeface="Arial"/>
            </a:endParaRPr>
          </a:p>
          <a:p>
            <a:pPr lvl="1" marL="623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le</a:t>
            </a:r>
            <a:r>
              <a:rPr b="0" lang="en-US" sz="2600" spc="-1" strike="noStrike">
                <a:solidFill>
                  <a:srgbClr val="ff0000"/>
                </a:solidFill>
                <a:latin typeface="Arial"/>
              </a:rPr>
              <a:t> Chi_Sq_MBA_Table.sav </a:t>
            </a:r>
            <a:r>
              <a:rPr b="0" lang="en-US" sz="2600" spc="-1" strike="noStrike">
                <a:solidFill>
                  <a:srgbClr val="000000"/>
                </a:solidFill>
                <a:latin typeface="Arial"/>
              </a:rPr>
              <a:t>gives the data as per the contingency t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04240" y="1761120"/>
            <a:ext cx="3514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095840" y="1676520"/>
            <a:ext cx="788724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2-11-11T08:18:46Z</dcterms:modified>
  <cp:revision>153</cp:revision>
  <dc:subject/>
  <dc:title>No Slide Title</dc:title>
</cp:coreProperties>
</file>