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38.jpeg" ContentType="image/jpeg"/>
  <Override PartName="/ppt/media/image20.png" ContentType="image/png"/>
  <Override PartName="/ppt/media/image3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7.jpeg" ContentType="image/jpeg"/>
  <Override PartName="/ppt/media/image6.jpeg" ContentType="image/jpeg"/>
  <Override PartName="/ppt/media/image10.png" ContentType="image/png"/>
  <Override PartName="/ppt/media/image45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30.png" ContentType="image/png"/>
  <Override PartName="/ppt/media/image5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5.png" ContentType="image/png"/>
  <Override PartName="/ppt/media/image43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41.jpeg" ContentType="image/jpeg"/>
  <Override PartName="/ppt/media/image26.jpeg" ContentType="image/jpeg"/>
  <Override PartName="/ppt/media/image42.png" ContentType="image/png"/>
  <Override PartName="/ppt/media/image40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9B42-4CEE-4B18-9386-4004C387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D94D-2DF2-4B7F-A1F3-020E67B1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8A1A-3844-4666-A1CA-6B577A361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9AEB-3AAF-4F31-B0A7-7FF68FA2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257D-61F5-4574-A8BB-05EDFD18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E657-C3DB-4134-91B6-80E50BE7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CCD0-7C94-41DD-9F2F-CA0F9EEC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950B-0755-4F7D-A541-E5418CD6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C5A5-DC02-4C21-ABEA-4F4C254A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A99B-D610-40E2-8C3A-C4C7636A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E388-DE15-4250-A79C-7E533881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403E-9672-4DA0-A4D6-AB57B46E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4CB2-1011-4691-849F-72779B98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4222-F271-48A2-A586-6E313648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21A0-FE36-4671-95BD-DC9D9D80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FE0D-28A6-492A-B87E-9DE7579E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6451-86B7-4C20-8C43-9B97E9DC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B70FE-ACC9-47EE-ACE9-393BA30F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2EE91-BD97-4E36-84AB-502EDE5A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36AFC-EED9-46BA-96ED-7C5B508C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325A3-595F-4EF6-9BEC-ABF19659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C957E-0C6C-4407-8358-4A613FCA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D512-8A77-4FEF-8ECF-CA0A3C44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15BAD-D578-404C-AF09-03752B1B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96CBA-7740-4C74-8D55-306EDB89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6A539-7E34-43ED-9EBA-A6281B90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257B7-0784-4261-9A31-AE2ED3AE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EAF89-379E-4FDE-965C-82B14FB8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225AD-D981-4108-A495-32E8AF39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75A01-8A6A-4450-9F63-52140104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E5F57-18B4-4FC2-A532-5CE69D65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8FE13-1E74-424D-99F7-5978A782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7DC5B-B722-4B68-90A9-4A9CDF32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AF91-1A1D-4CE3-9009-FFF71845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B870E-F516-43B5-AD78-4F30BC04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B5245-ECB7-471C-B64E-CEEFBF13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E4E92-8C5F-449E-940A-2949ADAF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B11D0-C841-4E29-8D04-E5C0C0FC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CD0FD-9B87-4BBA-9A44-0E4498E9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750D9-A17F-40D4-BAEB-6C884561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DF61F-976C-4305-9F8A-2DF27B9D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6DE7E-8F28-4EE9-A1C0-D264CC78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DD3CF-EE65-43BB-B96C-6268F168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4F539-1259-4A1D-934A-08344795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9DD5-A3A1-46F6-A70C-2CCD05BF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8B781-1691-41BF-8CCB-CEF91CB8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11997-C503-4AF9-8192-C5DFF806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1A1DD-A6AF-4A2C-8F84-A600A635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18D60-8134-421B-85B7-58B4FDB2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91F1F-02AF-40CD-B98D-7F68AC5C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F0E10-2523-4401-BA50-734D0879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9E0C6-54A3-4265-9296-C88CE254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88A99-4FB5-430E-BC1A-D4F78427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8479D-7063-47D5-A787-6A3AE42E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10DC7-4910-4886-B7AD-94980C2C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B96D-88E6-4BE9-A405-DEBFFEDF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D4E5F-2079-4A03-AE4F-5C86C1FE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469D5-7A47-41A2-B9A1-BA8404FA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C3595-8495-458F-8368-FBA4BB7F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010F0-7220-4B3E-91CC-7BE98EC4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A70F7-17C1-4F40-B778-05A164F4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5F3EC-87BD-4F25-A82E-EEF9F9BB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9DB45-4F3D-4207-B06E-3DE69381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AD24C-BC1E-4C2E-AD7D-E0CCFBA3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4F328-3FF2-470B-8C5B-1364B486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DD9B8-82D6-4294-A777-9A397937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FF40-17DD-40F3-B4C0-90447133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49F9C-3FBB-4DE2-8465-7B466573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B0363-0316-4C72-8B4B-40EF246F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4A2BB-B827-457C-8A14-79633652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2179A-2523-4448-997A-37117493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D2283-6BAB-48C6-9541-149AF775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B922B-80FB-4499-ABB5-D30B020B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E1289-834A-42C2-A54C-9EBFD652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DE501-19C7-4BD6-BB6D-60490E6F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BF36D-797C-4B89-B597-8472D0F7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3101A-D4E5-49D2-8543-754BC28C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6187-4CEC-4CFD-833C-C92EB71F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A50EF-0730-4DA1-BBEA-15A87D2F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FB24A-6ADF-4E38-92E0-6F6A612F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D9D91-423B-432D-9600-F93B7F03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2CA94-0388-4755-9529-DEF9F3EF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60200-DC2C-4905-963A-1E0EE6A3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4A16A-3EF6-4613-B9C4-BFA08A2E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4911F-1295-4854-9106-69863D4C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A9612-8835-4530-B572-C5AD3521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DEFC6-776D-4163-A42C-1B802788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4D2FA-F1E5-453B-8DA6-9057C687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52D-920E-4277-9ABF-06DAF0EB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EFB25-DD42-4D26-BCE1-189F194A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8747E-282F-4818-B857-2C8C331D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5C888-B114-41C7-AECF-212BF810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2EDA4-AB82-4956-A85A-0726AFDD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A858C-3DE9-4FAC-B560-3BB91185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D5BF4-A774-4421-B80A-AF1FE63B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2D279-01D0-47E8-A1BC-7458C6A9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A18B-0042-46BC-B948-93D0491D9A45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e0736"/>
              </a:gs>
              <a:gs pos="50000">
                <a:srgbClr val="d75379"/>
              </a:gs>
              <a:gs pos="100000">
                <a:srgbClr val="8e0736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8a2a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F483-871E-4039-9227-592144DD7C08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72BE-C920-4FF9-AD52-45C7CC3D124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3AAF-2909-41F0-AD01-B5AE2796789F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1B78-063D-4239-B8AD-435D939A8C8D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00EB-B5EC-45C5-9383-14EBF2A01A8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7C87-F351-4E18-AFDF-E0374DF7CD26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C285-952B-46CD-83F2-CAE65FF581A0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9640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lticellular organisms with organ systems as digestive, nervous , excretory syst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ve complicated life cyc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stly have different stages of life cycle which are: ova(egg), larvae (Adul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ult worms can measure centimeters or even meters lo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tracellular parasi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e classified according to shape into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-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Nematod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round worms) cylindrical th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ample: Ascaris lumbricoid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-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Cestod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 tape worms)flat long wor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ample: Tenia saginata,tenia soli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-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Trematod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 Flukes)leaf like flat wor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ample: Schistosoma spec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C:\Documents and Settings\user\My Documents\My Pictures\asc6.jpg"/>
          <p:cNvPicPr/>
          <p:nvPr/>
        </p:nvPicPr>
        <p:blipFill>
          <a:blip r:embed="rId1"/>
          <a:stretch/>
        </p:blipFill>
        <p:spPr>
          <a:xfrm>
            <a:off x="2349360" y="1522440"/>
            <a:ext cx="4445280" cy="4444920"/>
          </a:xfrm>
          <a:prstGeom prst="rect">
            <a:avLst/>
          </a:prstGeom>
          <a:ln w="0">
            <a:noFill/>
          </a:ln>
        </p:spPr>
      </p:pic>
      <p:pic>
        <p:nvPicPr>
          <p:cNvPr id="396" name="Title 1" descr=""/>
          <p:cNvPicPr/>
          <p:nvPr/>
        </p:nvPicPr>
        <p:blipFill>
          <a:blip r:embed="rId2"/>
          <a:stretch/>
        </p:blipFill>
        <p:spPr>
          <a:xfrm>
            <a:off x="231840" y="122400"/>
            <a:ext cx="8461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C:\Documents and Settings\user\My Documents\My Pictures\Taeniaegg2asm.jpg"/>
          <p:cNvPicPr/>
          <p:nvPr/>
        </p:nvPicPr>
        <p:blipFill>
          <a:blip r:embed="rId1"/>
          <a:stretch/>
        </p:blipFill>
        <p:spPr>
          <a:xfrm>
            <a:off x="1571760" y="2500200"/>
            <a:ext cx="2847960" cy="2581560"/>
          </a:xfrm>
          <a:prstGeom prst="rect">
            <a:avLst/>
          </a:prstGeom>
          <a:ln w="0">
            <a:noFill/>
          </a:ln>
        </p:spPr>
      </p:pic>
      <p:pic>
        <p:nvPicPr>
          <p:cNvPr id="398" name="Title 1" descr=""/>
          <p:cNvPicPr/>
          <p:nvPr/>
        </p:nvPicPr>
        <p:blipFill>
          <a:blip r:embed="rId2"/>
          <a:stretch/>
        </p:blipFill>
        <p:spPr>
          <a:xfrm>
            <a:off x="231840" y="122400"/>
            <a:ext cx="8461440" cy="1341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C:\Documents and Settings\user\My Documents\My Pictures\taenia_saginata-.jpg"/>
          <p:cNvPicPr/>
          <p:nvPr/>
        </p:nvPicPr>
        <p:blipFill>
          <a:blip r:embed="rId3"/>
          <a:stretch/>
        </p:blipFill>
        <p:spPr>
          <a:xfrm>
            <a:off x="4929120" y="2500200"/>
            <a:ext cx="29718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C:\Documents and Settings\user\My Documents\My Pictures\schist11.jpg"/>
          <p:cNvPicPr/>
          <p:nvPr/>
        </p:nvPicPr>
        <p:blipFill>
          <a:blip r:embed="rId1"/>
          <a:stretch/>
        </p:blipFill>
        <p:spPr>
          <a:xfrm>
            <a:off x="2349360" y="2143080"/>
            <a:ext cx="4222800" cy="3741840"/>
          </a:xfrm>
          <a:prstGeom prst="rect">
            <a:avLst/>
          </a:prstGeom>
          <a:ln w="0">
            <a:noFill/>
          </a:ln>
        </p:spPr>
      </p:pic>
      <p:pic>
        <p:nvPicPr>
          <p:cNvPr id="401" name="Title 1" descr=""/>
          <p:cNvPicPr/>
          <p:nvPr/>
        </p:nvPicPr>
        <p:blipFill>
          <a:blip r:embed="rId2"/>
          <a:stretch/>
        </p:blipFill>
        <p:spPr>
          <a:xfrm>
            <a:off x="231840" y="122400"/>
            <a:ext cx="8461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e insects such as bugs ,fleas, biting flies, mosquitoes et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rmful effects of parasi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comfort, transmission of diseases( malaria, yellow fever, typhus), cause disease(amoebic dysentery, bilharzias), damage to cro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erotrophic eukaryo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prophytes: obtain nutrients from dead organic materi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ucleated achlorophyllous organis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roduce sexually and asexual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rrounded by true cell wa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 groups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Yeas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nd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mo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ow within a wide range pH(acidic-alkaline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ow at room temperature (can grow at cold temp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fer moist or humid atmosphe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be cultured in Sabouraud Dextrose agar media (SDA) or potato dextrose agar (PDA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at contains a source of protein (pepton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d  a source of carbohydrate (dextros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ommonest microscopic examination of fungi is </a:t>
            </a:r>
            <a:r>
              <a:rPr b="0" lang="en-US" sz="2700" spc="-1" strike="noStrike">
                <a:solidFill>
                  <a:srgbClr val="d488c5"/>
                </a:solidFill>
                <a:latin typeface="Lucida Sans Unicode"/>
              </a:rPr>
              <a:t>LACTO-PHENOL- COTTON BLU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ase mount or reagent (LPCB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nefits of fungi: important in baking , pharmaceutical(antibiotic),brewing industries. Also as saprophytes and as foo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rmful effects: cause a lot of diseases in skin, hair, nail and systemic diseas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ea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icellular, round or oval( tear drop)sha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ltiply asexually by budding resulting in production of 2 cel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l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lticellular branching hyphea forming 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yceliu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e eukaryotes that depend on another host for their nutrients and metabolic activit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vided 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-Protozoa: Unicellula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-Helminths: Multicellula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-Arthropods: Multicellula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559640" cy="10004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500040" y="2642760"/>
            <a:ext cx="300024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lternaria  species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Picture 2" descr="C:\Documents and Settings\user\My Documents\My Pictures\Alternariq.gif"/>
          <p:cNvPicPr/>
          <p:nvPr/>
        </p:nvPicPr>
        <p:blipFill>
          <a:blip r:embed="rId2"/>
          <a:stretch/>
        </p:blipFill>
        <p:spPr>
          <a:xfrm>
            <a:off x="3857760" y="2143080"/>
            <a:ext cx="417816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7272360" cy="12301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457200" y="3143160"/>
            <a:ext cx="3008160" cy="18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enicilliu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Picture 2" descr="C:\Documents and Settings\user\My Documents\My Pictures\Penicillium_labeled.jpg"/>
          <p:cNvPicPr/>
          <p:nvPr/>
        </p:nvPicPr>
        <p:blipFill>
          <a:blip r:embed="rId2"/>
          <a:stretch/>
        </p:blipFill>
        <p:spPr>
          <a:xfrm>
            <a:off x="3143160" y="2214720"/>
            <a:ext cx="5112000" cy="37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7413840" cy="123012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419720" y="5354640"/>
            <a:ext cx="397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spergillus spec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Picture 2" descr="C:\Documents and Settings\user\My Documents\My Pictures\Aspergillus_niger_EXF-2479_konidiofori_100xS.jpg"/>
          <p:cNvPicPr/>
          <p:nvPr/>
        </p:nvPicPr>
        <p:blipFill>
          <a:blip r:embed="rId2"/>
          <a:stretch/>
        </p:blipFill>
        <p:spPr>
          <a:xfrm>
            <a:off x="5357880" y="1571760"/>
            <a:ext cx="3429000" cy="2357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C:\Documents and Settings\user\My Documents\My Pictures\aspergillus_versicolor.gif"/>
          <p:cNvPicPr/>
          <p:nvPr/>
        </p:nvPicPr>
        <p:blipFill>
          <a:blip r:embed="rId3"/>
          <a:stretch/>
        </p:blipFill>
        <p:spPr>
          <a:xfrm>
            <a:off x="3786120" y="4071960"/>
            <a:ext cx="3000600" cy="2486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C:\Documents and Settings\user\My Documents\My Pictures\aspergillus2.jpg"/>
          <p:cNvPicPr/>
          <p:nvPr/>
        </p:nvPicPr>
        <p:blipFill>
          <a:blip r:embed="rId4"/>
          <a:stretch/>
        </p:blipFill>
        <p:spPr>
          <a:xfrm>
            <a:off x="428760" y="2786040"/>
            <a:ext cx="307152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C:\Documents and Settings\user\My Documents\My Pictures\Saccharomyces_ce_48a8fd8b156cd.jpg"/>
          <p:cNvPicPr/>
          <p:nvPr/>
        </p:nvPicPr>
        <p:blipFill>
          <a:blip r:embed="rId2"/>
          <a:stretch/>
        </p:blipFill>
        <p:spPr>
          <a:xfrm>
            <a:off x="1042920" y="2060640"/>
            <a:ext cx="3000600" cy="29113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C:\Documents and Settings\user\My Documents\My Pictures\Saccharomyces_ce_4876e39735dec.jpg"/>
          <p:cNvPicPr/>
          <p:nvPr/>
        </p:nvPicPr>
        <p:blipFill>
          <a:blip r:embed="rId3"/>
          <a:stretch/>
        </p:blipFill>
        <p:spPr>
          <a:xfrm>
            <a:off x="4572000" y="2133720"/>
            <a:ext cx="36194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Documents and Settings\user\My Documents\My Pictures\image012.jpg"/>
          <p:cNvPicPr/>
          <p:nvPr/>
        </p:nvPicPr>
        <p:blipFill>
          <a:blip r:embed="rId2"/>
          <a:stretch/>
        </p:blipFill>
        <p:spPr>
          <a:xfrm>
            <a:off x="928800" y="1643040"/>
            <a:ext cx="6929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2876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ron need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de from iron because fungi dig into agar thus it is difficult to culture them with wire loo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430" name="Flowchart: Process 3"/>
          <p:cNvSpPr/>
          <p:nvPr/>
        </p:nvSpPr>
        <p:spPr>
          <a:xfrm>
            <a:off x="1500120" y="4643280"/>
            <a:ext cx="2643120" cy="71640"/>
          </a:xfrm>
          <a:prstGeom prst="flowChartProcess">
            <a:avLst/>
          </a:prstGeom>
          <a:solidFill>
            <a:srgbClr val="b83d68"/>
          </a:solidFill>
          <a:ln w="55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8"/>
          <p:cNvSpPr/>
          <p:nvPr/>
        </p:nvSpPr>
        <p:spPr>
          <a:xfrm>
            <a:off x="4071960" y="4643280"/>
            <a:ext cx="1214280" cy="18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13"/>
          <p:cNvSpPr/>
          <p:nvPr/>
        </p:nvSpPr>
        <p:spPr>
          <a:xfrm flipH="1">
            <a:off x="5285880" y="4645080"/>
            <a:ext cx="1800" cy="7128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rus in Latin means pois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viruses are obligate intracellular parasites( can multiply only in living cell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ssess a single type of nucleic acid either DNA or RNA (Ss or D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ucleic material is enclosed in a protein coat called capsid. ( both capsid and nucleic acid are called nucleocapsid)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ary in size from 20-300n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not be seen by bright field microsco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be examined by Electron microsco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infect humans, animals, plants and bacter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ruses that infect bacteria are called bacteriophag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solation of viruses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- animal ino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- embrynoted egg inocu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- cell cul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ytopathic effe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e morphological changes in cell lines due to    virus inf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mon stages of life cyc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- Trophozoite: active growing st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- Cyst: resting non active st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infect all major tissues and organs of the bo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ansmission of protozoan parasites b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- injection via bites of blood sucking inse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- ingestion of infective stag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7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a2e4e"/>
                </a:solidFill>
                <a:latin typeface="Lucida Sans Unicode"/>
              </a:rPr>
              <a:t>Protozoa move by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7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a2e4e"/>
                </a:solidFill>
                <a:latin typeface="Lucida Sans Unicode"/>
              </a:rPr>
              <a:t>Psuedopod: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(extending part of protoplasm    towards direction of movement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Example: Entamoeba speci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7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a2e4e"/>
                </a:solidFill>
                <a:latin typeface="Lucida Sans Unicode"/>
              </a:rPr>
              <a:t>Flagella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Example: Trypanosoma species, Giardia Lamblia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a2e4e"/>
                </a:solidFill>
                <a:latin typeface="Lucida Sans Unicode"/>
              </a:rPr>
              <a:t>Cili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ample: Balantidium coli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a2e4e"/>
                </a:solidFill>
                <a:latin typeface="Lucida Sans Unicode"/>
              </a:rPr>
              <a:t>non motil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ample : Plasmodium spec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6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C:\Documents and Settings\user\My Documents\My Pictures\entamoebahistolitica.jpg"/>
          <p:cNvPicPr/>
          <p:nvPr/>
        </p:nvPicPr>
        <p:blipFill>
          <a:blip r:embed="rId2"/>
          <a:stretch/>
        </p:blipFill>
        <p:spPr>
          <a:xfrm>
            <a:off x="0" y="2714760"/>
            <a:ext cx="2944800" cy="2182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-36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      </a:t>
            </a: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rophozoite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1019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     </a:t>
            </a: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ys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3" name="Picture 5" descr="C:\Documents and Settings\user\My Documents\My Pictures\histolytica.jpg"/>
          <p:cNvPicPr/>
          <p:nvPr/>
        </p:nvPicPr>
        <p:blipFill>
          <a:blip r:embed="rId3"/>
          <a:stretch/>
        </p:blipFill>
        <p:spPr>
          <a:xfrm>
            <a:off x="5572080" y="2428920"/>
            <a:ext cx="1905120" cy="1485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C:\Documents and Settings\user\My Documents\My Pictures\entamoeba-histolytica-2.jpg"/>
          <p:cNvPicPr/>
          <p:nvPr/>
        </p:nvPicPr>
        <p:blipFill>
          <a:blip r:embed="rId4"/>
          <a:stretch/>
        </p:blipFill>
        <p:spPr>
          <a:xfrm>
            <a:off x="5286240" y="4143240"/>
            <a:ext cx="273852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C:\Documents and Settings\user\My Documents\My Pictures\tryp9.jpg"/>
          <p:cNvPicPr/>
          <p:nvPr/>
        </p:nvPicPr>
        <p:blipFill>
          <a:blip r:embed="rId1"/>
          <a:stretch/>
        </p:blipFill>
        <p:spPr>
          <a:xfrm>
            <a:off x="3780000" y="1413000"/>
            <a:ext cx="4444920" cy="4444920"/>
          </a:xfrm>
          <a:prstGeom prst="rect">
            <a:avLst/>
          </a:prstGeom>
          <a:ln w="0">
            <a:noFill/>
          </a:ln>
        </p:spPr>
      </p:pic>
      <p:pic>
        <p:nvPicPr>
          <p:cNvPr id="386" name="Title 1" descr=""/>
          <p:cNvPicPr/>
          <p:nvPr/>
        </p:nvPicPr>
        <p:blipFill>
          <a:blip r:embed="rId2"/>
          <a:stretch/>
        </p:blipFill>
        <p:spPr>
          <a:xfrm>
            <a:off x="231840" y="560520"/>
            <a:ext cx="8461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C:\Documents and Settings\user\My Documents\My Pictures\balantidiumcisto3.jpg"/>
          <p:cNvPicPr/>
          <p:nvPr/>
        </p:nvPicPr>
        <p:blipFill>
          <a:blip r:embed="rId1"/>
          <a:stretch/>
        </p:blipFill>
        <p:spPr>
          <a:xfrm>
            <a:off x="3132000" y="1700280"/>
            <a:ext cx="3240360" cy="3241440"/>
          </a:xfrm>
          <a:prstGeom prst="rect">
            <a:avLst/>
          </a:prstGeom>
          <a:ln w="0">
            <a:noFill/>
          </a:ln>
        </p:spPr>
      </p:pic>
      <p:pic>
        <p:nvPicPr>
          <p:cNvPr id="388" name="Title 1" descr=""/>
          <p:cNvPicPr/>
          <p:nvPr/>
        </p:nvPicPr>
        <p:blipFill>
          <a:blip r:embed="rId2"/>
          <a:stretch/>
        </p:blipFill>
        <p:spPr>
          <a:xfrm>
            <a:off x="231840" y="122400"/>
            <a:ext cx="8461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C:\Documents and Settings\user\My Documents\My Pictures\Pf_MaurersC.jpg"/>
          <p:cNvPicPr/>
          <p:nvPr/>
        </p:nvPicPr>
        <p:blipFill>
          <a:blip r:embed="rId1"/>
          <a:stretch/>
        </p:blipFill>
        <p:spPr>
          <a:xfrm>
            <a:off x="2786040" y="2076480"/>
            <a:ext cx="3714840" cy="3495600"/>
          </a:xfrm>
          <a:prstGeom prst="rect">
            <a:avLst/>
          </a:prstGeom>
          <a:ln w="0">
            <a:noFill/>
          </a:ln>
        </p:spPr>
      </p:pic>
      <p:pic>
        <p:nvPicPr>
          <p:cNvPr id="390" name="Title 1" descr=""/>
          <p:cNvPicPr/>
          <p:nvPr/>
        </p:nvPicPr>
        <p:blipFill>
          <a:blip r:embed="rId2"/>
          <a:stretch/>
        </p:blipFill>
        <p:spPr>
          <a:xfrm>
            <a:off x="231840" y="122400"/>
            <a:ext cx="8461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08:31:55Z</dcterms:created>
  <dc:creator>ksu</dc:creator>
  <dc:description/>
  <dc:language>en-US</dc:language>
  <cp:lastModifiedBy>Najola</cp:lastModifiedBy>
  <dcterms:modified xsi:type="dcterms:W3CDTF">2011-10-22T20:33:48Z</dcterms:modified>
  <cp:revision>42</cp:revision>
  <dc:subject/>
  <dc:title>Slide 1</dc:title>
</cp:coreProperties>
</file>