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jpeg" ContentType="image/jpeg"/>
  <Override PartName="/ppt/media/image6.jpeg" ContentType="image/jpeg"/>
  <Override PartName="/ppt/media/image10.png" ContentType="image/png"/>
  <Override PartName="/ppt/media/image45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30.png" ContentType="image/png"/>
  <Override PartName="/ppt/media/image5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5.png" ContentType="image/png"/>
  <Override PartName="/ppt/media/image43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41.jpeg" ContentType="image/jpeg"/>
  <Override PartName="/ppt/media/image26.jpeg" ContentType="image/jpeg"/>
  <Override PartName="/ppt/media/image42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AF4-7A2E-4090-93D6-8711C191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F94-DB14-45FC-A1EE-47103736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A90-D75F-4337-8694-07A1E862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C5FE-8694-426B-86A2-B0CACA48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5504-337E-49B9-B12F-28A6EBBD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60ED-2E26-4A23-9BA7-0BD127DF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EC9F-76DE-4A7D-8C1E-AA284E58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3E54-7EC6-474A-856F-0C69DE7E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971F-10C7-46DA-818F-2B5C7073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9A2C-13D3-4353-A08D-A0F46620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F5A9-54D6-464B-B129-EE202E7B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E4D-B4A5-467D-94CF-56B8B21C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7E49-2600-45D7-A41D-EB3E4EFD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14A4-87F1-4D32-BBB1-6769C7A9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2523-6898-4761-8F66-9D3E21DC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F9CC-93EF-4423-8E47-3F04380E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4F32-2D87-40D4-B2CB-08CB1DBE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A4A8D-62D5-49D4-9198-7A3E3B1E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3455D-B54A-4F93-97FE-7C9C4F82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D24CB-1FE8-4853-80FF-1331EED5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8B175-EBDD-4ACC-8910-17213E53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27742-643F-4A0C-8353-2781E921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A7E-0BC6-4BD4-8B3B-2F0148EB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E11CF-9ABE-4354-8E7E-5E3EC882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01EBC-FD95-4CE0-B363-DEC11736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AFDA-56D3-4092-AD10-6E6ACE8B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CB483-B177-41EF-8C53-CE8913A9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304DE-747B-4643-9646-CEFD0802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D19F7-617C-4C3A-BDCD-26419744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C321E-2CAF-4FA8-9E83-1F55710E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0BA87-156D-4DA7-93F8-4AA8239B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57916-1F66-4318-97EA-E3C7130F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94358-7387-4FC5-945D-F93B3BCC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D42-64AF-444A-B2CD-73DC182E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905F5-4DCE-43FE-B702-162B1CF5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92F02-5D58-40F4-821F-B4C13D8F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2521B-6C5C-4795-8E31-CE8BEF5E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FA29E-78B0-4FB0-ABC6-08547FBD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3BEC1-D1FD-4CA6-8D63-227F99AA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4DF1-1223-4E6B-B644-66576CE8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1A9A8-4305-4427-9045-5937E5A3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69C8F-17E6-43F6-BDCA-18CB140A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EB31F-EF84-4E69-AB5F-39094354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72EF3-AD92-486D-A24C-94DB9C69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CE4-1245-4B63-B536-0933B74E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51202-C834-4087-8ECD-3639E2AD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82AE0-68DC-43DC-A593-1E64B42E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B3A46-F203-4AEC-AC6C-41BF2860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9C39E-5106-4722-A5E3-B6D582F3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68461-419E-4443-AB37-09A2C353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B0B09-AF4B-4455-9541-C914E962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AE384-7ADA-4EE2-8F2B-4CA3FE5C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2CC73-0896-42EB-9C96-78BD299F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CAE48-D9B1-4B33-898D-6F3198BD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188C8-C138-4E11-B935-1D3E7C8D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2F4-39A5-4969-B0C3-E0935B6D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A820E-C51B-4396-9085-EE6B0DF2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D4724-7380-4AC8-A75F-E936B65F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0BA92-9DDE-4E4C-B675-78CCDE21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169E1-1CD1-4535-8894-A4F15CC3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B504A-E200-4141-AF19-7E8E62FA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4D1B0-59F7-4D64-A838-8B046AAE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D56F8-31B1-4C2A-8107-F35826D6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ACF96-10F4-4DCD-9363-87329770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851B0-6E26-4514-A5F1-7013306B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40004-974F-4469-9197-B1D596A5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443-DA2E-4396-AF1E-B0EE9620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3D826-F383-48A4-BF54-7E19F485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61C92-03BC-4517-B62E-E25ABB3F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236BC-B97C-4558-B41A-B2E87535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7F3A8-24FB-40D2-BE86-7C6853D6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094D0-F4B9-45DE-9F40-629C082E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89158-1063-43A6-BB8F-6B399E46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0127A-6C3B-4FC2-BE2A-C952C83A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4F84D-B88A-496F-AF5E-DEF342CE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C0353-0288-4F57-858E-D89EB5EB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B17EE-8C17-4E99-A58F-7C53F87D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25D-D997-4330-A6F1-DED7E92D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2C238-562F-45C7-814D-0A400B75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A1D93-2337-43B8-9F44-12300DF1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FACB2-2540-49C3-8DDC-819CCEAF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C3C9A-1BA6-4B41-9A62-BDCC3462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7A57D-B56B-47C5-BA34-10B81CA8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569B9-A6E7-41B8-B646-9CF9BB5F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09192-D8C0-4BE2-B6FB-50A8332B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8BF97-895C-4DFF-8B38-E6CD1875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ABA7E-BC3C-4C76-8405-E87F9B23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44828-327C-4670-A3F7-23BB4739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CE6-4005-4113-BE7F-4CF867A8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2EAB7-26F0-47E0-BD24-3C4732CC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E8A5B-7F6D-4002-933D-64C8E80B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DBB28-9D28-4724-B99D-96F6AE88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9692A-B984-4713-9EF8-E7EA5BD5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B6C1C-E64C-41A8-B5FD-6B3FC967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A4E44-8B9D-4AD7-B486-AC6A913C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EB3B5-6BC8-4658-AF44-7C281568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A6E7-9FDF-4140-9303-FA4C090FAD2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EFC6-6873-4CEE-A9F0-2EF3642E0289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7BF3-A6F9-4A5A-A43D-FFAC0909CD8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9CEF-3ABB-4405-9FBD-327D6B9CA40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391B-4F8E-45B5-8433-905D448E068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39DA-2604-4735-8551-C93CD51CBBA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C13F-B5DD-44FB-BE1C-167E69D5BF3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F9A6-52EF-4D2C-8069-F4E204E41419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964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cellular organisms with organ systems as digestive, nervous , excretory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ve complicated life cyc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ly have different stages of life cycle which are: ova(egg), larvae (Adul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ult worms can measure centimeters or even meters lo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racellular parasi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e classified according to shape i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-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Nematod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round worms) cylindrical th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 Ascaris lumbricoi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-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Cestod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 tape worms)flat long w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 Tenia saginata,tenia soli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-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rematod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Flukes)leaf like flat w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 Schistosoma spec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C:\Documents and Settings\user\My Documents\My Pictures\asc6.jpg"/>
          <p:cNvPicPr/>
          <p:nvPr/>
        </p:nvPicPr>
        <p:blipFill>
          <a:blip r:embed="rId1"/>
          <a:stretch/>
        </p:blipFill>
        <p:spPr>
          <a:xfrm>
            <a:off x="2349360" y="1522440"/>
            <a:ext cx="4445280" cy="4444920"/>
          </a:xfrm>
          <a:prstGeom prst="rect">
            <a:avLst/>
          </a:prstGeom>
          <a:ln w="0">
            <a:noFill/>
          </a:ln>
        </p:spPr>
      </p:pic>
      <p:pic>
        <p:nvPicPr>
          <p:cNvPr id="396" name="Title 1" descr=""/>
          <p:cNvPicPr/>
          <p:nvPr/>
        </p:nvPicPr>
        <p:blipFill>
          <a:blip r:embed="rId2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user\My Documents\My Pictures\Taeniaegg2asm.jpg"/>
          <p:cNvPicPr/>
          <p:nvPr/>
        </p:nvPicPr>
        <p:blipFill>
          <a:blip r:embed="rId1"/>
          <a:stretch/>
        </p:blipFill>
        <p:spPr>
          <a:xfrm>
            <a:off x="1571760" y="2500200"/>
            <a:ext cx="2847960" cy="2581560"/>
          </a:xfrm>
          <a:prstGeom prst="rect">
            <a:avLst/>
          </a:prstGeom>
          <a:ln w="0">
            <a:noFill/>
          </a:ln>
        </p:spPr>
      </p:pic>
      <p:pic>
        <p:nvPicPr>
          <p:cNvPr id="398" name="Title 1" descr=""/>
          <p:cNvPicPr/>
          <p:nvPr/>
        </p:nvPicPr>
        <p:blipFill>
          <a:blip r:embed="rId2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Documents and Settings\user\My Documents\My Pictures\taenia_saginata-.jpg"/>
          <p:cNvPicPr/>
          <p:nvPr/>
        </p:nvPicPr>
        <p:blipFill>
          <a:blip r:embed="rId3"/>
          <a:stretch/>
        </p:blipFill>
        <p:spPr>
          <a:xfrm>
            <a:off x="4929120" y="2500200"/>
            <a:ext cx="29718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C:\Documents and Settings\user\My Documents\My Pictures\schist11.jpg"/>
          <p:cNvPicPr/>
          <p:nvPr/>
        </p:nvPicPr>
        <p:blipFill>
          <a:blip r:embed="rId1"/>
          <a:stretch/>
        </p:blipFill>
        <p:spPr>
          <a:xfrm>
            <a:off x="2349360" y="2143080"/>
            <a:ext cx="4222800" cy="3741840"/>
          </a:xfrm>
          <a:prstGeom prst="rect">
            <a:avLst/>
          </a:prstGeom>
          <a:ln w="0">
            <a:noFill/>
          </a:ln>
        </p:spPr>
      </p:pic>
      <p:pic>
        <p:nvPicPr>
          <p:cNvPr id="401" name="Title 1" descr=""/>
          <p:cNvPicPr/>
          <p:nvPr/>
        </p:nvPicPr>
        <p:blipFill>
          <a:blip r:embed="rId2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e insects such as bugs ,fleas, biting flies, mosquitoes et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rmful effects of parasi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omfort, transmission of diseases( malaria, yellow fever, typhus), cause disease(amoebic dysentery, bilharzias), damage to cro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erotrophic eukaryo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prophytes: obtain nutrients from dead organic mater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cleated achlorophyllous organis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roduce sexually and asexual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rrounded by true cell wa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 group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Yeas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mo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ow within a wide range pH(acidic-alkaline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ow at room temperature (can grow at cold temp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fer moist or humid atmosphe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be cultured in Sabouraud Dextrose agar media (SDA) or potato dextrose agar (PD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at contains a source of protein (pepton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 a source of carbohydrate (dextros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ommonest microscopic examination of fungi is </a:t>
            </a:r>
            <a:r>
              <a:rPr b="0" lang="en-US" sz="2700" spc="-1" strike="noStrike">
                <a:solidFill>
                  <a:srgbClr val="d488c5"/>
                </a:solidFill>
                <a:latin typeface="Lucida Sans Unicode"/>
              </a:rPr>
              <a:t>LACTO-PHENOL- COTTON BLU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ase mount or reagent (LPCB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efits of fungi: important in baking , pharmaceutical(antibiotic),brewing industries. Also as saprophytes and as fo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rmful effects: cause a lot of diseases in skin, hair, nail and systemic diseas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e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icellular, round or oval( tear drop)sha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y asexually by budding resulting in production of 2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l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cellular branching hyphea forming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yceliu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e eukaryotes that depend on another host for their nutrients and metabolic activ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vided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-Protozoa: Un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-Helminths: Mult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-Arthropods: Mult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559640" cy="10004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00040" y="2642760"/>
            <a:ext cx="30002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lternaria  specie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Picture 2" descr="C:\Documents and Settings\user\My Documents\My Pictures\Alternariq.gif"/>
          <p:cNvPicPr/>
          <p:nvPr/>
        </p:nvPicPr>
        <p:blipFill>
          <a:blip r:embed="rId2"/>
          <a:stretch/>
        </p:blipFill>
        <p:spPr>
          <a:xfrm>
            <a:off x="3857760" y="2143080"/>
            <a:ext cx="41781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7272360" cy="12301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57200" y="3143160"/>
            <a:ext cx="300816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enicilliu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Picture 2" descr="C:\Documents and Settings\user\My Documents\My Pictures\Penicillium_labeled.jpg"/>
          <p:cNvPicPr/>
          <p:nvPr/>
        </p:nvPicPr>
        <p:blipFill>
          <a:blip r:embed="rId2"/>
          <a:stretch/>
        </p:blipFill>
        <p:spPr>
          <a:xfrm>
            <a:off x="3143160" y="2214720"/>
            <a:ext cx="511200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7413840" cy="12301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419720" y="5354640"/>
            <a:ext cx="397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spergillus spec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Picture 2" descr="C:\Documents and Settings\user\My Documents\My Pictures\Aspergillus_niger_EXF-2479_konidiofori_100xS.jpg"/>
          <p:cNvPicPr/>
          <p:nvPr/>
        </p:nvPicPr>
        <p:blipFill>
          <a:blip r:embed="rId2"/>
          <a:stretch/>
        </p:blipFill>
        <p:spPr>
          <a:xfrm>
            <a:off x="5357880" y="1571760"/>
            <a:ext cx="3429000" cy="2357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Documents and Settings\user\My Documents\My Pictures\aspergillus_versicolor.gif"/>
          <p:cNvPicPr/>
          <p:nvPr/>
        </p:nvPicPr>
        <p:blipFill>
          <a:blip r:embed="rId3"/>
          <a:stretch/>
        </p:blipFill>
        <p:spPr>
          <a:xfrm>
            <a:off x="3786120" y="4071960"/>
            <a:ext cx="3000600" cy="2486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C:\Documents and Settings\user\My Documents\My Pictures\aspergillus2.jpg"/>
          <p:cNvPicPr/>
          <p:nvPr/>
        </p:nvPicPr>
        <p:blipFill>
          <a:blip r:embed="rId4"/>
          <a:stretch/>
        </p:blipFill>
        <p:spPr>
          <a:xfrm>
            <a:off x="428760" y="2786040"/>
            <a:ext cx="307152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C:\Documents and Settings\user\My Documents\My Pictures\Saccharomyces_ce_48a8fd8b156cd.jpg"/>
          <p:cNvPicPr/>
          <p:nvPr/>
        </p:nvPicPr>
        <p:blipFill>
          <a:blip r:embed="rId2"/>
          <a:stretch/>
        </p:blipFill>
        <p:spPr>
          <a:xfrm>
            <a:off x="1042920" y="2060640"/>
            <a:ext cx="3000600" cy="29113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C:\Documents and Settings\user\My Documents\My Pictures\Saccharomyces_ce_4876e39735dec.jpg"/>
          <p:cNvPicPr/>
          <p:nvPr/>
        </p:nvPicPr>
        <p:blipFill>
          <a:blip r:embed="rId3"/>
          <a:stretch/>
        </p:blipFill>
        <p:spPr>
          <a:xfrm>
            <a:off x="4572000" y="2133720"/>
            <a:ext cx="3619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Documents and Settings\user\My Documents\My Pictures\image012.jpg"/>
          <p:cNvPicPr/>
          <p:nvPr/>
        </p:nvPicPr>
        <p:blipFill>
          <a:blip r:embed="rId2"/>
          <a:stretch/>
        </p:blipFill>
        <p:spPr>
          <a:xfrm>
            <a:off x="928800" y="1643040"/>
            <a:ext cx="6929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ron need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de from iron because fungi dig into agar thus it is difficult to culture them with wire lo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Flowchart: Process 3"/>
          <p:cNvSpPr/>
          <p:nvPr/>
        </p:nvSpPr>
        <p:spPr>
          <a:xfrm>
            <a:off x="1500120" y="4643280"/>
            <a:ext cx="2643120" cy="71640"/>
          </a:xfrm>
          <a:prstGeom prst="flowChartProcess">
            <a:avLst/>
          </a:prstGeom>
          <a:solidFill>
            <a:srgbClr val="b83d68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8"/>
          <p:cNvSpPr/>
          <p:nvPr/>
        </p:nvSpPr>
        <p:spPr>
          <a:xfrm>
            <a:off x="4071960" y="4643280"/>
            <a:ext cx="1214280" cy="18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3"/>
          <p:cNvSpPr/>
          <p:nvPr/>
        </p:nvSpPr>
        <p:spPr>
          <a:xfrm flipH="1">
            <a:off x="5285880" y="4645080"/>
            <a:ext cx="1800" cy="7128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rus in Latin means poi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viruses are obligate intracellular parasites( can multiply only in living cell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sess a single type of nucleic acid either DNA or RNA (Ss or D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cleic material is enclosed in a protein coat called capsid. ( both capsid and nucleic acid are called nucleocapsid)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y in size from 20-300n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not be seen by bright field microsco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be examined by Electron microsco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infect humans, animals, plants and bacter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ruses that infect bacteria are called bacteriophag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olation of viruse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- animal ino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- embrynoted egg ino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- cell cul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pathic eff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e morphological changes in cell lines due to    virus inf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on stages of life cyc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- Trophozoite: active growing st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- Cyst: resting non active st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infect all major tissues and organs of the bo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mission of protozoan parasites b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- injection via bites of blood sucking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- ingestion of infective stag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7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a2e4e"/>
                </a:solidFill>
                <a:latin typeface="Lucida Sans Unicode"/>
              </a:rPr>
              <a:t>Protozoa move by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7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a2e4e"/>
                </a:solidFill>
                <a:latin typeface="Lucida Sans Unicode"/>
              </a:rPr>
              <a:t>Psuedopod: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(extending part of protoplasm    towards direction of movement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Example: Entamoeba speci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7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a2e4e"/>
                </a:solidFill>
                <a:latin typeface="Lucida Sans Unicode"/>
              </a:rPr>
              <a:t>Flagella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Example: Trypanosoma species, Giardia Lamblia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a2e4e"/>
                </a:solidFill>
                <a:latin typeface="Lucida Sans Unicode"/>
              </a:rPr>
              <a:t>Cil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 Balantidium coli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a2e4e"/>
                </a:solidFill>
                <a:latin typeface="Lucida Sans Unicode"/>
              </a:rPr>
              <a:t>non motil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 : Plasmodium spec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6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C:\Documents and Settings\user\My Documents\My Pictures\entamoebahistolitica.jpg"/>
          <p:cNvPicPr/>
          <p:nvPr/>
        </p:nvPicPr>
        <p:blipFill>
          <a:blip r:embed="rId2"/>
          <a:stretch/>
        </p:blipFill>
        <p:spPr>
          <a:xfrm>
            <a:off x="0" y="2714760"/>
            <a:ext cx="2944800" cy="2182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-36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      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rophozoite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1019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     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ys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3" name="Picture 5" descr="C:\Documents and Settings\user\My Documents\My Pictures\histolytica.jpg"/>
          <p:cNvPicPr/>
          <p:nvPr/>
        </p:nvPicPr>
        <p:blipFill>
          <a:blip r:embed="rId3"/>
          <a:stretch/>
        </p:blipFill>
        <p:spPr>
          <a:xfrm>
            <a:off x="5572080" y="2428920"/>
            <a:ext cx="1905120" cy="1485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C:\Documents and Settings\user\My Documents\My Pictures\entamoeba-histolytica-2.jpg"/>
          <p:cNvPicPr/>
          <p:nvPr/>
        </p:nvPicPr>
        <p:blipFill>
          <a:blip r:embed="rId4"/>
          <a:stretch/>
        </p:blipFill>
        <p:spPr>
          <a:xfrm>
            <a:off x="5286240" y="4143240"/>
            <a:ext cx="27385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C:\Documents and Settings\user\My Documents\My Pictures\tryp9.jpg"/>
          <p:cNvPicPr/>
          <p:nvPr/>
        </p:nvPicPr>
        <p:blipFill>
          <a:blip r:embed="rId1"/>
          <a:stretch/>
        </p:blipFill>
        <p:spPr>
          <a:xfrm>
            <a:off x="3780000" y="1413000"/>
            <a:ext cx="4444920" cy="4444920"/>
          </a:xfrm>
          <a:prstGeom prst="rect">
            <a:avLst/>
          </a:prstGeom>
          <a:ln w="0">
            <a:noFill/>
          </a:ln>
        </p:spPr>
      </p:pic>
      <p:pic>
        <p:nvPicPr>
          <p:cNvPr id="386" name="Title 1" descr=""/>
          <p:cNvPicPr/>
          <p:nvPr/>
        </p:nvPicPr>
        <p:blipFill>
          <a:blip r:embed="rId2"/>
          <a:stretch/>
        </p:blipFill>
        <p:spPr>
          <a:xfrm>
            <a:off x="231840" y="560520"/>
            <a:ext cx="8461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C:\Documents and Settings\user\My Documents\My Pictures\balantidiumcisto3.jpg"/>
          <p:cNvPicPr/>
          <p:nvPr/>
        </p:nvPicPr>
        <p:blipFill>
          <a:blip r:embed="rId1"/>
          <a:stretch/>
        </p:blipFill>
        <p:spPr>
          <a:xfrm>
            <a:off x="3132000" y="1700280"/>
            <a:ext cx="3240360" cy="3241440"/>
          </a:xfrm>
          <a:prstGeom prst="rect">
            <a:avLst/>
          </a:prstGeom>
          <a:ln w="0">
            <a:noFill/>
          </a:ln>
        </p:spPr>
      </p:pic>
      <p:pic>
        <p:nvPicPr>
          <p:cNvPr id="388" name="Title 1" descr=""/>
          <p:cNvPicPr/>
          <p:nvPr/>
        </p:nvPicPr>
        <p:blipFill>
          <a:blip r:embed="rId2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C:\Documents and Settings\user\My Documents\My Pictures\Pf_MaurersC.jpg"/>
          <p:cNvPicPr/>
          <p:nvPr/>
        </p:nvPicPr>
        <p:blipFill>
          <a:blip r:embed="rId1"/>
          <a:stretch/>
        </p:blipFill>
        <p:spPr>
          <a:xfrm>
            <a:off x="2786040" y="2076480"/>
            <a:ext cx="3714840" cy="3495600"/>
          </a:xfrm>
          <a:prstGeom prst="rect">
            <a:avLst/>
          </a:prstGeom>
          <a:ln w="0">
            <a:noFill/>
          </a:ln>
        </p:spPr>
      </p:pic>
      <p:pic>
        <p:nvPicPr>
          <p:cNvPr id="390" name="Title 1" descr=""/>
          <p:cNvPicPr/>
          <p:nvPr/>
        </p:nvPicPr>
        <p:blipFill>
          <a:blip r:embed="rId2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8:31:55Z</dcterms:created>
  <dc:creator>ksu</dc:creator>
  <dc:description/>
  <dc:language>en-US</dc:language>
  <cp:lastModifiedBy>Najola</cp:lastModifiedBy>
  <dcterms:modified xsi:type="dcterms:W3CDTF">2011-10-22T20:33:48Z</dcterms:modified>
  <cp:revision>42</cp:revision>
  <dc:subject/>
  <dc:title>Slide 1</dc:title>
</cp:coreProperties>
</file>