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4824-CC02-44B0-98F0-8F7EF00ED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0A7C-3EDB-4D24-BABD-1B435EBCC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9B36-671D-4D37-83F7-12FB0102A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7D78-8DB2-415A-B388-34C73384D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1B90-3CB5-4071-A8AD-DE0B907A0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27D9-77DA-4A67-8F9A-0B91BC0AF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5C29-4F09-4155-80BB-8AD5FC496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C5A7-970C-4124-A875-1F3762CD1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0707-3B24-4FEF-9FE1-E14C33088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E203-F3EB-48F6-ABE8-CD0CD3F23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FF26-3EC2-4F68-86F9-517D9599E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3D8D-DBE9-4557-9721-7038BFFB2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EC68-7A4B-4780-A83F-CB927611D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FFB8-C211-48A3-BAA9-A2907A230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5-</a:t>
            </a:r>
            <a:fld id="{BAA0E31E-4465-4E38-9827-8196B05B0F2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2"/>
          <p:cNvSpPr/>
          <p:nvPr/>
        </p:nvSpPr>
        <p:spPr>
          <a:xfrm>
            <a:off x="0" y="231840"/>
            <a:ext cx="9144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HAPTER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ef"/>
                </a:solidFill>
                <a:latin typeface="Arial"/>
              </a:rPr>
              <a:t>Sovereign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1752480"/>
            <a:ext cx="917100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2"/>
          <p:cNvSpPr/>
          <p:nvPr/>
        </p:nvSpPr>
        <p:spPr>
          <a:xfrm>
            <a:off x="472428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4 by the McGraw-Hill Companies, Inc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472392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4  by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Web Resource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o learn more about the Economist Intelligence Unit’s country ratings, visit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The Economist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 www.economist.com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520DDD22-82B5-4622-B573-9CB0C709142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untry Risk Evalu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nal Evaluation Models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tatistical model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ountry risk-scoring models based on primarily economic ratio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he selected variables are tested for predictive power in separating rescheduling countries from non-rescheduling countries using past data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B66D732A-F4CE-4982-B8CD-A834EFDA011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Statistical Model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mmonly used economic ratio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ebt service ratio = (Interest + amortization on debt)/Expor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mport ratio = Total imports / Total FX reserv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vestment ratio = Real investment / GNP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Variance of export revenue = </a:t>
            </a:r>
            <a:r>
              <a:rPr b="0" lang="el-GR" sz="2800" spc="-1" strike="noStrike">
                <a:solidFill>
                  <a:srgbClr val="333399"/>
                </a:solidFill>
                <a:latin typeface="Century Gothic"/>
              </a:rPr>
              <a:t>σ</a:t>
            </a:r>
            <a:r>
              <a:rPr b="0" lang="en-US" sz="2800" spc="-1" strike="noStrike" baseline="30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ER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omestic money supply growth = </a:t>
            </a:r>
            <a:r>
              <a:rPr b="0" lang="el-GR" sz="2800" spc="-1" strike="noStrike">
                <a:solidFill>
                  <a:srgbClr val="333399"/>
                </a:solidFill>
                <a:latin typeface="Century Gothic"/>
              </a:rPr>
              <a:t>Δ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M/M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iscriminant function: </a:t>
            </a:r>
            <a:r>
              <a:rPr b="0" i="1" lang="en-US" sz="2800" spc="-1" strike="noStrike">
                <a:solidFill>
                  <a:srgbClr val="333399"/>
                </a:solidFill>
                <a:latin typeface="Century Gothic"/>
              </a:rPr>
              <a:t>p=f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Century Gothic"/>
              </a:rPr>
              <a:t>DSR,IR, INVR,…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4276EB0A-E165-4A85-A767-1AA7FC91F7B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Problems with Statistical CRA Models</a:t>
            </a:r>
            <a:endParaRPr b="0" lang="en-US" sz="36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easurements of key variabl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opulation group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iner distinction than reschedulers and nonreschedulers may be require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olitical risk factors may not be capture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trikes, corruption, elections, revolu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rruption Perceptions Index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8D00AA4C-E408-490A-9C64-90265B06099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Century Gothic"/>
              </a:rPr>
              <a:t>Problems with Statistical CRA Models (continued)</a:t>
            </a:r>
            <a:endParaRPr b="0" lang="en-US" sz="28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ortfolio aspec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Many large FIs with LDC exposures diversify across countrie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Diversification of risks not necessarily captured in CRA models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arely address incentive aspects of reschedulin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Borrowers and Lender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085760" indent="-21708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Benefit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085760" indent="-21708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ost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Stability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085760" indent="-21708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Model likely to require frequent updating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D0C7A48A-F236-4C49-A301-CCFC67F1DB1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Using Market Data to Measure Risk</a:t>
            </a:r>
            <a:endParaRPr b="0" lang="en-US" sz="36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ary market for LDC deb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ellers and buyer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rket segment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overeign bond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erforming LDC loan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Nonperforming LDC loan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9AA49B2A-B95A-4A85-AE65-B5E4700F66B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Pertinent Websites</a:t>
            </a:r>
            <a:endParaRPr b="0" lang="en-US" sz="36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Bank for International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www.bis.org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Settlements 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Heritage Foundation 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www.heritage.org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stitutional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  www.institutionalinvestor.com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vestor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ternational Monetary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und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         www.imf.org 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he Economist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                www.economist.com 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ransparency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             www.transparency.org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ternational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World Bank 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                 </a:t>
            </a:r>
            <a:r>
              <a:rPr b="0" lang="en-US" sz="1000" spc="-1" strike="noStrike">
                <a:solidFill>
                  <a:srgbClr val="333399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www.worldbank.org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4C3FDED0-6CB8-4DD7-8514-6A41FBB40FF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b6bcf"/>
                </a:solidFill>
                <a:latin typeface="Century Gothic"/>
              </a:rPr>
              <a:t>*Mechanisms for Dealing with Sovereign Risk Exposure</a:t>
            </a:r>
            <a:endParaRPr b="0" lang="en-US" sz="25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371240"/>
            <a:ext cx="806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ebt-equity swap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xample: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itigroup sells $100 million Chilean loan to Merrill Lynch for $91 mill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Bank of America (market maker) sells to IBM at $93 mill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hilean government allows IBM to convert the $100 million face value loan into pesos at a discounted rate to finance investments in Chile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E7B351B3-7A8D-4B73-AF24-493C6642D6B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*MYRA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Aspects of MYRA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ee charged by bank for restructurin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terest rate charge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Grace perio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Maturity of loa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Option featur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ncessionality (net cost)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0DA13FE3-F84B-413E-BF47-0880272EC0D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*Other Mechanism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an sal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Bond for loan swaps (brady bonds)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ransform LDC loan into marketable liquid instrumen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Usually senior to remaining loans of that countr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2833B1FC-5169-4108-85EC-7DF0BC417E0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ntroduc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 the1970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xpansion of loans to Eastern bloc, Latin America, and other LDC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Beginning of the 1980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ebt moratoria announced by Brazil and Mexico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creased loan loss reserv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iticorp set aside additional $3 billion in reserv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16355C8E-D776-4772-974E-1BEAB447EEB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ntroduction (continued)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ate 1980s and early 1990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xpanding investments in emerging marke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eso devaluation and subsequent restructuring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ore recently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sian and Russian cris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urkey and Argentina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A024B489-F805-48BB-90A9-A5F93F9359C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ntroduction (Continued)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ate 2000s, economies faltere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eveloped countries faced some of the worst declines in GDP ever experience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MF pledged to inject $250 billion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bai and Greece cris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risis in Greece spread to Portugal, Spain, and Ital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ultiyear restructuring agreements (MYRAs)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D7BAC9E9-E8D9-472F-949C-0FB5E2C4887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Were Lessons Learned?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U.S. FIs limited exposure to Asia during mid- and late 1990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Not all: Chase Manhattan Corp. emerging market losses $150 million to $200 million rang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oor earnings by J.P. Morgan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es in Russia with payoffs of 5 cents on the dolla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0612DF11-58A1-4A27-A9F5-19610D6929D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redit Risk vs. Sovereign Risk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Governments can impose restrictions on debt repayments to outside creditor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oan may be forced into default even though borrower had a strong credit rating at origination of loa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egal remedies are very limite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mphasizes the need to assess credit quality 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and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sovereign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9698E43B-10F6-47F7-919A-E1FA872B80E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Sovereign Risk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ebt repudiation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ince WWII, only China, Cuba, and North Korea have repudiated deb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ecent steps to forgive debts of most severe cases conditional on reforms targeted to improve poverty problem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schedul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Most common form of sovereign risk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outh Korea, 1998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rgentina, 2001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54F592DF-5254-4E1F-89FE-71491984DE8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Debt Rescheduling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ore likely with international loan financing rather than bond financ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an syndicates often comprised of same group of FIs versus large numbers of bondholders facilitates reschedul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ross-default provision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pecialness of banks argues for rescheduling but creates incentives to default again if bailouts are automatic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33E0AE0A-62E4-4066-BD48-C5F694973A6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untry Risk Evalu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utside evaluation model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Euromoney Index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Economist Intelligence Unit rating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Highest risk in countries such as Somalia, Syria, and Sudan.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stitutional Investor Index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2012 placed Norway at least chance of default and Somalia at highest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U.S. not the lowest risk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4-</a:t>
            </a:r>
            <a:fld id="{B07C2EA0-940F-4E18-AC1F-33E698B532C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5:44:52Z</dcterms:created>
  <dc:creator>KeStanton</dc:creator>
  <dc:description/>
  <dc:language>en-US</dc:language>
  <cp:lastModifiedBy>monera</cp:lastModifiedBy>
  <dcterms:modified xsi:type="dcterms:W3CDTF">2015-01-27T07:01:56Z</dcterms:modified>
  <cp:revision>212</cp:revision>
  <dc:subject/>
  <dc:title>Slide 1</dc:title>
</cp:coreProperties>
</file>