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0EE4-1A0C-4147-8484-E6AD98E58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165F-1C48-433C-996A-9AF7B9EDC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E2C6-BEF8-4C38-B960-74B8A9B164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2ED6-72C6-4356-BEE4-2E5768A96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CBBE-DF06-4639-8FFF-83D4DB536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18F9-D9DE-4A36-9B1D-118689474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36B9-5B23-4525-B92F-22ECFB8A4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8174-DD73-43ED-8743-291B97AA6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3B35-721A-482A-8B55-C89E4804D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779A-B19A-4FE6-8C8C-A9E8CBEBD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AB8B-1E40-4581-84E0-B8DD64127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1313-C173-44BB-95C5-9BB781584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AD41-9B4E-4A59-BB0A-1D25FC527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7DC4-282F-436A-9E23-D1999AD69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5-</a:t>
            </a:r>
            <a:fld id="{A4286F7A-6DE4-4832-A47F-DB0BE3E7EFF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0" descr=""/>
          <p:cNvPicPr/>
          <p:nvPr/>
        </p:nvPicPr>
        <p:blipFill>
          <a:blip r:embed="rId3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2"/>
          <p:cNvSpPr/>
          <p:nvPr/>
        </p:nvSpPr>
        <p:spPr>
          <a:xfrm>
            <a:off x="0" y="231840"/>
            <a:ext cx="91440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HAPTER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ceef"/>
                </a:solidFill>
                <a:latin typeface="Arial"/>
              </a:rPr>
              <a:t>Sovereign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0" y="1752480"/>
            <a:ext cx="9171000" cy="4572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2"/>
          <p:cNvSpPr/>
          <p:nvPr/>
        </p:nvSpPr>
        <p:spPr>
          <a:xfrm>
            <a:off x="4724280" y="66103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Copyright © 2014 by the McGraw-Hill Companies, Inc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4723920" y="6610320"/>
            <a:ext cx="4419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Copyright © 2014  by the McGraw-Hill Companies,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Web Resource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o learn more about the Economist Intelligence Unit’s country ratings, visit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Century Gothic"/>
              </a:rPr>
              <a:t>The Economist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 www.economist.com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E2FB824D-DC84-4AB9-B604-9532FB1CD9E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ountry Risk Evalu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ternal Evaluation Models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tatistical model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Country risk-scoring models based on primarily economic ratio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The selected variables are tested for predictive power in separating rescheduling countries from non-rescheduling countries using past data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A2801866-F73C-4B2C-994E-D37F03E8E02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Statistical Model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ommonly used economic ratios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ebt service ratio = (Interest + amortization on debt)/Export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mport ratio = Total imports / Total FX reserv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nvestment ratio = Real investment / GNP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Variance of export revenue = </a:t>
            </a:r>
            <a:r>
              <a:rPr b="0" lang="el-GR" sz="2800" spc="-1" strike="noStrike">
                <a:solidFill>
                  <a:srgbClr val="333399"/>
                </a:solidFill>
                <a:latin typeface="Century Gothic"/>
              </a:rPr>
              <a:t>σ</a:t>
            </a:r>
            <a:r>
              <a:rPr b="0" lang="en-US" sz="2800" spc="-1" strike="noStrike" baseline="30000">
                <a:solidFill>
                  <a:srgbClr val="333399"/>
                </a:solidFill>
                <a:latin typeface="Century Gothic"/>
              </a:rPr>
              <a:t>2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ER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omestic money supply growth = </a:t>
            </a:r>
            <a:r>
              <a:rPr b="0" lang="el-GR" sz="2800" spc="-1" strike="noStrike">
                <a:solidFill>
                  <a:srgbClr val="333399"/>
                </a:solidFill>
                <a:latin typeface="Century Gothic"/>
              </a:rPr>
              <a:t>Δ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M/M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iscriminant function: </a:t>
            </a:r>
            <a:r>
              <a:rPr b="0" i="1" lang="en-US" sz="2800" spc="-1" strike="noStrike">
                <a:solidFill>
                  <a:srgbClr val="333399"/>
                </a:solidFill>
                <a:latin typeface="Century Gothic"/>
              </a:rPr>
              <a:t>p=f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Century Gothic"/>
              </a:rPr>
              <a:t>DSR,IR, INVR,…)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7AB717F4-26EE-4982-BBB4-BA9D6F87000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entury Gothic"/>
              </a:rPr>
              <a:t>Problems with Statistical CRA Models</a:t>
            </a:r>
            <a:endParaRPr b="0" lang="en-US" sz="36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easurements of key variable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opulation group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iner distinction than reschedulers and nonreschedulers may be required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olitical risk factors may not be captured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trikes, corruption, elections, revolu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orruption Perceptions Index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8D96F4E6-1E8D-439D-907B-01B6CA1169D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Century Gothic"/>
              </a:rPr>
              <a:t>Problems with Statistical CRA Models (continued)</a:t>
            </a:r>
            <a:endParaRPr b="0" lang="en-US" sz="28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ortfolio aspect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05600" indent="-2714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Many large FIs with LDC exposures diversify across countrie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05600" indent="-2714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Diversification of risks not necessarily captured in CRA models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arely address incentive aspects of rescheduling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05600" indent="-2714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Borrowers and Lender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085760" indent="-217080"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Benefit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1085760" indent="-217080"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Cost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705600" indent="-2714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Stability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085760" indent="-217080"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Model likely to require frequent updating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B7345C4A-F6FF-432E-9A85-8602086FF64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entury Gothic"/>
              </a:rPr>
              <a:t>Using Market Data to Measure Risk</a:t>
            </a:r>
            <a:endParaRPr b="0" lang="en-US" sz="36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ary market for LDC deb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ellers and buyer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rket segment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overeign bond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erforming LDC loan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Nonperforming LDC loan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C00E0002-57B2-4E17-8586-872C5E2EFC7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entury Gothic"/>
              </a:rPr>
              <a:t>Pertinent Websites</a:t>
            </a:r>
            <a:endParaRPr b="0" lang="en-US" sz="36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52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Bank for International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www.bis.org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Settlements 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Heritage Foundation 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www.heritage.org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Institutional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  www.institutionalinvestor.com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Investor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International Monetary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Fund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         www.imf.org 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The Economist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                www.economist.com 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Transparency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             www.transparency.org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International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World Bank 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                 </a:t>
            </a:r>
            <a:r>
              <a:rPr b="0" lang="en-US" sz="1000" spc="-1" strike="noStrike">
                <a:solidFill>
                  <a:srgbClr val="333399"/>
                </a:solidFill>
                <a:latin typeface="Century Gothic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www.worldbank.org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5A05A004-B448-4E5D-B731-1B55629683C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b6bcf"/>
                </a:solidFill>
                <a:latin typeface="Century Gothic"/>
              </a:rPr>
              <a:t>*Mechanisms for Dealing with Sovereign Risk Exposure</a:t>
            </a:r>
            <a:endParaRPr b="0" lang="en-US" sz="25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371240"/>
            <a:ext cx="8069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ebt-equity swap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xample: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Citigroup sells $100 million Chilean loan to Merrill Lynch for $91 million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Bank of America (market maker) sells to IBM at $93 million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Chilean government allows IBM to convert the $100 million face value loan into pesos at a discounted rate to finance investments in Chile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2698A1CD-C65B-4FB3-8A63-82FAF556E98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*MYRA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Aspects of MYRAs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ee charged by bank for restructuring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nterest rate charged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Grace period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Maturity of loa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Option featur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oncessionality (net cost)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C86501CC-0DA8-4995-8B3F-880F610B769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*Other Mechanism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an sale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Bond for loan swaps (brady bonds)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ransform LDC loan into marketable liquid instrument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Usually senior to remaining loans of that country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AB77C6E1-A4E9-46BF-9FBC-FD9C451A8EE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Introduc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 the1970s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xpansion of loans to Eastern bloc, Latin America, and other LDC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Beginning of the 1980s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ebt moratoria announced by Brazil and Mexico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ncreased loan loss reserv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iticorp set aside additional $3 billion in reserv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6F5DCD05-3E73-4AD1-B786-B0EB87FDC9A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Introduction (continued)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ate 1980s and early 1990s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xpanding investments in emerging market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eso devaluation and subsequent restructuring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ore recently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Asian and Russian cris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urkey and Argentina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08DFA740-1F4A-40FD-8056-7E1870F6A51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Introduction (Continued)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ate 2000s, economies faltered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eveloped countries faced some of the worst declines in GDP ever experienced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MF pledged to inject $250 billion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ubai and Greece crise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risis in Greece spread to Portugal, Spain, and Italy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ultiyear restructuring agreements (MYRAs)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C2A67FD6-2F97-478B-99CB-E5DACD1F6E6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Were Lessons Learned?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U.S. FIs limited exposure to Asia during mid- and late 1990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Not all: Chase Manhattan Corp. emerging market losses $150 million to $200 million rang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oor earnings by J.P. Morgan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sses in Russia with payoffs of 5 cents on the dollar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E6D224FE-EAC1-47C6-9E10-086B45B3F38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redit Risk vs. Sovereign Risk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Governments can impose restrictions on debt repayments to outside creditor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Loan may be forced into default even though borrower had a strong credit rating at origination of loa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Legal remedies are very limited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mphasizes the need to assess credit quality </a:t>
            </a:r>
            <a:r>
              <a:rPr b="0" i="1" lang="en-US" sz="3200" spc="-1" strike="noStrike">
                <a:solidFill>
                  <a:srgbClr val="333399"/>
                </a:solidFill>
                <a:latin typeface="Century Gothic"/>
              </a:rPr>
              <a:t>and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sovereign risk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86A00C44-8ABA-472D-809E-2EB889AD3D2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Sovereign Risk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ebt repudiation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13160" indent="-27432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ince WWII, only China, Cuba, and North Korea have repudiated debt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13160" indent="-27432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ecent steps to forgive debts of most severe cases conditional on reforms targeted to improve poverty problem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escheduling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13160" indent="-27432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Most common form of sovereign risk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13160" indent="-27432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outh Korea, 1998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13160" indent="-27432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Argentina, 2001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741222A1-3FB7-4DD1-9644-C3E0FF91C11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Debt Rescheduling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ore likely with international loan financing rather than bond financing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an syndicates often comprised of same group of FIs versus large numbers of bondholders facilitates rescheduling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ross-default provision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pecialness of banks argues for rescheduling but creates incentives to default again if bailouts are automatic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BBE988D8-2A7C-410E-8EA3-8647BDCED48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ountry Risk Evalu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Outside evaluation models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he Euromoney Index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he Economist Intelligence Unit rating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Highest risk in countries such as Somalia, Syria, and Sudan.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nstitutional Investor Index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2012 placed Norway at least chance of default and Somalia at highest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U.S. not the lowest risk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6B1772E9-2A15-4B34-B602-66C4358C080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5:44:52Z</dcterms:created>
  <dc:creator>KeStanton</dc:creator>
  <dc:description/>
  <dc:language>en-US</dc:language>
  <cp:lastModifiedBy>monera</cp:lastModifiedBy>
  <dcterms:modified xsi:type="dcterms:W3CDTF">2015-01-27T07:01:56Z</dcterms:modified>
  <cp:revision>212</cp:revision>
  <dc:subject/>
  <dc:title>Slide 1</dc:title>
</cp:coreProperties>
</file>