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27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52.jpeg" ContentType="image/jpeg"/>
  <Override PartName="/ppt/media/image1.png" ContentType="image/png"/>
  <Override PartName="/ppt/media/image59.png" ContentType="image/png"/>
  <Override PartName="/ppt/media/image24.jpeg" ContentType="image/jpeg"/>
  <Override PartName="/ppt/media/image16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49.png" ContentType="image/png"/>
  <Override PartName="/ppt/media/image23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11.jpeg" ContentType="image/jpeg"/>
  <Override PartName="/ppt/media/image28.jpeg" ContentType="image/jpeg"/>
  <Override PartName="/ppt/media/image4.png" ContentType="image/png"/>
  <Override PartName="/ppt/media/image7.jpeg" ContentType="image/jpeg"/>
  <Override PartName="/ppt/media/image35.jpeg" ContentType="image/jpeg"/>
  <Override PartName="/ppt/media/image47.png" ContentType="image/png"/>
  <Override PartName="/ppt/media/image31.jpeg" ContentType="image/jpeg"/>
  <Override PartName="/ppt/media/image32.jpeg" ContentType="image/jpeg"/>
  <Override PartName="/ppt/media/image34.jpeg" ContentType="image/jpeg"/>
  <Override PartName="/ppt/media/image10.png" ContentType="image/png"/>
  <Override PartName="/ppt/media/image36.jpeg" ContentType="image/jpeg"/>
  <Override PartName="/ppt/media/image57.png" ContentType="image/png"/>
  <Override PartName="/ppt/media/image41.png" ContentType="image/png"/>
  <Override PartName="/ppt/media/image45.png" ContentType="image/png"/>
  <Override PartName="/ppt/media/image46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9AC-E010-4FB1-A0FD-416DD68684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737D-08E8-4717-BB06-6150058E42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443-3924-4710-9D95-856C54F5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E7F-C83A-4E5C-84DF-40E55AD3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0F9-0D2F-40EA-B5C9-68DA7E34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920-7939-42CA-B15C-351A041C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C057-029A-4618-8604-81E4414C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2A45-D57F-40EF-806A-65256F13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1BF8-7799-4982-B540-082DF159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38D-C315-4289-A815-C4B229B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F55E-6733-43CA-8911-FB8B98CF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2A57-C224-40BF-89AA-B575EDD6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DE4E-A700-47C9-A37C-00B46F1F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87A-C9AA-42F1-89AF-AF79DE48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0470-C971-4C08-9BE9-D34609C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8F10-A57B-426C-8D53-798D03F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AAA5-8D46-4039-BCFA-14E25D70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9BE2-4D2D-4401-B740-D6E03F19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70DC-77CB-4419-A088-D47AF387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8D55-5193-416A-8964-7395CF32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42C7-2791-4649-AFD7-826799A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5E78-EF16-4710-99DD-5A47BE83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F714-7D47-43B6-ACCD-08CB2F4C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E6FC-0DBF-4E6E-A000-2B4FE20A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D8B-A7A2-438F-96BB-97F7DC1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825F-8028-4215-BAB6-45DC1CEB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2EB6-0EF6-457A-A3AB-E25D12DE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9085-0731-418B-81F0-4121382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35A7-9CC1-4765-A42A-8805BEAC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3C298-38F0-448D-88CB-CF7DC939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9621-40F0-434D-A567-B4044235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B8498-EE61-4E9C-9627-F97FB439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3D1C-6792-43D3-890E-0D784998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9A43-4147-41D5-AE8B-596C01A7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5C982-A9C2-4A8F-A339-024BA9C5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783-8EB0-42A1-BFA5-38FE7AA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F6996-81A8-480C-AEE6-11FD6D5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2EF7-4D36-4F20-A5FB-A8DCA2AB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5169-8CCA-42AB-A7B6-AECD8030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97711-43A1-49F3-884D-086241F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E4D9C-2906-4B30-8598-0956EE0A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B326-2955-4002-B5A5-8A997A10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A5DD-DBEA-40B0-A725-CDFB88FE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D5DA-5464-480C-A651-63BE615A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19852-FA18-4AE9-A1E3-3C68DD25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A6A77-6858-4343-AC88-4751314A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2168-E267-4625-B79D-85B83D9B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64E9C-CA0F-4E62-8C49-AC53EB48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E4AB-F080-4C3A-A8A0-816F4F27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8BFB4-785B-49CC-A241-843280CE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5482-8B39-4C04-9D1C-DB5B3A9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1530E-4BD0-40C1-B58B-E69C997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B74C1-8C2B-4B82-A527-183CC1E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1E1B-F52E-45AE-909F-20E45056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C1E3F-55AE-402B-91BE-FB5A2CAE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5D31-8076-48B3-9BC3-E1A4E2C6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80B05-42A1-4A58-AE8B-1AD5483D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70-3306-4275-BE13-D1576E6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5F2E-2784-4B15-8BCC-6C012A74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40AF6-FD42-4F94-A0B9-92450213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57102-0A63-4704-A0B8-B82D2FB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A752F-52B5-4DC4-BFEE-A74DB579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0121E-0A74-4DF3-9300-7D44B976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B8AE9-2B61-4ACA-B79E-6BF65CD4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41DD6-F01E-4312-B6AE-F5A2646E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3062B-8483-4C0A-9DA4-311D54E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09E2-26F7-4163-AE1B-84A85BA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DB0A5-850F-42E0-9BF2-A8A4D314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C95-50CB-444D-BE28-AB172EAB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61FAA-ED7E-4F8B-AC84-640210D0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B4C33-94B5-4553-AFE4-6ED2DEDB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45460-EA41-4291-9E9B-36186C71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3736-0A16-4D25-8BB0-348DAC38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BE1B3-FDF6-4BD3-B751-D720C5F2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C9513-662E-468A-8CD6-1376F162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20ED8-9403-49AE-BB94-4903FC2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8A514-2AB3-40A8-822C-C29B918F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6A63-A03A-4B05-B5CD-D240FC5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F7A2-7625-45A0-A9F9-C1615CBF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6FA-1B43-457C-95D4-4C70A32C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D04EF-CE6E-44DC-B42E-C7B9BDB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DFDDB-951E-4C4E-9349-AF6B4F2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2D338-2451-40EC-AD56-C7E4BEF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A8BB-F6E4-488A-B88A-70BDA382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90066-9CE7-4AE7-A148-F194BACC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0C97-14AC-4BE7-B2AC-88115EDE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6C19-FD6E-47EF-9B2F-1EC4F927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D09B1-9006-45B7-A07C-7E66B841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16941-8FA1-4366-9241-2D0F3EBC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13A2-70A2-48F1-B2E7-EBB92DB5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DFE-620E-4A6B-B56B-77B6C64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24EAD-D362-40D0-9CDF-4BF98D53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04D1-9E68-4D66-BE15-2A606656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B3F2-AE6E-4789-8C66-8E7E1C32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E69AE-CBBD-4764-9BC2-45CB027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5292D-A629-4204-83ED-A06DC706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F9EEE-D82E-4D7C-A272-DA20F1A8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FCA6F-173E-4F13-8055-8EAE6ED3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1486-FA63-46AB-A604-7418B275921B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70CA-48F1-4605-857C-D659B33701F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2B5F-F4B2-42AE-84CC-4AEE0B956A24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9CE-28EA-45A4-95DF-E2D4299B4860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4182-5248-435F-889C-22E47FEC7E7B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E593-DAF2-4564-8653-70FBFBB02EC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3CD-45CF-4D8C-A427-ABFE6BB69986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70A7-1EFA-4DBF-B8AB-9CC3D1A429D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C6D8-B42B-4F71-AC3D-AAA092C5E406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C9F1-3C99-4A5A-83F7-F09577F9EE2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8F9-C433-412D-86DD-E7CFE2D8F458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CD3D-B455-4178-B569-24DE38B98B9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CEDE-F3DA-4B20-A581-0849A8C24123}" type="datetime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D20-221E-48D9-B32B-58657358472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270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4e7e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4e7ed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33A0-E9A0-4E2C-AB32-C006631E7145}" type="datetime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F8D-0DC0-4815-9D5D-4B70DEE7B7B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tato" TargetMode="External"/><Relationship Id="rId2" Type="http://schemas.openxmlformats.org/officeDocument/2006/relationships/hyperlink" Target="http://en.wikipedia.org/wiki/Glucose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images.jpeg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637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C:\Users\Guest\Pictures\imagesCAJPF4ZW.jpg"/>
          <p:cNvPicPr/>
          <p:nvPr/>
        </p:nvPicPr>
        <p:blipFill>
          <a:blip r:embed="rId2"/>
          <a:stretch/>
        </p:blipFill>
        <p:spPr>
          <a:xfrm>
            <a:off x="0" y="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0" descr="C:\Users\Guest\Pictures\untitled.bmp"/>
          <p:cNvPicPr/>
          <p:nvPr/>
        </p:nvPicPr>
        <p:blipFill>
          <a:blip r:embed="rId3"/>
          <a:stretch/>
        </p:blipFill>
        <p:spPr>
          <a:xfrm>
            <a:off x="5796000" y="2590920"/>
            <a:ext cx="3348000" cy="26384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4"/>
          <a:stretch/>
        </p:blipFill>
        <p:spPr>
          <a:xfrm>
            <a:off x="682560" y="762120"/>
            <a:ext cx="7772400" cy="37796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" descr="C:\Users\Guest\Pictures\f.jpg"/>
          <p:cNvPicPr/>
          <p:nvPr/>
        </p:nvPicPr>
        <p:blipFill>
          <a:blip r:embed="rId5"/>
          <a:stretch/>
        </p:blipFill>
        <p:spPr>
          <a:xfrm>
            <a:off x="0" y="274320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C:\Documents and Settings\user\My Documents\My Pictures\asc6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scaris lumbricoides egg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C:\Documents and Settings\user\My Documents\My Pictures\Taeniaegg2asm.jpg"/>
          <p:cNvPicPr/>
          <p:nvPr/>
        </p:nvPicPr>
        <p:blipFill>
          <a:blip r:embed="rId1"/>
          <a:stretch/>
        </p:blipFill>
        <p:spPr>
          <a:xfrm>
            <a:off x="1332000" y="2205000"/>
            <a:ext cx="2847960" cy="25812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Tenia saginata adult and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419" name="Picture 3" descr="C:\Documents and Settings\user\My Documents\My Pictures\taenia_saginata-.jpg"/>
          <p:cNvPicPr/>
          <p:nvPr/>
        </p:nvPicPr>
        <p:blipFill>
          <a:blip r:embed="rId2"/>
          <a:stretch/>
        </p:blipFill>
        <p:spPr>
          <a:xfrm>
            <a:off x="4932360" y="2349360"/>
            <a:ext cx="29718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C:\Documents and Settings\user\My Documents\My Pictures\schist11.jpg"/>
          <p:cNvPicPr/>
          <p:nvPr/>
        </p:nvPicPr>
        <p:blipFill>
          <a:blip r:embed="rId1"/>
          <a:stretch/>
        </p:blipFill>
        <p:spPr>
          <a:xfrm>
            <a:off x="2349360" y="1522440"/>
            <a:ext cx="4445280" cy="44449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Helminths</a:t>
            </a:r>
            <a:br>
              <a:rPr sz="3700"/>
            </a:br>
            <a:r>
              <a:rPr b="1" lang="en-US" sz="37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Schistosoma ova</a:t>
            </a:r>
            <a:endParaRPr b="1" lang="en-US" sz="37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insects such as bugs ,fleas, biting flies, mosquitoes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rmful effects of arthropod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) Discomfort, transmission of diseases ( malaria, yellow fever, typhu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) cause disease (amoebic dysentery, bilharzia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Arthropod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Fungi: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Group of Heterotrophic Eukaryotes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Fungi are called Saprophytes because they obtain nutrients from dead organic material. Some fungi can absorb organic nutrients from living tussu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lassification of Fungi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Yea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old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0" y="262080"/>
            <a:ext cx="822960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404640"/>
            <a:ext cx="91440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1)Yeast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val, spherical, tear drop shap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ingle cell (unicellular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ne nucleu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ply asexual by budding resulting in production of two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Picture 23" descr="C:\Users\Guest\Pictures\yeastm.jpg"/>
          <p:cNvPicPr/>
          <p:nvPr/>
        </p:nvPicPr>
        <p:blipFill>
          <a:blip r:embed="rId1"/>
          <a:stretch/>
        </p:blipFill>
        <p:spPr>
          <a:xfrm>
            <a:off x="1219320" y="354636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2" descr="C:\Users\Guest\Pictures\yeast.jpg"/>
          <p:cNvPicPr/>
          <p:nvPr/>
        </p:nvPicPr>
        <p:blipFill>
          <a:blip r:embed="rId2"/>
          <a:stretch/>
        </p:blipFill>
        <p:spPr>
          <a:xfrm>
            <a:off x="4648320" y="3505320"/>
            <a:ext cx="251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88a3"/>
                </a:solidFill>
                <a:latin typeface="Bell MT"/>
              </a:rPr>
              <a:t>2)Mold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branching hyphae forming mycel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cellul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ultinucleated cel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produce sexually and asexuall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1) PH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Grow within a wide range pH especially acidic (4-6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2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Temp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Room temperature: superficial infe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37C: Systemic infection (pathogenic Fungi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ld temp: Spoilage of food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Humidity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refer moist or humid atmospher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"/>
          <p:cNvSpPr/>
          <p:nvPr/>
        </p:nvSpPr>
        <p:spPr>
          <a:xfrm>
            <a:off x="0" y="0"/>
            <a:ext cx="914400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34b73"/>
                </a:solidFill>
                <a:latin typeface="Bell MT"/>
              </a:rPr>
              <a:t>4) </a:t>
            </a:r>
            <a:r>
              <a:rPr b="1" lang="en-US" sz="3200" spc="-1" strike="noStrike">
                <a:solidFill>
                  <a:srgbClr val="a34b73"/>
                </a:solidFill>
                <a:latin typeface="Bell MT"/>
              </a:rPr>
              <a:t>Med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abouraud Dextrose agar media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S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nta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protein ----(pept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source of carbohydrate ---(dextr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otato Dextrose Agar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(P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made from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1"/>
              </a:rPr>
              <a:t>potato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nd </a:t>
            </a:r>
            <a:r>
              <a:rPr b="0" lang="en-US" sz="2400" spc="-1" strike="noStrike" u="sng">
                <a:solidFill>
                  <a:srgbClr val="ffde66"/>
                </a:solidFill>
                <a:uFillTx/>
                <a:latin typeface="Bell MT"/>
                <a:hlinkClick r:id="rId2"/>
              </a:rPr>
              <a:t>dextrose</a:t>
            </a:r>
            <a:r>
              <a:rPr b="1" lang="en-US" sz="2400" spc="-1" strike="noStrike">
                <a:solidFill>
                  <a:srgbClr val="956205"/>
                </a:solidFill>
                <a:latin typeface="Bell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win7\Downloads\th_db25622bc44ab352a4247c6445af0004_lightbeige146.jpg"/>
          <p:cNvPicPr/>
          <p:nvPr/>
        </p:nvPicPr>
        <p:blipFill>
          <a:blip r:embed="rId3"/>
          <a:stretch/>
        </p:blipFill>
        <p:spPr>
          <a:xfrm>
            <a:off x="6143760" y="214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http://www.sciencestuff.com/Merchant2/images/products/1522-10.jpg"/>
          <p:cNvPicPr/>
          <p:nvPr/>
        </p:nvPicPr>
        <p:blipFill>
          <a:blip r:embed="rId4"/>
          <a:stretch/>
        </p:blipFill>
        <p:spPr>
          <a:xfrm>
            <a:off x="6143760" y="3143160"/>
            <a:ext cx="2857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eas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Mold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C:\Users\win7\Downloads\Saccharomyces2.plate.jpg"/>
          <p:cNvPicPr/>
          <p:nvPr/>
        </p:nvPicPr>
        <p:blipFill>
          <a:blip r:embed="rId2"/>
          <a:srcRect l="15893" t="0" r="0" b="0"/>
          <a:stretch/>
        </p:blipFill>
        <p:spPr>
          <a:xfrm>
            <a:off x="468360" y="1125360"/>
            <a:ext cx="4032360" cy="42022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C:\Users\win7\Downloads\mold-cultures.jpg"/>
          <p:cNvPicPr/>
          <p:nvPr/>
        </p:nvPicPr>
        <p:blipFill>
          <a:blip r:embed="rId3"/>
          <a:stretch/>
        </p:blipFill>
        <p:spPr>
          <a:xfrm>
            <a:off x="4859280" y="1125360"/>
            <a:ext cx="345780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e eukaryotes that depend on another host for their nutrients and metabolic activ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-Protozoa: Un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-Helminth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Arthropods: Multicellul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Parasit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84" name="Picture 2" descr="C:\Users\Najola\Desktop\kill-parasites.jpg"/>
          <p:cNvPicPr/>
          <p:nvPr/>
        </p:nvPicPr>
        <p:blipFill>
          <a:blip r:embed="rId1"/>
          <a:stretch/>
        </p:blipFill>
        <p:spPr>
          <a:xfrm>
            <a:off x="5940360" y="26370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LACTO-PHENOL-COTTON BLUE </a:t>
            </a:r>
            <a:r>
              <a:rPr b="0" lang="en-US" sz="3600" spc="-1" strike="noStrike">
                <a:solidFill>
                  <a:srgbClr val="000000"/>
                </a:solidFill>
                <a:latin typeface="Bell MT"/>
              </a:rPr>
              <a:t>(LPCB)</a:t>
            </a:r>
            <a:r>
              <a:rPr b="0" lang="en-US" sz="3600" spc="-1" strike="noStrike">
                <a:solidFill>
                  <a:srgbClr val="d488c5"/>
                </a:solidFill>
                <a:latin typeface="Bell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agent used to stain fungi for microscop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xamin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52f74"/>
                </a:solidFill>
                <a:latin typeface="Bell MT"/>
              </a:rPr>
              <a:t>Why do we cultivat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Bell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roduction of vacci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1" name="Picture 4" descr="C:\Users\win7\Downloads\images.jpg"/>
          <p:cNvPicPr/>
          <p:nvPr/>
        </p:nvPicPr>
        <p:blipFill>
          <a:blip r:embed="rId1"/>
          <a:stretch/>
        </p:blipFill>
        <p:spPr>
          <a:xfrm>
            <a:off x="2340000" y="1484280"/>
            <a:ext cx="2862360" cy="22906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C:\Users\win7\Downloads\20100904155024.jpg"/>
          <p:cNvPicPr/>
          <p:nvPr/>
        </p:nvPicPr>
        <p:blipFill>
          <a:blip r:embed="rId2"/>
          <a:stretch/>
        </p:blipFill>
        <p:spPr>
          <a:xfrm>
            <a:off x="5580000" y="1484280"/>
            <a:ext cx="3086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Documents and Settings\user\My Documents\My Pictures\Saccharomyces_ce_48a8fd8b156cd.jpg"/>
          <p:cNvPicPr/>
          <p:nvPr/>
        </p:nvPicPr>
        <p:blipFill>
          <a:blip r:embed="rId2"/>
          <a:stretch/>
        </p:blipFill>
        <p:spPr>
          <a:xfrm>
            <a:off x="1042920" y="2060640"/>
            <a:ext cx="3000600" cy="2911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C:\Documents and Settings\user\My Documents\My Pictures\Saccharomyces_ce_4876e39735dec.jpg"/>
          <p:cNvPicPr/>
          <p:nvPr/>
        </p:nvPicPr>
        <p:blipFill>
          <a:blip r:embed="rId3"/>
          <a:stretch/>
        </p:blipFill>
        <p:spPr>
          <a:xfrm>
            <a:off x="4572000" y="213372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0" y="260280"/>
            <a:ext cx="73436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Benefits of fung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Baking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by using ye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Antibiotic: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n extract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penicil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Saprophytes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: Breaking down of dead organic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Win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34b73"/>
                </a:solidFill>
                <a:latin typeface="Bell MT"/>
              </a:rPr>
              <a:t>Harmful effects:</a:t>
            </a:r>
            <a:r>
              <a:rPr b="0" lang="en-US" sz="2800" spc="-1" strike="noStrike">
                <a:solidFill>
                  <a:srgbClr val="a34b73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use a lot of diseases in skin, hair, nail and systemic dis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7" descr="C:\Users\Guest\Pictures\f.bmp"/>
          <p:cNvPicPr/>
          <p:nvPr/>
        </p:nvPicPr>
        <p:blipFill>
          <a:blip r:embed="rId1"/>
          <a:stretch/>
        </p:blipFill>
        <p:spPr>
          <a:xfrm>
            <a:off x="6929280" y="1268280"/>
            <a:ext cx="2214720" cy="21621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9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6929280" y="3429000"/>
            <a:ext cx="2214720" cy="22860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700" spc="-1" strike="noStrike">
              <a:solidFill>
                <a:srgbClr val="f4e7ed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7547040" cy="1683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500040" y="2642760"/>
            <a:ext cx="30002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lternaria  species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Picture 2" descr="C:\Documents and Settings\user\My Documents\My Pictures\Alternariq.gif"/>
          <p:cNvPicPr/>
          <p:nvPr/>
        </p:nvPicPr>
        <p:blipFill>
          <a:blip r:embed="rId2"/>
          <a:stretch/>
        </p:blipFill>
        <p:spPr>
          <a:xfrm>
            <a:off x="3857760" y="2143080"/>
            <a:ext cx="41781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Title 1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7259760" cy="168264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457200" y="3143160"/>
            <a:ext cx="3008160" cy="18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enicill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C:\Documents and Settings\user\My Documents\My Pictures\Penicillium_labeled.jpg"/>
          <p:cNvPicPr/>
          <p:nvPr/>
        </p:nvPicPr>
        <p:blipFill>
          <a:blip r:embed="rId2"/>
          <a:stretch/>
        </p:blipFill>
        <p:spPr>
          <a:xfrm>
            <a:off x="3143160" y="2214720"/>
            <a:ext cx="5112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7400880" cy="101304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356000" y="5229000"/>
            <a:ext cx="397512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pergillus speci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Picture 2" descr="C:\Documents and Settings\user\My Documents\My Pictures\Aspergillus_niger_EXF-2479_konidiofori_100xS.jpg"/>
          <p:cNvPicPr/>
          <p:nvPr/>
        </p:nvPicPr>
        <p:blipFill>
          <a:blip r:embed="rId2"/>
          <a:stretch/>
        </p:blipFill>
        <p:spPr>
          <a:xfrm>
            <a:off x="4572000" y="22766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user\My Documents\My Pictures\aspergillus_versicolor.gif"/>
          <p:cNvPicPr/>
          <p:nvPr/>
        </p:nvPicPr>
        <p:blipFill>
          <a:blip r:embed="rId3"/>
          <a:stretch/>
        </p:blipFill>
        <p:spPr>
          <a:xfrm>
            <a:off x="826920" y="3860640"/>
            <a:ext cx="3000600" cy="24861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user\My Documents\My Pictures\aspergillus2.jpg"/>
          <p:cNvPicPr/>
          <p:nvPr/>
        </p:nvPicPr>
        <p:blipFill>
          <a:blip r:embed="rId4"/>
          <a:stretch/>
        </p:blipFill>
        <p:spPr>
          <a:xfrm>
            <a:off x="826920" y="1125360"/>
            <a:ext cx="3071880" cy="258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28760" y="14479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Iron needle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made from iron because fungi dig into the aga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63" name="Straight Connector 13"/>
          <p:cNvSpPr/>
          <p:nvPr/>
        </p:nvSpPr>
        <p:spPr>
          <a:xfrm flipH="1">
            <a:off x="5285880" y="4645080"/>
            <a:ext cx="1800" cy="7128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2"/>
          <a:stretch/>
        </p:blipFill>
        <p:spPr>
          <a:xfrm>
            <a:off x="3851280" y="3213000"/>
            <a:ext cx="417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-360" y="836640"/>
            <a:ext cx="88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irus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ell MT"/>
              </a:rPr>
              <a:t>obligate intracellular agents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: can multiply only in living cell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onsist of a single type of nucleic acid either DNA or RNA (Ss or D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Nucleic material is enclo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a protein coat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oth capsid and nucleic acid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re called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ucleocapsi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6360" indent="-214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0" y="-24444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C:\Users\win7\Downloads\Picture1.jpg"/>
          <p:cNvPicPr/>
          <p:nvPr/>
        </p:nvPicPr>
        <p:blipFill>
          <a:blip r:embed="rId2"/>
          <a:stretch/>
        </p:blipFill>
        <p:spPr>
          <a:xfrm>
            <a:off x="6084720" y="3224160"/>
            <a:ext cx="3059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25992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Some viruse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envelop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others are </a:t>
            </a:r>
            <a:r>
              <a:rPr b="1" lang="en-US" sz="2800" spc="-1" strike="noStrike">
                <a:solidFill>
                  <a:srgbClr val="000000"/>
                </a:solidFill>
                <a:latin typeface="Bell MT"/>
              </a:rPr>
              <a:t>naked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Vary in size from 20-300 n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9" name="Picture 10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492360" cy="3281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0" y="3789360"/>
            <a:ext cx="647712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2920" y="1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are examined only by Electron microscop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Can infect humans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nimals, plants and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Viruses that infect bacteria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called </a:t>
            </a:r>
            <a:r>
              <a:rPr b="1" lang="en-US" sz="2700" spc="-1" strike="noStrike">
                <a:solidFill>
                  <a:srgbClr val="000000"/>
                </a:solidFill>
                <a:latin typeface="Bell MT"/>
              </a:rPr>
              <a:t>bacteriophag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Picture 2" descr="C:\Users\Guest\Pictures\bacteriophage.bmp"/>
          <p:cNvPicPr/>
          <p:nvPr/>
        </p:nvPicPr>
        <p:blipFill>
          <a:blip r:embed="rId1"/>
          <a:stretch/>
        </p:blipFill>
        <p:spPr>
          <a:xfrm>
            <a:off x="6084720" y="2276640"/>
            <a:ext cx="3059280" cy="24224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"/>
          <p:cNvPicPr/>
          <p:nvPr/>
        </p:nvPicPr>
        <p:blipFill>
          <a:blip r:embed="rId2"/>
          <a:stretch/>
        </p:blipFill>
        <p:spPr>
          <a:xfrm>
            <a:off x="6083280" y="4686480"/>
            <a:ext cx="30607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ommon stages of life cyc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ophozoite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active growing st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Cyst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resting non active stag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an infect all major tissues and organs of the bod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Transmission of protozoan parasites b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1- injection via bites of blood sucking insec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2- ingestion of infective stag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protozo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Content Placeholder 3" descr="virus_types.gif"/>
          <p:cNvPicPr/>
          <p:nvPr/>
        </p:nvPicPr>
        <p:blipFill>
          <a:blip r:embed="rId1"/>
          <a:stretch/>
        </p:blipFill>
        <p:spPr>
          <a:xfrm>
            <a:off x="395280" y="620640"/>
            <a:ext cx="8342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0" descr="C:\Users\win7\Downloads\images.jpg"/>
          <p:cNvPicPr/>
          <p:nvPr/>
        </p:nvPicPr>
        <p:blipFill>
          <a:blip r:embed="rId1"/>
          <a:stretch/>
        </p:blipFill>
        <p:spPr>
          <a:xfrm>
            <a:off x="4140360" y="4667400"/>
            <a:ext cx="2735280" cy="2190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C:\Users\win7\Downloads\mc15g01-fig-0001-1-full.jpg"/>
          <p:cNvPicPr/>
          <p:nvPr/>
        </p:nvPicPr>
        <p:blipFill>
          <a:blip r:embed="rId2"/>
          <a:stretch/>
        </p:blipFill>
        <p:spPr>
          <a:xfrm>
            <a:off x="6227640" y="333360"/>
            <a:ext cx="2484720" cy="4541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29680" indent="-1609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ultivation of viruses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) Animal inocula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eg: mic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b) Embryonated egg inocul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C) Tissue cell culture (see CPE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29680" indent="-16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Picture 16" descr="C:\Users\Guest\Pictures\imagesCAX4RB9U.jpg"/>
          <p:cNvPicPr/>
          <p:nvPr/>
        </p:nvPicPr>
        <p:blipFill>
          <a:blip r:embed="rId3"/>
          <a:stretch/>
        </p:blipFill>
        <p:spPr>
          <a:xfrm>
            <a:off x="4788000" y="549360"/>
            <a:ext cx="22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0" y="2599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Cytopathic effects (CPE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Is the morphological changes in cell caused by th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viral infec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Figure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. Monolayer of normal fetal tonsil cells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b. tonsil cells with adenovirus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c. tonsil cells with herpes simplex infectio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ell MT"/>
              </a:rPr>
              <a:t>and monolayer destroyed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48040" indent="-1735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4765680" y="1484280"/>
            <a:ext cx="3913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Protozoa move by</a:t>
            </a:r>
            <a:r>
              <a:rPr b="1" lang="en-US" sz="4100" spc="-1" strike="noStrike">
                <a:solidFill>
                  <a:srgbClr val="8a2e4e"/>
                </a:solidFill>
                <a:latin typeface="Bell MT"/>
              </a:rPr>
              <a:t> </a:t>
            </a:r>
            <a:r>
              <a:rPr b="1" lang="en-US" sz="4100" spc="-1" strike="noStrike">
                <a:solidFill>
                  <a:srgbClr val="b13f9a"/>
                </a:solidFill>
                <a:latin typeface="Bell MT"/>
              </a:rPr>
              <a:t>: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Psuedopod: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(extending part of protoplasm    towards direction of movemen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Entamoeba speci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2e4e"/>
                </a:solidFill>
                <a:latin typeface="Bell MT"/>
              </a:rPr>
              <a:t>Flagella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ell MT"/>
              </a:rPr>
              <a:t>Example: Trypanosoma species, Giardia Lambli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C:\Users\Najola\Desktop\psuedopods.jpg"/>
          <p:cNvPicPr/>
          <p:nvPr/>
        </p:nvPicPr>
        <p:blipFill>
          <a:blip r:embed="rId1"/>
          <a:stretch/>
        </p:blipFill>
        <p:spPr>
          <a:xfrm>
            <a:off x="4932360" y="981000"/>
            <a:ext cx="3232080" cy="2490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Users\Najola\Desktop\flagella.jpg"/>
          <p:cNvPicPr/>
          <p:nvPr/>
        </p:nvPicPr>
        <p:blipFill>
          <a:blip r:embed="rId2"/>
          <a:stretch/>
        </p:blipFill>
        <p:spPr>
          <a:xfrm>
            <a:off x="5364000" y="3500280"/>
            <a:ext cx="24242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Cil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Balantidium coli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a2e4e"/>
                </a:solidFill>
                <a:latin typeface="Bell MT"/>
              </a:rPr>
              <a:t>non moti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 : Plasmodium spec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ring stag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pic>
        <p:nvPicPr>
          <p:cNvPr id="396" name="Picture 2" descr="C:\Users\Najola\Desktop\cilia.jpg"/>
          <p:cNvPicPr/>
          <p:nvPr/>
        </p:nvPicPr>
        <p:blipFill>
          <a:blip r:embed="rId1"/>
          <a:stretch/>
        </p:blipFill>
        <p:spPr>
          <a:xfrm>
            <a:off x="7236000" y="476280"/>
            <a:ext cx="1711080" cy="2138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C:\Users\Najola\Desktop\cilia1.jpg"/>
          <p:cNvPicPr/>
          <p:nvPr/>
        </p:nvPicPr>
        <p:blipFill>
          <a:blip r:embed="rId2"/>
          <a:stretch/>
        </p:blipFill>
        <p:spPr>
          <a:xfrm>
            <a:off x="4859280" y="1341360"/>
            <a:ext cx="2382840" cy="25923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user\My Documents\My Pictures\Pf_MaurersC.jpg"/>
          <p:cNvPicPr/>
          <p:nvPr/>
        </p:nvPicPr>
        <p:blipFill>
          <a:blip r:embed="rId3"/>
          <a:stretch/>
        </p:blipFill>
        <p:spPr>
          <a:xfrm>
            <a:off x="5724360" y="4076640"/>
            <a:ext cx="2721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  <a:ea typeface="Times New Roman"/>
              </a:rPr>
              <a:t>Entamoeba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rophozoi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Picture 4" descr="C:\Documents and Settings\user\My Documents\My Pictures\entamoebahistolitica.jpg"/>
          <p:cNvPicPr/>
          <p:nvPr/>
        </p:nvPicPr>
        <p:blipFill>
          <a:blip r:embed="rId1"/>
          <a:stretch/>
        </p:blipFill>
        <p:spPr>
          <a:xfrm>
            <a:off x="1004760" y="2324160"/>
            <a:ext cx="2944800" cy="21826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Picture 5" descr="C:\Documents and Settings\user\My Documents\My Pictures\histolytica.jpg"/>
          <p:cNvPicPr/>
          <p:nvPr/>
        </p:nvPicPr>
        <p:blipFill>
          <a:blip r:embed="rId2"/>
          <a:stretch/>
        </p:blipFill>
        <p:spPr>
          <a:xfrm>
            <a:off x="5508720" y="1484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C:\Documents and Settings\user\My Documents\My Pictures\entamoeba-histolytica-2.jpg"/>
          <p:cNvPicPr/>
          <p:nvPr/>
        </p:nvPicPr>
        <p:blipFill>
          <a:blip r:embed="rId3"/>
          <a:stretch/>
        </p:blipFill>
        <p:spPr>
          <a:xfrm>
            <a:off x="5148360" y="3141720"/>
            <a:ext cx="27385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b13f9a"/>
                </a:solidFill>
                <a:latin typeface="Lucida Sans Unicode"/>
              </a:rPr>
              <a:t> 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rypanoso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b83d68"/>
          </a:solidFill>
          <a:ln w="9720">
            <a:solidFill>
              <a:srgbClr val="b83d68"/>
            </a:solidFill>
            <a:miter/>
          </a:ln>
        </p:spPr>
        <p:txBody>
          <a:bodyPr lIns="182880" anchor="ctr">
            <a:normAutofit fontScale="91000"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Protozo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Balantidium coli cy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Picture 4" descr="C:\Documents and Settings\user\My Documents\My Pictures\tryp9.jpg"/>
          <p:cNvPicPr/>
          <p:nvPr/>
        </p:nvPicPr>
        <p:blipFill>
          <a:blip r:embed="rId1"/>
          <a:stretch/>
        </p:blipFill>
        <p:spPr>
          <a:xfrm>
            <a:off x="506520" y="1444680"/>
            <a:ext cx="3941640" cy="394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user\My Documents\My Pictures\balantidiumcisto3.jpg"/>
          <p:cNvPicPr/>
          <p:nvPr/>
        </p:nvPicPr>
        <p:blipFill>
          <a:blip r:embed="rId2"/>
          <a:stretch/>
        </p:blipFill>
        <p:spPr>
          <a:xfrm>
            <a:off x="4859280" y="1484280"/>
            <a:ext cx="3684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ulticellular organisms with organ systems as digestive, nervous , excretory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Have complicated life cyc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Mostly have different stages of life cycle which are: ova(egg), larvae (Adult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dult worms can measure centimeters or even meters lo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tracellular parasit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(worms)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Are classified according to shape i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1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N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round worms) cylindrical th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Ascaris lumbricoid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2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Ces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( tape worms)flat long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Tenia saginata,tenia soliu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3- </a:t>
            </a:r>
            <a:r>
              <a:rPr b="1" lang="en-US" sz="2700" spc="-1" strike="noStrike">
                <a:solidFill>
                  <a:srgbClr val="a34b73"/>
                </a:solidFill>
                <a:latin typeface="Bell MT"/>
              </a:rPr>
              <a:t>Trematodes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( Flukes)leaf like flat wor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        </a:t>
            </a:r>
            <a:r>
              <a:rPr b="0" lang="en-US" sz="2700" spc="-1" strike="noStrike">
                <a:solidFill>
                  <a:srgbClr val="000000"/>
                </a:solidFill>
                <a:latin typeface="Bell MT"/>
              </a:rPr>
              <a:t>Example: Schistosoma spec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Bell MT"/>
                <a:ea typeface="Times New Roman"/>
              </a:rPr>
              <a:t>Helminths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17:39:13Z</dcterms:created>
  <dc:creator>ksu</dc:creator>
  <dc:description/>
  <dc:language>en-US</dc:language>
  <cp:lastModifiedBy>اميرة الحوالي</cp:lastModifiedBy>
  <dcterms:modified xsi:type="dcterms:W3CDTF">2014-01-27T08:29:36Z</dcterms:modified>
  <cp:revision>110</cp:revision>
  <dc:subject/>
  <dc:title>Slide 1</dc:title>
</cp:coreProperties>
</file>