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52.jpeg" ContentType="image/jpeg"/>
  <Override PartName="/ppt/media/image1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9.png" ContentType="image/png"/>
  <Override PartName="/ppt/media/image23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5.jpeg" ContentType="image/jpeg"/>
  <Override PartName="/ppt/media/image47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41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BAB0-F611-4901-8BC8-F7FDB2AA68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E601-0507-49D3-A9A2-C4DACEE2D1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740-6852-4DE6-8ED1-0716936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812-C9F9-490D-AB73-67BAC369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36B-F125-4F50-9C61-5A477CBD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77E-CBB3-4E58-AECE-B2728C36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EE8A-DBDD-407E-82F3-C615A419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1677-EC99-4D67-B0E5-1F66AFC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4DA-3AC9-468C-B265-1E21D9B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1068-3F7E-43AD-A58A-F2ADEFD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21E-3006-465C-AF0F-FD15F91D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33E-4810-4438-BEB4-1180F31C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6F16-2814-467A-ACC9-D33FBCB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D51-B956-4ADE-84BB-00A0D44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B60B-33E3-451D-A388-5BF2B28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2E5-6A28-4EAB-90A8-1B96737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DF8-EA64-4184-9EA3-B00EEEBA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4699-4A47-4381-872B-EDBF44A1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9349-B7CB-43D8-902B-314D9E17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9E14-28F7-455D-AC2E-544A613C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45498-34F4-4D2B-979A-8EE87BF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A1BE-672D-421A-A846-6173818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2A03-7ACC-42B6-BC70-2E662724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9463-6083-49DC-B028-2ECA967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38C-0F69-4CA2-B6BB-BB19556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3D91-1405-4C44-A990-3F8444BB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A83E-9349-460D-8846-2C741028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17B0-4593-4DB3-B071-275E2F8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CFE12-616D-4B8B-AF28-96C5E98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9D3D-B2C1-48CE-B508-905C3A04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6876-75FF-44F1-A65D-A8D26E32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0515-F84C-48E4-B322-2934E5D2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9A58-B8AA-4CFB-B33E-8C263C13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42B6-DB43-4094-8B67-6040FDDB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AA03-961F-422B-BCE0-8B25F491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4B9-3A2C-43C4-BA93-19EBDF76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4FCD-6028-4FB9-BF53-4A0354D4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8452-B029-4F5C-8263-11C448C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5D61B-B7B2-452B-90EB-2DEBC92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AA9D-6740-42BB-B2A9-CD3F18AC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B016-367B-48EF-AA6F-B593423A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3647-0D86-4A80-9BFC-69D54A2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DDC1-B629-4665-ADD1-C146336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BF1F-BBCD-4878-B9ED-0B3EC2A4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3CA3-43FB-4978-980A-8F96FCFE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6283-D5DD-41DA-A403-74CE5B2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66A-EAB4-4FF5-9CB0-BB77556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86AF-8047-481D-A793-57EF578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5C06-6D18-4459-B32A-7EA51F4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B7CBE-6B29-40C1-87B1-0E920BDB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60E3-CC56-4011-8E48-7FC9695B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608A-44CB-42BC-A452-B2F667B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4C00F-D156-4025-BD9D-D583357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34824-600A-482A-8AFE-E081D721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299B-8C4A-4E1B-BA23-E5B9A75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30F9-C864-452E-B9C1-6D1B35A5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66F6-B56E-4B35-BFAA-F924A8A1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1B2-52C0-4938-BACD-3BA308C4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A031E-4EDA-4178-AC0F-1F51A99B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2B75-B3F2-44D2-8DB5-4D47913F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9969-08AF-42D1-BD67-647CF1EB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79DB-27CE-4E65-B635-BB81571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2B0E-1DD4-4E6E-B3AC-46A8DA8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C2C4-9633-4DAC-9076-77FB403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7E9AE-7C47-4877-A800-0FD314C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CD7A8-C5B3-48B5-AFB4-AABB9E66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45AE2-CDB9-4EFC-90EE-4E2D0219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8EEF-07E1-44F3-82BA-E89713E2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05D-B261-4708-B2B7-C1D61CD4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2EB8B-4117-48B1-A6B4-82064F90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D265-6B5A-4A94-9262-02028328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CE1B6-CFE7-48AB-99B9-C9AF6459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0426E-0600-4AC3-9AA3-E4BB4EF0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62BCE-3E51-4A50-9FA7-537DFAAA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AD32-2553-426D-84A3-C5EFAFAD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AD91-CFFB-480F-9636-40CE82E8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C2785-321B-4DD0-8B65-E4A98809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128F-6E1D-46E3-95F1-63E0903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93C3-7DA3-4AC9-B3BC-6A807C97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3BB-6A3B-44FF-A3C9-C97ADDB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BD375-571A-4EA5-A34B-D381A22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EE46E-D845-4111-83BE-E700729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BF01-774C-4C55-A07D-4025F77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88B69-E5D8-40B7-9157-9B0AE68B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57E2-FFA4-4591-B14D-2FBEE08E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3E7E-FB32-4890-838E-65013956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D48F6-1247-4A6A-8D11-B7F0C5B1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CFA90-AD14-4B12-A02A-A002FA7D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41E1F-C032-4FAB-BDB3-D3186A8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20BD-262D-44C8-A0CA-B0D95A6C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B46-529B-404A-BF00-571D60F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8E0A-D9C1-4DAF-849E-1AB66F2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B2D4-C5B3-4AF3-B292-A8638F9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2ED4-B405-4058-B3D7-5850E89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60E46-BC76-446E-9E74-4DD6A2B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C539-E3F7-48E0-A442-E081AF27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5FE63-2971-400D-96FE-BA67A1CF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A94D-1101-4C71-9236-52175822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0136-AFC1-4991-9148-4D3453D96E8F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E52-A43B-46F7-8278-57DC5902C7F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032-5071-41DF-9D97-6AFB4C68C3D0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996-E4B9-442C-B8E2-D708AE3AEFD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B391-AB16-4F42-B5A4-02B0CF217DD0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3353-3F31-4A50-AFBC-3AD63E88897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276-B1DD-45D1-844A-354B99E3C03D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FF4-3635-46CE-86A3-F7F3E600940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CA17-9160-4121-9AEC-68137986E66B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DF3-242D-4CE0-95BF-4D6601C1E2C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847-3D24-4A51-9D0E-F46202F91CC3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E44-31AF-42BB-A247-187F5CEB707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4CF3-4AA4-4B79-ADFE-B776AB34BDEA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C8B-1814-4B23-B4C0-313C4DB5067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78D3-FC72-4231-8C6D-E923B3F8DCDA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D07-7DA3-46FC-B329-AFA8705A297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tato" TargetMode="External"/><Relationship Id="rId2" Type="http://schemas.openxmlformats.org/officeDocument/2006/relationships/hyperlink" Target="http://en.wikipedia.org/wiki/Glucose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images.jpe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Guest\Pictures\imagesCAJPF4ZW.jpg"/>
          <p:cNvPicPr/>
          <p:nvPr/>
        </p:nvPicPr>
        <p:blipFill>
          <a:blip r:embed="rId2"/>
          <a:stretch/>
        </p:blipFill>
        <p:spPr>
          <a:xfrm>
            <a:off x="0" y="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C:\Users\Guest\Pictures\untitled.bmp"/>
          <p:cNvPicPr/>
          <p:nvPr/>
        </p:nvPicPr>
        <p:blipFill>
          <a:blip r:embed="rId3"/>
          <a:stretch/>
        </p:blipFill>
        <p:spPr>
          <a:xfrm>
            <a:off x="5796000" y="2590920"/>
            <a:ext cx="3348000" cy="26384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4"/>
          <a:stretch/>
        </p:blipFill>
        <p:spPr>
          <a:xfrm>
            <a:off x="682560" y="762120"/>
            <a:ext cx="7772400" cy="377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" descr="C:\Users\Guest\Pictures\f.jpg"/>
          <p:cNvPicPr/>
          <p:nvPr/>
        </p:nvPicPr>
        <p:blipFill>
          <a:blip r:embed="rId5"/>
          <a:stretch/>
        </p:blipFill>
        <p:spPr>
          <a:xfrm>
            <a:off x="0" y="27432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scaris lumbricoides egg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332000" y="2205000"/>
            <a:ext cx="2847960" cy="2581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Tenia saginata adult and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419" name="Picture 3" descr="C:\Documents and Settings\user\My Documents\My Pictures\taenia_saginata-.jpg"/>
          <p:cNvPicPr/>
          <p:nvPr/>
        </p:nvPicPr>
        <p:blipFill>
          <a:blip r:embed="rId2"/>
          <a:stretch/>
        </p:blipFill>
        <p:spPr>
          <a:xfrm>
            <a:off x="4932360" y="234936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Schistosoma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rmful effects of arthropo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) Discomfort, transmission of diseases ( malaria, yellow fever, typhu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) cause disease (amoebic dysentery, bilharzia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rthropod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ungi: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Group of Heterotrophic Eukaryotes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Fungi are called Saprophytes because they obtain nutrients from dead organic material. Some fungi can absorb organic nutrients from living tussu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lassification of Fung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Yea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ol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0" y="262080"/>
            <a:ext cx="82296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40464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1)Yeast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val, spherical, tear drop shap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ingle cell (unicellu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ne nucle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ply asexual by budding resulting in production of two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23" descr="C:\Users\Guest\Pictures\yeastm.jpg"/>
          <p:cNvPicPr/>
          <p:nvPr/>
        </p:nvPicPr>
        <p:blipFill>
          <a:blip r:embed="rId1"/>
          <a:stretch/>
        </p:blipFill>
        <p:spPr>
          <a:xfrm>
            <a:off x="1219320" y="354636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2" descr="C:\Users\Guest\Pictures\yeast.jpg"/>
          <p:cNvPicPr/>
          <p:nvPr/>
        </p:nvPicPr>
        <p:blipFill>
          <a:blip r:embed="rId2"/>
          <a:stretch/>
        </p:blipFill>
        <p:spPr>
          <a:xfrm>
            <a:off x="4648320" y="3505320"/>
            <a:ext cx="25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2)Mold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branching hyphae forming mycel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cellul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nucleated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produce sexually and asexual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) PH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Grow within a wide range pH especially acidic (4-6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Temp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oom temperature: superficial infe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37C: Systemic infection (pathogenic Fungi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ld temp: Spoilage of foo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Humidity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refer moist or humid atmosphe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0" y="0"/>
            <a:ext cx="914400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4b73"/>
                </a:solidFill>
                <a:latin typeface="Bell MT"/>
              </a:rPr>
              <a:t>4) </a:t>
            </a:r>
            <a:r>
              <a:rPr b="1" lang="en-US" sz="3200" spc="-1" strike="noStrike">
                <a:solidFill>
                  <a:srgbClr val="a34b73"/>
                </a:solidFill>
                <a:latin typeface="Bell MT"/>
              </a:rPr>
              <a:t>Med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abouraud Dextrose agar media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S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protein ----(pept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carbohydrate ---(dextr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otato Dextrose Agar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P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ade from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1"/>
              </a:rPr>
              <a:t>potato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nd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2"/>
              </a:rPr>
              <a:t>dextrose</a:t>
            </a:r>
            <a:r>
              <a:rPr b="1" lang="en-US" sz="2400" spc="-1" strike="noStrike">
                <a:solidFill>
                  <a:srgbClr val="956205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win7\Downloads\th_db25622bc44ab352a4247c6445af0004_lightbeige146.jpg"/>
          <p:cNvPicPr/>
          <p:nvPr/>
        </p:nvPicPr>
        <p:blipFill>
          <a:blip r:embed="rId3"/>
          <a:stretch/>
        </p:blipFill>
        <p:spPr>
          <a:xfrm>
            <a:off x="6143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sciencestuff.com/Merchant2/images/products/1522-10.jpg"/>
          <p:cNvPicPr/>
          <p:nvPr/>
        </p:nvPicPr>
        <p:blipFill>
          <a:blip r:embed="rId4"/>
          <a:stretch/>
        </p:blipFill>
        <p:spPr>
          <a:xfrm>
            <a:off x="6143760" y="3143160"/>
            <a:ext cx="285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l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C:\Users\win7\Downloads\Saccharomyces2.plate.jpg"/>
          <p:cNvPicPr/>
          <p:nvPr/>
        </p:nvPicPr>
        <p:blipFill>
          <a:blip r:embed="rId2"/>
          <a:srcRect l="15893" t="0" r="0" b="0"/>
          <a:stretch/>
        </p:blipFill>
        <p:spPr>
          <a:xfrm>
            <a:off x="468360" y="1125360"/>
            <a:ext cx="4032360" cy="4202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Users\win7\Downloads\mold-cultures.jpg"/>
          <p:cNvPicPr/>
          <p:nvPr/>
        </p:nvPicPr>
        <p:blipFill>
          <a:blip r:embed="rId3"/>
          <a:stretch/>
        </p:blipFill>
        <p:spPr>
          <a:xfrm>
            <a:off x="4859280" y="1125360"/>
            <a:ext cx="34578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Parasit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84" name="Picture 2" descr="C:\Users\Najola\Desktop\kill-parasites.jpg"/>
          <p:cNvPicPr/>
          <p:nvPr/>
        </p:nvPicPr>
        <p:blipFill>
          <a:blip r:embed="rId1"/>
          <a:stretch/>
        </p:blipFill>
        <p:spPr>
          <a:xfrm>
            <a:off x="5940360" y="263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LACTO-PHENOL-COTTON BLUE 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(LPCB)</a:t>
            </a: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agent used to stain fungi for microscop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Bell MT"/>
              </a:rPr>
              <a:t>Why do we cultivat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roduction of vacci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4" descr="C:\Users\win7\Downloads\images.jpg"/>
          <p:cNvPicPr/>
          <p:nvPr/>
        </p:nvPicPr>
        <p:blipFill>
          <a:blip r:embed="rId1"/>
          <a:stretch/>
        </p:blipFill>
        <p:spPr>
          <a:xfrm>
            <a:off x="2340000" y="1484280"/>
            <a:ext cx="2862360" cy="2290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win7\Downloads\20100904155024.jpg"/>
          <p:cNvPicPr/>
          <p:nvPr/>
        </p:nvPicPr>
        <p:blipFill>
          <a:blip r:embed="rId2"/>
          <a:stretch/>
        </p:blipFill>
        <p:spPr>
          <a:xfrm>
            <a:off x="5580000" y="1484280"/>
            <a:ext cx="3086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260280"/>
            <a:ext cx="7343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Benefits of fung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Baking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by using y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Antibiotic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n extract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Saprophyte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: Breaking down of dead organ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in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Harmful effects:</a:t>
            </a:r>
            <a:r>
              <a:rPr b="0" lang="en-US" sz="2800" spc="-1" strike="noStrike">
                <a:solidFill>
                  <a:srgbClr val="a34b73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use a lot of diseases in skin, hair, nail and systemic dis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C:\Users\Guest\Pictures\f.bmp"/>
          <p:cNvPicPr/>
          <p:nvPr/>
        </p:nvPicPr>
        <p:blipFill>
          <a:blip r:embed="rId1"/>
          <a:stretch/>
        </p:blipFill>
        <p:spPr>
          <a:xfrm>
            <a:off x="6929280" y="1268280"/>
            <a:ext cx="2214720" cy="2162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6929280" y="3429000"/>
            <a:ext cx="221472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7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683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259760" cy="1682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400880" cy="10130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356000" y="5229000"/>
            <a:ext cx="397512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4572000" y="2276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826920" y="386064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826920" y="1125360"/>
            <a:ext cx="3071880" cy="258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28760" y="14479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Iron need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ade from iron because fungi dig into the ag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3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17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ir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ell MT"/>
              </a:rPr>
              <a:t>obligate intracellular agents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: can multiply only in living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a single type of nucleic acid either DNA or RNA (Ss or D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Nucleic material is enclo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a protein coat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oth capsid and nucleic aci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re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ucleo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0" y="-2444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C:\Users\win7\Downloads\Picture1.jpg"/>
          <p:cNvPicPr/>
          <p:nvPr/>
        </p:nvPicPr>
        <p:blipFill>
          <a:blip r:embed="rId2"/>
          <a:stretch/>
        </p:blipFill>
        <p:spPr>
          <a:xfrm>
            <a:off x="6084720" y="3224160"/>
            <a:ext cx="3059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259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ome viruse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envelop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ther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ak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ary in size from 20-300 n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492360" cy="3281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3789360"/>
            <a:ext cx="64771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292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are examined only by Electron micr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Can infect human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nimals, plants and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that infect bacteria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called </a:t>
            </a:r>
            <a:r>
              <a:rPr b="1" lang="en-US" sz="2700" spc="-1" strike="noStrike">
                <a:solidFill>
                  <a:srgbClr val="000000"/>
                </a:solidFill>
                <a:latin typeface="Bell MT"/>
              </a:rPr>
              <a:t>bacteriopha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2" descr="C:\Users\Guest\Pictures\bacteriophage.bmp"/>
          <p:cNvPicPr/>
          <p:nvPr/>
        </p:nvPicPr>
        <p:blipFill>
          <a:blip r:embed="rId1"/>
          <a:stretch/>
        </p:blipFill>
        <p:spPr>
          <a:xfrm>
            <a:off x="6084720" y="2276640"/>
            <a:ext cx="3059280" cy="242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6083280" y="4686480"/>
            <a:ext cx="3060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mmon stages of life cy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ophozoite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ctive growing st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yst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resting non active sta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n infect all major tissues and organs of the bo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ansmission of protozoan parasites 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injection via bites of blood sucking insec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ingestion of infective st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protozo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Content Placeholder 3" descr="virus_types.gif"/>
          <p:cNvPicPr/>
          <p:nvPr/>
        </p:nvPicPr>
        <p:blipFill>
          <a:blip r:embed="rId1"/>
          <a:stretch/>
        </p:blipFill>
        <p:spPr>
          <a:xfrm>
            <a:off x="395280" y="620640"/>
            <a:ext cx="8342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0" descr="C:\Users\win7\Downloads\images.jpg"/>
          <p:cNvPicPr/>
          <p:nvPr/>
        </p:nvPicPr>
        <p:blipFill>
          <a:blip r:embed="rId1"/>
          <a:stretch/>
        </p:blipFill>
        <p:spPr>
          <a:xfrm>
            <a:off x="4140360" y="46674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C:\Users\win7\Downloads\mc15g01-fig-0001-1-full.jpg"/>
          <p:cNvPicPr/>
          <p:nvPr/>
        </p:nvPicPr>
        <p:blipFill>
          <a:blip r:embed="rId2"/>
          <a:stretch/>
        </p:blipFill>
        <p:spPr>
          <a:xfrm>
            <a:off x="6227640" y="333360"/>
            <a:ext cx="2484720" cy="4541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609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ultivation of viruses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) Animal inocul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g: m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) Embryonated egg inocul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) Tissue cell culture (see CPE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Picture 16" descr="C:\Users\Guest\Pictures\imagesCAX4RB9U.jpg"/>
          <p:cNvPicPr/>
          <p:nvPr/>
        </p:nvPicPr>
        <p:blipFill>
          <a:blip r:embed="rId3"/>
          <a:stretch/>
        </p:blipFill>
        <p:spPr>
          <a:xfrm>
            <a:off x="4788000" y="54936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2599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ytopathic effects (CPE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Is the morphological changes in cell caused by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viral infe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Figur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. Monolayer of normal fetal tonsil cel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b. tonsil cells with adenoviru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c. tonsil cells with herpes simplex infe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nd monolayer destroye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4765680" y="1484280"/>
            <a:ext cx="3913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Protozoa move by</a:t>
            </a: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 </a:t>
            </a: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: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Psuedopod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extending part of protoplasm    towards direction of movem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Entamoeba spec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Trypanosoma species, Giardia Lambl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C:\Users\Najola\Desktop\psuedopods.jpg"/>
          <p:cNvPicPr/>
          <p:nvPr/>
        </p:nvPicPr>
        <p:blipFill>
          <a:blip r:embed="rId1"/>
          <a:stretch/>
        </p:blipFill>
        <p:spPr>
          <a:xfrm>
            <a:off x="4932360" y="981000"/>
            <a:ext cx="3232080" cy="2490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Najola\Desktop\flagella.jpg"/>
          <p:cNvPicPr/>
          <p:nvPr/>
        </p:nvPicPr>
        <p:blipFill>
          <a:blip r:embed="rId2"/>
          <a:stretch/>
        </p:blipFill>
        <p:spPr>
          <a:xfrm>
            <a:off x="5364000" y="3500280"/>
            <a:ext cx="24242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ring stag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96" name="Picture 2" descr="C:\Users\Najola\Desktop\cilia.jpg"/>
          <p:cNvPicPr/>
          <p:nvPr/>
        </p:nvPicPr>
        <p:blipFill>
          <a:blip r:embed="rId1"/>
          <a:stretch/>
        </p:blipFill>
        <p:spPr>
          <a:xfrm>
            <a:off x="7236000" y="476280"/>
            <a:ext cx="1711080" cy="2138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C:\Users\Najola\Desktop\cilia1.jpg"/>
          <p:cNvPicPr/>
          <p:nvPr/>
        </p:nvPicPr>
        <p:blipFill>
          <a:blip r:embed="rId2"/>
          <a:stretch/>
        </p:blipFill>
        <p:spPr>
          <a:xfrm>
            <a:off x="4859280" y="1341360"/>
            <a:ext cx="23828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user\My Documents\My Pictures\Pf_MaurersC.jpg"/>
          <p:cNvPicPr/>
          <p:nvPr/>
        </p:nvPicPr>
        <p:blipFill>
          <a:blip r:embed="rId3"/>
          <a:stretch/>
        </p:blipFill>
        <p:spPr>
          <a:xfrm>
            <a:off x="5724360" y="4076640"/>
            <a:ext cx="2721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Entamoeb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C:\Documents and Settings\user\My Documents\My Pictures\entamoebahistolitica.jpg"/>
          <p:cNvPicPr/>
          <p:nvPr/>
        </p:nvPicPr>
        <p:blipFill>
          <a:blip r:embed="rId1"/>
          <a:stretch/>
        </p:blipFill>
        <p:spPr>
          <a:xfrm>
            <a:off x="1004760" y="23241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5" descr="C:\Documents and Settings\user\My Documents\My Pictures\histolytica.jpg"/>
          <p:cNvPicPr/>
          <p:nvPr/>
        </p:nvPicPr>
        <p:blipFill>
          <a:blip r:embed="rId2"/>
          <a:stretch/>
        </p:blipFill>
        <p:spPr>
          <a:xfrm>
            <a:off x="5508720" y="1484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Documents and Settings\user\My Documents\My Pictures\entamoeba-histolytica-2.jpg"/>
          <p:cNvPicPr/>
          <p:nvPr/>
        </p:nvPicPr>
        <p:blipFill>
          <a:blip r:embed="rId3"/>
          <a:stretch/>
        </p:blipFill>
        <p:spPr>
          <a:xfrm>
            <a:off x="5148360" y="314172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rypanoso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Balantidium coli 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506520" y="1444680"/>
            <a:ext cx="3941640" cy="394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user\My Documents\My Pictures\balantidiumcisto3.jpg"/>
          <p:cNvPicPr/>
          <p:nvPr/>
        </p:nvPicPr>
        <p:blipFill>
          <a:blip r:embed="rId2"/>
          <a:stretch/>
        </p:blipFill>
        <p:spPr>
          <a:xfrm>
            <a:off x="4859280" y="1484280"/>
            <a:ext cx="3684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ve complicated life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ostly have different stages of life cycle which are: ova(egg), larvae (Adul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dult worms can measure centimeters or even meters lo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tracellular parasi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(worms)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Ascaris lumbricoid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Tenia saginata,tenia so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3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Schistosoma spec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7:39:13Z</dcterms:created>
  <dc:creator>ksu</dc:creator>
  <dc:description/>
  <dc:language>en-US</dc:language>
  <cp:lastModifiedBy>اميرة الحوالي</cp:lastModifiedBy>
  <dcterms:modified xsi:type="dcterms:W3CDTF">2014-01-27T08:29:36Z</dcterms:modified>
  <cp:revision>110</cp:revision>
  <dc:subject/>
  <dc:title>Slide 1</dc:title>
</cp:coreProperties>
</file>