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55.jpeg" ContentType="image/jpeg"/>
  <Override PartName="/ppt/media/image43.png" ContentType="image/png"/>
  <Override PartName="/ppt/media/image54.jpeg" ContentType="image/jpeg"/>
  <Override PartName="/ppt/media/image33.png" ContentType="image/png"/>
  <Override PartName="/ppt/media/image39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12.jpeg" ContentType="image/jpeg"/>
  <Override PartName="/ppt/media/image27.png" ContentType="image/png"/>
  <Override PartName="/ppt/media/image2.png" ContentType="image/png"/>
  <Override PartName="/ppt/media/image25.jpeg" ContentType="image/jpeg"/>
  <Override PartName="/ppt/media/image14.jpeg" ContentType="image/jpeg"/>
  <Override PartName="/ppt/media/image15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3.png" ContentType="image/png"/>
  <Override PartName="/ppt/media/image17.jpeg" ContentType="image/jpeg"/>
  <Override PartName="/ppt/media/image61.jpeg" ContentType="image/jpeg"/>
  <Override PartName="/ppt/media/image52.jpeg" ContentType="image/jpeg"/>
  <Override PartName="/ppt/media/image1.png" ContentType="image/png"/>
  <Override PartName="/ppt/media/image59.png" ContentType="image/png"/>
  <Override PartName="/ppt/media/image24.jpeg" ContentType="image/jpeg"/>
  <Override PartName="/ppt/media/image16.jpeg" ContentType="image/jpeg"/>
  <Override PartName="/ppt/media/image60.jpeg" ContentType="image/jpeg"/>
  <Override PartName="/ppt/media/image30.png" ContentType="image/png"/>
  <Override PartName="/ppt/media/image37.jpeg" ContentType="image/jpeg"/>
  <Override PartName="/ppt/media/image49.png" ContentType="image/png"/>
  <Override PartName="/ppt/media/image23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26.jpeg" ContentType="image/jpeg"/>
  <Override PartName="/ppt/media/image42.png" ContentType="image/png"/>
  <Override PartName="/ppt/media/image11.jpeg" ContentType="image/jpeg"/>
  <Override PartName="/ppt/media/image28.jpeg" ContentType="image/jpeg"/>
  <Override PartName="/ppt/media/image4.png" ContentType="image/png"/>
  <Override PartName="/ppt/media/image7.jpeg" ContentType="image/jpeg"/>
  <Override PartName="/ppt/media/image35.jpeg" ContentType="image/jpeg"/>
  <Override PartName="/ppt/media/image47.png" ContentType="image/png"/>
  <Override PartName="/ppt/media/image31.jpeg" ContentType="image/jpeg"/>
  <Override PartName="/ppt/media/image32.jpeg" ContentType="image/jpeg"/>
  <Override PartName="/ppt/media/image34.jpeg" ContentType="image/jpeg"/>
  <Override PartName="/ppt/media/image10.png" ContentType="image/png"/>
  <Override PartName="/ppt/media/image36.jpeg" ContentType="image/jpeg"/>
  <Override PartName="/ppt/media/image57.png" ContentType="image/png"/>
  <Override PartName="/ppt/media/image41.png" ContentType="image/png"/>
  <Override PartName="/ppt/media/image45.png" ContentType="image/png"/>
  <Override PartName="/ppt/media/image46.jpeg" ContentType="image/jpeg"/>
  <Override PartName="/ppt/media/image48.jpeg" ContentType="image/jpeg"/>
  <Override PartName="/ppt/media/image50.jpeg" ContentType="image/jpeg"/>
  <Override PartName="/ppt/media/image51.png" ContentType="image/png"/>
  <Override PartName="/ppt/media/image56.jpeg" ContentType="image/jpeg"/>
  <Override PartName="/ppt/media/image53.png" ContentType="image/png"/>
  <Override PartName="/ppt/media/image5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63AF1-1DB5-46AA-945B-0C25E4578D0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0CA3-D55B-4E82-BFAB-AAD327E4FC9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4059-0DDA-4F5F-8E24-AFFEF3B22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EFF9-7B23-4E43-9F4F-4A0AC940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CE19-A4DF-4620-A794-18F829C5A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9583-2A71-419E-9EC6-934D28342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2DB2-4BAA-4EC7-8D2B-90155D15F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26D4-11E1-43FA-B090-D5443965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81344-8DDE-4715-BA7D-A708E6EC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D879-60F8-46A4-AB96-23045B21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DA20-8641-4D4D-88DF-24FF4C98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7487-6090-4D9A-85D2-A77E248D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A10A-CCFF-47C3-9838-7F9863B6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1DE1-C8A0-4424-B5D8-570A4E25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FBF28-178B-448C-B2AB-227C4033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0E23-01DF-4202-8033-7BE5A6E8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F312-F4BE-4FC6-BB57-A4DBDF31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D097-006E-471E-A02A-6BE8974AA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B373-D47A-45DB-ACB4-CD42250C5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F298C-EE94-444F-91CD-783137771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3FD7D-B9D1-4BC5-8279-15EB9B97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8C20E-82C3-433C-919B-C5F7A22E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CC28E-B2C6-4FAE-A807-754BC75E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2217D-099C-4E8A-A30E-05A919CB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FE26-7B47-413A-8D1C-FF70C51D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9CBB1-FA67-433D-9DFE-0516A5AE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6E684-9959-4BE6-B81D-7A2AEF04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002D5-2F0A-47B3-B183-FC661758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888C6-3340-4071-986A-6B919C76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15363-1F51-4A8A-B05A-8303A5A1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1E9EB-8832-4936-B7DD-10192BB25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A613A-D045-4031-A4F3-B22E32914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1D6ED-850A-4B51-9AFD-4CE5D6773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2DF08-B308-4F1B-8EF1-C6A7E5C2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A5BB4-5FB1-44C5-92D2-B7B90C83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ED95-15A8-49C1-8C32-D24F8C27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68933-890C-4762-803C-47069406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36AD0-FAC0-4808-9C4D-DC154756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D8BFE-D497-4586-AB73-0C4B4EB4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CACC0-DF65-4AED-B435-A1D80818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D0DBE-6FB8-40E5-9AB1-4F171C2F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3CE6E-EC53-4D32-9C0A-04E37B33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58514-5F10-4464-A517-1F2BB4CC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D8CFE-344D-40C2-88C4-698F4353D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AF0D3-8FAA-4B09-836D-4459F9B29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2F6F2-DECD-4F50-A1EF-C52B39EF9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84EF-A750-44EF-BD39-6D8398D4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3D205-FF9F-4A32-B1F8-E62B406E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E5D73-9919-45E8-B176-E23B024F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A08C9-AE0D-4189-9193-3ADFC721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F3CC7-EF60-416A-B958-3F4DBFFA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803E1-673E-40E3-B6FB-B16BA4E0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2354A-F7B1-4A29-87F7-F9D4B0DC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E3FAB-64E8-4B84-96E6-F6662702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32576-6D07-4D4C-A58C-300F8CEA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44A77-F02B-4D16-A441-B440F504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A0E85-1BC1-40B0-B1F5-9EFE564E1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9E8D-D7DB-404E-9E8A-C7A48E91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D9FE8-AAA7-43AA-A96D-7B7B99CAB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AA4E9-2AA1-4139-8473-709C76030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F3D68-B0D7-4297-BE94-76F14817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4BEDE-3780-4E0F-B81B-6764CEAE6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4A29F-9EBC-42EC-B8FD-B3AFE95C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E95FA-D134-4252-83C8-B8D803A2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F217B-9095-4926-A38F-2023C994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E88AF-2D7E-4193-90E3-F307D2EE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9AA9E-AE3E-47A1-BF53-6496A181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A1248-EBFB-40D4-9369-4566B2E5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1C22-0EC0-4BC2-8BBD-302BB02A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27F8C-29FE-4167-BBBB-7E883A47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A16B1-103C-4840-868D-FFB2FCD2D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3544D-047C-4890-96C8-25928CA61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1746F-ED63-4CA8-B863-D99E59B57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C6960-6F85-4A16-AD67-CF2CB415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AB712-7766-4136-A2F2-FC62EB35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74F65-73A1-4BCA-97CF-59219937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F07E2-9870-4B1E-924E-6562C076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8A74C-FD6E-475E-9410-D26113F6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6C31C-6716-47DD-82DE-9E259352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79C6-CA15-4F8D-A805-DBAF0C5A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325E0-A15C-4DF1-A8E3-DE87AF9B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C2339-16DB-4521-A2BA-81832C10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ECF83-3672-4455-BECE-B223CEAB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27239-1A4E-4A55-8FC9-5016622A2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D6CBF-2C95-4061-A7F9-2CD1811EB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F6A0A-E486-4B0F-8A5C-7BF20F935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21621-3BE9-4AF1-8544-FD802369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9AC45-6768-4907-A121-BB155784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37F43-C738-4583-86BE-965B21F1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FB45B-055B-4620-8B9D-D865B972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A72E-DFF2-4BF3-AF91-A02EA5A2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A8FC8-E9BE-4C40-9B6E-4BA57F5E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B13E7-D803-4D33-B144-11ACEE0A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4586C-6BF0-44CE-8851-83386DA7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73DCD-884C-45F6-82E7-B7B8ED7E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F697C-8A0F-4F87-AD83-D2E4646C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6103B-40CD-4B6B-B630-1C16FFB82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72D6D-A186-4FD2-BD4F-C3AC18CC6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90B1-D5FC-4180-9BF3-3593A4E032FC}" type="datetime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١٤٤٨/٠٢/١٤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CD31-D111-4281-A958-31EDF4B1A56A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8e0736"/>
              </a:gs>
              <a:gs pos="50000">
                <a:srgbClr val="d75379"/>
              </a:gs>
              <a:gs pos="100000">
                <a:srgbClr val="8e0736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d8a2a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AB4B-10DE-4904-B0F5-4EB0B04467E6}" type="datetime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١٤٤٨/٠٢/١٤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17B0-E51C-4D63-9699-617ED8411949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270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270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96A6-9EEC-485A-9C3C-D7741B4FB9B1}" type="datetime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١٤٤٨/٠٢/١٤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4989-0F94-473C-A19C-ABDBFE512AE8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06E8-14F2-415C-AF76-01079309F176}" type="datetime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١٤٤٨/٠٢/١٤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B315-3317-4BCD-BB49-40E8E2A8A0B5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4F67-37CD-4B8F-8291-BBA1B591A394}" type="datetime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١٤٤٨/٠٢/١٤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B7CA-05F6-451A-A076-73704371AC52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C9D4-3BBE-4587-9103-98E8FAE1F60A}" type="datetime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١٤٤٨/٠٢/١٤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E602-A229-4F80-A525-0982DD5DE803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53F9-316D-4F26-B0CF-5EFD864A9CD4}" type="datetime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١٤٤٨/٠٢/١٤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EF25-1CF3-4870-86A4-518FAD5F1AFB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270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270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810B-0A46-4BB8-8870-5846CC7002E4}" type="datetime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١٤٤٨/٠٢/١٤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497C-BAC6-4C02-BEFD-897BD41F956D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tato" TargetMode="External"/><Relationship Id="rId2" Type="http://schemas.openxmlformats.org/officeDocument/2006/relationships/hyperlink" Target="http://en.wikipedia.org/wiki/Glucose" TargetMode="External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image" Target="../media/image49.pn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7" descr="images.jpeg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26370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3" descr="C:\Users\Guest\Pictures\imagesCAJPF4ZW.jpg"/>
          <p:cNvPicPr/>
          <p:nvPr/>
        </p:nvPicPr>
        <p:blipFill>
          <a:blip r:embed="rId2"/>
          <a:stretch/>
        </p:blipFill>
        <p:spPr>
          <a:xfrm>
            <a:off x="0" y="0"/>
            <a:ext cx="3276720" cy="32004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0" descr="C:\Users\Guest\Pictures\untitled.bmp"/>
          <p:cNvPicPr/>
          <p:nvPr/>
        </p:nvPicPr>
        <p:blipFill>
          <a:blip r:embed="rId3"/>
          <a:stretch/>
        </p:blipFill>
        <p:spPr>
          <a:xfrm>
            <a:off x="5796000" y="2590920"/>
            <a:ext cx="3348000" cy="2638440"/>
          </a:xfrm>
          <a:prstGeom prst="rect">
            <a:avLst/>
          </a:prstGeom>
          <a:ln w="0">
            <a:noFill/>
          </a:ln>
        </p:spPr>
      </p:pic>
      <p:pic>
        <p:nvPicPr>
          <p:cNvPr id="380" name="Title 1" descr=""/>
          <p:cNvPicPr/>
          <p:nvPr/>
        </p:nvPicPr>
        <p:blipFill>
          <a:blip r:embed="rId4"/>
          <a:stretch/>
        </p:blipFill>
        <p:spPr>
          <a:xfrm>
            <a:off x="682560" y="762120"/>
            <a:ext cx="7772400" cy="37796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4" descr="C:\Users\Guest\Pictures\f.jpg"/>
          <p:cNvPicPr/>
          <p:nvPr/>
        </p:nvPicPr>
        <p:blipFill>
          <a:blip r:embed="rId5"/>
          <a:stretch/>
        </p:blipFill>
        <p:spPr>
          <a:xfrm>
            <a:off x="0" y="2743200"/>
            <a:ext cx="3276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C:\Documents and Settings\user\My Documents\My Pictures\asc6.jpg"/>
          <p:cNvPicPr/>
          <p:nvPr/>
        </p:nvPicPr>
        <p:blipFill>
          <a:blip r:embed="rId1"/>
          <a:stretch/>
        </p:blipFill>
        <p:spPr>
          <a:xfrm>
            <a:off x="2349360" y="1522440"/>
            <a:ext cx="4445280" cy="444492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b13f9a"/>
                </a:solidFill>
                <a:latin typeface="Lucida Sans Unicode"/>
                <a:ea typeface="Times New Roman"/>
              </a:rPr>
              <a:t>Helminths</a:t>
            </a:r>
            <a:br>
              <a:rPr sz="3700"/>
            </a:br>
            <a:r>
              <a:rPr b="1" lang="en-US" sz="3700" spc="-1" strike="noStrike">
                <a:solidFill>
                  <a:srgbClr val="b13f9a"/>
                </a:solidFill>
                <a:latin typeface="Lucida Sans Unicode"/>
                <a:ea typeface="Times New Roman"/>
              </a:rPr>
              <a:t>Ascaris lumbricoides egg</a:t>
            </a:r>
            <a:endParaRPr b="1" lang="en-US" sz="3700" spc="-1" strike="noStrike">
              <a:solidFill>
                <a:srgbClr val="b13f9a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2" descr="C:\Documents and Settings\user\My Documents\My Pictures\Taeniaegg2asm.jpg"/>
          <p:cNvPicPr/>
          <p:nvPr/>
        </p:nvPicPr>
        <p:blipFill>
          <a:blip r:embed="rId1"/>
          <a:stretch/>
        </p:blipFill>
        <p:spPr>
          <a:xfrm>
            <a:off x="1332000" y="2205000"/>
            <a:ext cx="2847960" cy="258120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b13f9a"/>
                </a:solidFill>
                <a:latin typeface="Lucida Sans Unicode"/>
                <a:ea typeface="Times New Roman"/>
              </a:rPr>
              <a:t>Helminths</a:t>
            </a:r>
            <a:br>
              <a:rPr sz="3700"/>
            </a:br>
            <a:r>
              <a:rPr b="1" lang="en-US" sz="3700" spc="-1" strike="noStrike">
                <a:solidFill>
                  <a:srgbClr val="b13f9a"/>
                </a:solidFill>
                <a:latin typeface="Lucida Sans Unicode"/>
                <a:ea typeface="Times New Roman"/>
              </a:rPr>
              <a:t>Tenia saginata adult and ova</a:t>
            </a:r>
            <a:endParaRPr b="1" lang="en-US" sz="3700" spc="-1" strike="noStrike">
              <a:solidFill>
                <a:srgbClr val="b13f9a"/>
              </a:solidFill>
              <a:latin typeface="Lucida Sans Unicode"/>
            </a:endParaRPr>
          </a:p>
        </p:txBody>
      </p:sp>
      <p:pic>
        <p:nvPicPr>
          <p:cNvPr id="419" name="Picture 3" descr="C:\Documents and Settings\user\My Documents\My Pictures\taenia_saginata-.jpg"/>
          <p:cNvPicPr/>
          <p:nvPr/>
        </p:nvPicPr>
        <p:blipFill>
          <a:blip r:embed="rId2"/>
          <a:stretch/>
        </p:blipFill>
        <p:spPr>
          <a:xfrm>
            <a:off x="4932360" y="2349360"/>
            <a:ext cx="297180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C:\Documents and Settings\user\My Documents\My Pictures\schist11.jpg"/>
          <p:cNvPicPr/>
          <p:nvPr/>
        </p:nvPicPr>
        <p:blipFill>
          <a:blip r:embed="rId1"/>
          <a:stretch/>
        </p:blipFill>
        <p:spPr>
          <a:xfrm>
            <a:off x="2349360" y="1522440"/>
            <a:ext cx="4445280" cy="444492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b13f9a"/>
                </a:solidFill>
                <a:latin typeface="Lucida Sans Unicode"/>
                <a:ea typeface="Times New Roman"/>
              </a:rPr>
              <a:t>Helminths</a:t>
            </a:r>
            <a:br>
              <a:rPr sz="3700"/>
            </a:br>
            <a:r>
              <a:rPr b="1" lang="en-US" sz="3700" spc="-1" strike="noStrike">
                <a:solidFill>
                  <a:srgbClr val="b13f9a"/>
                </a:solidFill>
                <a:latin typeface="Lucida Sans Unicode"/>
                <a:ea typeface="Times New Roman"/>
              </a:rPr>
              <a:t>Schistosoma ova</a:t>
            </a:r>
            <a:endParaRPr b="1" lang="en-US" sz="3700" spc="-1" strike="noStrike">
              <a:solidFill>
                <a:srgbClr val="b13f9a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Are insects such as bugs ,fleas, biting flies, mosquitoes etc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Harmful effects of arthropod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1) Discomfort, transmission of diseases ( malaria, yellow fever, typhus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2) cause disease (amoebic dysentery, bilharzias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  <a:ea typeface="Times New Roman"/>
              </a:rPr>
              <a:t>Arthropods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Fungi: </a:t>
            </a: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Group of Heterotrophic Eukaryotes cell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Fungi are called Saprophytes because they obtain nutrients from dead organic material. Some fungi can absorb organic nutrients from living tussue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Classification of Fungi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Bell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Yeast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Bell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Mold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Title 1" descr=""/>
          <p:cNvPicPr/>
          <p:nvPr/>
        </p:nvPicPr>
        <p:blipFill>
          <a:blip r:embed="rId1"/>
          <a:stretch/>
        </p:blipFill>
        <p:spPr>
          <a:xfrm>
            <a:off x="0" y="262080"/>
            <a:ext cx="822960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0" y="404640"/>
            <a:ext cx="914400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88a3"/>
                </a:solidFill>
                <a:latin typeface="Bell MT"/>
              </a:rPr>
              <a:t>1)Yeast: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Oval, spherical, tear drop shape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Single cell (unicellular)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One nucleu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Multiply asexual by budding resulting in production of two cell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Picture 23" descr="C:\Users\Guest\Pictures\yeastm.jpg"/>
          <p:cNvPicPr/>
          <p:nvPr/>
        </p:nvPicPr>
        <p:blipFill>
          <a:blip r:embed="rId1"/>
          <a:stretch/>
        </p:blipFill>
        <p:spPr>
          <a:xfrm>
            <a:off x="1219320" y="3546360"/>
            <a:ext cx="3124080" cy="23400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22" descr="C:\Users\Guest\Pictures\yeast.jpg"/>
          <p:cNvPicPr/>
          <p:nvPr/>
        </p:nvPicPr>
        <p:blipFill>
          <a:blip r:embed="rId2"/>
          <a:stretch/>
        </p:blipFill>
        <p:spPr>
          <a:xfrm>
            <a:off x="4648320" y="3505320"/>
            <a:ext cx="25146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88a3"/>
                </a:solidFill>
                <a:latin typeface="Bell MT"/>
              </a:rPr>
              <a:t>2)Mold: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Consist of branching hyphae forming mycelium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Multicellular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Multinucleated cell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Reproduce sexually and asexually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 algn="r" rtl="1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0" y="1213920"/>
            <a:ext cx="9144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1) PH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Grow within a wide range pH especially acidic (4-6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2) </a:t>
            </a: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Temp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Room temperature: superficial infection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37C: Systemic infection (pathogenic Fungi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Cold temp: Spoilage of food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3) </a:t>
            </a: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Humidity: 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Prefer moist or humid atmosphere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1" name="Titl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3"/>
          <p:cNvSpPr/>
          <p:nvPr/>
        </p:nvSpPr>
        <p:spPr>
          <a:xfrm>
            <a:off x="0" y="0"/>
            <a:ext cx="9144000" cy="44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34b73"/>
                </a:solidFill>
                <a:latin typeface="Bell MT"/>
              </a:rPr>
              <a:t>4) </a:t>
            </a:r>
            <a:r>
              <a:rPr b="1" lang="en-US" sz="3200" spc="-1" strike="noStrike">
                <a:solidFill>
                  <a:srgbClr val="a34b73"/>
                </a:solidFill>
                <a:latin typeface="Bell MT"/>
              </a:rPr>
              <a:t>Medi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Sabouraud Dextrose agar media </a:t>
            </a:r>
            <a:r>
              <a:rPr b="1" lang="en-US" sz="2400" spc="-1" strike="noStrike">
                <a:solidFill>
                  <a:srgbClr val="000000"/>
                </a:solidFill>
                <a:latin typeface="Bell MT"/>
              </a:rPr>
              <a:t>(SD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Contai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source of protein ----(pept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source of carbohydrate ---(dextro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Potato Dextrose Agar </a:t>
            </a:r>
            <a:r>
              <a:rPr b="1" lang="en-US" sz="2400" spc="-1" strike="noStrike">
                <a:solidFill>
                  <a:srgbClr val="000000"/>
                </a:solidFill>
                <a:latin typeface="Bell MT"/>
              </a:rPr>
              <a:t>(PD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made from </a:t>
            </a:r>
            <a:r>
              <a:rPr b="0" lang="en-US" sz="2400" spc="-1" strike="noStrike" u="sng">
                <a:solidFill>
                  <a:srgbClr val="ffde66"/>
                </a:solidFill>
                <a:uFillTx/>
                <a:latin typeface="Bell MT"/>
                <a:hlinkClick r:id="rId1"/>
              </a:rPr>
              <a:t>potato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 and </a:t>
            </a:r>
            <a:r>
              <a:rPr b="0" lang="en-US" sz="2400" spc="-1" strike="noStrike" u="sng">
                <a:solidFill>
                  <a:srgbClr val="ffde66"/>
                </a:solidFill>
                <a:uFillTx/>
                <a:latin typeface="Bell MT"/>
                <a:hlinkClick r:id="rId2"/>
              </a:rPr>
              <a:t>dextrose</a:t>
            </a:r>
            <a:r>
              <a:rPr b="1" lang="en-US" sz="2400" spc="-1" strike="noStrike">
                <a:solidFill>
                  <a:srgbClr val="956205"/>
                </a:solidFill>
                <a:latin typeface="Bell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2" descr="C:\Users\win7\Downloads\th_db25622bc44ab352a4247c6445af0004_lightbeige146.jpg"/>
          <p:cNvPicPr/>
          <p:nvPr/>
        </p:nvPicPr>
        <p:blipFill>
          <a:blip r:embed="rId3"/>
          <a:stretch/>
        </p:blipFill>
        <p:spPr>
          <a:xfrm>
            <a:off x="6143760" y="2142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4" descr="http://www.sciencestuff.com/Merchant2/images/products/1522-10.jpg"/>
          <p:cNvPicPr/>
          <p:nvPr/>
        </p:nvPicPr>
        <p:blipFill>
          <a:blip r:embed="rId4"/>
          <a:stretch/>
        </p:blipFill>
        <p:spPr>
          <a:xfrm>
            <a:off x="6143760" y="3143160"/>
            <a:ext cx="28573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Yeast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6483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old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37" name="Title 1" descr=""/>
          <p:cNvPicPr/>
          <p:nvPr/>
        </p:nvPicPr>
        <p:blipFill>
          <a:blip r:embed="rId1"/>
          <a:stretch/>
        </p:blipFill>
        <p:spPr>
          <a:xfrm>
            <a:off x="469800" y="0"/>
            <a:ext cx="8229600" cy="8478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4" descr="C:\Users\win7\Downloads\Saccharomyces2.plate.jpg"/>
          <p:cNvPicPr/>
          <p:nvPr/>
        </p:nvPicPr>
        <p:blipFill>
          <a:blip r:embed="rId2"/>
          <a:srcRect l="15893" t="0" r="0" b="0"/>
          <a:stretch/>
        </p:blipFill>
        <p:spPr>
          <a:xfrm>
            <a:off x="468360" y="1125360"/>
            <a:ext cx="4032360" cy="42022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5" descr="C:\Users\win7\Downloads\mold-cultures.jpg"/>
          <p:cNvPicPr/>
          <p:nvPr/>
        </p:nvPicPr>
        <p:blipFill>
          <a:blip r:embed="rId3"/>
          <a:stretch/>
        </p:blipFill>
        <p:spPr>
          <a:xfrm>
            <a:off x="4859280" y="1125360"/>
            <a:ext cx="3457800" cy="41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re eukaryotes that depend on another host for their nutrients and metabolic activit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vided t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-Protozoa: Unicellula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2-Helminths: Multicellula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-Arthropods: Multicellula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Parasite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pic>
        <p:nvPicPr>
          <p:cNvPr id="384" name="Picture 2" descr="C:\Users\Najola\Desktop\kill-parasites.jpg"/>
          <p:cNvPicPr/>
          <p:nvPr/>
        </p:nvPicPr>
        <p:blipFill>
          <a:blip r:embed="rId1"/>
          <a:stretch/>
        </p:blipFill>
        <p:spPr>
          <a:xfrm>
            <a:off x="5940360" y="263700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0" y="1425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88c5"/>
                </a:solidFill>
                <a:latin typeface="Bell MT"/>
              </a:rPr>
              <a:t>LACTO-PHENOL-COTTON BLUE </a:t>
            </a:r>
            <a:r>
              <a:rPr b="0" lang="en-US" sz="3600" spc="-1" strike="noStrike">
                <a:solidFill>
                  <a:srgbClr val="000000"/>
                </a:solidFill>
                <a:latin typeface="Bell MT"/>
              </a:rPr>
              <a:t>(LPCB)</a:t>
            </a:r>
            <a:r>
              <a:rPr b="0" lang="en-US" sz="3600" spc="-1" strike="noStrike">
                <a:solidFill>
                  <a:srgbClr val="d488c5"/>
                </a:solidFill>
                <a:latin typeface="Bell MT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Reagent used to stain fungi for microscopic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examinatio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2f74"/>
                </a:solidFill>
                <a:latin typeface="Bell MT"/>
              </a:rPr>
              <a:t>Why do we cultivate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Bell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Diagnosi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Bell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Bell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Production of vaccin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1" name="Picture 4" descr="C:\Users\win7\Downloads\images.jpg"/>
          <p:cNvPicPr/>
          <p:nvPr/>
        </p:nvPicPr>
        <p:blipFill>
          <a:blip r:embed="rId1"/>
          <a:stretch/>
        </p:blipFill>
        <p:spPr>
          <a:xfrm>
            <a:off x="2340000" y="1484280"/>
            <a:ext cx="2862360" cy="22906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5" descr="C:\Users\win7\Downloads\20100904155024.jpg"/>
          <p:cNvPicPr/>
          <p:nvPr/>
        </p:nvPicPr>
        <p:blipFill>
          <a:blip r:embed="rId2"/>
          <a:stretch/>
        </p:blipFill>
        <p:spPr>
          <a:xfrm>
            <a:off x="5580000" y="1484280"/>
            <a:ext cx="3086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3" descr="C:\Documents and Settings\user\My Documents\My Pictures\Saccharomyces_ce_48a8fd8b156cd.jpg"/>
          <p:cNvPicPr/>
          <p:nvPr/>
        </p:nvPicPr>
        <p:blipFill>
          <a:blip r:embed="rId2"/>
          <a:stretch/>
        </p:blipFill>
        <p:spPr>
          <a:xfrm>
            <a:off x="1042920" y="2060640"/>
            <a:ext cx="3000600" cy="29113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" descr="C:\Documents and Settings\user\My Documents\My Pictures\Saccharomyces_ce_4876e39735dec.jpg"/>
          <p:cNvPicPr/>
          <p:nvPr/>
        </p:nvPicPr>
        <p:blipFill>
          <a:blip r:embed="rId3"/>
          <a:stretch/>
        </p:blipFill>
        <p:spPr>
          <a:xfrm>
            <a:off x="4572000" y="2133720"/>
            <a:ext cx="361944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2"/>
          <p:cNvSpPr/>
          <p:nvPr/>
        </p:nvSpPr>
        <p:spPr>
          <a:xfrm>
            <a:off x="0" y="260280"/>
            <a:ext cx="734364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34b73"/>
                </a:solidFill>
                <a:latin typeface="Bell MT"/>
              </a:rPr>
              <a:t>Benefits of fung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ll MT"/>
              </a:rPr>
              <a:t>Baking: 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by using yea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ll MT"/>
              </a:rPr>
              <a:t>Antibiotic: 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penicillin extracted f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penicill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ll MT"/>
              </a:rPr>
              <a:t>Saprophytes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: Breaking down of dead organic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ll MT"/>
              </a:rPr>
              <a:t>Wine prod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34b73"/>
                </a:solidFill>
                <a:latin typeface="Bell MT"/>
              </a:rPr>
              <a:t>Harmful effects:</a:t>
            </a:r>
            <a:r>
              <a:rPr b="0" lang="en-US" sz="2800" spc="-1" strike="noStrike">
                <a:solidFill>
                  <a:srgbClr val="a34b73"/>
                </a:solidFill>
                <a:latin typeface="Bell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cause a lot of diseases in skin, hair, nail and systemic disea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7" descr="C:\Users\Guest\Pictures\f.bmp"/>
          <p:cNvPicPr/>
          <p:nvPr/>
        </p:nvPicPr>
        <p:blipFill>
          <a:blip r:embed="rId1"/>
          <a:stretch/>
        </p:blipFill>
        <p:spPr>
          <a:xfrm>
            <a:off x="6929280" y="1268280"/>
            <a:ext cx="2214720" cy="216216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9" descr="http://www.accessexcellence.org/AE/AEC/CC/images/s5.gif"/>
          <p:cNvPicPr/>
          <p:nvPr/>
        </p:nvPicPr>
        <p:blipFill>
          <a:blip r:embed="rId2"/>
          <a:stretch/>
        </p:blipFill>
        <p:spPr>
          <a:xfrm>
            <a:off x="6929280" y="3429000"/>
            <a:ext cx="2214720" cy="228600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2644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700" spc="-1" strike="noStrike">
              <a:solidFill>
                <a:srgbClr val="f4e7ed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Title 1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7547040" cy="168300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500040" y="2642760"/>
            <a:ext cx="300024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Alternaria  species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2" name="Picture 2" descr="C:\Documents and Settings\user\My Documents\My Pictures\Alternariq.gif"/>
          <p:cNvPicPr/>
          <p:nvPr/>
        </p:nvPicPr>
        <p:blipFill>
          <a:blip r:embed="rId2"/>
          <a:stretch/>
        </p:blipFill>
        <p:spPr>
          <a:xfrm>
            <a:off x="3857760" y="2143080"/>
            <a:ext cx="417816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Title 1" descr=""/>
          <p:cNvPicPr/>
          <p:nvPr/>
        </p:nvPicPr>
        <p:blipFill>
          <a:blip r:embed="rId1"/>
          <a:stretch/>
        </p:blipFill>
        <p:spPr>
          <a:xfrm>
            <a:off x="457200" y="165240"/>
            <a:ext cx="7259760" cy="168264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457200" y="3143160"/>
            <a:ext cx="3008160" cy="18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Penicilliu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5" name="Picture 2" descr="C:\Documents and Settings\user\My Documents\My Pictures\Penicillium_labeled.jpg"/>
          <p:cNvPicPr/>
          <p:nvPr/>
        </p:nvPicPr>
        <p:blipFill>
          <a:blip r:embed="rId2"/>
          <a:stretch/>
        </p:blipFill>
        <p:spPr>
          <a:xfrm>
            <a:off x="3143160" y="2214720"/>
            <a:ext cx="5112000" cy="37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Title 1" descr=""/>
          <p:cNvPicPr/>
          <p:nvPr/>
        </p:nvPicPr>
        <p:blipFill>
          <a:blip r:embed="rId1"/>
          <a:stretch/>
        </p:blipFill>
        <p:spPr>
          <a:xfrm>
            <a:off x="457200" y="225360"/>
            <a:ext cx="7400880" cy="101304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4356000" y="5229000"/>
            <a:ext cx="3975120" cy="69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Aspergillus speci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8" name="Picture 2" descr="C:\Documents and Settings\user\My Documents\My Pictures\Aspergillus_niger_EXF-2479_konidiofori_100xS.jpg"/>
          <p:cNvPicPr/>
          <p:nvPr/>
        </p:nvPicPr>
        <p:blipFill>
          <a:blip r:embed="rId2"/>
          <a:stretch/>
        </p:blipFill>
        <p:spPr>
          <a:xfrm>
            <a:off x="4572000" y="2276640"/>
            <a:ext cx="3429000" cy="23572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3" descr="C:\Documents and Settings\user\My Documents\My Pictures\aspergillus_versicolor.gif"/>
          <p:cNvPicPr/>
          <p:nvPr/>
        </p:nvPicPr>
        <p:blipFill>
          <a:blip r:embed="rId3"/>
          <a:stretch/>
        </p:blipFill>
        <p:spPr>
          <a:xfrm>
            <a:off x="826920" y="3860640"/>
            <a:ext cx="3000600" cy="248616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4" descr="C:\Documents and Settings\user\My Documents\My Pictures\aspergillus2.jpg"/>
          <p:cNvPicPr/>
          <p:nvPr/>
        </p:nvPicPr>
        <p:blipFill>
          <a:blip r:embed="rId4"/>
          <a:stretch/>
        </p:blipFill>
        <p:spPr>
          <a:xfrm>
            <a:off x="826920" y="1125360"/>
            <a:ext cx="3071880" cy="2584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428760" y="144792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Iron needle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made from iron because fungi dig into the agar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63" name="Straight Connector 13"/>
          <p:cNvSpPr/>
          <p:nvPr/>
        </p:nvSpPr>
        <p:spPr>
          <a:xfrm flipH="1">
            <a:off x="5285880" y="4645080"/>
            <a:ext cx="1800" cy="7128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6" descr=""/>
          <p:cNvPicPr/>
          <p:nvPr/>
        </p:nvPicPr>
        <p:blipFill>
          <a:blip r:embed="rId2"/>
          <a:stretch/>
        </p:blipFill>
        <p:spPr>
          <a:xfrm>
            <a:off x="3851280" y="3213000"/>
            <a:ext cx="41799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-360" y="836640"/>
            <a:ext cx="8893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-21456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Viruses 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ell MT"/>
              </a:rPr>
              <a:t>obligate intracellular agents</a:t>
            </a: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: can multiply only in living cell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Consist of a single type of nucleic acid either DNA or RNA (Ss or Ds)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Nucleic material is enclose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in a protein coat called </a:t>
            </a: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capsid</a:t>
            </a: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both capsid and nucleic acid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are called </a:t>
            </a: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nucleocapsid</a:t>
            </a: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6" name="Title 1" descr=""/>
          <p:cNvPicPr/>
          <p:nvPr/>
        </p:nvPicPr>
        <p:blipFill>
          <a:blip r:embed="rId1"/>
          <a:stretch/>
        </p:blipFill>
        <p:spPr>
          <a:xfrm>
            <a:off x="0" y="-24444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7" descr="C:\Users\win7\Downloads\Picture1.jpg"/>
          <p:cNvPicPr/>
          <p:nvPr/>
        </p:nvPicPr>
        <p:blipFill>
          <a:blip r:embed="rId2"/>
          <a:stretch/>
        </p:blipFill>
        <p:spPr>
          <a:xfrm>
            <a:off x="6084720" y="3224160"/>
            <a:ext cx="305928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0" y="25992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Some viruses are </a:t>
            </a: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enveloped</a:t>
            </a: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others are </a:t>
            </a: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naked</a:t>
            </a: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Vary in size from 20-300 n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9" name="Picture 10" descr=""/>
          <p:cNvPicPr/>
          <p:nvPr/>
        </p:nvPicPr>
        <p:blipFill>
          <a:blip r:embed="rId1"/>
          <a:stretch/>
        </p:blipFill>
        <p:spPr>
          <a:xfrm>
            <a:off x="5651640" y="476280"/>
            <a:ext cx="3492360" cy="32814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6" descr=""/>
          <p:cNvPicPr/>
          <p:nvPr/>
        </p:nvPicPr>
        <p:blipFill>
          <a:blip r:embed="rId2"/>
          <a:stretch/>
        </p:blipFill>
        <p:spPr>
          <a:xfrm>
            <a:off x="0" y="3789360"/>
            <a:ext cx="647712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142920" y="142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Viruses are examined only by Electron microscop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Viruses Can infect humans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animals, plants and bacteri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Viruses that infect bacteria ar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called </a:t>
            </a:r>
            <a:r>
              <a:rPr b="1" lang="en-US" sz="2700" spc="-1" strike="noStrike">
                <a:solidFill>
                  <a:srgbClr val="000000"/>
                </a:solidFill>
                <a:latin typeface="Bell MT"/>
              </a:rPr>
              <a:t>bacteriophag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2" name="Picture 2" descr="C:\Users\Guest\Pictures\bacteriophage.bmp"/>
          <p:cNvPicPr/>
          <p:nvPr/>
        </p:nvPicPr>
        <p:blipFill>
          <a:blip r:embed="rId1"/>
          <a:stretch/>
        </p:blipFill>
        <p:spPr>
          <a:xfrm>
            <a:off x="6084720" y="2276640"/>
            <a:ext cx="3059280" cy="24224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6" descr=""/>
          <p:cNvPicPr/>
          <p:nvPr/>
        </p:nvPicPr>
        <p:blipFill>
          <a:blip r:embed="rId2"/>
          <a:stretch/>
        </p:blipFill>
        <p:spPr>
          <a:xfrm>
            <a:off x="6083280" y="4686480"/>
            <a:ext cx="306072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68360" y="1196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Common stages of life cycl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1- </a:t>
            </a:r>
            <a:r>
              <a:rPr b="1" lang="en-US" sz="2400" spc="-1" strike="noStrike">
                <a:solidFill>
                  <a:srgbClr val="000000"/>
                </a:solidFill>
                <a:latin typeface="Bell MT"/>
              </a:rPr>
              <a:t>Trophozoite: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 active growing stag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2- </a:t>
            </a:r>
            <a:r>
              <a:rPr b="1" lang="en-US" sz="2400" spc="-1" strike="noStrike">
                <a:solidFill>
                  <a:srgbClr val="000000"/>
                </a:solidFill>
                <a:latin typeface="Bell MT"/>
              </a:rPr>
              <a:t>Cyst: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 resting non active stag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Can infect all major tissues and organs of the body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ll MT"/>
              </a:rPr>
              <a:t>Transmission of protozoan parasites b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1- injection via bites of blood sucking insect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2- ingestion of infective stage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Bell MT"/>
              </a:rPr>
              <a:t>protozoa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Content Placeholder 3" descr="virus_types.gif"/>
          <p:cNvPicPr/>
          <p:nvPr/>
        </p:nvPicPr>
        <p:blipFill>
          <a:blip r:embed="rId1"/>
          <a:stretch/>
        </p:blipFill>
        <p:spPr>
          <a:xfrm>
            <a:off x="395280" y="620640"/>
            <a:ext cx="83422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10" descr="C:\Users\win7\Downloads\images.jpg"/>
          <p:cNvPicPr/>
          <p:nvPr/>
        </p:nvPicPr>
        <p:blipFill>
          <a:blip r:embed="rId1"/>
          <a:stretch/>
        </p:blipFill>
        <p:spPr>
          <a:xfrm>
            <a:off x="4140360" y="4667400"/>
            <a:ext cx="2735280" cy="2190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C:\Users\win7\Downloads\mc15g01-fig-0001-1-full.jpg"/>
          <p:cNvPicPr/>
          <p:nvPr/>
        </p:nvPicPr>
        <p:blipFill>
          <a:blip r:embed="rId2"/>
          <a:stretch/>
        </p:blipFill>
        <p:spPr>
          <a:xfrm>
            <a:off x="6227640" y="333360"/>
            <a:ext cx="2484720" cy="454176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 txBox="1"/>
          <p:nvPr/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29680" indent="-16092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Cultivation of viruses 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29680" indent="-16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29680" indent="-16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A) Animal inoculation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29680" indent="-16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eg: mic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29680" indent="-16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29680" indent="-16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b) Embryonated egg inoculatio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29680" indent="-16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29680" indent="-16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29680" indent="-16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29680" indent="-16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C) Tissue cell culture (see CPE)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29680" indent="-16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29680" indent="-16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29680" indent="-16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29680" indent="-16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29680" indent="-16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8" name="Picture 16" descr="C:\Users\Guest\Pictures\imagesCAX4RB9U.jpg"/>
          <p:cNvPicPr/>
          <p:nvPr/>
        </p:nvPicPr>
        <p:blipFill>
          <a:blip r:embed="rId3"/>
          <a:stretch/>
        </p:blipFill>
        <p:spPr>
          <a:xfrm>
            <a:off x="4788000" y="549360"/>
            <a:ext cx="226836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 txBox="1"/>
          <p:nvPr/>
        </p:nvSpPr>
        <p:spPr>
          <a:xfrm>
            <a:off x="0" y="259920"/>
            <a:ext cx="8229600" cy="42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48040" indent="-17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248040" indent="-17352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Cytopathic effects (CPE)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48040" indent="-17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Is the morphological changes in cell caused by th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48040" indent="-17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viral infectio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48040" indent="-17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48040" indent="-17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48040" indent="-17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48040" indent="-17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48040" indent="-17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48040" indent="-17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ll MT"/>
              </a:rPr>
              <a:t>Figure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48040" indent="-17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ll MT"/>
              </a:rPr>
              <a:t>a. Monolayer of normal fetal tonsil cell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48040" indent="-17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ll MT"/>
              </a:rPr>
              <a:t>b. tonsil cells with adenovirus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48040" indent="-17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ll MT"/>
              </a:rPr>
              <a:t>c. tonsil cells with herpes simplex infecti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48040" indent="-17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ll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ell MT"/>
              </a:rPr>
              <a:t>and monolayer destroyed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48040" indent="-17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48040" indent="-17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0" name="Picture 2" descr=""/>
          <p:cNvPicPr/>
          <p:nvPr/>
        </p:nvPicPr>
        <p:blipFill>
          <a:blip r:embed="rId1"/>
          <a:stretch/>
        </p:blipFill>
        <p:spPr>
          <a:xfrm>
            <a:off x="4765680" y="1484280"/>
            <a:ext cx="39132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8a2e4e"/>
                </a:solidFill>
                <a:latin typeface="Bell MT"/>
              </a:rPr>
              <a:t>Protozoa move by</a:t>
            </a:r>
            <a:r>
              <a:rPr b="1" lang="en-US" sz="4100" spc="-1" strike="noStrike">
                <a:solidFill>
                  <a:srgbClr val="8a2e4e"/>
                </a:solidFill>
                <a:latin typeface="Bell MT"/>
              </a:rPr>
              <a:t> </a:t>
            </a:r>
            <a:r>
              <a:rPr b="1" lang="en-US" sz="4100" spc="-1" strike="noStrike">
                <a:solidFill>
                  <a:srgbClr val="b13f9a"/>
                </a:solidFill>
                <a:latin typeface="Bell MT"/>
              </a:rPr>
              <a:t>: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b83d68"/>
          </a:solidFill>
          <a:ln w="9720">
            <a:solidFill>
              <a:srgbClr val="b83d68"/>
            </a:solidFill>
            <a:miter/>
          </a:ln>
        </p:spPr>
        <p:txBody>
          <a:bodyPr lIns="182880" anchor="ctr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b83d68"/>
          </a:solidFill>
          <a:ln w="9720">
            <a:solidFill>
              <a:srgbClr val="b83d68"/>
            </a:solidFill>
            <a:miter/>
          </a:ln>
        </p:spPr>
        <p:txBody>
          <a:bodyPr lIns="182880" anchor="ctr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2e4e"/>
                </a:solidFill>
                <a:latin typeface="Bell MT"/>
              </a:rPr>
              <a:t>Psuedopod: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 (extending part of protoplasm    towards direction of movement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Example: Entamoeba specie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2e4e"/>
                </a:solidFill>
                <a:latin typeface="Bell MT"/>
              </a:rPr>
              <a:t>Flagella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Example: Trypanosoma species, Giardia Lambli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Picture 2" descr="C:\Users\Najola\Desktop\psuedopods.jpg"/>
          <p:cNvPicPr/>
          <p:nvPr/>
        </p:nvPicPr>
        <p:blipFill>
          <a:blip r:embed="rId1"/>
          <a:stretch/>
        </p:blipFill>
        <p:spPr>
          <a:xfrm>
            <a:off x="4932360" y="981000"/>
            <a:ext cx="3232080" cy="24908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" descr="C:\Users\Najola\Desktop\flagella.jpg"/>
          <p:cNvPicPr/>
          <p:nvPr/>
        </p:nvPicPr>
        <p:blipFill>
          <a:blip r:embed="rId2"/>
          <a:stretch/>
        </p:blipFill>
        <p:spPr>
          <a:xfrm>
            <a:off x="5364000" y="3500280"/>
            <a:ext cx="242424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a2e4e"/>
                </a:solidFill>
                <a:latin typeface="Bell MT"/>
              </a:rPr>
              <a:t>Cilia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Example: Balantidium coli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a2e4e"/>
                </a:solidFill>
                <a:latin typeface="Bell MT"/>
              </a:rPr>
              <a:t>non motil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Example : Plasmodium spec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(ring stag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 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pic>
        <p:nvPicPr>
          <p:cNvPr id="396" name="Picture 2" descr="C:\Users\Najola\Desktop\cilia.jpg"/>
          <p:cNvPicPr/>
          <p:nvPr/>
        </p:nvPicPr>
        <p:blipFill>
          <a:blip r:embed="rId1"/>
          <a:stretch/>
        </p:blipFill>
        <p:spPr>
          <a:xfrm>
            <a:off x="7236000" y="476280"/>
            <a:ext cx="1711080" cy="21384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4" descr="C:\Users\Najola\Desktop\cilia1.jpg"/>
          <p:cNvPicPr/>
          <p:nvPr/>
        </p:nvPicPr>
        <p:blipFill>
          <a:blip r:embed="rId2"/>
          <a:stretch/>
        </p:blipFill>
        <p:spPr>
          <a:xfrm>
            <a:off x="4859280" y="1341360"/>
            <a:ext cx="2382840" cy="25923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C:\Documents and Settings\user\My Documents\My Pictures\Pf_MaurersC.jpg"/>
          <p:cNvPicPr/>
          <p:nvPr/>
        </p:nvPicPr>
        <p:blipFill>
          <a:blip r:embed="rId3"/>
          <a:stretch/>
        </p:blipFill>
        <p:spPr>
          <a:xfrm>
            <a:off x="5724360" y="4076640"/>
            <a:ext cx="272124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  <a:ea typeface="Times New Roman"/>
              </a:rPr>
              <a:t>Entamoeba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b83d68"/>
          </a:solidFill>
          <a:ln w="9720">
            <a:solidFill>
              <a:srgbClr val="b83d68"/>
            </a:solidFill>
            <a:miter/>
          </a:ln>
        </p:spPr>
        <p:txBody>
          <a:bodyPr lIns="1828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Trophozoit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b83d68"/>
          </a:solidFill>
          <a:ln w="9720">
            <a:solidFill>
              <a:srgbClr val="b83d68"/>
            </a:solidFill>
            <a:miter/>
          </a:ln>
        </p:spPr>
        <p:txBody>
          <a:bodyPr lIns="1828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Cys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Picture 4" descr="C:\Documents and Settings\user\My Documents\My Pictures\entamoebahistolitica.jpg"/>
          <p:cNvPicPr/>
          <p:nvPr/>
        </p:nvPicPr>
        <p:blipFill>
          <a:blip r:embed="rId1"/>
          <a:stretch/>
        </p:blipFill>
        <p:spPr>
          <a:xfrm>
            <a:off x="1004760" y="2324160"/>
            <a:ext cx="2944800" cy="218268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Picture 5" descr="C:\Documents and Settings\user\My Documents\My Pictures\histolytica.jpg"/>
          <p:cNvPicPr/>
          <p:nvPr/>
        </p:nvPicPr>
        <p:blipFill>
          <a:blip r:embed="rId2"/>
          <a:stretch/>
        </p:blipFill>
        <p:spPr>
          <a:xfrm>
            <a:off x="5508720" y="1484280"/>
            <a:ext cx="1904760" cy="14860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" descr="C:\Documents and Settings\user\My Documents\My Pictures\entamoeba-histolytica-2.jpg"/>
          <p:cNvPicPr/>
          <p:nvPr/>
        </p:nvPicPr>
        <p:blipFill>
          <a:blip r:embed="rId3"/>
          <a:stretch/>
        </p:blipFill>
        <p:spPr>
          <a:xfrm>
            <a:off x="5148360" y="3141720"/>
            <a:ext cx="273852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100" spc="-1" strike="noStrike">
                <a:solidFill>
                  <a:srgbClr val="b13f9a"/>
                </a:solidFill>
                <a:latin typeface="Lucida Sans Unicode"/>
              </a:rPr>
              <a:t> 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b83d68"/>
          </a:solidFill>
          <a:ln w="9720">
            <a:solidFill>
              <a:srgbClr val="b83d68"/>
            </a:solidFill>
            <a:miter/>
          </a:ln>
        </p:spPr>
        <p:txBody>
          <a:bodyPr lIns="182880" anchor="ctr">
            <a:normAutofit fontScale="91000"/>
          </a:bodyPr>
          <a:p>
            <a:pPr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  <a:ea typeface="Times New Roman"/>
              </a:rPr>
              <a:t>Protozo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Lucida Sans Unicode"/>
                <a:ea typeface="Times New Roman"/>
              </a:rPr>
              <a:t>Trypanosom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b83d68"/>
          </a:solidFill>
          <a:ln w="9720">
            <a:solidFill>
              <a:srgbClr val="b83d68"/>
            </a:solidFill>
            <a:miter/>
          </a:ln>
        </p:spPr>
        <p:txBody>
          <a:bodyPr lIns="182880" anchor="ctr">
            <a:normAutofit fontScale="91000"/>
          </a:bodyPr>
          <a:p>
            <a:pPr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  <a:ea typeface="Times New Roman"/>
              </a:rPr>
              <a:t>Protozo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Lucida Sans Unicode"/>
                <a:ea typeface="Times New Roman"/>
              </a:rPr>
              <a:t>Balantidium coli cys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Picture 4" descr="C:\Documents and Settings\user\My Documents\My Pictures\tryp9.jpg"/>
          <p:cNvPicPr/>
          <p:nvPr/>
        </p:nvPicPr>
        <p:blipFill>
          <a:blip r:embed="rId1"/>
          <a:stretch/>
        </p:blipFill>
        <p:spPr>
          <a:xfrm>
            <a:off x="506520" y="1444680"/>
            <a:ext cx="3941640" cy="39416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user\My Documents\My Pictures\balantidiumcisto3.jpg"/>
          <p:cNvPicPr/>
          <p:nvPr/>
        </p:nvPicPr>
        <p:blipFill>
          <a:blip r:embed="rId2"/>
          <a:stretch/>
        </p:blipFill>
        <p:spPr>
          <a:xfrm>
            <a:off x="4859280" y="1484280"/>
            <a:ext cx="368460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Multicellular organisms with organ systems as digestive, nervous , excretory syste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Have complicated life cycl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Mostly have different stages of life cycle which are: ova(egg), larvae (Adult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Adult worms can measure centimeters or even meters lo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Extracellular parasit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Bell MT"/>
                <a:ea typeface="Times New Roman"/>
              </a:rPr>
              <a:t>Helminths(worms)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Are classified according to shape into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1- </a:t>
            </a:r>
            <a:r>
              <a:rPr b="1" lang="en-US" sz="2700" spc="-1" strike="noStrike">
                <a:solidFill>
                  <a:srgbClr val="a34b73"/>
                </a:solidFill>
                <a:latin typeface="Bell MT"/>
              </a:rPr>
              <a:t>Nematodes</a:t>
            </a: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 (round worms) cylindrical th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Example: Ascaris lumbricoid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2- </a:t>
            </a:r>
            <a:r>
              <a:rPr b="1" lang="en-US" sz="2700" spc="-1" strike="noStrike">
                <a:solidFill>
                  <a:srgbClr val="a34b73"/>
                </a:solidFill>
                <a:latin typeface="Bell MT"/>
              </a:rPr>
              <a:t>Cestodes</a:t>
            </a: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 ( tape worms)flat long wor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        </a:t>
            </a: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Example: Tenia saginata,tenia soliu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3- </a:t>
            </a:r>
            <a:r>
              <a:rPr b="1" lang="en-US" sz="2700" spc="-1" strike="noStrike">
                <a:solidFill>
                  <a:srgbClr val="a34b73"/>
                </a:solidFill>
                <a:latin typeface="Bell MT"/>
              </a:rPr>
              <a:t>Trematodes</a:t>
            </a: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( Flukes)leaf like flat wor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        </a:t>
            </a: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Example: Schistosoma spec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Bell MT"/>
                <a:ea typeface="Times New Roman"/>
              </a:rPr>
              <a:t>Helminths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7T17:39:13Z</dcterms:created>
  <dc:creator>ksu</dc:creator>
  <dc:description/>
  <dc:language>en-US</dc:language>
  <cp:lastModifiedBy>اميرة الحوالي</cp:lastModifiedBy>
  <dcterms:modified xsi:type="dcterms:W3CDTF">2014-01-27T08:29:36Z</dcterms:modified>
  <cp:revision>110</cp:revision>
  <dc:subject/>
  <dc:title>Slide 1</dc:title>
</cp:coreProperties>
</file>