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55.jpeg" ContentType="image/jpeg"/>
  <Override PartName="/ppt/media/image43.png" ContentType="image/png"/>
  <Override PartName="/ppt/media/image54.jpeg" ContentType="image/jpeg"/>
  <Override PartName="/ppt/media/image33.png" ContentType="image/png"/>
  <Override PartName="/ppt/media/image39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12.jpeg" ContentType="image/jpeg"/>
  <Override PartName="/ppt/media/image27.png" ContentType="image/png"/>
  <Override PartName="/ppt/media/image2.png" ContentType="image/png"/>
  <Override PartName="/ppt/media/image25.jpeg" ContentType="image/jpeg"/>
  <Override PartName="/ppt/media/image14.jpeg" ContentType="image/jpeg"/>
  <Override PartName="/ppt/media/image15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3.png" ContentType="image/png"/>
  <Override PartName="/ppt/media/image17.jpeg" ContentType="image/jpeg"/>
  <Override PartName="/ppt/media/image61.jpeg" ContentType="image/jpeg"/>
  <Override PartName="/ppt/media/image52.jpeg" ContentType="image/jpeg"/>
  <Override PartName="/ppt/media/image1.png" ContentType="image/png"/>
  <Override PartName="/ppt/media/image59.png" ContentType="image/png"/>
  <Override PartName="/ppt/media/image24.jpeg" ContentType="image/jpeg"/>
  <Override PartName="/ppt/media/image16.jpeg" ContentType="image/jpeg"/>
  <Override PartName="/ppt/media/image60.jpeg" ContentType="image/jpeg"/>
  <Override PartName="/ppt/media/image30.png" ContentType="image/png"/>
  <Override PartName="/ppt/media/image37.jpeg" ContentType="image/jpeg"/>
  <Override PartName="/ppt/media/image49.png" ContentType="image/png"/>
  <Override PartName="/ppt/media/image23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26.jpeg" ContentType="image/jpeg"/>
  <Override PartName="/ppt/media/image42.png" ContentType="image/png"/>
  <Override PartName="/ppt/media/image11.jpeg" ContentType="image/jpeg"/>
  <Override PartName="/ppt/media/image28.jpeg" ContentType="image/jpeg"/>
  <Override PartName="/ppt/media/image4.png" ContentType="image/png"/>
  <Override PartName="/ppt/media/image7.jpeg" ContentType="image/jpeg"/>
  <Override PartName="/ppt/media/image35.jpeg" ContentType="image/jpeg"/>
  <Override PartName="/ppt/media/image47.png" ContentType="image/png"/>
  <Override PartName="/ppt/media/image31.jpeg" ContentType="image/jpeg"/>
  <Override PartName="/ppt/media/image32.jpeg" ContentType="image/jpeg"/>
  <Override PartName="/ppt/media/image34.jpeg" ContentType="image/jpeg"/>
  <Override PartName="/ppt/media/image10.png" ContentType="image/png"/>
  <Override PartName="/ppt/media/image36.jpeg" ContentType="image/jpeg"/>
  <Override PartName="/ppt/media/image57.png" ContentType="image/png"/>
  <Override PartName="/ppt/media/image41.png" ContentType="image/png"/>
  <Override PartName="/ppt/media/image45.png" ContentType="image/png"/>
  <Override PartName="/ppt/media/image46.jpeg" ContentType="image/jpeg"/>
  <Override PartName="/ppt/media/image48.jpeg" ContentType="image/jpeg"/>
  <Override PartName="/ppt/media/image50.jpeg" ContentType="image/jpeg"/>
  <Override PartName="/ppt/media/image51.png" ContentType="image/png"/>
  <Override PartName="/ppt/media/image56.jpeg" ContentType="image/jpeg"/>
  <Override PartName="/ppt/media/image53.png" ContentType="image/png"/>
  <Override PartName="/ppt/media/image5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3305-8E77-4B97-B87E-87FAFC4D822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F60C-0599-43BC-B93D-15716D36C2C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1B8A-0414-4E2A-8F90-E1F68A27E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D175-6246-4EFD-B532-D3796762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334B-98BA-4F7F-9342-E2D93EE9B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02DA-F932-4D7B-8C17-3A2AA3DCC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BFB0-FE22-49C8-BA72-38E190310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7FFE-C078-4A0D-9A21-BF4D8A53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ABF3-197F-4395-B9CD-6443B2F9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D42F-279B-4B38-A300-D8BD4A6B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4489-3D03-47B4-A919-06A282DB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B01C-F0ED-4E66-AF8B-1E63F9FA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D050-94A7-4C24-8DEB-0A8DA77B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C04B-A7E1-4965-B984-61C91FB9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8932-1FE6-4356-BDED-66C16EF3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D1F9-72DF-4F33-80C5-FB9F2235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3E6A-315F-44BE-A07F-D54D22F8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71A3-83CC-4BC8-A556-A1C7DB7DD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659E-FFD4-4B3E-B64E-244F96C4B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A1BEC-51E8-45AE-AC36-F673BB169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5C6DE-CE94-4502-891D-A030840F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5E903-F93B-41C1-B843-2FCFF104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3368B-0AC1-4DF5-A1AF-F84353EB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F88A7-117A-402F-9321-FC18E418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0A39-2C83-4B41-9DF6-4F2E2662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9C819-BACE-4DF6-822A-C8DADBC4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6077F-1E5D-4545-BB6F-2B66E87E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6E008-F872-4F75-A8A2-3F755124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337E3-BCD4-4332-8A33-391AA213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184A9-7EF4-41BD-9947-F635049C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A5B79-4D9E-46A8-BA69-00822435B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DE05A-58EB-41BF-9257-A4D7746CE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B9914-DF7E-46FA-9CE4-961EA8881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7C528-4094-4DFC-9A8F-4AC88E84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5E308-29AD-48CC-A4CB-0848AA7E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02FE-E05B-437F-A085-CC2E8CFD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A9EE1-1FBD-4421-B76E-C298B8BB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B3CE6-A92F-4098-9401-823B837D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50EF6-0E5A-4DFD-8B43-3ECA37E5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9FC28-C6AB-4D95-A1F7-D0482B49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8C049-AFC8-49E8-930A-F31BDEF4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ED50B-E131-49F4-B977-2A376AEA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49A58-2698-41CA-BA0F-7C5DB498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0AA68-C9DD-4C27-8FAD-4C9BEC2E3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E46FF-F0F8-43BD-8118-480579454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8F63B-BC56-42FB-90E5-FCF8EFF71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2182-2FAC-4D60-8972-118CE86D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3A366-B085-427C-93B4-6176EAFD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96941-8E17-4B94-B764-757EED0C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BCBB8-8671-407D-9FE3-553CDA62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BB43A-9D69-4E0A-BFC1-0DCF3645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8B9E6-CFFC-415C-8ACC-B185F8A4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624D6-FC1C-4CDF-BC55-E097A30B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DDF34-7BE3-4F4A-A37B-FE41DE6D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E2068-FC94-4AB4-AF88-5C5FB76A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5C8E4-F0A3-4A4B-AA39-44C08003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8E28F-FA0D-48D7-8149-6EB159409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7E5F-BBA7-4E17-9B51-E2FEEF4C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5BCE8-8758-4E2B-9CB2-4BB919251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AEFB4-E16C-46DD-9A25-AAC78AE1E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6D28F-8F12-45D8-89C3-B46F7465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20DE2-A0A5-4967-A111-4E5F2A03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8F22E-5D4F-49F2-9215-7132D1E3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BE780-BD1C-4B51-9F97-B00D983A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56215-CAF9-4866-9280-47C3673B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9C192-421C-4E08-90A8-EB9B6476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AFE97-CF3D-49ED-A9DE-F4188B61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9624D-C2F8-4A15-B12C-62A6C3E1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6F6A-6B58-41E1-A631-88835BE0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B4AE5-9254-48CC-A082-66B34467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25E30-A6DF-4582-B63E-60CF34DCA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9A11F-79E4-4104-B7FC-DCFC35C91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27507-3614-4F76-BEBE-CD5EB61AF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4BA2D-C814-445E-AF6D-CFBD3607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6DDF2-9B7D-48D6-B5B3-D588DA76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8F99E-42DD-4BBD-89EA-84515AD9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11C54-13CB-448B-A9E3-AE4DC053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F7ABB-E044-471D-AFBE-91FADA2A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5E8FB-960F-4C15-A0FE-71300ED5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2D8A-4479-48E7-AC75-5FA6D2AA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709CD-AFDF-4C9F-9E4C-70EC9768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7B709-3978-4352-BD6A-7CA89A1E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7FE5B-1F83-4088-8D6A-06363996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FE544-A2FE-4996-8260-25AF1A257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321D9-2069-46FC-8A5D-6F50E357A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91BBE-EBA2-4697-B361-E5D9F1952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2E90A-FCDA-4573-9522-F89E19B2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EEBBC-385B-41E1-9D0F-EC396BEF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A8013-2347-456D-A55D-CA909367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271D3-F414-4C1E-A76B-5582004A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378F-875F-48BA-8C8B-DD227CBA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01988-4792-4909-B52D-879D7836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5A453-7FB5-49A9-AE1E-B952A46A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F258C-5DE6-4BFA-8B24-1EE866F5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B0463-9568-49F6-8034-9F686554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922A3-FD75-46C6-8D6D-3E6487DA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11517-9C4F-42B0-A52E-3F1C6F1DB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E78E7-083A-45BF-8AE3-3A5D5512B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42AF-41B7-47C5-A800-95CD759CFF05}" type="datetime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١٤٤٨/٠٢/١٥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68C1-677E-4C7E-A268-840E55A7B39F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8e0736"/>
              </a:gs>
              <a:gs pos="50000">
                <a:srgbClr val="d75379"/>
              </a:gs>
              <a:gs pos="100000">
                <a:srgbClr val="8e0736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d8a2a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A18B-1EDF-4DDB-BD34-7AC385793446}" type="datetime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١٤٤٨/٠٢/١٥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07EC-355D-4820-9C12-5545AF14F0D1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270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270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4615-AC47-425B-BC45-09ED1F0AFE35}" type="datetime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١٤٤٨/٠٢/١٥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77DF-7F4E-44B4-8F95-A9D37E93DFF1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1330-21CC-4CBD-A0CD-EB06203FE569}" type="datetime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١٤٤٨/٠٢/١٥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FA36-C7E4-4166-9AD4-54738A074DCB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8625-065A-45FD-A22E-4D657B5F3F44}" type="datetime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١٤٤٨/٠٢/١٥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7614-251F-4495-80A8-4B941C7C5E30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7980-560D-408D-A689-F952F4CAAF4D}" type="datetime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١٤٤٨/٠٢/١٥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4918-CE6A-40FD-AC9E-E963311258E0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7179-0FFF-4BD4-A48B-70C4A6D70784}" type="datetime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١٤٤٨/٠٢/١٥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17B7-E711-4AF1-933E-7B3734EF1BA7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270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270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0E45-6088-409A-8B8D-35A41C04E94E}" type="datetime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١٤٤٨/٠٢/١٥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F8BA-1ACC-4EE8-B197-251F60A43412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tato" TargetMode="External"/><Relationship Id="rId2" Type="http://schemas.openxmlformats.org/officeDocument/2006/relationships/hyperlink" Target="http://en.wikipedia.org/wiki/Glucose" TargetMode="External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image" Target="../media/image49.pn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7" descr="images.jpeg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26370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3" descr="C:\Users\Guest\Pictures\imagesCAJPF4ZW.jpg"/>
          <p:cNvPicPr/>
          <p:nvPr/>
        </p:nvPicPr>
        <p:blipFill>
          <a:blip r:embed="rId2"/>
          <a:stretch/>
        </p:blipFill>
        <p:spPr>
          <a:xfrm>
            <a:off x="0" y="0"/>
            <a:ext cx="3276720" cy="32004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0" descr="C:\Users\Guest\Pictures\untitled.bmp"/>
          <p:cNvPicPr/>
          <p:nvPr/>
        </p:nvPicPr>
        <p:blipFill>
          <a:blip r:embed="rId3"/>
          <a:stretch/>
        </p:blipFill>
        <p:spPr>
          <a:xfrm>
            <a:off x="5796000" y="2590920"/>
            <a:ext cx="3348000" cy="2638440"/>
          </a:xfrm>
          <a:prstGeom prst="rect">
            <a:avLst/>
          </a:prstGeom>
          <a:ln w="0">
            <a:noFill/>
          </a:ln>
        </p:spPr>
      </p:pic>
      <p:pic>
        <p:nvPicPr>
          <p:cNvPr id="380" name="Title 1" descr=""/>
          <p:cNvPicPr/>
          <p:nvPr/>
        </p:nvPicPr>
        <p:blipFill>
          <a:blip r:embed="rId4"/>
          <a:stretch/>
        </p:blipFill>
        <p:spPr>
          <a:xfrm>
            <a:off x="682560" y="762120"/>
            <a:ext cx="7772400" cy="37796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4" descr="C:\Users\Guest\Pictures\f.jpg"/>
          <p:cNvPicPr/>
          <p:nvPr/>
        </p:nvPicPr>
        <p:blipFill>
          <a:blip r:embed="rId5"/>
          <a:stretch/>
        </p:blipFill>
        <p:spPr>
          <a:xfrm>
            <a:off x="0" y="2743200"/>
            <a:ext cx="3276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C:\Documents and Settings\user\My Documents\My Pictures\asc6.jpg"/>
          <p:cNvPicPr/>
          <p:nvPr/>
        </p:nvPicPr>
        <p:blipFill>
          <a:blip r:embed="rId1"/>
          <a:stretch/>
        </p:blipFill>
        <p:spPr>
          <a:xfrm>
            <a:off x="2349360" y="1522440"/>
            <a:ext cx="4445280" cy="444492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b13f9a"/>
                </a:solidFill>
                <a:latin typeface="Lucida Sans Unicode"/>
                <a:ea typeface="Times New Roman"/>
              </a:rPr>
              <a:t>Helminths</a:t>
            </a:r>
            <a:br>
              <a:rPr sz="3700"/>
            </a:br>
            <a:r>
              <a:rPr b="1" lang="en-US" sz="3700" spc="-1" strike="noStrike">
                <a:solidFill>
                  <a:srgbClr val="b13f9a"/>
                </a:solidFill>
                <a:latin typeface="Lucida Sans Unicode"/>
                <a:ea typeface="Times New Roman"/>
              </a:rPr>
              <a:t>Ascaris lumbricoides egg</a:t>
            </a:r>
            <a:endParaRPr b="1" lang="en-US" sz="3700" spc="-1" strike="noStrike">
              <a:solidFill>
                <a:srgbClr val="b13f9a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2" descr="C:\Documents and Settings\user\My Documents\My Pictures\Taeniaegg2asm.jpg"/>
          <p:cNvPicPr/>
          <p:nvPr/>
        </p:nvPicPr>
        <p:blipFill>
          <a:blip r:embed="rId1"/>
          <a:stretch/>
        </p:blipFill>
        <p:spPr>
          <a:xfrm>
            <a:off x="1332000" y="2205000"/>
            <a:ext cx="2847960" cy="258120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b13f9a"/>
                </a:solidFill>
                <a:latin typeface="Lucida Sans Unicode"/>
                <a:ea typeface="Times New Roman"/>
              </a:rPr>
              <a:t>Helminths</a:t>
            </a:r>
            <a:br>
              <a:rPr sz="3700"/>
            </a:br>
            <a:r>
              <a:rPr b="1" lang="en-US" sz="3700" spc="-1" strike="noStrike">
                <a:solidFill>
                  <a:srgbClr val="b13f9a"/>
                </a:solidFill>
                <a:latin typeface="Lucida Sans Unicode"/>
                <a:ea typeface="Times New Roman"/>
              </a:rPr>
              <a:t>Tenia saginata adult and ova</a:t>
            </a:r>
            <a:endParaRPr b="1" lang="en-US" sz="3700" spc="-1" strike="noStrike">
              <a:solidFill>
                <a:srgbClr val="b13f9a"/>
              </a:solidFill>
              <a:latin typeface="Lucida Sans Unicode"/>
            </a:endParaRPr>
          </a:p>
        </p:txBody>
      </p:sp>
      <p:pic>
        <p:nvPicPr>
          <p:cNvPr id="419" name="Picture 3" descr="C:\Documents and Settings\user\My Documents\My Pictures\taenia_saginata-.jpg"/>
          <p:cNvPicPr/>
          <p:nvPr/>
        </p:nvPicPr>
        <p:blipFill>
          <a:blip r:embed="rId2"/>
          <a:stretch/>
        </p:blipFill>
        <p:spPr>
          <a:xfrm>
            <a:off x="4932360" y="2349360"/>
            <a:ext cx="297180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C:\Documents and Settings\user\My Documents\My Pictures\schist11.jpg"/>
          <p:cNvPicPr/>
          <p:nvPr/>
        </p:nvPicPr>
        <p:blipFill>
          <a:blip r:embed="rId1"/>
          <a:stretch/>
        </p:blipFill>
        <p:spPr>
          <a:xfrm>
            <a:off x="2349360" y="1522440"/>
            <a:ext cx="4445280" cy="444492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b13f9a"/>
                </a:solidFill>
                <a:latin typeface="Lucida Sans Unicode"/>
                <a:ea typeface="Times New Roman"/>
              </a:rPr>
              <a:t>Helminths</a:t>
            </a:r>
            <a:br>
              <a:rPr sz="3700"/>
            </a:br>
            <a:r>
              <a:rPr b="1" lang="en-US" sz="3700" spc="-1" strike="noStrike">
                <a:solidFill>
                  <a:srgbClr val="b13f9a"/>
                </a:solidFill>
                <a:latin typeface="Lucida Sans Unicode"/>
                <a:ea typeface="Times New Roman"/>
              </a:rPr>
              <a:t>Schistosoma ova</a:t>
            </a:r>
            <a:endParaRPr b="1" lang="en-US" sz="3700" spc="-1" strike="noStrike">
              <a:solidFill>
                <a:srgbClr val="b13f9a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Are insects such as bugs ,fleas, biting flies, mosquitoes etc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Harmful effects of arthropod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1) Discomfort, transmission of diseases ( malaria, yellow fever, typhus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2) cause disease (amoebic dysentery, bilharzias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  <a:ea typeface="Times New Roman"/>
              </a:rPr>
              <a:t>Arthropods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Fungi: </a:t>
            </a: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Group of Heterotrophic Eukaryotes cell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Fungi are called Saprophytes because they obtain nutrients from dead organic material. Some fungi can absorb organic nutrients from living tussue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Classification of Fungi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Bell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Yeast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Bell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Mold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Title 1" descr=""/>
          <p:cNvPicPr/>
          <p:nvPr/>
        </p:nvPicPr>
        <p:blipFill>
          <a:blip r:embed="rId1"/>
          <a:stretch/>
        </p:blipFill>
        <p:spPr>
          <a:xfrm>
            <a:off x="0" y="262080"/>
            <a:ext cx="822960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0" y="404640"/>
            <a:ext cx="914400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88a3"/>
                </a:solidFill>
                <a:latin typeface="Bell MT"/>
              </a:rPr>
              <a:t>1)Yeast: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Oval, spherical, tear drop shape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Single cell (unicellular)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One nucleu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Multiply asexual by budding resulting in production of two cell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Picture 23" descr="C:\Users\Guest\Pictures\yeastm.jpg"/>
          <p:cNvPicPr/>
          <p:nvPr/>
        </p:nvPicPr>
        <p:blipFill>
          <a:blip r:embed="rId1"/>
          <a:stretch/>
        </p:blipFill>
        <p:spPr>
          <a:xfrm>
            <a:off x="1219320" y="3546360"/>
            <a:ext cx="3124080" cy="23400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22" descr="C:\Users\Guest\Pictures\yeast.jpg"/>
          <p:cNvPicPr/>
          <p:nvPr/>
        </p:nvPicPr>
        <p:blipFill>
          <a:blip r:embed="rId2"/>
          <a:stretch/>
        </p:blipFill>
        <p:spPr>
          <a:xfrm>
            <a:off x="4648320" y="3505320"/>
            <a:ext cx="25146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88a3"/>
                </a:solidFill>
                <a:latin typeface="Bell MT"/>
              </a:rPr>
              <a:t>2)Mold: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Consist of branching hyphae forming mycelium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Multicellular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Multinucleated cell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Reproduce sexually and asexually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 algn="r" rtl="1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0" y="1213920"/>
            <a:ext cx="9144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1) PH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Grow within a wide range pH especially acidic (4-6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2) </a:t>
            </a: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Temp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Room temperature: superficial infection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37C: Systemic infection (pathogenic Fungi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Cold temp: Spoilage of food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3) </a:t>
            </a: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Humidity: 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Prefer moist or humid atmosphere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1" name="Titl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3"/>
          <p:cNvSpPr/>
          <p:nvPr/>
        </p:nvSpPr>
        <p:spPr>
          <a:xfrm>
            <a:off x="0" y="0"/>
            <a:ext cx="9144000" cy="44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34b73"/>
                </a:solidFill>
                <a:latin typeface="Bell MT"/>
              </a:rPr>
              <a:t>4) </a:t>
            </a:r>
            <a:r>
              <a:rPr b="1" lang="en-US" sz="3200" spc="-1" strike="noStrike">
                <a:solidFill>
                  <a:srgbClr val="a34b73"/>
                </a:solidFill>
                <a:latin typeface="Bell MT"/>
              </a:rPr>
              <a:t>Medi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Sabouraud Dextrose agar media </a:t>
            </a:r>
            <a:r>
              <a:rPr b="1" lang="en-US" sz="2400" spc="-1" strike="noStrike">
                <a:solidFill>
                  <a:srgbClr val="000000"/>
                </a:solidFill>
                <a:latin typeface="Bell MT"/>
              </a:rPr>
              <a:t>(SD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Contai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source of protein ----(pept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source of carbohydrate ---(dextro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Potato Dextrose Agar </a:t>
            </a:r>
            <a:r>
              <a:rPr b="1" lang="en-US" sz="2400" spc="-1" strike="noStrike">
                <a:solidFill>
                  <a:srgbClr val="000000"/>
                </a:solidFill>
                <a:latin typeface="Bell MT"/>
              </a:rPr>
              <a:t>(PD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made from </a:t>
            </a:r>
            <a:r>
              <a:rPr b="0" lang="en-US" sz="2400" spc="-1" strike="noStrike" u="sng">
                <a:solidFill>
                  <a:srgbClr val="ffde66"/>
                </a:solidFill>
                <a:uFillTx/>
                <a:latin typeface="Bell MT"/>
                <a:hlinkClick r:id="rId1"/>
              </a:rPr>
              <a:t>potato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 and </a:t>
            </a:r>
            <a:r>
              <a:rPr b="0" lang="en-US" sz="2400" spc="-1" strike="noStrike" u="sng">
                <a:solidFill>
                  <a:srgbClr val="ffde66"/>
                </a:solidFill>
                <a:uFillTx/>
                <a:latin typeface="Bell MT"/>
                <a:hlinkClick r:id="rId2"/>
              </a:rPr>
              <a:t>dextrose</a:t>
            </a:r>
            <a:r>
              <a:rPr b="1" lang="en-US" sz="2400" spc="-1" strike="noStrike">
                <a:solidFill>
                  <a:srgbClr val="956205"/>
                </a:solidFill>
                <a:latin typeface="Bell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2" descr="C:\Users\win7\Downloads\th_db25622bc44ab352a4247c6445af0004_lightbeige146.jpg"/>
          <p:cNvPicPr/>
          <p:nvPr/>
        </p:nvPicPr>
        <p:blipFill>
          <a:blip r:embed="rId3"/>
          <a:stretch/>
        </p:blipFill>
        <p:spPr>
          <a:xfrm>
            <a:off x="6143760" y="2142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4" descr="http://www.sciencestuff.com/Merchant2/images/products/1522-10.jpg"/>
          <p:cNvPicPr/>
          <p:nvPr/>
        </p:nvPicPr>
        <p:blipFill>
          <a:blip r:embed="rId4"/>
          <a:stretch/>
        </p:blipFill>
        <p:spPr>
          <a:xfrm>
            <a:off x="6143760" y="3143160"/>
            <a:ext cx="28573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Yeast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6483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old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37" name="Title 1" descr=""/>
          <p:cNvPicPr/>
          <p:nvPr/>
        </p:nvPicPr>
        <p:blipFill>
          <a:blip r:embed="rId1"/>
          <a:stretch/>
        </p:blipFill>
        <p:spPr>
          <a:xfrm>
            <a:off x="469800" y="0"/>
            <a:ext cx="8229600" cy="8478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4" descr="C:\Users\win7\Downloads\Saccharomyces2.plate.jpg"/>
          <p:cNvPicPr/>
          <p:nvPr/>
        </p:nvPicPr>
        <p:blipFill>
          <a:blip r:embed="rId2"/>
          <a:srcRect l="15893" t="0" r="0" b="0"/>
          <a:stretch/>
        </p:blipFill>
        <p:spPr>
          <a:xfrm>
            <a:off x="468360" y="1125360"/>
            <a:ext cx="4032360" cy="42022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5" descr="C:\Users\win7\Downloads\mold-cultures.jpg"/>
          <p:cNvPicPr/>
          <p:nvPr/>
        </p:nvPicPr>
        <p:blipFill>
          <a:blip r:embed="rId3"/>
          <a:stretch/>
        </p:blipFill>
        <p:spPr>
          <a:xfrm>
            <a:off x="4859280" y="1125360"/>
            <a:ext cx="3457800" cy="41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re eukaryotes that depend on another host for their nutrients and metabolic activit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vided t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-Protozoa: Unicellula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2-Helminths: Multicellula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-Arthropods: Multicellula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Parasite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pic>
        <p:nvPicPr>
          <p:cNvPr id="384" name="Picture 2" descr="C:\Users\Najola\Desktop\kill-parasites.jpg"/>
          <p:cNvPicPr/>
          <p:nvPr/>
        </p:nvPicPr>
        <p:blipFill>
          <a:blip r:embed="rId1"/>
          <a:stretch/>
        </p:blipFill>
        <p:spPr>
          <a:xfrm>
            <a:off x="5940360" y="263700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0" y="1425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88c5"/>
                </a:solidFill>
                <a:latin typeface="Bell MT"/>
              </a:rPr>
              <a:t>LACTO-PHENOL-COTTON BLUE </a:t>
            </a:r>
            <a:r>
              <a:rPr b="0" lang="en-US" sz="3600" spc="-1" strike="noStrike">
                <a:solidFill>
                  <a:srgbClr val="000000"/>
                </a:solidFill>
                <a:latin typeface="Bell MT"/>
              </a:rPr>
              <a:t>(LPCB)</a:t>
            </a:r>
            <a:r>
              <a:rPr b="0" lang="en-US" sz="3600" spc="-1" strike="noStrike">
                <a:solidFill>
                  <a:srgbClr val="d488c5"/>
                </a:solidFill>
                <a:latin typeface="Bell MT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Reagent used to stain fungi for microscopic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examinatio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2f74"/>
                </a:solidFill>
                <a:latin typeface="Bell MT"/>
              </a:rPr>
              <a:t>Why do we cultivate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Bell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Diagnosi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Bell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Bell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Production of vaccin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1" name="Picture 4" descr="C:\Users\win7\Downloads\images.jpg"/>
          <p:cNvPicPr/>
          <p:nvPr/>
        </p:nvPicPr>
        <p:blipFill>
          <a:blip r:embed="rId1"/>
          <a:stretch/>
        </p:blipFill>
        <p:spPr>
          <a:xfrm>
            <a:off x="2340000" y="1484280"/>
            <a:ext cx="2862360" cy="22906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5" descr="C:\Users\win7\Downloads\20100904155024.jpg"/>
          <p:cNvPicPr/>
          <p:nvPr/>
        </p:nvPicPr>
        <p:blipFill>
          <a:blip r:embed="rId2"/>
          <a:stretch/>
        </p:blipFill>
        <p:spPr>
          <a:xfrm>
            <a:off x="5580000" y="1484280"/>
            <a:ext cx="3086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3" descr="C:\Documents and Settings\user\My Documents\My Pictures\Saccharomyces_ce_48a8fd8b156cd.jpg"/>
          <p:cNvPicPr/>
          <p:nvPr/>
        </p:nvPicPr>
        <p:blipFill>
          <a:blip r:embed="rId2"/>
          <a:stretch/>
        </p:blipFill>
        <p:spPr>
          <a:xfrm>
            <a:off x="1042920" y="2060640"/>
            <a:ext cx="3000600" cy="29113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" descr="C:\Documents and Settings\user\My Documents\My Pictures\Saccharomyces_ce_4876e39735dec.jpg"/>
          <p:cNvPicPr/>
          <p:nvPr/>
        </p:nvPicPr>
        <p:blipFill>
          <a:blip r:embed="rId3"/>
          <a:stretch/>
        </p:blipFill>
        <p:spPr>
          <a:xfrm>
            <a:off x="4572000" y="2133720"/>
            <a:ext cx="361944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2"/>
          <p:cNvSpPr/>
          <p:nvPr/>
        </p:nvSpPr>
        <p:spPr>
          <a:xfrm>
            <a:off x="0" y="260280"/>
            <a:ext cx="734364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34b73"/>
                </a:solidFill>
                <a:latin typeface="Bell MT"/>
              </a:rPr>
              <a:t>Benefits of fung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ll MT"/>
              </a:rPr>
              <a:t>Baking: 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by using yea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ll MT"/>
              </a:rPr>
              <a:t>Antibiotic: 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penicillin extracted f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penicill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ll MT"/>
              </a:rPr>
              <a:t>Saprophytes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: Breaking down of dead organic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ll MT"/>
              </a:rPr>
              <a:t>Wine prod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34b73"/>
                </a:solidFill>
                <a:latin typeface="Bell MT"/>
              </a:rPr>
              <a:t>Harmful effects:</a:t>
            </a:r>
            <a:r>
              <a:rPr b="0" lang="en-US" sz="2800" spc="-1" strike="noStrike">
                <a:solidFill>
                  <a:srgbClr val="a34b73"/>
                </a:solidFill>
                <a:latin typeface="Bell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cause a lot of diseases in skin, hair, nail and systemic disea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7" descr="C:\Users\Guest\Pictures\f.bmp"/>
          <p:cNvPicPr/>
          <p:nvPr/>
        </p:nvPicPr>
        <p:blipFill>
          <a:blip r:embed="rId1"/>
          <a:stretch/>
        </p:blipFill>
        <p:spPr>
          <a:xfrm>
            <a:off x="6929280" y="1268280"/>
            <a:ext cx="2214720" cy="216216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9" descr="http://www.accessexcellence.org/AE/AEC/CC/images/s5.gif"/>
          <p:cNvPicPr/>
          <p:nvPr/>
        </p:nvPicPr>
        <p:blipFill>
          <a:blip r:embed="rId2"/>
          <a:stretch/>
        </p:blipFill>
        <p:spPr>
          <a:xfrm>
            <a:off x="6929280" y="3429000"/>
            <a:ext cx="2214720" cy="228600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2644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700" spc="-1" strike="noStrike">
              <a:solidFill>
                <a:srgbClr val="f4e7ed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Title 1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7547040" cy="168300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500040" y="2642760"/>
            <a:ext cx="300024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Alternaria  species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2" name="Picture 2" descr="C:\Documents and Settings\user\My Documents\My Pictures\Alternariq.gif"/>
          <p:cNvPicPr/>
          <p:nvPr/>
        </p:nvPicPr>
        <p:blipFill>
          <a:blip r:embed="rId2"/>
          <a:stretch/>
        </p:blipFill>
        <p:spPr>
          <a:xfrm>
            <a:off x="3857760" y="2143080"/>
            <a:ext cx="417816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Title 1" descr=""/>
          <p:cNvPicPr/>
          <p:nvPr/>
        </p:nvPicPr>
        <p:blipFill>
          <a:blip r:embed="rId1"/>
          <a:stretch/>
        </p:blipFill>
        <p:spPr>
          <a:xfrm>
            <a:off x="457200" y="165240"/>
            <a:ext cx="7259760" cy="168264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457200" y="3143160"/>
            <a:ext cx="3008160" cy="18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Penicilliu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5" name="Picture 2" descr="C:\Documents and Settings\user\My Documents\My Pictures\Penicillium_labeled.jpg"/>
          <p:cNvPicPr/>
          <p:nvPr/>
        </p:nvPicPr>
        <p:blipFill>
          <a:blip r:embed="rId2"/>
          <a:stretch/>
        </p:blipFill>
        <p:spPr>
          <a:xfrm>
            <a:off x="3143160" y="2214720"/>
            <a:ext cx="5112000" cy="37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Title 1" descr=""/>
          <p:cNvPicPr/>
          <p:nvPr/>
        </p:nvPicPr>
        <p:blipFill>
          <a:blip r:embed="rId1"/>
          <a:stretch/>
        </p:blipFill>
        <p:spPr>
          <a:xfrm>
            <a:off x="457200" y="225360"/>
            <a:ext cx="7400880" cy="101304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4356000" y="5229000"/>
            <a:ext cx="3975120" cy="69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Aspergillus speci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8" name="Picture 2" descr="C:\Documents and Settings\user\My Documents\My Pictures\Aspergillus_niger_EXF-2479_konidiofori_100xS.jpg"/>
          <p:cNvPicPr/>
          <p:nvPr/>
        </p:nvPicPr>
        <p:blipFill>
          <a:blip r:embed="rId2"/>
          <a:stretch/>
        </p:blipFill>
        <p:spPr>
          <a:xfrm>
            <a:off x="4572000" y="2276640"/>
            <a:ext cx="3429000" cy="23572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3" descr="C:\Documents and Settings\user\My Documents\My Pictures\aspergillus_versicolor.gif"/>
          <p:cNvPicPr/>
          <p:nvPr/>
        </p:nvPicPr>
        <p:blipFill>
          <a:blip r:embed="rId3"/>
          <a:stretch/>
        </p:blipFill>
        <p:spPr>
          <a:xfrm>
            <a:off x="826920" y="3860640"/>
            <a:ext cx="3000600" cy="248616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4" descr="C:\Documents and Settings\user\My Documents\My Pictures\aspergillus2.jpg"/>
          <p:cNvPicPr/>
          <p:nvPr/>
        </p:nvPicPr>
        <p:blipFill>
          <a:blip r:embed="rId4"/>
          <a:stretch/>
        </p:blipFill>
        <p:spPr>
          <a:xfrm>
            <a:off x="826920" y="1125360"/>
            <a:ext cx="3071880" cy="2584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428760" y="144792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Iron needle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made from iron because fungi dig into the agar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63" name="Straight Connector 13"/>
          <p:cNvSpPr/>
          <p:nvPr/>
        </p:nvSpPr>
        <p:spPr>
          <a:xfrm flipH="1">
            <a:off x="5285880" y="4645080"/>
            <a:ext cx="1800" cy="7128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6" descr=""/>
          <p:cNvPicPr/>
          <p:nvPr/>
        </p:nvPicPr>
        <p:blipFill>
          <a:blip r:embed="rId2"/>
          <a:stretch/>
        </p:blipFill>
        <p:spPr>
          <a:xfrm>
            <a:off x="3851280" y="3213000"/>
            <a:ext cx="41799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-360" y="836640"/>
            <a:ext cx="8893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-21456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Viruses 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ell MT"/>
              </a:rPr>
              <a:t>obligate intracellular agents</a:t>
            </a: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: can multiply only in living cell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Consist of a single type of nucleic acid either DNA or RNA (Ss or Ds)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Nucleic material is enclose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in a protein coat called </a:t>
            </a: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capsid</a:t>
            </a: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both capsid and nucleic acid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are called </a:t>
            </a: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nucleocapsid</a:t>
            </a: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6" name="Title 1" descr=""/>
          <p:cNvPicPr/>
          <p:nvPr/>
        </p:nvPicPr>
        <p:blipFill>
          <a:blip r:embed="rId1"/>
          <a:stretch/>
        </p:blipFill>
        <p:spPr>
          <a:xfrm>
            <a:off x="0" y="-24444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7" descr="C:\Users\win7\Downloads\Picture1.jpg"/>
          <p:cNvPicPr/>
          <p:nvPr/>
        </p:nvPicPr>
        <p:blipFill>
          <a:blip r:embed="rId2"/>
          <a:stretch/>
        </p:blipFill>
        <p:spPr>
          <a:xfrm>
            <a:off x="6084720" y="3224160"/>
            <a:ext cx="305928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0" y="25992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Some viruses are </a:t>
            </a: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enveloped</a:t>
            </a: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others are </a:t>
            </a: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naked</a:t>
            </a: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Vary in size from 20-300 n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9" name="Picture 10" descr=""/>
          <p:cNvPicPr/>
          <p:nvPr/>
        </p:nvPicPr>
        <p:blipFill>
          <a:blip r:embed="rId1"/>
          <a:stretch/>
        </p:blipFill>
        <p:spPr>
          <a:xfrm>
            <a:off x="5651640" y="476280"/>
            <a:ext cx="3492360" cy="32814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6" descr=""/>
          <p:cNvPicPr/>
          <p:nvPr/>
        </p:nvPicPr>
        <p:blipFill>
          <a:blip r:embed="rId2"/>
          <a:stretch/>
        </p:blipFill>
        <p:spPr>
          <a:xfrm>
            <a:off x="0" y="3789360"/>
            <a:ext cx="647712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142920" y="142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Viruses are examined only by Electron microscop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Viruses Can infect humans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animals, plants and bacteri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Viruses that infect bacteria ar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called </a:t>
            </a:r>
            <a:r>
              <a:rPr b="1" lang="en-US" sz="2700" spc="-1" strike="noStrike">
                <a:solidFill>
                  <a:srgbClr val="000000"/>
                </a:solidFill>
                <a:latin typeface="Bell MT"/>
              </a:rPr>
              <a:t>bacteriophag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2" name="Picture 2" descr="C:\Users\Guest\Pictures\bacteriophage.bmp"/>
          <p:cNvPicPr/>
          <p:nvPr/>
        </p:nvPicPr>
        <p:blipFill>
          <a:blip r:embed="rId1"/>
          <a:stretch/>
        </p:blipFill>
        <p:spPr>
          <a:xfrm>
            <a:off x="6084720" y="2276640"/>
            <a:ext cx="3059280" cy="24224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6" descr=""/>
          <p:cNvPicPr/>
          <p:nvPr/>
        </p:nvPicPr>
        <p:blipFill>
          <a:blip r:embed="rId2"/>
          <a:stretch/>
        </p:blipFill>
        <p:spPr>
          <a:xfrm>
            <a:off x="6083280" y="4686480"/>
            <a:ext cx="306072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68360" y="1196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Common stages of life cycl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1- </a:t>
            </a:r>
            <a:r>
              <a:rPr b="1" lang="en-US" sz="2400" spc="-1" strike="noStrike">
                <a:solidFill>
                  <a:srgbClr val="000000"/>
                </a:solidFill>
                <a:latin typeface="Bell MT"/>
              </a:rPr>
              <a:t>Trophozoite: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 active growing stag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2- </a:t>
            </a:r>
            <a:r>
              <a:rPr b="1" lang="en-US" sz="2400" spc="-1" strike="noStrike">
                <a:solidFill>
                  <a:srgbClr val="000000"/>
                </a:solidFill>
                <a:latin typeface="Bell MT"/>
              </a:rPr>
              <a:t>Cyst: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 resting non active stag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Can infect all major tissues and organs of the body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ll MT"/>
              </a:rPr>
              <a:t>Transmission of protozoan parasites b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1- injection via bites of blood sucking insect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2- ingestion of infective stage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Bell MT"/>
              </a:rPr>
              <a:t>protozoa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Content Placeholder 3" descr="virus_types.gif"/>
          <p:cNvPicPr/>
          <p:nvPr/>
        </p:nvPicPr>
        <p:blipFill>
          <a:blip r:embed="rId1"/>
          <a:stretch/>
        </p:blipFill>
        <p:spPr>
          <a:xfrm>
            <a:off x="395280" y="620640"/>
            <a:ext cx="83422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10" descr="C:\Users\win7\Downloads\images.jpg"/>
          <p:cNvPicPr/>
          <p:nvPr/>
        </p:nvPicPr>
        <p:blipFill>
          <a:blip r:embed="rId1"/>
          <a:stretch/>
        </p:blipFill>
        <p:spPr>
          <a:xfrm>
            <a:off x="4140360" y="4667400"/>
            <a:ext cx="2735280" cy="2190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C:\Users\win7\Downloads\mc15g01-fig-0001-1-full.jpg"/>
          <p:cNvPicPr/>
          <p:nvPr/>
        </p:nvPicPr>
        <p:blipFill>
          <a:blip r:embed="rId2"/>
          <a:stretch/>
        </p:blipFill>
        <p:spPr>
          <a:xfrm>
            <a:off x="6227640" y="333360"/>
            <a:ext cx="2484720" cy="454176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 txBox="1"/>
          <p:nvPr/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29680" indent="-16092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Cultivation of viruses 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29680" indent="-16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29680" indent="-16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A) Animal inoculation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29680" indent="-16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eg: mic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29680" indent="-16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29680" indent="-16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b) Embryonated egg inoculatio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29680" indent="-16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29680" indent="-16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29680" indent="-16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29680" indent="-16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C) Tissue cell culture (see CPE)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29680" indent="-16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29680" indent="-16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29680" indent="-16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29680" indent="-16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29680" indent="-16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8" name="Picture 16" descr="C:\Users\Guest\Pictures\imagesCAX4RB9U.jpg"/>
          <p:cNvPicPr/>
          <p:nvPr/>
        </p:nvPicPr>
        <p:blipFill>
          <a:blip r:embed="rId3"/>
          <a:stretch/>
        </p:blipFill>
        <p:spPr>
          <a:xfrm>
            <a:off x="4788000" y="549360"/>
            <a:ext cx="226836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 txBox="1"/>
          <p:nvPr/>
        </p:nvSpPr>
        <p:spPr>
          <a:xfrm>
            <a:off x="0" y="259920"/>
            <a:ext cx="8229600" cy="42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48040" indent="-17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248040" indent="-17352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Cytopathic effects (CPE)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48040" indent="-17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Is the morphological changes in cell caused by th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48040" indent="-17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viral infectio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48040" indent="-17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48040" indent="-17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48040" indent="-17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48040" indent="-17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48040" indent="-17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48040" indent="-17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ll MT"/>
              </a:rPr>
              <a:t>Figure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48040" indent="-17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ll MT"/>
              </a:rPr>
              <a:t>a. Monolayer of normal fetal tonsil cell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48040" indent="-17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ll MT"/>
              </a:rPr>
              <a:t>b. tonsil cells with adenovirus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48040" indent="-17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ll MT"/>
              </a:rPr>
              <a:t>c. tonsil cells with herpes simplex infecti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48040" indent="-17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ll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ell MT"/>
              </a:rPr>
              <a:t>and monolayer destroyed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48040" indent="-17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48040" indent="-17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0" name="Picture 2" descr=""/>
          <p:cNvPicPr/>
          <p:nvPr/>
        </p:nvPicPr>
        <p:blipFill>
          <a:blip r:embed="rId1"/>
          <a:stretch/>
        </p:blipFill>
        <p:spPr>
          <a:xfrm>
            <a:off x="4765680" y="1484280"/>
            <a:ext cx="39132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8a2e4e"/>
                </a:solidFill>
                <a:latin typeface="Bell MT"/>
              </a:rPr>
              <a:t>Protozoa move by</a:t>
            </a:r>
            <a:r>
              <a:rPr b="1" lang="en-US" sz="4100" spc="-1" strike="noStrike">
                <a:solidFill>
                  <a:srgbClr val="8a2e4e"/>
                </a:solidFill>
                <a:latin typeface="Bell MT"/>
              </a:rPr>
              <a:t> </a:t>
            </a:r>
            <a:r>
              <a:rPr b="1" lang="en-US" sz="4100" spc="-1" strike="noStrike">
                <a:solidFill>
                  <a:srgbClr val="b13f9a"/>
                </a:solidFill>
                <a:latin typeface="Bell MT"/>
              </a:rPr>
              <a:t>: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b83d68"/>
          </a:solidFill>
          <a:ln w="9720">
            <a:solidFill>
              <a:srgbClr val="b83d68"/>
            </a:solidFill>
            <a:miter/>
          </a:ln>
        </p:spPr>
        <p:txBody>
          <a:bodyPr lIns="182880" anchor="ctr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b83d68"/>
          </a:solidFill>
          <a:ln w="9720">
            <a:solidFill>
              <a:srgbClr val="b83d68"/>
            </a:solidFill>
            <a:miter/>
          </a:ln>
        </p:spPr>
        <p:txBody>
          <a:bodyPr lIns="182880" anchor="ctr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2e4e"/>
                </a:solidFill>
                <a:latin typeface="Bell MT"/>
              </a:rPr>
              <a:t>Psuedopod: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 (extending part of protoplasm    towards direction of movement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Example: Entamoeba specie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2e4e"/>
                </a:solidFill>
                <a:latin typeface="Bell MT"/>
              </a:rPr>
              <a:t>Flagella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Example: Trypanosoma species, Giardia Lambli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Picture 2" descr="C:\Users\Najola\Desktop\psuedopods.jpg"/>
          <p:cNvPicPr/>
          <p:nvPr/>
        </p:nvPicPr>
        <p:blipFill>
          <a:blip r:embed="rId1"/>
          <a:stretch/>
        </p:blipFill>
        <p:spPr>
          <a:xfrm>
            <a:off x="4932360" y="981000"/>
            <a:ext cx="3232080" cy="24908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" descr="C:\Users\Najola\Desktop\flagella.jpg"/>
          <p:cNvPicPr/>
          <p:nvPr/>
        </p:nvPicPr>
        <p:blipFill>
          <a:blip r:embed="rId2"/>
          <a:stretch/>
        </p:blipFill>
        <p:spPr>
          <a:xfrm>
            <a:off x="5364000" y="3500280"/>
            <a:ext cx="242424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a2e4e"/>
                </a:solidFill>
                <a:latin typeface="Bell MT"/>
              </a:rPr>
              <a:t>Cilia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Example: Balantidium coli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a2e4e"/>
                </a:solidFill>
                <a:latin typeface="Bell MT"/>
              </a:rPr>
              <a:t>non motil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Example : Plasmodium spec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(ring stag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 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pic>
        <p:nvPicPr>
          <p:cNvPr id="396" name="Picture 2" descr="C:\Users\Najola\Desktop\cilia.jpg"/>
          <p:cNvPicPr/>
          <p:nvPr/>
        </p:nvPicPr>
        <p:blipFill>
          <a:blip r:embed="rId1"/>
          <a:stretch/>
        </p:blipFill>
        <p:spPr>
          <a:xfrm>
            <a:off x="7236000" y="476280"/>
            <a:ext cx="1711080" cy="21384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4" descr="C:\Users\Najola\Desktop\cilia1.jpg"/>
          <p:cNvPicPr/>
          <p:nvPr/>
        </p:nvPicPr>
        <p:blipFill>
          <a:blip r:embed="rId2"/>
          <a:stretch/>
        </p:blipFill>
        <p:spPr>
          <a:xfrm>
            <a:off x="4859280" y="1341360"/>
            <a:ext cx="2382840" cy="25923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C:\Documents and Settings\user\My Documents\My Pictures\Pf_MaurersC.jpg"/>
          <p:cNvPicPr/>
          <p:nvPr/>
        </p:nvPicPr>
        <p:blipFill>
          <a:blip r:embed="rId3"/>
          <a:stretch/>
        </p:blipFill>
        <p:spPr>
          <a:xfrm>
            <a:off x="5724360" y="4076640"/>
            <a:ext cx="272124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  <a:ea typeface="Times New Roman"/>
              </a:rPr>
              <a:t>Entamoeba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b83d68"/>
          </a:solidFill>
          <a:ln w="9720">
            <a:solidFill>
              <a:srgbClr val="b83d68"/>
            </a:solidFill>
            <a:miter/>
          </a:ln>
        </p:spPr>
        <p:txBody>
          <a:bodyPr lIns="1828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Trophozoit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b83d68"/>
          </a:solidFill>
          <a:ln w="9720">
            <a:solidFill>
              <a:srgbClr val="b83d68"/>
            </a:solidFill>
            <a:miter/>
          </a:ln>
        </p:spPr>
        <p:txBody>
          <a:bodyPr lIns="1828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Cys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Picture 4" descr="C:\Documents and Settings\user\My Documents\My Pictures\entamoebahistolitica.jpg"/>
          <p:cNvPicPr/>
          <p:nvPr/>
        </p:nvPicPr>
        <p:blipFill>
          <a:blip r:embed="rId1"/>
          <a:stretch/>
        </p:blipFill>
        <p:spPr>
          <a:xfrm>
            <a:off x="1004760" y="2324160"/>
            <a:ext cx="2944800" cy="218268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Picture 5" descr="C:\Documents and Settings\user\My Documents\My Pictures\histolytica.jpg"/>
          <p:cNvPicPr/>
          <p:nvPr/>
        </p:nvPicPr>
        <p:blipFill>
          <a:blip r:embed="rId2"/>
          <a:stretch/>
        </p:blipFill>
        <p:spPr>
          <a:xfrm>
            <a:off x="5508720" y="1484280"/>
            <a:ext cx="1904760" cy="14860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" descr="C:\Documents and Settings\user\My Documents\My Pictures\entamoeba-histolytica-2.jpg"/>
          <p:cNvPicPr/>
          <p:nvPr/>
        </p:nvPicPr>
        <p:blipFill>
          <a:blip r:embed="rId3"/>
          <a:stretch/>
        </p:blipFill>
        <p:spPr>
          <a:xfrm>
            <a:off x="5148360" y="3141720"/>
            <a:ext cx="273852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100" spc="-1" strike="noStrike">
                <a:solidFill>
                  <a:srgbClr val="b13f9a"/>
                </a:solidFill>
                <a:latin typeface="Lucida Sans Unicode"/>
              </a:rPr>
              <a:t> 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b83d68"/>
          </a:solidFill>
          <a:ln w="9720">
            <a:solidFill>
              <a:srgbClr val="b83d68"/>
            </a:solidFill>
            <a:miter/>
          </a:ln>
        </p:spPr>
        <p:txBody>
          <a:bodyPr lIns="182880" anchor="ctr">
            <a:normAutofit fontScale="91000"/>
          </a:bodyPr>
          <a:p>
            <a:pPr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  <a:ea typeface="Times New Roman"/>
              </a:rPr>
              <a:t>Protozo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Lucida Sans Unicode"/>
                <a:ea typeface="Times New Roman"/>
              </a:rPr>
              <a:t>Trypanosom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b83d68"/>
          </a:solidFill>
          <a:ln w="9720">
            <a:solidFill>
              <a:srgbClr val="b83d68"/>
            </a:solidFill>
            <a:miter/>
          </a:ln>
        </p:spPr>
        <p:txBody>
          <a:bodyPr lIns="182880" anchor="ctr">
            <a:normAutofit fontScale="91000"/>
          </a:bodyPr>
          <a:p>
            <a:pPr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  <a:ea typeface="Times New Roman"/>
              </a:rPr>
              <a:t>Protozo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Lucida Sans Unicode"/>
                <a:ea typeface="Times New Roman"/>
              </a:rPr>
              <a:t>Balantidium coli cys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Picture 4" descr="C:\Documents and Settings\user\My Documents\My Pictures\tryp9.jpg"/>
          <p:cNvPicPr/>
          <p:nvPr/>
        </p:nvPicPr>
        <p:blipFill>
          <a:blip r:embed="rId1"/>
          <a:stretch/>
        </p:blipFill>
        <p:spPr>
          <a:xfrm>
            <a:off x="506520" y="1444680"/>
            <a:ext cx="3941640" cy="39416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user\My Documents\My Pictures\balantidiumcisto3.jpg"/>
          <p:cNvPicPr/>
          <p:nvPr/>
        </p:nvPicPr>
        <p:blipFill>
          <a:blip r:embed="rId2"/>
          <a:stretch/>
        </p:blipFill>
        <p:spPr>
          <a:xfrm>
            <a:off x="4859280" y="1484280"/>
            <a:ext cx="368460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Multicellular organisms with organ systems as digestive, nervous , excretory syste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Have complicated life cycl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Mostly have different stages of life cycle which are: ova(egg), larvae (Adult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Adult worms can measure centimeters or even meters lo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Extracellular parasit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Bell MT"/>
                <a:ea typeface="Times New Roman"/>
              </a:rPr>
              <a:t>Helminths(worms)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Are classified according to shape into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1- </a:t>
            </a:r>
            <a:r>
              <a:rPr b="1" lang="en-US" sz="2700" spc="-1" strike="noStrike">
                <a:solidFill>
                  <a:srgbClr val="a34b73"/>
                </a:solidFill>
                <a:latin typeface="Bell MT"/>
              </a:rPr>
              <a:t>Nematodes</a:t>
            </a: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 (round worms) cylindrical th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Example: Ascaris lumbricoid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2- </a:t>
            </a:r>
            <a:r>
              <a:rPr b="1" lang="en-US" sz="2700" spc="-1" strike="noStrike">
                <a:solidFill>
                  <a:srgbClr val="a34b73"/>
                </a:solidFill>
                <a:latin typeface="Bell MT"/>
              </a:rPr>
              <a:t>Cestodes</a:t>
            </a: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 ( tape worms)flat long wor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        </a:t>
            </a: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Example: Tenia saginata,tenia soliu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3- </a:t>
            </a:r>
            <a:r>
              <a:rPr b="1" lang="en-US" sz="2700" spc="-1" strike="noStrike">
                <a:solidFill>
                  <a:srgbClr val="a34b73"/>
                </a:solidFill>
                <a:latin typeface="Bell MT"/>
              </a:rPr>
              <a:t>Trematodes</a:t>
            </a: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( Flukes)leaf like flat wor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        </a:t>
            </a: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Example: Schistosoma spec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Bell MT"/>
                <a:ea typeface="Times New Roman"/>
              </a:rPr>
              <a:t>Helminths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7T17:39:13Z</dcterms:created>
  <dc:creator>ksu</dc:creator>
  <dc:description/>
  <dc:language>en-US</dc:language>
  <cp:lastModifiedBy>اميرة الحوالي</cp:lastModifiedBy>
  <dcterms:modified xsi:type="dcterms:W3CDTF">2014-01-27T08:29:36Z</dcterms:modified>
  <cp:revision>110</cp:revision>
  <dc:subject/>
  <dc:title>Slide 1</dc:title>
</cp:coreProperties>
</file>