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2D61-0FAD-4A46-921E-358FFC621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07E9-9ADB-4393-B4D1-B8D15582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A6EC-D6E1-42CC-B855-15FEC02B2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79AB-1B0C-4913-B82E-A9E81A51C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B095-3760-4EC1-A4A0-08F80F3A4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F678-4FD4-4662-9438-B1152AE09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1610-934C-4F85-B1AE-96D37FB52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3E4C-294F-42A1-8C51-8F5846AAB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AA96-80B8-46D4-BBA3-1D01886EB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4DB2-E35F-46E0-94E5-0B491FABE9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0ABC-29E6-4C78-A66C-9F91B8B16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077C-5BD9-42E4-AE1B-B03DE9A76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C084-4224-45B6-AE68-F7BBDD223E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32F6-32CF-44CE-A008-527029A92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F82D-CF5F-46D7-94DB-5F6A7B9855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CE79-AC40-4C98-9D4B-F2BB49DFFC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5BEA-0F26-49E2-B75A-8064357DBF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76A-7C8A-4C47-8CAD-2FCE8BBF0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C2C-379C-49D8-9F3D-8108BD76BD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4ED-825E-49D9-9EE0-05637BB9A7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5A-A688-4AAE-91A4-05B5A7535C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08D-CA5C-47E5-BE81-0F4411D8E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6FA0-D2AC-4AB6-8EA9-5C8E84DD7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22F-004E-45B3-840C-AAEC27E28A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961-5443-4255-B8BD-3E09C46416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EC5-E232-484B-A268-FC24E8EFE5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6EE-41BF-4C6F-BBF7-1B38849358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4CE-00DC-49B8-8E4E-D928311798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C89-0551-48B6-A4EB-A6352982B8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BBC-4F0F-4498-99A3-57499A2E2F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051C-DF1C-4C32-A91D-D1485F142A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B41B8-CDA8-4B2E-8A0C-8C45CB6BDE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BC715-7D0F-4E44-BE09-3FF117CDE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B407-E78C-4CB6-A629-A7DF6F0523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4BC23-2A31-4D6A-A49F-7A78FDCEF6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17B24-CDD5-4A6A-AF1D-9BC9D1E636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66B0-15A6-4FCA-8285-358AD0DC8A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83AF-01E2-46FA-9313-EEEFD2BFA5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75BB3-80DF-40B6-A20A-B463E0280A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1C66-682C-425C-A11E-CADF83C25A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F6E23-06DC-4D8A-9A8C-5C192C71F2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5715-0F55-4D44-819D-9846D4D459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0F6A7-7D53-4207-93DC-8F24B4533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5282-1F18-460B-9BAE-925969412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8D39-9192-4F9F-8F50-82D5477B6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297-84C3-40C2-AE80-D8C8FD3FF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713D-D5C4-4614-96BB-29BD5DDA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5D3E-A1AF-4FEC-BE3D-F8F676CFC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00A-E5FF-4A27-9DB5-60E0598DC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B69-D9CD-436A-B0B0-689B166D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1CCC-FBA1-4F54-9968-4FE968D2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9340-7AA2-449D-87FD-98303BAD243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6-18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ign Methodolog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EC48-2364-4457-A4BD-7A2A13C97F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84247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ong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strong entity in the data model, create a relation that includes all the simple attributes of that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composite attributes, include only the constituent simple attributes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its components only)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eak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weak entity in the data model, create a relation that includes all the simple attributes of that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weak entity must include its Partial key and its owner entity type PK as a FK. The combination of the two keys form the PK of the weak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AA80-8ABA-4578-B985-DA35C8EB17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71640" y="1413000"/>
          <a:ext cx="1565280" cy="213336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8" name="Elbow Connector 27"/>
          <p:cNvCxnSpPr>
            <a:stCxn id="199" idx="2"/>
          </p:cNvCxnSpPr>
          <p:nvPr/>
        </p:nvCxnSpPr>
        <p:spPr>
          <a:xfrm flipH="1" rot="16200000">
            <a:off x="4106160" y="3467520"/>
            <a:ext cx="670320" cy="1558080"/>
          </a:xfrm>
          <a:prstGeom prst="bentConnector2">
            <a:avLst/>
          </a:prstGeom>
          <a:ln w="9360">
            <a:solidFill>
              <a:srgbClr val="9393fc"/>
            </a:solidFill>
            <a:miter/>
          </a:ln>
        </p:spPr>
      </p:cxnSp>
      <p:sp>
        <p:nvSpPr>
          <p:cNvPr id="199" name="Rectangle 17"/>
          <p:cNvSpPr/>
          <p:nvPr/>
        </p:nvSpPr>
        <p:spPr>
          <a:xfrm>
            <a:off x="3132000" y="3573360"/>
            <a:ext cx="1062000" cy="3373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Dep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lationshi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Box 19"/>
          <p:cNvSpPr/>
          <p:nvPr/>
        </p:nvSpPr>
        <p:spPr>
          <a:xfrm>
            <a:off x="3059280" y="39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Box 21"/>
          <p:cNvSpPr/>
          <p:nvPr/>
        </p:nvSpPr>
        <p:spPr>
          <a:xfrm flipV="1" rot="10800000">
            <a:off x="3714840" y="42138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laims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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1835280" y="5229360"/>
            <a:ext cx="580860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Fname,Mname ,Lname,Gender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DEPENDEN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DepNo, Emp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Gender, Relationship 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DepNo, Emp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5" name="Straight Arrow Connector 24"/>
          <p:cNvCxnSpPr/>
          <p:nvPr/>
        </p:nvCxnSpPr>
        <p:spPr>
          <a:xfrm>
            <a:off x="1835280" y="3357360"/>
            <a:ext cx="1297440" cy="4323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Oval 25"/>
          <p:cNvSpPr/>
          <p:nvPr/>
        </p:nvSpPr>
        <p:spPr>
          <a:xfrm>
            <a:off x="900000" y="2997360"/>
            <a:ext cx="1584360" cy="7189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Box 26"/>
          <p:cNvSpPr/>
          <p:nvPr/>
        </p:nvSpPr>
        <p:spPr>
          <a:xfrm flipV="1" rot="10800000">
            <a:off x="1042560" y="30888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al Key of Week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D944-10F3-4E0C-8C18-F28FDE1C71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1:* binary relationship, the entity on the ‘one side’ of the relationship is designated as the parent entity and the entity on the ‘many side’ is designated as the child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 represent this relationship, post a copy of the Primary Key  attribute(s) of parent entity into the relation representing the child entity, to act as a foreign ke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dd attributes that describes the relationship to the child entit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if exist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60F-FE62-41A1-87CB-0390F3CCF86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6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17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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Alloca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1763640" y="5084640"/>
            <a:ext cx="5334120" cy="115956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,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 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ranch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Branch Na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Branch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2" name="Straight Arrow Connector 29"/>
          <p:cNvCxnSpPr/>
          <p:nvPr/>
        </p:nvCxnSpPr>
        <p:spPr>
          <a:xfrm>
            <a:off x="1476360" y="198900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3" name="Oval 30"/>
          <p:cNvSpPr/>
          <p:nvPr/>
        </p:nvSpPr>
        <p:spPr>
          <a:xfrm>
            <a:off x="539640" y="162864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Box 31"/>
          <p:cNvSpPr/>
          <p:nvPr/>
        </p:nvSpPr>
        <p:spPr>
          <a:xfrm flipV="1" rot="10800000">
            <a:off x="684360" y="184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Straight Arrow Connector 32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6" name="Oval 3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Box 3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C02-6A7C-47E0-AB4B-E6105A56DE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6784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ing relations to represent a 1:1 relationship is more complex as th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rdinalit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annot be used to identify the parent and child entities in a relationship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Instead, th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participation constraints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are used to decide whether it i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bes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to represent the relationship b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Combining the entities involved into one rela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by creating two relations and posting a copy of the Primary Key  from one relation to the oth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der the following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a) mandatory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ides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) mandator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) optional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F05-3818-48B8-9B99-ACC75E8B355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a) Mandator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1:1 relationship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bine entities involved into one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oose one of the primary keys of original entities to be Primary Key  of the new relation, while the other (if one exists) is used as an alternate ke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dd attributes that describes the relationship to the relation (if exist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E34-5B1D-4980-A59C-E2CC33F2CCC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19520" y="1755720"/>
          <a:ext cx="1565280" cy="16462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SN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0" name="Elbow Connector 27"/>
          <p:cNvCxnSpPr/>
          <p:nvPr/>
        </p:nvCxnSpPr>
        <p:spPr>
          <a:xfrm>
            <a:off x="3563640" y="3429000"/>
            <a:ext cx="1702440" cy="1161360"/>
          </a:xfrm>
          <a:prstGeom prst="bentConnector3">
            <a:avLst>
              <a:gd name="adj1" fmla="val 613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41" name=""/>
          <p:cNvGraphicFramePr/>
          <p:nvPr/>
        </p:nvGraphicFramePr>
        <p:xfrm>
          <a:off x="5257800" y="3357720"/>
          <a:ext cx="1717560" cy="1477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 Inf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O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h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1403280" y="5084640"/>
            <a:ext cx="669780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SN, Fname,Mname,Lname,Sex,Salary,DOB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SN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, Emp_NO, Fname,Mname ,Lname, Sex, Salary,DOB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SS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989-5DF8-4B46-8D3E-57C1A7BF5B6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)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datory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 of a 1:1 relationshi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Identify parent and child entities using participation constraints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Entity with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MS PGothic"/>
              </a:rPr>
              <a:t>optional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participation in relationship is designated a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pare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Entity with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MS PGothic"/>
              </a:rPr>
              <a:t>mandator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participation is designated a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chil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 copy of Primary Key  of the parent entity is placed in the relation representing the child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If the relationship has one or more attributes, these attributes should follow the posting of the Primary Key  to the child relation.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265F-D978-45BB-8E5F-268B06DDFF6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4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55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Manag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Box 22"/>
          <p:cNvSpPr/>
          <p:nvPr/>
        </p:nvSpPr>
        <p:spPr>
          <a:xfrm>
            <a:off x="1763640" y="5084640"/>
            <a:ext cx="5334120" cy="115956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ranch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Branch Name,_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_Manger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Sdate,Edat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Branch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0" name="Straight Arrow Connector 12"/>
          <p:cNvCxnSpPr/>
          <p:nvPr/>
        </p:nvCxnSpPr>
        <p:spPr>
          <a:xfrm>
            <a:off x="1476360" y="198900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1" name="Oval 13"/>
          <p:cNvSpPr/>
          <p:nvPr/>
        </p:nvSpPr>
        <p:spPr>
          <a:xfrm>
            <a:off x="539640" y="162864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14"/>
          <p:cNvSpPr/>
          <p:nvPr/>
        </p:nvSpPr>
        <p:spPr>
          <a:xfrm flipV="1" rot="10800000">
            <a:off x="684360" y="184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3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4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547640" y="3789360"/>
          <a:ext cx="1295640" cy="91440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Straight Connector 27"/>
          <p:cNvSpPr/>
          <p:nvPr/>
        </p:nvSpPr>
        <p:spPr>
          <a:xfrm flipH="1">
            <a:off x="2843280" y="4292640"/>
            <a:ext cx="792000" cy="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Box 21"/>
          <p:cNvSpPr/>
          <p:nvPr/>
        </p:nvSpPr>
        <p:spPr>
          <a:xfrm flipV="1" rot="16200000">
            <a:off x="3333600" y="3524760"/>
            <a:ext cx="9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0A7-B730-4A36-89B5-83B8674B720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 c)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onal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a 1:1 relationshi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 this case, the designation of the parent and child entities is arbitrary unless we can find out more about the relationship that can help a decision to be made one way or the oth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dd attributes that describes the relationship to the child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urpose of a design methodolog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design has three main phases: conceptual, logical, and  physical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deriv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set of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relations from a conceptual data model as part of logical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E4C-2088-45BA-88BA-2BE21E88E2D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BB4-A7F2-4742-9A01-4EAD03DBA95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19520" y="1755720"/>
          <a:ext cx="1565280" cy="138600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8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78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rgery_Mater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M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tu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Box 19"/>
          <p:cNvSpPr/>
          <p:nvPr/>
        </p:nvSpPr>
        <p:spPr>
          <a:xfrm>
            <a:off x="3059280" y="321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Box 21"/>
          <p:cNvSpPr/>
          <p:nvPr/>
        </p:nvSpPr>
        <p:spPr>
          <a:xfrm flipV="1" rot="10800000">
            <a:off x="3580920" y="416772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1763640" y="5084640"/>
            <a:ext cx="5904000" cy="5202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perati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rgery_Material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,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3" name="Straight Arrow Connector 12"/>
          <p:cNvCxnSpPr/>
          <p:nvPr/>
        </p:nvCxnSpPr>
        <p:spPr>
          <a:xfrm>
            <a:off x="1476360" y="184464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4" name="Oval 13"/>
          <p:cNvSpPr/>
          <p:nvPr/>
        </p:nvSpPr>
        <p:spPr>
          <a:xfrm>
            <a:off x="539640" y="148428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5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6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8" name="Straight Arrow Connector 28"/>
          <p:cNvCxnSpPr/>
          <p:nvPr/>
        </p:nvCxnSpPr>
        <p:spPr>
          <a:xfrm>
            <a:off x="1547280" y="2636640"/>
            <a:ext cx="1296360" cy="4323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9" name="Oval 29"/>
          <p:cNvSpPr/>
          <p:nvPr/>
        </p:nvSpPr>
        <p:spPr>
          <a:xfrm>
            <a:off x="611280" y="2276640"/>
            <a:ext cx="1584360" cy="720720"/>
          </a:xfrm>
          <a:prstGeom prst="ellipse">
            <a:avLst/>
          </a:prstGeom>
          <a:solidFill>
            <a:srgbClr val="ffc2c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Box 30"/>
          <p:cNvSpPr/>
          <p:nvPr/>
        </p:nvSpPr>
        <p:spPr>
          <a:xfrm flipV="1" rot="10800000">
            <a:off x="755640" y="2491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1" name="Straight Arrow Connector 33"/>
          <p:cNvCxnSpPr/>
          <p:nvPr/>
        </p:nvCxnSpPr>
        <p:spPr>
          <a:xfrm flipH="1">
            <a:off x="6947640" y="3573360"/>
            <a:ext cx="793080" cy="9360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92" name="Oval 34"/>
          <p:cNvSpPr/>
          <p:nvPr/>
        </p:nvSpPr>
        <p:spPr>
          <a:xfrm>
            <a:off x="7093080" y="3068640"/>
            <a:ext cx="1582560" cy="720720"/>
          </a:xfrm>
          <a:prstGeom prst="ellipse">
            <a:avLst/>
          </a:prstGeom>
          <a:solidFill>
            <a:srgbClr val="ffc2c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Box 35"/>
          <p:cNvSpPr/>
          <p:nvPr/>
        </p:nvSpPr>
        <p:spPr>
          <a:xfrm flipV="1" rot="10800000">
            <a:off x="7236000" y="328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Box 36"/>
          <p:cNvSpPr/>
          <p:nvPr/>
        </p:nvSpPr>
        <p:spPr>
          <a:xfrm>
            <a:off x="1763640" y="5661000"/>
            <a:ext cx="5904000" cy="5202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perati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,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rgery_Material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Box 35"/>
          <p:cNvSpPr/>
          <p:nvPr/>
        </p:nvSpPr>
        <p:spPr>
          <a:xfrm flipV="1" rot="10800000">
            <a:off x="684360" y="1628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179280" y="3573360"/>
            <a:ext cx="3313080" cy="106740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We have the choice to post a copy of the Primary Key  of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</a:rPr>
              <a:t>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entity to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</a:rPr>
              <a:t>Surgery_Material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 entity or vice vers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AC3-7D87-40EA-AC2A-81D3B32FB75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819520" y="1755720"/>
          <a:ext cx="1565280" cy="14540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8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01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02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r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tu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TextBox 19"/>
          <p:cNvSpPr/>
          <p:nvPr/>
        </p:nvSpPr>
        <p:spPr>
          <a:xfrm>
            <a:off x="3059280" y="321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Box 21"/>
          <p:cNvSpPr/>
          <p:nvPr/>
        </p:nvSpPr>
        <p:spPr>
          <a:xfrm flipV="1" rot="10800000">
            <a:off x="3580920" y="416772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6" name="Straight Arrow Connector 12"/>
          <p:cNvCxnSpPr/>
          <p:nvPr/>
        </p:nvCxnSpPr>
        <p:spPr>
          <a:xfrm>
            <a:off x="1476360" y="184464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07" name="Oval 13"/>
          <p:cNvSpPr/>
          <p:nvPr/>
        </p:nvSpPr>
        <p:spPr>
          <a:xfrm>
            <a:off x="539640" y="148428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Box 14"/>
          <p:cNvSpPr/>
          <p:nvPr/>
        </p:nvSpPr>
        <p:spPr>
          <a:xfrm flipV="1" rot="10800000">
            <a:off x="684360" y="1699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9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10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1763640" y="5661000"/>
            <a:ext cx="5904000" cy="94644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ar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Car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,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Car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79280" y="3716280"/>
            <a:ext cx="3313080" cy="155412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If we assume the majority of cars but not all , are used by employee and that minority of employee use ca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Ther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 The care entity is closer to begin mandatory than employee entity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C0A7-BD7B-4458-B7D4-76BBB23FDF2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ursive relationships Mapping conclus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cc0000"/>
              </a:buClr>
              <a:buSzPct val="7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recursive relationships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ingle relation with two copies for the primary key with different nam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99"/>
              </a:spcBef>
              <a:buClr>
                <a:srgbClr val="cc0000"/>
              </a:buClr>
              <a:buSzPct val="7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recursive relationship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w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rela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One relation for the entity typ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nd create a new relation to represent the relationship. The new relation would only have two attributes, both copies of the primary key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(i.e. the primary key has two attributes, both taken from the primary key of the entity).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23C-99E5-45B4-82D9-2B3136E429D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203640" y="2935440"/>
            <a:ext cx="1762200" cy="1008000"/>
          </a:xfrm>
          <a:prstGeom prst="rect">
            <a:avLst/>
          </a:prstGeom>
          <a:noFill/>
          <a:ln w="1260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432F-2895-43FB-807C-7AE734A263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1026"/>
          <p:cNvSpPr/>
          <p:nvPr/>
        </p:nvSpPr>
        <p:spPr>
          <a:xfrm>
            <a:off x="380880" y="11592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a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recursive relationships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4965840" y="3079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3780000" y="39942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Box 21"/>
          <p:cNvSpPr/>
          <p:nvPr/>
        </p:nvSpPr>
        <p:spPr>
          <a:xfrm flipV="1" rot="10800000">
            <a:off x="2857320" y="257076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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Is_managed_b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Box 24"/>
          <p:cNvSpPr/>
          <p:nvPr/>
        </p:nvSpPr>
        <p:spPr>
          <a:xfrm flipV="1" rot="10800000">
            <a:off x="5003280" y="27136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1143000" y="5013360"/>
            <a:ext cx="6929280" cy="94644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GB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loyee_ID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Employee_Name, Employee_DOB, </a:t>
            </a:r>
            <a:r>
              <a:rPr b="0" lang="en-GB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Manager_ID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Employee 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 Manager_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284720" y="3419640"/>
          <a:ext cx="1717560" cy="1234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I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DO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29" name="TextBox 24"/>
          <p:cNvSpPr/>
          <p:nvPr/>
        </p:nvSpPr>
        <p:spPr>
          <a:xfrm flipV="1" rot="10800000">
            <a:off x="2786040" y="399312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571680" y="1928880"/>
            <a:ext cx="2071440" cy="1434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The representation of a 1:* recursive relationship is similar to 1:* binary relationship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However, in this case, both the parent and child entity is the </a:t>
            </a:r>
            <a:r>
              <a:rPr b="0" i="1" lang="en-US" sz="1400" spc="-1" strike="noStrike">
                <a:solidFill>
                  <a:srgbClr val="c00000"/>
                </a:solidFill>
                <a:latin typeface="Times New Roman"/>
              </a:rPr>
              <a:t>same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 entity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029-E65C-4DA6-9A09-6619D41979A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203640" y="2935440"/>
            <a:ext cx="1762200" cy="1008000"/>
          </a:xfrm>
          <a:prstGeom prst="rect">
            <a:avLst/>
          </a:prstGeom>
          <a:noFill/>
          <a:ln w="1260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A10-C511-4A8E-97F1-10130222C62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Rectangle 1026"/>
          <p:cNvSpPr/>
          <p:nvPr/>
        </p:nvSpPr>
        <p:spPr>
          <a:xfrm>
            <a:off x="380880" y="11592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b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recursive relationships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Box 19"/>
          <p:cNvSpPr/>
          <p:nvPr/>
        </p:nvSpPr>
        <p:spPr>
          <a:xfrm>
            <a:off x="4965840" y="3079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3780000" y="39942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Box 21"/>
          <p:cNvSpPr/>
          <p:nvPr/>
        </p:nvSpPr>
        <p:spPr>
          <a:xfrm flipV="1" rot="10800000">
            <a:off x="3143160" y="257076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ntains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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Box 24"/>
          <p:cNvSpPr/>
          <p:nvPr/>
        </p:nvSpPr>
        <p:spPr>
          <a:xfrm flipV="1" rot="10800000">
            <a:off x="5003280" y="271368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on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Box 12"/>
          <p:cNvSpPr/>
          <p:nvPr/>
        </p:nvSpPr>
        <p:spPr>
          <a:xfrm>
            <a:off x="1763640" y="5013360"/>
            <a:ext cx="5904000" cy="1585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TEM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Ite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Description, Unit_Cos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: Item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OMPONEN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Item_No, Componenet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Quantit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: Item_No, Componenet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: Item_No references ITEM(Item_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: Componenet_No  references ITEM(Item_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284720" y="3419640"/>
          <a:ext cx="1717560" cy="1234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tem 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scription Unit_Cos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42" name="TextBox 24"/>
          <p:cNvSpPr/>
          <p:nvPr/>
        </p:nvSpPr>
        <p:spPr>
          <a:xfrm flipV="1" rot="10800000">
            <a:off x="2857320" y="3993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d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28880" y="3125880"/>
          <a:ext cx="785880" cy="45720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200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44" name="Straight Connector 27"/>
          <p:cNvSpPr/>
          <p:nvPr/>
        </p:nvSpPr>
        <p:spPr>
          <a:xfrm>
            <a:off x="2714760" y="3429000"/>
            <a:ext cx="488880" cy="1116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CA73-A9C4-4239-AFF2-6292C989ADD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perclass/subclass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dentify superclass entity as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e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and subclass entity as the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e are various options on how to represent such a relationship as one or more relations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selection of the most appropriate option is dependent on a number of factor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disjointness and participation constraints on the superclass/subclass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ther the subclasses are involved in distinct relationshi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number of participants in the superclass/subclass relationship.</a:t>
            </a:r>
            <a:r>
              <a:rPr b="1" lang="en-GB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474-AC68-4709-9B29-5A80C9C6255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Guidelines for representation of  superclass / subclass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1" name="Picture 1032" descr="C16NT01"/>
          <p:cNvPicPr/>
          <p:nvPr/>
        </p:nvPicPr>
        <p:blipFill>
          <a:blip r:embed="rId1"/>
          <a:srcRect l="-1129" t="16535" r="0" b="0"/>
          <a:stretch/>
        </p:blipFill>
        <p:spPr>
          <a:xfrm>
            <a:off x="684360" y="1773360"/>
            <a:ext cx="7200720" cy="31176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951A-AE82-4BF9-B08B-3996B21A3D5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00560" cy="3162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1042920" y="4941720"/>
            <a:ext cx="7058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438-A9E0-49EF-9FD9-AB6A8B080A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00560" cy="3162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70581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787-3C6B-4856-A23C-FD28772FAC9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6" name="Picture 9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400200" cy="3162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705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tructured approach that uses procedures, techniques, tools, and documentation aids to support and facilitate the process of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ree main phases of database design methodolog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126-BEC5-44E8-80B0-38E458D3C8D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866-F8C5-443C-93A4-67EA8ED898B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1" name="Picture 11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2968560" cy="2760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7058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F25-8130-4F30-AEEA-424971B1AA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relation to represent the relationship and include any attributes that are part of the relationship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e post a copy of the Primary Key  attribute(s) of the entities that participate in the relationship into the new relation, to act as foreign key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se foreign keys will also form the Primary Key  of the new relation, possibly in combination with some of the attributes of the relationship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CFE-CA18-4590-8781-AF9BAB7308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81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82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Works 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TextBox 22"/>
          <p:cNvSpPr/>
          <p:nvPr/>
        </p:nvSpPr>
        <p:spPr>
          <a:xfrm>
            <a:off x="1763640" y="5084640"/>
            <a:ext cx="533412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ojec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Proj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ProjectNa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Proj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Work-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No,Proj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hour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 Proj_No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47640" y="3789360"/>
          <a:ext cx="1295640" cy="8017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Hour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Straight Connector 27"/>
          <p:cNvSpPr/>
          <p:nvPr/>
        </p:nvSpPr>
        <p:spPr>
          <a:xfrm flipH="1">
            <a:off x="2843280" y="4292640"/>
            <a:ext cx="792000" cy="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5DF1-B325-4B50-8A60-5A328DEFE2F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lex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relation to represent the relationship and include any attributes that are part of the relationship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st a copy of the Primary Key  attribute(s) of the entities that participate in the complex relationship into the new relation, to act as foreign key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y foreign keys that represent a ‘many’ relationship (for example, 1..*, 0..*) generally will also form the Primary Key  of this new relation, possibly in combination with some of the attributes of the relationship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CFBE-4898-48A3-BB17-A012A7B4DB3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116000" y="2946240"/>
          <a:ext cx="1944720" cy="990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usines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izNo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7" name="Elbow Connector 27"/>
          <p:cNvCxnSpPr>
            <a:endCxn id="398" idx="1"/>
          </p:cNvCxnSpPr>
          <p:nvPr/>
        </p:nvCxnSpPr>
        <p:spPr>
          <a:xfrm flipV="1">
            <a:off x="3058920" y="3233520"/>
            <a:ext cx="937080" cy="144720"/>
          </a:xfrm>
          <a:prstGeom prst="bentConnector3">
            <a:avLst>
              <a:gd name="adj1" fmla="val 50000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99" name=""/>
          <p:cNvGraphicFramePr/>
          <p:nvPr/>
        </p:nvGraphicFramePr>
        <p:xfrm>
          <a:off x="5940360" y="2874960"/>
          <a:ext cx="2016360" cy="1036800"/>
        </p:xfrm>
        <a:graphic>
          <a:graphicData uri="http://schemas.openxmlformats.org/drawingml/2006/table">
            <a:tbl>
              <a:tblPr/>
              <a:tblGrid>
                <a:gridCol w="201636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pli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No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TextBox 21"/>
          <p:cNvSpPr/>
          <p:nvPr/>
        </p:nvSpPr>
        <p:spPr>
          <a:xfrm flipV="1" rot="10800000">
            <a:off x="4067280" y="308988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ntrac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1763640" y="5084640"/>
            <a:ext cx="5334120" cy="94644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usiness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izNo.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pplier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upNo,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……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Lawyer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Law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…….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ontract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izNo, SupNo, Law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Date, EDat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708360" y="4170240"/>
          <a:ext cx="1944720" cy="801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wNo,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Diamond 12"/>
          <p:cNvSpPr/>
          <p:nvPr/>
        </p:nvSpPr>
        <p:spPr>
          <a:xfrm>
            <a:off x="3995640" y="2874960"/>
            <a:ext cx="1224000" cy="719280"/>
          </a:xfrm>
          <a:prstGeom prst="diamond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03" name="Elbow Connector 27"/>
          <p:cNvCxnSpPr/>
          <p:nvPr/>
        </p:nvCxnSpPr>
        <p:spPr>
          <a:xfrm>
            <a:off x="5219640" y="3213000"/>
            <a:ext cx="721440" cy="145440"/>
          </a:xfrm>
          <a:prstGeom prst="bentConnector3">
            <a:avLst>
              <a:gd name="adj1" fmla="val 49975"/>
            </a:avLst>
          </a:prstGeom>
          <a:ln w="9360">
            <a:solidFill>
              <a:srgbClr val="9393fc"/>
            </a:solidFill>
            <a:miter/>
          </a:ln>
        </p:spPr>
      </p:cxnSp>
      <p:cxnSp>
        <p:nvCxnSpPr>
          <p:cNvPr id="404" name="Elbow Connector 27"/>
          <p:cNvCxnSpPr>
            <a:stCxn id="398" idx="2"/>
          </p:cNvCxnSpPr>
          <p:nvPr/>
        </p:nvCxnSpPr>
        <p:spPr>
          <a:xfrm flipH="1" rot="16200000">
            <a:off x="4409280" y="3792240"/>
            <a:ext cx="576360" cy="180360"/>
          </a:xfrm>
          <a:prstGeom prst="bentConnector3">
            <a:avLst>
              <a:gd name="adj1" fmla="val 50000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405" name=""/>
          <p:cNvGraphicFramePr/>
          <p:nvPr/>
        </p:nvGraphicFramePr>
        <p:xfrm>
          <a:off x="3924360" y="1484280"/>
          <a:ext cx="1295280" cy="9144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Straight Connector 54"/>
          <p:cNvSpPr/>
          <p:nvPr/>
        </p:nvSpPr>
        <p:spPr>
          <a:xfrm>
            <a:off x="4572000" y="2421000"/>
            <a:ext cx="0" cy="50328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1F8-A4D4-4528-8E9D-212A4F367C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-valued attribu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new relation to represent multi-valued attribute and include Primary Key  of entity in new relation, to act as a foreign ke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less the multi-valued attribute is itself an alternate key of the entity, the Primary Key  of the new relation is the combination of the multi-valued attribute and the Primary Key  of the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103-20CE-45ED-A9AB-7EF9815089A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067280" y="2708280"/>
          <a:ext cx="1565280" cy="16462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el_no [1..*]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Box 22"/>
          <p:cNvSpPr/>
          <p:nvPr/>
        </p:nvSpPr>
        <p:spPr>
          <a:xfrm>
            <a:off x="1763640" y="4508640"/>
            <a:ext cx="5334120" cy="179892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Telephone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Tel_no,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Emp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Tel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Telephone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Tel_no,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ourier New"/>
                <a:ea typeface="Courier New"/>
              </a:rPr>
              <a:t> EmpNo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Tel_no, Emp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539640" y="1989000"/>
            <a:ext cx="3348000" cy="228420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The Primary Key  of  new relatio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 the multi-valued attribute if itself an alternate key. ( e.g. we sure that there are no duplicated tel_nos for employees 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OR the combination of the multi-valued attribute and the Primary Key  of the entity. ( e.g. 2 brothers work in same company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395-7011-4315-B774-283C1A9DCE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ummary of how to map entities and relationships to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19" name="Picture 1032" descr="C16NT02"/>
          <p:cNvPicPr/>
          <p:nvPr/>
        </p:nvPicPr>
        <p:blipFill>
          <a:blip r:embed="rId1"/>
          <a:srcRect l="-880" t="5827" r="0" b="0"/>
          <a:stretch/>
        </p:blipFill>
        <p:spPr>
          <a:xfrm>
            <a:off x="900000" y="1484280"/>
            <a:ext cx="5832720" cy="5184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33"/>
          <p:cNvSpPr/>
          <p:nvPr/>
        </p:nvSpPr>
        <p:spPr>
          <a:xfrm>
            <a:off x="6705720" y="64008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atabase 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676160"/>
            <a:ext cx="81518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atabase desig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ocess of constructing a model of the data used in an enterprise, independent of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physical consider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base desig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ocess of constructing a model of the data used in an enterprise based on a specific data model (e.g. relational), but independent of a particular DBMS and other physical consider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D32-823A-4628-9CD3-B40C044C7D4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atabase 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6765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ysical database desig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process of producing a description of the implementation of the database on secondary storage; it describes the base relations, file organizations, and indexes design used to achieve efficient access to the data, and any associated integrity constraints and security measur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F15-6806-423A-9AE1-9F8488654F4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tep 1 Build conceptual data model (Chapter 16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and associate attributes with entity or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termine attribute domai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termine candidate, primary, and alternate key attribu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ider us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 enhanced modeling concepts (optional ste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eck model for redundancy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alidate conceptual model against user transaction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view conceptual data model with user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6429-A029-4387-B3EF-4E111A001DE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ep 2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uild and validate logical data model (Chapter 17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erive relations for logical data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idate relations using norm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idate relations against user transac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fine integrity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view logical data model with us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rge logical data models into global model (optional ste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eck for future grow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4D84-A63D-4C13-9C4D-09DDC708B39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12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ep 3  Translate logical data model for target DBMS (Chapter 18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ign base rel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ign representation of derived data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ign general constrai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09C1-1B1C-459F-9DE4-C57A1035253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B3D-AE24-412F-B468-45DF526F0D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94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Build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1029" descr="DS3-Figure 09-01"/>
          <p:cNvPicPr/>
          <p:nvPr/>
        </p:nvPicPr>
        <p:blipFill>
          <a:blip r:embed="rId1"/>
          <a:srcRect l="6695" t="26509" r="31968" b="43426"/>
          <a:stretch/>
        </p:blipFill>
        <p:spPr>
          <a:xfrm>
            <a:off x="1403280" y="1916280"/>
            <a:ext cx="63435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01:58:06Z</dcterms:created>
  <dc:creator>June Blackburn</dc:creator>
  <dc:description/>
  <dc:language>en-US</dc:language>
  <cp:lastModifiedBy>A.Alnuaim</cp:lastModifiedBy>
  <cp:lastPrinted>1998-06-30T15:27:18Z</cp:lastPrinted>
  <dcterms:modified xsi:type="dcterms:W3CDTF">2017-03-13T05:42:45Z</dcterms:modified>
  <cp:revision>161</cp:revision>
  <dc:subject/>
  <dc:title>Chapter 5</dc:title>
</cp:coreProperties>
</file>