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D78B-EF54-4D44-BCE8-D651B7746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F1CD-4F54-4476-A284-F6B9DAA16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821D-7663-4333-BC0B-DEA0C31E8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E560-C038-4D28-BAC6-585BB8E2A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A6DF-2A3E-480A-AE22-4DA4023D1B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5F07-A5C4-4F9A-9667-03CE67391F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BD95-6D8B-469A-BE47-14E31177E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F38F-879B-4386-9222-C16B73A00A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6D0F-5615-46B6-963E-E81DFCA64D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8D48-B31E-4C5F-A07D-897434F975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BFEF-EDB3-482B-93CF-6FC42FD0F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82BC-AD60-49CD-A1F7-C288B7B4E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1D6C-5E03-417C-A18B-39D7F5DE66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5EAD-0795-4A96-B180-3BF40FB516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12CC-6633-4A07-8251-9EE4419FF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EE411-0592-4C4C-925E-C027FF6E69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975F-9A61-48D8-9E09-1DC8D7E4F3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A3A-26C3-4DD2-B810-D1D99F607F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A5C-1C5B-4584-BF00-351D602C69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7D9-E9A9-4E1C-97C9-826453FED9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34D-F0DD-4CB3-87BE-A6071D7B06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A09-3FE1-4BEA-8272-B91396F0DF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701F-0DCB-4F57-8E44-818351A928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515-D7DB-4D51-8E5C-7E79DD71B1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5E4-096D-44A0-BE70-F27169654C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512-B37D-42BD-9BD0-5BA0AFB95A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436-DE87-4134-ABE0-8361BA70C1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6D1-4A70-49BC-BF52-46FEED9B0B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6B4-A82D-45EE-B07A-6ECCF69082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D72-EA58-46BC-9275-9AB79C7EE2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3252E-0F1E-4628-BB1E-B2A59105CC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E90FB-A577-4383-B739-80BB451051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DC7BA-A965-467D-B0D0-64C483CDE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4ED7-2B5F-416E-98B5-2A7F971C64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FAA9-EE88-4766-80AC-1B419AB277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53246-39FA-422B-8E31-A91F364762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A16C-A8B6-44E7-9906-5ECC1527A3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1C1E6-37AE-4478-9337-A560D039F4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7B1BD-00D7-4B83-9732-68934D3F804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27CC5-AB92-44C6-9768-3A0DF8F5C5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C4917-9726-48D6-B673-D8A1D1FA69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67E3A-0A78-488A-84AA-83CA870612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B1401-DE76-442A-B6EC-C581B8DA8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4E14-7854-43E2-952F-019BAF720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1DE2-814B-42DD-A870-E20006AD9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88C6-63E0-4613-9CE9-424B28BF8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1926-B557-44B6-A70A-2B4681AC1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0EC1-A743-4727-A4FF-E5C9E786E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918-712C-4E7A-9D3D-29B941E70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1D8F-A353-4155-8D11-7E5B236C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DB9-57F7-4802-8C11-37CE5CF8D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EEF3-80DD-4694-B843-C3E5B1E021B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6-18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ign Methodolog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D7E-DACA-47F6-8E6E-CEAD34427E0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76520"/>
            <a:ext cx="84247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ong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strong entity in the data model, create a relation that includes all the simple attributes of that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composite attributes, include only the constituent simple attributes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its components only)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eak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weak entity in the data model, create a relation that includes all the simple attributes of that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weak entity must include its Partial key and its owner entity type PK as a FK. The combination of the two keys form the PK of the weak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B451-2F82-4540-A4E9-A6DBDDE3330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71640" y="1413000"/>
          <a:ext cx="1565280" cy="213336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98" name="Elbow Connector 27"/>
          <p:cNvCxnSpPr>
            <a:stCxn id="199" idx="2"/>
          </p:cNvCxnSpPr>
          <p:nvPr/>
        </p:nvCxnSpPr>
        <p:spPr>
          <a:xfrm flipH="1" rot="16200000">
            <a:off x="4106160" y="3467520"/>
            <a:ext cx="670320" cy="1558080"/>
          </a:xfrm>
          <a:prstGeom prst="bentConnector2">
            <a:avLst/>
          </a:prstGeom>
          <a:ln w="9360">
            <a:solidFill>
              <a:srgbClr val="9393fc"/>
            </a:solidFill>
            <a:miter/>
          </a:ln>
        </p:spPr>
      </p:cxnSp>
      <p:sp>
        <p:nvSpPr>
          <p:cNvPr id="199" name="Rectangle 17"/>
          <p:cNvSpPr/>
          <p:nvPr/>
        </p:nvSpPr>
        <p:spPr>
          <a:xfrm>
            <a:off x="3132000" y="3573360"/>
            <a:ext cx="1062000" cy="3373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Dep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lationshi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Box 19"/>
          <p:cNvSpPr/>
          <p:nvPr/>
        </p:nvSpPr>
        <p:spPr>
          <a:xfrm>
            <a:off x="3059280" y="3933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Box 21"/>
          <p:cNvSpPr/>
          <p:nvPr/>
        </p:nvSpPr>
        <p:spPr>
          <a:xfrm flipV="1" rot="10800000">
            <a:off x="3714840" y="4213800"/>
            <a:ext cx="15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laims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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1835280" y="5229360"/>
            <a:ext cx="580860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Fname,Mname ,Lname,Gender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DEPENDEN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DepNo, Emp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Gender, Relationship 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DepNo, Emp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5" name="Straight Arrow Connector 24"/>
          <p:cNvCxnSpPr/>
          <p:nvPr/>
        </p:nvCxnSpPr>
        <p:spPr>
          <a:xfrm>
            <a:off x="1835280" y="3357360"/>
            <a:ext cx="1297440" cy="4323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Oval 25"/>
          <p:cNvSpPr/>
          <p:nvPr/>
        </p:nvSpPr>
        <p:spPr>
          <a:xfrm>
            <a:off x="900000" y="2997360"/>
            <a:ext cx="1584360" cy="7189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Box 26"/>
          <p:cNvSpPr/>
          <p:nvPr/>
        </p:nvSpPr>
        <p:spPr>
          <a:xfrm flipV="1" rot="10800000">
            <a:off x="1042560" y="30888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al Key of Week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36CB-9AB8-440F-9597-E7C250C6A42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 each 1:* binary relationship, the entity on the ‘one side’ of the relationship is designated as the parent entity and the entity on the ‘many side’ is designated as the child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o represent this relationship, post a copy of the Primary Key  attribute(s) of parent entity into the relation representing the child entity, to act as a foreign ke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dd attributes that describes the relationship to the child entit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if exist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AB2-B4F3-4D24-880F-2FBE00B9BCB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6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17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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Alloca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Box 22"/>
          <p:cNvSpPr/>
          <p:nvPr/>
        </p:nvSpPr>
        <p:spPr>
          <a:xfrm>
            <a:off x="1763640" y="5084640"/>
            <a:ext cx="5334120" cy="115956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,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 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ranch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Branch Na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Branch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2" name="Straight Arrow Connector 29"/>
          <p:cNvCxnSpPr/>
          <p:nvPr/>
        </p:nvCxnSpPr>
        <p:spPr>
          <a:xfrm>
            <a:off x="1476360" y="198900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3" name="Oval 30"/>
          <p:cNvSpPr/>
          <p:nvPr/>
        </p:nvSpPr>
        <p:spPr>
          <a:xfrm>
            <a:off x="539640" y="162864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Box 31"/>
          <p:cNvSpPr/>
          <p:nvPr/>
        </p:nvSpPr>
        <p:spPr>
          <a:xfrm flipV="1" rot="10800000">
            <a:off x="684360" y="184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5" name="Straight Arrow Connector 32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26" name="Oval 3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Box 3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7AA3-4344-480E-AC3E-67A2877FD14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6784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ing relations to represent a 1:1 relationship is more complex as th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rdinalit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cannot be used to identify the parent and child entities in a relationship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Instead, th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participation constraints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are used to decide whether it i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bes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to represent the relationship b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Combining the entities involved into one rela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-457200">
              <a:spcBef>
                <a:spcPts val="45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OR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by creating two relations and posting a copy of the Primary Key  from one relation to the oth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der the following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a) mandatory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ides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) mandator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) optional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1:1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852-820A-4C93-BC23-960BB084270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a) Mandator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1:1 relationship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bine entities involved into one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oose one of the primary keys of original entities to be Primary Key  of the new relation, while the other (if one exists) is used as an alternate ke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dd attributes that describes the relationship to the relation (if exist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AE5-50A5-41BC-A06D-A14B46821F8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8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819520" y="1755720"/>
          <a:ext cx="1565280" cy="16462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SN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40" name="Elbow Connector 27"/>
          <p:cNvCxnSpPr/>
          <p:nvPr/>
        </p:nvCxnSpPr>
        <p:spPr>
          <a:xfrm>
            <a:off x="3563640" y="3429000"/>
            <a:ext cx="1702440" cy="1161360"/>
          </a:xfrm>
          <a:prstGeom prst="bentConnector3">
            <a:avLst>
              <a:gd name="adj1" fmla="val 613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41" name=""/>
          <p:cNvGraphicFramePr/>
          <p:nvPr/>
        </p:nvGraphicFramePr>
        <p:xfrm>
          <a:off x="5257800" y="3357720"/>
          <a:ext cx="1717560" cy="1477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 Inf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O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h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Box 22"/>
          <p:cNvSpPr/>
          <p:nvPr/>
        </p:nvSpPr>
        <p:spPr>
          <a:xfrm>
            <a:off x="1403280" y="5084640"/>
            <a:ext cx="669780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SN, Fname,Mname,Lname,Sex,Salary,DOB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SN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, Emp_NO, Fname,Mname ,Lname, Sex, Salary,DOB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SS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ECE5-92AD-4478-9F69-E2FC00E6AE9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)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datory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 of a 1:1 relationshi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Identify parent and child entities using participation constraints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Entity with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MS PGothic"/>
              </a:rPr>
              <a:t>optional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participation in relationship is designated a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pare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Entity with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MS PGothic"/>
              </a:rPr>
              <a:t>mandatory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participation is designated as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chil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 copy of Primary Key  of the parent entity is placed in the relation representing the child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If the relationship has one or more attributes, these attributes should follow the posting of the Primary Key  to the child relation.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34D1-62AF-4D4A-AFD3-6B99948069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2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54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55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ranch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Manag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Box 22"/>
          <p:cNvSpPr/>
          <p:nvPr/>
        </p:nvSpPr>
        <p:spPr>
          <a:xfrm>
            <a:off x="1763640" y="5084640"/>
            <a:ext cx="5334120" cy="115956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ranch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ranch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Branch Name,_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_Manger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Sdate,Edat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Branch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0" name="Straight Arrow Connector 12"/>
          <p:cNvCxnSpPr/>
          <p:nvPr/>
        </p:nvCxnSpPr>
        <p:spPr>
          <a:xfrm>
            <a:off x="1476360" y="198900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1" name="Oval 13"/>
          <p:cNvSpPr/>
          <p:nvPr/>
        </p:nvSpPr>
        <p:spPr>
          <a:xfrm>
            <a:off x="539640" y="162864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14"/>
          <p:cNvSpPr/>
          <p:nvPr/>
        </p:nvSpPr>
        <p:spPr>
          <a:xfrm flipV="1" rot="10800000">
            <a:off x="684360" y="184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3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64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547640" y="3789360"/>
          <a:ext cx="1295640" cy="91440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Straight Connector 27"/>
          <p:cNvSpPr/>
          <p:nvPr/>
        </p:nvSpPr>
        <p:spPr>
          <a:xfrm flipH="1">
            <a:off x="2843280" y="4292640"/>
            <a:ext cx="792000" cy="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Box 21"/>
          <p:cNvSpPr/>
          <p:nvPr/>
        </p:nvSpPr>
        <p:spPr>
          <a:xfrm flipV="1" rot="16200000">
            <a:off x="3333600" y="3524760"/>
            <a:ext cx="9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EB7F-2DFC-4C61-8071-08F36BE7D7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 c)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onal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participation on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th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sides of a 1:1 relationshi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 this case, the designation of the parent and child entities is arbitrary unless we can find out more about the relationship that can help a decision to be made one way or the oth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dd attributes that describes the relationship to the child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urpose of a design methodolog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design has three main phases: conceptual, logical, and  physical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deriv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set of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relations from a conceptual data model as part of logical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5B1-A217-4F68-B566-C885C872A36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012-A52B-45D2-BB5C-A64ECF030F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19520" y="1755720"/>
          <a:ext cx="1565280" cy="138600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8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278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rgery_Mater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M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tu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Box 19"/>
          <p:cNvSpPr/>
          <p:nvPr/>
        </p:nvSpPr>
        <p:spPr>
          <a:xfrm>
            <a:off x="3059280" y="321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Box 21"/>
          <p:cNvSpPr/>
          <p:nvPr/>
        </p:nvSpPr>
        <p:spPr>
          <a:xfrm flipV="1" rot="10800000">
            <a:off x="3580920" y="416772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1763640" y="5084640"/>
            <a:ext cx="5904000" cy="5202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perati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rgery_Material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,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3" name="Straight Arrow Connector 12"/>
          <p:cNvCxnSpPr/>
          <p:nvPr/>
        </p:nvCxnSpPr>
        <p:spPr>
          <a:xfrm>
            <a:off x="1476360" y="184464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4" name="Oval 13"/>
          <p:cNvSpPr/>
          <p:nvPr/>
        </p:nvSpPr>
        <p:spPr>
          <a:xfrm>
            <a:off x="539640" y="148428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5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6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8" name="Straight Arrow Connector 28"/>
          <p:cNvCxnSpPr/>
          <p:nvPr/>
        </p:nvCxnSpPr>
        <p:spPr>
          <a:xfrm>
            <a:off x="1547280" y="2636640"/>
            <a:ext cx="1296360" cy="4323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89" name="Oval 29"/>
          <p:cNvSpPr/>
          <p:nvPr/>
        </p:nvSpPr>
        <p:spPr>
          <a:xfrm>
            <a:off x="611280" y="2276640"/>
            <a:ext cx="1584360" cy="720720"/>
          </a:xfrm>
          <a:prstGeom prst="ellipse">
            <a:avLst/>
          </a:prstGeom>
          <a:solidFill>
            <a:srgbClr val="ffc2c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Box 30"/>
          <p:cNvSpPr/>
          <p:nvPr/>
        </p:nvSpPr>
        <p:spPr>
          <a:xfrm flipV="1" rot="10800000">
            <a:off x="755640" y="2491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1" name="Straight Arrow Connector 33"/>
          <p:cNvCxnSpPr/>
          <p:nvPr/>
        </p:nvCxnSpPr>
        <p:spPr>
          <a:xfrm flipH="1">
            <a:off x="6947640" y="3573360"/>
            <a:ext cx="793080" cy="93600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92" name="Oval 34"/>
          <p:cNvSpPr/>
          <p:nvPr/>
        </p:nvSpPr>
        <p:spPr>
          <a:xfrm>
            <a:off x="7093080" y="3068640"/>
            <a:ext cx="1582560" cy="720720"/>
          </a:xfrm>
          <a:prstGeom prst="ellipse">
            <a:avLst/>
          </a:prstGeom>
          <a:solidFill>
            <a:srgbClr val="ffc2c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Box 35"/>
          <p:cNvSpPr/>
          <p:nvPr/>
        </p:nvSpPr>
        <p:spPr>
          <a:xfrm flipV="1" rot="10800000">
            <a:off x="7236000" y="32835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Box 36"/>
          <p:cNvSpPr/>
          <p:nvPr/>
        </p:nvSpPr>
        <p:spPr>
          <a:xfrm>
            <a:off x="1763640" y="5661000"/>
            <a:ext cx="5904000" cy="5202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perati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O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,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rgery_Material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Box 35"/>
          <p:cNvSpPr/>
          <p:nvPr/>
        </p:nvSpPr>
        <p:spPr>
          <a:xfrm flipV="1" rot="10800000">
            <a:off x="684360" y="1628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179280" y="3573360"/>
            <a:ext cx="3313080" cy="106740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We have the choice to post a copy of the Primary Key  of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</a:rPr>
              <a:t>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entity to 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</a:rPr>
              <a:t>Surgery_Material</a:t>
            </a: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 entity or vice versa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33D1-4ECC-4B5F-834C-F874E64CE0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819520" y="1755720"/>
          <a:ext cx="1565280" cy="14540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87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01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02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r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tue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TextBox 19"/>
          <p:cNvSpPr/>
          <p:nvPr/>
        </p:nvSpPr>
        <p:spPr>
          <a:xfrm>
            <a:off x="3059280" y="3213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Box 21"/>
          <p:cNvSpPr/>
          <p:nvPr/>
        </p:nvSpPr>
        <p:spPr>
          <a:xfrm flipV="1" rot="10800000">
            <a:off x="3580920" y="416772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Us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6" name="Straight Arrow Connector 12"/>
          <p:cNvCxnSpPr/>
          <p:nvPr/>
        </p:nvCxnSpPr>
        <p:spPr>
          <a:xfrm>
            <a:off x="1476360" y="1844640"/>
            <a:ext cx="1296000" cy="4327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07" name="Oval 13"/>
          <p:cNvSpPr/>
          <p:nvPr/>
        </p:nvSpPr>
        <p:spPr>
          <a:xfrm>
            <a:off x="539640" y="1484280"/>
            <a:ext cx="1584360" cy="72072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Box 14"/>
          <p:cNvSpPr/>
          <p:nvPr/>
        </p:nvSpPr>
        <p:spPr>
          <a:xfrm flipV="1" rot="10800000">
            <a:off x="684360" y="1699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ent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9" name="Straight Arrow Connector 17"/>
          <p:cNvCxnSpPr/>
          <p:nvPr/>
        </p:nvCxnSpPr>
        <p:spPr>
          <a:xfrm flipH="1">
            <a:off x="6226920" y="2708280"/>
            <a:ext cx="793080" cy="93744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10" name="Oval 23"/>
          <p:cNvSpPr/>
          <p:nvPr/>
        </p:nvSpPr>
        <p:spPr>
          <a:xfrm>
            <a:off x="6372360" y="2205000"/>
            <a:ext cx="1584360" cy="719280"/>
          </a:xfrm>
          <a:prstGeom prst="ellipse">
            <a:avLst/>
          </a:prstGeom>
          <a:solidFill>
            <a:srgbClr val="dbdbd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Box 24"/>
          <p:cNvSpPr/>
          <p:nvPr/>
        </p:nvSpPr>
        <p:spPr>
          <a:xfrm flipV="1" rot="10800000">
            <a:off x="6516720" y="2419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ild entit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Box 36"/>
          <p:cNvSpPr/>
          <p:nvPr/>
        </p:nvSpPr>
        <p:spPr>
          <a:xfrm>
            <a:off x="1763640" y="5661000"/>
            <a:ext cx="5904000" cy="94644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ar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Car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atues,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Car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79280" y="3716280"/>
            <a:ext cx="3313080" cy="155412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If we assume the majority of cars but not all , are used by employee and that minority of employee use ca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Therefor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 The care entity is closer to begin mandatory than employee entity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CBDE-9E40-46D8-A9E8-8F1BD04C4F6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ursive relationships Mapping conclus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cc0000"/>
              </a:buClr>
              <a:buSzPct val="7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recursive relationships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ingle relation with two copies for the primary key with different nam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99"/>
              </a:spcBef>
              <a:buClr>
                <a:srgbClr val="cc0000"/>
              </a:buClr>
              <a:buSzPct val="75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recursive relationship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w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rela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One relation for the entity typ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51444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nd create a new relation to represent the relationship. The new relation would only have two attributes, both copies of the primary key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(i.e. the primary key has two attributes, both taken from the primary key of the entity).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A49-4D07-4C13-A95F-086E451B46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203640" y="2935440"/>
            <a:ext cx="1762200" cy="1008000"/>
          </a:xfrm>
          <a:prstGeom prst="rect">
            <a:avLst/>
          </a:prstGeom>
          <a:noFill/>
          <a:ln w="1260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F84-E027-4D7A-A2D3-E6F5229B6D5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1026"/>
          <p:cNvSpPr/>
          <p:nvPr/>
        </p:nvSpPr>
        <p:spPr>
          <a:xfrm>
            <a:off x="380880" y="11592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a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 recursive relationships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4965840" y="3079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3780000" y="39942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Box 21"/>
          <p:cNvSpPr/>
          <p:nvPr/>
        </p:nvSpPr>
        <p:spPr>
          <a:xfrm flipV="1" rot="10800000">
            <a:off x="2857320" y="2570760"/>
            <a:ext cx="19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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Is_managed_b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Box 24"/>
          <p:cNvSpPr/>
          <p:nvPr/>
        </p:nvSpPr>
        <p:spPr>
          <a:xfrm flipV="1" rot="10800000">
            <a:off x="5003280" y="27136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Box 12"/>
          <p:cNvSpPr/>
          <p:nvPr/>
        </p:nvSpPr>
        <p:spPr>
          <a:xfrm>
            <a:off x="1143000" y="5013360"/>
            <a:ext cx="6929280" cy="94644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GB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loyee_ID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Employee_Name, Employee_DOB, </a:t>
            </a:r>
            <a:r>
              <a:rPr b="0" lang="en-GB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Manager_ID</a:t>
            </a: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Employee 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 Manager_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284720" y="3419640"/>
          <a:ext cx="1717560" cy="1234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I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_DO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29" name="TextBox 24"/>
          <p:cNvSpPr/>
          <p:nvPr/>
        </p:nvSpPr>
        <p:spPr>
          <a:xfrm flipV="1" rot="10800000">
            <a:off x="2786040" y="3993120"/>
            <a:ext cx="11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ag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Box 14"/>
          <p:cNvSpPr/>
          <p:nvPr/>
        </p:nvSpPr>
        <p:spPr>
          <a:xfrm>
            <a:off x="571680" y="1928880"/>
            <a:ext cx="2071440" cy="1434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The representation of a 1:* recursive relationship is similar to 1:* binary relationship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However, in this case, both the parent and child entity is the </a:t>
            </a:r>
            <a:r>
              <a:rPr b="0" i="1" lang="en-US" sz="1400" spc="-1" strike="noStrike">
                <a:solidFill>
                  <a:srgbClr val="c00000"/>
                </a:solidFill>
                <a:latin typeface="Times New Roman"/>
              </a:rPr>
              <a:t>same</a:t>
            </a:r>
            <a:r>
              <a:rPr b="0" lang="en-US" sz="1400" spc="-1" strike="noStrike">
                <a:solidFill>
                  <a:srgbClr val="c00000"/>
                </a:solidFill>
                <a:latin typeface="Times New Roman"/>
              </a:rPr>
              <a:t> entity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9C39-9141-44D1-B4E2-74E570C49DF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203640" y="2935440"/>
            <a:ext cx="1762200" cy="1008000"/>
          </a:xfrm>
          <a:prstGeom prst="rect">
            <a:avLst/>
          </a:prstGeom>
          <a:noFill/>
          <a:ln w="1260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1EF-9DE3-4666-8693-07D4F423BBA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Rectangle 1026"/>
          <p:cNvSpPr/>
          <p:nvPr/>
        </p:nvSpPr>
        <p:spPr>
          <a:xfrm>
            <a:off x="380880" y="11592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b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recursive relationships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Box 19"/>
          <p:cNvSpPr/>
          <p:nvPr/>
        </p:nvSpPr>
        <p:spPr>
          <a:xfrm>
            <a:off x="4965840" y="3079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3780000" y="39942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Box 21"/>
          <p:cNvSpPr/>
          <p:nvPr/>
        </p:nvSpPr>
        <p:spPr>
          <a:xfrm flipV="1" rot="10800000">
            <a:off x="3143160" y="257076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ntains </a:t>
            </a:r>
            <a:r>
              <a:rPr b="0" lang="en-US" sz="1600" spc="-1" strike="noStrike">
                <a:solidFill>
                  <a:srgbClr val="cc0000"/>
                </a:solidFill>
                <a:latin typeface="Webdings"/>
                <a:ea typeface="Webdings"/>
              </a:rPr>
              <a:t>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Box 24"/>
          <p:cNvSpPr/>
          <p:nvPr/>
        </p:nvSpPr>
        <p:spPr>
          <a:xfrm flipV="1" rot="10800000">
            <a:off x="5003280" y="2713680"/>
            <a:ext cx="15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on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Box 12"/>
          <p:cNvSpPr/>
          <p:nvPr/>
        </p:nvSpPr>
        <p:spPr>
          <a:xfrm>
            <a:off x="1763640" y="5013360"/>
            <a:ext cx="5904000" cy="1585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ITEM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Item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Description, Unit_Cos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: Item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OMPONEN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Item_No, Componenet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Quantit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: Item_No, Componenet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: Item_No references ITEM(Item_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Foreign Key: Componenet_No  references ITEM(Item_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284720" y="3419640"/>
          <a:ext cx="1717560" cy="123480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tem 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scription Unit_Cos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42" name="TextBox 24"/>
          <p:cNvSpPr/>
          <p:nvPr/>
        </p:nvSpPr>
        <p:spPr>
          <a:xfrm flipV="1" rot="10800000">
            <a:off x="2857320" y="3993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d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928880" y="3125880"/>
          <a:ext cx="785880" cy="457200"/>
        </p:xfrm>
        <a:graphic>
          <a:graphicData uri="http://schemas.openxmlformats.org/drawingml/2006/table">
            <a:tbl>
              <a:tblPr/>
              <a:tblGrid>
                <a:gridCol w="785880"/>
              </a:tblGrid>
              <a:tr h="200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6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Arial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344" name="Straight Connector 27"/>
          <p:cNvSpPr/>
          <p:nvPr/>
        </p:nvSpPr>
        <p:spPr>
          <a:xfrm>
            <a:off x="2714760" y="3429000"/>
            <a:ext cx="488880" cy="1116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BA0-A2C5-4A77-B0E6-263F4D7B02C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perclass/subclass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dentify superclass entity as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en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and subclass entity as the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hild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e are various options on how to represent such a relationship as one or more relations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selection of the most appropriate option is dependent on a number of factor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disjointness and participation constraints on the superclass/subclass relations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ther the subclasses are involved in distinct relationshi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number of participants in the superclass/subclass relationship.</a:t>
            </a:r>
            <a:r>
              <a:rPr b="1" lang="en-GB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724-4129-4EB8-B8BC-08B7D381C4E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Guidelines for representation of  superclass / subclass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1" name="Picture 1032" descr="C16NT01"/>
          <p:cNvPicPr/>
          <p:nvPr/>
        </p:nvPicPr>
        <p:blipFill>
          <a:blip r:embed="rId1"/>
          <a:srcRect l="-1129" t="16535" r="0" b="0"/>
          <a:stretch/>
        </p:blipFill>
        <p:spPr>
          <a:xfrm>
            <a:off x="684360" y="1773360"/>
            <a:ext cx="7200720" cy="31176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AD0E-612F-4486-BD9D-6DD0CB51DA8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400560" cy="3162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1042920" y="4941720"/>
            <a:ext cx="70581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634B-2261-4B27-90E8-979F63BED1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1" name="Picture 10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00560" cy="3162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70581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1B57-BD47-4E33-A72F-638A1C361C5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6" name="Picture 9" descr=""/>
          <p:cNvPicPr/>
          <p:nvPr/>
        </p:nvPicPr>
        <p:blipFill>
          <a:blip r:embed="rId1"/>
          <a:stretch/>
        </p:blipFill>
        <p:spPr>
          <a:xfrm>
            <a:off x="2843280" y="1413000"/>
            <a:ext cx="3400200" cy="3162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1258920" y="4724280"/>
            <a:ext cx="70581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tructured approach that uses procedures, techniques, tools, and documentation aids to support and facilitate the process of desig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ree main phases of database design methodolog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base desig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45A4-B641-4A08-B6B2-DC75E866ED2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511B-6353-49ED-AA04-8C2C8F6E68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presentation of  superclass / subclass relationship based on participation and disjointne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7816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1" name="Picture 11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2968560" cy="27604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7058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2C7-3BE7-4BF5-9377-B16D473B974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 binar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relation to represent the relationship and include any attributes that are part of the relationship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e post a copy of the Primary Key  attribute(s) of the entities that participate in the relationship into the new relation, to act as foreign key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se foreign keys will also form the Primary Key  of the new relation, possibly in combination with some of the attributes of the relationship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DC56-140D-4059-91F7-A7CC8D471C9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819520" y="1755720"/>
          <a:ext cx="1565280" cy="140184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81" name="Elbow Connector 27"/>
          <p:cNvCxnSpPr/>
          <p:nvPr/>
        </p:nvCxnSpPr>
        <p:spPr>
          <a:xfrm flipH="1" flipV="1" rot="10800000">
            <a:off x="3634920" y="3141360"/>
            <a:ext cx="1631160" cy="1448640"/>
          </a:xfrm>
          <a:prstGeom prst="bentConnector3">
            <a:avLst>
              <a:gd name="adj1" fmla="val -838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82" name=""/>
          <p:cNvGraphicFramePr/>
          <p:nvPr/>
        </p:nvGraphicFramePr>
        <p:xfrm>
          <a:off x="5257800" y="3695760"/>
          <a:ext cx="1717560" cy="123516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_No 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ject 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TextBox 19"/>
          <p:cNvSpPr/>
          <p:nvPr/>
        </p:nvSpPr>
        <p:spPr>
          <a:xfrm>
            <a:off x="3124080" y="35593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1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TextBox 20"/>
          <p:cNvSpPr/>
          <p:nvPr/>
        </p:nvSpPr>
        <p:spPr>
          <a:xfrm>
            <a:off x="4648320" y="4626000"/>
            <a:ext cx="4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0..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TextBox 21"/>
          <p:cNvSpPr/>
          <p:nvPr/>
        </p:nvSpPr>
        <p:spPr>
          <a:xfrm flipV="1" rot="10800000">
            <a:off x="3580920" y="4167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Works 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TextBox 22"/>
          <p:cNvSpPr/>
          <p:nvPr/>
        </p:nvSpPr>
        <p:spPr>
          <a:xfrm>
            <a:off x="1763640" y="5084640"/>
            <a:ext cx="5334120" cy="137268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oject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Proj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ProjectNa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Proj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Work-on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No,Proj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hour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 Proj_No,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47640" y="3789360"/>
          <a:ext cx="1295640" cy="8017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Hour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Straight Connector 27"/>
          <p:cNvSpPr/>
          <p:nvPr/>
        </p:nvSpPr>
        <p:spPr>
          <a:xfrm flipH="1">
            <a:off x="2843280" y="4292640"/>
            <a:ext cx="792000" cy="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336E-DDED-43A2-AF23-B7D574C6A70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lex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relation to represent the relationship and include any attributes that are part of the relationship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st a copy of the Primary Key  attribute(s) of the entities that participate in the complex relationship into the new relation, to act as foreign key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y foreign keys that represent a ‘many’ relationship (for example, 1..*, 0..*) generally will also form the Primary Key  of this new relation, possibly in combination with some of the attributes of the relationship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DD2-D8CF-4EB6-9D71-771ABC1607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116000" y="2946240"/>
          <a:ext cx="1944720" cy="990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usiness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BizNo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97" name="Elbow Connector 27"/>
          <p:cNvCxnSpPr>
            <a:endCxn id="398" idx="1"/>
          </p:cNvCxnSpPr>
          <p:nvPr/>
        </p:nvCxnSpPr>
        <p:spPr>
          <a:xfrm flipV="1">
            <a:off x="3058920" y="3233520"/>
            <a:ext cx="937080" cy="144720"/>
          </a:xfrm>
          <a:prstGeom prst="bentConnector3">
            <a:avLst>
              <a:gd name="adj1" fmla="val 50000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399" name=""/>
          <p:cNvGraphicFramePr/>
          <p:nvPr/>
        </p:nvGraphicFramePr>
        <p:xfrm>
          <a:off x="5940360" y="2874960"/>
          <a:ext cx="2016360" cy="1036800"/>
        </p:xfrm>
        <a:graphic>
          <a:graphicData uri="http://schemas.openxmlformats.org/drawingml/2006/table">
            <a:tbl>
              <a:tblPr/>
              <a:tblGrid>
                <a:gridCol w="201636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pli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No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TextBox 21"/>
          <p:cNvSpPr/>
          <p:nvPr/>
        </p:nvSpPr>
        <p:spPr>
          <a:xfrm flipV="1" rot="10800000">
            <a:off x="4067280" y="308988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ntrac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1763640" y="5084640"/>
            <a:ext cx="5334120" cy="94644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Business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izNo.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…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Supplier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SupNo,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 ……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Lawyer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Law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…….…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Contract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BizNo, SupNo, Law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StDate, EDat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3708360" y="4170240"/>
          <a:ext cx="1944720" cy="80172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awNo, 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Diamond 12"/>
          <p:cNvSpPr/>
          <p:nvPr/>
        </p:nvSpPr>
        <p:spPr>
          <a:xfrm>
            <a:off x="3995640" y="2874960"/>
            <a:ext cx="1224000" cy="719280"/>
          </a:xfrm>
          <a:prstGeom prst="diamond">
            <a:avLst/>
          </a:pr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03" name="Elbow Connector 27"/>
          <p:cNvCxnSpPr/>
          <p:nvPr/>
        </p:nvCxnSpPr>
        <p:spPr>
          <a:xfrm>
            <a:off x="5219640" y="3213000"/>
            <a:ext cx="721440" cy="145440"/>
          </a:xfrm>
          <a:prstGeom prst="bentConnector3">
            <a:avLst>
              <a:gd name="adj1" fmla="val 49975"/>
            </a:avLst>
          </a:prstGeom>
          <a:ln w="9360">
            <a:solidFill>
              <a:srgbClr val="9393fc"/>
            </a:solidFill>
            <a:miter/>
          </a:ln>
        </p:spPr>
      </p:cxnSp>
      <p:cxnSp>
        <p:nvCxnSpPr>
          <p:cNvPr id="404" name="Elbow Connector 27"/>
          <p:cNvCxnSpPr>
            <a:stCxn id="398" idx="2"/>
          </p:cNvCxnSpPr>
          <p:nvPr/>
        </p:nvCxnSpPr>
        <p:spPr>
          <a:xfrm flipH="1" rot="16200000">
            <a:off x="4409280" y="3792240"/>
            <a:ext cx="576360" cy="180360"/>
          </a:xfrm>
          <a:prstGeom prst="bentConnector3">
            <a:avLst>
              <a:gd name="adj1" fmla="val 50000"/>
            </a:avLst>
          </a:prstGeom>
          <a:ln w="9360">
            <a:solidFill>
              <a:srgbClr val="9393fc"/>
            </a:solidFill>
            <a:miter/>
          </a:ln>
        </p:spPr>
      </p:cxnSp>
      <p:graphicFrame>
        <p:nvGraphicFramePr>
          <p:cNvPr id="405" name=""/>
          <p:cNvGraphicFramePr/>
          <p:nvPr/>
        </p:nvGraphicFramePr>
        <p:xfrm>
          <a:off x="3924360" y="1484280"/>
          <a:ext cx="1295280" cy="91440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37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dat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Straight Connector 54"/>
          <p:cNvSpPr/>
          <p:nvPr/>
        </p:nvSpPr>
        <p:spPr>
          <a:xfrm>
            <a:off x="4572000" y="2421000"/>
            <a:ext cx="0" cy="503280"/>
          </a:xfrm>
          <a:prstGeom prst="line">
            <a:avLst/>
          </a:prstGeom>
          <a:ln w="158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1845-2B50-413C-9478-D8CCB3C6A1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erive relations for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-valued attribu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eate a new relation to represent multi-valued attribute and include Primary Key  of entity in new relation, to act as a foreign ke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less the multi-valued attribute is itself an alternate key of the entity, the Primary Key  of the new relation is the combination of the multi-valued attribute and the Primary Key  of the entit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90B-4226-45DF-9076-196AF8F99AD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3" name="Text Box 103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4067280" y="2708280"/>
          <a:ext cx="1565280" cy="1646280"/>
        </p:xfrm>
        <a:graphic>
          <a:graphicData uri="http://schemas.openxmlformats.org/drawingml/2006/table">
            <a:tbl>
              <a:tblPr/>
              <a:tblGrid>
                <a:gridCol w="156528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mp_NO{PK}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alar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el_no [1..*]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Box 22"/>
          <p:cNvSpPr/>
          <p:nvPr/>
        </p:nvSpPr>
        <p:spPr>
          <a:xfrm>
            <a:off x="1763640" y="4508640"/>
            <a:ext cx="5334120" cy="1798920"/>
          </a:xfrm>
          <a:prstGeom prst="rect">
            <a:avLst/>
          </a:prstGeom>
          <a:solidFill>
            <a:srgbClr val="ff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Employee 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Emp_NO</a:t>
            </a: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, Name, Sex, Salary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Emp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Telephone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Tel_no,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EmpNo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Tel_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Telephone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Courier New"/>
                <a:ea typeface="Courier New"/>
              </a:rPr>
              <a:t>Tel_no,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ourier New"/>
                <a:ea typeface="Courier New"/>
              </a:rPr>
              <a:t> EmpNo</a:t>
            </a:r>
            <a:r>
              <a:rPr b="0" lang="en-US" sz="1400" spc="-1" strike="noStrike">
                <a:solidFill>
                  <a:srgbClr val="003366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  <a:ea typeface="Courier New"/>
              </a:rPr>
              <a:t>Primary Key  Tel_no, Emp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539640" y="1989000"/>
            <a:ext cx="3348000" cy="2284200"/>
          </a:xfrm>
          <a:prstGeom prst="rect">
            <a:avLst/>
          </a:prstGeom>
          <a:solidFill>
            <a:srgbClr val="ad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The Primary Key  of  new relatio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 the multi-valued attribute if itself an alternate key. ( e.g. we sure that there are no duplicated tel_nos for employees 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b0000"/>
                </a:solidFill>
                <a:latin typeface="Times New Roman"/>
                <a:ea typeface="Times New Roman"/>
              </a:rPr>
              <a:t>-OR the combination of the multi-valued attribute and the Primary Key  of the entity. ( e.g. 2 brothers work in same company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F4C-E627-411D-8C7E-6A16573333F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ummary of how to map entities and relationships to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419" name="Picture 1032" descr="C16NT02"/>
          <p:cNvPicPr/>
          <p:nvPr/>
        </p:nvPicPr>
        <p:blipFill>
          <a:blip r:embed="rId1"/>
          <a:srcRect l="-880" t="5827" r="0" b="0"/>
          <a:stretch/>
        </p:blipFill>
        <p:spPr>
          <a:xfrm>
            <a:off x="900000" y="1484280"/>
            <a:ext cx="5832720" cy="5184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033"/>
          <p:cNvSpPr/>
          <p:nvPr/>
        </p:nvSpPr>
        <p:spPr>
          <a:xfrm>
            <a:off x="6705720" y="64008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atabase 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676160"/>
            <a:ext cx="81518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atabase desig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ocess of constructing a model of the data used in an enterprise, independent of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physical consider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base desig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ocess of constructing a model of the data used in an enterprise based on a specific data model (e.g. relational), but independent of a particular DBMS and other physical consider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BDF7-3418-4150-A0BF-94E482FC626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atabase design method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67652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ysical database desig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process of producing a description of the implementation of the database on secondary storage; it describes the base relations, file organizations, and indexes design used to achieve efficient access to the data, and any associated integrity constraints and security measur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218-CFB3-4601-86D8-3D949EAD377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tep 1 Build conceptual data model (Chapter 16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entity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dentify and associate attributes with entity or relationship typ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termine attribute domai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termine candidate, primary, and alternate key attribu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ider us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 enhanced modeling concepts (optional step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eck model for redundancy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alidate conceptual model against user transaction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view conceptual data model with user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EE2-19D8-4DDA-A96B-15E55A4D6A0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ep 2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uild and validate logical data model (Chapter 17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erive relations for logical data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idate relations using norm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idate relations against user transac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fine integrity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view logical data model with us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rge logical data models into global model (optional ste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eck for future growt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5486-BA43-453C-933E-848CEA56FD8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12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ep 3  Translate logical data model for target DBMS (Chapter 18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ign base rel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ign representation of derived data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ign general constrai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2414-3B0C-4F57-B5F4-4D484D95B86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A99-5960-48EF-AC3B-B92D1BDA5E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94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Build Logical Data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1029" descr="DS3-Figure 09-01"/>
          <p:cNvPicPr/>
          <p:nvPr/>
        </p:nvPicPr>
        <p:blipFill>
          <a:blip r:embed="rId1"/>
          <a:srcRect l="6695" t="26509" r="31968" b="43426"/>
          <a:stretch/>
        </p:blipFill>
        <p:spPr>
          <a:xfrm>
            <a:off x="1403280" y="1916280"/>
            <a:ext cx="63435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2T01:58:06Z</dcterms:created>
  <dc:creator>June Blackburn</dc:creator>
  <dc:description/>
  <dc:language>en-US</dc:language>
  <cp:lastModifiedBy>A.Alnuaim</cp:lastModifiedBy>
  <cp:lastPrinted>1998-06-30T15:27:18Z</cp:lastPrinted>
  <dcterms:modified xsi:type="dcterms:W3CDTF">2017-03-13T05:42:45Z</dcterms:modified>
  <cp:revision>161</cp:revision>
  <dc:subject/>
  <dc:title>Chapter 5</dc:title>
</cp:coreProperties>
</file>