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9CCC-7656-47AF-8F5E-CF162BFC8F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C8FB-CDC3-424F-9907-17E70508C7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Boring: process of enlarging a hole that has already been drilled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apping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cutting internal threads in a round hole with a multi-point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se remaining steps in the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the operations determined in the previous step. Check whether there is any interference or dependency between operations. Use this information to modify the sequence of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tools for each operation. Try to use the same tool for several operations if possible. Keep in mind the trade-off on tool-change time and estimated machining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or design fixtures for each set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e the plan generated and make necessary modif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cutting parameters for each op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686-E8F4-482A-B7CA-A1AED33B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927-9134-45B9-B6CD-5C15FD79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6C628-2F7A-4E2C-AC33-0602A320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5E231-1E0C-4A3F-8A4D-45531E67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24D21-37FF-4852-8D52-2921B389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3FE5D-331D-42AD-8FB9-D0FFB87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AEFD1-8244-4FD6-A6B8-0057E0AC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DB426-778E-4827-B01A-2088BA1D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3D8EE-3B40-46F6-A42F-C4822732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7E086-1BC2-459D-B5F4-5A825A4D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9F1AC-4961-41AD-99FA-4D5AACB2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BEB-BFBE-4C81-9293-2C1EA383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D77-B255-4D9E-9DFA-73B86DD2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8F9D-09FD-4052-8CF6-53A604C9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7B03-F3DE-42D1-A356-95232DD8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6EC6-5AB6-4564-BB9B-E3C70E9E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131B-7246-43E9-B1AF-32E9932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A11C-AC85-4702-808D-6877C404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4D1A-2AE1-4BEB-8BDB-FC31FE5A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6D1A-736A-490D-B7C5-3A5F3325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418-0221-4527-8F86-C34337A6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45C1-5DE6-4945-BF17-4DCD0A6E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EA94-3C14-48E5-8EED-ACC76DA2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FB34-076E-4354-B6E7-C2B07E27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21C0-0CD6-4341-8F37-BB863C08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F236-283A-4D71-AB04-D242D203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A8C81-B200-4B7E-8BCC-9D52CA5B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F01D8-A60D-4647-BB5D-BC823E50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76B29-BA5C-46B1-8EDB-78FAE742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F568F-A211-40EF-BEB5-2BAA6076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5CF14-7E26-4D30-8C3A-538FD40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D57-9D52-49CE-9057-32BADEFD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86627-F0CB-449A-A8AD-D6E330D6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51A39-126B-4546-89F7-9ADC4B3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E7B0D-022D-4C77-9619-94FC9C71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2C32B-895A-4C22-B618-1314AC22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85B30-0BE4-494E-A31B-D755AEF6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0E971-92B3-45AA-A6CB-00F50920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45C14-1F1E-4C82-B17F-745EE682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356C4-52DC-4692-A20C-92128788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1E4105-4CA2-42B3-B955-8E00611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72808-928D-4567-B0E0-550A9D3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250-5999-4FDB-8FD1-245FEB3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0B419-0C4F-4070-A2EB-3C6EFD96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6CC52-2D5C-4417-B717-79C26E07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49702-C0D7-4834-903E-1F1CD45A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7EE89-4090-49A8-88F6-D86CA2A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E5299-A5B5-43BA-B684-7F707FE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B2C8E-663C-4F86-ABFF-516E74BC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97C8A-9378-448A-BEBC-46819156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4E7FB-F319-45FA-888D-35C0326A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70E7C-60C0-4BFE-8464-A57197CE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BADF9-0319-4FC4-8781-D4B712F0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9D3-4F07-4E78-9EBA-135EFB9A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F75CA-E1BE-4947-B1A9-72F15B9E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C339F-0F50-4AB6-9E6D-86593A1F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C39E0-AC1B-4E86-AF4F-6C9B33C0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E7597-6750-446A-B40D-D6B48C45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56917-D136-4793-878B-F30D373B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B78D7-8713-477E-996D-85B1527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D1CF7-873B-4E3C-9AEA-E1003095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4545D-CFB7-45DA-91CB-04D7EF9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9A151-2A9F-4293-8B4C-1508C17B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207F5-320B-4E0F-99BB-7009A4A0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C0D-7952-4412-A0D5-F8C47549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F8594-F72C-4F22-B3B7-77427A0D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A808E-7702-4CA6-BFA5-6F4793C1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A9EB-253D-42E5-955F-3E6BB599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FED02-5817-4767-A90A-006BA21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78ABE-F75F-4C20-BC4A-63CFA930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C4709-D912-4B7B-B98F-C560F870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0078F-97E5-4DD1-B75B-9C7F0C3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F5CD1-70EF-40FE-9F4B-2E93CFC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C2BC7-1646-4BF5-993E-64588C4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7B60-8E1D-4D2B-A060-2D075530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2CC-C564-47A2-BE92-1500A771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3BAB3-6EDA-4B41-A3EF-9FB93EF7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1975-AC48-4D21-9C44-C5B26350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A99C-9025-49E5-BD75-91018A7D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A3FDB-43AB-4BB2-8D55-2F2E2B32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08438-A4A1-47BD-94C6-0389563C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D1A6-F837-4C1C-BDE3-D9EDA44A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28329-02A3-49A7-AE38-3DFF32CF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C69CF-4B2C-42B6-BF14-7DE42349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EBBBA-F1FB-4B62-8A80-DBB1C9BE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4EB26-D03D-4145-9F89-72C6863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E0B-D973-4FB2-B201-E141870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7203-4142-4D29-B605-BB12B6A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00745-B876-459C-86B7-D58FFA7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0E83C-842C-48BC-BF6C-5DAEC290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C46C8-B095-465D-B308-6DC37C03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60E1-7A54-48C4-99E4-DDCE0DA4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F70A8-6AB1-4C61-8F40-F3079D2E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0B8286-33FF-4707-8779-F010400B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741811-8954-4CFB-98EA-96237EBE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37B935-635D-49E8-9A47-46C6C39D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7CDC2-20A5-49FA-99AF-5DDDB48A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2CE-69EA-4507-AA0C-701880FC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B082FF-B0F9-42FC-B741-CA75F20F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9D0857-65FF-41EE-8922-6B7ADE2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93DF8-D6BF-4DC2-A201-6CAEA4DA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883E7-DCC5-4BE9-A90F-C42C823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7A722-6238-4E77-B715-76549CC2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629B2F-D5BA-4436-8996-21022FD3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25D8DF-16EE-477B-9492-24118767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92956-EFE0-4FB9-9D96-DBBBE4A5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AD94C-83B7-40F0-AAB8-0A05F282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C1311-BE46-442D-8843-8397A73B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FDDC-DE68-4CCF-9E4E-87F9EEC2B814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99934CDB-FEF3-431F-9681-CC63572E2356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14CF-5C3F-4653-9FD2-CCD6CABC4083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CD93-FC0E-4271-8A1A-BB5AC7456A2D}" type="datetime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07/30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 </a:t>
            </a:r>
            <a:fld id="{3619E371-43CD-4BA9-84BB-10CD44D66624}" type="datetime10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17:22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39BB-558F-49DC-A501-963B49DA3B71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177C-1ECC-4E01-9672-066254779BB7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7C14A6D7-2DAC-4E3C-9079-096DDAFEAD8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2B91-4F12-4215-9873-0CBBA9766584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D968-2A44-4CF6-ADB6-19E31DE9B210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870087DA-3D3B-4941-B77E-F1FD4CD2FFE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1AB1-50E8-4973-B234-5BD61CCA63CB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A057-DE88-408C-8882-242951D53F56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D05976EB-264D-4060-8CD5-243D9788939B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D6C3-F1C8-4B05-8E28-674E7539A4C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62E7-A815-4ACE-A949-00ACBC736369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E87AB393-91C1-4936-8AD7-F09DAEA7EE73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7040-83C1-4C96-992F-15A3DA884162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6D00-6269-41A5-9682-6AB42B10D2EE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CEF05E85-C18E-4C4A-B4B6-8F2A094E0CC8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4E90-2856-405E-960E-8DF0F6ACA477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40F4-D910-46D0-9C57-7353E639BBDE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4CC36B1B-65D0-42B2-A952-21646EF0D746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3686-A62C-4507-B6BE-1D99D68BC4CB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679-FAC1-4F31-8CA9-9FF700AE434D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7C92FC1C-05A3-49BB-AE4B-CAAF296B60AC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9368-E8E2-45B2-9DB9-D7E4BF03A32D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3f68"/>
                </a:solidFill>
                <a:latin typeface="Tw Cen MT"/>
                <a:ea typeface="SimSun"/>
              </a:rPr>
              <a:t>Manual Process Planning</a:t>
            </a:r>
            <a:endParaRPr b="0" lang="en-US" sz="3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Manufacturing Processes (2), IE-35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Ahmed M El-Sherbeeny, Ph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Fall 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:</a:t>
            </a:r>
            <a:br>
              <a:rPr sz="2900"/>
            </a:b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Examples of Process Plans</a:t>
            </a:r>
            <a:endParaRPr b="0" lang="en-US" sz="29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5CB8-9F09-4C4F-8E78-20AE777A52A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5920" cy="538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wide variety of manufacturing processes are used to produce a 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se processes can be classifi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st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orming and shap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Jo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1877-2A47-407F-A3EA-C43562E12DA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illing, countering, countersinking, deep-hole drill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ap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e milling, end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u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ing, straight turning, taper turning, par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BD55-F547-4A78-A42F-C60EA00370F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s that must be considered in selecting machining process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art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dimensional and geometric accuracy and 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vailable resources, including NC machines and cutting too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DAF-E8E2-46D0-BBEC-987105BE8D0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art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istinctive geometric form or shape to be produced from raw mate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 determines process type, tool types (shapes and size), machine requirements (3-, 4-, or 5-axis), and tool pa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types of par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asic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mple forms/shapes that require only one machining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 holes, slots, pockets, shoulders, profiles, and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onsist of two or more basic part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the combined result of two holes with different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C689-DB69-4532-B0F5-5BF7775E98B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lect the machining processes for the part shown in the figure given i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ssume required dimensional accuracy and surface roughness are within process capability of drilling and milling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our sides of the raw material have been pre-machined to required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C3CD-F451-40B5-8640-3A5112046B2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E2C9-4BEB-4151-B397-6229E5D3917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304920" y="2209680"/>
          <a:ext cx="848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p flat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uter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machining processes for featur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ce-milling: the top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g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enter-drilling: the three hol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: the 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D48-2833-4733-9F8F-0BF4B97307C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three 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atum surfaces should be machined first if multiple work-holding setup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f possible, datum surfaces should be pre-machined in manually operated machine to facilitate workpiece locating and clam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n cases wher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2 holding setups are required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ough datum surfaces are preprocessed in a manually operated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n used as setup references to produce finished datum surfaces for the final work-ho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is ensures the accuracy of the finishe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C525-B731-4E09-AEC1-93EC7D04F2E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3 consideration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rfaces with larger area hav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arger surfaces tend to be more adaptable to disturbances resulting from machining operation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should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occurs when machining of one feature destroys a requirement for the production of other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is happens when there is interaction or dependency between machining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DB47-E942-41AF-8CE4-79669012507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Chapter Outlin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1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2" action="ppaction://hlinksldjump"/>
              </a:rPr>
              <a:t>Manual Proces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3" action="ppaction://hlinksldjump"/>
              </a:rPr>
              <a:t>Proc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4" action="ppaction://hlinksldjump"/>
              </a:rPr>
              <a:t>Part Features Identification and Processes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5" action="ppaction://hlinksldjump"/>
              </a:rPr>
              <a:t>Processes 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A42C-A125-479C-AF74-D241369E509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igure shown in the next slide is a workpiece in which some features are inter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workpiece has five bas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 through slot in side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angle strips (strip 1, strip 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through holes on strip 1 that are perpendicular to side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 are two tapped holes perpendicular to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 the process sequence for producing the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19CB-AA84-4E43-9B19-A78B8C71534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FDC3-8E6E-4D96-8AA2-2075B57B9F1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1"/>
          <p:cNvGraphicFramePr/>
          <p:nvPr/>
        </p:nvGraphicFramePr>
        <p:xfrm>
          <a:off x="1143000" y="1600200"/>
          <a:ext cx="716292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raw material is cut from a block stock with dimensions: 6.25 x 4.25 x 2.2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udying the part features reve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through holes on strip 1 interact with the formation of angl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nteracts with the cutting of angle </a:t>
            </a:r>
            <a:r>
              <a:rPr b="0" lang="el-GR" sz="2100" spc="-1" strike="noStrike">
                <a:solidFill>
                  <a:srgbClr val="000000"/>
                </a:solidFill>
                <a:latin typeface="Cambria Math"/>
                <a:ea typeface="Cambria Math"/>
              </a:rPr>
              <a:t>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angle strip 1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drilling 2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holes must be produced before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kewise, making angle strip 2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setting up workpiece to produce the through 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slot has to be machined before angle strip 2 is ma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232C-FC28-4D43-9A5C-0178F031666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processes sequenc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machining si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drilling two holes o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cutting the 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utting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 two tap holes and tapping the two ho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cutting angle stri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9F1C-EB76-437C-A3E1-08CA939923C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E668-C1C1-4952-9288-22BADC64DCB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1905120" y="52560"/>
          <a:ext cx="518148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2560"/>
                    <a:ext cx="518148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process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engine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ct of preparing detailed work instructions to produce a p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’s a function within the manufacturing facility (see figur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stablishes processes and parameters used to convert part from initial form to final for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edetermined in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erson who develops process plan: often called process 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0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888B-81BC-413E-BC70-0731EFA748C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4200480" y="1892160"/>
            <a:ext cx="479124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unctions included in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aw material prepa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sequenc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arameter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ol path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3512-8DB7-4B99-BC4E-3377D2829B0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tors Affecting Process Plan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ha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iz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Quant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Value of the produ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Urgenc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system its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approaches to carry out task of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al Process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uter Aided Process Planning (CAP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DF5-D756-4FDD-B20F-21F3EAA6ED2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ner must have following knowled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interpret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manufacturing processes an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tooling and 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what resources are available in the sho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how to use reference books (e.g. machinability data handbook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do computations on machining time and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raw materia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2530-5AE8-409A-8BE7-23BB32A7E02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tudy overall shape of par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dentify features, all critical dimen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oroughly study the drawing; try to identify all manufacturing features and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best raw material shape to use if raw stock not giv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 datum surfaces; Use information on datum surfaces to determine the setu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machin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rough sequence of operations necessary to create all the features for each set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C753-7D8E-49EF-A43F-31F5E247A0C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 AKA (among othe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ning summ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tailed plan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and tool se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DDD0-B8CE-41FE-A8EA-F773E958F6D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level of details in the plan depends on the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a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: description of an op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s tools, machines to be used, process parameters, machining tim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 sequ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Summary of a process pla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D050-E188-416F-B365-A8AD1B9E122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56Z</dcterms:created>
  <dc:creator/>
  <dc:description/>
  <dc:language>en-US</dc:language>
  <cp:lastModifiedBy/>
  <dcterms:modified xsi:type="dcterms:W3CDTF">2015-12-07T06:36:05Z</dcterms:modified>
  <cp:revision>268</cp:revision>
  <dc:subject/>
  <dc:title>PRESENTATION TITLE PRESENTATION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