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356F-C04C-499E-9BE5-BC9BDFF9BC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77B0-1383-48E9-B87B-6BCE822BA6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Boring: process of enlarging a hole that has already been drilled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apping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cutting internal threads in a round hole with a multi-point t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hese remaining steps in the fu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the operations determined in the previous step. Check whether there is any interference or dependency between operations. Use this information to modify the sequence of oper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tools for each operation. Try to use the same tool for several operations if possible. Keep in mind the trade-off on tool-change time and estimated machining ti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or design fixtures for each set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e the plan generated and make necessary modif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cutting parameters for each ope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55CD-66CB-4D66-8895-5DB6A7A9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751-67D9-478E-93ED-4DE80683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CADDF-2FFB-4A28-A655-879EE095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81C4E-3DAF-4A93-AD06-91C9EFAA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1CB6C-6A95-4334-B4E5-59FF53E0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2E80C-F637-4382-8257-AD2479CB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72453-9913-47E9-8E1C-8AFE7D4F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DEF95-2B03-439D-A262-16904575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7636A-FAFB-4D95-8722-B9121591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5AE9E-333C-4AFD-8730-2D90A77D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DF0B0-4E69-4818-ADCF-D7B99629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09F-4636-44F1-BCAF-9B50130E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97D-3884-4068-8AA7-EFB4BC06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2256-12C7-4847-8F03-0987C9D6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C0DF-0D3B-46FD-9356-4C1F1294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02B5-B51C-44E1-937D-6F9B96DC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7AB7-E67C-4E7D-B2A5-12CC7FA6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C135-E275-40F9-BC8B-1D573301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D4D4-E614-4709-AEDE-25B6AC0A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45D3-7555-4058-9B94-88DE027E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69B-D13E-4519-8D61-26F27960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2931-5CAB-4DE7-931B-36558300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F361-6FD3-4191-A4F3-86FC1129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0CEA-D076-495F-8049-A9F3F8C7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BC7C-D59A-42A9-B10A-3FCB3D29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3B7B-0FCB-4BD6-BA0C-F670C5B1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A7672-5B8A-41FB-8F34-2EA2F5D1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99186-656C-4B19-8F27-75627C8C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3EB3B-F4F9-4624-A5FD-B847E691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9492B-93AA-44B3-9BA6-D548EBE4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1CA14-31CF-4449-ABDE-8670F305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2BC-64B7-4B1D-8459-CE287A45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2DD11-4ED2-456D-9B25-7E82B513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67814-226F-4641-8274-6F297018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E1E15-689A-4117-BE8B-032CD82E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C4EA6-49F0-46BE-8F5A-35387361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57A7A-DE55-4FBB-9F01-072342DB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E3995-5F54-42B4-BCFA-C35757F7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3EB70-8DA9-4636-813E-09BFAA5E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1129D-D2D0-4A9F-94D2-F9C24AB0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DF43D3-0D6D-4C73-88A7-418D7E47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4CF33-B165-43D3-928D-D5C349EF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865-1DC1-4C9B-92CB-68AC22CE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7EA6D7-63CD-41B8-A1AF-60F57067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75B72B-8CAE-4803-BB9A-00E134CD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4990D-4935-4074-AD2A-33A56988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5779EA-5036-4A09-8276-7E098FEA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1B41A1-7DED-438D-94D9-77B62C3A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AB446-3802-42F6-A061-9DE5FF66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9DE36A-C019-4EE8-AD45-58265EA2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B72C7F-E10A-49F3-A713-C3A8706E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7FADC0-02B7-4FB5-8118-000CE180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CC00B4-8ECA-43DD-B2DE-6CDFD918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C3C-E0D6-4BFA-BE8B-E79D5811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A88A6-92E5-4B1A-89A1-3110D312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A2DC49-85B7-4ABB-B419-AC100D80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4F6D9-59D3-467B-B06D-10F61491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3BEC7-F9CE-435E-8E4C-2EDD6E3C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F948A-FBBA-43CD-B7A0-67312950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5EFC3D-9725-4A29-86EF-6F7E838D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FE7B7-E9E8-49A9-BFC6-F1442E76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3EB1A2-ED2C-4D53-A259-A183EFAB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E9648-0297-4950-B264-936DCF12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367EC-FB7E-4B50-8BEA-DF9D3F52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CB0-77C3-4C9C-97EE-FE207D94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EC474-808D-49B4-99AA-E682CCFF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0BCC9-F205-4AD3-B9FD-89141476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FD2DA-4527-48B9-80B3-DCFFAF03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5FFF9-671B-47CF-9213-DC6D7A85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9BCAE-A37D-416C-ACFF-2FAAF6F5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0412A-CA4F-4EC6-80DD-4A3ECADA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22D7E-AFFB-45B5-80D5-6B8F2A66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2F213-C398-4EC3-B391-A86C551D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1DCC0-B4CE-4005-AE68-FA9211BC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42F1F-6D3B-4358-96F7-104ACFC0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D20-1282-4103-B380-0703C450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2F10B-3EFF-4745-B504-011E4F75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4FBAD-84EA-40B8-A837-70AD8863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847A9-0F12-47CE-9341-871716AE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2B96D-E788-4DA6-BC7F-FC90D69F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2EAE2-5100-4FF5-8589-445F82ED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93192-A22D-49A5-9E86-ADB635D9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E6DE5-8D46-45FD-9805-B2E0C73F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85099-F890-49AB-B337-42F02F0C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E4442-183B-4EF4-9BB5-72AAD708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C588F-91ED-4CFA-BF77-C69C1CF1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B4B-B36F-4DF7-9122-938959C7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710B0-E351-42FA-8EA0-D54EAD93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3602C-B598-48BC-84C8-F43D6F8F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B0D04-6FDB-4AB3-9D82-CF46E4EC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ACCCC-CAEE-484B-ACCD-36E34426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C8E51-A5E3-4EFA-BB97-85AE56C9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46AAFC-2C3C-46E8-A17D-3D1A5BBA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3AC6F2-5F84-43B0-899C-8EBB7A12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8B67AA-3C7D-4AC8-9C7F-EEB7C067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C19180-FF94-4C1E-85B5-BE5A194A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C533C9-C706-4698-A0B2-0C69CDF9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898-F761-49A8-B8B0-0F40C3BB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AE3727-CB4B-4E2A-835E-B81CA672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BB115D-217C-4504-9057-113F255E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CF5F8E-70D6-4E36-A729-0C5D5B16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0D62C4-EC34-4049-8270-2370F054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95DD77-57C0-4217-B7E2-08ED1E7C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D5A08E-51FD-4CEA-8D4A-67AD0896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B71E02-3FA8-4943-A70F-27B0CA98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06E4D-4E82-4FED-BEC4-B99913ED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D664A-889A-44EE-99A5-B31C758A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C2874-C60D-488C-8403-3C3DD417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8172-1BB2-4BCC-AAA9-20F246D8821C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69D3BE3A-10D9-4E23-A4FE-041A22D5C7A1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98F0-C21C-475F-9CDE-E8B30EC992A1}" type="slidenum">
              <a:rPr b="1" lang="en-US" sz="12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02CE-B08E-4F42-B58A-107FB593141E}" type="datetime"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07/29/26</a:t>
            </a:fld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 </a:t>
            </a:r>
            <a:fld id="{7B8116A4-DF73-414B-8D9D-F23325D54881}" type="datetime10"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16:18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B807-A9B5-46FA-9FFD-6F379F58BAD1}" type="slidenum">
              <a:rPr b="1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4EFC-2D18-4D34-A0E0-96A69636C379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0B757841-1B6F-4457-B76B-E8C5A9EA110A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3C49-884B-4A75-B5DB-D64F2E11E2C1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86A3-8EAC-4F25-B408-6F2E0BC3524C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1B3D9263-3E9E-4493-B639-C6DE43A7AD47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0303-9EEC-43D9-9258-8194977E7694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358B-35B0-4462-9F88-E815050A4926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BE127246-4D52-4576-AC06-2C6FE4EBEDA6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AECC-5F50-4B1D-9F70-1FF67110F147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E5CF-A997-4BAB-A3F8-2DFBCB5C25FF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D649229A-789D-4A49-B5EC-64DF50606B32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CBDC-3C3F-4390-BB18-F4B3EFDAE6D6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48C1-875D-4ACA-BE61-A634FC5578B7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72D15C37-EF83-4DD7-865D-658E9B67643E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C144-5561-403B-BB8F-291F8CC87596}" type="slidenum">
              <a:rPr b="1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B82A-93FE-40CB-9FB0-E802BE08B3E8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07BEF589-129D-41D5-94C0-FFAFE0ABFE50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87A4-CE61-4B1C-989B-C6BBF469C68C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B27B-148A-4F39-A093-6C5AAD7B82A9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9BF4A6B7-C4CE-4FF1-8026-71CB52327F79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04EA-0C4F-42D6-9FFE-9E6839B77E27}" type="slidenum">
              <a:rPr b="1" lang="en-US" sz="12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3809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3f68"/>
                </a:solidFill>
                <a:latin typeface="Tw Cen MT"/>
                <a:ea typeface="SimSun"/>
              </a:rPr>
              <a:t>Manual Process Planning</a:t>
            </a:r>
            <a:endParaRPr b="0" lang="en-US" sz="3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0" y="19810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Manufacturing Processes (2), IE-35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Ahmed M El-Sherbeeny, Ph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Fall 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:</a:t>
            </a:r>
            <a:br>
              <a:rPr sz="2900"/>
            </a:br>
            <a:r>
              <a:rPr b="1" lang="en-US" sz="2900" spc="-1" strike="noStrike">
                <a:solidFill>
                  <a:srgbClr val="424456"/>
                </a:solidFill>
                <a:latin typeface="Tw Cen MT"/>
                <a:ea typeface="SimSun"/>
              </a:rPr>
              <a:t>Examples of Process Plans</a:t>
            </a:r>
            <a:endParaRPr b="0" lang="en-US" sz="29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7FD2-087D-4D4D-B2A6-74A9F538B63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457200" y="1474920"/>
            <a:ext cx="8305920" cy="538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 wide variety of manufacturing processes are used to produce a work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se processes can be classifi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ast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orming and shap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Join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nish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A32E-B7FD-4453-8277-BAD2C26347B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chining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drilling, countering, countersinking, deep-hole drill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Bo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app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ill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ace milling, end m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ur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acing, straight turning, taper turning, par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r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C2B1-020C-41FC-9518-866ADB60102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atures that must be considered in selecting machining processe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art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quired dimensional and geometric accuracy and toler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quired surface finis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vailable resources, including NC machines and cutting too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FE4C-773F-4260-9411-AEB4E58BDE06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art fea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istinctive geometric form or shape to be produced from raw materi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t determines process type, tool types (shapes and size), machine requirements (3-, 4-, or 5-axis), and tool pa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wo types of part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Basic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simple forms/shapes that require only one machining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clude holes, slots, pockets, shoulders, profiles, and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ound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onsist of two or more basic part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e.g. the combined result of two holes with different di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A1F9-AAB6-4754-8A26-C235F4AE2FA2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lect the machining processes for the part shown in the figure given i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ssume required dimensional accuracy and surface roughness are within process capability of drilling and milling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four sides of the raw material have been pre-machined to required dimen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8770-87AD-42BB-AD05-16136E556D2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41CE-58D9-4885-A8E7-7EF3752917D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2"/>
          <p:cNvGraphicFramePr/>
          <p:nvPr/>
        </p:nvGraphicFramePr>
        <p:xfrm>
          <a:off x="304920" y="2209680"/>
          <a:ext cx="84898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4898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p flat surfa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uter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ree ho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mmended machining processes for feature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ce-milling: the top surfa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gh-milling: the outer pro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nish-milling: the outer pro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enter-drilling: the three hol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: the three ho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5B2A-98E1-41BA-9685-BC14352DE783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quence of operations determined by three consid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atum surfaces should be machined first if multiple work-holding setup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f possible, datum surfaces should be pre-machined in manually operated machine to facilitate workpiece locating and clamp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n cases wher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2 holding setups are required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rough datum surfaces are preprocessed in a manually operated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n used as setup references to produce finished datum surfaces for the final work-ho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is ensures the accuracy of the finished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DBFE-1DA0-442E-9BA1-3C04E3D4FB5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quence of operations determined by 3 consideration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urfaces with larger area hav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Larger surfaces tend to be more adaptable to disturbances resulting from machining operation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ature interference should be avo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eature interference occurs when machining of one feature destroys a requirement for the production of other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is happens when there is interaction or dependency between machining ope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A8D0-192A-4204-BE50-A37FBAE997E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Chapter Outline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1" action="ppaction://hlinksldjump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2" action="ppaction://hlinksldjump"/>
              </a:rPr>
              <a:t>Manual Process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3" action="ppaction://hlinksldjump"/>
              </a:rPr>
              <a:t>Process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4" action="ppaction://hlinksldjump"/>
              </a:rPr>
              <a:t>Part Features Identification and Processes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5" action="ppaction://hlinksldjump"/>
              </a:rPr>
              <a:t>Processes Sequ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FC8D-25EF-468E-9028-BD6768792ED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figure shown in the next slide is a workpiece in which some features are inter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workpiece has five basic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 through slot in side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wo angle strips (strip 1, strip 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wo through holes on strip 1 that are perpendicular to side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ound features are two tapped holes perpendicular to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 the process sequence for producing the 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967B-42C6-4F3D-8D30-9303C7A9CAA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222D-87AA-41D1-8FED-9D37FEBCDDB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1"/>
          <p:cNvGraphicFramePr/>
          <p:nvPr/>
        </p:nvGraphicFramePr>
        <p:xfrm>
          <a:off x="1143000" y="1600200"/>
          <a:ext cx="716292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6292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raw material is cut from a block stock with dimensions: 6.25 x 4.25 x 2.2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tudying the part features reve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2 through holes on strip 1 interact with the formation of angl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lot i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interacts with the cutting of angle </a:t>
            </a:r>
            <a:r>
              <a:rPr b="0" lang="el-GR" sz="2100" spc="-1" strike="noStrike">
                <a:solidFill>
                  <a:srgbClr val="000000"/>
                </a:solidFill>
                <a:latin typeface="Cambria Math"/>
                <a:ea typeface="Cambria Math"/>
              </a:rPr>
              <a:t>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chining angle strip 1 fir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difficulty in drilling 2 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2 holes must be produced before angle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kewise, making angle strip 2 fir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difficulty in setting up workpiece to produce the through s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e slot has to be machined before angle strip 2 is ma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0BA1-4677-4D3F-A36C-954FBEA88A12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mmended processes sequence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 machining si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side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lso drilling two holes o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side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lso cutting the slot i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utting angle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 two tap holes and tapping the two hol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 cutting angle stri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D4D9-C3CC-4EA6-9EA1-6BF9692E0A71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2CE2-7822-4643-A6F3-94136F51812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Object 1"/>
          <p:cNvGraphicFramePr/>
          <p:nvPr/>
        </p:nvGraphicFramePr>
        <p:xfrm>
          <a:off x="1905120" y="52560"/>
          <a:ext cx="518148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2560"/>
                    <a:ext cx="518148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Process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Know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facturing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terial process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enginee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rou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ct of preparing detailed work instructions to produce a pa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t’s a function within the manufacturing facility (see figur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stablishes processes and parameters used to convert part from initial form to final for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edetermined in an engineering draw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erson who develops process plan: often called process plan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0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D7A9-4980-40BF-9A98-018F7866B42F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4200480" y="1892160"/>
            <a:ext cx="4791240" cy="23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unctions included in process pla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aw material prepa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es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sequenc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parameter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ol path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xture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37B3-266E-4E26-8A8A-75968FD820E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tors Affecting Process Plan S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ha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ler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urface finis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iz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terial ty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Quant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Value of the produ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Urgenc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facturing system itsel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wo approaches to carry out task of process pla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al Process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uter Aided Process Planning (CAPP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B2DD-9FF7-4DE5-9953-1DEF570CA465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cess planner must have following knowled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bility to interpret an engineering draw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manufacturing processes and practi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tooling and fix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Know what resources are available in the sho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Know how to use reference books (e.g. machinability data handbook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bility to do computations on machining time and 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raw materia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2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4F42-3466-4C48-B1EE-52F0EF7FD2F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ome necessary steps to prepare a process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tudy overall shape of part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identify features, all critical dimen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oroughly study the drawing; try to identify all manufacturing features and no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etermine best raw material shape to use if raw stock not giv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dentify datum surfaces; Use information on datum surfaces to determine the setup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elect machines for each setup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etermine rough sequence of operations necessary to create all the features for each setu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4E10-FEAF-41A7-8826-A51D00EB004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cess Plan AKA (among other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she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te she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planning summa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tailed plan cont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parame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and tool sele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x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2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7383-9CF8-44F0-8AC7-68F0DC40C325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level of details in the plan depends on the ap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: a proc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Pl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-pl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): description of an ope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cludes tools, machines to be used, process parameters, machining time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-plan sequ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: Summary of a process pla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B56E-B36A-44BE-A8E2-1BA24808A6D6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01:56Z</dcterms:created>
  <dc:creator/>
  <dc:description/>
  <dc:language>en-US</dc:language>
  <cp:lastModifiedBy/>
  <dcterms:modified xsi:type="dcterms:W3CDTF">2015-12-07T06:36:05Z</dcterms:modified>
  <cp:revision>268</cp:revision>
  <dc:subject/>
  <dc:title>PRESENTATION TITLE PRESENTATION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