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jpeg" ContentType="image/jpeg"/>
  <Override PartName="/ppt/media/image16.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7.jpeg" ContentType="image/jpeg"/>
  <Override PartName="/ppt/media/image18.png" ContentType="image/png"/>
  <Override PartName="/ppt/media/image28.jpeg" ContentType="image/jpeg"/>
  <Override PartName="/ppt/media/image34.jpeg" ContentType="image/jpeg"/>
  <Override PartName="/ppt/media/image37.png" ContentType="image/png"/>
  <Override PartName="/ppt/media/image13.jpeg" ContentType="image/jpeg"/>
  <Override PartName="/ppt/media/image12.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EE7C8-2250-46B6-A142-38E3065D1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7A67D-2BFA-4509-BCE8-77A9C55C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D773C-1663-4129-85D5-2AAD35CB9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03B96-28C5-45AE-94E4-CAEC99970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41B12-CC8B-4E64-BC8F-9C06EFD35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810E2-6EF5-4CBC-9EC7-084D6CECC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F7029-C0DB-48A0-96EC-38AF76ACD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EDDDE-0ACB-46B9-B0BA-6F16EE985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2CE2C-224C-4A42-A4B6-9F12299EB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8C358-00DD-4989-ADA8-11BC7C56B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2C559-1057-458A-AA63-A1C0E7A02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924E-8F9B-45D0-912F-ECB4DF17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01C2-33E2-4F13-B025-D597DBBB8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67AFD-C78F-4F57-B8B7-D9579256E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EB26B-FA23-4D5D-B092-43A28D805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A9711-D610-4E9C-82CE-065310343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0261E-40E1-4C2E-A3B1-D1810E291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4247-CAA3-4465-9223-002F4089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FA82-D0B8-49C5-96D8-7C133874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60A3-B550-46B5-84D2-05D7154F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B503-5000-47B1-8406-61A6D4BD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1D9D-F416-4ABF-BB6B-FD88EF50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A8CD-72AF-4C1D-A492-94DB5A8F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2407-BE03-4CBC-BC65-0F5D3A3B8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F02A-B928-4EF8-BD60-090D345EAF57}" type="slidenum">
              <a:rPr b="0" lang="ar-SA"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893A-95FA-4E6F-9A3B-6228FCFF45E2}" type="slidenum">
              <a:rPr b="0" lang="ar-SA" sz="1000" spc="-1" strike="noStrike">
                <a:solidFill>
                  <a:srgbClr val="000000"/>
                </a:solidFill>
                <a:latin typeface="Arial"/>
              </a:rPr>
              <a:t>&lt;number&gt;</a:t>
            </a:fld>
            <a:endParaRPr b="0" lang="en-US" sz="1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ds.yahoo.com/_ylt=A9G_bDqegzlIjecASHWJzbkF;_ylu=X3oDMTBxbGwwMG1sBHBvcwM3BHNlYwNzcgR2dGlkA0kwODRfMTA2/SIG=1itv64otr/EXP=1211815198/**http%3A//images.search.yahoo.com/images/view%3Fback=http%253A%252F%252Fimages.search.yahoo.com%252Fsearch%252Fimages%253Fei%253DUTF-8%2526p%253Dchildren%252520meal%252520time%2526fr2%253Dtab-web%2526fr%253Dyfp-t-501%26w=210%26h=210%26imgurl=content.clearchannel.com%252FPhotos%252Fkids%252Fchildren_eating_GI.jpg%26rurl=http%253A%252F%252Fwww.kiak.com%252Fscript%252Fheadline_newsmanager.php%253Fid%253D432364%2526amp%253Bpagecontent%253Dparenting%2526amp%253Bfeed_id%253D107%26size=14.8kB%26name=children_eating_GI.jpg%26p=children%20meal%20time%26type=JPG%26oid=ac5e2e613ba834e2%26no=7&amp;tt=388" TargetMode="External"/><Relationship Id="rId2" Type="http://schemas.openxmlformats.org/officeDocument/2006/relationships/image" Target="../media/image2.jpeg"/><Relationship Id="rId3" Type="http://schemas.openxmlformats.org/officeDocument/2006/relationships/hyperlink" Target="http://rds.yahoo.com/_ylt=A9G_bDqegzlIjecASXWJzbkF;_ylu=X3oDMTBxOTl1MmZqBHBvcwM4BHNlYwNzcgR2dGlkA0kwODRfMTA2/SIG=1dpura6ae/EXP=1211815198/**http%3A//images.search.yahoo.com/images/view%3Fback=http%253A%252F%252Fimages.search.yahoo.com%252Fsearch%252Fimages%253Fei%253DUTF-8%2526p%253Dchildren%252520meal%252520time%2526fr2%253Dtab-web%2526fr%253Dyfp-t-501%26w=190%26h=136%26imgurl=cccuk.org%252Fgra_lib%252Fmeal_time.jpg%26rurl=http%253A%252F%252Fcccuk.org%252F%26size=8.2kB%26name=meal_time.jpg%26p=children%20meal%20time%26type=JPG%26oid=7f08a7ec26169cb2%26no=8&amp;tt=388" TargetMode="External"/><Relationship Id="rId4" Type="http://schemas.openxmlformats.org/officeDocument/2006/relationships/image" Target="../media/image3.jpeg"/><Relationship Id="rId5" Type="http://schemas.openxmlformats.org/officeDocument/2006/relationships/hyperlink" Target="http://rds.yahoo.com/_ylt=A9G_bHPrgzlI0skAOw2JzbkF;_ylu=X3oDMTByaWJpdDAwBHBvcwMzMQRzZWMDc3IEdnRpZANJMDg0XzEwNg--/SIG=1irlu471v/EXP=1211815275/**http%3A//images.search.yahoo.com/images/view%3Fback=http%253A%252F%252Fimages.search.yahoo.com%252Fsearch%252Fimages%253Fp%253Dchildren%252Bmeal%252Btime%2526ei%253DUTF-8%2526fr%253Dyfp-t-501%2526xargs%253D0%2526pstart%253D1%2526b%253D19%2526ni%253D18%26w=202%26h=150%26imgurl=www.artebebe.com%252Fcatalog%252Fimages%252FA-H%252Ffrenchbull_daisyplate_revised_small.jpg%26rurl=http%253A%252F%252Fwww.artebebe.com%252Fcatalog%252Findex.php%253FcPath%253D100%26size=14.7kB%26name=frenchbull_daisyplate_revised_small.jpg%26p=children%20meal%20time%26type=JPG%26oid=f70ac79848bb6312%26no=31&amp;tt=38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hyperlink" Target="http://rds.yahoo.com/_ylt=A9G_bDuvkTlItR4BGOOJzbkF;_ylu=X3oDMTBybDk1djEwBHBvcwMyOQRzZWMDc3IEdnRpZANJMDg0XzEwNg--/SIG=1jbvb9agc/EXP=1211818799/**http%3A//images.search.yahoo.com/images/view%3Fback=http%253A%252F%252Fimages.search.yahoo.com%252Fsearch%252Fimages%253Fp%253DAdolescence%2526ei%253Dutf-8%2526fr%253Dslv8-msgr%2526xargs%253D0%2526pstart%253D1%2526b%253D19%2526ni%253D18%26w=500%26h=333%26imgurl=static.flickr.com%252F2035%252F2416219163_a25204e31e.jpg%26rurl=http%253A%252F%252Fwww.flickr.com%252Fphotos%252Fsamedanger%252F2416219163%252F%26size=98.7kB%26name=Adolescence%3A%20Amy%26p=Adolescence%26type=JPG%26oid=f86307bc0f33f6a8%26fusr=Sam%20Doyle%26tit=Adolescence%3A%20Amy%26hurl=http%3A//www.flickr.com/photos/samedanger/%26no=29&amp;tt=52167" TargetMode="External"/><Relationship Id="rId5" Type="http://schemas.openxmlformats.org/officeDocument/2006/relationships/image" Target="../media/image7.jpeg"/><Relationship Id="rId6" Type="http://schemas.openxmlformats.org/officeDocument/2006/relationships/hyperlink" Target="http://rds.yahoo.com/_ylt=A9G_bDuvkTlItR4BGuOJzbkF;_ylu=X3oDMTByNTNzZGltBHBvcwMzMARzZWMDc3IEdnRpZANJMDg0XzEwNg--/SIG=1jftmch4j/EXP=1211818799/**http%3A//images.search.yahoo.com/images/view%3Fback=http%253A%252F%252Fimages.search.yahoo.com%252Fsearch%252Fimages%253Fp%253DAdolescence%2526ei%253Dutf-8%2526fr%253Dslv8-msgr%2526xargs%253D0%2526pstart%253D1%2526b%253D19%2526ni%253D18%26w=500%26h=333%26imgurl=static.flickr.com%252F3242%252F2407046404_1c79e394cc.jpg%26rurl=http%253A%252F%252Fwww.flickr.com%252Fphotos%252Fsamedanger%252F2407046404%252F%26size=81.2kB%26name=Adolescence%3A%20Libby%26p=Adolescence%26type=JPG%26oid=40a228fd93e89c16%26fusr=Sam%20Doyle%26tit=Adolescence%3A%20Libby%26hurl=http%3A//www.flickr.com/photos/samedanger/%26no=30&amp;tt=52167" TargetMode="External"/><Relationship Id="rId7" Type="http://schemas.openxmlformats.org/officeDocument/2006/relationships/image" Target="../media/image8.jpeg"/><Relationship Id="rId8" Type="http://schemas.openxmlformats.org/officeDocument/2006/relationships/hyperlink" Target="http://rds.yahoo.com/_ylt=A9G_bDuvkTlItR4BHOOJzbkF;_ylu=X3oDMTByaWJpdDAwBHBvcwMzMQRzZWMDc3IEdnRpZANJMDg0XzEwNg--/SIG=1je1vcu93/EXP=1211818799/**http%3A//images.search.yahoo.com/images/view%3Fback=http%253A%252F%252Fimages.search.yahoo.com%252Fsearch%252Fimages%253Fp%253DAdolescence%2526ei%253Dutf-8%2526fr%253Dslv8-msgr%2526xargs%253D0%2526pstart%253D1%2526b%253D19%2526ni%253D18%26w=500%26h=333%26imgurl=static.flickr.com%252F3229%252F2406848372_fb5b031e2b.jpg%26rurl=http%253A%252F%252Fwww.flickr.com%252Fphotos%252Fsamedanger%252F2406848372%252F%26size=105.1kB%26name=Adolescence%3A%20Zach%26p=Adolescence%26type=JPG%26oid=2d52539ad848390e%26fusr=Sam%20Doyle%26tit=Adolescence%3A%20Zach%26hurl=http%3A//www.flickr.com/photos/samedanger/%26no=31&amp;tt=52167" TargetMode="External"/><Relationship Id="rId9" Type="http://schemas.openxmlformats.org/officeDocument/2006/relationships/image" Target="../media/image9.jpeg"/><Relationship Id="rId10" Type="http://schemas.openxmlformats.org/officeDocument/2006/relationships/hyperlink" Target="http://rds.yahoo.com/_ylt=A9G_bDuvkTlItR4BHuOJzbkF;_ylu=X3oDMTBybHBnb3NiBHBvcwMzMgRzZWMDc3IEdnRpZANJMDg0XzEwNg--/SIG=1jdsre44d/EXP=1211818799/**http%3A//images.search.yahoo.com/images/view%3Fback=http%253A%252F%252Fimages.search.yahoo.com%252Fsearch%252Fimages%253Fp%253DAdolescence%2526ei%253Dutf-8%2526fr%253Dslv8-msgr%2526xargs%253D0%2526pstart%253D1%2526b%253D19%2526ni%253D18%26w=500%26h=333%26imgurl=static.flickr.com%252F3099%252F2417038218_e0607c35dd.jpg%26rurl=http%253A%252F%252Fwww.flickr.com%252Fphotos%252Fsamedanger%252F2417038218%252F%26size=82.3kB%26name=Adolescence%3A%20Erik%26p=Adolescence%26type=JPG%26oid=99a374e1c316d8ee%26fusr=Sam%20Doyle%26tit=Adolescence%3A%20Erik%26hurl=http%3A//www.flickr.com/photos/samedanger/%26no=32&amp;tt=52167" TargetMode="External"/><Relationship Id="rId11" Type="http://schemas.openxmlformats.org/officeDocument/2006/relationships/image" Target="../media/image10.jpeg"/><Relationship Id="rId12" Type="http://schemas.openxmlformats.org/officeDocument/2006/relationships/hyperlink" Target="http://rds.yahoo.com/_ylt=A9G_bDuvkTlItR4BIuOJzbkF;_ylu=X3oDMTByOHFnbjRlBHBvcwMzNARzZWMDc3IEdnRpZANJMDg0XzEwNg--/SIG=1jkv25ioa/EXP=1211818799/**http%3A//images.search.yahoo.com/images/view%3Fback=http%253A%252F%252Fimages.search.yahoo.com%252Fsearch%252Fimages%253Fp%253DAdolescence%2526ei%253Dutf-8%2526fr%253Dslv8-msgr%2526xargs%253D0%2526pstart%253D1%2526b%253D19%2526ni%253D18%26w=500%26h=333%26imgurl=static.flickr.com%252F2395%252F2406840120_21f3138c79.jpg%26rurl=http%253A%252F%252Fwww.flickr.com%252Fphotos%252Fsamedanger%252F2406840120%252F%26size=116.2kB%26name=Adolescence%3A%20Melanie%26p=Adolescence%26type=JPG%26oid=2e51daff836bc2e6%26fusr=Sam%20Doyle%26tit=Adolescence%3A%20Melanie%26hurl=http%3A//www.flickr.com/photos/samedanger/%26no=34&amp;tt=52167" TargetMode="External"/><Relationship Id="rId13" Type="http://schemas.openxmlformats.org/officeDocument/2006/relationships/image" Target="../media/image11.jpeg"/><Relationship Id="rId14" Type="http://schemas.openxmlformats.org/officeDocument/2006/relationships/hyperlink" Target="http://rds.yahoo.com/_ylt=A9G_bDuvkTlItR4BJuOJzbkF;_ylu=X3oDMTBya2JkYWUwBHBvcwMzNgRzZWMDc3IEdnRpZANJMDg0XzEwNg--/SIG=1jdqnemfs/EXP=1211818799/**http%3A//images.search.yahoo.com/images/view%3Fback=http%253A%252F%252Fimages.search.yahoo.com%252Fsearch%252Fimages%253Fp%253DAdolescence%2526ei%253Dutf-8%2526fr%253Dslv8-msgr%2526xargs%253D0%2526pstart%253D1%2526b%253D19%2526ni%253D18%26w=500%26h=333%26imgurl=static.flickr.com%252F3035%252F2413886825_8ed1533140.jpg%26rurl=http%253A%252F%252Fwww.flickr.com%252Fphotos%252Fsamedanger%252F2413886825%252F%26size=79.9kB%26name=Adolescence%3A%20Jack%26p=Adolescence%26type=JPG%26oid=ef337e3e270f9d4e%26fusr=Sam%20Doyle%26tit=Adolescence%3A%20Jack%26hurl=http%3A//www.flickr.com/photos/samedanger/%26no=36&amp;tt=52167" TargetMode="External"/><Relationship Id="rId15" Type="http://schemas.openxmlformats.org/officeDocument/2006/relationships/image" Target="../media/image12.jpeg"/><Relationship Id="rId16" Type="http://schemas.openxmlformats.org/officeDocument/2006/relationships/hyperlink" Target="http://rds.yahoo.com/_ylt=A9G_bDuvkTlItR4BJOOJzbkF;_ylu=X3oDMTByMmVhdjl1BHBvcwMzNQRzZWMDc3IEdnRpZANJMDg0XzEwNg--/SIG=1jkhsdecb/EXP=1211818799/**http%3A//images.search.yahoo.com/images/view%3Fback=http%253A%252F%252Fimages.search.yahoo.com%252Fsearch%252Fimages%253Fp%253DAdolescence%2526ei%253Dutf-8%2526fr%253Dslv8-msgr%2526xargs%253D0%2526pstart%253D1%2526b%253D19%2526ni%253D18%26w=500%26h=333%26imgurl=static.flickr.com%252F3078%252F2409679965_181afdb542.jpg%26rurl=http%253A%252F%252Fwww.flickr.com%252Fphotos%252Fsamedanger%252F2409679965%252F%26size=102.1kB%26name=Adolescence%3A%20Kristen%26p=Adolescence%26type=JPG%26oid=8c33244b2b63453a%26fusr=Sam%20Doyle%26tit=Adolescence%3A%20Kristen%26hurl=http%3A//www.flickr.com/photos/samedanger/%26no=35&amp;tt=52167" TargetMode="External"/><Relationship Id="rId17" Type="http://schemas.openxmlformats.org/officeDocument/2006/relationships/image" Target="../media/image13.jpeg"/><Relationship Id="rId18" Type="http://schemas.openxmlformats.org/officeDocument/2006/relationships/hyperlink" Target="http://rds.yahoo.com/_ylt=A9G_bDuvkTlItR4BIOOJzbkF;_ylu=X3oDMTBya2o3ZnZqBHBvcwMzMwRzZWMDc3IEdnRpZANJMDg0XzEwNg--/SIG=1jk2u2478/EXP=1211818799/**http%3A//images.search.yahoo.com/images/view%3Fback=http%253A%252F%252Fimages.search.yahoo.com%252Fsearch%252Fimages%253Fp%253DAdolescence%2526ei%253Dutf-8%2526fr%253Dslv8-msgr%2526xargs%253D0%2526pstart%253D1%2526b%253D19%2526ni%253D18%26w=500%26h=333%26imgurl=static.flickr.com%252F2198%252F2413887543_11cd2fdb3f.jpg%26rurl=http%253A%252F%252Fwww.flickr.com%252Fphotos%252Fsamedanger%252F2413887543%252F%26size=121.8kB%26name=Adolescence%3A%20Augusta%26p=Adolescence%26type=JPG%26oid=0c8d1f91fee8344a%26fusr=Sam%20Doyle%26tit=Adolescence%3A%20Augusta%26hurl=http%3A//www.flickr.com/photos/samedanger/%26no=33&amp;tt=52167" TargetMode="External"/><Relationship Id="rId19" Type="http://schemas.openxmlformats.org/officeDocument/2006/relationships/image" Target="../media/image14.jpeg"/><Relationship Id="rId2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n.wikipedia.org/wiki/Image:Japanese_High_School_Students_From_Fukushima.JPG" TargetMode="External"/><Relationship Id="rId3" Type="http://schemas.openxmlformats.org/officeDocument/2006/relationships/image" Target="../media/image15.jpeg"/><Relationship Id="rId4" Type="http://schemas.openxmlformats.org/officeDocument/2006/relationships/hyperlink" Target="http://en.wikipedia.org/wiki/Image:Someguy2.jpg" TargetMode="External"/><Relationship Id="rId5" Type="http://schemas.openxmlformats.org/officeDocument/2006/relationships/image" Target="../media/image16.jpeg"/><Relationship Id="rId6" Type="http://schemas.openxmlformats.org/officeDocument/2006/relationships/hyperlink" Target="http://rds.yahoo.com/_ylt=A9G_bHKTkjlIZAgAPjOJzbkF;_ylu=X3oDMTByb2dzcGRsBHBvcwM0OQRzZWMDc3IEdnRpZANJMDg0XzEwNg--/SIG=1fk9oolvh/EXP=1211819027/**http%3A//images.search.yahoo.com/images/view%3Fback=http%253A%252F%252Fimages.search.yahoo.com%252Fsearch%252Fimages%253Fp%253DAdolescence%2526ni%253D18%2526ei%253Dutf-8%2526fr%253Dslv8-msgr%2526xargs%253D0%2526pstart%253D1%2526b%253D37%26w=150%26h=135%26imgurl=www.unicef.org%252Fjordan%252Fjo_adolescence.jpg%26rurl=http%253A%252F%252Fwww.unicef.org%252Fjordan%252Fchildren_416.html%26size=10.7kB%26name=jo_adolescence.jpg%26p=Adolescence%26type=JPG%26oid=3aaa6f4ae073324c%26no=49&amp;tt=51586" TargetMode="External"/><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ds.yahoo.com/_ylt=A9G_bDoLlzlIMAEBqhKJzbkF;_ylu=X3oDMTBxMWNuZzQ4BHBvcwMyBHNlYwNzcgR2dGlkA0kwODRfMTA2/SIG=1gaso4i2r/EXP=1211820171/**http%3A//images.search.yahoo.com/images/view%3Fback=http%253A%252F%252Fimages.search.yahoo.com%252Fsearch%252Fimages%253Fp%253DAdolescence%252Bnutrition%2526fr%253Dslv8-msgr%2526ei%253Dutf-8%2526js%253D1%2526x%253Dwrt%26w=350%26h=258%26imgurl=www.faqs.org%252Fnutrition%252Fimages%252Fnwaz_01_img0010.jpg%26rurl=http%253A%252F%252Fwww.faqs.org%252Fnutrition%252FA-Ap%252FAdolescent-Nutrition.html%26size=17kB%26name=nwaz_01_img0010.jpg%26p=Adolescence%20nutrition%26type=JPG%26oid=3375876449dfcb20%26no=2&amp;tt=476" TargetMode="External"/><Relationship Id="rId2" Type="http://schemas.openxmlformats.org/officeDocument/2006/relationships/image" Target="../media/image19.jpeg"/><Relationship Id="rId3" Type="http://schemas.openxmlformats.org/officeDocument/2006/relationships/hyperlink" Target="http://rds.yahoo.com/_ylt=A9G_bDoLlzlIMAEBqRKJzbkF;_ylu=X3oDMTBxc3VhNmE0BHBvcwMxBHNlYwNzcgR2dGlkA0kwODRfMTA2/SIG=1g391aj0k/EXP=1211820171/**http%3A//images.search.yahoo.com/images/view%3Fback=http%253A%252F%252Fimages.search.yahoo.com%252Fsearch%252Fimages%253Fp%253DAdolescence%252Bnutrition%2526fr%253Dslv8-msgr%2526ei%253Dutf-8%2526js%253D1%2526x%253Dwrt%26w=225%26h=244%26imgurl=www.dhss.mo.gov%252FNutrition_Adolescents%252FNutrition_Adolescents.png%26rurl=http%253A%252F%252Fwww.dhss.mo.gov%252FNutrition_Adolescents%26size=270kB%26name=Nutrition_Adolescents.png%26p=Adolescence%20nutrition%26type=png%26oid=c5be65bda8d84230%26no=1&amp;tt=476"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hyperlink" Target="http://rds.yahoo.com/_ylt=A9G_bDsp0zpIu_IAVDqJzbkF;_ylu=X3oDMTBxMWFldDgzBHBvcwMzBHNlYwNzcgR2dGlkA0kwODRfMTA2/SIG=1ijg9nbtq/EXP=1211901097/**http%3A//images.search.yahoo.com/images/view%3Fback=http%253A%252F%252Fimages.search.yahoo.com%252Fsearch%252Fimages%253Fp%253D%252Bjunk%252Bfood%252Band%252Bdrink%2526y%253DSearch%2526fr%253Dsfp%2526ei%253Dutf-8%2526js%253D1%2526x%253Dwrt%26w=250%26h=361%26imgurl=epicurious.blogs.com%252Fphotos%252Funcategorized%252Fjunk_food_cover_1.jpg%26rurl=http%253A%252F%252Fwww.epicurious.com%252Fbonappetit%252Fblogs%252Feditor%252F2006%252F10%252Fthe_encyclopedi.html%26size=203.8kB%26name=junk_food_cover_1.jpg%26p=junk%20food%20and%20drink%26type=JPG%26oid=52bcc23ece10114c%26no=3&amp;tt=383" TargetMode="External"/><Relationship Id="rId4" Type="http://schemas.openxmlformats.org/officeDocument/2006/relationships/image" Target="../media/image22.jpeg"/><Relationship Id="rId5" Type="http://schemas.openxmlformats.org/officeDocument/2006/relationships/hyperlink" Target="http://rds.yahoo.com/_ylt=A9G_bDsp0zpIu_IAYDqJzbkF;_ylu=X3oDMTByYmNwOTFhBHBvcwMxMARzZWMDc3IEdnRpZANJMDg0XzEwNg--/SIG=1mucsve7r/EXP=1211901097/**http%3A//images.search.yahoo.com/images/view%3Fback=http%253A%252F%252Fimages.search.yahoo.com%252Fsearch%252Fimages%253Fp%253D%252Bjunk%252Bfood%252Band%252Bdrink%2526y%253DSearch%2526fr%253Dsfp%2526ei%253Dutf-8%2526js%253D1%2526x%253Dwrt%26w=332%26h=500%26imgurl=static.flickr.com%252F33%252F50844436_3300fdd5ce.jpg%26rurl=http%253A%252F%252Fwww.flickr.com%252Fphotos%252Fdi1980%252F50844436%252F%26size=89.4kB%26name=&#176;%20c%20o%20k%20e%20.%20i%20n%20s%20i%20d%20e%20&#176;%26p=junk%20food%20and%20drink%26type=JPG%26oid=abfc8dc5773235f4%26fusr=&#176;%20d%20i%20%2B%20m%20a%20r%20s%20&#176;%26tit=&#176;%20c%20o%20k%20e%20.%20i%20n%20s%20i%20d%20e%20&#176;%26hurl=http%3A//www.flickr.com/photos/di1980/%26no=10&amp;tt=383" TargetMode="External"/><Relationship Id="rId6" Type="http://schemas.openxmlformats.org/officeDocument/2006/relationships/image" Target="../media/image23.jpeg"/><Relationship Id="rId7" Type="http://schemas.openxmlformats.org/officeDocument/2006/relationships/hyperlink" Target="http://rds.yahoo.com/_ylt=A9G_bHK90zpIZWEBekGJzbkF;_ylu=X3oDMTByazJldjhsBHBvcwMyMARzZWMDc3IEdnRpZANJMDg0XzEwNg--/SIG=1k9uiam10/EXP=1211901245/**http%3A//images.search.yahoo.com/images/view%3Fback=http%253A%252F%252Fimages.search.yahoo.com%252Fsearch%252Fimages%253Fp%253Djunk%252Bfood%252Band%252Bdrink%2526js%253D1%2526ei%253Dutf-8%2526y%253DSearch%2526fr%253Dsfp%2526xargs%253D0%2526pstart%253D1%2526b%253D19%2526ni%253D18%26w=285%26h=207%26imgurl=www.abc.net.au%252Freslib%252F200704%252Fr138630_473789.jpg%26rurl=http%253A%252F%252Fwww.abc.net.au%252Fnews%252Fstories%252F2007%252F07%252F19%252F1982823.htm%26size=14.4kB%26name=Junk%20food%20ad%20cuts%20won&apos;t%20reduce%20childhood%20obesity%3A%20WHO%26p=junk%20food%20and%20drink%26type=JPG%26oid=3be88263b5ef37d2%26no=20&amp;tt=383" TargetMode="External"/><Relationship Id="rId8" Type="http://schemas.openxmlformats.org/officeDocument/2006/relationships/image" Target="../media/image24.jpeg"/><Relationship Id="rId9" Type="http://schemas.openxmlformats.org/officeDocument/2006/relationships/hyperlink" Target="http://rds.yahoo.com/_ylt=A9G_bHOQ1DpIhysBoc6JzbkF;_ylu=X3oDMTByaW05bnV2BHBvcwM1MwRzZWMDc3IEdnRpZANJMDg0XzEwNg--/SIG=1lti4ipem/EXP=1211901456/**http%3A//images.search.yahoo.com/images/view%3Fback=http%253A%252F%252Fimages.search.yahoo.com%252Fsearch%252Fimages%253Fp%253Djunk%252Bfood%252Band%252Bdrink%2526js%253D1%2526ni%253D18%2526ei%253Dutf-8%2526y%253DSearch%2526fr%253Dsfp%2526xargs%253D0%2526pstart%253D1%2526b%253D37%26w=500%26h=375%26imgurl=static.flickr.com%252F1396%252F563341084_6a7fd177b8.jpg%26rurl=http%253A%252F%252Fwww.flickr.com%252Fphotos%252Fnoshowerfamily%252F563341084%252F%26size=141.1kB%26name=pepsi%20and%20KFC%20chicken%26p=junk%20food%20and%20drink%26type=JPG%26oid=eb4b4e821e7ef352%26fusr=noshowerfamily%26tit=pepsi%20and%20KFC%20chicken%26hurl=http%3A//www.flickr.com/photos/noshowerfamily/%26no=53&amp;tt=391" TargetMode="External"/><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hyperlink" Target="http://rds.yahoo.com/_ylt=A9G_bHOQ1DpIhysBm86JzbkF;_ylu=X3oDMTBybDExaWpiBHBvcwM1MARzZWMDc3IEdnRpZANJMDg0XzEwNg--/SIG=1ki7q90pn/EXP=1211901456/**http%3A//images.search.yahoo.com/images/view%3Fback=http%253A%252F%252Fimages.search.yahoo.com%252Fsearch%252Fimages%253Fp%253Djunk%252Bfood%252Band%252Bdrink%2526js%253D1%2526ni%253D18%2526ei%253Dutf-8%2526y%253DSearch%2526fr%253Dsfp%2526xargs%253D0%2526pstart%253D1%2526b%253D37%26w=500%26h=335%26imgurl=static.flickr.com%252F6%252F183002903_60fc0c955e.jpg%26rurl=http%253A%252F%252Fwww.flickr.com%252Fphotos%252Fterritu%252F183002903%252F%26size=143.3kB%26name=doughboy%20cookie%26p=junk%20food%20and%20drink%26type=JPG%26oid=80cc3f61b90cd832%26fusr=terri_tu%26tit=doughboy%20cookie%26hurl=http%3A//www.flickr.com/photos/territu/%26no=50&amp;tt=391" TargetMode="External"/><Relationship Id="rId4" Type="http://schemas.openxmlformats.org/officeDocument/2006/relationships/image" Target="../media/image26.jpeg"/><Relationship Id="rId5" Type="http://schemas.openxmlformats.org/officeDocument/2006/relationships/hyperlink" Target="http://rds.yahoo.com/_ylt=A9G_bDq31TpI_rgAeAmJzbkF;_ylu=X3oDMTBzcTBnbzhhBHBvcwMxMjMEc2VjA3NyBHZ0aWQDSTA4NF8xMDY-/SIG=1io8h769m/EXP=1211901751/**http%3A//images.search.yahoo.com/images/view%3Fback=http%253A%252F%252Fimages.search.yahoo.com%252Fsearch%252Fimages%253Fp%253Djunk%252Bfood%252Band%252Bdrink%2526js%253D1%2526ni%253D18%2526ei%253Dutf-8%2526y%253DSearch%2526fr%253Dsfp%2526xargs%253D0%2526pstart%253D1%2526b%253D109%26w=400%26h=505%26imgurl=www.junkfoodblog.com%252Fuploaded_images%252Fginger-people-ginger-chews-771448.jpg%26rurl=http%253A%252F%252Fwww.readablog.com%252Ffeed15928.aspx%26size=65kB%26name=ginger-people-ginger-chews-771448.jpg%26p=junk%20food%20and%20drink%26type=JPG%26oid=069ebd189d7f50c4%26no=123&amp;tt=383" TargetMode="External"/><Relationship Id="rId6" Type="http://schemas.openxmlformats.org/officeDocument/2006/relationships/image" Target="../media/image27.jpeg"/><Relationship Id="rId7" Type="http://schemas.openxmlformats.org/officeDocument/2006/relationships/hyperlink" Target="http://rds.yahoo.com/_ylt=A9G_bF4V1jpI9lgAi.uJzbkF;_ylu=X3oDMTBzMnByczZ2BHBvcwMxNDAEc2VjA3NyBHZ0aWQDSTA4NF8xMDY-/SIG=1h0d03hbp/EXP=1211901845/**http%3A//images.search.yahoo.com/images/view%3Fback=http%253A%252F%252Fimages.search.yahoo.com%252Fsearch%252Fimages%253Fp%253Djunk%252Bfood%252Band%252Bdrink%2526js%253D1%2526ni%253D18%2526ei%253Dutf-8%2526y%253DSearch%2526fr%253Dsfp%2526xargs%253D0%2526pstart%253D1%2526b%253D127%26w=250%26h=268%26imgurl=www.dearsugar.com%252Ffiles%252Fimages%252Fjunk.jpg%26rurl=http%253A%252F%252Fwww.dearsugar.com%252Ftags%252FFitness%26size=62.5kB%26name=junk.jpg%26p=junk%20food%20and%20drink%26type=JPG%26oid=930b93dfc8608916%26no=140&amp;tt=383"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rds.yahoo.com/_ylt=A9G_bHK90zpIZWEBgEGJzbkF;_ylu=X3oDMTByb3AwY2tkBHBvcwMyNARzZWMDc3IEdnRpZANJMDg0XzEwNg--/SIG=1kn1dkmfd/EXP=1211901245/**http%3A//images.search.yahoo.com/images/view%3Fback=http%253A%252F%252Fimages.search.yahoo.com%252Fsearch%252Fimages%253Fp%253Djunk%252Bfood%252Band%252Bdrink%2526js%253D1%2526ei%253Dutf-8%2526y%253DSearch%2526fr%253Dsfp%2526xargs%253D0%2526pstart%253D1%2526b%253D19%2526ni%253D18%26w=375%26h=500%26imgurl=static.flickr.com%252F6%252F10534439_9b332b5ca9.jpg%26rurl=http%253A%252F%252Fwww.flickr.com%252Fphotos%252Fvivienchan%252F10534439%252F%26size=47kB%26name=Duckies%20at%20KFC%26p=junk%20food%20and%20drink%26type=JPG%26oid=f352c45ecc6800aa%26fusr=VivienChan%26tit=Duckies%20at%20KFC%26hurl=http%3A//www.flickr.com/photos/vivienchan/%26no=24&amp;tt=383" TargetMode="External"/><Relationship Id="rId2" Type="http://schemas.openxmlformats.org/officeDocument/2006/relationships/image" Target="../media/image29.jpeg"/><Relationship Id="rId3" Type="http://schemas.openxmlformats.org/officeDocument/2006/relationships/hyperlink" Target="http://rds.yahoo.com/_ylt=A9G_bHK90zpIZWEBikGJzbkF;_ylu=X3oDMTByNTNzZGltBHBvcwMzMARzZWMDc3IEdnRpZANJMDg0XzEwNg--/SIG=1k63dppov/EXP=1211901245/**http%3A//images.search.yahoo.com/images/view%3Fback=http%253A%252F%252Fimages.search.yahoo.com%252Fsearch%252Fimages%253Fp%253Djunk%252Bfood%252Band%252Bdrink%2526js%253D1%2526ei%253Dutf-8%2526y%253DSearch%2526fr%253Dsfp%2526xargs%253D0%2526pstart%253D1%2526b%253D19%2526ni%253D18%26w=500%26h=500%26imgurl=static.flickr.com%252F2268%252F1958803062_50f7e345f0.jpg%26rurl=http%253A%252F%252Fwww.flickr.com%252Fphotos%252Fdubbase%252F1958803062%252F%26size=270.5kB%26name=at%20work%26p=junk%20food%20and%20drink%26type=JPG%26oid=96a21cb3031035e4%26fusr=dubbase%26tit=at%20work%26hurl=http%3A//www.flickr.com/photos/dubbase/%26no=30&amp;tt=383" TargetMode="External"/><Relationship Id="rId4" Type="http://schemas.openxmlformats.org/officeDocument/2006/relationships/image" Target="../media/image30.jpeg"/><Relationship Id="rId5" Type="http://schemas.openxmlformats.org/officeDocument/2006/relationships/hyperlink" Target="http://rds.yahoo.com/_ylt=A9G_bHIf1TpIA10BfKmJzbkF;_ylu=X3oDMTBzNHZybDg3BHBvcwMxMDEEc2VjA3NyBHZ0aWQDSTA4NF8xMDY-/SIG=1jevjqdil/EXP=1211901599/**http%3A//images.search.yahoo.com/images/view%3Fback=http%253A%252F%252Fimages.search.yahoo.com%252Fsearch%252Fimages%253Fp%253Djunk%252Bfood%252Band%252Bdrink%2526js%253D1%2526ni%253D18%2526ei%253Dutf-8%2526y%253DSearch%2526fr%253Dsfp%2526xargs%253D0%2526pstart%253D1%2526b%253D91%26w=159%26h=325%26imgurl=www.junkfoodblog.com%252Fuploaded_images%252Fred-rain-energy-drink-716388.jpg%26rurl=http%253A%252F%252Fwww.junkfoodblog.com%252F2006%252F01%252Fred-rain-energy-drink.html%26size=15.8kB%26name=red-rain-energy-drink-716388.jpg%26p=junk%20food%20and%20drink%26type=JPG%26oid=73efb0dee07071b2%26no=101&amp;tt=383" TargetMode="External"/><Relationship Id="rId6" Type="http://schemas.openxmlformats.org/officeDocument/2006/relationships/image" Target="../media/image31.jpeg"/><Relationship Id="rId7" Type="http://schemas.openxmlformats.org/officeDocument/2006/relationships/hyperlink" Target="http://rds.yahoo.com/_ylt=A9G_bHIf1TpIA10Be6mJzbkF;_ylu=X3oDMTBzcmpoaWptBHBvcwMxMDAEc2VjA3NyBHZ0aWQDSTA4NF8xMDY-/SIG=1jdr8vs56/EXP=1211901599/**http%3A//images.search.yahoo.com/images/view%3Fback=http%253A%252F%252Fimages.search.yahoo.com%252Fsearch%252Fimages%253Fp%253Djunk%252Bfood%252Band%252Bdrink%2526js%253D1%2526ni%253D18%2526ei%253Dutf-8%2526y%253DSearch%2526fr%253Dsfp%2526xargs%253D0%2526pstart%253D1%2526b%253D91%26w=119%26h=324%26imgurl=www.junkfoodblog.com%252Fuploaded_images%252Fpit-bull-energy-drink-741995.jpg%26rurl=http%253A%252F%252Fwww.junkfoodblog.com%252F2006%252F03%252Fpit-bull-energy-drink.html%26size=9.1kB%26name=pit-bull-energy-drink-741995.jpg%26p=junk%20food%20and%20drink%26type=JPG%26oid=9231c352f28f12f4%26no=100&amp;tt=383" TargetMode="External"/><Relationship Id="rId8" Type="http://schemas.openxmlformats.org/officeDocument/2006/relationships/image" Target="../media/image32.jpeg"/><Relationship Id="rId9" Type="http://schemas.openxmlformats.org/officeDocument/2006/relationships/hyperlink" Target="http://rds.yahoo.com/_ylt=A9G_bHIf1TpIA10BdKmJzbkF;_ylu=X3oDMTByYzRmNjUwBHBvcwM5NQRzZWMDc3IEdnRpZANJMDg0XzEwNg--/SIG=1i8d3l556/EXP=1211901599/**http%3A//images.search.yahoo.com/images/view%3Fback=http%253A%252F%252Fimages.search.yahoo.com%252Fsearch%252Fimages%253Fp%253Djunk%252Bfood%252Band%252Bdrink%2526js%253D1%2526ni%253D18%2526ei%253Dutf-8%2526y%253DSearch%2526fr%253Dsfp%2526xargs%253D0%2526pstart%253D1%2526b%253D91%26w=200%26h=150%26imgurl=www.junkfoodblog.com%252Fuploaded_images%252Fdiesel-energy-drink.jpg%26rurl=http%253A%252F%252Fwww.junkfoodblog.com%252F2005_09_01_junkfood.html%26size=8.2kB%26name=diesel-energy-drink.jpg%26p=junk%20food%20and%20drink%26type=JPG%26oid=4f0bbebb41a8564c%26no=95&amp;tt=383" TargetMode="External"/><Relationship Id="rId10" Type="http://schemas.openxmlformats.org/officeDocument/2006/relationships/image" Target="../media/image33.jpeg"/><Relationship Id="rId11" Type="http://schemas.openxmlformats.org/officeDocument/2006/relationships/hyperlink" Target="http://rds.yahoo.com/_ylt=A9G_bHIf1TpIA10BfqmJzbkF;_ylu=X3oDMTBzNTFqdWZzBHBvcwMxMDMEc2VjA3NyBHZ0aWQDSTA4NF8xMDY-/SIG=1jakftpj1/EXP=1211901599/**http%3A//images.search.yahoo.com/images/view%3Fback=http%253A%252F%252Fimages.search.yahoo.com%252Fsearch%252Fimages%253Fp%253Djunk%252Bfood%252Band%252Bdrink%2526js%253D1%2526ni%253D18%2526ei%253Dutf-8%2526y%253DSearch%2526fr%253Dsfp%2526xargs%253D0%2526pstart%253D1%2526b%253D91%26w=100%26h=227%26imgurl=www.junkfoodblog.com%252Fuploaded_images%252Fv-energy-drink-black-785669.jpg%26rurl=http%253A%252F%252Fwww.junkfoodblog.com%252F2006%252F01%252Fv-energy-drink-black.html%26size=9.9kB%26name=v-energy-drink-black-785669.jpg%26p=junk%20food%20and%20drink%26type=JPG%26oid=e6748cfd8f76d000%26no=103&amp;tt=383" TargetMode="External"/><Relationship Id="rId12" Type="http://schemas.openxmlformats.org/officeDocument/2006/relationships/image" Target="../media/image34.jpeg"/><Relationship Id="rId13" Type="http://schemas.openxmlformats.org/officeDocument/2006/relationships/hyperlink" Target="http://rds.yahoo.com/_ylt=A9G_bDq31TpI_rgAcgmJzbkF;_ylu=X3oDMTBzYzJxN3ExBHBvcwMxMTgEc2VjA3NyBHZ0aWQDSTA4NF8xMDY-/SIG=1jqjskcnj/EXP=1211901751/**http%3A//images.search.yahoo.com/images/view%3Fback=http%253A%252F%252Fimages.search.yahoo.com%252Fsearch%252Fimages%253Fp%253Djunk%252Bfood%252Band%252Bdrink%2526js%253D1%2526ni%253D18%2526ei%253Dutf-8%2526y%253DSearch%2526fr%253Dsfp%2526xargs%253D0%2526pstart%253D1%2526b%253D109%26w=147%26h=315%26imgurl=www.junkfoodblog.com%252Fuploaded_images%252Ffirepower-energy-drink-733467.jpg%26rurl=http%253A%252F%252Fwww.junkfoodblog.com%252F2006%252F01%252Ffirepower-extreme-energy-drink.html%26size=15.3kB%26name=firepower-energy-drink-733467.jpg%26p=junk%20food%20and%20drink%26type=JPG%26oid=33f57d92c5c2e6e2%26no=118&amp;tt=383"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914400" y="836640"/>
            <a:ext cx="7772400" cy="5294160"/>
          </a:xfrm>
          <a:prstGeom prst="rect">
            <a:avLst/>
          </a:prstGeom>
          <a:solidFill>
            <a:srgbClr val="ffffe1"/>
          </a:solid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Cont. Childhood &amp; Adolescent</a:t>
            </a:r>
            <a:endParaRPr b="0" lang="en-US" sz="7200" spc="-1" strike="noStrike">
              <a:solidFill>
                <a:srgbClr val="000000"/>
              </a:solidFill>
              <a:latin typeface="Arial"/>
            </a:endParaRPr>
          </a:p>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Let.6</a:t>
            </a:r>
            <a:r>
              <a:rPr b="1" lang="en-US" sz="2400" spc="-1" strike="noStrike">
                <a:solidFill>
                  <a:srgbClr val="000066"/>
                </a:solidFill>
                <a:latin typeface="Comic Sans MS"/>
              </a:rPr>
              <a:t>  </a:t>
            </a:r>
            <a:r>
              <a:rPr b="1" lang="en-US" sz="2400" spc="-1" strike="noStrike">
                <a:solidFill>
                  <a:srgbClr val="ff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ngle most important problem for obese children is the potential of becoming obese adults with all the social,economic,and medical ramifications that often accompany obesit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ave additional problems ,too ,arising from difference in their growth ,physical health ,and psychologic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Comic Sans MS"/>
              </a:rPr>
              <a:t>Prevention &amp; treatment of obesity</a:t>
            </a:r>
            <a:r>
              <a:rPr b="0" lang="en-US" sz="3400" spc="-1" strike="noStrike">
                <a:solidFill>
                  <a:srgbClr val="330033"/>
                </a:solidFill>
                <a:latin typeface="Comic Sans MS"/>
              </a:rPr>
              <a:t>:</a:t>
            </a:r>
            <a:endParaRPr b="0" lang="en-US" sz="34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are encouraged to make major efforts to prevent childhood obesity or begin treatment ear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ntegrated approach is recommended, involving diet, physical activity, psychological support, and behaviora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920" y="691920"/>
            <a:ext cx="7772400" cy="14302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5</a:t>
            </a:r>
            <a:r>
              <a:rPr b="0" lang="en-US" sz="4200" spc="-1" strike="noStrike">
                <a:solidFill>
                  <a:srgbClr val="0000cc"/>
                </a:solidFill>
                <a:latin typeface="Comic Sans MS"/>
              </a:rPr>
              <a:t>-</a:t>
            </a:r>
            <a:r>
              <a:rPr b="0" lang="en-US" sz="4200" spc="-1" strike="noStrike">
                <a:solidFill>
                  <a:srgbClr val="0000cc"/>
                </a:solidFill>
                <a:latin typeface="Comic Sans MS"/>
              </a:rPr>
              <a:t>meal times at home</a:t>
            </a:r>
            <a:br>
              <a:rPr sz="4200"/>
            </a:br>
            <a:br>
              <a:rPr sz="4200"/>
            </a:b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al guidance in food choices is necessary ,but equally important is teaching children consumer skills to help them make informed choi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5" descr="Go to fullsize image">
            <a:hlinkClick r:id="rId1"/>
          </p:cNvPr>
          <p:cNvPicPr/>
          <p:nvPr/>
        </p:nvPicPr>
        <p:blipFill>
          <a:blip r:embed="rId2"/>
          <a:stretch/>
        </p:blipFill>
        <p:spPr>
          <a:xfrm>
            <a:off x="1042920" y="3860640"/>
            <a:ext cx="1800360" cy="2089440"/>
          </a:xfrm>
          <a:prstGeom prst="rect">
            <a:avLst/>
          </a:prstGeom>
          <a:ln w="0">
            <a:noFill/>
          </a:ln>
        </p:spPr>
      </p:pic>
      <p:pic>
        <p:nvPicPr>
          <p:cNvPr id="117" name="Picture 7" descr="Go to fullsize image">
            <a:hlinkClick r:id="rId3"/>
          </p:cNvPr>
          <p:cNvPicPr/>
          <p:nvPr/>
        </p:nvPicPr>
        <p:blipFill>
          <a:blip r:embed="rId4"/>
          <a:stretch/>
        </p:blipFill>
        <p:spPr>
          <a:xfrm>
            <a:off x="3276720" y="3860640"/>
            <a:ext cx="1728720" cy="2089440"/>
          </a:xfrm>
          <a:prstGeom prst="rect">
            <a:avLst/>
          </a:prstGeom>
          <a:ln w="0">
            <a:noFill/>
          </a:ln>
        </p:spPr>
      </p:pic>
      <p:pic>
        <p:nvPicPr>
          <p:cNvPr id="118" name="Picture 9" descr="Go to fullsize image">
            <a:hlinkClick r:id="rId5"/>
          </p:cNvPr>
          <p:cNvPicPr/>
          <p:nvPr/>
        </p:nvPicPr>
        <p:blipFill>
          <a:blip r:embed="rId6"/>
          <a:stretch/>
        </p:blipFill>
        <p:spPr>
          <a:xfrm>
            <a:off x="5076720" y="3860640"/>
            <a:ext cx="3311640" cy="21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900000" y="475920"/>
            <a:ext cx="7772400" cy="6381720"/>
          </a:xfrm>
          <a:prstGeom prst="rect">
            <a:avLst/>
          </a:prstGeom>
          <a:solidFill>
            <a:srgbClr val="ffffe1"/>
          </a:solidFill>
          <a:ln w="0">
            <a:noFill/>
          </a:ln>
        </p:spPr>
        <p:txBody>
          <a:bodyPr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Comic Sans MS"/>
              </a:rPr>
              <a:t>Child feeding tips:</a:t>
            </a:r>
            <a:endParaRPr b="0" lang="en-US" sz="3200" spc="-1" strike="noStrike">
              <a:solidFill>
                <a:srgbClr val="000000"/>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 vegetables raw or slightly undercooked &amp; crunchy.</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child-sized portions and utensils to make meal time fun for children.</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ourage children to help plan and prepare meals.</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use food as reward for good behavior</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prevent chocking watch children eat and enforce a “sit down rule”.</a:t>
            </a:r>
            <a:endParaRPr b="0"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y first ,then eat.</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healthful snacks.</a:t>
            </a:r>
            <a:endParaRPr b="0" lang="en-US" sz="2800" spc="-1" strike="noStrike">
              <a:solidFill>
                <a:srgbClr val="000000"/>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 a good example-enjoy nutritious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cc"/>
                </a:solidFill>
                <a:latin typeface="Comic Sans MS"/>
              </a:rPr>
              <a:t>6</a:t>
            </a:r>
            <a:r>
              <a:rPr b="0" lang="en-US" sz="4600" spc="-1" strike="noStrike">
                <a:solidFill>
                  <a:srgbClr val="0000cc"/>
                </a:solidFill>
                <a:latin typeface="Comic Sans MS"/>
              </a:rPr>
              <a:t>-</a:t>
            </a:r>
            <a:r>
              <a:rPr b="0" lang="en-US" sz="4600" spc="-1" strike="noStrike">
                <a:solidFill>
                  <a:srgbClr val="0000cc"/>
                </a:solidFill>
                <a:latin typeface="Comic Sans MS"/>
              </a:rPr>
              <a:t>nutrition at school</a:t>
            </a:r>
            <a:r>
              <a:rPr b="0" lang="en-US" sz="4600" spc="-1" strike="noStrike">
                <a:solidFill>
                  <a:srgbClr val="0000cc"/>
                </a:solidFill>
                <a:latin typeface="Comic Sans MS"/>
              </a:rPr>
              <a:t>.</a:t>
            </a:r>
            <a:endParaRPr b="0" lang="en-US" sz="4600" spc="-1" strike="noStrike">
              <a:solidFill>
                <a:srgbClr val="330033"/>
              </a:solidFill>
              <a:latin typeface="Times New Roman"/>
            </a:endParaRPr>
          </a:p>
        </p:txBody>
      </p:sp>
      <p:sp>
        <p:nvSpPr>
          <p:cNvPr id="121" name="PlaceHolder 2"/>
          <p:cNvSpPr>
            <a:spLocks noGrp="1"/>
          </p:cNvSpPr>
          <p:nvPr>
            <p:ph/>
          </p:nvPr>
        </p:nvSpPr>
        <p:spPr>
          <a:xfrm>
            <a:off x="900000" y="1196640"/>
            <a:ext cx="7772400" cy="6264360"/>
          </a:xfrm>
          <a:prstGeom prst="rect">
            <a:avLst/>
          </a:prstGeom>
          <a:solidFill>
            <a:srgbClr val="ffffe1"/>
          </a:solidFill>
          <a:ln w="0">
            <a:noFill/>
          </a:ln>
        </p:spPr>
        <p:txBody>
          <a:bodyPr anchor="t">
            <a:normAutofit/>
          </a:bodyPr>
          <a:p>
            <a:pPr lvl="1" marL="743040" indent="-285840">
              <a:lnSpc>
                <a:spcPct val="10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ls at school</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governments funds several programs to provide nutritious meals for children at school.</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fast skipping is a concern of parents of school age childr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es suggest they cognition &amp; learning are adversely affected when children skip breakfas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fast eating is correlated with improved school attendance.</a:t>
            </a:r>
            <a:endParaRPr b="0" lang="en-US" sz="24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ng healthful lunches is only half the battle; students need to eat them</a:t>
            </a:r>
            <a:r>
              <a:rPr b="0" lang="en-US" sz="3200" spc="-1" strike="noStrike">
                <a:solidFill>
                  <a:srgbClr val="000000"/>
                </a:solidFill>
                <a:latin typeface="Comic Sans MS"/>
              </a:rPr>
              <a:t> ,too.</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826920" y="692280"/>
            <a:ext cx="7772400" cy="5726160"/>
          </a:xfrm>
          <a:prstGeom prst="rect">
            <a:avLst/>
          </a:prstGeom>
          <a:solidFill>
            <a:srgbClr val="ffffe1"/>
          </a:solidFill>
          <a:ln w="0">
            <a:noFill/>
          </a:ln>
        </p:spPr>
        <p:txBody>
          <a:bodyPr anchor="t">
            <a:normAutofit fontScale="96000"/>
          </a:bodyPr>
          <a:p>
            <a:pPr marL="3290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d2f43"/>
                </a:solidFill>
                <a:latin typeface="Comic Sans MS"/>
              </a:rPr>
              <a:t>Nutrition during Adolesc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61840" y="-360"/>
            <a:ext cx="828216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66"/>
                </a:solidFill>
                <a:latin typeface="Comic Sans MS"/>
              </a:rPr>
              <a:t>Nutrition during Adolescence</a:t>
            </a:r>
            <a:endParaRPr b="0" lang="en-US" sz="4200" spc="-1" strike="noStrike">
              <a:solidFill>
                <a:srgbClr val="330033"/>
              </a:solidFill>
              <a:latin typeface="Times New Roman"/>
            </a:endParaRPr>
          </a:p>
        </p:txBody>
      </p:sp>
      <p:sp>
        <p:nvSpPr>
          <p:cNvPr id="124" name="PlaceHolder 2"/>
          <p:cNvSpPr>
            <a:spLocks noGrp="1"/>
          </p:cNvSpPr>
          <p:nvPr>
            <p:ph/>
          </p:nvPr>
        </p:nvSpPr>
        <p:spPr>
          <a:xfrm>
            <a:off x="1547640" y="1413000"/>
            <a:ext cx="7834320" cy="51847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olescence</a:t>
            </a:r>
            <a:r>
              <a:rPr b="0" lang="en-US" sz="2800" spc="-1" strike="noStrike">
                <a:solidFill>
                  <a:srgbClr val="000000"/>
                </a:solidFill>
                <a:latin typeface="Comic Sans MS"/>
              </a:rPr>
              <a:t> is a transitional stage of physical and mental human development that occurs between childhood  and adulthood. </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eriod from the beginning of puberty until maturity.</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the adolescent growth spurt begins at age </a:t>
            </a:r>
            <a:r>
              <a:rPr b="0" lang="en-US" sz="2800" spc="-1" strike="noStrike">
                <a:solidFill>
                  <a:srgbClr val="000000"/>
                </a:solidFill>
                <a:latin typeface="Wingdings"/>
                <a:ea typeface="Wingdings"/>
              </a:rPr>
              <a:t></a:t>
            </a:r>
            <a:r>
              <a:rPr b="0" lang="en-US" sz="2800" spc="-1" strike="noStrike">
                <a:solidFill>
                  <a:srgbClr val="000000"/>
                </a:solidFill>
                <a:latin typeface="Comic Sans MS"/>
              </a:rPr>
              <a:t>10 or 11 for femal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rPr>
              <a:t>12or 13 for mal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Go to fullsize image">
            <a:hlinkClick r:id="rId4"/>
          </p:cNvPr>
          <p:cNvPicPr/>
          <p:nvPr/>
        </p:nvPicPr>
        <p:blipFill>
          <a:blip r:embed="rId5"/>
          <a:stretch/>
        </p:blipFill>
        <p:spPr>
          <a:xfrm>
            <a:off x="250920" y="5734080"/>
            <a:ext cx="1380960" cy="914400"/>
          </a:xfrm>
          <a:prstGeom prst="rect">
            <a:avLst/>
          </a:prstGeom>
          <a:ln w="0">
            <a:noFill/>
          </a:ln>
        </p:spPr>
      </p:pic>
      <p:pic>
        <p:nvPicPr>
          <p:cNvPr id="126" name="Picture 7" descr="Go to fullsize image">
            <a:hlinkClick r:id="rId6"/>
          </p:cNvPr>
          <p:cNvPicPr/>
          <p:nvPr/>
        </p:nvPicPr>
        <p:blipFill>
          <a:blip r:embed="rId7"/>
          <a:stretch/>
        </p:blipFill>
        <p:spPr>
          <a:xfrm>
            <a:off x="3708360" y="5734080"/>
            <a:ext cx="1381320" cy="914400"/>
          </a:xfrm>
          <a:prstGeom prst="rect">
            <a:avLst/>
          </a:prstGeom>
          <a:ln w="0">
            <a:noFill/>
          </a:ln>
        </p:spPr>
      </p:pic>
      <p:pic>
        <p:nvPicPr>
          <p:cNvPr id="127" name="Picture 9" descr="Go to fullsize image">
            <a:hlinkClick r:id="rId8"/>
          </p:cNvPr>
          <p:cNvPicPr/>
          <p:nvPr/>
        </p:nvPicPr>
        <p:blipFill>
          <a:blip r:embed="rId9"/>
          <a:stretch/>
        </p:blipFill>
        <p:spPr>
          <a:xfrm>
            <a:off x="2050920" y="5734080"/>
            <a:ext cx="1381320" cy="914400"/>
          </a:xfrm>
          <a:prstGeom prst="rect">
            <a:avLst/>
          </a:prstGeom>
          <a:ln w="0">
            <a:noFill/>
          </a:ln>
        </p:spPr>
      </p:pic>
      <p:pic>
        <p:nvPicPr>
          <p:cNvPr id="128" name="Picture 11" descr="Go to fullsize image">
            <a:hlinkClick r:id="rId10"/>
          </p:cNvPr>
          <p:cNvPicPr/>
          <p:nvPr/>
        </p:nvPicPr>
        <p:blipFill>
          <a:blip r:embed="rId11"/>
          <a:stretch/>
        </p:blipFill>
        <p:spPr>
          <a:xfrm>
            <a:off x="5292720" y="5734080"/>
            <a:ext cx="1380960" cy="914400"/>
          </a:xfrm>
          <a:prstGeom prst="rect">
            <a:avLst/>
          </a:prstGeom>
          <a:ln w="0">
            <a:noFill/>
          </a:ln>
        </p:spPr>
      </p:pic>
      <p:pic>
        <p:nvPicPr>
          <p:cNvPr id="129" name="Picture 13" descr="Go to fullsize image">
            <a:hlinkClick r:id="rId12"/>
          </p:cNvPr>
          <p:cNvPicPr/>
          <p:nvPr/>
        </p:nvPicPr>
        <p:blipFill>
          <a:blip r:embed="rId13"/>
          <a:stretch/>
        </p:blipFill>
        <p:spPr>
          <a:xfrm>
            <a:off x="6877080" y="5734080"/>
            <a:ext cx="1380960" cy="914400"/>
          </a:xfrm>
          <a:prstGeom prst="rect">
            <a:avLst/>
          </a:prstGeom>
          <a:ln w="0">
            <a:noFill/>
          </a:ln>
        </p:spPr>
      </p:pic>
      <p:pic>
        <p:nvPicPr>
          <p:cNvPr id="130" name="Picture 15" descr="Go to fullsize image">
            <a:hlinkClick r:id="rId14"/>
          </p:cNvPr>
          <p:cNvPicPr/>
          <p:nvPr/>
        </p:nvPicPr>
        <p:blipFill>
          <a:blip r:embed="rId15"/>
          <a:stretch/>
        </p:blipFill>
        <p:spPr>
          <a:xfrm>
            <a:off x="324000" y="4437000"/>
            <a:ext cx="1056960" cy="1058760"/>
          </a:xfrm>
          <a:prstGeom prst="rect">
            <a:avLst/>
          </a:prstGeom>
          <a:ln w="0">
            <a:noFill/>
          </a:ln>
        </p:spPr>
      </p:pic>
      <p:pic>
        <p:nvPicPr>
          <p:cNvPr id="131" name="Picture 17" descr="Go to fullsize image">
            <a:hlinkClick r:id="rId16"/>
          </p:cNvPr>
          <p:cNvPicPr/>
          <p:nvPr/>
        </p:nvPicPr>
        <p:blipFill>
          <a:blip r:embed="rId17"/>
          <a:stretch/>
        </p:blipFill>
        <p:spPr>
          <a:xfrm>
            <a:off x="324000" y="2997360"/>
            <a:ext cx="1152360" cy="1131840"/>
          </a:xfrm>
          <a:prstGeom prst="rect">
            <a:avLst/>
          </a:prstGeom>
          <a:ln w="0">
            <a:noFill/>
          </a:ln>
        </p:spPr>
      </p:pic>
      <p:pic>
        <p:nvPicPr>
          <p:cNvPr id="132" name="Picture 19" descr="Go to fullsize image">
            <a:hlinkClick r:id="rId18"/>
          </p:cNvPr>
          <p:cNvPicPr/>
          <p:nvPr/>
        </p:nvPicPr>
        <p:blipFill>
          <a:blip r:embed="rId19"/>
          <a:stretch/>
        </p:blipFill>
        <p:spPr>
          <a:xfrm>
            <a:off x="324000" y="1700280"/>
            <a:ext cx="1152360" cy="10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puberty   male &amp; female body composition differ only slightly </a:t>
            </a:r>
            <a:r>
              <a:rPr b="1" lang="en-US" sz="2800" spc="-1" strike="noStrike" u="sng">
                <a:solidFill>
                  <a:srgbClr val="000000"/>
                </a:solidFill>
                <a:uFillTx/>
                <a:latin typeface="Comic Sans MS"/>
              </a:rPr>
              <a:t>bu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adolescent spurt ,difference between the genders become apparent in the skeletal system ,lean body mass, and fat stores.</a:t>
            </a:r>
            <a:endParaRPr b="0" lang="en-US" sz="2800" spc="-1" strike="noStrike">
              <a:solidFill>
                <a:srgbClr val="000000"/>
              </a:solidFill>
              <a:latin typeface="Arial"/>
            </a:endParaRPr>
          </a:p>
        </p:txBody>
      </p:sp>
      <p:pic>
        <p:nvPicPr>
          <p:cNvPr id="134" name="Picture 7" descr="Japanese Teens in Fukushima, Japan">
            <a:hlinkClick r:id="rId2"/>
          </p:cNvPr>
          <p:cNvPicPr/>
          <p:nvPr/>
        </p:nvPicPr>
        <p:blipFill>
          <a:blip r:embed="rId3"/>
          <a:stretch/>
        </p:blipFill>
        <p:spPr>
          <a:xfrm>
            <a:off x="1116000" y="4437000"/>
            <a:ext cx="2664000" cy="2016360"/>
          </a:xfrm>
          <a:prstGeom prst="rect">
            <a:avLst/>
          </a:prstGeom>
          <a:ln w="0">
            <a:noFill/>
          </a:ln>
        </p:spPr>
      </p:pic>
      <p:pic>
        <p:nvPicPr>
          <p:cNvPr id="135" name="Picture 9" descr="A candid picture of a male teen in Venice Beach, Los Angeles, USA">
            <a:hlinkClick r:id="rId4"/>
          </p:cNvPr>
          <p:cNvPicPr/>
          <p:nvPr/>
        </p:nvPicPr>
        <p:blipFill>
          <a:blip r:embed="rId5"/>
          <a:stretch/>
        </p:blipFill>
        <p:spPr>
          <a:xfrm>
            <a:off x="3995640" y="4005360"/>
            <a:ext cx="1905120" cy="2641680"/>
          </a:xfrm>
          <a:prstGeom prst="rect">
            <a:avLst/>
          </a:prstGeom>
          <a:ln w="0">
            <a:noFill/>
          </a:ln>
        </p:spPr>
      </p:pic>
      <p:pic>
        <p:nvPicPr>
          <p:cNvPr id="136" name="Picture 11" descr="Go to fullsize image">
            <a:hlinkClick r:id="rId6"/>
          </p:cNvPr>
          <p:cNvPicPr/>
          <p:nvPr/>
        </p:nvPicPr>
        <p:blipFill>
          <a:blip r:embed="rId7"/>
          <a:stretch/>
        </p:blipFill>
        <p:spPr>
          <a:xfrm>
            <a:off x="6443640" y="4797360"/>
            <a:ext cx="1800360" cy="15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6920" y="404280"/>
            <a:ext cx="7772400" cy="1143000"/>
          </a:xfrm>
          <a:prstGeom prst="rect">
            <a:avLst/>
          </a:prstGeom>
          <a:noFill/>
          <a:ln w="0">
            <a:noFill/>
          </a:ln>
        </p:spPr>
        <p:txBody>
          <a:bodyPr anchor="ctr">
            <a:noAutofit/>
          </a:bodyPr>
          <a:p>
            <a:pPr>
              <a:lnSpc>
                <a:spcPct val="100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nergy and nutrient needs</a:t>
            </a:r>
            <a:endParaRPr b="0" lang="en-US" sz="4000" spc="-1" strike="noStrike">
              <a:solidFill>
                <a:srgbClr val="330033"/>
              </a:solidFill>
              <a:latin typeface="Times New Roman"/>
            </a:endParaRPr>
          </a:p>
        </p:txBody>
      </p:sp>
      <p:sp>
        <p:nvSpPr>
          <p:cNvPr id="138" name="PlaceHolder 2"/>
          <p:cNvSpPr>
            <a:spLocks noGrp="1"/>
          </p:cNvSpPr>
          <p:nvPr>
            <p:ph/>
          </p:nvPr>
        </p:nvSpPr>
        <p:spPr>
          <a:xfrm>
            <a:off x="900000" y="1599840"/>
            <a:ext cx="7772400" cy="52578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amp; nutrient needs are greater during adolescence than any other time of life ,except pregnancy and lact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Because</a:t>
            </a:r>
            <a:r>
              <a:rPr b="0" lang="en-US" sz="2800" spc="-1" strike="noStrike">
                <a:solidFill>
                  <a:srgbClr val="000000"/>
                </a:solidFill>
                <a:latin typeface="Comic Sans MS"/>
              </a:rPr>
              <a:t> it is the period of physical ,emotional and sexual maturation.</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ely 15-20% of adult Ht  &amp; 50% of adult Wt are gained during adolescent.</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ergy needs of adolescent vary greatly ,depending on their current rate of growth ,gender ,body composition ,and physical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88640"/>
            <a:ext cx="7772400" cy="6669000"/>
          </a:xfrm>
          <a:prstGeom prst="rect">
            <a:avLst/>
          </a:prstGeom>
          <a:solidFill>
            <a:srgbClr val="ffffe1"/>
          </a:solidFill>
          <a:ln w="0">
            <a:noFill/>
          </a:ln>
        </p:spPr>
        <p:txBody>
          <a:bodyPr anchor="t">
            <a:normAutofit fontScale="98000"/>
          </a:bodyPr>
          <a:p>
            <a:pPr marL="335880" indent="-3358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Comic Sans MS"/>
              </a:rPr>
              <a:t> </a:t>
            </a:r>
            <a:r>
              <a:rPr b="1" lang="en-US" sz="2800" spc="-1" strike="noStrike">
                <a:solidFill>
                  <a:srgbClr val="000000"/>
                </a:solidFill>
                <a:latin typeface="Comic Sans MS"/>
              </a:rPr>
              <a:t>boys`</a:t>
            </a:r>
            <a:r>
              <a:rPr b="0" lang="en-US" sz="2800" spc="-1" strike="noStrike">
                <a:solidFill>
                  <a:srgbClr val="000000"/>
                </a:solidFill>
                <a:latin typeface="Comic Sans MS"/>
              </a:rPr>
              <a:t> energy needs may especially be high ;they typically grow faster than girls ,develop a greater proportion of lean body mas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Comic Sans MS"/>
              </a:rPr>
              <a:t>girls</a:t>
            </a:r>
            <a:endParaRPr b="0" lang="en-US" sz="2800" spc="-1" strike="noStrike">
              <a:solidFill>
                <a:srgbClr val="000000"/>
              </a:solidFill>
              <a:latin typeface="Arial"/>
            </a:endParaRPr>
          </a:p>
          <a:p>
            <a:pPr marL="335880" indent="-335880">
              <a:lnSpc>
                <a:spcPct val="10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rls` start growing earlier than boys and attain shorter heights and lower weights ,so their energy peak sooner and decline earlier than those of their male peers.</a:t>
            </a:r>
            <a:endParaRPr b="0" lang="en-US" sz="2800" spc="-1" strike="noStrike">
              <a:solidFill>
                <a:srgbClr val="000000"/>
              </a:solidFill>
              <a:latin typeface="Arial"/>
            </a:endParaRPr>
          </a:p>
          <a:p>
            <a:pPr marL="335880" indent="-335880">
              <a:lnSpc>
                <a:spcPct val="10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girls need to pay attention to being physically active and selecting foods of high nutrient density so as to meet their nutrient needs without exceeding their energy needs.</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277560"/>
            <a:ext cx="8820000" cy="1143000"/>
          </a:xfrm>
          <a:prstGeom prst="rect">
            <a:avLst/>
          </a:prstGeom>
          <a:noFill/>
          <a:ln w="0">
            <a:noFill/>
          </a:ln>
        </p:spPr>
        <p:txBody>
          <a:bodyPr anchor="ctr">
            <a:noAutofit/>
          </a:bodyPr>
          <a:p>
            <a:pPr>
              <a:lnSpc>
                <a:spcPct val="100000"/>
              </a:lnSpc>
              <a:buSzPct val="1028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Comic Sans MS"/>
              </a:rPr>
              <a:t>Nutrition concerns in childhood:</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1-hunger &amp; malnutr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2-malnutrition –lead conne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3-Hyperactivity &amp; hyper behavi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4-childhood obesi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5-meal times at ho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6-nutrition at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sidious problem of obesity becomes ever more apparent in adolescence and often continuous into adulthoo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ose with low-self-esteem may diet to lose weight even though their weight normal or even below normal.</a:t>
            </a:r>
            <a:endParaRPr b="0" lang="en-US" sz="2800" spc="-1" strike="noStrike">
              <a:solidFill>
                <a:srgbClr val="000000"/>
              </a:solidFill>
              <a:latin typeface="Arial"/>
            </a:endParaRPr>
          </a:p>
        </p:txBody>
      </p:sp>
      <p:pic>
        <p:nvPicPr>
          <p:cNvPr id="141" name="Picture 5" descr="Go to fullsize image">
            <a:hlinkClick r:id="rId1"/>
          </p:cNvPr>
          <p:cNvPicPr/>
          <p:nvPr/>
        </p:nvPicPr>
        <p:blipFill>
          <a:blip r:embed="rId2"/>
          <a:stretch/>
        </p:blipFill>
        <p:spPr>
          <a:xfrm>
            <a:off x="4211640" y="4941720"/>
            <a:ext cx="2448000" cy="1656000"/>
          </a:xfrm>
          <a:prstGeom prst="rect">
            <a:avLst/>
          </a:prstGeom>
          <a:ln w="0">
            <a:noFill/>
          </a:ln>
        </p:spPr>
      </p:pic>
      <p:pic>
        <p:nvPicPr>
          <p:cNvPr id="142" name="Picture 7" descr="Go to fullsize image">
            <a:hlinkClick r:id="rId3"/>
          </p:cNvPr>
          <p:cNvPicPr/>
          <p:nvPr/>
        </p:nvPicPr>
        <p:blipFill>
          <a:blip r:embed="rId4"/>
          <a:stretch/>
        </p:blipFill>
        <p:spPr>
          <a:xfrm>
            <a:off x="1332000" y="4941720"/>
            <a:ext cx="2016000" cy="16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62028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Vitamins</a:t>
            </a:r>
            <a:endParaRPr b="0" lang="en-US" sz="3600" spc="-1" strike="noStrike">
              <a:solidFill>
                <a:srgbClr val="330033"/>
              </a:solidFill>
              <a:latin typeface="Times New Roman"/>
            </a:endParaRPr>
          </a:p>
        </p:txBody>
      </p:sp>
      <p:sp>
        <p:nvSpPr>
          <p:cNvPr id="144" name="PlaceHolder 2"/>
          <p:cNvSpPr>
            <a:spLocks noGrp="1"/>
          </p:cNvSpPr>
          <p:nvPr>
            <p:ph/>
          </p:nvPr>
        </p:nvSpPr>
        <p:spPr>
          <a:xfrm>
            <a:off x="826920" y="1699920"/>
            <a:ext cx="7772400" cy="4530600"/>
          </a:xfrm>
          <a:prstGeom prst="rect">
            <a:avLst/>
          </a:prstGeom>
          <a:noFill/>
          <a:ln w="0">
            <a:noFill/>
          </a:ln>
        </p:spPr>
        <p:txBody>
          <a:bodyPr anchor="t">
            <a:normAutofit fontScale="98000"/>
          </a:bodyPr>
          <a:p>
            <a:pPr marL="335880" indent="-3358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DA for most vitamins increase during adolescent years.</a:t>
            </a:r>
            <a:endParaRPr b="0" lang="en-US" sz="3200" spc="-1" strike="noStrike">
              <a:solidFill>
                <a:srgbClr val="000000"/>
              </a:solidFill>
              <a:latin typeface="Arial"/>
            </a:endParaRPr>
          </a:p>
          <a:p>
            <a:pPr marL="335880" indent="-3358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ring puberty, both the activation of vitamin D</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the absorption of calcium are enhanced, thus supporting the intense skeletal growth of the adolescent years without additional vi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54900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ron</a:t>
            </a:r>
            <a:endParaRPr b="0" lang="en-US" sz="3600" spc="-1" strike="noStrike">
              <a:solidFill>
                <a:srgbClr val="330033"/>
              </a:solidFill>
              <a:latin typeface="Times New Roman"/>
            </a:endParaRPr>
          </a:p>
        </p:txBody>
      </p:sp>
      <p:sp>
        <p:nvSpPr>
          <p:cNvPr id="146"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eds for iron increase during adolescence for both females and males ,but for different reas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females :iron needs increase as they start to menstruat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males: iron needs increase as their lean body mass develop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ron intake often fails to keep pace with increasing needs ,especially for females ,who consume less iron-rich foods such as meat &amp; fewer total kcal than m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640" y="-17172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alcium</a:t>
            </a:r>
            <a:endParaRPr b="0" lang="en-US" sz="3600" spc="-1" strike="noStrike">
              <a:solidFill>
                <a:srgbClr val="330033"/>
              </a:solidFill>
              <a:latin typeface="Times New Roman"/>
            </a:endParaRPr>
          </a:p>
        </p:txBody>
      </p:sp>
      <p:sp>
        <p:nvSpPr>
          <p:cNvPr id="148" name="PlaceHolder 2"/>
          <p:cNvSpPr>
            <a:spLocks noGrp="1"/>
          </p:cNvSpPr>
          <p:nvPr>
            <p:ph/>
          </p:nvPr>
        </p:nvSpPr>
        <p:spPr>
          <a:xfrm>
            <a:off x="900000" y="1052640"/>
            <a:ext cx="7772400" cy="5472000"/>
          </a:xfrm>
          <a:prstGeom prst="rect">
            <a:avLst/>
          </a:prstGeom>
          <a:solidFill>
            <a:srgbClr val="ffffe1"/>
          </a:solidFill>
          <a:ln w="0">
            <a:noFill/>
          </a:ln>
        </p:spPr>
        <p:txBody>
          <a:bodyPr anchor="t">
            <a:normAutofit/>
          </a:bodyPr>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olescence is a crucial time for bone development, and Ca requirement reaches its peak .</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Ca intake in times of active growth, especially when paired with physical inactivity, may compromise the developmental peak bone mass, which considered the best protection against adolescent fractures and adulthood osteoporosis.</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enagers need to select 3-4 servings from the milk group daily to meet their Ca goal of 1300 mg/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8640"/>
            <a:ext cx="91440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Comic Sans MS"/>
              </a:rPr>
              <a:t>Food choices and health habits</a:t>
            </a:r>
            <a:endParaRPr b="0" lang="en-US" sz="4400" spc="-1" strike="noStrike">
              <a:solidFill>
                <a:srgbClr val="330033"/>
              </a:solidFill>
              <a:latin typeface="Times New Roman"/>
            </a:endParaRPr>
          </a:p>
        </p:txBody>
      </p:sp>
      <p:sp>
        <p:nvSpPr>
          <p:cNvPr id="150" name="PlaceHolder 2"/>
          <p:cNvSpPr>
            <a:spLocks noGrp="1"/>
          </p:cNvSpPr>
          <p:nvPr>
            <p:ph/>
          </p:nvPr>
        </p:nvSpPr>
        <p:spPr>
          <a:xfrm>
            <a:off x="1187280" y="1557000"/>
            <a:ext cx="77724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enagers eat what they want if it is convenient and if they have the 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ny given time on any given day ,a teenager may be skipping a meal ,eating a snack ,preparing a meal ,or consuming food prepared by a parent or restaurant.</a:t>
            </a:r>
            <a:endParaRPr b="0" lang="en-US" sz="3200" spc="-1" strike="noStrike">
              <a:solidFill>
                <a:srgbClr val="000000"/>
              </a:solidFill>
              <a:latin typeface="Arial"/>
            </a:endParaRPr>
          </a:p>
        </p:txBody>
      </p:sp>
      <p:pic>
        <p:nvPicPr>
          <p:cNvPr id="151" name="Picture 5" descr="Go to fullsize image">
            <a:hlinkClick r:id="rId3"/>
          </p:cNvPr>
          <p:cNvPicPr/>
          <p:nvPr/>
        </p:nvPicPr>
        <p:blipFill>
          <a:blip r:embed="rId4"/>
          <a:stretch/>
        </p:blipFill>
        <p:spPr>
          <a:xfrm>
            <a:off x="0" y="1484280"/>
            <a:ext cx="1116000" cy="4032360"/>
          </a:xfrm>
          <a:prstGeom prst="rect">
            <a:avLst/>
          </a:prstGeom>
          <a:ln w="0">
            <a:noFill/>
          </a:ln>
        </p:spPr>
      </p:pic>
      <p:pic>
        <p:nvPicPr>
          <p:cNvPr id="152" name="Picture 7" descr="Go to fullsize image">
            <a:hlinkClick r:id="rId5"/>
          </p:cNvPr>
          <p:cNvPicPr/>
          <p:nvPr/>
        </p:nvPicPr>
        <p:blipFill>
          <a:blip r:embed="rId6"/>
          <a:stretch/>
        </p:blipFill>
        <p:spPr>
          <a:xfrm>
            <a:off x="7308720" y="5229360"/>
            <a:ext cx="914400" cy="1380960"/>
          </a:xfrm>
          <a:prstGeom prst="rect">
            <a:avLst/>
          </a:prstGeom>
          <a:ln w="0">
            <a:noFill/>
          </a:ln>
        </p:spPr>
      </p:pic>
      <p:pic>
        <p:nvPicPr>
          <p:cNvPr id="153" name="Picture 8" descr="Go to fullsize image">
            <a:hlinkClick r:id="rId7"/>
          </p:cNvPr>
          <p:cNvPicPr/>
          <p:nvPr/>
        </p:nvPicPr>
        <p:blipFill>
          <a:blip r:embed="rId8"/>
          <a:stretch/>
        </p:blipFill>
        <p:spPr>
          <a:xfrm>
            <a:off x="5508720" y="5229360"/>
            <a:ext cx="1368360" cy="1368360"/>
          </a:xfrm>
          <a:prstGeom prst="rect">
            <a:avLst/>
          </a:prstGeom>
          <a:ln w="0">
            <a:noFill/>
          </a:ln>
        </p:spPr>
      </p:pic>
      <p:pic>
        <p:nvPicPr>
          <p:cNvPr id="154" name="Picture 9" descr="Go to fullsize image">
            <a:hlinkClick r:id="rId9"/>
          </p:cNvPr>
          <p:cNvPicPr/>
          <p:nvPr/>
        </p:nvPicPr>
        <p:blipFill>
          <a:blip r:embed="rId10"/>
          <a:stretch/>
        </p:blipFill>
        <p:spPr>
          <a:xfrm>
            <a:off x="0" y="5756400"/>
            <a:ext cx="2376360" cy="110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914400" y="188640"/>
            <a:ext cx="7772400" cy="6669000"/>
          </a:xfrm>
          <a:prstGeom prst="rect">
            <a:avLst/>
          </a:prstGeom>
          <a:solidFill>
            <a:srgbClr val="ffffe1"/>
          </a:solid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ack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acks typically provide at least a fourth of the average teenager's daily food energy intake.</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of snacks are  </a:t>
            </a:r>
            <a:r>
              <a:rPr b="0" lang="en-US" sz="3600" spc="-1" strike="noStrike">
                <a:solidFill>
                  <a:srgbClr val="000000"/>
                </a:solidFill>
                <a:latin typeface="Chiller"/>
              </a:rPr>
              <a:t>high</a:t>
            </a:r>
            <a:r>
              <a:rPr b="0" lang="en-US" sz="2800" spc="-1" strike="noStrike">
                <a:solidFill>
                  <a:srgbClr val="000000"/>
                </a:solidFill>
                <a:latin typeface="Comic Sans MS"/>
              </a:rPr>
              <a:t> in fat a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low</a:t>
            </a:r>
            <a:r>
              <a:rPr b="0" lang="en-US" sz="2800" spc="-1" strike="noStrike">
                <a:solidFill>
                  <a:srgbClr val="000000"/>
                </a:solidFill>
                <a:latin typeface="Comic Sans MS"/>
              </a:rPr>
              <a:t> in Ca, iron, vitC, vit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folate.</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verage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requently ,adolescent drink soft drinks instead of fruit juice or milk with lunch, supper and snacks( only breakfast they select jui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7" descr="Go to fullsize image">
            <a:hlinkClick r:id="rId3"/>
          </p:cNvPr>
          <p:cNvPicPr/>
          <p:nvPr/>
        </p:nvPicPr>
        <p:blipFill>
          <a:blip r:embed="rId4"/>
          <a:stretch/>
        </p:blipFill>
        <p:spPr>
          <a:xfrm>
            <a:off x="7763040" y="0"/>
            <a:ext cx="1380960" cy="692280"/>
          </a:xfrm>
          <a:prstGeom prst="rect">
            <a:avLst/>
          </a:prstGeom>
          <a:ln w="0">
            <a:noFill/>
          </a:ln>
        </p:spPr>
      </p:pic>
      <p:pic>
        <p:nvPicPr>
          <p:cNvPr id="157" name="Picture 12" descr="Go to fullsize image">
            <a:hlinkClick r:id="rId5"/>
          </p:cNvPr>
          <p:cNvPicPr/>
          <p:nvPr/>
        </p:nvPicPr>
        <p:blipFill>
          <a:blip r:embed="rId6"/>
          <a:stretch/>
        </p:blipFill>
        <p:spPr>
          <a:xfrm>
            <a:off x="7667640" y="1341360"/>
            <a:ext cx="1085760" cy="1381320"/>
          </a:xfrm>
          <a:prstGeom prst="rect">
            <a:avLst/>
          </a:prstGeom>
          <a:ln w="0">
            <a:noFill/>
          </a:ln>
        </p:spPr>
      </p:pic>
      <p:pic>
        <p:nvPicPr>
          <p:cNvPr id="158" name="Picture 14" descr="Go to fullsize image">
            <a:hlinkClick r:id="rId7"/>
          </p:cNvPr>
          <p:cNvPicPr/>
          <p:nvPr/>
        </p:nvPicPr>
        <p:blipFill>
          <a:blip r:embed="rId8"/>
          <a:stretch/>
        </p:blipFill>
        <p:spPr>
          <a:xfrm>
            <a:off x="1042920" y="2565360"/>
            <a:ext cx="280836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900000" y="1628640"/>
            <a:ext cx="7772400" cy="4530960"/>
          </a:xfrm>
          <a:prstGeom prst="rect">
            <a:avLst/>
          </a:prstGeom>
          <a:noFill/>
          <a:ln w="0">
            <a:noFill/>
          </a:ln>
        </p:spPr>
        <p:txBody>
          <a:bodyPr anchor="t">
            <a:normAutofit/>
          </a:bodyPr>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 drinks have higher energy intake and lower Ca . </a:t>
            </a:r>
            <a:endParaRPr b="0" lang="en-US" sz="2400" spc="-1" strike="noStrike">
              <a:solidFill>
                <a:srgbClr val="000000"/>
              </a:solidFill>
              <a:latin typeface="Arial"/>
            </a:endParaRPr>
          </a:p>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stitution of soft drinks for milk appears to contribute 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inadequate Ca intak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 phosphoric acid in soft drinks works against calcification &amp; may lead to bone resorption.</a:t>
            </a:r>
            <a:endParaRPr b="0" lang="en-US" sz="2400" spc="-1" strike="noStrike">
              <a:solidFill>
                <a:srgbClr val="000000"/>
              </a:solidFill>
              <a:latin typeface="Arial"/>
            </a:endParaRPr>
          </a:p>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 drinks may present a problem when caffeine intake become excessive </a:t>
            </a:r>
            <a:r>
              <a:rPr b="0" lang="en-US" sz="2400" spc="-1" strike="noStrike">
                <a:solidFill>
                  <a:srgbClr val="000000"/>
                </a:solidFill>
                <a:latin typeface="Wingdings"/>
                <a:ea typeface="Wingdings"/>
              </a:rPr>
              <a:t></a:t>
            </a:r>
            <a:r>
              <a:rPr b="0" lang="en-US" sz="2400" spc="-1" strike="noStrike">
                <a:solidFill>
                  <a:srgbClr val="000000"/>
                </a:solidFill>
                <a:latin typeface="Comic Sans MS"/>
              </a:rPr>
              <a:t>causes symptoms associated with anxiety-sweating ,tenseness,&amp; inability to concentrate.</a:t>
            </a:r>
            <a:endParaRPr b="0" lang="en-US" sz="2400" spc="-1" strike="noStrike">
              <a:solidFill>
                <a:srgbClr val="000000"/>
              </a:solidFill>
              <a:latin typeface="Arial"/>
            </a:endParaRPr>
          </a:p>
        </p:txBody>
      </p:sp>
      <p:pic>
        <p:nvPicPr>
          <p:cNvPr id="160" name="Picture 7" descr="Go to fullsize image">
            <a:hlinkClick r:id="rId1"/>
          </p:cNvPr>
          <p:cNvPicPr/>
          <p:nvPr/>
        </p:nvPicPr>
        <p:blipFill>
          <a:blip r:embed="rId2"/>
          <a:stretch/>
        </p:blipFill>
        <p:spPr>
          <a:xfrm>
            <a:off x="0" y="4941720"/>
            <a:ext cx="1187280" cy="1916280"/>
          </a:xfrm>
          <a:prstGeom prst="rect">
            <a:avLst/>
          </a:prstGeom>
          <a:ln w="0">
            <a:noFill/>
          </a:ln>
        </p:spPr>
      </p:pic>
      <p:pic>
        <p:nvPicPr>
          <p:cNvPr id="161" name="Picture 9" descr="Go to fullsize image">
            <a:hlinkClick r:id="rId3"/>
          </p:cNvPr>
          <p:cNvPicPr/>
          <p:nvPr/>
        </p:nvPicPr>
        <p:blipFill>
          <a:blip r:embed="rId4"/>
          <a:stretch/>
        </p:blipFill>
        <p:spPr>
          <a:xfrm>
            <a:off x="6877080" y="5734080"/>
            <a:ext cx="2014560" cy="1123920"/>
          </a:xfrm>
          <a:prstGeom prst="rect">
            <a:avLst/>
          </a:prstGeom>
          <a:ln w="0">
            <a:noFill/>
          </a:ln>
        </p:spPr>
      </p:pic>
      <p:pic>
        <p:nvPicPr>
          <p:cNvPr id="162" name="Picture 11" descr="Go to fullsize image">
            <a:hlinkClick r:id="rId5"/>
          </p:cNvPr>
          <p:cNvPicPr/>
          <p:nvPr/>
        </p:nvPicPr>
        <p:blipFill>
          <a:blip r:embed="rId6"/>
          <a:stretch/>
        </p:blipFill>
        <p:spPr>
          <a:xfrm>
            <a:off x="826920" y="189000"/>
            <a:ext cx="628920" cy="1285920"/>
          </a:xfrm>
          <a:prstGeom prst="rect">
            <a:avLst/>
          </a:prstGeom>
          <a:ln w="0">
            <a:noFill/>
          </a:ln>
        </p:spPr>
      </p:pic>
      <p:pic>
        <p:nvPicPr>
          <p:cNvPr id="163" name="Picture 13" descr="Go to fullsize image">
            <a:hlinkClick r:id="rId7"/>
          </p:cNvPr>
          <p:cNvPicPr/>
          <p:nvPr/>
        </p:nvPicPr>
        <p:blipFill>
          <a:blip r:embed="rId8"/>
          <a:stretch/>
        </p:blipFill>
        <p:spPr>
          <a:xfrm>
            <a:off x="7812000" y="0"/>
            <a:ext cx="827280" cy="1690560"/>
          </a:xfrm>
          <a:prstGeom prst="rect">
            <a:avLst/>
          </a:prstGeom>
          <a:ln w="0">
            <a:noFill/>
          </a:ln>
        </p:spPr>
      </p:pic>
      <p:pic>
        <p:nvPicPr>
          <p:cNvPr id="164" name="Picture 15" descr="Go to fullsize image">
            <a:hlinkClick r:id="rId9"/>
          </p:cNvPr>
          <p:cNvPicPr/>
          <p:nvPr/>
        </p:nvPicPr>
        <p:blipFill>
          <a:blip r:embed="rId10"/>
          <a:stretch/>
        </p:blipFill>
        <p:spPr>
          <a:xfrm>
            <a:off x="1979640" y="260280"/>
            <a:ext cx="1584360" cy="1152720"/>
          </a:xfrm>
          <a:prstGeom prst="rect">
            <a:avLst/>
          </a:prstGeom>
          <a:ln w="0">
            <a:noFill/>
          </a:ln>
        </p:spPr>
      </p:pic>
      <p:pic>
        <p:nvPicPr>
          <p:cNvPr id="165" name="Picture 17" descr="Go to fullsize image">
            <a:hlinkClick r:id="rId11"/>
          </p:cNvPr>
          <p:cNvPicPr/>
          <p:nvPr/>
        </p:nvPicPr>
        <p:blipFill>
          <a:blip r:embed="rId12"/>
          <a:stretch/>
        </p:blipFill>
        <p:spPr>
          <a:xfrm>
            <a:off x="4356000" y="189000"/>
            <a:ext cx="542880" cy="1238040"/>
          </a:xfrm>
          <a:prstGeom prst="rect">
            <a:avLst/>
          </a:prstGeom>
          <a:ln w="0">
            <a:noFill/>
          </a:ln>
        </p:spPr>
      </p:pic>
      <p:pic>
        <p:nvPicPr>
          <p:cNvPr id="166" name="Picture 19" descr="Go to fullsize image">
            <a:hlinkClick r:id="rId13"/>
          </p:cNvPr>
          <p:cNvPicPr/>
          <p:nvPr/>
        </p:nvPicPr>
        <p:blipFill>
          <a:blip r:embed="rId14"/>
          <a:stretch/>
        </p:blipFill>
        <p:spPr>
          <a:xfrm>
            <a:off x="6084720" y="189000"/>
            <a:ext cx="571680" cy="1238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4000" y="260280"/>
            <a:ext cx="8459640" cy="6121440"/>
          </a:xfrm>
          <a:prstGeom prst="rect">
            <a:avLst/>
          </a:prstGeom>
          <a:solidFill>
            <a:srgbClr val="ffffe1"/>
          </a:solid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 away from home</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olescent eat about one-third of their meals away from home ,and their nutritional welfare is enhanced or hindered by the choices they mak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er influence</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of the food and health choices adolescent make reflect the opinions and actions of their peers .(ex. milk is “babyish”).</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can setup the environment so that nutritious foods are available and can stand by with reliable nutrition information and advice ,but the rest is up to the adolesc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5" descr="Go to fullsize image"/>
          <p:cNvPicPr/>
          <p:nvPr/>
        </p:nvPicPr>
        <p:blipFill>
          <a:blip r:embed="rId3"/>
          <a:stretch/>
        </p:blipFill>
        <p:spPr>
          <a:xfrm>
            <a:off x="6012000" y="2133720"/>
            <a:ext cx="2376360" cy="1141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Comic Sans MS"/>
              </a:rPr>
              <a:t>Problems Adolescent Face</a:t>
            </a:r>
            <a:endParaRPr b="0" lang="en-US" sz="4600" spc="-1" strike="noStrike">
              <a:solidFill>
                <a:srgbClr val="330033"/>
              </a:solidFill>
              <a:latin typeface="Times New Roman"/>
            </a:endParaRPr>
          </a:p>
        </p:txBody>
      </p:sp>
      <p:sp>
        <p:nvSpPr>
          <p:cNvPr id="170" name="PlaceHolder 2"/>
          <p:cNvSpPr>
            <a:spLocks noGrp="1"/>
          </p:cNvSpPr>
          <p:nvPr>
            <p:ph/>
          </p:nvPr>
        </p:nvSpPr>
        <p:spPr>
          <a:xfrm>
            <a:off x="914040" y="1600200"/>
            <a:ext cx="7761240" cy="4997520"/>
          </a:xfrm>
          <a:prstGeom prst="rect">
            <a:avLst/>
          </a:prstGeom>
          <a:noFill/>
          <a:ln w="0">
            <a:noFill/>
          </a:ln>
        </p:spPr>
        <p:txBody>
          <a:bodyPr anchor="t">
            <a:normAutofit fontScale="99000"/>
          </a:bodyPr>
          <a:p>
            <a:pPr marL="339480" indent="-33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maturity and growing independence present adolescent with new choices to make.</a:t>
            </a:r>
            <a:endParaRPr b="0" lang="en-US" sz="2800" spc="-1" strike="noStrike">
              <a:solidFill>
                <a:srgbClr val="000000"/>
              </a:solidFill>
              <a:latin typeface="Arial"/>
            </a:endParaRPr>
          </a:p>
          <a:p>
            <a:pPr marL="339480" indent="-33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nsequences of theses choices will influence their nutritional health both today and through out life.</a:t>
            </a:r>
            <a:endParaRPr b="0" lang="en-US" sz="2800" spc="-1" strike="noStrike">
              <a:solidFill>
                <a:srgbClr val="000000"/>
              </a:solidFill>
              <a:latin typeface="Arial"/>
            </a:endParaRPr>
          </a:p>
          <a:p>
            <a:pPr marL="339480" indent="-33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teenagers begin using drugs, alcohol, and tobacco; others wisely refrain.</a:t>
            </a:r>
            <a:endParaRPr b="0" lang="en-US" sz="2800" spc="-1" strike="noStrike">
              <a:solidFill>
                <a:srgbClr val="000000"/>
              </a:solidFill>
              <a:latin typeface="Arial"/>
            </a:endParaRPr>
          </a:p>
          <a:p>
            <a:pPr marL="339480" indent="-3394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vitC requirement for people who regularly smoke cigarettes is an additional 35 mg/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260280"/>
            <a:ext cx="8229600" cy="5796000"/>
          </a:xfrm>
          <a:prstGeom prst="rect">
            <a:avLst/>
          </a:prstGeom>
          <a:solidFill>
            <a:srgbClr val="990033"/>
          </a:solidFill>
          <a:ln w="0">
            <a:noFill/>
          </a:ln>
        </p:spPr>
        <p:txBody>
          <a:bodyPr anchor="t">
            <a:normAutofit/>
          </a:bodyPr>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9fa16"/>
                </a:solidFill>
                <a:latin typeface="Comic Sans MS"/>
              </a:rPr>
              <a:t>Thank you</a:t>
            </a:r>
            <a:r>
              <a:rPr b="0" lang="en-US" sz="2800" spc="-1" strike="noStrike">
                <a:solidFill>
                  <a:srgbClr val="c9fa16"/>
                </a:solidFill>
                <a:latin typeface="Arial"/>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cc"/>
                </a:solidFill>
                <a:latin typeface="Comic Sans MS"/>
              </a:rPr>
              <a:t>1</a:t>
            </a:r>
            <a:r>
              <a:rPr b="0" lang="en-US" sz="4600" spc="-1" strike="noStrike">
                <a:solidFill>
                  <a:srgbClr val="0000cc"/>
                </a:solidFill>
                <a:latin typeface="Comic Sans MS"/>
              </a:rPr>
              <a:t>-</a:t>
            </a:r>
            <a:r>
              <a:rPr b="0" lang="en-US" sz="4600" spc="-1" strike="noStrike">
                <a:solidFill>
                  <a:srgbClr val="0000cc"/>
                </a:solidFill>
                <a:latin typeface="Comic Sans MS"/>
              </a:rPr>
              <a:t>hunger &amp; malnutrition</a:t>
            </a:r>
            <a:endParaRPr b="0" lang="en-US" sz="4600" spc="-1" strike="noStrike">
              <a:solidFill>
                <a:srgbClr val="330033"/>
              </a:solidFill>
              <a:latin typeface="Times New Roman"/>
            </a:endParaRPr>
          </a:p>
        </p:txBody>
      </p:sp>
      <p:sp>
        <p:nvSpPr>
          <p:cNvPr id="101" name="PlaceHolder 2"/>
          <p:cNvSpPr>
            <a:spLocks noGrp="1"/>
          </p:cNvSpPr>
          <p:nvPr>
            <p:ph/>
          </p:nvPr>
        </p:nvSpPr>
        <p:spPr>
          <a:xfrm>
            <a:off x="900000" y="1700280"/>
            <a:ext cx="7772400" cy="551664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income children maybe hungry &amp; malnourish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hunger is chronic ,children become malnourished and suffer growth retarda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ldwide ,malnutrition takes a devastating toll on children, contributing to nearly half of the deaths of children under four years ol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Hunger and behavi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n when hunger is temporary, as when child misses one meal, behavior and academic performance is affect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ho eat nutritious breakfast improve their performance and are tardy or absent significantly less often than their peers who do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333000"/>
            <a:ext cx="7772400" cy="6335640"/>
          </a:xfrm>
          <a:prstGeom prst="rect">
            <a:avLst/>
          </a:prstGeom>
          <a:solidFill>
            <a:srgbClr val="ffffe1"/>
          </a:solid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Iron deficiency and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ron deficiency has well-known and wide spread effects on children's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In addition to carrying oxygen in the blood, iron transports oxygen within cells, which use it to help produce ener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Iron is also used make neurotransmitter-most notably, those that regulate the ability to pay attention ,which is crucial learn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Other nutrient deficiencies and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ld with any of several nutrient deficiencies may be irritable,aggressive,disagreeable,or sad and withdra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2</a:t>
            </a:r>
            <a:r>
              <a:rPr b="0" lang="en-US" sz="4200" spc="-1" strike="noStrike">
                <a:solidFill>
                  <a:srgbClr val="0000cc"/>
                </a:solidFill>
                <a:latin typeface="Comic Sans MS"/>
              </a:rPr>
              <a:t>-</a:t>
            </a:r>
            <a:r>
              <a:rPr b="0" lang="en-US" sz="4200" spc="-1" strike="noStrike">
                <a:solidFill>
                  <a:srgbClr val="0000cc"/>
                </a:solidFill>
                <a:latin typeface="Comic Sans MS"/>
              </a:rPr>
              <a:t>malnutrition –lead connection</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ho are malnourished are vulnerable to lead poising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on to both iron deficiency and lead poisoning a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low socioeconomic background and lack of immunization against infectious dise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pica-a craving for nonfood items. Many children with lead poising eat dirt or chew on newspapers( two common sources of l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3-Hyperactivity &amp; hyper behavior</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yperactive children have trouble few minutes sleeping, cannot sit still for more than few minutes at a time, act impulsively, and have difficulty paying atten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e behaviors interferes with social development and academic progres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use of hyperactivity remains unknown, but it affects about 5 % of young school age childr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4</a:t>
            </a:r>
            <a:r>
              <a:rPr b="0" lang="en-US" sz="4200" spc="-1" strike="noStrike">
                <a:solidFill>
                  <a:srgbClr val="0000cc"/>
                </a:solidFill>
                <a:latin typeface="Comic Sans MS"/>
              </a:rPr>
              <a:t>-</a:t>
            </a:r>
            <a:r>
              <a:rPr b="0" lang="en-US" sz="4200" spc="-1" strike="noStrike">
                <a:solidFill>
                  <a:srgbClr val="0000cc"/>
                </a:solidFill>
                <a:latin typeface="Comic Sans MS"/>
              </a:rPr>
              <a:t>childhood obesity</a:t>
            </a:r>
            <a:r>
              <a:rPr b="0" lang="en-US" sz="4200" spc="-1" strike="noStrike">
                <a:solidFill>
                  <a:srgbClr val="0000cc"/>
                </a:solidFill>
                <a:latin typeface="Comic Sans MS"/>
              </a:rPr>
              <a:t>.</a:t>
            </a:r>
            <a:br>
              <a:rPr sz="4200"/>
            </a:br>
            <a:endParaRPr b="0" lang="en-US" sz="4200" spc="-1" strike="noStrike">
              <a:solidFill>
                <a:srgbClr val="330033"/>
              </a:solidFill>
              <a:latin typeface="Times New Roman"/>
            </a:endParaRPr>
          </a:p>
        </p:txBody>
      </p:sp>
      <p:sp>
        <p:nvSpPr>
          <p:cNvPr id="109" name="PlaceHolder 2"/>
          <p:cNvSpPr>
            <a:spLocks noGrp="1"/>
          </p:cNvSpPr>
          <p:nvPr>
            <p:ph/>
          </p:nvPr>
        </p:nvSpPr>
        <p:spPr>
          <a:xfrm>
            <a:off x="971280" y="980640"/>
            <a:ext cx="7561080" cy="5877000"/>
          </a:xfrm>
          <a:prstGeom prst="rect">
            <a:avLst/>
          </a:prstGeom>
          <a:solidFill>
            <a:srgbClr val="ffffe1"/>
          </a:solid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stimated one out of every five U.S children is overweight.</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ral factors affect the chance of whether an obese child become an obese adult.</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Comic Sans MS"/>
              </a:rPr>
              <a:t>Obesity results from an</a:t>
            </a:r>
            <a:r>
              <a:rPr b="0" lang="en-US" sz="2800" spc="-1" strike="noStrike">
                <a:solidFill>
                  <a:srgbClr val="660066"/>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1-</a:t>
            </a:r>
            <a:r>
              <a:rPr b="0" lang="en-US" sz="2800" spc="-1" strike="noStrike">
                <a:solidFill>
                  <a:srgbClr val="000000"/>
                </a:solidFill>
                <a:latin typeface="Comic Sans MS"/>
              </a:rPr>
              <a:t>imbalance between caloric intake &amp; caloric expenditur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2-</a:t>
            </a:r>
            <a:r>
              <a:rPr b="0" lang="en-US" sz="2800" spc="-1" strike="noStrike">
                <a:solidFill>
                  <a:srgbClr val="000000"/>
                </a:solidFill>
                <a:latin typeface="Comic Sans MS"/>
              </a:rPr>
              <a:t>physical inactivit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likely, children have grown more overweight because of their lack of physical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V watching may contribute most to physical inacti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Wingdings"/>
                <a:ea typeface="Wingdings"/>
              </a:rPr>
              <a:t></a:t>
            </a:r>
            <a:r>
              <a:rPr b="0" lang="en-US" sz="2800" spc="-1" strike="noStrike" u="sng">
                <a:solidFill>
                  <a:srgbClr val="00ffff"/>
                </a:solidFill>
                <a:uFillTx/>
                <a:latin typeface="Comic Sans MS"/>
              </a:rPr>
              <a:t>TV factors obesity beca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1-</a:t>
            </a:r>
            <a:r>
              <a:rPr b="0" lang="en-US" sz="2800" spc="-1" strike="noStrike">
                <a:solidFill>
                  <a:srgbClr val="000000"/>
                </a:solidFill>
                <a:latin typeface="Comic Sans MS"/>
              </a:rPr>
              <a:t>requires no energy beyond basal metabo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2-</a:t>
            </a:r>
            <a:r>
              <a:rPr b="0" lang="en-US" sz="2800" spc="-1" strike="noStrike">
                <a:solidFill>
                  <a:srgbClr val="000000"/>
                </a:solidFill>
                <a:latin typeface="Comic Sans MS"/>
              </a:rPr>
              <a:t>replace vigorous activ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3-</a:t>
            </a:r>
            <a:r>
              <a:rPr b="0" lang="en-US" sz="2800" spc="-1" strike="noStrike">
                <a:solidFill>
                  <a:srgbClr val="000000"/>
                </a:solidFill>
                <a:latin typeface="Comic Sans MS"/>
              </a:rPr>
              <a:t>encourge snac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4-</a:t>
            </a:r>
            <a:r>
              <a:rPr b="0" lang="en-US" sz="2800" spc="-1" strike="noStrike">
                <a:solidFill>
                  <a:srgbClr val="000000"/>
                </a:solidFill>
                <a:latin typeface="Comic Sans MS"/>
              </a:rPr>
              <a:t>promote sedentary lifesty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5-</a:t>
            </a:r>
            <a:r>
              <a:rPr b="0" lang="en-US" sz="2800" spc="-1" strike="noStrike">
                <a:solidFill>
                  <a:srgbClr val="000000"/>
                </a:solidFill>
                <a:latin typeface="Comic Sans MS"/>
              </a:rPr>
              <a:t>playing computer games influences children's activity patterns simila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14:32:56Z</dcterms:created>
  <dc:creator>User</dc:creator>
  <dc:description/>
  <dc:language>en-US</dc:language>
  <cp:lastModifiedBy>OMG</cp:lastModifiedBy>
  <dcterms:modified xsi:type="dcterms:W3CDTF">2012-11-08T13:37:23Z</dcterms:modified>
  <cp:revision>257</cp:revision>
  <dc:subject/>
  <dc:title>Nutrition for Infant</dc:title>
</cp:coreProperties>
</file>