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0F7-FDE5-48E2-944B-437BE1F8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EF6-EC8D-4C2C-AE5B-6588C244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3EA-3282-47CA-86AB-EE70F140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E2A-37C6-4414-9A2D-CE66C32D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AA08-9B97-4506-8EFA-07C8451F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FB63-F8E1-4E6F-8D94-A6FB79DC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8E01-1DA8-481F-B345-E53CF0C8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2C76-96B8-4500-B211-B0966896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D451-50F3-40A4-85B8-6E8A94D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96DD-6245-416D-A8F0-14502E45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A6C9-9364-4063-8623-187F2A3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04C-EE29-4AC0-B267-8D8FC33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CD13-4066-4539-9F94-93489A4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45ED-BD83-4805-8ED8-228C987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8B90-34BE-4678-87F4-4182C128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490A-F1B7-4552-81F2-182DA14E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0DAF-FC0B-497A-A322-110E664A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496DE-8193-4852-B857-66F108F2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72B0F-54D9-4B0E-83BA-04E229F8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14C41-2E5C-4DA6-9EF2-649ABE78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BB7AC-B4DF-4DD9-93AB-1561916C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99123-653A-4906-A99B-E21D4D8F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938-1B3B-4743-A051-F829989E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E4A48-D21D-41F1-AE9D-41F2021C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91514-4F1E-4E7F-8D30-A0EC01F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789AC-CBC6-400C-BCCC-0EA3A39D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C26F4-354A-4287-87FE-8CA7C968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F5307-578C-408D-9B2A-87DE6BF0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BC221-3E23-44EF-AFE7-016FA83F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44609-17AB-4FBE-BC88-4AED993F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1E7A-5BAA-4789-B0C1-32A3F3DB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5B0E2-F544-419D-9CFD-BFAA41B0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05FBE-3F1E-4587-8153-FD6B8B4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203-19F9-46AF-A3F0-01E998BB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10E3-B4DB-4DA0-A1E9-18798A0A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BA92-DEE8-4B63-9E40-9E8F9BFE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EC33D-46CB-4E1B-B774-EE8B7018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A070-8C88-4502-B368-B91E688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D71D-5E91-49F3-ABAB-5C0AB7E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B563-2379-490A-95C0-D1EF16C8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04865-3ED0-4683-BB11-6AABFEFB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381E-22A2-443C-9AD5-71F01C3E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51B1-46D3-4C14-817F-BFFEE0D9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655-1247-4E9D-BE97-0996C72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F12-A392-4BDA-92E7-579E21BC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21E-BC2F-462B-979B-25336C62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EAC-13FF-4F27-8B7D-45BA734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151-8F37-4AC2-8B34-2D1D363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813A-374C-48CB-BE27-F529667EF585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٧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9EA-EB17-4C26-A60B-214F13EA34D0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2799-6D5B-4E01-88AA-B0D6D7275A57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٧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6DEE-893F-4A5F-B02B-2F3B1178A6C7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6449-B65D-4F2D-BA3D-426B06462D70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٧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C262-5053-4625-9E30-2F12316888ED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2BA-70D7-4EDD-8E02-8735B3D107AD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٧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844C-0FF8-4EE4-94B7-10374B4CCF2E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preservatives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servatives not used wit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ngle dose containers and pharmacy bulk packs that  do not contain antimicrobial agents are expected to be used promptly after opening or to be discard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rge-volume , single dose contain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eservation is prohibited as the amount of preservative will be high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tein pharmaceutica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ein pharmaceutical  are preferred to be available as multiple dose because of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s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quency of u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uman insulin, human growth hormone, vaccin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ever, several proteins are reactive with preservative (e.g. interleukins) and, therefore, are only available as single dosage form uni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920" y="642600"/>
            <a:ext cx="885816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Trebuchet MS"/>
              </a:rPr>
              <a:t>Criteria may be useful in preservative selection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2920" y="1857240"/>
            <a:ext cx="878688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agent should hav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broad spectrum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active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gainst Gm+ve and Gm-ve organism as well as fungi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agent should hav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rapi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bactericidal activit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agent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stable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over a wide range of condition including autoclaving temperatures and  pH rang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Compatibil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should be established with other component of the preparation and with package system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ck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tox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nd irritation should be established with a reasonable margin of safety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633240"/>
            <a:ext cx="8229600" cy="108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rvative are used for topical ophthalmic products packaged in multiple dose container unless the formation itself is self-preservative, as in the case with some antimicrobial products like the ophthalmic solution Vigamox(</a:t>
            </a:r>
            <a:r>
              <a:rPr b="0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Moxifloxaci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reservati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rvativ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s a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substance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or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mixture of substances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ed to a product formulation to 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preven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the growth of, or to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destroy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of , microorganisms introduced accidently once the container is opened for use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must be add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dequate concentra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time of us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revent the multiplica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 microorganisms inadvertently introduced into the preparation while withdrawing a portion of  the contents with hypodermic needle and syring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ssibility that microorganisms migh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ontaminat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edicines during manufacture, storage or use must be addressed to ensure the continued stability and safety of the product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mplex chemical and physicochemical nature of many formulations is often found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nhan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he survival and even multiplication of such contaminants, unless specific precautions are taken to prevent it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mush preservatives can be used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cause  antimicrobial agents may have inhe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toxicit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patient, the USP prescribes maximum volume and concentration limited for those that are used commonly in a parental produc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s of parenteral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2249640"/>
          <a:ext cx="8229600" cy="425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ntimicrobial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n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enylmercuric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imer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nzethon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nzalkon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en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lorobuta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yl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hydroxybenzoa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pyl p-hydroxybenz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rabe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2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 comb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nzyl 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228" name="TextBox 6"/>
          <p:cNvSpPr/>
          <p:nvPr/>
        </p:nvSpPr>
        <p:spPr>
          <a:xfrm>
            <a:off x="0" y="64882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sed because mercury toxicity, * Most 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select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ular agents may be effective in one formulation and ineffective in another. so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Compatibility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with all other components of formula must be evaluate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Activity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must be evaluated in the total formula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inding and inactivation of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paraben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by macromolecules such as polysorbate 80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servatives us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rvatives are used wit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ultidose parenteral (insulin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ingle dose, small volume parenteral for which the sterilization was not the last step of production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www.arabswell.com</cp:lastModifiedBy>
  <dcterms:modified xsi:type="dcterms:W3CDTF">2013-10-21T06:24:27Z</dcterms:modified>
  <cp:revision>122</cp:revision>
  <dc:subject/>
  <dc:title>Isotonicity</dc:title>
</cp:coreProperties>
</file>