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6F0-A17D-4826-8B59-22DC75B1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95E-7D3D-4307-88AB-5AB4DC3C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B75-F796-4513-AF4E-458D15B7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64F-69DB-4D9B-BC8C-CFD61695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4E30-CCC6-41FE-B9D0-0458919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92FE-9058-40DA-912C-66B30CAF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0D62-1314-4FAF-8CF0-B950D3C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5022-DDEA-4A3F-A4A3-D30B1B14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D57-FB69-44CD-B251-A5037FBE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5838-D5CF-4C01-8A51-6C9B918B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FF3-3628-4C9C-95E3-7C675A2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444-1243-4C0D-A65B-CCD0FE8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8B59-C9DF-452F-8868-8609EC4D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05E-3F6B-45C9-BB2A-C5CEC39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6E25-4C22-4329-9CF7-A19BB17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1BF5-433A-4A0F-BAA3-907284D0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98CF-CF14-4E50-9BD0-63FCA206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009B5-EF77-4D9E-825A-834D6234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8118B-C75C-44FA-9B95-88B3695F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4887E-72D8-4349-8D1C-BC8BDF5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EDBC9-C65C-430D-9D01-6727582F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17D61-21A0-44B3-A83B-E8ACBAA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396-957E-46AC-85DA-E03E3791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9151E-01F0-4297-AC73-298FA5D8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CF466-C212-400C-AC28-689B3427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C03A7-C4E1-456A-ADD0-C4C4AFEB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8B4EE-99E9-413A-835B-7E4E82A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5BBDF-42EF-49AF-8DCA-87B5F5F3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2605C-F207-40E1-BFAA-648A03ED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48B67-9A8B-4324-AC53-16CC0F45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B2B0-2AB0-4273-90B4-F73D1E93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D6137-1002-4EBD-BE65-C277E72F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202A-1DDA-477F-BDD8-90230ED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298-954A-44CF-A461-E75EA59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6AEA6-FDB0-45E9-B87A-35856BFA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0DDB-7735-48E0-AF93-B5A20FF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64D70-8EDD-4B7D-BC57-34D55292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D494B-D84F-4F5C-B227-7DD998CB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D067-F55E-4131-B8B4-0FC6CFA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D394-FCC5-4A06-9B01-53D4C27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4D22-6B70-4B51-8E08-57005CD8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02B0-D4BB-48ED-BF5B-56E64F20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BEF4-7604-4225-875B-C588724D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60B-2103-4C96-9816-BF587B3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8CF-101E-40E7-A9C8-EDA82F0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AC5-42F9-4039-9286-8112E138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1E7-9B31-4687-8F80-B2CD848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A3C-6034-4D71-9C13-CA20463E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CC67-F7F5-44E5-AF67-5F25F6789FC4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0FD-278D-44B8-BA03-8C867C63FCDC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7280-9D23-482D-A6D0-9121C031A93B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187E-0698-45C7-8AD0-B3959ABF869E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56C-DC7D-4148-8640-08DD1E4F2AC3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2E0-BCF1-4914-9822-507055B9A833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EA15-BB8C-4DA6-98C5-D00599B0EBF0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824F-DD48-44D6-9E2C-E54129533AA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preservatives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atives not used wit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ngle dose containers and pharmacy bulk packs that  do not contain antimicrobial agents are expected to be used promptly after opening or to be discard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rge-volume , single dose contain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eservation is prohibited as the amount of preservative will be high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ein pharmaceutica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 pharmaceutical  are preferred to be available as multiple dose because of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s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quency of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uman insulin, human growth hormone, vacci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ever, several proteins are reactive with preservative (e.g. interleukins) and, therefore, are only available as single dosage form uni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88581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Trebuchet MS"/>
              </a:rPr>
              <a:t>Criteria may be useful in preservative selection</a:t>
            </a: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1857240"/>
            <a:ext cx="878688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hav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broad spectrum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active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gainst Gm+ve and Gm-ve organism as well as fungi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hav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rapid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bactericidal activit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agent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stable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over a wide range of condition including autoclaving temperatures and  pH rang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Compatibil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should be established with other component of the preparation and with package system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ck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tox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irritation should be established with a reasonable margin of safety.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633240"/>
            <a:ext cx="8229600" cy="1085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9360" rIns="99360" tIns="56160" bIns="5616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424456"/>
              </a:solidFill>
              <a:latin typeface="Trebuchet MS"/>
              <a:ea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 are used for topical ophthalmic products packaged in multiple dose container unless the formation itself is self-preservative, as in the case with some antimicrobial products like the ophthalmic solution Vigamox(</a:t>
            </a:r>
            <a:r>
              <a:rPr b="0" lang="ar-SA" sz="2800" spc="-1" strike="noStrike">
                <a:solidFill>
                  <a:srgbClr val="000000"/>
                </a:solidFill>
                <a:latin typeface="Georgia"/>
                <a:ea typeface="Arial"/>
              </a:rPr>
              <a:t>Moxifloxaci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reservati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s a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ubstance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or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mixture of substances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ed to a product formulation to 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reven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the growth of, or to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destro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of , microorganisms introduced accidently once the container is opened for us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must be add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dequate concentr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t the time of us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revent the multiplic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 microorganisms inadvertently introduced into the preparation while withdrawing a portion of  the contents with hypodermic needle and syring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ssibility that microorganisms m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ontaminat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medicines during manufacture, storage or use must be addressed to ensure the continued stability and safety of the produc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omplex chemical and physicochemical nature of many formulations is often found to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nhanc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e survival and even multiplication of such contaminants, unless specific precautions are taken to prevent it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mush preservatives can be used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cause  antimicrobial agents may have inh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toxicit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r patient, the USP prescribes maximum volume and concentration limited for those that are used commonly in a parental produc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 of parenteral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224964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ntimicrobial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enylmercuric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imero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ethon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alkon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hlorobut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yl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hydroxybenzo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pyl p-hydroxybenz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rabe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2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 comb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nzyl 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sp>
        <p:nvSpPr>
          <p:cNvPr id="228" name="TextBox 6"/>
          <p:cNvSpPr/>
          <p:nvPr/>
        </p:nvSpPr>
        <p:spPr>
          <a:xfrm>
            <a:off x="0" y="64882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used because mercury toxicity, * Most 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select preservativ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ular agents may be effective in one formulation and ineffective in another. so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ompatibilit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with all other components of formula must be evaluat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Activity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must be evaluated in the total formul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inding and inactivation of </a:t>
            </a:r>
            <a:r>
              <a:rPr b="0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paraben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by macromolecules such as polysorbate 80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rvatives us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servatives are used wi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ltidose parenteral (insuli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 dose, small volume parenteral for which the sterilization was not the last step of production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www.arabswell.com</cp:lastModifiedBy>
  <dcterms:modified xsi:type="dcterms:W3CDTF">2013-10-21T06:24:27Z</dcterms:modified>
  <cp:revision>122</cp:revision>
  <dc:subject/>
  <dc:title>Isotonicity</dc:title>
</cp:coreProperties>
</file>