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6212-2046-4421-9A2D-BFE953775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8720" y="527040"/>
            <a:ext cx="3511440" cy="2633760"/>
          </a:xfrm>
          <a:prstGeom prst="rect">
            <a:avLst/>
          </a:prstGeom>
          <a:ln w="0">
            <a:noFill/>
          </a:ln>
        </p:spPr>
      </p:sp>
      <p:sp>
        <p:nvSpPr>
          <p:cNvPr id="4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AD28-F8FE-4101-A379-05EAD53B8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898720" y="527040"/>
            <a:ext cx="3511440" cy="2633760"/>
          </a:xfrm>
          <a:prstGeom prst="rect">
            <a:avLst/>
          </a:prstGeom>
          <a:ln w="0">
            <a:noFill/>
          </a:ln>
        </p:spPr>
      </p:sp>
      <p:sp>
        <p:nvSpPr>
          <p:cNvPr id="4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2347-68B3-48D5-827E-A7318E650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98720" y="527040"/>
            <a:ext cx="3511440" cy="2633760"/>
          </a:xfrm>
          <a:prstGeom prst="rect">
            <a:avLst/>
          </a:prstGeom>
          <a:ln w="0">
            <a:noFill/>
          </a:ln>
        </p:spPr>
      </p:sp>
      <p:sp>
        <p:nvSpPr>
          <p:cNvPr id="4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EB6E-4EFC-4E9F-AA74-E9C022DA6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98720" y="527040"/>
            <a:ext cx="3511440" cy="2633760"/>
          </a:xfrm>
          <a:prstGeom prst="rect">
            <a:avLst/>
          </a:prstGeom>
          <a:ln w="0">
            <a:noFill/>
          </a:ln>
        </p:spPr>
      </p:sp>
      <p:sp>
        <p:nvSpPr>
          <p:cNvPr id="4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52CB-FFE8-46BB-93C4-94F92DBB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98720" y="527040"/>
            <a:ext cx="3511440" cy="2633760"/>
          </a:xfrm>
          <a:prstGeom prst="rect">
            <a:avLst/>
          </a:prstGeom>
          <a:ln w="0">
            <a:noFill/>
          </a:ln>
        </p:spPr>
      </p:sp>
      <p:sp>
        <p:nvSpPr>
          <p:cNvPr id="4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336C-E4AE-42B0-9078-D0D9C7F5D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98720" y="527040"/>
            <a:ext cx="3511440" cy="2633760"/>
          </a:xfrm>
          <a:prstGeom prst="rect">
            <a:avLst/>
          </a:prstGeom>
          <a:ln w="0">
            <a:noFill/>
          </a:ln>
        </p:spPr>
      </p:sp>
      <p:sp>
        <p:nvSpPr>
          <p:cNvPr id="4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B20F-8F7E-4296-BB93-3377C371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98720" y="527040"/>
            <a:ext cx="3511440" cy="2633760"/>
          </a:xfrm>
          <a:prstGeom prst="rect">
            <a:avLst/>
          </a:prstGeom>
          <a:ln w="0">
            <a:noFill/>
          </a:ln>
        </p:spPr>
      </p:sp>
      <p:sp>
        <p:nvSpPr>
          <p:cNvPr id="4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0A2A-E5AA-45A4-AAFF-964D5FCFC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98720" y="527040"/>
            <a:ext cx="3511440" cy="2633760"/>
          </a:xfrm>
          <a:prstGeom prst="rect">
            <a:avLst/>
          </a:prstGeom>
          <a:ln w="0">
            <a:noFill/>
          </a:ln>
        </p:spPr>
      </p:sp>
      <p:sp>
        <p:nvSpPr>
          <p:cNvPr id="4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053E-4378-40F2-BAE2-89329BCB4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98720" y="527040"/>
            <a:ext cx="3511440" cy="2633760"/>
          </a:xfrm>
          <a:prstGeom prst="rect">
            <a:avLst/>
          </a:prstGeom>
          <a:ln w="0">
            <a:noFill/>
          </a:ln>
        </p:spPr>
      </p:sp>
      <p:sp>
        <p:nvSpPr>
          <p:cNvPr id="4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77AD-DB56-41F9-B052-44D4F2190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98720" y="527040"/>
            <a:ext cx="3511440" cy="2633760"/>
          </a:xfrm>
          <a:prstGeom prst="rect">
            <a:avLst/>
          </a:prstGeom>
          <a:ln w="0">
            <a:noFill/>
          </a:ln>
        </p:spPr>
      </p:sp>
      <p:sp>
        <p:nvSpPr>
          <p:cNvPr id="4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B5FC-E6B2-4B7F-B55C-4510EB0AC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98720" y="527040"/>
            <a:ext cx="3511440" cy="2633760"/>
          </a:xfrm>
          <a:prstGeom prst="rect">
            <a:avLst/>
          </a:prstGeom>
          <a:ln w="0">
            <a:noFill/>
          </a:ln>
        </p:spPr>
      </p:sp>
      <p:sp>
        <p:nvSpPr>
          <p:cNvPr id="4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EFD8-60F3-4422-A732-3A22A3789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898720" y="527040"/>
            <a:ext cx="3511440" cy="2633760"/>
          </a:xfrm>
          <a:prstGeom prst="rect">
            <a:avLst/>
          </a:prstGeom>
          <a:ln w="0">
            <a:noFill/>
          </a:ln>
        </p:spPr>
      </p:sp>
      <p:sp>
        <p:nvSpPr>
          <p:cNvPr id="4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BBD6-391A-414A-B207-330EACDAA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98720" y="527040"/>
            <a:ext cx="3511440" cy="2633760"/>
          </a:xfrm>
          <a:prstGeom prst="rect">
            <a:avLst/>
          </a:prstGeom>
          <a:ln w="0">
            <a:noFill/>
          </a:ln>
        </p:spPr>
      </p:sp>
      <p:sp>
        <p:nvSpPr>
          <p:cNvPr id="4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AB52-EECB-44B8-89AD-E00977382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98720" y="527040"/>
            <a:ext cx="3511440" cy="2633760"/>
          </a:xfrm>
          <a:prstGeom prst="rect">
            <a:avLst/>
          </a:prstGeom>
          <a:ln w="0">
            <a:noFill/>
          </a:ln>
        </p:spPr>
      </p:sp>
      <p:sp>
        <p:nvSpPr>
          <p:cNvPr id="4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1C50-C4B3-471C-85D3-276CB672F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98720" y="527040"/>
            <a:ext cx="3511440" cy="2633760"/>
          </a:xfrm>
          <a:prstGeom prst="rect">
            <a:avLst/>
          </a:prstGeom>
          <a:ln w="0">
            <a:noFill/>
          </a:ln>
        </p:spPr>
      </p:sp>
      <p:sp>
        <p:nvSpPr>
          <p:cNvPr id="5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49DD-5F9D-47E3-900E-0EAA9A404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98720" y="527040"/>
            <a:ext cx="3511440" cy="2633760"/>
          </a:xfrm>
          <a:prstGeom prst="rect">
            <a:avLst/>
          </a:prstGeom>
          <a:ln w="0">
            <a:noFill/>
          </a:ln>
        </p:spPr>
      </p:sp>
      <p:sp>
        <p:nvSpPr>
          <p:cNvPr id="5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A9C6-C4DC-49FE-A928-7665C039E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898720" y="527040"/>
            <a:ext cx="3511440" cy="2633760"/>
          </a:xfrm>
          <a:prstGeom prst="rect">
            <a:avLst/>
          </a:prstGeom>
          <a:ln w="0">
            <a:noFill/>
          </a:ln>
        </p:spPr>
      </p:sp>
      <p:sp>
        <p:nvSpPr>
          <p:cNvPr id="5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98B7-971D-4083-B619-7727B8288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898720" y="527040"/>
            <a:ext cx="3511440" cy="2633760"/>
          </a:xfrm>
          <a:prstGeom prst="rect">
            <a:avLst/>
          </a:prstGeom>
          <a:ln w="0">
            <a:noFill/>
          </a:ln>
        </p:spPr>
      </p:sp>
      <p:sp>
        <p:nvSpPr>
          <p:cNvPr id="5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F817-C7AA-4EE0-ACA7-BE11957E4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898720" y="527040"/>
            <a:ext cx="3511440" cy="2633760"/>
          </a:xfrm>
          <a:prstGeom prst="rect">
            <a:avLst/>
          </a:prstGeom>
          <a:ln w="0">
            <a:noFill/>
          </a:ln>
        </p:spPr>
      </p:sp>
      <p:sp>
        <p:nvSpPr>
          <p:cNvPr id="5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BE08-454F-43A7-BD3A-6BDC39A1B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898720" y="527040"/>
            <a:ext cx="3511440" cy="2633760"/>
          </a:xfrm>
          <a:prstGeom prst="rect">
            <a:avLst/>
          </a:prstGeom>
          <a:ln w="0">
            <a:noFill/>
          </a:ln>
        </p:spPr>
      </p:sp>
      <p:sp>
        <p:nvSpPr>
          <p:cNvPr id="5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E0D5-FF26-45A2-8F79-842AEFA7C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898720" y="527040"/>
            <a:ext cx="3511440" cy="2633760"/>
          </a:xfrm>
          <a:prstGeom prst="rect">
            <a:avLst/>
          </a:prstGeom>
          <a:ln w="0">
            <a:noFill/>
          </a:ln>
        </p:spPr>
      </p:sp>
      <p:sp>
        <p:nvSpPr>
          <p:cNvPr id="5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C1D4-DEE0-4ECC-8997-90D86BCC7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898720" y="527040"/>
            <a:ext cx="3511440" cy="2633760"/>
          </a:xfrm>
          <a:prstGeom prst="rect">
            <a:avLst/>
          </a:prstGeom>
          <a:ln w="0">
            <a:noFill/>
          </a:ln>
        </p:spPr>
      </p:sp>
      <p:sp>
        <p:nvSpPr>
          <p:cNvPr id="5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F0DC-8349-4056-94B9-3588580A6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8720" y="527040"/>
            <a:ext cx="3511440" cy="2633760"/>
          </a:xfrm>
          <a:prstGeom prst="rect">
            <a:avLst/>
          </a:prstGeom>
          <a:ln w="0">
            <a:noFill/>
          </a:ln>
        </p:spPr>
      </p:sp>
      <p:sp>
        <p:nvSpPr>
          <p:cNvPr id="4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2E5D-2446-45C6-ACBE-32AC6A4BE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898720" y="527040"/>
            <a:ext cx="3511440" cy="2633760"/>
          </a:xfrm>
          <a:prstGeom prst="rect">
            <a:avLst/>
          </a:prstGeom>
          <a:ln w="0">
            <a:noFill/>
          </a:ln>
        </p:spPr>
      </p:sp>
      <p:sp>
        <p:nvSpPr>
          <p:cNvPr id="5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3E3A-FA35-4AF7-95A5-4B4A831B1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2898720" y="527040"/>
            <a:ext cx="3511440" cy="2633760"/>
          </a:xfrm>
          <a:prstGeom prst="rect">
            <a:avLst/>
          </a:prstGeom>
          <a:ln w="0">
            <a:noFill/>
          </a:ln>
        </p:spPr>
      </p:sp>
      <p:sp>
        <p:nvSpPr>
          <p:cNvPr id="5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AE82-2385-4189-8881-41ED0D5C1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898720" y="527040"/>
            <a:ext cx="3511440" cy="2633760"/>
          </a:xfrm>
          <a:prstGeom prst="rect">
            <a:avLst/>
          </a:prstGeom>
          <a:ln w="0">
            <a:noFill/>
          </a:ln>
        </p:spPr>
      </p:sp>
      <p:sp>
        <p:nvSpPr>
          <p:cNvPr id="5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A874-F0A8-4DEC-ADA2-A384B5DE4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898720" y="527040"/>
            <a:ext cx="3511440" cy="2633760"/>
          </a:xfrm>
          <a:prstGeom prst="rect">
            <a:avLst/>
          </a:prstGeom>
          <a:ln w="0">
            <a:noFill/>
          </a:ln>
        </p:spPr>
      </p:sp>
      <p:sp>
        <p:nvSpPr>
          <p:cNvPr id="5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1CF3-BBC9-4CAE-B94B-5CBFF093F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898720" y="527040"/>
            <a:ext cx="3511440" cy="2633760"/>
          </a:xfrm>
          <a:prstGeom prst="rect">
            <a:avLst/>
          </a:prstGeom>
          <a:ln w="0">
            <a:noFill/>
          </a:ln>
        </p:spPr>
      </p:sp>
      <p:sp>
        <p:nvSpPr>
          <p:cNvPr id="5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3E8E-0AEE-4BC8-AE9E-0C7F8D9FA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898720" y="527040"/>
            <a:ext cx="3511440" cy="2633760"/>
          </a:xfrm>
          <a:prstGeom prst="rect">
            <a:avLst/>
          </a:prstGeom>
          <a:ln w="0">
            <a:noFill/>
          </a:ln>
        </p:spPr>
      </p:sp>
      <p:sp>
        <p:nvSpPr>
          <p:cNvPr id="5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2C99-5646-49B0-A75F-4DDF8BD35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98720" y="527040"/>
            <a:ext cx="3511440" cy="2633760"/>
          </a:xfrm>
          <a:prstGeom prst="rect">
            <a:avLst/>
          </a:prstGeom>
          <a:ln w="0">
            <a:noFill/>
          </a:ln>
        </p:spPr>
      </p:sp>
      <p:sp>
        <p:nvSpPr>
          <p:cNvPr id="4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722B-07ED-4AED-B658-5427886B7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2898720" y="527040"/>
            <a:ext cx="3511440" cy="2633760"/>
          </a:xfrm>
          <a:prstGeom prst="rect">
            <a:avLst/>
          </a:prstGeom>
          <a:ln w="0">
            <a:noFill/>
          </a:ln>
        </p:spPr>
      </p:sp>
      <p:sp>
        <p:nvSpPr>
          <p:cNvPr id="4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7CDB-3BEB-4C8F-8FDA-E5D2202DF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898720" y="527040"/>
            <a:ext cx="3511440" cy="2633760"/>
          </a:xfrm>
          <a:prstGeom prst="rect">
            <a:avLst/>
          </a:prstGeom>
          <a:ln w="0">
            <a:noFill/>
          </a:ln>
        </p:spPr>
      </p:sp>
      <p:sp>
        <p:nvSpPr>
          <p:cNvPr id="4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4D21-C6EF-432D-A368-C9A4C1BEF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98720" y="527040"/>
            <a:ext cx="3511440" cy="2633760"/>
          </a:xfrm>
          <a:prstGeom prst="rect">
            <a:avLst/>
          </a:prstGeom>
          <a:ln w="0">
            <a:noFill/>
          </a:ln>
        </p:spPr>
      </p:sp>
      <p:sp>
        <p:nvSpPr>
          <p:cNvPr id="4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D5BB-E23A-4A02-B639-CD9C6F716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98720" y="527040"/>
            <a:ext cx="3511440" cy="2633760"/>
          </a:xfrm>
          <a:prstGeom prst="rect">
            <a:avLst/>
          </a:prstGeom>
          <a:ln w="0">
            <a:noFill/>
          </a:ln>
        </p:spPr>
      </p:sp>
      <p:sp>
        <p:nvSpPr>
          <p:cNvPr id="4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EAE0-BF2E-457C-BE3B-F9D193089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898720" y="527040"/>
            <a:ext cx="3511440" cy="2633760"/>
          </a:xfrm>
          <a:prstGeom prst="rect">
            <a:avLst/>
          </a:prstGeom>
          <a:ln w="0">
            <a:noFill/>
          </a:ln>
        </p:spPr>
      </p:sp>
      <p:sp>
        <p:nvSpPr>
          <p:cNvPr id="4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7A06-8E7C-4D07-81AE-0EC588C9A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F3495-D824-4E83-8205-5938A5E42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B98E-DB1B-4AE4-8B15-5FA2177AE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05362-E66E-4323-9EFF-276C396EB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377FE-DE39-417A-9174-F6F998098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8D3D-D6F6-4F20-8AEC-45449FCED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12F25-DDEA-40A0-A909-964676C4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C968-74BE-4E29-A38B-CB0F7FBAA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DCCB-CC58-47DA-BAD4-47873763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F2DC9-7FBA-4CD3-A644-F30D648FC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EA55-7041-4362-B657-E00AD0D5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2207-7769-4856-8AEF-B8FAE7229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2FE0-14B0-455C-8C5E-608CDFBDF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4129-B20B-4E0E-8A46-BFF27B684B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Comic Sans MS"/>
              </a:rPr>
              <a:t>Environmental Heal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2643120" y="189360"/>
            <a:ext cx="6431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O</a:t>
            </a:r>
            <a:r>
              <a:rPr b="0" lang="en-US" sz="2000" spc="-1" strike="noStrike">
                <a:solidFill>
                  <a:srgbClr val="000099"/>
                </a:solidFill>
                <a:latin typeface="Comic Sans MS"/>
              </a:rPr>
              <a:t>ver population</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285840" y="714240"/>
            <a:ext cx="8572320" cy="679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ver population</a:t>
            </a:r>
            <a:endParaRPr b="0" lang="en-US" sz="32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controlled population growth is indisputably a public health issue.</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world’s population is still increasing by more than 80 million people per year</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burden of the population growth is being carried by the poorest developing countries, such as in Africa and India, where 90% of the growth is occurring.</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me nations, the population is projected to shrink. If low fertility rates continue in Germany, Italy, Russia, and Spain, their populations will decrease by 5% to 15% by the year 2025.</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In contrast, countries such as Nigeria, Zaire, an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ordan have high fertility rates, and it is likely that their populations will more than double over the same perio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Group 6"/>
          <p:cNvGrpSpPr/>
          <p:nvPr/>
        </p:nvGrpSpPr>
        <p:grpSpPr>
          <a:xfrm>
            <a:off x="8648640" y="498600"/>
            <a:ext cx="306360" cy="122040"/>
            <a:chOff x="8648640" y="498600"/>
            <a:chExt cx="306360" cy="122040"/>
          </a:xfrm>
        </p:grpSpPr>
        <p:sp>
          <p:nvSpPr>
            <p:cNvPr id="1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have a responsibility in the area of overpopulation, both globally and locally. Productive interventions include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eaching families that birth spacing impro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 and maternal survival and that a planned family is the best environment for a child’s develop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Preventing high-risk pregnancies such as those among teens and adult women who are infected with the human immunodeficiency virus (HIV) or have the acquired immunodeficiency syndrome (A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6"/>
          <p:cNvGrpSpPr/>
          <p:nvPr/>
        </p:nvGrpSpPr>
        <p:grpSpPr>
          <a:xfrm>
            <a:off x="8648640" y="498600"/>
            <a:ext cx="306360" cy="122040"/>
            <a:chOff x="8648640" y="498600"/>
            <a:chExt cx="306360" cy="122040"/>
          </a:xfrm>
        </p:grpSpPr>
        <p:sp>
          <p:nvSpPr>
            <p:cNvPr id="1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285840" y="1000080"/>
            <a:ext cx="85723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Preventing the growing epidemic of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viding family planning education to prevent worldwide deaths from unsafe abor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providing prenatal care—because healthy mothers equal healthy children. These are key areas in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blic health efforts can reap major rewards for fami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people have known that air quality affects human heal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lution refers to the act of contaminating or defiling the environment to the extent that it negatively affects people’s healt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now recognized as one of the most hazardous sources of chemical contamin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especially prevalent in highly industrialized and urbaniz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s where concentrations of motor vehicles and industry produce large volumes of gaseous polluta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a global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6"/>
          <p:cNvGrpSpPr/>
          <p:nvPr/>
        </p:nvGrpSpPr>
        <p:grpSpPr>
          <a:xfrm>
            <a:off x="8648640" y="498600"/>
            <a:ext cx="306360" cy="122040"/>
            <a:chOff x="8648640" y="498600"/>
            <a:chExt cx="306360" cy="122040"/>
          </a:xfrm>
        </p:grpSpPr>
        <p:sp>
          <p:nvSpPr>
            <p:cNvPr id="1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1" i="1"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3"/>
          <p:cNvSpPr/>
          <p:nvPr/>
        </p:nvSpPr>
        <p:spPr>
          <a:xfrm>
            <a:off x="214200" y="1000080"/>
            <a:ext cx="85726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pollutants have adverse effects on many ar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human life; costs to property, productivity, quality of life, and especially human health are enormous. The list of diseases and symptoms of ill health associated with specific air pollutants is lengthy, ranging from minor nose and throat irritations, respiratory infections, and bronchial asthma to emphysema, cardiovascular disease, lung cancer, and genetic m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6"/>
          <p:cNvGrpSpPr/>
          <p:nvPr/>
        </p:nvGrpSpPr>
        <p:grpSpPr>
          <a:xfrm>
            <a:off x="8648640" y="498600"/>
            <a:ext cx="306360" cy="122040"/>
            <a:chOff x="8648640" y="498600"/>
            <a:chExt cx="306360" cy="122040"/>
          </a:xfrm>
        </p:grpSpPr>
        <p:sp>
          <p:nvSpPr>
            <p:cNvPr id="2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
          <p:cNvSpPr/>
          <p:nvPr/>
        </p:nvSpPr>
        <p:spPr>
          <a:xfrm>
            <a:off x="214200" y="1000080"/>
            <a:ext cx="85726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with other toxic chemicals, it is often difficult to establish a cause-and-effect relationship between air pollution and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tain geographic areas are more susceptible to the 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cts of air pollution because of weather conditions or physical ter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6"/>
          <p:cNvGrpSpPr/>
          <p:nvPr/>
        </p:nvGrpSpPr>
        <p:grpSpPr>
          <a:xfrm>
            <a:off x="8648640" y="498600"/>
            <a:ext cx="306360" cy="122040"/>
            <a:chOff x="8648640" y="498600"/>
            <a:chExt cx="306360" cy="122040"/>
          </a:xfrm>
        </p:grpSpPr>
        <p:sp>
          <p:nvSpPr>
            <p:cNvPr id="2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214200" y="1000080"/>
            <a:ext cx="85726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Nursing role /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can influence air quality through detection, community education, and lobbying for appropriate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3) Wate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is such an essential element to human survival that the available quantity and quality of water within a community has become a prime environmental health issue. Water has many uses other than consumption by humans. It serves as a means of transportation. It cleans and cools the body or other objects. It is the basis for many forms of recreation and sports, such as swimming and boating, and it provides a vehicle for disposing of human and industrial wastes and controlling fires. Apart from serving human needs, water also acts as a medium for sustaining other living organisms, as a home to plant and animal life, and as a means of carrying and distributing necessary nutrients in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8648640" y="498600"/>
            <a:ext cx="306360" cy="122040"/>
            <a:chOff x="8648640" y="498600"/>
            <a:chExt cx="306360" cy="122040"/>
          </a:xfrm>
        </p:grpSpPr>
        <p:sp>
          <p:nvSpPr>
            <p:cNvPr id="2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3"/>
          <p:cNvSpPr/>
          <p:nvPr/>
        </p:nvSpPr>
        <p:spPr>
          <a:xfrm>
            <a:off x="214200" y="1000080"/>
            <a:ext cx="857268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can be contaminated and made unsafe for drinking in many different ways. Three are discussed here</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may be infected with bacteria or parasites that cause disease. </a:t>
            </a:r>
            <a:r>
              <a:rPr b="1" i="1" lang="en-US" sz="2800" spc="-1" strike="noStrike">
                <a:solidFill>
                  <a:srgbClr val="000000"/>
                </a:solidFill>
                <a:latin typeface="Comic Sans MS"/>
              </a:rPr>
              <a:t>Giardia lamblia is a parasite that enters the </a:t>
            </a:r>
            <a:r>
              <a:rPr b="1" lang="en-US" sz="2800" spc="-1" strike="noStrike">
                <a:solidFill>
                  <a:srgbClr val="000000"/>
                </a:solidFill>
                <a:latin typeface="Comic Sans MS"/>
              </a:rPr>
              <a:t>water supply through contamination from human or wild animal feces.</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 substances such as pesticides are introduced by humans into water systems and constitute another form of water pollu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6"/>
          <p:cNvGrpSpPr/>
          <p:nvPr/>
        </p:nvGrpSpPr>
        <p:grpSpPr>
          <a:xfrm>
            <a:off x="8648640" y="498600"/>
            <a:ext cx="306360" cy="122040"/>
            <a:chOff x="8648640" y="498600"/>
            <a:chExt cx="306360" cy="122040"/>
          </a:xfrm>
        </p:grpSpPr>
        <p:sp>
          <p:nvSpPr>
            <p:cNvPr id="2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3"/>
          <p:cNvSpPr/>
          <p:nvPr/>
        </p:nvSpPr>
        <p:spPr>
          <a:xfrm>
            <a:off x="214200" y="1000080"/>
            <a:ext cx="857268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Pollutants may upset the ecosystem, affecting natural organisms that help purify water systems. Power plants or other industries dissipate excess heat into lakes and streams and cause water temperatures to rise. This thermal pollution kills off beneficial organisms in the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928800" y="714240"/>
            <a:ext cx="692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p:txBody>
      </p:sp>
      <p:sp>
        <p:nvSpPr>
          <p:cNvPr id="70" name="Rectangle 13"/>
          <p:cNvSpPr/>
          <p:nvPr/>
        </p:nvSpPr>
        <p:spPr>
          <a:xfrm>
            <a:off x="0" y="128592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Comic Sans MS"/>
              </a:rPr>
              <a:t>Discuss the importance of applying an ecologic perspective to any investigation of human-environment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plain the concepts of prevention and long-range environmental impact and their importance for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t least five global environmental concerns and describe hazards associated with each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late the effect of the described hazards on people’s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ppropriate interventions for addressing these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s, including community health nursing’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how national health objectives for the year 2010 target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strategies for nursing collaboration and participation in efforts to promote and protect environmental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nursing’s environmental health role concerns the safe consumption of water by humans, it is important, taking an ecologic perspective, to keep in mind water’s other uses and us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can help by examining household or city drinkin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ing clients to observe and report changes in water quality further assists the nurse in the monitoring 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also be alert to increased incidence of illnesses that might be water re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1857240" y="210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orestation, Wetlands Destruction, and Desertific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3"/>
          <p:cNvSpPr/>
          <p:nvPr/>
        </p:nvSpPr>
        <p:spPr>
          <a:xfrm>
            <a:off x="214200" y="1000080"/>
            <a:ext cx="857268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orestation, Wetlands Destruction, and Desert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forestation is the clearing of tropical and temperate forests for cropland, cattle grazing, or urbanization. Elimination of these natural habitats is dooming some species of insects and animals to extinction, the loss of a species from the earth forever. Wetlands are natural inland bodies of shallow water, such as marshes, ponds, river bottoms, and flood plains, that filter contaminated surface waters and support wildlife reproduction and grow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ertification refers to the conversion of fertile land into desert, which is unable to support crop growth or wildlif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6"/>
          <p:cNvGrpSpPr/>
          <p:nvPr/>
        </p:nvGrpSpPr>
        <p:grpSpPr>
          <a:xfrm>
            <a:off x="8648640" y="498600"/>
            <a:ext cx="306360" cy="122040"/>
            <a:chOff x="8648640" y="498600"/>
            <a:chExt cx="306360" cy="122040"/>
          </a:xfrm>
        </p:grpSpPr>
        <p:sp>
          <p:nvSpPr>
            <p:cNvPr id="2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0"/>
          <p:cNvSpPr/>
          <p:nvPr/>
        </p:nvSpPr>
        <p:spPr>
          <a:xfrm>
            <a:off x="1857240" y="210600"/>
            <a:ext cx="721692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Deforestation, Wetlands Destruction, and Desertification</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3"/>
          <p:cNvSpPr/>
          <p:nvPr/>
        </p:nvSpPr>
        <p:spPr>
          <a:xfrm>
            <a:off x="214200" y="1000080"/>
            <a:ext cx="857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urse’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make a difference in this area. Perhaps no other person knows a community more intimately than the community health nurse. This role gives a valid voice of concern at the local level. By using leadership and collaborative skills, the nurse can initiate grassroots efforts to save wetlands and forests in the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8648640" y="498600"/>
            <a:ext cx="306360" cy="122040"/>
            <a:chOff x="8648640" y="498600"/>
            <a:chExt cx="306360" cy="122040"/>
          </a:xfrm>
        </p:grpSpPr>
        <p:sp>
          <p:nvSpPr>
            <p:cNvPr id="2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a:t>
            </a:r>
            <a:r>
              <a:rPr b="0" lang="en-US" sz="1600" spc="-1" strike="noStrike">
                <a:solidFill>
                  <a:srgbClr val="000000"/>
                </a:solidFill>
                <a:latin typeface="Arial"/>
              </a:rPr>
              <a:t>Inadequate Hous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3"/>
          <p:cNvSpPr/>
          <p:nvPr/>
        </p:nvSpPr>
        <p:spPr>
          <a:xfrm>
            <a:off x="214200" y="1000080"/>
            <a:ext cx="85726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ing is of central importance to quality of life. Ideally,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mizes disease and injury and contributes much to physical, mental, and social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east 600 million urban-dwelling people in Africa,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Latin America live in life- and health-threatening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neighborhoods. Most live in overcrowded dwelling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 or more persons to a room in tenements, cheap boar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s, or shelters built on illegally occupied or subdivi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adequate Housing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ursing role / 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is area of environmental health and safety, the community health nurse has great influence. Much of the nurse’s commitment to the community focuses on assessment, planning, intervention, and evaluation of a client’s home and surrounding environment. The role may call for client education about home improvements, advocacy for routine maintenance of rental housing conditions, or assistance to clients who live on the streets or in shelters so that they can locate and secure more permanent and adequate safe hou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1857240" y="57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Unhealthy or Contaminated Food</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section describes how the supply of food, particularly the quality of that food, is affected by the environment, and what health hazards are associated with food. The community health nurse needs to ask: “How does the environment influence the safety of food for human consumption?” Three types of hazardous foods must be considered when examining food as a possible health problem:</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erently harmful food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minated food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foods with toxic addi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Unhealthy or Contaminated Food</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
          <p:cNvSpPr/>
          <p:nvPr/>
        </p:nvSpPr>
        <p:spPr>
          <a:xfrm>
            <a:off x="214200" y="1000080"/>
            <a:ext cx="857268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 / </a:t>
            </a:r>
            <a:r>
              <a:rPr b="0"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nurses can have a significant impact through health education. Most bacterial and viral foodborne diseases can be prevented if people know and practice proper cooking and storage of food as well as proper personal 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 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a:t>
            </a: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6"/>
          <p:cNvGrpSpPr/>
          <p:nvPr/>
        </p:nvGrpSpPr>
        <p:grpSpPr>
          <a:xfrm>
            <a:off x="8648640" y="498600"/>
            <a:ext cx="306360" cy="122040"/>
            <a:chOff x="8648640" y="498600"/>
            <a:chExt cx="306360" cy="122040"/>
          </a:xfrm>
        </p:grpSpPr>
        <p:sp>
          <p:nvSpPr>
            <p:cNvPr id="3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Dispos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1" i="1" lang="en-US" sz="2400" spc="-1" strike="noStrike">
                <a:solidFill>
                  <a:srgbClr val="000000"/>
                </a:solidFill>
                <a:latin typeface="Comic Sans MS"/>
              </a:rPr>
              <a:t>1) Disposal of Human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oldest environmental health hazards comes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proper disposal of human excreta. Although industrial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ions have successfully addressed the problem, it contin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be widespread in developing nations and in rural, povertystricken communities. Human wastes, particularly feces, provide a perfect environment in which bacteria and disease-causing parasites can live and reproduce. Therefore, contaminated drinking water, food grown in contaminated soil, and, of course, direct contact with the contaminated water or soil can cause inf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428760" y="85716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endParaRPr b="0" lang="en-US" sz="3200" spc="-1" strike="noStrike">
              <a:solidFill>
                <a:srgbClr val="000000"/>
              </a:solidFill>
              <a:latin typeface="Arial"/>
            </a:endParaRPr>
          </a:p>
        </p:txBody>
      </p:sp>
      <p:sp>
        <p:nvSpPr>
          <p:cNvPr id="82" name="Rectangle 13"/>
          <p:cNvSpPr/>
          <p:nvPr/>
        </p:nvSpPr>
        <p:spPr>
          <a:xfrm>
            <a:off x="285840" y="157176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rm environ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be defined as an aggregate of all the external conditions influencing and affecting the life and development of an organis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so it is defined to include all that is external to the human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8648640" y="498600"/>
            <a:ext cx="306360" cy="122040"/>
            <a:chOff x="8648640" y="498600"/>
            <a:chExt cx="306360" cy="122040"/>
          </a:xfrm>
        </p:grpSpPr>
        <p:sp>
          <p:nvSpPr>
            <p:cNvPr id="3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Disposal of Garb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ing, burning, and burying are the most common solid waste disposal methods. Dumping is problematic, bec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rbage dumps provide perfect conditions for the breeding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s, flies, and other disease-carrying organisms and may potentially be a source of water contamination from ru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s also are eyesores that take up valuable land  resources. Burning, although it reduces the volume of garbage, produces noxious odors and pollutes the ai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214200" y="1000080"/>
            <a:ext cx="857268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Disposal of Hazardous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posal of toxic chemical and radioactive wastes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y industry is another grave concern. The threat is ser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cause one cannot be certain of all of the effects of th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stes or whether present methods of disposal are fool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rthermore, many of these wastes escape containmen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identally leak into water systems and into the soil to contaminate drinking water and f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6"/>
          <p:cNvGrpSpPr/>
          <p:nvPr/>
        </p:nvGrpSpPr>
        <p:grpSpPr>
          <a:xfrm>
            <a:off x="8648640" y="498600"/>
            <a:ext cx="306360" cy="122040"/>
            <a:chOff x="8648640" y="498600"/>
            <a:chExt cx="306360" cy="122040"/>
          </a:xfrm>
        </p:grpSpPr>
        <p:sp>
          <p:nvSpPr>
            <p:cNvPr id="3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3"/>
          <p:cNvSpPr/>
          <p:nvPr/>
        </p:nvSpPr>
        <p:spPr>
          <a:xfrm>
            <a:off x="214200" y="1000080"/>
            <a:ext cx="857268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munity health nurses can encourage the positive actions described by educating the public and lobbying for enabling legislation. Nurses can promote greater sensitivity among citizens to the problems of accumulating waste with its potential health hazards, encourage clients to buy products that can be recycled, and discourage use of aerosol spray containers, plastics, and other nonrecyclable items. Such information sharing occurs during home visits when conducting family and home assessments; during group educational opportun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at arise in apartment complexes or neighborhoods where several families are being served; with school children when the community health nurse is invited into the classroom by the teacher; or in conjunction with environmen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alth services when a community is blighted by waste management problems and the nurse speaks to groups of parents, teens, or children. The possibilities are limited only by the nurse’s imagination, priorities, community conne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time constra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214200" y="100008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human communities are affected by the insects and rodents living in their environment. On the least dangerous level, they can cause irritation (eg, mosquito or flea bites) and discomfort (eg, infestations of bedbugs or lice). They can also pose a direct threat to health through such things as attacks by diseased rats or squirrels. Insects and rodents can consume and, in turn, contaminate food. However, by far the most serious health hazard they impose is through their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a:t>
            </a:r>
            <a:r>
              <a:rPr b="1" i="1" lang="en-US" sz="2400" spc="-1" strike="noStrike">
                <a:solidFill>
                  <a:srgbClr val="000000"/>
                </a:solidFill>
                <a:latin typeface="Comic Sans MS"/>
              </a:rPr>
              <a:t>vectors, nonhuman carriers of disease organisms that can </a:t>
            </a:r>
            <a:r>
              <a:rPr b="1" lang="en-US" sz="2400" spc="-1" strike="noStrike">
                <a:solidFill>
                  <a:srgbClr val="000000"/>
                </a:solidFill>
                <a:latin typeface="Comic Sans MS"/>
              </a:rPr>
              <a:t>transmit these organisms directly to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6"/>
          <p:cNvGrpSpPr/>
          <p:nvPr/>
        </p:nvGrpSpPr>
        <p:grpSpPr>
          <a:xfrm>
            <a:off x="8648640" y="498600"/>
            <a:ext cx="306360" cy="122040"/>
            <a:chOff x="8648640" y="498600"/>
            <a:chExt cx="306360" cy="122040"/>
          </a:xfrm>
        </p:grpSpPr>
        <p:sp>
          <p:nvSpPr>
            <p:cNvPr id="4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13"/>
          <p:cNvSpPr/>
          <p:nvPr/>
        </p:nvSpPr>
        <p:spPr>
          <a:xfrm>
            <a:off x="214200" y="100008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common vectors are mosquitos, flies, ti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aches, fleas, rats, mice, and ground squirrels. All of these vectors can serve as reservoirs for germs that they then transmit through physical contact with humans or by contaminating human foodstuffs or water. Table 10–3 summarizes some of the diseases spread by vectors. Cases of vector-spread diseases range from the 14th-century bubonic plague epidemic spread by rat fleas, which killed a quarter of the European population, to the mosquito-spread outbreaks of West Nile virus that began in New York in 1999.</a:t>
            </a:r>
            <a:r>
              <a:rPr b="1"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3"/>
          <p:cNvSpPr/>
          <p:nvPr/>
        </p:nvSpPr>
        <p:spPr>
          <a:xfrm>
            <a:off x="285840" y="714240"/>
            <a:ext cx="885816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Nurse’s Role </a:t>
            </a:r>
            <a:r>
              <a:rPr b="1" lang="en-US" sz="2000" spc="-1" strike="noStrike">
                <a:solidFill>
                  <a:srgbClr val="000000"/>
                </a:solidFill>
                <a:latin typeface="Comic Sans MS"/>
              </a:rPr>
              <a:t>Insect and Rodent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me of the simple changes families can make that w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 to eliminate rodents and insects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screens exist on all open windows, and use screen do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ash dishes, pots, and pans after meals, and clean counter su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pet food off the floor; fill the pet dish when the pet eats, and do not leave it on the floor for extended peri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oodstuffs that insects may infest, such as cereals, corn meal, and flour, in closed plastic contai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doors and windows fit properly; use calking if the outside can be seen through gaps in doors or wind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loors swept and vacuumed in rooms where people eat, to eliminate food supply for rodents and insects; preferably, eat only in the kitchen or dining ro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move trash bags that include food scraps and food packaging from the home daily and place in garbage containers that are kept outside and have tight-fitting l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428760" y="85716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efin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4" name="Rectangle 13"/>
          <p:cNvSpPr/>
          <p:nvPr/>
        </p:nvSpPr>
        <p:spPr>
          <a:xfrm>
            <a:off x="285840" y="1500120"/>
            <a:ext cx="8572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erm 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be defined as an aggregate of all the external conditions influencing and affecting the life and development of an organism. Also it is defined to include all that is external to the human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environment—the conditions within which we l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work, including the quality of our air, water, food, and working conditions—strongly influences our health status. Consequently, the study of environmental health has tremendous meaning for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85840" y="128592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Environmental health is concerned with </a:t>
            </a:r>
            <a:r>
              <a:rPr b="1" lang="en-US" sz="2800" spc="-1" strike="noStrike">
                <a:solidFill>
                  <a:srgbClr val="ff0000"/>
                </a:solidFill>
                <a:latin typeface="Comic Sans MS"/>
              </a:rPr>
              <a:t>assessing, controlling, and improving the impact people make on their environment and the impact of the environment on them.</a:t>
            </a:r>
            <a:r>
              <a:rPr b="1" lang="en-US" sz="2800" spc="-1" strike="noStrike">
                <a:solidFill>
                  <a:srgbClr val="000000"/>
                </a:solidFill>
                <a:latin typeface="Comic Sans MS"/>
              </a:rPr>
              <a:t> The field of environmental health is concerned with all those elements of the environment that influence people’s health and well-being. The conditions of workplaces, homes, or communities, including the many forces—chemical, physical, and psychological—present in the environment that affect human health, are important consi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13"/>
          <p:cNvSpPr/>
          <p:nvPr/>
        </p:nvSpPr>
        <p:spPr>
          <a:xfrm>
            <a:off x="285840" y="1285920"/>
            <a:ext cx="8572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vironmental health replaced the term sanitation and it has been defined as " the aspect of public health concerned with all the factors, circumstances and conditions in the environment or surroundings of humans that can exert an influence on human health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6"/>
          <p:cNvGrpSpPr/>
          <p:nvPr/>
        </p:nvGrpSpPr>
        <p:grpSpPr>
          <a:xfrm>
            <a:off x="8648640" y="498600"/>
            <a:ext cx="306360" cy="122040"/>
            <a:chOff x="8648640" y="498600"/>
            <a:chExt cx="306360" cy="122040"/>
          </a:xfrm>
        </p:grpSpPr>
        <p:sp>
          <p:nvSpPr>
            <p:cNvPr id="1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3"/>
          <p:cNvSpPr/>
          <p:nvPr/>
        </p:nvSpPr>
        <p:spPr>
          <a:xfrm>
            <a:off x="285840" y="1000080"/>
            <a:ext cx="85723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nvironments pose different health problems and benefits. Consider the effects of acid rain, soil erosion, and insect invasions on a rural community or the effects of industrial toxic wastes, auto emissions, and airport noise on urban residents. The health effects of a hot, dry climate are different from those of an arctic area, and the environmental conditions of an industrialized nation are dramatically different from those of a  developing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285840" y="1000080"/>
            <a:ext cx="8572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ealth status of the individual or community is determined by the interactions of the internal environment of the himself and the external environment which surrounds him. The factors that influence the health of the people will include food, water, housing, clothing and san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6"/>
          <p:cNvGrpSpPr/>
          <p:nvPr/>
        </p:nvGrpSpPr>
        <p:grpSpPr>
          <a:xfrm>
            <a:off x="8648640" y="498600"/>
            <a:ext cx="306360" cy="122040"/>
            <a:chOff x="8648640" y="498600"/>
            <a:chExt cx="306360" cy="122040"/>
          </a:xfrm>
        </p:grpSpPr>
        <p:sp>
          <p:nvSpPr>
            <p:cNvPr id="1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13"/>
          <p:cNvSpPr/>
          <p:nvPr/>
        </p:nvSpPr>
        <p:spPr>
          <a:xfrm>
            <a:off x="285840" y="1000080"/>
            <a:ext cx="85723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JOR GLOBAL ENVIRONMENT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jor global environ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rns now facing the world, including overpopulation, ozone depletion and global warming, deforestation, wetlands destruction, desertification, energy depletion, inadequate housing, aesthetics, and environmental justice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4T03:44:34Z</dcterms:modified>
  <cp:revision>266</cp:revision>
  <dc:subject/>
  <dc:title>Slide 1</dc:title>
</cp:coreProperties>
</file>