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F47D-2578-4B17-B8B0-22B28CDDCB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رقم الشريحة 3"/>
          <p:cNvSpPr/>
          <p:nvPr/>
        </p:nvSpPr>
        <p:spPr>
          <a:xfrm>
            <a:off x="144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538D-CD9C-4844-A569-6C07334DD3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667-3DB8-4447-ABDA-DFAC3272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EDE-2E88-404C-ACA5-2FB8ADC2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C70-F28C-4AD1-83EC-F34385B8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9F3-D716-4743-B69E-BFC5BDBB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D19-1F1E-453C-915C-0941716E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3CD-19BA-496E-9387-8B06517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17A-D814-4476-9684-CD36396D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730-C7EA-46D5-9C0B-4593B478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342-3EF6-4949-A9C8-14E534CF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959-C5C8-418B-A29C-144D52F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CAF-7930-492C-8B9D-7607759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5C4-60EB-4C2B-A2D1-11D66CE7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6553-4F05-4DE5-9617-23C890BB57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حاضرة الساد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ضوح المكاني والوضوح الطي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8" descr=""/>
          <p:cNvPicPr/>
          <p:nvPr/>
        </p:nvPicPr>
        <p:blipFill>
          <a:blip r:embed="rId1"/>
          <a:stretch/>
        </p:blipFill>
        <p:spPr>
          <a:xfrm>
            <a:off x="152280" y="560520"/>
            <a:ext cx="883944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76320" y="-57240"/>
            <a:ext cx="899136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"/>
          <p:cNvPicPr/>
          <p:nvPr/>
        </p:nvPicPr>
        <p:blipFill>
          <a:blip r:embed="rId1"/>
          <a:stretch/>
        </p:blipFill>
        <p:spPr>
          <a:xfrm>
            <a:off x="-4680" y="264960"/>
            <a:ext cx="91533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533520"/>
            <a:ext cx="91375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j-spot"/>
          <p:cNvPicPr/>
          <p:nvPr/>
        </p:nvPicPr>
        <p:blipFill>
          <a:blip r:embed="rId1"/>
          <a:stretch/>
        </p:blipFill>
        <p:spPr>
          <a:xfrm>
            <a:off x="4572000" y="13716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j-tm"/>
          <p:cNvPicPr/>
          <p:nvPr/>
        </p:nvPicPr>
        <p:blipFill>
          <a:blip r:embed="rId2"/>
          <a:stretch/>
        </p:blipFill>
        <p:spPr>
          <a:xfrm>
            <a:off x="173160" y="1371600"/>
            <a:ext cx="4093920" cy="434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3"/>
          <a:stretch/>
        </p:blipFill>
        <p:spPr>
          <a:xfrm>
            <a:off x="223920" y="355680"/>
            <a:ext cx="869616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-76320" y="155520"/>
            <a:ext cx="9296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-76320" y="304920"/>
            <a:ext cx="922356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133200" y="-4680"/>
            <a:ext cx="88776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-38160" y="17640"/>
            <a:ext cx="922032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scan0003"/>
          <p:cNvPicPr/>
          <p:nvPr/>
        </p:nvPicPr>
        <p:blipFill>
          <a:blip r:embed="rId1"/>
          <a:srcRect l="0" t="1310" r="0" b="0"/>
          <a:stretch/>
        </p:blipFill>
        <p:spPr>
          <a:xfrm>
            <a:off x="762120" y="14400"/>
            <a:ext cx="70102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4"/>
          <p:cNvGrpSpPr/>
          <p:nvPr/>
        </p:nvGrpSpPr>
        <p:grpSpPr>
          <a:xfrm>
            <a:off x="368280" y="104760"/>
            <a:ext cx="8394840" cy="6529320"/>
            <a:chOff x="368280" y="104760"/>
            <a:chExt cx="8394840" cy="6529320"/>
          </a:xfrm>
        </p:grpSpPr>
        <p:pic>
          <p:nvPicPr>
            <p:cNvPr id="56" name="Picture 2" descr=""/>
            <p:cNvPicPr/>
            <p:nvPr/>
          </p:nvPicPr>
          <p:blipFill>
            <a:blip r:embed="rId1"/>
            <a:srcRect l="36108" t="0" r="11489" b="46791"/>
            <a:stretch/>
          </p:blipFill>
          <p:spPr>
            <a:xfrm>
              <a:off x="368280" y="3581280"/>
              <a:ext cx="8394840" cy="30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" descr=""/>
            <p:cNvPicPr/>
            <p:nvPr/>
          </p:nvPicPr>
          <p:blipFill>
            <a:blip r:embed="rId2"/>
            <a:srcRect l="36108" t="0" r="11489" b="46791"/>
            <a:stretch/>
          </p:blipFill>
          <p:spPr>
            <a:xfrm>
              <a:off x="509760" y="104760"/>
              <a:ext cx="8124480" cy="309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104760" y="-42840"/>
            <a:ext cx="893448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9036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7:32:15Z</dcterms:created>
  <dc:creator>may</dc:creator>
  <dc:description/>
  <dc:language>en-US</dc:language>
  <cp:lastModifiedBy>mey</cp:lastModifiedBy>
  <dcterms:modified xsi:type="dcterms:W3CDTF">2014-03-02T12:11:53Z</dcterms:modified>
  <cp:revision>106</cp:revision>
  <dc:subject/>
  <dc:title>Slide 1</dc:title>
</cp:coreProperties>
</file>