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200-786D-4BD0-BBB3-CE065547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62C-4DEB-4508-B8CC-9766DBA5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11B-FA1E-44DA-9C34-B6FA5DB8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5E0-07DC-4226-A1B8-A5E42264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B972-15AB-46A4-95A4-C44C3EFB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8F367-AF0B-45BE-B49C-47451EF4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DF731-913F-42F6-B649-9C12E0CE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FF51E-08D2-4AAA-BB19-9A8F9196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71D53-BBF4-4027-898D-CA12D100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D2B0C-A6F8-4A88-B7FC-C7B5D27E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5671E-B98B-4B7C-9072-D7039515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51E-65C4-4E03-9447-A894979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9BEEF-7CE7-46CC-8D0A-555E4CD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3837F-6142-44B8-991A-FF7B2101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A0F7E-496E-4FBB-BC22-391B45A1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1BF45-A5BE-4080-8697-7486A223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5A4F5-A7DD-43F6-B265-8281762E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D2B-0A14-4FC2-8D89-4099F942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1BA-E547-4B25-B3AB-9B7B2D68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CFB-AD02-43EB-B84A-1BF5BED0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46C-EA94-4551-8A15-E3E94D0C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5BD-9448-4B4D-A366-03D08A9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FAD-C551-496A-B3B2-36639B2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7F1-CBFD-4BC8-9150-C1B17417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cs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A5BB-147F-4247-830B-021F87037EA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D016-0167-42FF-BCF0-D1BFFA14C8C1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cs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24720" cy="1655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3e3ff"/>
                </a:solidFill>
                <a:latin typeface="Sakkal Majalla"/>
                <a:cs typeface="Sakkal Majalla"/>
              </a:rPr>
              <a:t>رقم ورمز المقرر </a:t>
            </a:r>
            <a:r>
              <a:rPr b="1" lang="ar-SA" sz="3200" spc="-1" strike="noStrike">
                <a:solidFill>
                  <a:srgbClr val="e3e3ff"/>
                </a:solidFill>
                <a:latin typeface="Sakkal Majalla"/>
                <a:ea typeface="Sakkal Majalla"/>
              </a:rPr>
              <a:t>602</a:t>
            </a:r>
            <a:r>
              <a:rPr b="1" lang="ar-SA" sz="3200" spc="-1" strike="noStrike">
                <a:solidFill>
                  <a:srgbClr val="e3e3ff"/>
                </a:solidFill>
                <a:latin typeface="Sakkal Majalla"/>
                <a:ea typeface="Sakkal Majalla"/>
              </a:rPr>
              <a:t> نفس إحصاء نفسي متقدم 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Sakkal Majalla"/>
                <a:ea typeface="Sakkal Majalla"/>
              </a:rPr>
              <a:t> عدد الوحدات              </a:t>
            </a:r>
            <a:r>
              <a:rPr b="1" lang="ar-SA" sz="3200" spc="-1" strike="noStrike">
                <a:solidFill>
                  <a:srgbClr val="e3e3ff"/>
                </a:solidFill>
                <a:latin typeface="Sakkal Majalla"/>
                <a:ea typeface="Sakkal Majalla"/>
              </a:rPr>
              <a:t>2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Sakkal Majalla"/>
                <a:cs typeface="Sakkal Majalla"/>
              </a:rPr>
              <a:t>أ.د السيد أبو هاشم – قسم علم النفس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2276640"/>
            <a:ext cx="885672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أهداف المقرر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دراسة أهم المفاهيم والأساليب الإحصائية المتقدمة المتعلقة بأنواع الاختبارات البارا مترية واللابارامترية وكذلك القدرة على تطبيقها في البحوث النفسية والتربوية، وإجراء تطبيقات على هذه الأساليب باستخدام البرنامج الإحصائي 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SS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ختبار (ت  ) للمقارنة بين مجموعتين أو قياسين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حالات المختلفة لاختبار ت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التاسع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ثالث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ثالث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0560" y="188640"/>
            <a:ext cx="8569080" cy="6048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Independent – Samples T Test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درجات مجموعتين من الأفراد والمطلوب : اختبار صحة الفرض الصفرى التالى : " لا توجد فروق ذات دلالة إحصائية بين متوسطات درجات المجموعتين التجريبية والضابطة فى التفكير الناق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Paired – Samples T Test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درجات مجموعة واحدة ، والمطلوب اختبار صحة الفرض الصفرى التالى : " لا توجد فروق ذات دلالة إحصائية بين متوسطات درجات القياسين القبلى والبعدى لاضطرابات الانتباه لدى تلاميذ الصف الخامس الابتدائى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88640"/>
            <a:ext cx="8569080" cy="6048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Ttest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ات مجموعتين من الأفراد في مستوي الطموح والمطلوب اختبار دلالة الفروق بين المجموعتين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PTtest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ات مجموعة من الأفراد على اختبار للثقة بالذات والمطلوب التحقق من دلالة الفروق بين القياسين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اختبارات اللامعلمية لاختبار ت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بار مان ويت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بار ولكوكسو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 الرابع عشر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 السابع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50560" y="333000"/>
            <a:ext cx="8569080" cy="5832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nn –Whitney U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مجموعتين تجريبية وضابطة في اضطرابات الانتباه ، والمطلوب التحقق من الفرض الصفري التالى : لا توجد فروق ذات دلالة إحصائية بين متوسطات رتب درجات المجموعتين التجريبية والضابطة في اضطرابات الانتباه ”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Wilcoxon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ي بيانات عينة من الأطفال فى حب الاستطلاع ، والمطلوب التحقق من الفرض الصفري التالى : لا توجد فروق دالة إحصائياً بين متوسطات رتب درجات القياسين القبلى والبعدى فى حب الاستطلا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0560" y="333000"/>
            <a:ext cx="8713800" cy="5832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nn U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ى درجات الطلاب والطالبات في مقرر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361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نفس ، والمطلوب التحقق من الفرض التالي : " لا توجد فروق ذات دلالة إحصائية بين رتب درجات الطلاب والطالبات في مقرر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361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نفس 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Wilcoxon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ى نتائج دراسة أجريت بهدف التعرف علي تأثير معينات الذاكرة في القدرة علي الاسترجاع لدي عينة من الطلاب ، والمطلوب التحقق من وجود فروق بين رتب القياسين القبلي والبعدي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علاقات بين المتغيرات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عاملات الارتباط و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(عزت عبد الحميد  ، الفصل الرابع عشر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رابع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سادس 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89000"/>
            <a:ext cx="8569440" cy="6408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Pearson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عينة من الأفراد في متغيرات مستوى الطموح ومفهوم الذات . والمطلوب التحقق من الفرض الصفري التالي : لا يوجد ارتباط دال إحصائيا بين مستوى الطموح ومفهوم الذ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earman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عينة من الطلاب ، والمطلوب اختبار صحة الفرض الصفري التالى : لا يوجد ارتباط دال إحصائيا بين ترتيب الطلاب وفقا للخط والتحصيل  الدراس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8000" y="189000"/>
            <a:ext cx="8856720" cy="6408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pearson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ـات عينة من الطلاب فى متغيرات ( الطموح ، الذات ، الرضا ، الضغوط ، الذكاء ) والمطلوب حساب العلاقة بين المتغيرات التى يحتويها الملف مع تفسيرها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earman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(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أفراد متقدمين لشغل وظيفة عضو هيئة تدريس بقسم علم النفس فطلب من كل من رئيس القسم وعميد الكلية تقييم الأفراد على ميزان رتبى من (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إلى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والمطلوب هل يوجد ارتباط بين تقييم كل من رئيس القسم والعميد وما نوعه وتفسيرك ل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تباين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ANOVA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تحليل التباين أحادي الاتجاه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One-  way AN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تحليل التباين الثنائي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Two -  way AN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تحليل التباين الثلاثي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Three way AN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تحليل التباين العاملي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Factorial ANOVA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قارنات المتعددة للمتوسطات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ultiple Comparison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تاسع + الفصل العاشر ، صلاح مرا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رابع ، حمزة دودين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ثالث ، السيد أبو هاش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79280" y="260280"/>
          <a:ext cx="8785440" cy="5950080"/>
        </p:xfrm>
        <a:graphic>
          <a:graphicData uri="http://schemas.openxmlformats.org/drawingml/2006/table">
            <a:tbl>
              <a:tblPr/>
              <a:tblGrid>
                <a:gridCol w="3068640"/>
                <a:gridCol w="1581120"/>
                <a:gridCol w="3148200"/>
                <a:gridCol w="987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وض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وضوع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التباين المتكر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تاس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عرض عن موضوعات المقر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بدائل اللامعلمية لتحليل التباي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عا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مفاهيم الأساسية في الإحصا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Sakkal Majalla"/>
                          <a:cs typeface="Sakkal Majalla"/>
                        </a:rPr>
                        <a:t>اختبار فصلي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دى ع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لات المختلفة لاختبار ( ت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التغاير الأحادي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نى عش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بدائل اللامعلمية لاختبار 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راب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 الانحدار البسي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لث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علاقات بين المتغيرات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 الانحدار المتعد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رابع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ماذج تحليل التباين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ساد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مراج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خامس عش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ماذج تحليل التباين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ساب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تحليل التباين متعدد المتغيرات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ثام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 gridSpan="4"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161616"/>
                          </a:solidFill>
                          <a:latin typeface="Sakkal Majalla"/>
                          <a:ea typeface="Sakkal Majalla"/>
                        </a:rPr>
                        <a:t>* جميع الموضوعات يتم تدريسها نظرياً وتطبيقياً على برنامج </a:t>
                      </a:r>
                      <a:r>
                        <a:rPr b="1" lang="en-US" sz="2400" spc="-1" strike="noStrike">
                          <a:solidFill>
                            <a:srgbClr val="161616"/>
                          </a:solidFill>
                          <a:latin typeface="Sakkal Majalla"/>
                          <a:ea typeface="Sakkal Majalla"/>
                        </a:rPr>
                        <a:t>SPS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ANOVA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ات أربع مجموعات درست بطرق مختلفة مقرر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505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نفس والمطلوب التحقق من الفرض التالي : " لا توجد فروق ذات دلالة إحصائية بين متوسطات درجات المجموعات المختلفة فى تحصيل المقرر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examp3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درجات ثلاث مجموعات تعرضت لثلاث استراتيجيات علاجية لإدارة الضغوط  والمطلوب التحقق من الفرض التالي : " توجد فروق ذات دلالة إحصائية بين متوسطات درجات المجموعات المختلفة فى إدارة الضغوط  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ANOVA2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بحث حول التعرف على أثر استخدام أساليب مختلفة للثواب ونوع الطفل على الثقة بالذات لدى الأطفال والمطلوب التحقق من الفرض التالي : " لا يوجد تأثير للتفاعل الثنائي للأساليب المختلفة ونوع الطفل على الثقة بالذات لدى الأطفال "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examp6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بحث حول التعرف على أثر الجنس والجنسية على الكفاءة المهنية والمطلوب التحقق من الفرض التالي : " لا يوجد تأثير للتفاعل الثنائي للجنس والجنسية على الكفاءة المهنية لأعضاء هيئة التدريس  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تباين المتعدد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MANOVA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العاشر 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ثالث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خامس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NOVA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بحث حول التعرف على أثر استخدام ثلاثة استراتيجيات مختلفة للتدريس على التحصيل الدراسي والاتجاه نحو الإحصاء والمطلوب التحقق من الفرض التالي : " لا يوجد تأثير للاستراتيجيات التدريسية المختلفة على كل من التحصيل الدراسي والاتجاه نحو الإحصاء  "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MANOVA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بحث حول التعرف على أثر نوع المدرسة علي الابداع والمعارف والمطلوب التحقق من الفرض التالي : " لا يوجد تأثير لنوع المدرسة على كل من الابداع والمعارف "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73960" cy="1079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تباين  ذي القياسات المتكررة</a:t>
            </a:r>
            <a:br>
              <a:rPr sz="3200"/>
            </a:b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ANOVA – Repeated Measures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العاشر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ثالث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رابع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Repeated Measures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(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قياسات للاتجاه نحو الإحصاء علي عينة من طلبة الدراسات العليا خلال فترات زمنية مختلف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Repeated Measures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(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قياسات للسلوك التوافقي علي عينة من الأطفال خلال فترات زمنية مختلف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بدائل اللامعلمية لتحليل التباين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بار كروسكال والي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بار فريدما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 الرابع عشر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 السابع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50560" y="260280"/>
            <a:ext cx="8569080" cy="5832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Kruskal Wallis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عينة من الأفراد للتعرف على الاتجاه نحو عمل المرأة ، والمطلوب التحقق من الفرض الصفري التالى :لا توجد فروق بين متوسطات رتب درجات المجموعات المختلفة فى الاتجاه نحو عمل المرأة 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Friedman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يحتوي بيانات عينة من الطلاب حول التخصصات الدراسية ، والمطلوب التحقق من الفرض الصفري التالي : لا توجد فروق ذات دلالة إحصائية بين رتب رغبات الطلاب حول التخصصات الدراسية الخمسة 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73960" cy="1079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تغاير الأحادي</a:t>
            </a:r>
            <a:br>
              <a:rPr sz="3200"/>
            </a:br>
            <a:r>
              <a:rPr b="1" lang="ar-SA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One – Way ANCOV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373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 العاشر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ثالث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 الرابع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ANCOVA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بحث حول التعرف على برنامج تدريبي لتنمية المهارات الاجتماعية والدور الاجتماعي لدى الأطفال ، وتم قياس متغير الانطواء لعزل تأثيره 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ANCOVA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بحث حول التعرف على برنامج تدريبي لتحسين مهارات الاستذكار  لدي طلاب المرحلة الثانوية ويريد الباحث عزل تأثير القياس القبلي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569080" cy="824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مراجع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عزت عبد الحميد حسن(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1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الإحصاء النفسي والتربوي تطبيقات باستخدام برنامج 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SS18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، القاهرة ، دار الفكر العرب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سيد أبو هاشم (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2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. الدليل الإحصائي في تحليل البيانات باستخدام 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SS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، الرياض ، مكتبة الر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حمزة محمد دودين (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0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. التحليل الإحصائي المتقدم للبيانات باستخدام 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SPSS</a:t>
            </a:r>
            <a:r>
              <a:rPr b="1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، عمان ، دار المسير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صلاح مراد (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012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. الأساليب الإحصائيـة في العلوم النفسية والتربوية والاجتماعية ، القاهرة ، الانجلو المصر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373960" cy="7923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تحليل الانحدار </a:t>
            </a:r>
            <a:r>
              <a:rPr b="1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Regression Analys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عزت عبد الحميد  ، الفصل  الثاني عشر 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السيد أبو هاشم  ، الفصل الرابع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، الفصل السابع 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عنصر نائب للمحتوى 2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examp12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عينة حول عدد ساعات الاستذكار والتحصيل الدراسى والمطلوب كتابة معادلة التنبؤ من عدد ساعات الاستذكار بالتحصيل الدراسى لدى طلاب المرحلة الثانوي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Regression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دراسة أجريت بهدف التنبؤ بالتحصيل الدراسى من درجات فعالية الذات الأكاديمية ومستوى الطموح الأكاديمى لدى طلاب المرحلة الثانوية . والمطلوب التحقق من الفرض التالى : يمكن التنبؤ بدرجات التحصيل الدراسى لدى طلاب المرحلة الثانوية من درجات فعالية الذات والطموح الأكاديمى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عنصر نائب للمحتوى 2"/>
          <p:cNvSpPr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examp13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يحتوى بيانات دراسة أجريت بهدف التنبؤ بالرضا المهنى من درجات التوافق النفسى والمهارات الاجتماعية والمساندة الاجتماعية لدى عينة من منسوبى الجامعة ، والمطلوب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هل يمكن التنبؤ بالرضا المهنى من درجات التوافق والمهارات والمساندة 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- كتابة معادلة التنبؤ وتوضيح قيمة معامل التحديد وتفسيره ؟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80160" cy="86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f2b"/>
                </a:solidFill>
                <a:latin typeface="Sakkal Majalla"/>
                <a:cs typeface="Sakkal Majalla"/>
              </a:rPr>
              <a:t>التقييم  فى المقرر</a:t>
            </a:r>
            <a:r>
              <a:rPr b="0" lang="ar-SA" sz="3200" spc="-1" strike="noStrike">
                <a:solidFill>
                  <a:srgbClr val="000f2b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136000" cy="2879640"/>
        </p:xfrm>
        <a:graphic>
          <a:graphicData uri="http://schemas.openxmlformats.org/drawingml/2006/table">
            <a:tbl>
              <a:tblPr/>
              <a:tblGrid>
                <a:gridCol w="1697040"/>
                <a:gridCol w="2813040"/>
                <a:gridCol w="36259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درجة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أسبوع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تقييم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30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متلازم مع المحاضرات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مشروع الاحصا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30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لحادي عش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ختبار فصلي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(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40</a:t>
                      </a: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ea typeface="Sakkal Majalla"/>
                        </a:rPr>
                        <a:t>)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نهاية الفصل الدراس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ffffff"/>
                          </a:solidFill>
                          <a:latin typeface="Sakkal Majalla"/>
                          <a:cs typeface="Sakkal Majalla"/>
                        </a:rPr>
                        <a:t>اختبار نهائي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80160" cy="647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نصائح هامة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216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هل الإحصاء صعب!! كيف عرفت أنه صعب؟!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هو صعب وسهل ، فإذا استمعت لزملائك الذين درسوا المقرر ولم يحصّلوا فيه بسبب جهدهم المتدني...فإنك ستسمع كثيراً عن مدى صعوبة المقرر، والنصيحة لا تستمع كثيراً لهؤلاء الطلبة برأيي عليك الانتظار وليكن حالك كالتالي " سأنتظر حتى أدرس المقرر لأقرر وأحكم على خبرتي بنفس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أنت لست بطئ تعلّم أو لديك صعوبات أكاديمية. فلو كنت كذلك لما وصلت لهذه المرحلة الدراسية ، وبالتالي عامل هذا المقرر كباقي المقررات الجديدة عليك من حيث حضور المحاضرات ، وانجاز الواجبات بانتظام وتسليمها في الوقت المحدد ، والتدريب والممارسة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طبيعة موضوعات المقرر متسلسلة وتعتمد على بعضها....... الغياب سيؤثر على اكتساب المفاهيم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تكوين مجموعات عمل للتعاون في اكتساب المفاهيم الواردة في المقرر وأداء الواجب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استخدم النقاش بفاعلية ولا تتردد في السؤال عن أي صعوبات قد تواجهك من خلال الساعات المكتبية أو الإيمي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سيتم تزويدك بعدة تمارين وتدريبات ، حاول حلها بنفسك وقارن إجابتك مع زملائك في مجموعات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(</a:t>
            </a:r>
            <a:r>
              <a:rPr b="1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تدرّب، تدرّب، تدرّب وبشكل مستمر بعد كل محاضر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 حاول ربط المفاهيم التي تتعلمها بمشكلات وأمثلة من تخصصك حتّى تشكّل معنى بالنسبة لك وتشعر بالفائ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 </a:t>
            </a:r>
            <a:r>
              <a:rPr b="1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المفاهيم الأساسية في الإحصاء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373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 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تغيرات وأنواعه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ستويات القيا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ستويات الدلالة الإحصائ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أنواع الإحصاء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توزيع الطبيع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ختيار الاختبار الإحصائي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عزت عبد الحميد ، الفصل الساد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صلاح مراد ، الفصل الأول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حمزة دودين  ، الفصل الأول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73960" cy="79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3416"/>
                </a:solidFill>
                <a:latin typeface="Sakkal Majalla"/>
                <a:cs typeface="Sakkal Majalla"/>
              </a:rPr>
              <a:t>برنامج </a:t>
            </a:r>
            <a:r>
              <a:rPr b="0" lang="en-US" sz="3200" spc="-1" strike="noStrike">
                <a:solidFill>
                  <a:srgbClr val="463416"/>
                </a:solidFill>
                <a:latin typeface="Sakkal Majalla"/>
                <a:ea typeface="Sakkal Majalla"/>
              </a:rPr>
              <a:t>SPS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3739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تعريف بالبرنامج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إدخال البيا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راجعة البيانات قبل تحليله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تعامل مع البيانات الشاذة والمفقو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cs typeface="Sakkal Majalla"/>
              </a:rPr>
              <a:t>المراجع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أول – الرابع ، عزت عبد الحميد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أول ، السيد أبو هاش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Sakkal Majalla"/>
                <a:ea typeface="Sakkal Majalla"/>
              </a:rPr>
              <a:t>( الفصل الثاني ، حمزة دودين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560" y="188640"/>
            <a:ext cx="8569080" cy="6048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escriptive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حتوى بيانات لقياس عدد من المتغيرات العقلية والمعرفية ، والمطلوب توصيف البيانات فى ضوء متغيرات الدراسة ؟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ملف 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descriptive1</a:t>
            </a:r>
            <a:r>
              <a:rPr b="0" lang="en-US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يوضح درجات الطلاب والطالبات فى مقرر 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503</a:t>
            </a:r>
            <a:r>
              <a:rPr b="0" lang="ar-SA" sz="32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نفس  ، والمطلوب كتابة تقرير إحصائي عن مستوى الأداء ، مع رسم المنحنى الطبيعي المعياري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Sakkal Majal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عنصر نائب للتذييل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cs typeface="Arial"/>
              </a:rPr>
              <a:t>أ.د. السيد أبو هاشم قسم علم النفس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5:18:05Z</dcterms:created>
  <dc:creator>User</dc:creator>
  <dc:description/>
  <dc:language>en-US</dc:language>
  <cp:lastModifiedBy>sssss</cp:lastModifiedBy>
  <dcterms:modified xsi:type="dcterms:W3CDTF">2017-09-18T13:40:56Z</dcterms:modified>
  <cp:revision>611</cp:revision>
  <dc:subject/>
  <dc:title>الإحصاء Statistical</dc:title>
</cp:coreProperties>
</file>