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D18-4CDB-4688-AE50-9929ADA5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0CEC-1170-4BA8-AB69-401B97E5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BCBB-B2A2-4DB1-A9FC-172880F2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9169-5635-4B17-87E7-FDAAB5B2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87E9D-53A6-49CC-BEC4-417DA735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DD069-002D-4E54-8660-05CCE448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74233-E0DB-4411-B4A4-D7478E30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91FE0-FF27-457B-9377-D25BB7F9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25ADF-DADB-454A-ACE9-58BFE555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ACCAB-4057-43BC-885C-6CD9C94F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7DAA9-6530-4690-84A1-B93668FF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3462-1EBF-45DA-B899-8F0FA97A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A72A4-56C7-4847-8B7A-09C9A41A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0E3C0-F413-4CD6-8608-F4EF08E3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62D98-1693-4792-864E-68D2814E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AFDCF-68DC-48A1-8A9C-27AD8779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E041C-35A7-4768-8063-2BE53AF7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FE5-9A17-4A70-B167-58BD4219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B12-A5EC-4B19-BE1C-07612287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CBEB-0A48-46E1-8052-966B5D47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B8F2-EA21-457D-86B2-69FF0F2A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9CF-AA2B-418E-9672-BCDF17A6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055-F7E4-44CD-A99B-77FAA71C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EE2-D83B-4967-9D9A-1CB8AACF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cs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1E9A-A25A-43AB-BA9E-BC2A1AB7018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5C7C-BFBA-4BA8-B506-84F14ECADEF0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cs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424720" cy="1655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3e3ff"/>
                </a:solidFill>
                <a:latin typeface="Sakkal Majalla"/>
                <a:cs typeface="Sakkal Majalla"/>
              </a:rPr>
              <a:t>رقم ورمز المقرر </a:t>
            </a:r>
            <a:r>
              <a:rPr b="1" lang="ar-SA" sz="3200" spc="-1" strike="noStrike">
                <a:solidFill>
                  <a:srgbClr val="e3e3ff"/>
                </a:solidFill>
                <a:latin typeface="Sakkal Majalla"/>
                <a:ea typeface="Sakkal Majalla"/>
              </a:rPr>
              <a:t>602</a:t>
            </a:r>
            <a:r>
              <a:rPr b="1" lang="ar-SA" sz="3200" spc="-1" strike="noStrike">
                <a:solidFill>
                  <a:srgbClr val="e3e3ff"/>
                </a:solidFill>
                <a:latin typeface="Sakkal Majalla"/>
                <a:ea typeface="Sakkal Majalla"/>
              </a:rPr>
              <a:t> نفس إحصاء نفسي متقدم </a:t>
            </a:r>
            <a:br>
              <a:rPr sz="3200"/>
            </a:br>
            <a:r>
              <a:rPr b="1" lang="ar-SA" sz="3200" spc="-1" strike="noStrike">
                <a:solidFill>
                  <a:srgbClr val="e3e3ff"/>
                </a:solidFill>
                <a:latin typeface="Sakkal Majalla"/>
                <a:ea typeface="Sakkal Majalla"/>
              </a:rPr>
              <a:t> عدد الوحدات              </a:t>
            </a:r>
            <a:r>
              <a:rPr b="1" lang="ar-SA" sz="3200" spc="-1" strike="noStrike">
                <a:solidFill>
                  <a:srgbClr val="e3e3ff"/>
                </a:solidFill>
                <a:latin typeface="Sakkal Majalla"/>
                <a:ea typeface="Sakkal Majalla"/>
              </a:rPr>
              <a:t>2</a:t>
            </a:r>
            <a:br>
              <a:rPr sz="3200"/>
            </a:br>
            <a:r>
              <a:rPr b="1" lang="ar-SA" sz="3200" spc="-1" strike="noStrike">
                <a:solidFill>
                  <a:srgbClr val="e3e3ff"/>
                </a:solidFill>
                <a:latin typeface="Sakkal Majalla"/>
                <a:cs typeface="Sakkal Majalla"/>
              </a:rPr>
              <a:t>أ.د السيد أبو هاشم – قسم علم النفس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2276640"/>
            <a:ext cx="885672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أهداف المقرر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دراسة أهم المفاهيم والأساليب الإحصائية المتقدمة المتعلقة بأنواع الاختبارات البارا مترية واللابارامترية وكذلك القدرة على تطبيقها في البحوث النفسية والتربوية، وإجراء تطبيقات على هذه الأساليب باستخدام البرنامج الإحصائي </a:t>
            </a:r>
            <a:r>
              <a:rPr b="1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SPSS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 </a:t>
            </a:r>
            <a:r>
              <a:rPr b="1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اختبار (ت  ) للمقارنة بين مجموعتين أو قياسين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حالات المختلفة لاختبار ت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عزت عبد الحميد  ، الفصل التاسع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السيد أبو هاشم  ، الفصل الثالث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حمزة دودين ، الفصل الثالث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50560" y="188640"/>
            <a:ext cx="8569080" cy="6048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Independent – Samples T Test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يحتوي درجات مجموعتين من الأفراد والمطلوب : اختبار صحة الفرض الصفرى التالى : " لا توجد فروق ذات دلالة إحصائية بين متوسطات درجات المجموعتين التجريبية والضابطة فى التفكير الناق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Paired – Samples T Test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يحتوي درجات مجموعة واحدة ، والمطلوب اختبار صحة الفرض الصفرى التالى : " لا توجد فروق ذات دلالة إحصائية بين متوسطات درجات القياسين القبلى والبعدى لاضطرابات الانتباه لدى تلاميذ الصف الخامس الابتدائى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88640"/>
            <a:ext cx="8569080" cy="6048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Ttest1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درجات مجموعتين من الأفراد في مستوي الطموح والمطلوب اختبار دلالة الفروق بين المجموعتين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PTtest1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درجات مجموعة من الأفراد على اختبار للثقة بالذات والمطلوب التحقق من دلالة الفروق بين القياسين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الاختبارات اللامعلمية لاختبار ت 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ختبار مان ويتن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ختبار ولكوكسو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عزت عبد الحميد  ، الفصل  الرابع عشر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السيد أبو هاشم  ، الفصل  السابع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50560" y="333000"/>
            <a:ext cx="8569080" cy="5832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ann –Whitney U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يحتوي بيانات مجموعتين تجريبية وضابطة في اضطرابات الانتباه ، والمطلوب التحقق من الفرض الصفري التالى : لا توجد فروق ذات دلالة إحصائية بين متوسطات رتب درجات المجموعتين التجريبية والضابطة في اضطرابات الانتباه ”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Wilcoxon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ي بيانات عينة من الأطفال فى حب الاستطلاع ، والمطلوب التحقق من الفرض الصفري التالى : لا توجد فروق دالة إحصائياً بين متوسطات رتب درجات القياسين القبلى والبعدى فى حب الاستطلا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50560" y="333000"/>
            <a:ext cx="8713800" cy="5832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ann U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يحتوى درجات الطلاب والطالبات في مقرر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361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نفس ، والمطلوب التحقق من الفرض التالي : " لا توجد فروق ذات دلالة إحصائية بين رتب درجات الطلاب والطالبات في مقرر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361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نفس 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Wilcoxon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يحتوى نتائج دراسة أجريت بهدف التعرف علي تأثير معينات الذاكرة في القدرة علي الاسترجاع لدي عينة من الطلاب ، والمطلوب التحقق من وجود فروق بين رتب القياسين القبلي والبعدي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 </a:t>
            </a:r>
            <a:r>
              <a:rPr b="1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العلاقات بين المتغيرات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معاملات الارتباط وأنواع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 (عزت عبد الحميد  ، الفصل الرابع عشر 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السيد أبو هاشم  ، الفصل الرابع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حمزة دودين ، الفصل السادس  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95280" y="189000"/>
            <a:ext cx="8569440" cy="64087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Pearson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يحتوي بيانات عينة من الأفراد في متغيرات مستوى الطموح ومفهوم الذات . والمطلوب التحقق من الفرض الصفري التالي : لا يوجد ارتباط دال إحصائيا بين مستوى الطموح ومفهوم الذ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Spearman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يحتوي بيانات عينة من الطلاب ، والمطلوب اختبار صحة الفرض الصفري التالى : لا يوجد ارتباط دال إحصائيا بين ترتيب الطلاب وفقا للخط والتحصيل  الدراس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08000" y="189000"/>
            <a:ext cx="8856720" cy="64087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pearson1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درجـات عينة من الطلاب فى متغيرات ( الطموح ، الذات ، الرضا ، الضغوط ، الذكاء ) والمطلوب حساب العلاقة بين المتغيرات التى يحتويها الملف مع تفسيرها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Spearman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بيانات (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أفراد متقدمين لشغل وظيفة عضو هيئة تدريس بقسم علم النفس فطلب من كل من رئيس القسم وعميد الكلية تقييم الأفراد على ميزان رتبى من (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إلى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والمطلوب هل يوجد ارتباط بين تقييم كل من رئيس القسم والعميد وما نوعه وتفسيرك له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تحليل التباين </a:t>
            </a:r>
            <a:r>
              <a:rPr b="1" lang="en-US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ANOVA</a:t>
            </a:r>
            <a:r>
              <a:rPr b="1" lang="ar-SA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تحليل التباين أحادي الاتجاه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One-  way ANO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- تحليل التباين الثنائي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Two -  way ANO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- تحليل التباين الثلاثي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Three way ANO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- تحليل التباين العاملي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Factorial ANOVA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قارنات المتعددة للمتوسطات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ultiple Comparison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 الفصل التاسع + الفصل العاشر ، صلاح مراد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 الفصل الرابع ، حمزة دودين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 الفصل الثالث ، السيد أبو هاش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79280" y="260280"/>
          <a:ext cx="8785440" cy="5950080"/>
        </p:xfrm>
        <a:graphic>
          <a:graphicData uri="http://schemas.openxmlformats.org/drawingml/2006/table">
            <a:tbl>
              <a:tblPr/>
              <a:tblGrid>
                <a:gridCol w="3068640"/>
                <a:gridCol w="1581120"/>
                <a:gridCol w="3148200"/>
                <a:gridCol w="9874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موضو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أسبو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موضوع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أسبو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تحليل التباين المتكر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تاس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عرض عن موضوعات المقر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أو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بدائل اللامعلمية لتحليل التباي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عاش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مفاهيم الأساسية في الإحصاء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ن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Sakkal Majalla"/>
                          <a:cs typeface="Sakkal Majalla"/>
                        </a:rPr>
                        <a:t>اختبار فصلي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حادى عش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حالات المختلفة لاختبار ( ت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لث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تحليل التغاير الأحادي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نى عش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بدائل اللامعلمية لاختبار 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راب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تحليل  الانحدار البسي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لث عشر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علاقات بين المتغيرات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خام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تحليل  الانحدار المتعدد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رابع عشر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نماذج تحليل التباين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ساد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مراجعة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خامس عشر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نماذج تحليل التباين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ساب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تحليل التباين متعدد المتغيرات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م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 gridSpan="4"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161616"/>
                          </a:solidFill>
                          <a:latin typeface="Sakkal Majalla"/>
                          <a:ea typeface="Sakkal Majalla"/>
                        </a:rPr>
                        <a:t>* جميع الموضوعات يتم تدريسها نظرياً وتطبيقياً على برنامج </a:t>
                      </a:r>
                      <a:r>
                        <a:rPr b="1" lang="en-US" sz="2400" spc="-1" strike="noStrike">
                          <a:solidFill>
                            <a:srgbClr val="161616"/>
                          </a:solidFill>
                          <a:latin typeface="Sakkal Majalla"/>
                          <a:ea typeface="Sakkal Majalla"/>
                        </a:rPr>
                        <a:t>SPS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3366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عنصر نائب للمحتوى 2"/>
          <p:cNvSpPr/>
          <p:nvPr/>
        </p:nvSpPr>
        <p:spPr>
          <a:xfrm>
            <a:off x="250920" y="260280"/>
            <a:ext cx="8642160" cy="612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ANOVA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درجات أربع مجموعات درست بطرق مختلفة مقرر 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505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نفس والمطلوب التحقق من الفرض التالي : " لا توجد فروق ذات دلالة إحصائية بين متوسطات درجات المجموعات المختلفة فى تحصيل المقرر"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examp3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درجات ثلاث مجموعات تعرضت لثلاث استراتيجيات علاجية لإدارة الضغوط  والمطلوب التحقق من الفرض التالي : " توجد فروق ذات دلالة إحصائية بين متوسطات درجات المجموعات المختلفة فى إدارة الضغوط  "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عنصر نائب للمحتوى 2"/>
          <p:cNvSpPr/>
          <p:nvPr/>
        </p:nvSpPr>
        <p:spPr>
          <a:xfrm>
            <a:off x="250920" y="260280"/>
            <a:ext cx="8642160" cy="612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ANOVA2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بيانات بحث حول التعرف على أثر استخدام أساليب مختلفة للثواب ونوع الطفل على الثقة بالذات لدى الأطفال والمطلوب التحقق من الفرض التالي : " لا يوجد تأثير للتفاعل الثنائي للأساليب المختلفة ونوع الطفل على الثقة بالذات لدى الأطفال " 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examp6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بيانات بحث حول التعرف على أثر الجنس والجنسية على الكفاءة المهنية والمطلوب التحقق من الفرض التالي : " لا يوجد تأثير للتفاعل الثنائي للجنس والجنسية على الكفاءة المهنية لأعضاء هيئة التدريس  "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تحليل التباين المتعدد </a:t>
            </a:r>
            <a:r>
              <a:rPr b="1" lang="en-US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MANOVA</a:t>
            </a:r>
            <a:r>
              <a:rPr b="1" lang="ar-SA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عزت عبد الحميد  ، الفصل العاشر 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السيد أبو هاشم  ، الفصل الثالث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حمزة دودين ، الفصل الخامس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عنصر نائب للمحتوى 2"/>
          <p:cNvSpPr/>
          <p:nvPr/>
        </p:nvSpPr>
        <p:spPr>
          <a:xfrm>
            <a:off x="250920" y="260280"/>
            <a:ext cx="8642160" cy="612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ANOVA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بيانات بحث حول التعرف على أثر استخدام ثلاثة استراتيجيات مختلفة للتدريس على التحصيل الدراسي والاتجاه نحو الإحصاء والمطلوب التحقق من الفرض التالي : " لا يوجد تأثير للاستراتيجيات التدريسية المختلفة على كل من التحصيل الدراسي والاتجاه نحو الإحصاء  " 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ANOVA1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بيانات بحث حول التعرف على أثر نوع المدرسة علي الابداع والمعارف والمطلوب التحقق من الفرض التالي : " لا يوجد تأثير لنوع المدرسة على كل من الابداع والمعارف " 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73960" cy="1079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تحليل التباين  ذي القياسات المتكررة</a:t>
            </a:r>
            <a:br>
              <a:rPr sz="3200"/>
            </a:br>
            <a:r>
              <a:rPr b="1" lang="ar-SA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 </a:t>
            </a:r>
            <a:r>
              <a:rPr b="1" lang="en-US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 </a:t>
            </a:r>
            <a:r>
              <a:rPr b="1" lang="en-US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ANOVA – Repeated Measures</a:t>
            </a:r>
            <a:r>
              <a:rPr b="1" lang="ar-SA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94920" y="1413000"/>
            <a:ext cx="8373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عزت عبد الحميد  ، الفصل العاشر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السيد أبو هاشم  ، الفصل الثالث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حمزة دودين ، الفصل الرابع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عنصر نائب للمحتوى 2"/>
          <p:cNvSpPr/>
          <p:nvPr/>
        </p:nvSpPr>
        <p:spPr>
          <a:xfrm>
            <a:off x="250920" y="260280"/>
            <a:ext cx="8642160" cy="612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Repeated Measures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يحتوى بيانات (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قياسات للاتجاه نحو الإحصاء علي عينة من طلبة الدراسات العليا خلال فترات زمنية مختلف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Repeated Measures1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يحتوى بيانات (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قياسات للسلوك التوافقي علي عينة من الأطفال خلال فترات زمنية مختلف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البدائل اللامعلمية لتحليل التباين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ختبار كروسكال والي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ختبار فريدما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عزت عبد الحميد  ، الفصل  الرابع عشر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السيد أبو هاشم  ، الفصل  السابع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50560" y="260280"/>
            <a:ext cx="8569080" cy="58327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Kruskal Wallis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يحتوي بيانات عينة من الأفراد للتعرف على الاتجاه نحو عمل المرأة ، والمطلوب التحقق من الفرض الصفري التالى :لا توجد فروق بين متوسطات رتب درجات المجموعات المختلفة فى الاتجاه نحو عمل المرأة 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Friedman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يحتوي بيانات عينة من الطلاب حول التخصصات الدراسية ، والمطلوب التحقق من الفرض الصفري التالي : لا توجد فروق ذات دلالة إحصائية بين رتب رغبات الطلاب حول التخصصات الدراسية الخمسة 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73960" cy="1079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تحليل التغاير الأحادي</a:t>
            </a:r>
            <a:br>
              <a:rPr sz="3200"/>
            </a:br>
            <a:r>
              <a:rPr b="1" lang="ar-SA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 </a:t>
            </a:r>
            <a:r>
              <a:rPr b="1" lang="en-US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 </a:t>
            </a:r>
            <a:r>
              <a:rPr b="1" lang="en-US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One – Way ANCOVA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94920" y="1413000"/>
            <a:ext cx="8373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عزت عبد الحميد  ، الفصل  العاشر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السيد أبو هاشم  ، الفصل الثالث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حمزة دودين ، الفصل  الرابع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عنصر نائب للمحتوى 2"/>
          <p:cNvSpPr/>
          <p:nvPr/>
        </p:nvSpPr>
        <p:spPr>
          <a:xfrm>
            <a:off x="250920" y="260280"/>
            <a:ext cx="8642160" cy="612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ANCOVA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يحتوى بيانات بحث حول التعرف على برنامج تدريبي لتنمية المهارات الاجتماعية والدور الاجتماعي لدى الأطفال ، وتم قياس متغير الانطواء لعزل تأثيره 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ANCOVA1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يحتوى بيانات بحث حول التعرف على برنامج تدريبي لتحسين مهارات الاستذكار  لدي طلاب المرحلة الثانوية ويريد الباحث عزل تأثير القياس القبلي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569080" cy="8240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المراجع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عزت عبد الحميد حسن(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2011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الإحصاء النفسي والتربوي تطبيقات باستخدام برنامج </a:t>
            </a:r>
            <a:r>
              <a:rPr b="1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SPSS18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، القاهرة ، دار الفكر العرب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سيد أبو هاشم (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2012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. الدليل الإحصائي في تحليل البيانات باستخدام </a:t>
            </a:r>
            <a:r>
              <a:rPr b="1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SPSS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، الرياض ، مكتبة الرش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حمزة محمد دودين (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2010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. التحليل الإحصائي المتقدم للبيانات باستخدام </a:t>
            </a:r>
            <a:r>
              <a:rPr b="1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SPSS</a:t>
            </a:r>
            <a:r>
              <a:rPr b="1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، عمان ، دار المسير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صلاح مراد (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2012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. الأساليب الإحصائيـة في العلوم النفسية والتربوية والاجتماعية ، القاهرة ، الانجلو المصر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373960" cy="7923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تحليل الانحدار </a:t>
            </a:r>
            <a:r>
              <a:rPr b="1" lang="en-US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Regression Analysi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عزت عبد الحميد  ، الفصل  الثاني عشر 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السيد أبو هاشم  ، الفصل الرابع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حمزة دودين ، الفصل السابع 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عنصر نائب للمحتوى 2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examp12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بيانات عينة حول عدد ساعات الاستذكار والتحصيل الدراسى والمطلوب كتابة معادلة التنبؤ من عدد ساعات الاستذكار بالتحصيل الدراسى لدى طلاب المرحلة الثانوي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Regression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يحتوى بيانات دراسة أجريت بهدف التنبؤ بالتحصيل الدراسى من درجات فعالية الذات الأكاديمية ومستوى الطموح الأكاديمى لدى طلاب المرحلة الثانوية . والمطلوب التحقق من الفرض التالى : يمكن التنبؤ بدرجات التحصيل الدراسى لدى طلاب المرحلة الثانوية من درجات فعالية الذات والطموح الأكاديمى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عنصر نائب للمحتوى 2"/>
          <p:cNvSpPr/>
          <p:nvPr/>
        </p:nvSpPr>
        <p:spPr>
          <a:xfrm>
            <a:off x="250920" y="260280"/>
            <a:ext cx="8642160" cy="612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examp13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يحتوى بيانات دراسة أجريت بهدف التنبؤ بالرضا المهنى من درجات التوافق النفسى والمهارات الاجتماعية والمساندة الاجتماعية لدى عينة من منسوبى الجامعة ، والمطلوب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- هل يمكن التنبؤ بالرضا المهنى من درجات التوافق والمهارات والمساندة 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- كتابة معادلة التنبؤ وتوضيح قيمة معامل التحديد وتفسيره ؟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80160" cy="863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f2b"/>
                </a:solidFill>
                <a:latin typeface="Sakkal Majalla"/>
                <a:cs typeface="Sakkal Majalla"/>
              </a:rPr>
              <a:t>التقييم  فى المقرر</a:t>
            </a:r>
            <a:r>
              <a:rPr b="0" lang="ar-SA" sz="3200" spc="-1" strike="noStrike">
                <a:solidFill>
                  <a:srgbClr val="000f2b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773360"/>
          <a:ext cx="8136000" cy="2879640"/>
        </p:xfrm>
        <a:graphic>
          <a:graphicData uri="http://schemas.openxmlformats.org/drawingml/2006/table">
            <a:tbl>
              <a:tblPr/>
              <a:tblGrid>
                <a:gridCol w="1697040"/>
                <a:gridCol w="2813040"/>
                <a:gridCol w="362592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درجة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أسبوع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تقييم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(</a:t>
                      </a: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30</a:t>
                      </a: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)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متلازم مع المحاضرات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مشروع الاحصاء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(</a:t>
                      </a: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30</a:t>
                      </a: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)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حادي عش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ختبار فصلي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(</a:t>
                      </a: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40</a:t>
                      </a: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)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نهاية الفصل الدراسي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ختبار نهائي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80160" cy="647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نصائح هامة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4216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هل الإحصاء صعب!! كيف عرفت أنه صعب؟!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هو صعب وسهل ، فإذا استمعت لزملائك الذين درسوا المقرر ولم يحصّلوا فيه بسبب جهدهم المتدني...فإنك ستسمع كثيراً عن مدى صعوبة المقرر، والنصيحة لا تستمع كثيراً لهؤلاء الطلبة برأيي عليك الانتظار وليكن حالك كالتالي " سأنتظر حتى أدرس المقرر لأقرر وأحكم على خبرتي بنفس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أنت لست بطئ تعلّم أو لديك صعوبات أكاديمية. فلو كنت كذلك لما وصلت لهذه المرحلة الدراسية ، وبالتالي عامل هذا المقرر كباقي المقررات الجديدة عليك من حيث حضور المحاضرات ، وانجاز الواجبات بانتظام وتسليمها في الوقت المحدد ، والتدريب والممارسة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طبيعة موضوعات المقرر متسلسلة وتعتمد على بعضها....... الغياب سيؤثر على اكتساب المفاهيم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تكوين مجموعات عمل للتعاون في اكتساب المفاهيم الواردة في المقرر وأداء الواجب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استخدم النقاش بفاعلية ولا تتردد في السؤال عن أي صعوبات قد تواجهك من خلال الساعات المكتبية أو الإيمي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6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سيتم تزويدك بعدة تمارين وتدريبات ، حاول حلها بنفسك وقارن إجابتك مع زملائك في مجموعات العم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(</a:t>
            </a:r>
            <a:r>
              <a:rPr b="1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تدرّب، تدرّب، تدرّب وبشكل مستمر بعد كل محاضر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حاول ربط المفاهيم التي تتعلمها بمشكلات وأمثلة من تخصصك حتّى تشكّل معنى بالنسبة لك وتشعر بالفائد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 </a:t>
            </a:r>
            <a:r>
              <a:rPr b="1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المفاهيم الأساسية في الإحصاء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 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تغيرات وأنواعها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مستويات القيا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مستويات الدلالة الإحصائ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أنواع الإحصاء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توزيع الطبيعي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ختيار الاختبار الإحصائي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 عزت عبد الحميد ، الفصل الساد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صلاح مراد ، الفصل الأول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حمزة دودين  ، الفصل الأول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برنامج </a:t>
            </a:r>
            <a:r>
              <a:rPr b="0" lang="en-US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SPS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94920" y="1125360"/>
            <a:ext cx="83739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تعريف بالبرنامج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إدخال البيان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مراجعة البيانات قبل تحليلها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تعامل مع البيانات الشاذة والمفقو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 الفصل الأول – الرابع ، عزت عبد الحميد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 الفصل الأول ، السيد أبو هاشم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 الفصل الثاني ، حمزة دودين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50560" y="188640"/>
            <a:ext cx="8569080" cy="6048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descriptive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بيانات لقياس عدد من المتغيرات العقلية والمعرفية ، والمطلوب توصيف البيانات فى ضوء متغيرات الدراسة ؟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descriptive1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وضح درجات الطلاب والطالبات فى مقرر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503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نفس  ، والمطلوب كتابة تقرير إحصائي عن مستوى الأداء ، مع رسم المنحنى الطبيعي المعياري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5:18:05Z</dcterms:created>
  <dc:creator>User</dc:creator>
  <dc:description/>
  <dc:language>en-US</dc:language>
  <cp:lastModifiedBy>sssss</cp:lastModifiedBy>
  <dcterms:modified xsi:type="dcterms:W3CDTF">2017-09-18T13:40:56Z</dcterms:modified>
  <cp:revision>611</cp:revision>
  <dc:subject/>
  <dc:title>الإحصاء Statistical</dc:title>
</cp:coreProperties>
</file>