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3CC-DFD0-4491-BEED-46FB14B0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F04-78A1-4CF2-8F19-9C02E185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FE4-4F7F-4388-97D1-7B507CD3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CE9-1240-413B-AAE1-F4614273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AFC20-C95D-42B1-A3EE-8BB9D658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09A08-C047-4AC2-A6C8-2DED38C0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C66D8-6B76-40C6-BC16-1AF39841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68150-C020-45C5-8F98-8AF3F9D8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52D5D-501E-45FF-9E97-D0FB1351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CFA8E-1926-457A-98CA-7653AA0C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F3C2A-97C5-423E-BE53-8EBED655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633-FE97-4885-BAC4-45782D8C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7A47C-14D5-49F7-A4FB-3402663F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D1C31-3162-4934-8ACB-6E1BCEF6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1E17D-D364-442F-8EF5-3F6F08B2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BDFF2-F48A-4547-B0F3-182CD2A5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12A2B-C695-4683-905F-5EA9B15B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EE9-3387-4441-BF8C-0DA5CEE7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53F-F1D5-4973-84A1-3F5BE5AB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D39-E1B0-4F03-BB2E-6E9F143E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253-D981-4AEA-AAEA-577FA782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68B-D103-46D5-BE62-EAC2A10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182-3982-4744-B884-46A218D0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149-5FAC-4E62-B8D9-B4E72A3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cs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53D5-03D4-4582-B764-226DDE80FA1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07C-A7C5-454C-A513-4AA942C3B1FD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cs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ac.ksu.edu.sa/shashe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ac.ksu.edu.sa/shashe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24720" cy="1655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رقم ورمز المقرر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622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نفس تدريج الاختبارات والمقاييس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عدد الوحدات             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أ.د السيد أبو هاشم – قسم علم النفس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2276640"/>
            <a:ext cx="885672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أهداف المقرر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تعريف بنظرية تدريج المقاييس ، وأساليب التدريج الأحادية ، والمتعددة الأبعاد. واستخداماتها في تدريج الاختبارات ، والمقاييس مثل : ثيرستون ، ليكرت ، جوتمان ، وطريقة تمايز المعاني .  ويدعم المقرر التطبيقات العملية للتدريج في مجال العلوم السلوكية ، والاجتماعية باستخدام برمجيات حاسوبية مناسب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الأسلوب التراكمي (جتمان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تمايز المعاني (اوزجود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التصنيف الترتيبي(ستيفنسون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3739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البسط (كومبس) والعلاقات الاجتماعية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تدريج المقاييس متعددة الأبعاد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دراسات وبحوث في التدريج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دراسات والبحوث العربية والأجنبية المتوفرة على الموقع الشخ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Sakkal Majalla"/>
                <a:ea typeface="Sakkal Majalla"/>
                <a:hlinkClick r:id="rId1"/>
              </a:rPr>
              <a:t>http://fac.ksu.edu.sa/shas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79280" y="260280"/>
          <a:ext cx="8785440" cy="6015240"/>
        </p:xfrm>
        <a:graphic>
          <a:graphicData uri="http://schemas.openxmlformats.org/drawingml/2006/table">
            <a:tbl>
              <a:tblPr/>
              <a:tblGrid>
                <a:gridCol w="2820960"/>
                <a:gridCol w="1482840"/>
                <a:gridCol w="3497400"/>
                <a:gridCol w="9842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وض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وض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التصنيف الترتيبي(ستيفنسون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تاس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عن موضوعات المقر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البسط (كومبس) والعلاقات الاجتماعي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عا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واقع  تدريج المقاييس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Sakkal Majalla"/>
                          <a:cs typeface="Sakkal Majalla"/>
                        </a:rPr>
                        <a:t>اختبار فصلي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دى ع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اليب التدريج ( الفرد – المثير – الاستجابة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دريج المقاييس متعددة الأبعاد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ى ع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اليب التدريج ( الفرد – المثير – الاستجابة 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راب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دراسات وبحوث في التدريج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الفترات المتساوية (ثيرستون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دراسات وبحوث في التدري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رابع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التقدير الجمعي (ليكرت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ساد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دراسات وبحوث في التدري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لوب التراكمي (جتمان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ساب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تمايز المعاني (اوزجود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م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569080" cy="608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المراجع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صلاح الدين علام 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00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. القياس والتقويم التربوي والنفسي أساسياته وتطبيقاته وتوجهاته المعاصرة  . القاهرة ، دار الفكر العرب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كروكر والجينا 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7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. مدخل إلي نظرية القياس التقليدية والمعاصرة . ترجمة هند الحموري وزينات دعنا  . عمان ، دار الفكر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عبد الرحمن الطريرى 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4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القياس النفسي والتربوي نظريته ، أسسه ، تطبيقاته . الرياض ، مكتبة الر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, 2 ed . LEA 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Vagias, Wade M. (2006). Likert-type scale response anchors. Clemson University</a:t>
            </a: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 . 6 ed. Chicago: Aldine publishing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عنصر نائب للتذييل 1"/>
          <p:cNvSpPr/>
          <p:nvPr/>
        </p:nvSpPr>
        <p:spPr>
          <a:xfrm>
            <a:off x="3124080" y="6308640"/>
            <a:ext cx="2895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569080" cy="824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المراجع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دراسات والبحوث العربية والأجنبية المتوفرة على الموقع الشخ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Sakkal Majalla"/>
                <a:ea typeface="Sakkal Majalla"/>
                <a:hlinkClick r:id="rId1"/>
              </a:rPr>
              <a:t>http://fac.ksu.edu.sa/shas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عنصر نائب للتذييل 1"/>
          <p:cNvSpPr/>
          <p:nvPr/>
        </p:nvSpPr>
        <p:spPr>
          <a:xfrm>
            <a:off x="3124080" y="6308640"/>
            <a:ext cx="2895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8000" y="475920"/>
            <a:ext cx="8856720" cy="86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التقييم  فى المقرر</a:t>
            </a:r>
            <a:r>
              <a:rPr b="0" lang="ar-SA" sz="3200" spc="-1" strike="noStrike">
                <a:solidFill>
                  <a:srgbClr val="000f2b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8000" y="1413000"/>
          <a:ext cx="8785080" cy="4633920"/>
        </p:xfrm>
        <a:graphic>
          <a:graphicData uri="http://schemas.openxmlformats.org/drawingml/2006/table">
            <a:tbl>
              <a:tblPr/>
              <a:tblGrid>
                <a:gridCol w="1423800"/>
                <a:gridCol w="2959200"/>
                <a:gridCol w="4402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درجة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تقيي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7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متلازم مع المحاضر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موضوع في التدريج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4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ي / الثال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عن واقع التدريج  في البحو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4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من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قد بحث في تدريج  أدوات القيا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 عشر/الرابع عش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 دراسات أجنبية في التدريج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15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 عشر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بحث ميداني في تدريج  أدوات القيا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20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دي عش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ختبار فصلي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40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هاية الفصل الدراس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ختبار نهائي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واقع  تدريج المقاييس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هند الحموري ، زينات دعنا / الفصل الثالث : مقدمة إلى التدريج – الأعداد الحقيقية وتدريج المقاييس -  مستويات التدري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جميع الاختبارات والمقاييس المرفق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أساليب التدريج المرتبطة ب ( الفرد – المثير – الاستجابة )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هند الحموري ، زينات دعنا / الفصل الثالث : مقدمة إلى التدريج – الأعداد الحقيقية وتدريج المقاييس -  مستويات التدري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73960" cy="86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الفترات المتساوية (ثيرستون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تغريد حجازي ، نضال الشريفين (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2013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) . </a:t>
            </a:r>
            <a:r>
              <a:rPr b="1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ستخدام أسلوب ثيرستون لأسلوب الفئات المتساوية ظاهرياً في انتقاء فقرات لقياس الاتجاهات نحو الفيز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73960" cy="86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f2b"/>
                </a:solidFill>
                <a:latin typeface="Sakkal Majalla"/>
                <a:ea typeface="Sakkal Majalla"/>
              </a:rPr>
              <a:t> </a:t>
            </a:r>
            <a:br>
              <a:rPr sz="4800"/>
            </a:b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التقدير الجمعي (ليكرت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حجاج غانم ، ياسر عبد الله (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2011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) .تأثير عدد بدائل ليكرت على الخصائص السيكوم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سعيد الغامدي (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2003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) . دراسة حالة لمقياس ليكرت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Vagias, Wade M. (2006). Likert-type scale response anchors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5:18:05Z</dcterms:created>
  <dc:creator>User</dc:creator>
  <dc:description/>
  <dc:language>en-US</dc:language>
  <cp:lastModifiedBy>sssss</cp:lastModifiedBy>
  <dcterms:modified xsi:type="dcterms:W3CDTF">2017-09-25T13:50:08Z</dcterms:modified>
  <cp:revision>678</cp:revision>
  <dc:subject/>
  <dc:title>الإحصاء Statistical</dc:title>
</cp:coreProperties>
</file>