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EDA-FB7A-4F97-A085-715A74B3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0A4-26E5-4437-A9B2-8CDC1E1A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9DB-F832-4768-BE4E-27E0E6E2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256-EB5D-46B0-8684-FCBBA0FA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A19A8-5535-4E07-87A7-E1188DF2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DC66F-0E97-4EFF-B03C-1634F8EB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A1C03-5FCF-4AF3-9DC6-DC2E2CB2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7B5E6-3436-4656-AB1E-EF6B900F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621E4-B603-4004-B708-6E2023B4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1E2CD-70DD-468A-A0A7-95DC934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D9A56-521A-45AB-BA7D-327021EA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C7C-4519-4ECC-8713-355D7E6B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9FF71-2CD8-425F-9BCF-2D19039D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8207C-ADBB-4CFB-8FE8-539EB2ED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83942-CB80-41FF-93A3-3A195CA5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F9FC4-ED2A-4C6E-9143-7ED97007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C64E1-D9ED-4F99-B038-70A5F1A1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634-8C96-4DF3-BE84-4EF8BFC0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DF8-9F7C-438B-A65C-F21ECD86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221-C756-49F3-8964-4175B159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804-F646-4CAB-8D69-9A19DBE5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EE4-F8BC-4BD9-8B44-0A5529B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63D-825A-4F06-9F57-626AE7A8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C2F-EDA7-4BCC-8ACC-1CC19CFA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cs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42EA-A3A0-46CA-AC2D-39AE5F695D6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3DD8-3683-4994-AAD1-3C88E1EDA3AE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cs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ac.ksu.edu.sa/shashe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ac.ksu.edu.sa/shashe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24720" cy="1655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رقم ورمز المقرر 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622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نفس تدريج الاختبارات والمقاييس 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عدد الوحدات              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أ.د السيد أبو هاشم – قسم علم النفس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2276640"/>
            <a:ext cx="885672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أهداف المقرر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تعريف بنظرية تدريج المقاييس ، وأساليب التدريج الأحادية ، والمتعددة الأبعاد. واستخداماتها في تدريج الاختبارات ، والمقاييس مثل : ثيرستون ، ليكرت ، جوتمان ، وطريقة تمايز المعاني .  ويدعم المقرر التطبيقات العملية للتدريج في مجال العلوم السلوكية ، والاجتماعية باستخدام برمجيات حاسوبية مناسب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الأسلوب التراكمي (جتمان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أسلوب تمايز المعاني (اوزجود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أسلوب التصنيف الترتيبي(ستيفنسون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3739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أسلوب البسط (كومبس) والعلاقات الاجتماعية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تدريج المقاييس متعددة الأبعاد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دراسات وبحوث في التدريج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دراسات والبحوث العربية والأجنبية المتوفرة على الموقع الشخ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Sakkal Majalla"/>
                <a:ea typeface="Sakkal Majalla"/>
                <a:hlinkClick r:id="rId1"/>
              </a:rPr>
              <a:t>http://fac.ksu.edu.sa/shas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79280" y="260280"/>
          <a:ext cx="8785440" cy="6015240"/>
        </p:xfrm>
        <a:graphic>
          <a:graphicData uri="http://schemas.openxmlformats.org/drawingml/2006/table">
            <a:tbl>
              <a:tblPr/>
              <a:tblGrid>
                <a:gridCol w="2820960"/>
                <a:gridCol w="1482840"/>
                <a:gridCol w="3497400"/>
                <a:gridCol w="9842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موض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موض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لوب التصنيف الترتيبي(ستيفنسون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تاس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عرض عن موضوعات المقر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لوب البسط (كومبس) والعلاقات الاجتماعي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عا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واقع  تدريج المقاييس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ن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Sakkal Majalla"/>
                          <a:cs typeface="Sakkal Majalla"/>
                        </a:rPr>
                        <a:t>اختبار فصلي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حادى ع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اليب التدريج ( الفرد – المثير – الاستجابة 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ل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دريج المقاييس متعددة الأبعاد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نى ع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اليب التدريج ( الفرد – المثير – الاستجابة 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راب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دراسات وبحوث في التدريج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لث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لوب الفترات المتساوية (ثيرستون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خام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دراسات وبحوث في التدريج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رابع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لوب التقدير الجمعي (ليكرت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ساد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دراسات وبحوث في التدريج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خامس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لوب التراكمي (جتمان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ساب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أسلوب تمايز المعاني (اوزجود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م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569080" cy="608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المراجع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صلاح الدين علام 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00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. القياس والتقويم التربوي والنفسي أساسياته وتطبيقاته وتوجهاته المعاصرة  . القاهرة ، دار الفكر العرب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كروكر والجينا 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7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. مدخل إلي نظرية القياس التقليدية والمعاصرة . ترجمة هند الحموري وزينات دعنا  . عمان ، دار الفكر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عبد الرحمن الطريرى 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4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القياس النفسي والتربوي نظريته ، أسسه ، تطبيقاته . الرياض ، مكتبة الر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, 2 ed . LEA Lo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Vagias, Wade M. (2006). Likert-type scale response anchors. Clemson University</a:t>
            </a: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 . 6 ed. Chicago: Aldine publishing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عنصر نائب للتذييل 1"/>
          <p:cNvSpPr/>
          <p:nvPr/>
        </p:nvSpPr>
        <p:spPr>
          <a:xfrm>
            <a:off x="3124080" y="6308640"/>
            <a:ext cx="2895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569080" cy="824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المراجع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دراسات والبحوث العربية والأجنبية المتوفرة على الموقع الشخ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Sakkal Majalla"/>
                <a:ea typeface="Sakkal Majalla"/>
                <a:hlinkClick r:id="rId1"/>
              </a:rPr>
              <a:t>http://fac.ksu.edu.sa/shas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عنصر نائب للتذييل 1"/>
          <p:cNvSpPr/>
          <p:nvPr/>
        </p:nvSpPr>
        <p:spPr>
          <a:xfrm>
            <a:off x="3124080" y="6308640"/>
            <a:ext cx="2895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8000" y="475920"/>
            <a:ext cx="8856720" cy="86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التقييم  فى المقرر</a:t>
            </a:r>
            <a:r>
              <a:rPr b="0" lang="ar-SA" sz="3200" spc="-1" strike="noStrike">
                <a:solidFill>
                  <a:srgbClr val="000f2b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8000" y="1413000"/>
          <a:ext cx="8785080" cy="4633920"/>
        </p:xfrm>
        <a:graphic>
          <a:graphicData uri="http://schemas.openxmlformats.org/drawingml/2006/table">
            <a:tbl>
              <a:tblPr/>
              <a:tblGrid>
                <a:gridCol w="1423800"/>
                <a:gridCol w="2959200"/>
                <a:gridCol w="4402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درجة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تقيي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7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متلازم مع المحاضر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عرض موضوع في التدريج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4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ني / الثال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عرض عن واقع التدريج  في البحو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4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من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نقد بحث في تدريج  أدوات القيا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10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لث عشر/الرابع عش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عرض  دراسات أجنبية في التدريج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15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خامس عشر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بحث ميداني في تدريج  أدوات القيا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20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حادي عش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ختبار فصلي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40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نهاية الفصل الدراس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ختبار نهائي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واقع  تدريج المقاييس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373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هند الحموري ، زينات دعنا / الفصل الثالث : مقدمة إلى التدريج – الأعداد الحقيقية وتدريج المقاييس -  مستويات التدري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جميع الاختبارات والمقاييس المرفق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أساليب التدريج المرتبطة ب ( الفرد – المثير – الاستجابة )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373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هند الحموري ، زينات دعنا / الفصل الثالث : مقدمة إلى التدريج – الأعداد الحقيقية وتدريج المقاييس -  مستويات التدري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73960" cy="86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أسلوب الفترات المتساوية (ثيرستون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373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تغريد حجازي ، نضال الشريفين (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2013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) . </a:t>
            </a:r>
            <a:r>
              <a:rPr b="1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ستخدام أسلوب ثيرستون لأسلوب الفئات المتساوية ظاهرياً في انتقاء فقرات لقياس الاتجاهات نحو الفيز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unn – Runking, P.D, Knezek, G.A, wallance s, and zhang. Sl ( 2004) Scaling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ranell, G .(2007 ) Scaling : a sourcebook for behavioral 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73960" cy="86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f2b"/>
                </a:solidFill>
                <a:latin typeface="Sakkal Majalla"/>
                <a:ea typeface="Sakkal Majalla"/>
              </a:rPr>
              <a:t> </a:t>
            </a:r>
            <a:br>
              <a:rPr sz="4800"/>
            </a:br>
            <a:r>
              <a:rPr b="1" lang="ar-SA" sz="3200" spc="-1" strike="noStrike">
                <a:solidFill>
                  <a:srgbClr val="161616"/>
                </a:solidFill>
                <a:latin typeface="Sakkal Majalla"/>
                <a:cs typeface="Sakkal Majalla"/>
              </a:rPr>
              <a:t>أسلوب التقدير الجمعي (ليكرت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- المراج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صلاح الدين علام / الفصل الثاني عش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عبد الرحمن الطريري / الفصل الساد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حجاج غانم ، ياسر عبد الله (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2011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) .تأثير عدد بدائل ليكرت على الخصائص السيكوم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سعيد الغامدي (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2003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) . دراسة حالة لمقياس ليكرت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Vagias, Wade M. (2006). Likert-type scale response anchors</a:t>
            </a: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5:18:05Z</dcterms:created>
  <dc:creator>User</dc:creator>
  <dc:description/>
  <dc:language>en-US</dc:language>
  <cp:lastModifiedBy>sssss</cp:lastModifiedBy>
  <dcterms:modified xsi:type="dcterms:W3CDTF">2017-09-25T13:50:08Z</dcterms:modified>
  <cp:revision>678</cp:revision>
  <dc:subject/>
  <dc:title>الإحصاء Statistical</dc:title>
</cp:coreProperties>
</file>