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1FEA-6DC8-4FF3-B13C-03FCC4F4C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CF64-FADD-43AF-94DF-D2D27BD424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A539-5489-4FBA-BB65-678112C7BA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B969-BBC9-42AC-B953-6BE2F403B1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8A53-D639-4AAC-84C0-144E172470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30C1-C247-4603-9189-07A4E2FCF6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38A9-7BB3-4265-B583-789D9BBA30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DDF1-E079-4D02-B445-25C95CB4E6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5A2F-B0CB-43EE-935B-3431FD0B2E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0C28-C4F4-4EC1-9BD5-80007B8808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0593-EF0E-4008-ACDA-4744CDDE9E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8AE9-399C-4D95-9340-31835C1BA5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F25B-BD5A-452C-B438-F179452AB9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A038-1643-4263-8BBB-13D7DDE684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F952-0EAD-4DB7-95E3-0AC3457F2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274D-CCAB-40D6-A35B-E7EE7BDC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AA13E-FD57-49F3-BBED-2A85D2437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EBB24-7323-40D6-82A3-B76E99171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65707-DF45-4DBE-A439-5974BC174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3E90D-2F07-4996-ACDF-482880BA8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1812E-EC4D-468D-A1AD-4B3D2B892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CD335-8A6B-4B33-946E-6C4E49BFD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9360-1A24-4140-AA85-DA982E341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04AB4-EB2F-462B-9B21-A5E7B6EE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C8D4-41ED-4CEF-999F-7D4913E0F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DA27-A618-4098-BFEC-E747D6F9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DB36-778A-42FE-BBF7-B24993450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080D1-AB2C-48DC-8298-5D0FBBF41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B82A-4CFA-4F37-AB25-08299EBBD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99420-AC08-49CF-B931-ED3A4CF5C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8CAEC-CC7E-4ACB-947D-F1A990DE7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773F-DE25-4089-9FE2-74F93255E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14FE-D27E-4A9C-B704-BF3E6EDA1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D041-DA60-458C-AC52-A57703DD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2BB2-6E13-47DF-9DBE-037B3111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947C-FFCD-4CA5-9A66-C43EA475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1092B-E13C-46F7-8AEC-72FF0DDE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5F61-1BEC-4621-A725-A9AD9A03B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9CA3-D8F1-46D9-A5E2-8E9733A20F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D2985102-7CD3-4769-B796-9CD7442ACCFA}"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63241E49-E3F0-4E16-89B8-8934C5D75AA2}"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988C-8F4A-483C-8130-615F110889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a:t>
            </a:r>
            <a:r>
              <a:rPr b="1" lang="en-US" sz="3200" spc="-1" strike="noStrike">
                <a:solidFill>
                  <a:srgbClr val="632523"/>
                </a:solidFill>
                <a:latin typeface="Calibri"/>
              </a:rPr>
              <a:t>Bolivia, Columbia, Ecuador, Peru, and Chile. </a:t>
            </a:r>
            <a:r>
              <a:rPr b="0" lang="en-US" sz="3200" spc="-1" strike="noStrike">
                <a:solidFill>
                  <a:srgbClr val="000000"/>
                </a:solidFill>
                <a:latin typeface="Calibri"/>
              </a:rPr>
              <a:t>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keep own trade policies toward others.</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t>
            </a:r>
            <a:r>
              <a:rPr b="0" lang="en-US" sz="3000" spc="-1" strike="noStrike">
                <a:solidFill>
                  <a:srgbClr val="ff0000"/>
                </a:solidFill>
                <a:latin typeface="Calibri"/>
              </a:rPr>
              <a:t>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7-04-15T15:49:01Z</dcterms:modified>
  <cp:revision>46</cp:revision>
  <dc:subject/>
  <dc:title>Slide 1</dc:title>
</cp:coreProperties>
</file>