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4.jpeg" ContentType="image/jpeg"/>
  <Override PartName="/ppt/media/image9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959CA-42A9-4F07-B024-A62A030CD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FCF8-086A-450E-969F-F8C5C8E24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262C8-AAD0-45C7-97F7-0F945D166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F1467-F211-48D5-85A0-2D891686D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91B02-3DAE-4175-A425-E2CCDDD1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02746-CD7D-4690-85AC-7F0DF43E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827F1-C63E-4ADA-B8F6-6D42A92F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0EF07-5169-4F8A-9478-B1A76E02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F934F-7AB8-4702-B2F8-C8F18410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27413-AF12-4CA3-9F6C-4D91B486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6AF69-F577-4F2C-BD3F-1A5462E3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271A-C85D-4412-8ECC-60DF4108A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FC906-6106-4C55-A335-534F2E94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56E5A-BD0A-4D73-9E81-70A65E2C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36BC5-7EAA-4CC1-83C0-29B851D1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93C89-B6DD-4EAB-99F3-98BA4703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C1031-515D-497A-A5DE-DF1C428D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441D9-0713-4487-893A-B730EC236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C6E6-F885-4B93-B638-CB7EE1F9C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61A2D-F202-4DD0-9712-5250A6C65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1F0A-1F5F-4D3E-883C-E5B0301AC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0AF0-A9EA-4535-89BA-A46185AAB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0962-070E-4EBC-A13B-36FA0A866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E56C-3980-4D5F-8858-F1F65E80C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286000" y="6575040"/>
            <a:ext cx="495288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9-</a:t>
            </a:r>
            <a:fld id="{5A766B52-171C-4312-A3A0-F14E7D05AE2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1160" y="6576840"/>
            <a:ext cx="2895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403B-7C94-4319-9DDE-1695985878F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FB2D9436-9500-4395-A77A-B027D64D54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77680" y="863640"/>
            <a:ext cx="5283000" cy="227016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txBody>
          <a:bodyPr lIns="88920" rIns="88920" tIns="46080" bIns="46080" anchor="ctr">
            <a:noAutofit/>
          </a:bodyPr>
          <a:p>
            <a:pPr marL="316080"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Building a Guerrilla Marketing Plan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Picture 7" descr="MPj03960520000[1]"/>
          <p:cNvPicPr/>
          <p:nvPr/>
        </p:nvPicPr>
        <p:blipFill>
          <a:blip r:embed="rId1"/>
          <a:stretch/>
        </p:blipFill>
        <p:spPr>
          <a:xfrm>
            <a:off x="2514600" y="3733920"/>
            <a:ext cx="3255840" cy="216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76CF2C9C-B635-4449-A9DE-7404E2AF86D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uerrilla Marketing 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02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a niche and fill 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power of publ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just sell; entertain – “entertailing”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 with customers on an emotional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 a consistent branding strate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mbrace social networ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1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EAEDA735-F7F2-4F78-9F77-79DB06C057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cquiring Customers via Social Media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719136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0" y="6248520"/>
            <a:ext cx="353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ource: The State of Inbound Marketing, 2010, HubSpot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02A7B31A-B514-448A-878A-4CC82DE18D6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85320" y="333000"/>
            <a:ext cx="66042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Embrace Social Networking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nies that are highly engaged in social media significantly outperform in both revenues and profits those companies that are less enga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nies that use Twitter generate 2x as many sales leads as companies that do no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, only 24% of small businesses use social media to attract new customers or connect with existing 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MPj04020150000[1]"/>
          <p:cNvPicPr/>
          <p:nvPr/>
        </p:nvPicPr>
        <p:blipFill>
          <a:blip r:embed="rId1"/>
          <a:srcRect l="0" t="0" r="14183" b="0"/>
          <a:stretch/>
        </p:blipFill>
        <p:spPr>
          <a:xfrm>
            <a:off x="6789600" y="-27000"/>
            <a:ext cx="2354400" cy="1879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DA4FD081-57DB-43B9-8C42-5F59F4269B0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5320" y="333000"/>
            <a:ext cx="66042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reate Onlin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ide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et users watch 31 billion videos online each month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 “edutainmen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fun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 videos on multiple social media s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 on a point of different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it sh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5" descr="MPj04020150000[1]"/>
          <p:cNvPicPr/>
          <p:nvPr/>
        </p:nvPicPr>
        <p:blipFill>
          <a:blip r:embed="rId1"/>
          <a:srcRect l="0" t="0" r="14183" b="0"/>
          <a:stretch/>
        </p:blipFill>
        <p:spPr>
          <a:xfrm>
            <a:off x="6789600" y="-27000"/>
            <a:ext cx="2354400" cy="1879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80BDC4B8-B05D-42EA-809D-8F62D0093AC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6797520" cy="99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uerrilla Marketing Principles (continued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68320" y="1828440"/>
            <a:ext cx="7818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ocus on the Custom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companies lose $83 billion in sales each year because of poor customer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very complaint a company receives, 17 other complaints exist, but the company never hears about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EEB452C0-EC51-41AA-97E5-2687ADE3C38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ocus on the Customer (continue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1% will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uy from that business ag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1% will tell others about their negative exper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word of mouth has exponential power – many people avoid a store just because of someone else’s negative experience with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84E89EF3-2ABD-4E34-8228-0CEFD11BBD5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14400" y="2514600"/>
            <a:ext cx="7818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70% of a company’s sales come from existing custo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ing shoppers to customize their products has the power to increase customer retention, satisfaction, and profi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914040" y="609480"/>
            <a:ext cx="7924680" cy="11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tain Existing Customers (continued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97CB63D3-A704-4579-B551-33E1609F350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ality Guidelin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 quality into the process; don’t rely on inspection to obtain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hasize simplicity in desig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ster team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 long-term ties with select suppl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managers and employees with the training needed to produce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ower workers at all levels of the organiz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C4C3A4C8-6E0D-4DD9-A790-0327BA382D3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ality Guidelin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managers’ commitment to the quality philosop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hink the processes the company uses now. Is there a better w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ward employees for quality work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 company-wide strategy for continuous improvement of product and service quality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7673040" y="152388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Continued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733E3101-4DAF-49E7-8DCD-10B3FBBF8F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381880" cy="121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uerrilla Marketing Principles (continue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5" name="Picture 4" descr="mili0098"/>
          <p:cNvPicPr/>
          <p:nvPr/>
        </p:nvPicPr>
        <p:blipFill>
          <a:blip r:embed="rId1"/>
          <a:stretch/>
        </p:blipFill>
        <p:spPr>
          <a:xfrm>
            <a:off x="6781680" y="44956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7"/>
          <p:cNvSpPr/>
          <p:nvPr/>
        </p:nvSpPr>
        <p:spPr>
          <a:xfrm>
            <a:off x="1219320" y="2057400"/>
            <a:ext cx="6708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ttention to conven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ntration on Inno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dication to Service and Customer Satisf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phasis on Sp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358FC1B9-D763-4175-B720-31FD620FD7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rket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cess of creating and delivering desired goods and services to customers; involves all of the activities associated with winning and retaining loyal custo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s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derstand target customers’ needs, demands, and wants before competitors c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ffer them products and services to satisfy those needs, demands, and wa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 customers with quality, service, convenience, and value so they will keep coming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C4980A07-2AFF-4E89-9B15-DAC5214AF2F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your business conveniently located near custom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your business hours suitable to your custom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uld customers appreciate pickup and delivery servic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your company make it easy for customers to buy on credit or with credit car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7396200" cy="94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ttention to Convenie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6E6D4FF6-91F8-4766-B7F4-BDED38FC566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396200" cy="94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ttention to Convenie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you using technology to enhance customer convenien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your employees trained to handle business transactions quickly, efficiently, and politel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your employees use common courtesy when dealing with custom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87DA7A60-53D4-4BD7-A3C9-78042F59FC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396200" cy="94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ttention to Convenie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your company offer “extras” to make customers’ lives easi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you adapt existing products to make them more convenient for customer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your company handle telephone calls wel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D3CEF60D-99C5-45F4-8DA8-73A8B47303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800100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centration on Innov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novation - the key to future su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novation - one of the greatest strengths of the entrepreneur, showing up in the new products, techniques, and unusual approaches they introduc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6" descr="j0297707"/>
          <p:cNvPicPr/>
          <p:nvPr/>
        </p:nvPicPr>
        <p:blipFill>
          <a:blip r:embed="rId1"/>
          <a:stretch/>
        </p:blipFill>
        <p:spPr>
          <a:xfrm>
            <a:off x="7664400" y="0"/>
            <a:ext cx="1479600" cy="1820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5AE7C830-D692-4C6E-8466-57F358AAD19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800100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centration on Innov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 Development and Management Association Study of top performing companies across 400 industries: New products accounted for 49% of profits, more than twice as much as their less innovative competitor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5" descr="j0297707"/>
          <p:cNvPicPr/>
          <p:nvPr/>
        </p:nvPicPr>
        <p:blipFill>
          <a:blip r:embed="rId1"/>
          <a:stretch/>
        </p:blipFill>
        <p:spPr>
          <a:xfrm>
            <a:off x="7664400" y="0"/>
            <a:ext cx="1479600" cy="1820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29B8BD53-BA99-4526-A431-A6378EFF217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imulating Innov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innovation a priority in the compan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the company’s innovative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 goals and objectives for inno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new product or service ideas among employ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 to custom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be on the lookout for new product and service id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a steady stream of new products and services coming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10" descr="MPj03211770000[1]"/>
          <p:cNvPicPr/>
          <p:nvPr/>
        </p:nvPicPr>
        <p:blipFill>
          <a:blip r:embed="rId1"/>
          <a:stretch/>
        </p:blipFill>
        <p:spPr>
          <a:xfrm>
            <a:off x="7785000" y="0"/>
            <a:ext cx="130500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8E7642EB-6BCE-4B32-AEB1-6B7383A7623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381880" cy="121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uerrilla Marketing 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42" name="Picture 4" descr="mili0098"/>
          <p:cNvPicPr/>
          <p:nvPr/>
        </p:nvPicPr>
        <p:blipFill>
          <a:blip r:embed="rId1"/>
          <a:stretch/>
        </p:blipFill>
        <p:spPr>
          <a:xfrm>
            <a:off x="6781680" y="44956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6"/>
          <p:cNvSpPr/>
          <p:nvPr/>
        </p:nvSpPr>
        <p:spPr>
          <a:xfrm>
            <a:off x="1066680" y="2133720"/>
            <a:ext cx="6705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ention to conven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ntration on inno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990720" y="2819520"/>
            <a:ext cx="6708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1081080" y="3352680"/>
            <a:ext cx="6708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edication to service and customer satisf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BD769DB3-D32B-4E4A-888E-EB1064ED3B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o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to achiev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ustomer astonish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ow can you improve your servi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 to cust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“superior servic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 standards and measure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ine your company’s service cy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re the right employ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1898640" y="1290600"/>
            <a:ext cx="5653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7" descr="MPj03960700000[1]"/>
          <p:cNvPicPr/>
          <p:nvPr/>
        </p:nvPicPr>
        <p:blipFill>
          <a:blip r:embed="rId1"/>
          <a:stretch/>
        </p:blipFill>
        <p:spPr>
          <a:xfrm>
            <a:off x="7880400" y="0"/>
            <a:ext cx="1212840" cy="18288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990720" y="685440"/>
            <a:ext cx="6656400" cy="10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dication to Serv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70D1B3DD-1FD9-4A29-AA0C-C10627098BF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6656400" cy="10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dication to Serv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n employees to deliver superior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ower employees to offer superior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echnology to provide improved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ward superior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top managers'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customers an unexpected surpr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6" descr="MPj03960700000[1]"/>
          <p:cNvPicPr/>
          <p:nvPr/>
        </p:nvPicPr>
        <p:blipFill>
          <a:blip r:embed="rId1"/>
          <a:stretch/>
        </p:blipFill>
        <p:spPr>
          <a:xfrm>
            <a:off x="7880400" y="0"/>
            <a:ext cx="121284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FAEBB558-AA1D-4531-B8F0-1EC6906D9B7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381880" cy="121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uerrilla Marketing 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62" name="Picture 4" descr="mili0098"/>
          <p:cNvPicPr/>
          <p:nvPr/>
        </p:nvPicPr>
        <p:blipFill>
          <a:blip r:embed="rId1"/>
          <a:stretch/>
        </p:blipFill>
        <p:spPr>
          <a:xfrm>
            <a:off x="6781680" y="44956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6"/>
          <p:cNvSpPr/>
          <p:nvPr/>
        </p:nvSpPr>
        <p:spPr>
          <a:xfrm>
            <a:off x="1295280" y="2057400"/>
            <a:ext cx="6556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ention to conven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ntration on inno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dication to service and customer satisf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511280" y="4038480"/>
            <a:ext cx="6708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1523880" y="4648320"/>
            <a:ext cx="6708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1295280" y="4287960"/>
            <a:ext cx="6708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mphasis on sp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D1588864-FB88-4BC4-A686-2AF502BB621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our Objectives of a Guerrilla Marketing P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point the target markets a company will ser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customer needs, wants, and characteristics through market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e a company’s competitive advantages and build a marketing strategy around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 marketing mix that meets customer needs and w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9BBC8D3D-CC2D-4650-B062-C0C0EC0CBBC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rcRect l="23521" t="31506" r="24900" b="34584"/>
          <a:stretch/>
        </p:blipFill>
        <p:spPr>
          <a:xfrm>
            <a:off x="6934320" y="914400"/>
            <a:ext cx="2209680" cy="920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5970600" cy="9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mphasis on Spee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aspects of TCM - Time Compression Managemen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Speeding new products to mar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Shortening customer response time in         manufacturing and deli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Reducing the administrative time required to fill an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nies using TCM have discovered that manufacturing takes only 5% - 10% of total lead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DEE48C40-1493-43FB-B4C5-E65123B426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-engineer the process rather than try to do the same things - only f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y every phase of the business process, looking for ways to shorten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cross-functional teams of workers and empower them to attack and solve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information and ideas across the compa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 aggressive goals for production and stick to the schedu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ill speed in the company cul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echnology to find shortcuts wherever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990360" y="762120"/>
            <a:ext cx="5970600" cy="9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mphasis on Spee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8" name="Picture 8" descr=""/>
          <p:cNvPicPr/>
          <p:nvPr/>
        </p:nvPicPr>
        <p:blipFill>
          <a:blip r:embed="rId1"/>
          <a:srcRect l="23521" t="31506" r="24900" b="34584"/>
          <a:stretch/>
        </p:blipFill>
        <p:spPr>
          <a:xfrm>
            <a:off x="6934320" y="914400"/>
            <a:ext cx="2209680" cy="920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734920" y="612360"/>
            <a:ext cx="488484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Tahoma"/>
              </a:rPr>
              <a:t>The Marketing Mix</a:t>
            </a:r>
            <a:endParaRPr b="1" lang="en-US" sz="37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506400" y="2057400"/>
            <a:ext cx="3360600" cy="29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d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1" name="Picture 7" descr="j0213527"/>
          <p:cNvPicPr/>
          <p:nvPr/>
        </p:nvPicPr>
        <p:blipFill>
          <a:blip r:embed="rId1"/>
          <a:stretch/>
        </p:blipFill>
        <p:spPr>
          <a:xfrm>
            <a:off x="1676520" y="3886200"/>
            <a:ext cx="127944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MPj03827010000[1]"/>
          <p:cNvPicPr/>
          <p:nvPr/>
        </p:nvPicPr>
        <p:blipFill>
          <a:blip r:embed="rId2"/>
          <a:stretch/>
        </p:blipFill>
        <p:spPr>
          <a:xfrm>
            <a:off x="5867280" y="1981080"/>
            <a:ext cx="2210040" cy="15782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MPj03169690000[1]"/>
          <p:cNvPicPr/>
          <p:nvPr/>
        </p:nvPicPr>
        <p:blipFill>
          <a:blip r:embed="rId3"/>
          <a:stretch/>
        </p:blipFill>
        <p:spPr>
          <a:xfrm>
            <a:off x="5791320" y="4648320"/>
            <a:ext cx="2666880" cy="1760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1" descr="MPj01779330000[1]"/>
          <p:cNvPicPr/>
          <p:nvPr/>
        </p:nvPicPr>
        <p:blipFill>
          <a:blip r:embed="rId4"/>
          <a:stretch/>
        </p:blipFill>
        <p:spPr>
          <a:xfrm>
            <a:off x="762120" y="182880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23"/>
          <p:cNvSpPr/>
          <p:nvPr/>
        </p:nvSpPr>
        <p:spPr>
          <a:xfrm>
            <a:off x="1279440" y="655308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Box 8"/>
          <p:cNvSpPr/>
          <p:nvPr/>
        </p:nvSpPr>
        <p:spPr>
          <a:xfrm>
            <a:off x="0" y="6553080"/>
            <a:ext cx="383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Box 9"/>
          <p:cNvSpPr/>
          <p:nvPr/>
        </p:nvSpPr>
        <p:spPr>
          <a:xfrm>
            <a:off x="868680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4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ages in the Product Life Cyc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ory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530280" y="5327640"/>
            <a:ext cx="987480" cy="880920"/>
            <a:chOff x="530280" y="5327640"/>
            <a:chExt cx="987480" cy="880920"/>
          </a:xfrm>
        </p:grpSpPr>
        <p:grpSp>
          <p:nvGrpSpPr>
            <p:cNvPr id="291" name="Group 5"/>
            <p:cNvGrpSpPr/>
            <p:nvPr/>
          </p:nvGrpSpPr>
          <p:grpSpPr>
            <a:xfrm>
              <a:off x="530280" y="5327640"/>
              <a:ext cx="987480" cy="880920"/>
              <a:chOff x="530280" y="5327640"/>
              <a:chExt cx="987480" cy="880920"/>
            </a:xfrm>
          </p:grpSpPr>
          <p:sp>
            <p:nvSpPr>
              <p:cNvPr id="292" name="Rectangle 6"/>
              <p:cNvSpPr/>
              <p:nvPr/>
            </p:nvSpPr>
            <p:spPr>
              <a:xfrm>
                <a:off x="620640" y="5410080"/>
                <a:ext cx="897120" cy="798480"/>
              </a:xfrm>
              <a:prstGeom prst="rect">
                <a:avLst/>
              </a:prstGeom>
              <a:solidFill>
                <a:srgbClr val="adaf00"/>
              </a:solidFill>
              <a:ln w="12600">
                <a:solidFill>
                  <a:srgbClr val="ada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Freeform 7"/>
              <p:cNvSpPr/>
              <p:nvPr/>
            </p:nvSpPr>
            <p:spPr>
              <a:xfrm>
                <a:off x="530280" y="5327640"/>
                <a:ext cx="933480" cy="8352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94" name="Rectangle 8"/>
            <p:cNvSpPr/>
            <p:nvPr/>
          </p:nvSpPr>
          <p:spPr>
            <a:xfrm>
              <a:off x="595800" y="5388120"/>
              <a:ext cx="713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os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5" name="Text Box 9"/>
          <p:cNvSpPr/>
          <p:nvPr/>
        </p:nvSpPr>
        <p:spPr>
          <a:xfrm>
            <a:off x="1279440" y="655308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0" y="6553080"/>
            <a:ext cx="25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Box 10"/>
          <p:cNvSpPr/>
          <p:nvPr/>
        </p:nvSpPr>
        <p:spPr>
          <a:xfrm>
            <a:off x="8686800" y="6553080"/>
            <a:ext cx="6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4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ages in the Product Life Cyc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ory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th and acceptance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530280" y="4630680"/>
            <a:ext cx="2587680" cy="1577880"/>
            <a:chOff x="530280" y="4630680"/>
            <a:chExt cx="2587680" cy="1577880"/>
          </a:xfrm>
        </p:grpSpPr>
        <p:grpSp>
          <p:nvGrpSpPr>
            <p:cNvPr id="301" name="Group 5"/>
            <p:cNvGrpSpPr/>
            <p:nvPr/>
          </p:nvGrpSpPr>
          <p:grpSpPr>
            <a:xfrm>
              <a:off x="530280" y="4630680"/>
              <a:ext cx="2016000" cy="1577880"/>
              <a:chOff x="530280" y="4630680"/>
              <a:chExt cx="2016000" cy="1577880"/>
            </a:xfrm>
          </p:grpSpPr>
          <p:sp>
            <p:nvSpPr>
              <p:cNvPr id="302" name="Rectangle 6"/>
              <p:cNvSpPr/>
              <p:nvPr/>
            </p:nvSpPr>
            <p:spPr>
              <a:xfrm>
                <a:off x="595800" y="5388120"/>
                <a:ext cx="7131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Times New Roman"/>
                  </a:rPr>
                  <a:t>Hig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Times New Roman"/>
                  </a:rPr>
                  <a:t>Costs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Freeform 7"/>
              <p:cNvSpPr/>
              <p:nvPr/>
            </p:nvSpPr>
            <p:spPr>
              <a:xfrm>
                <a:off x="790560" y="4630680"/>
                <a:ext cx="1755720" cy="511200"/>
              </a:xfrm>
              <a:prstGeom prst="pie">
                <a:avLst/>
              </a:prstGeom>
              <a:solidFill>
                <a:srgbClr val="fc0128"/>
              </a:solidFill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8"/>
              <p:cNvSpPr/>
              <p:nvPr/>
            </p:nvSpPr>
            <p:spPr>
              <a:xfrm>
                <a:off x="620640" y="5410080"/>
                <a:ext cx="897120" cy="798480"/>
              </a:xfrm>
              <a:prstGeom prst="rect">
                <a:avLst/>
              </a:prstGeom>
              <a:solidFill>
                <a:srgbClr val="adaf00"/>
              </a:solidFill>
              <a:ln w="12600">
                <a:solidFill>
                  <a:srgbClr val="ada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Freeform 9"/>
              <p:cNvSpPr/>
              <p:nvPr/>
            </p:nvSpPr>
            <p:spPr>
              <a:xfrm>
                <a:off x="530280" y="5327640"/>
                <a:ext cx="933480" cy="8352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06" name="Rectangle 10"/>
            <p:cNvSpPr/>
            <p:nvPr/>
          </p:nvSpPr>
          <p:spPr>
            <a:xfrm>
              <a:off x="2196000" y="5388120"/>
              <a:ext cx="713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os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>
              <a:off x="2220840" y="5410080"/>
              <a:ext cx="897120" cy="79848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Freeform 12"/>
            <p:cNvSpPr/>
            <p:nvPr/>
          </p:nvSpPr>
          <p:spPr>
            <a:xfrm>
              <a:off x="2130480" y="5327640"/>
              <a:ext cx="933480" cy="83520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>
              <a:off x="595800" y="5388120"/>
              <a:ext cx="713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os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>
              <a:off x="2195640" y="5464080"/>
              <a:ext cx="79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lim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1" name="Text Box 15"/>
          <p:cNvSpPr/>
          <p:nvPr/>
        </p:nvSpPr>
        <p:spPr>
          <a:xfrm>
            <a:off x="1279440" y="655308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Box 15"/>
          <p:cNvSpPr/>
          <p:nvPr/>
        </p:nvSpPr>
        <p:spPr>
          <a:xfrm>
            <a:off x="0" y="6553080"/>
            <a:ext cx="25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Box 16"/>
          <p:cNvSpPr/>
          <p:nvPr/>
        </p:nvSpPr>
        <p:spPr>
          <a:xfrm>
            <a:off x="8688960" y="65530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4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ages in the Product Life Cyc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ory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th and acceptance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urity and competition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6" name="Group 4"/>
          <p:cNvGrpSpPr/>
          <p:nvPr/>
        </p:nvGrpSpPr>
        <p:grpSpPr>
          <a:xfrm>
            <a:off x="530280" y="4630680"/>
            <a:ext cx="4248000" cy="1608120"/>
            <a:chOff x="530280" y="4630680"/>
            <a:chExt cx="4248000" cy="1608120"/>
          </a:xfrm>
        </p:grpSpPr>
        <p:grpSp>
          <p:nvGrpSpPr>
            <p:cNvPr id="317" name="Group 5"/>
            <p:cNvGrpSpPr/>
            <p:nvPr/>
          </p:nvGrpSpPr>
          <p:grpSpPr>
            <a:xfrm>
              <a:off x="530280" y="4630680"/>
              <a:ext cx="4248000" cy="1608120"/>
              <a:chOff x="530280" y="4630680"/>
              <a:chExt cx="4248000" cy="1608120"/>
            </a:xfrm>
          </p:grpSpPr>
          <p:sp>
            <p:nvSpPr>
              <p:cNvPr id="318" name="Rectangle 6"/>
              <p:cNvSpPr/>
              <p:nvPr/>
            </p:nvSpPr>
            <p:spPr>
              <a:xfrm>
                <a:off x="595800" y="5388120"/>
                <a:ext cx="7131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Times New Roman"/>
                  </a:rPr>
                  <a:t>Hig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Times New Roman"/>
                  </a:rPr>
                  <a:t>Costs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7"/>
              <p:cNvSpPr/>
              <p:nvPr/>
            </p:nvSpPr>
            <p:spPr>
              <a:xfrm>
                <a:off x="2271600" y="5464080"/>
                <a:ext cx="7909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Times New Roman"/>
                  </a:rPr>
                  <a:t>Sales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Times New Roman"/>
                  </a:rPr>
                  <a:t>Climb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8"/>
              <p:cNvSpPr/>
              <p:nvPr/>
            </p:nvSpPr>
            <p:spPr>
              <a:xfrm>
                <a:off x="3795120" y="5464080"/>
                <a:ext cx="8427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Times New Roman"/>
                  </a:rPr>
                  <a:t>Profits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Times New Roman"/>
                  </a:rPr>
                  <a:t>Peak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9"/>
              <p:cNvSpPr/>
              <p:nvPr/>
            </p:nvSpPr>
            <p:spPr>
              <a:xfrm>
                <a:off x="2684520" y="4716360"/>
                <a:ext cx="1755720" cy="511200"/>
              </a:xfrm>
              <a:prstGeom prst="pie">
                <a:avLst/>
              </a:prstGeom>
              <a:solidFill>
                <a:srgbClr val="fc0128"/>
              </a:solidFill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790560" y="4630680"/>
                <a:ext cx="1755720" cy="511200"/>
              </a:xfrm>
              <a:prstGeom prst="pie">
                <a:avLst/>
              </a:prstGeom>
              <a:solidFill>
                <a:srgbClr val="fc0128"/>
              </a:solidFill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1"/>
              <p:cNvSpPr/>
              <p:nvPr/>
            </p:nvSpPr>
            <p:spPr>
              <a:xfrm>
                <a:off x="620640" y="5410080"/>
                <a:ext cx="897120" cy="798480"/>
              </a:xfrm>
              <a:prstGeom prst="rect">
                <a:avLst/>
              </a:prstGeom>
              <a:solidFill>
                <a:srgbClr val="adaf00"/>
              </a:solidFill>
              <a:ln w="12600">
                <a:solidFill>
                  <a:srgbClr val="ada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2"/>
              <p:cNvSpPr/>
              <p:nvPr/>
            </p:nvSpPr>
            <p:spPr>
              <a:xfrm>
                <a:off x="530280" y="5327640"/>
                <a:ext cx="933480" cy="8352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"/>
              <p:cNvSpPr/>
              <p:nvPr/>
            </p:nvSpPr>
            <p:spPr>
              <a:xfrm>
                <a:off x="2230560" y="5438880"/>
                <a:ext cx="898560" cy="799920"/>
              </a:xfrm>
              <a:prstGeom prst="rect">
                <a:avLst/>
              </a:prstGeom>
              <a:solidFill>
                <a:srgbClr val="adaf00"/>
              </a:solidFill>
              <a:ln w="12600">
                <a:solidFill>
                  <a:srgbClr val="ada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4"/>
              <p:cNvSpPr/>
              <p:nvPr/>
            </p:nvSpPr>
            <p:spPr>
              <a:xfrm>
                <a:off x="2141640" y="5357880"/>
                <a:ext cx="933480" cy="83484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5"/>
              <p:cNvSpPr/>
              <p:nvPr/>
            </p:nvSpPr>
            <p:spPr>
              <a:xfrm>
                <a:off x="3879720" y="5423040"/>
                <a:ext cx="898560" cy="798480"/>
              </a:xfrm>
              <a:prstGeom prst="rect">
                <a:avLst/>
              </a:prstGeom>
              <a:solidFill>
                <a:srgbClr val="adaf00"/>
              </a:solidFill>
              <a:ln w="12600">
                <a:solidFill>
                  <a:srgbClr val="ada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6"/>
              <p:cNvSpPr/>
              <p:nvPr/>
            </p:nvSpPr>
            <p:spPr>
              <a:xfrm>
                <a:off x="3790800" y="5340240"/>
                <a:ext cx="933480" cy="8352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29" name="Rectangle 17"/>
            <p:cNvSpPr/>
            <p:nvPr/>
          </p:nvSpPr>
          <p:spPr>
            <a:xfrm>
              <a:off x="595800" y="5388120"/>
              <a:ext cx="713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os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Rectangle 18"/>
            <p:cNvSpPr/>
            <p:nvPr/>
          </p:nvSpPr>
          <p:spPr>
            <a:xfrm>
              <a:off x="2271600" y="5464080"/>
              <a:ext cx="79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lim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Rectangle 19"/>
            <p:cNvSpPr/>
            <p:nvPr/>
          </p:nvSpPr>
          <p:spPr>
            <a:xfrm>
              <a:off x="3795120" y="5464080"/>
              <a:ext cx="842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rofi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2" name="Text Box 20"/>
          <p:cNvSpPr/>
          <p:nvPr/>
        </p:nvSpPr>
        <p:spPr>
          <a:xfrm>
            <a:off x="1279440" y="655308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0" y="6553080"/>
            <a:ext cx="419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8610480" y="6553080"/>
            <a:ext cx="72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4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ages in the Product Life Cyc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ory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th and acceptance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urity and competition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t saturation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530280" y="4630680"/>
            <a:ext cx="5924520" cy="1611360"/>
            <a:chOff x="530280" y="4630680"/>
            <a:chExt cx="5924520" cy="1611360"/>
          </a:xfrm>
        </p:grpSpPr>
        <p:sp>
          <p:nvSpPr>
            <p:cNvPr id="338" name="Rectangle 5"/>
            <p:cNvSpPr/>
            <p:nvPr/>
          </p:nvSpPr>
          <p:spPr>
            <a:xfrm>
              <a:off x="595800" y="5388120"/>
              <a:ext cx="713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os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2271600" y="5464080"/>
              <a:ext cx="79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lim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3795120" y="5464080"/>
              <a:ext cx="842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rofi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5548320" y="5464080"/>
              <a:ext cx="676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Freeform 9"/>
            <p:cNvSpPr/>
            <p:nvPr/>
          </p:nvSpPr>
          <p:spPr>
            <a:xfrm>
              <a:off x="2684520" y="4716360"/>
              <a:ext cx="1755720" cy="511200"/>
            </a:xfrm>
            <a:prstGeom prst="pie">
              <a:avLst/>
            </a:pr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Freeform 10"/>
            <p:cNvSpPr/>
            <p:nvPr/>
          </p:nvSpPr>
          <p:spPr>
            <a:xfrm>
              <a:off x="790560" y="4630680"/>
              <a:ext cx="1755720" cy="511200"/>
            </a:xfrm>
            <a:prstGeom prst="pie">
              <a:avLst/>
            </a:pr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620640" y="5410080"/>
              <a:ext cx="897120" cy="79848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530280" y="5327640"/>
              <a:ext cx="933480" cy="83520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2230560" y="5438880"/>
              <a:ext cx="898560" cy="79992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2141640" y="5357880"/>
              <a:ext cx="933480" cy="83484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3879720" y="5423040"/>
              <a:ext cx="898560" cy="79848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3790800" y="5340240"/>
              <a:ext cx="933480" cy="83520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4522680" y="4713120"/>
              <a:ext cx="1755720" cy="511200"/>
            </a:xfrm>
            <a:prstGeom prst="pie">
              <a:avLst/>
            </a:pr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5556240" y="5443560"/>
              <a:ext cx="898560" cy="79848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5467320" y="5361120"/>
              <a:ext cx="933480" cy="83484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672120" y="5464080"/>
              <a:ext cx="713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os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Rectangle 21"/>
            <p:cNvSpPr/>
            <p:nvPr/>
          </p:nvSpPr>
          <p:spPr>
            <a:xfrm>
              <a:off x="2271600" y="5464080"/>
              <a:ext cx="790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lim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Rectangle 22"/>
            <p:cNvSpPr/>
            <p:nvPr/>
          </p:nvSpPr>
          <p:spPr>
            <a:xfrm>
              <a:off x="3871080" y="5540400"/>
              <a:ext cx="842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rofi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Rectangle 23"/>
            <p:cNvSpPr/>
            <p:nvPr/>
          </p:nvSpPr>
          <p:spPr>
            <a:xfrm>
              <a:off x="5624280" y="5540400"/>
              <a:ext cx="676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7" name="Text Box 24"/>
          <p:cNvSpPr/>
          <p:nvPr/>
        </p:nvSpPr>
        <p:spPr>
          <a:xfrm>
            <a:off x="1279440" y="662940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Box 24"/>
          <p:cNvSpPr/>
          <p:nvPr/>
        </p:nvSpPr>
        <p:spPr>
          <a:xfrm>
            <a:off x="0" y="6629400"/>
            <a:ext cx="397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Box 25"/>
          <p:cNvSpPr/>
          <p:nvPr/>
        </p:nvSpPr>
        <p:spPr>
          <a:xfrm>
            <a:off x="8610480" y="6629400"/>
            <a:ext cx="72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45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ages in the Product Life Cyc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ory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th and acceptance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urity and competition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t saturation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 decline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Freeform 4"/>
          <p:cNvSpPr/>
          <p:nvPr/>
        </p:nvSpPr>
        <p:spPr>
          <a:xfrm>
            <a:off x="2682720" y="4714920"/>
            <a:ext cx="1751040" cy="507960"/>
          </a:xfrm>
          <a:prstGeom prst="pie">
            <a:avLst/>
          </a:prstGeom>
          <a:solidFill>
            <a:srgbClr val="ff0000"/>
          </a:solidFill>
          <a:ln w="0">
            <a:solidFill>
              <a:srgbClr val="3333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Freeform 5"/>
          <p:cNvSpPr/>
          <p:nvPr/>
        </p:nvSpPr>
        <p:spPr>
          <a:xfrm>
            <a:off x="790560" y="4630680"/>
            <a:ext cx="1751040" cy="506520"/>
          </a:xfrm>
          <a:prstGeom prst="pie">
            <a:avLst/>
          </a:prstGeom>
          <a:solidFill>
            <a:srgbClr val="ff0000"/>
          </a:solidFill>
          <a:ln w="0">
            <a:solidFill>
              <a:srgbClr val="3333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614520" y="5400720"/>
            <a:ext cx="917280" cy="815760"/>
          </a:xfrm>
          <a:prstGeom prst="rect">
            <a:avLst/>
          </a:pr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530280" y="5324400"/>
            <a:ext cx="930240" cy="828720"/>
          </a:xfrm>
          <a:prstGeom prst="rect">
            <a:avLst/>
          </a:prstGeom>
          <a:solidFill>
            <a:srgbClr val="eaeaea"/>
          </a:solidFill>
          <a:ln w="0">
            <a:solidFill>
              <a:srgbClr val="000000"/>
            </a:solidFill>
          </a:ln>
          <a:effectLst>
            <a:outerShdw dist="107932" dir="2700000" blurRad="0" rotWithShape="0">
              <a:srgbClr val="cfd3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3868560" y="5411880"/>
            <a:ext cx="919440" cy="817560"/>
          </a:xfrm>
          <a:prstGeom prst="rect">
            <a:avLst/>
          </a:pr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3786120" y="5337000"/>
            <a:ext cx="930240" cy="828720"/>
          </a:xfrm>
          <a:prstGeom prst="rect">
            <a:avLst/>
          </a:pr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Freeform 12"/>
          <p:cNvSpPr/>
          <p:nvPr/>
        </p:nvSpPr>
        <p:spPr>
          <a:xfrm>
            <a:off x="4518000" y="4711680"/>
            <a:ext cx="1751040" cy="507960"/>
          </a:xfrm>
          <a:prstGeom prst="pie">
            <a:avLst/>
          </a:prstGeom>
          <a:solidFill>
            <a:srgbClr val="ff0000"/>
          </a:solidFill>
          <a:ln w="0">
            <a:solidFill>
              <a:srgbClr val="3333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5543640" y="5432400"/>
            <a:ext cx="919080" cy="816120"/>
          </a:xfrm>
          <a:prstGeom prst="rect">
            <a:avLst/>
          </a:pr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5460840" y="5356080"/>
            <a:ext cx="930600" cy="8287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  <a:effectLst>
            <a:outerShdw dist="107932" dir="2700000" blurRad="0" rotWithShape="0">
              <a:srgbClr val="cfd3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7234200" y="5411880"/>
            <a:ext cx="919080" cy="817560"/>
          </a:xfrm>
          <a:prstGeom prst="rect">
            <a:avLst/>
          </a:pr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7151760" y="5337000"/>
            <a:ext cx="930240" cy="828720"/>
          </a:xfrm>
          <a:prstGeom prst="rect">
            <a:avLst/>
          </a:pr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Freeform 17"/>
          <p:cNvSpPr/>
          <p:nvPr/>
        </p:nvSpPr>
        <p:spPr>
          <a:xfrm>
            <a:off x="6334200" y="4680000"/>
            <a:ext cx="1751040" cy="507960"/>
          </a:xfrm>
          <a:prstGeom prst="pie">
            <a:avLst/>
          </a:prstGeom>
          <a:solidFill>
            <a:srgbClr val="ff0000"/>
          </a:solidFill>
          <a:ln w="0">
            <a:solidFill>
              <a:srgbClr val="3333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 18"/>
          <p:cNvSpPr/>
          <p:nvPr/>
        </p:nvSpPr>
        <p:spPr>
          <a:xfrm>
            <a:off x="595440" y="5464080"/>
            <a:ext cx="928440" cy="63828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  <a:effectLst>
            <a:outerShdw dist="107932" dir="2700000" blurRad="0" rotWithShape="0">
              <a:srgbClr val="cfd3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Rectangle 20"/>
          <p:cNvSpPr/>
          <p:nvPr/>
        </p:nvSpPr>
        <p:spPr>
          <a:xfrm>
            <a:off x="3795840" y="5464080"/>
            <a:ext cx="928440" cy="7081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  <a:effectLst>
            <a:outerShdw dist="107932" dir="2700000" blurRad="0" rotWithShape="0">
              <a:srgbClr val="cfd3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fi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ea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Rectangle 21"/>
          <p:cNvSpPr/>
          <p:nvPr/>
        </p:nvSpPr>
        <p:spPr>
          <a:xfrm>
            <a:off x="5548320" y="5464080"/>
            <a:ext cx="700200" cy="638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cfd3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ea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7162920" y="5311800"/>
            <a:ext cx="985680" cy="91296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  <a:effectLst>
            <a:outerShdw dist="107932" dir="2700000" blurRad="0" rotWithShape="0">
              <a:srgbClr val="cfd3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ales &amp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fi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F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8" name="Group 23"/>
          <p:cNvGrpSpPr/>
          <p:nvPr/>
        </p:nvGrpSpPr>
        <p:grpSpPr>
          <a:xfrm>
            <a:off x="530280" y="4630680"/>
            <a:ext cx="5924520" cy="1611360"/>
            <a:chOff x="530280" y="4630680"/>
            <a:chExt cx="5924520" cy="1611360"/>
          </a:xfrm>
        </p:grpSpPr>
        <p:sp>
          <p:nvSpPr>
            <p:cNvPr id="379" name="Rectangle 24"/>
            <p:cNvSpPr/>
            <p:nvPr/>
          </p:nvSpPr>
          <p:spPr>
            <a:xfrm>
              <a:off x="595800" y="5388120"/>
              <a:ext cx="713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os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2271600" y="5464080"/>
              <a:ext cx="79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lim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3795120" y="5464080"/>
              <a:ext cx="842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rofi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548320" y="5464080"/>
              <a:ext cx="676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28"/>
            <p:cNvSpPr/>
            <p:nvPr/>
          </p:nvSpPr>
          <p:spPr>
            <a:xfrm>
              <a:off x="2684520" y="4716360"/>
              <a:ext cx="1755720" cy="511200"/>
            </a:xfrm>
            <a:prstGeom prst="pie">
              <a:avLst/>
            </a:pr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29"/>
            <p:cNvSpPr/>
            <p:nvPr/>
          </p:nvSpPr>
          <p:spPr>
            <a:xfrm>
              <a:off x="790560" y="4630680"/>
              <a:ext cx="1755720" cy="511200"/>
            </a:xfrm>
            <a:prstGeom prst="pie">
              <a:avLst/>
            </a:pr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Rectangle 30"/>
            <p:cNvSpPr/>
            <p:nvPr/>
          </p:nvSpPr>
          <p:spPr>
            <a:xfrm>
              <a:off x="620640" y="5410080"/>
              <a:ext cx="897120" cy="79848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31"/>
            <p:cNvSpPr/>
            <p:nvPr/>
          </p:nvSpPr>
          <p:spPr>
            <a:xfrm>
              <a:off x="530280" y="5327640"/>
              <a:ext cx="933480" cy="83520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Rectangle 32"/>
            <p:cNvSpPr/>
            <p:nvPr/>
          </p:nvSpPr>
          <p:spPr>
            <a:xfrm>
              <a:off x="2230560" y="5438880"/>
              <a:ext cx="898560" cy="79992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Freeform 33"/>
            <p:cNvSpPr/>
            <p:nvPr/>
          </p:nvSpPr>
          <p:spPr>
            <a:xfrm>
              <a:off x="2141640" y="5357880"/>
              <a:ext cx="933480" cy="83484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Rectangle 34"/>
            <p:cNvSpPr/>
            <p:nvPr/>
          </p:nvSpPr>
          <p:spPr>
            <a:xfrm>
              <a:off x="3879720" y="5423040"/>
              <a:ext cx="898560" cy="79848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35"/>
            <p:cNvSpPr/>
            <p:nvPr/>
          </p:nvSpPr>
          <p:spPr>
            <a:xfrm>
              <a:off x="3790800" y="5340240"/>
              <a:ext cx="933480" cy="83520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36"/>
            <p:cNvSpPr/>
            <p:nvPr/>
          </p:nvSpPr>
          <p:spPr>
            <a:xfrm>
              <a:off x="4522680" y="4713120"/>
              <a:ext cx="1755720" cy="511200"/>
            </a:xfrm>
            <a:prstGeom prst="pie">
              <a:avLst/>
            </a:pr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Rectangle 37"/>
            <p:cNvSpPr/>
            <p:nvPr/>
          </p:nvSpPr>
          <p:spPr>
            <a:xfrm>
              <a:off x="5556240" y="5443560"/>
              <a:ext cx="898560" cy="79848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38"/>
            <p:cNvSpPr/>
            <p:nvPr/>
          </p:nvSpPr>
          <p:spPr>
            <a:xfrm>
              <a:off x="5467320" y="5361120"/>
              <a:ext cx="933480" cy="83484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Rectangle 39"/>
            <p:cNvSpPr/>
            <p:nvPr/>
          </p:nvSpPr>
          <p:spPr>
            <a:xfrm>
              <a:off x="672120" y="5464080"/>
              <a:ext cx="713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os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Rectangle 40"/>
            <p:cNvSpPr/>
            <p:nvPr/>
          </p:nvSpPr>
          <p:spPr>
            <a:xfrm>
              <a:off x="2271600" y="5464080"/>
              <a:ext cx="790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lim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Rectangle 41"/>
            <p:cNvSpPr/>
            <p:nvPr/>
          </p:nvSpPr>
          <p:spPr>
            <a:xfrm>
              <a:off x="3871080" y="5540400"/>
              <a:ext cx="842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rofi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Rectangle 42"/>
            <p:cNvSpPr/>
            <p:nvPr/>
          </p:nvSpPr>
          <p:spPr>
            <a:xfrm>
              <a:off x="5624280" y="5540400"/>
              <a:ext cx="676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8" name="Text Box 43"/>
          <p:cNvSpPr/>
          <p:nvPr/>
        </p:nvSpPr>
        <p:spPr>
          <a:xfrm>
            <a:off x="1279440" y="662940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Box 40"/>
          <p:cNvSpPr/>
          <p:nvPr/>
        </p:nvSpPr>
        <p:spPr>
          <a:xfrm>
            <a:off x="0" y="6629400"/>
            <a:ext cx="235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Box 41"/>
          <p:cNvSpPr/>
          <p:nvPr/>
        </p:nvSpPr>
        <p:spPr>
          <a:xfrm>
            <a:off x="8610480" y="66294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46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Line 2"/>
          <p:cNvSpPr/>
          <p:nvPr/>
        </p:nvSpPr>
        <p:spPr>
          <a:xfrm>
            <a:off x="2209680" y="2133720"/>
            <a:ext cx="510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Line 3"/>
          <p:cNvSpPr/>
          <p:nvPr/>
        </p:nvSpPr>
        <p:spPr>
          <a:xfrm>
            <a:off x="2209680" y="3200400"/>
            <a:ext cx="5181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hannels of Distribution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nsumer Good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158760" y="1606680"/>
            <a:ext cx="19684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158760" y="2749680"/>
            <a:ext cx="19684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7321680" y="1758960"/>
            <a:ext cx="17398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5721480" y="2825640"/>
            <a:ext cx="12826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tai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7397640" y="2825640"/>
            <a:ext cx="17398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10"/>
          <p:cNvSpPr/>
          <p:nvPr/>
        </p:nvSpPr>
        <p:spPr>
          <a:xfrm>
            <a:off x="2131920" y="5791320"/>
            <a:ext cx="5181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11"/>
          <p:cNvSpPr/>
          <p:nvPr/>
        </p:nvSpPr>
        <p:spPr>
          <a:xfrm>
            <a:off x="81000" y="5340240"/>
            <a:ext cx="19684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12"/>
          <p:cNvSpPr/>
          <p:nvPr/>
        </p:nvSpPr>
        <p:spPr>
          <a:xfrm>
            <a:off x="5796000" y="5416560"/>
            <a:ext cx="124452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tai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13"/>
          <p:cNvSpPr/>
          <p:nvPr/>
        </p:nvSpPr>
        <p:spPr>
          <a:xfrm>
            <a:off x="7319880" y="5416560"/>
            <a:ext cx="17398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Rectangle 14"/>
          <p:cNvSpPr/>
          <p:nvPr/>
        </p:nvSpPr>
        <p:spPr>
          <a:xfrm>
            <a:off x="2214720" y="5340240"/>
            <a:ext cx="1589040" cy="90180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Wholesale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3967200" y="5340240"/>
            <a:ext cx="1589040" cy="90180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Wholesale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16"/>
          <p:cNvSpPr/>
          <p:nvPr/>
        </p:nvSpPr>
        <p:spPr>
          <a:xfrm>
            <a:off x="2131920" y="4495680"/>
            <a:ext cx="5181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81000" y="4044960"/>
            <a:ext cx="19684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Rectangle 18"/>
          <p:cNvSpPr/>
          <p:nvPr/>
        </p:nvSpPr>
        <p:spPr>
          <a:xfrm>
            <a:off x="5721480" y="4121280"/>
            <a:ext cx="12412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tai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9"/>
          <p:cNvSpPr/>
          <p:nvPr/>
        </p:nvSpPr>
        <p:spPr>
          <a:xfrm>
            <a:off x="7319880" y="4121280"/>
            <a:ext cx="17398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20"/>
          <p:cNvSpPr/>
          <p:nvPr/>
        </p:nvSpPr>
        <p:spPr>
          <a:xfrm>
            <a:off x="2290680" y="4044960"/>
            <a:ext cx="1643040" cy="90180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Wholesale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21"/>
          <p:cNvSpPr/>
          <p:nvPr/>
        </p:nvSpPr>
        <p:spPr>
          <a:xfrm>
            <a:off x="1279440" y="655308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Box 21"/>
          <p:cNvSpPr/>
          <p:nvPr/>
        </p:nvSpPr>
        <p:spPr>
          <a:xfrm>
            <a:off x="0" y="6553080"/>
            <a:ext cx="235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Box 22"/>
          <p:cNvSpPr/>
          <p:nvPr/>
        </p:nvSpPr>
        <p:spPr>
          <a:xfrm>
            <a:off x="8610480" y="65530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4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2"/>
          <p:cNvSpPr/>
          <p:nvPr/>
        </p:nvSpPr>
        <p:spPr>
          <a:xfrm>
            <a:off x="2209680" y="2133720"/>
            <a:ext cx="4419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hannels of Distribution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Industrial Good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158760" y="1606680"/>
            <a:ext cx="19684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6635880" y="1758960"/>
            <a:ext cx="24256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ustrial Us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2131920" y="4495680"/>
            <a:ext cx="4573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81000" y="4044960"/>
            <a:ext cx="19684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3720960" y="4121280"/>
            <a:ext cx="1683000" cy="90144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olesa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6711840" y="4121280"/>
            <a:ext cx="24256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ustrial Us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1279440" y="655308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0" y="6553080"/>
            <a:ext cx="41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8610480" y="65530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4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E3120801-DBDF-48C1-84CA-7F9890B28D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inpointing the Target Marke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6629400" cy="41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step: Identify the company'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arget mark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the group of customers at whom the company aims its products or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effective marketing program depends on a clear, concise definition of the firm's targeted customer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“one-size-fits-all approach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6" descr="MPj03090400000[1]"/>
          <p:cNvPicPr/>
          <p:nvPr/>
        </p:nvPicPr>
        <p:blipFill>
          <a:blip r:embed="rId1"/>
          <a:stretch/>
        </p:blipFill>
        <p:spPr>
          <a:xfrm>
            <a:off x="6629400" y="5029200"/>
            <a:ext cx="2298600" cy="154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7AE6B669-D0CB-41DF-B0AD-E35D7A8C738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8610840" cy="11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inpointing the Target Marke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162920" cy="40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Key: Understanding target customers’ unique needs, wants, and preference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pportunity: Increasing populations of multicultural custome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arget customer must permeate the entire busines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MPj03090400000[1]"/>
          <p:cNvPicPr/>
          <p:nvPr/>
        </p:nvPicPr>
        <p:blipFill>
          <a:blip r:embed="rId1"/>
          <a:stretch/>
        </p:blipFill>
        <p:spPr>
          <a:xfrm>
            <a:off x="6248520" y="4800600"/>
            <a:ext cx="2438280" cy="1638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3C44DC54-A26B-471C-B27A-4D3457425F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914040"/>
            <a:ext cx="6999480" cy="76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rket Researc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ket research - the vehicle for gathering the information that serves as the foundation for the marketing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ow to Conduct Market Researc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the obje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 th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How to Become an Effective One-to-One Marketer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378080" y="920880"/>
            <a:ext cx="2501640" cy="90144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dentify your best customers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never passing up th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opportunity to get their nam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63680" y="2444760"/>
            <a:ext cx="2501640" cy="90180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ollect information on the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ustomers, linking thei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dentities to their transaction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63680" y="4654440"/>
            <a:ext cx="2577960" cy="90180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alculate the long-term valu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of customers so you know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which ones are most desirabl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(and most profitable).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2895480" y="1523880"/>
          <a:ext cx="4098960" cy="39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523880"/>
                    <a:ext cx="409896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7"/>
          <p:cNvSpPr/>
          <p:nvPr/>
        </p:nvSpPr>
        <p:spPr>
          <a:xfrm>
            <a:off x="4098240" y="3110040"/>
            <a:ext cx="1725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ccess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ne-to-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435480" y="5486400"/>
            <a:ext cx="2806560" cy="106668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Know what your customers’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buying cycle is and time you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marketing efforts to coincid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with it - “just-in-time marketing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6635880" y="4578480"/>
            <a:ext cx="2349360" cy="90144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Make sure your company’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roduct and service qual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will astonish your customer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7016760" y="2292480"/>
            <a:ext cx="2044800" cy="151128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ee customer complaint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for what they are - 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hance to improv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your service and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quality. Encourag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omplaints and the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fix them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416560" y="920880"/>
            <a:ext cx="2654280" cy="90144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nhance your products an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ervices by giving customer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nformation about them and how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to use them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0" y="6172200"/>
            <a:ext cx="3198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ource: Adapted from Susan Greco, “The Road to One-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o-One Marketing,” 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Inc.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October 1995, pp. 56-66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2971800" y="6629400"/>
            <a:ext cx="434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0" y="6629400"/>
            <a:ext cx="39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8763120" y="66294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B1587268-6A31-4FDC-A7EB-A9DD073EA98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6999120" cy="76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rket Researc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4952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nalyze and interpret the dat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ut the information to 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22320" y="1866960"/>
            <a:ext cx="792468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rket research is the vehicle for gathering the information that serves as the foundation for the marketing pla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How to Conduct Market Research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fine the objectiv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llect the dat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4B76237F-6E7F-44C7-B0A9-90A6D66751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lationship Market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ves developing, maintaining, and managing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ong-term relationship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customers so that they will keep coming back to make repeat purch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d database of customer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best and most profitable custo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lasting relationships with these custo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ract more customers like t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PE03301A"/>
          <p:cNvPicPr/>
          <p:nvPr/>
        </p:nvPicPr>
        <p:blipFill>
          <a:blip r:embed="rId1"/>
          <a:stretch/>
        </p:blipFill>
        <p:spPr>
          <a:xfrm>
            <a:off x="7162920" y="5029200"/>
            <a:ext cx="1574640" cy="162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2:38:13Z</dcterms:created>
  <dc:creator>Norman M. Scarborough</dc:creator>
  <dc:description>Esentials, 2/e.</dc:description>
  <cp:keywords/>
  <dc:language>en-US</dc:language>
  <cp:lastModifiedBy>UsEr</cp:lastModifiedBy>
  <cp:lastPrinted>1995-03-21T17:16:20Z</cp:lastPrinted>
  <dcterms:modified xsi:type="dcterms:W3CDTF">2015-09-13T12:20:23Z</dcterms:modified>
  <cp:revision>129</cp:revision>
  <dc:subject/>
  <dc:title> Chapter 1:The Foundations of Entrepreneurship</dc:title>
</cp:coreProperties>
</file>