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4.jpeg" ContentType="image/jpeg"/>
  <Override PartName="/ppt/media/image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6A51-D9F5-4D6B-AB2B-71230E04D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FA91-64FC-4781-B965-F973E3F93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050C-D0E9-4DC6-8962-E70E3A2CA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8938-4E47-470F-B811-C550EFD81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CD049-87A0-4B56-92DB-E8A77146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8DB6C-2EE9-493A-AD6B-B81F28F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FA790-7A49-4922-8C84-37F7211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D1D9D-1A14-4B55-9DC3-CE934FC6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B05EA-8F3A-4440-A157-F4C4EBFC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D8E8D-510B-479B-8CE3-1DAB3AA9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8A9E1-12C2-4205-93F0-5BC9A86D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B2E6-9FB3-427B-8703-259488596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B5337-6623-4D2B-B1BE-222E780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B0250-8D48-453D-BFEC-8E6AD51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9A759-4DF5-4AE3-AC07-871FABD5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306F5-CC05-4378-A628-E01E93FF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A588D-0478-4597-95C0-EBC5BE85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D2702-BE58-4A1E-BDDF-DFF2BE843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C111-E5B7-44C7-B496-23C504712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75E1-23EE-48D5-8FE0-4BBEA206D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E7FB-191D-4F47-AB78-7A21EA189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8C06-2BE9-4817-9CAA-88C36EB74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465F-4C14-4952-AF29-8195294F5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E660-D0AD-486C-A986-E6002F118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286000" y="6575040"/>
            <a:ext cx="495288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9-</a:t>
            </a:r>
            <a:fld id="{54A1B1EE-ABDF-4C62-91B4-A9ADC6EFFA9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1160" y="6576840"/>
            <a:ext cx="2895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487-0935-403E-AB76-D94C332FE5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06C2D393-60E1-4452-91CF-8957B417343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77680" y="863640"/>
            <a:ext cx="5283000" cy="227016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txBody>
          <a:bodyPr lIns="88920" rIns="88920" tIns="46080" bIns="46080" anchor="ctr">
            <a:noAutofit/>
          </a:bodyPr>
          <a:p>
            <a:pPr marL="316080"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uilding a Guerrilla Marketing Plan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7" descr="MPj03960520000[1]"/>
          <p:cNvPicPr/>
          <p:nvPr/>
        </p:nvPicPr>
        <p:blipFill>
          <a:blip r:embed="rId1"/>
          <a:stretch/>
        </p:blipFill>
        <p:spPr>
          <a:xfrm>
            <a:off x="2514600" y="3733920"/>
            <a:ext cx="3255840" cy="216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1320597F-89D4-4DE5-A443-8676751155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errilla Marketing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02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a niche and fill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power of publ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just sell; entertain – “entertailing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with customers on an emotional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a consistent branding strateg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mbrace social networ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1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28E60B93-7CB3-4663-B066-1FF0D05799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cquiring Customers via Social Medi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719136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0" y="6248520"/>
            <a:ext cx="353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ource: The State of Inbound Marketing, 2010, HubSpot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85076691-0A53-481B-9340-2005D440F9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85320" y="333000"/>
            <a:ext cx="66042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Embrace Social Network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nies that are highly engaged in social media significantly outperform in both revenues and profits those companies that are less enga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nies that use Twitter generate 2x as many sales leads as companies that do no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, only 24% of small businesses use social media to attract new customers or connect with existing 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MPj04020150000[1]"/>
          <p:cNvPicPr/>
          <p:nvPr/>
        </p:nvPicPr>
        <p:blipFill>
          <a:blip r:embed="rId1"/>
          <a:srcRect l="0" t="0" r="14183" b="0"/>
          <a:stretch/>
        </p:blipFill>
        <p:spPr>
          <a:xfrm>
            <a:off x="6789600" y="-27000"/>
            <a:ext cx="2354400" cy="1879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372A1E91-24DA-4882-A6B5-86A90F7706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5320" y="333000"/>
            <a:ext cx="66042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eate Online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ide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et users watch 31 billion videos online each mont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 “edutainmen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fun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videos on multiple social media s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a point of different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it sh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MPj04020150000[1]"/>
          <p:cNvPicPr/>
          <p:nvPr/>
        </p:nvPicPr>
        <p:blipFill>
          <a:blip r:embed="rId1"/>
          <a:srcRect l="0" t="0" r="14183" b="0"/>
          <a:stretch/>
        </p:blipFill>
        <p:spPr>
          <a:xfrm>
            <a:off x="6789600" y="-27000"/>
            <a:ext cx="2354400" cy="1879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51F6BA2C-F3E2-4711-8D2B-8E24D2893F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6797520" cy="99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uerrilla Marketing Principles (continued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68320" y="1828440"/>
            <a:ext cx="7818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ocus on the Custom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companies lose $83 billion in sales each year because of poor customer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very complaint a company receives, 17 other complaints exist, but the company never hears about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91D744F5-ED17-4210-982C-BCDAEDE1A2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ocus on the Customer (continu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1% will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y from that business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1% will tell others about their negative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word of mouth has exponential power – many people avoid a store just because of someone else’s negative experience with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3F238490-3C6F-48F0-88AB-BE5E9AC066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7818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70% of a company’s sales come from existing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ing shoppers to customize their products has the power to increase customer retention, satisfaction, and profi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tain Existing Customers (continued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DA498F81-009E-48E9-855D-BD14AE96E1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ality Guideli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 quality into the process; don’t rely on inspection to obtain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ze simplicity in de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ster team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long-term ties with select suppl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managers and employees with the training needed to produce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 workers at all levels of the organ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7BCF8FA3-0EEE-41F7-BDA0-0F857DDBB2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ality Guideli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managers’ commitment to the quality philoso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hink the processes the company uses now. Is there a better w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ard employees for quality work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 company-wide strategy for continuous improvement of product and service quality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7673040" y="152388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F273F843-6929-4384-B6B2-BE88C7161F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errilla Marketing Principles (continue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5" name="Picture 4" descr="mili0098"/>
          <p:cNvPicPr/>
          <p:nvPr/>
        </p:nvPicPr>
        <p:blipFill>
          <a:blip r:embed="rId1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7"/>
          <p:cNvSpPr/>
          <p:nvPr/>
        </p:nvSpPr>
        <p:spPr>
          <a:xfrm>
            <a:off x="1219320" y="2057400"/>
            <a:ext cx="6708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ttention to conven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ntration on Inno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dication to Service and Customer 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hasis on 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9E6251F8-C3C6-4C2B-B36B-7F53664D79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rket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cess of creating and delivering desired goods and services to customers; involves all of the activities associated with winning and retaining loyal custo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s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stand target customers’ needs, demands, and wants before competitors c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fer them products and services to satisfy those needs, demands, and w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customers with quality, service, convenience, and value so they will keep coming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A3801D03-2753-48D2-BFDA-E0DBA282B4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your business conveniently located near custom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r business hours suitable to your custom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uld customers appreciate pickup and delivery servic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your company make it easy for customers to buy on credit or with credit car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7396200" cy="94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tention to Conveni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D2F045F3-AD8E-4968-AA31-C1E2D81F25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396200" cy="94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tention to Conveni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 using technology to enhance customer convenien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r employees trained to handle business transactions quickly, efficiently, and politel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your employees use common courtesy when dealing with custom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D6A23EFF-531D-436F-AF54-00815F2362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396200" cy="94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tention to Conveni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your company offer “extras” to make customers’ lives eas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you adapt existing products to make them more convenient for customer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your company handle telephone calls wel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39531F1D-F2E7-45E2-8E65-190454E60F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00100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entration on Innov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ovation - the key to future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ovation - one of the greatest strengths of the entrepreneur, showing up in the new products, techniques, and unusual approaches they introduc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6" descr="j0297707"/>
          <p:cNvPicPr/>
          <p:nvPr/>
        </p:nvPicPr>
        <p:blipFill>
          <a:blip r:embed="rId1"/>
          <a:stretch/>
        </p:blipFill>
        <p:spPr>
          <a:xfrm>
            <a:off x="7664400" y="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F6062C79-514A-4347-A9D9-40A4D3BA9C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00100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entration on Innov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 Development and Management Association Study of top performing companies across 400 industries: New products accounted for 49% of profits, more than twice as much as their less innovative competitor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5" descr="j0297707"/>
          <p:cNvPicPr/>
          <p:nvPr/>
        </p:nvPicPr>
        <p:blipFill>
          <a:blip r:embed="rId1"/>
          <a:stretch/>
        </p:blipFill>
        <p:spPr>
          <a:xfrm>
            <a:off x="7664400" y="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027F595E-6668-4C45-8FF0-69F845592C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imulating Innov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nnovation a priority in the compa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the company’s innovative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goals and objectives for inno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new product or service ideas among employ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 to custom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be on the lookout for new product and service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a steady stream of new products and services coming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10" descr="MPj03211770000[1]"/>
          <p:cNvPicPr/>
          <p:nvPr/>
        </p:nvPicPr>
        <p:blipFill>
          <a:blip r:embed="rId1"/>
          <a:stretch/>
        </p:blipFill>
        <p:spPr>
          <a:xfrm>
            <a:off x="7785000" y="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8061326A-33A0-40CE-9272-46D5EC7164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errilla Marketing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2" name="Picture 4" descr="mili0098"/>
          <p:cNvPicPr/>
          <p:nvPr/>
        </p:nvPicPr>
        <p:blipFill>
          <a:blip r:embed="rId1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1066680" y="2133720"/>
            <a:ext cx="6705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ention to conven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ntration on inno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990720" y="2819520"/>
            <a:ext cx="6708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081080" y="3352680"/>
            <a:ext cx="6708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dication to service and customer 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D37AF993-A820-4E8E-9B42-818016970A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o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o achie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ustomer astonish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ow can you improve your servi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 to cust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“superior servic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standards and measure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ine your company’s service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re the right employ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1898640" y="1290600"/>
            <a:ext cx="565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7" descr="MPj03960700000[1]"/>
          <p:cNvPicPr/>
          <p:nvPr/>
        </p:nvPicPr>
        <p:blipFill>
          <a:blip r:embed="rId1"/>
          <a:stretch/>
        </p:blipFill>
        <p:spPr>
          <a:xfrm>
            <a:off x="7880400" y="0"/>
            <a:ext cx="1212840" cy="18288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990720" y="685440"/>
            <a:ext cx="66564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dication to Serv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F73128C2-B9C5-4145-9FBF-3A753BF0D2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66564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dication to Serv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 employees to deliver superi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 employees to offer superi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echnology to provide improved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ward superio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top managers'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customers an unexpected surp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6" descr="MPj03960700000[1]"/>
          <p:cNvPicPr/>
          <p:nvPr/>
        </p:nvPicPr>
        <p:blipFill>
          <a:blip r:embed="rId1"/>
          <a:stretch/>
        </p:blipFill>
        <p:spPr>
          <a:xfrm>
            <a:off x="7880400" y="0"/>
            <a:ext cx="121284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F3CD81AA-4C25-46D4-ADE3-A35677E4DF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38188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errilla Marketing 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62" name="Picture 4" descr="mili0098"/>
          <p:cNvPicPr/>
          <p:nvPr/>
        </p:nvPicPr>
        <p:blipFill>
          <a:blip r:embed="rId1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"/>
          <p:cNvSpPr/>
          <p:nvPr/>
        </p:nvSpPr>
        <p:spPr>
          <a:xfrm>
            <a:off x="1295280" y="2057400"/>
            <a:ext cx="6556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ention to conven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ntration on inno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dication to service and customer satisf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511280" y="4038480"/>
            <a:ext cx="6708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523880" y="4648320"/>
            <a:ext cx="6708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295280" y="4287960"/>
            <a:ext cx="6708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mphasis on 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F88FEF71-B598-4077-B989-6896EAF1AE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our Objectives of a Guerrilla Marketing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point the target markets a company will s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customer needs, wants, and characteristics through market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 a company’s competitive advantages and build a marketing strategy around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marketing mix that meets customer needs and w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ACB40CCA-6477-4BFB-A9C1-6E4E122F43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rcRect l="23521" t="31506" r="24900" b="34584"/>
          <a:stretch/>
        </p:blipFill>
        <p:spPr>
          <a:xfrm>
            <a:off x="6934320" y="914400"/>
            <a:ext cx="2209680" cy="920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597060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mphasis on Spe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aspects of TCM - Time Compression Manage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Speeding new products to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Shortening customer response time in         manufacturing and deli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Reducing the administrative time required to fill an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nies using TCM have discovered that manufacturing takes only 5% - 10% of total lead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70297A45-24E6-4DAB-8372-76B2874770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-engineer the process rather than try to do the same things - only f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y every phase of the business process, looking for ways to shorte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cross-functional teams of workers and empower them to attack and solve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nformation and ideas across the compa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aggressive goals for production and stick to the sched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ill speed in the company cul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echnology to find shortcuts wherever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3879720" y="1432080"/>
            <a:ext cx="9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90360" y="762120"/>
            <a:ext cx="597060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mphasis on Spe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23521" t="31506" r="24900" b="34584"/>
          <a:stretch/>
        </p:blipFill>
        <p:spPr>
          <a:xfrm>
            <a:off x="6934320" y="914400"/>
            <a:ext cx="2209680" cy="92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734920" y="612360"/>
            <a:ext cx="488484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Tahoma"/>
              </a:rPr>
              <a:t>The Marketing Mix</a:t>
            </a:r>
            <a:endParaRPr b="1" lang="en-US" sz="3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506400" y="2057400"/>
            <a:ext cx="3360600" cy="29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1" name="Picture 7" descr="j0213527"/>
          <p:cNvPicPr/>
          <p:nvPr/>
        </p:nvPicPr>
        <p:blipFill>
          <a:blip r:embed="rId1"/>
          <a:stretch/>
        </p:blipFill>
        <p:spPr>
          <a:xfrm>
            <a:off x="1676520" y="3886200"/>
            <a:ext cx="127944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MPj03827010000[1]"/>
          <p:cNvPicPr/>
          <p:nvPr/>
        </p:nvPicPr>
        <p:blipFill>
          <a:blip r:embed="rId2"/>
          <a:stretch/>
        </p:blipFill>
        <p:spPr>
          <a:xfrm>
            <a:off x="5867280" y="1981080"/>
            <a:ext cx="2210040" cy="1578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MPj03169690000[1]"/>
          <p:cNvPicPr/>
          <p:nvPr/>
        </p:nvPicPr>
        <p:blipFill>
          <a:blip r:embed="rId3"/>
          <a:stretch/>
        </p:blipFill>
        <p:spPr>
          <a:xfrm>
            <a:off x="5791320" y="4648320"/>
            <a:ext cx="2666880" cy="1760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MPj01779330000[1]"/>
          <p:cNvPicPr/>
          <p:nvPr/>
        </p:nvPicPr>
        <p:blipFill>
          <a:blip r:embed="rId4"/>
          <a:stretch/>
        </p:blipFill>
        <p:spPr>
          <a:xfrm>
            <a:off x="762120" y="182880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3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0" y="6553080"/>
            <a:ext cx="383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Box 9"/>
          <p:cNvSpPr/>
          <p:nvPr/>
        </p:nvSpPr>
        <p:spPr>
          <a:xfrm>
            <a:off x="868680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30280" y="5327640"/>
            <a:ext cx="987480" cy="880920"/>
            <a:chOff x="530280" y="5327640"/>
            <a:chExt cx="987480" cy="880920"/>
          </a:xfrm>
        </p:grpSpPr>
        <p:grpSp>
          <p:nvGrpSpPr>
            <p:cNvPr id="291" name="Group 5"/>
            <p:cNvGrpSpPr/>
            <p:nvPr/>
          </p:nvGrpSpPr>
          <p:grpSpPr>
            <a:xfrm>
              <a:off x="530280" y="5327640"/>
              <a:ext cx="987480" cy="880920"/>
              <a:chOff x="530280" y="5327640"/>
              <a:chExt cx="987480" cy="880920"/>
            </a:xfrm>
          </p:grpSpPr>
          <p:sp>
            <p:nvSpPr>
              <p:cNvPr id="292" name="Rectangle 6"/>
              <p:cNvSpPr/>
              <p:nvPr/>
            </p:nvSpPr>
            <p:spPr>
              <a:xfrm>
                <a:off x="620640" y="5410080"/>
                <a:ext cx="897120" cy="79848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7"/>
              <p:cNvSpPr/>
              <p:nvPr/>
            </p:nvSpPr>
            <p:spPr>
              <a:xfrm>
                <a:off x="530280" y="5327640"/>
                <a:ext cx="933480" cy="835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94" name="Rectangle 8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5" name="Text Box 9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0" y="6553080"/>
            <a:ext cx="25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Box 10"/>
          <p:cNvSpPr/>
          <p:nvPr/>
        </p:nvSpPr>
        <p:spPr>
          <a:xfrm>
            <a:off x="8686800" y="6553080"/>
            <a:ext cx="6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and acceptanc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530280" y="4630680"/>
            <a:ext cx="2587680" cy="1577880"/>
            <a:chOff x="530280" y="4630680"/>
            <a:chExt cx="2587680" cy="1577880"/>
          </a:xfrm>
        </p:grpSpPr>
        <p:grpSp>
          <p:nvGrpSpPr>
            <p:cNvPr id="301" name="Group 5"/>
            <p:cNvGrpSpPr/>
            <p:nvPr/>
          </p:nvGrpSpPr>
          <p:grpSpPr>
            <a:xfrm>
              <a:off x="530280" y="4630680"/>
              <a:ext cx="2016000" cy="1577880"/>
              <a:chOff x="530280" y="4630680"/>
              <a:chExt cx="2016000" cy="1577880"/>
            </a:xfrm>
          </p:grpSpPr>
          <p:sp>
            <p:nvSpPr>
              <p:cNvPr id="302" name="Rectangle 6"/>
              <p:cNvSpPr/>
              <p:nvPr/>
            </p:nvSpPr>
            <p:spPr>
              <a:xfrm>
                <a:off x="595800" y="5388120"/>
                <a:ext cx="7131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Costs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Freeform 7"/>
              <p:cNvSpPr/>
              <p:nvPr/>
            </p:nvSpPr>
            <p:spPr>
              <a:xfrm>
                <a:off x="790560" y="4630680"/>
                <a:ext cx="1755720" cy="511200"/>
              </a:xfrm>
              <a:prstGeom prst="pie">
                <a:avLst/>
              </a:pr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8"/>
              <p:cNvSpPr/>
              <p:nvPr/>
            </p:nvSpPr>
            <p:spPr>
              <a:xfrm>
                <a:off x="620640" y="5410080"/>
                <a:ext cx="897120" cy="79848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Freeform 9"/>
              <p:cNvSpPr/>
              <p:nvPr/>
            </p:nvSpPr>
            <p:spPr>
              <a:xfrm>
                <a:off x="530280" y="5327640"/>
                <a:ext cx="933480" cy="835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06" name="Rectangle 10"/>
            <p:cNvSpPr/>
            <p:nvPr/>
          </p:nvSpPr>
          <p:spPr>
            <a:xfrm>
              <a:off x="21960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220840" y="5410080"/>
              <a:ext cx="89712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12"/>
            <p:cNvSpPr/>
            <p:nvPr/>
          </p:nvSpPr>
          <p:spPr>
            <a:xfrm>
              <a:off x="2130480" y="53276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>
              <a:off x="2195640" y="5464080"/>
              <a:ext cx="79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Text Box 15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Box 15"/>
          <p:cNvSpPr/>
          <p:nvPr/>
        </p:nvSpPr>
        <p:spPr>
          <a:xfrm>
            <a:off x="0" y="6553080"/>
            <a:ext cx="25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Box 16"/>
          <p:cNvSpPr/>
          <p:nvPr/>
        </p:nvSpPr>
        <p:spPr>
          <a:xfrm>
            <a:off x="8688960" y="65530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and acceptanc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 and competi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530280" y="4630680"/>
            <a:ext cx="4248000" cy="1608120"/>
            <a:chOff x="530280" y="4630680"/>
            <a:chExt cx="4248000" cy="1608120"/>
          </a:xfrm>
        </p:grpSpPr>
        <p:grpSp>
          <p:nvGrpSpPr>
            <p:cNvPr id="317" name="Group 5"/>
            <p:cNvGrpSpPr/>
            <p:nvPr/>
          </p:nvGrpSpPr>
          <p:grpSpPr>
            <a:xfrm>
              <a:off x="530280" y="4630680"/>
              <a:ext cx="4248000" cy="1608120"/>
              <a:chOff x="530280" y="4630680"/>
              <a:chExt cx="4248000" cy="160812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595800" y="5388120"/>
                <a:ext cx="7131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Costs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7"/>
              <p:cNvSpPr/>
              <p:nvPr/>
            </p:nvSpPr>
            <p:spPr>
              <a:xfrm>
                <a:off x="2271600" y="5464080"/>
                <a:ext cx="790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Sales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Climb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8"/>
              <p:cNvSpPr/>
              <p:nvPr/>
            </p:nvSpPr>
            <p:spPr>
              <a:xfrm>
                <a:off x="3795120" y="5464080"/>
                <a:ext cx="8427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Profits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Times New Roman"/>
                  </a:rPr>
                  <a:t>Peak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2684520" y="4716360"/>
                <a:ext cx="1755720" cy="511200"/>
              </a:xfrm>
              <a:prstGeom prst="pie">
                <a:avLst/>
              </a:pr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790560" y="4630680"/>
                <a:ext cx="1755720" cy="511200"/>
              </a:xfrm>
              <a:prstGeom prst="pie">
                <a:avLst/>
              </a:prstGeom>
              <a:solidFill>
                <a:srgbClr val="fc0128"/>
              </a:solidFill>
              <a:ln cap="rnd"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1"/>
              <p:cNvSpPr/>
              <p:nvPr/>
            </p:nvSpPr>
            <p:spPr>
              <a:xfrm>
                <a:off x="620640" y="5410080"/>
                <a:ext cx="897120" cy="79848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530280" y="5327640"/>
                <a:ext cx="933480" cy="835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"/>
              <p:cNvSpPr/>
              <p:nvPr/>
            </p:nvSpPr>
            <p:spPr>
              <a:xfrm>
                <a:off x="2230560" y="5438880"/>
                <a:ext cx="898560" cy="79992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2141640" y="5357880"/>
                <a:ext cx="933480" cy="83484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3879720" y="5423040"/>
                <a:ext cx="898560" cy="798480"/>
              </a:xfrm>
              <a:prstGeom prst="rect">
                <a:avLst/>
              </a:prstGeom>
              <a:solidFill>
                <a:srgbClr val="adaf00"/>
              </a:solidFill>
              <a:ln w="12600">
                <a:solidFill>
                  <a:srgbClr val="ada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6"/>
              <p:cNvSpPr/>
              <p:nvPr/>
            </p:nvSpPr>
            <p:spPr>
              <a:xfrm>
                <a:off x="3790800" y="5340240"/>
                <a:ext cx="933480" cy="835200"/>
              </a:xfrm>
              <a:prstGeom prst="pie">
                <a:avLst/>
              </a:pr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9" name="Rectangle 17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18"/>
            <p:cNvSpPr/>
            <p:nvPr/>
          </p:nvSpPr>
          <p:spPr>
            <a:xfrm>
              <a:off x="2271600" y="5464080"/>
              <a:ext cx="79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19"/>
            <p:cNvSpPr/>
            <p:nvPr/>
          </p:nvSpPr>
          <p:spPr>
            <a:xfrm>
              <a:off x="3795120" y="546408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2" name="Text Box 20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0" y="6553080"/>
            <a:ext cx="419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8610480" y="6553080"/>
            <a:ext cx="72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and acceptanc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 and competi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 satura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530280" y="4630680"/>
            <a:ext cx="5924520" cy="1611360"/>
            <a:chOff x="530280" y="4630680"/>
            <a:chExt cx="5924520" cy="1611360"/>
          </a:xfrm>
        </p:grpSpPr>
        <p:sp>
          <p:nvSpPr>
            <p:cNvPr id="338" name="Rectangle 5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2271600" y="5464080"/>
              <a:ext cx="79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795120" y="546408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5548320" y="5464080"/>
              <a:ext cx="676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Freeform 9"/>
            <p:cNvSpPr/>
            <p:nvPr/>
          </p:nvSpPr>
          <p:spPr>
            <a:xfrm>
              <a:off x="2684520" y="471636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Freeform 10"/>
            <p:cNvSpPr/>
            <p:nvPr/>
          </p:nvSpPr>
          <p:spPr>
            <a:xfrm>
              <a:off x="790560" y="463068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620640" y="5410080"/>
              <a:ext cx="89712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530280" y="53276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2230560" y="5438880"/>
              <a:ext cx="898560" cy="79992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2141640" y="5357880"/>
              <a:ext cx="933480" cy="83484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879720" y="5423040"/>
              <a:ext cx="89856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3790800" y="53402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4522680" y="471312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5556240" y="5443560"/>
              <a:ext cx="89856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5467320" y="5361120"/>
              <a:ext cx="933480" cy="83484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672120" y="546408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2271600" y="5464080"/>
              <a:ext cx="7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71080" y="554040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5624280" y="5540400"/>
              <a:ext cx="676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7" name="Text Box 24"/>
          <p:cNvSpPr/>
          <p:nvPr/>
        </p:nvSpPr>
        <p:spPr>
          <a:xfrm>
            <a:off x="1279440" y="662940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0" y="6629400"/>
            <a:ext cx="39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8610480" y="6629400"/>
            <a:ext cx="72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5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ges in the Product Life Cyc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ory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and acceptanc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urity and competi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 saturation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 decline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Freeform 4"/>
          <p:cNvSpPr/>
          <p:nvPr/>
        </p:nvSpPr>
        <p:spPr>
          <a:xfrm>
            <a:off x="2682720" y="4714920"/>
            <a:ext cx="1751040" cy="507960"/>
          </a:xfrm>
          <a:prstGeom prst="pie">
            <a:avLst/>
          </a:prstGeom>
          <a:solidFill>
            <a:srgbClr val="ff0000"/>
          </a:solidFill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reeform 5"/>
          <p:cNvSpPr/>
          <p:nvPr/>
        </p:nvSpPr>
        <p:spPr>
          <a:xfrm>
            <a:off x="790560" y="4630680"/>
            <a:ext cx="1751040" cy="506520"/>
          </a:xfrm>
          <a:prstGeom prst="pie">
            <a:avLst/>
          </a:prstGeom>
          <a:solidFill>
            <a:srgbClr val="ff0000"/>
          </a:solidFill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14520" y="5400720"/>
            <a:ext cx="917280" cy="81576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0280" y="5324400"/>
            <a:ext cx="930240" cy="828720"/>
          </a:xfrm>
          <a:prstGeom prst="rect">
            <a:avLst/>
          </a:prstGeom>
          <a:solidFill>
            <a:srgbClr val="eaeaea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3868560" y="5411880"/>
            <a:ext cx="919440" cy="81756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3786120" y="5337000"/>
            <a:ext cx="930240" cy="82872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reeform 12"/>
          <p:cNvSpPr/>
          <p:nvPr/>
        </p:nvSpPr>
        <p:spPr>
          <a:xfrm>
            <a:off x="4518000" y="4711680"/>
            <a:ext cx="1751040" cy="507960"/>
          </a:xfrm>
          <a:prstGeom prst="pie">
            <a:avLst/>
          </a:prstGeom>
          <a:solidFill>
            <a:srgbClr val="ff0000"/>
          </a:solidFill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5543640" y="5432400"/>
            <a:ext cx="919080" cy="81612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60840" y="5356080"/>
            <a:ext cx="930600" cy="8287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7234200" y="5411880"/>
            <a:ext cx="919080" cy="817560"/>
          </a:xfrm>
          <a:prstGeom prst="rect">
            <a:avLst/>
          </a:pr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7151760" y="5337000"/>
            <a:ext cx="930240" cy="828720"/>
          </a:xfrm>
          <a:prstGeom prst="rect">
            <a:avLst/>
          </a:prstGeom>
          <a:solidFill>
            <a:srgbClr val="00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Freeform 17"/>
          <p:cNvSpPr/>
          <p:nvPr/>
        </p:nvSpPr>
        <p:spPr>
          <a:xfrm>
            <a:off x="6334200" y="4680000"/>
            <a:ext cx="1751040" cy="507960"/>
          </a:xfrm>
          <a:prstGeom prst="pie">
            <a:avLst/>
          </a:prstGeom>
          <a:solidFill>
            <a:srgbClr val="ff0000"/>
          </a:solidFill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595440" y="5464080"/>
            <a:ext cx="928440" cy="63828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3795840" y="5464080"/>
            <a:ext cx="928440" cy="7081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fi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ea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5548320" y="5464080"/>
            <a:ext cx="700200" cy="638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ea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7162920" y="5311800"/>
            <a:ext cx="985680" cy="91296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  <a:effectLst>
            <a:outerShdw dist="107932" dir="2700000" blurRad="0" rotWithShape="0">
              <a:srgbClr val="cfd31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ales &amp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fi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F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8" name="Group 23"/>
          <p:cNvGrpSpPr/>
          <p:nvPr/>
        </p:nvGrpSpPr>
        <p:grpSpPr>
          <a:xfrm>
            <a:off x="530280" y="4630680"/>
            <a:ext cx="5924520" cy="1611360"/>
            <a:chOff x="530280" y="4630680"/>
            <a:chExt cx="5924520" cy="1611360"/>
          </a:xfrm>
        </p:grpSpPr>
        <p:sp>
          <p:nvSpPr>
            <p:cNvPr id="379" name="Rectangle 24"/>
            <p:cNvSpPr/>
            <p:nvPr/>
          </p:nvSpPr>
          <p:spPr>
            <a:xfrm>
              <a:off x="595800" y="538812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2271600" y="5464080"/>
              <a:ext cx="79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3795120" y="546408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548320" y="5464080"/>
              <a:ext cx="676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28"/>
            <p:cNvSpPr/>
            <p:nvPr/>
          </p:nvSpPr>
          <p:spPr>
            <a:xfrm>
              <a:off x="2684520" y="471636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29"/>
            <p:cNvSpPr/>
            <p:nvPr/>
          </p:nvSpPr>
          <p:spPr>
            <a:xfrm>
              <a:off x="790560" y="463068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Rectangle 30"/>
            <p:cNvSpPr/>
            <p:nvPr/>
          </p:nvSpPr>
          <p:spPr>
            <a:xfrm>
              <a:off x="620640" y="5410080"/>
              <a:ext cx="89712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31"/>
            <p:cNvSpPr/>
            <p:nvPr/>
          </p:nvSpPr>
          <p:spPr>
            <a:xfrm>
              <a:off x="530280" y="53276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Rectangle 32"/>
            <p:cNvSpPr/>
            <p:nvPr/>
          </p:nvSpPr>
          <p:spPr>
            <a:xfrm>
              <a:off x="2230560" y="5438880"/>
              <a:ext cx="898560" cy="79992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33"/>
            <p:cNvSpPr/>
            <p:nvPr/>
          </p:nvSpPr>
          <p:spPr>
            <a:xfrm>
              <a:off x="2141640" y="5357880"/>
              <a:ext cx="933480" cy="83484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34"/>
            <p:cNvSpPr/>
            <p:nvPr/>
          </p:nvSpPr>
          <p:spPr>
            <a:xfrm>
              <a:off x="3879720" y="5423040"/>
              <a:ext cx="89856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35"/>
            <p:cNvSpPr/>
            <p:nvPr/>
          </p:nvSpPr>
          <p:spPr>
            <a:xfrm>
              <a:off x="3790800" y="5340240"/>
              <a:ext cx="933480" cy="83520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36"/>
            <p:cNvSpPr/>
            <p:nvPr/>
          </p:nvSpPr>
          <p:spPr>
            <a:xfrm>
              <a:off x="4522680" y="4713120"/>
              <a:ext cx="1755720" cy="511200"/>
            </a:xfrm>
            <a:prstGeom prst="pie">
              <a:avLst/>
            </a:pr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5556240" y="5443560"/>
              <a:ext cx="898560" cy="798480"/>
            </a:xfrm>
            <a:prstGeom prst="rect">
              <a:avLst/>
            </a:prstGeom>
            <a:solidFill>
              <a:srgbClr val="adaf00"/>
            </a:solidFill>
            <a:ln w="12600">
              <a:solidFill>
                <a:srgbClr val="ada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38"/>
            <p:cNvSpPr/>
            <p:nvPr/>
          </p:nvSpPr>
          <p:spPr>
            <a:xfrm>
              <a:off x="5467320" y="5361120"/>
              <a:ext cx="933480" cy="834840"/>
            </a:xfrm>
            <a:prstGeom prst="pie">
              <a:avLst/>
            </a:pr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672120" y="5464080"/>
              <a:ext cx="713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os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Rectangle 40"/>
            <p:cNvSpPr/>
            <p:nvPr/>
          </p:nvSpPr>
          <p:spPr>
            <a:xfrm>
              <a:off x="2271600" y="5464080"/>
              <a:ext cx="7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Clim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Rectangle 41"/>
            <p:cNvSpPr/>
            <p:nvPr/>
          </p:nvSpPr>
          <p:spPr>
            <a:xfrm>
              <a:off x="3871080" y="5540400"/>
              <a:ext cx="84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rofit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Rectangle 42"/>
            <p:cNvSpPr/>
            <p:nvPr/>
          </p:nvSpPr>
          <p:spPr>
            <a:xfrm>
              <a:off x="5624280" y="5540400"/>
              <a:ext cx="676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Peak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8" name="Text Box 43"/>
          <p:cNvSpPr/>
          <p:nvPr/>
        </p:nvSpPr>
        <p:spPr>
          <a:xfrm>
            <a:off x="1279440" y="662940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Box 40"/>
          <p:cNvSpPr/>
          <p:nvPr/>
        </p:nvSpPr>
        <p:spPr>
          <a:xfrm>
            <a:off x="0" y="6629400"/>
            <a:ext cx="235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Box 41"/>
          <p:cNvSpPr/>
          <p:nvPr/>
        </p:nvSpPr>
        <p:spPr>
          <a:xfrm>
            <a:off x="8610480" y="6629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2209680" y="2133720"/>
            <a:ext cx="5105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209680" y="3200400"/>
            <a:ext cx="5181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hannels of Distribution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nsumer Good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158760" y="160668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158760" y="274968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7321680" y="1758960"/>
            <a:ext cx="17398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5721480" y="2825640"/>
            <a:ext cx="12826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7397640" y="2825640"/>
            <a:ext cx="17398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2131920" y="5791320"/>
            <a:ext cx="5181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81000" y="534024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5796000" y="5416560"/>
            <a:ext cx="124452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7319880" y="5416560"/>
            <a:ext cx="17398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2214720" y="5340240"/>
            <a:ext cx="1589040" cy="9018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3967200" y="5340240"/>
            <a:ext cx="1589040" cy="9018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6"/>
          <p:cNvSpPr/>
          <p:nvPr/>
        </p:nvSpPr>
        <p:spPr>
          <a:xfrm>
            <a:off x="2131920" y="4495680"/>
            <a:ext cx="5181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81000" y="404496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5721480" y="4121280"/>
            <a:ext cx="12412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9"/>
          <p:cNvSpPr/>
          <p:nvPr/>
        </p:nvSpPr>
        <p:spPr>
          <a:xfrm>
            <a:off x="7319880" y="4121280"/>
            <a:ext cx="17398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20"/>
          <p:cNvSpPr/>
          <p:nvPr/>
        </p:nvSpPr>
        <p:spPr>
          <a:xfrm>
            <a:off x="2290680" y="4044960"/>
            <a:ext cx="1643040" cy="9018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 Box 21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21"/>
          <p:cNvSpPr/>
          <p:nvPr/>
        </p:nvSpPr>
        <p:spPr>
          <a:xfrm>
            <a:off x="0" y="6553080"/>
            <a:ext cx="235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22"/>
          <p:cNvSpPr/>
          <p:nvPr/>
        </p:nvSpPr>
        <p:spPr>
          <a:xfrm>
            <a:off x="8610480" y="6553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2"/>
          <p:cNvSpPr/>
          <p:nvPr/>
        </p:nvSpPr>
        <p:spPr>
          <a:xfrm>
            <a:off x="2209680" y="2133720"/>
            <a:ext cx="4419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hannels of Distribution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dustrial Good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58760" y="160668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6635880" y="1758960"/>
            <a:ext cx="24256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ustrial Us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2131920" y="4495680"/>
            <a:ext cx="4573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81000" y="4044960"/>
            <a:ext cx="19684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3720960" y="4121280"/>
            <a:ext cx="1683000" cy="90144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6711840" y="4121280"/>
            <a:ext cx="242568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ctr">
            <a:noAutofit/>
          </a:bodyPr>
          <a:p>
            <a:pPr marL="316080" indent="-316080" algn="ctr"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ustrial Us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1279440" y="655308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0" y="6553080"/>
            <a:ext cx="41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8610480" y="65530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4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6DFD93DE-B6EC-45FC-8C8E-378E0C62D7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inpointing the Target Mark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629400" cy="41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step: Identify the company'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arget mark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the group of customers at whom the company aims its products or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ffective marketing program depends on a clear, concise definition of the firm's targeted customer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“one-size-fits-all approac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MPj03090400000[1]"/>
          <p:cNvPicPr/>
          <p:nvPr/>
        </p:nvPicPr>
        <p:blipFill>
          <a:blip r:embed="rId1"/>
          <a:stretch/>
        </p:blipFill>
        <p:spPr>
          <a:xfrm>
            <a:off x="6629400" y="5029200"/>
            <a:ext cx="2298600" cy="154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CD838B7B-E978-41DE-91A8-8A1C9FB6D3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8610840" cy="11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inpointing the Target Mark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162920" cy="40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y: Understanding target customers’ unique needs, wants, and preference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portunity: Increasing populations of multicultural custom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rget customer must permeate the entire busin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MPj03090400000[1]"/>
          <p:cNvPicPr/>
          <p:nvPr/>
        </p:nvPicPr>
        <p:blipFill>
          <a:blip r:embed="rId1"/>
          <a:stretch/>
        </p:blipFill>
        <p:spPr>
          <a:xfrm>
            <a:off x="6248520" y="4800600"/>
            <a:ext cx="2438280" cy="1638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607F1626-1B73-4124-9160-82C2B3925F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699948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rket Resear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et research - the vehicle for gathering the information that serves as the foundation for the marketing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w to Conduct Market Resea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he obj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 th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How to Become an Effective One-to-One Marketer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378080" y="920880"/>
            <a:ext cx="2501640" cy="90144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dentify your best customer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never passing up t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opportunity to get their nam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63680" y="2444760"/>
            <a:ext cx="2501640" cy="90180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ollect information on the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ustomers, linking thei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dentities to their transaction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63680" y="4654440"/>
            <a:ext cx="2577960" cy="90180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alculate the long-term valu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of customers so you know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which ones are most desirab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and most profitable)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2895480" y="1523880"/>
          <a:ext cx="409896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523880"/>
                    <a:ext cx="409896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7"/>
          <p:cNvSpPr/>
          <p:nvPr/>
        </p:nvSpPr>
        <p:spPr>
          <a:xfrm>
            <a:off x="4098240" y="3110040"/>
            <a:ext cx="1725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ne-to-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435480" y="5486400"/>
            <a:ext cx="2806560" cy="106668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Know what your customers’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buying cycle is and time you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arketing efforts to coincid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with it - “just-in-time marketing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6635880" y="4578480"/>
            <a:ext cx="2349360" cy="90144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ake sure your company’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roduct and service qual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will astonish your customer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7016760" y="2292480"/>
            <a:ext cx="2044800" cy="151128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ee customer complaint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for what they are - 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hance to improv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your service an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quality. Encourag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omplaints and the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fix them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416560" y="920880"/>
            <a:ext cx="2654280" cy="90144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nhance your products an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services by giving customer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formation about them and how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to use them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6172200"/>
            <a:ext cx="3198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ource: Adapted from Susan Greco, “The Road to One-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o-One Marketing,” 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Inc.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October 1995, pp. 56-66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2971800" y="662940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0" y="6629400"/>
            <a:ext cx="39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9: Guerilla Marketing Pla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8763120" y="66294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01C113C2-EE39-4998-BA7E-AD6F65C5AE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699912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rket Resear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4952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alyze and interpret the dat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ut the information to 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22320" y="1866960"/>
            <a:ext cx="7924680" cy="33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rket research is the vehicle for gathering the information that serves as the foundation for the marketing pl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How to Conduct Market Research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fine the objecti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llect the dat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286000" y="6575400"/>
            <a:ext cx="495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315200" y="659448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9-</a:t>
            </a:r>
            <a:fld id="{A9C56683-0F09-4E98-AA6D-1647880873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lationship Market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s developing, maintaining, and managi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ng-term relationship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customers so that they will keep coming back to make repeat purch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 database of customer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best and most profitable custo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lasting relationships with these custo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ract more customers like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PE03301A"/>
          <p:cNvPicPr/>
          <p:nvPr/>
        </p:nvPicPr>
        <p:blipFill>
          <a:blip r:embed="rId1"/>
          <a:stretch/>
        </p:blipFill>
        <p:spPr>
          <a:xfrm>
            <a:off x="7162920" y="5029200"/>
            <a:ext cx="1574640" cy="162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2:38:13Z</dcterms:created>
  <dc:creator>Norman M. Scarborough</dc:creator>
  <dc:description>Esentials, 2/e.</dc:description>
  <cp:keywords/>
  <dc:language>en-US</dc:language>
  <cp:lastModifiedBy>UsEr</cp:lastModifiedBy>
  <cp:lastPrinted>1995-03-21T17:16:20Z</cp:lastPrinted>
  <dcterms:modified xsi:type="dcterms:W3CDTF">2015-09-13T12:20:23Z</dcterms:modified>
  <cp:revision>129</cp:revision>
  <dc:subject/>
  <dc:title> Chapter 1:The Foundations of Entrepreneurship</dc:title>
</cp:coreProperties>
</file>