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42A17-9303-48FA-A723-AEFF04D9C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0B85E-C928-48E5-8CC5-E2D92171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950AF-9CBA-4E54-A6E7-76A54D29D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0101B-294C-4878-808E-224343DA1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419E7-51ED-4B31-B23F-87F1E064B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7729B-3262-4D39-8834-2E29DA68C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EB1B-24E6-45BD-9700-08E282F6C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E01A2-5E7D-4E24-8623-2BF8D6F64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5B9B6-C85E-457E-943C-A93950A6B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E59D8-F2AB-4D34-9F3A-8D5A63DBE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79DFF-AA60-46F8-BCB1-32E09437D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37497-C2C6-41DA-9828-D7033EB9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11A64-9187-4BF2-92B7-0A57361C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A4146-6556-4212-A681-40016300D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EC75E-53FB-4CF6-8646-469273532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04FB2-DCDB-41C9-8CF6-4EEEAC0EA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8EF4B-57D3-4865-A06D-8C43AC89A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74D331-C9E9-4AFB-9C25-02AF40A6B6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C7B4B-3C66-4E09-8B01-087CA6AD0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FAD1E-95ED-47BB-B696-892108685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BC18A-2C02-4BFA-9315-03B79B0A5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78638-C8DC-45D1-8F8B-4522B9B34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1F2BC-8927-4421-AB4B-5C3FC363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6BA5D-FFF1-4BE7-8810-77079127E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C5D26-0314-49A8-81E6-F1BF932EA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241BA-6CF1-4E6E-8262-73FE097B3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FD98C-14AA-459F-90D0-54C4A5043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DE1B7-9CC7-471F-88D3-FAB7295B7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46E47-A9FD-4C7B-9D2C-59C6061AFB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094E2-1082-4F1D-941E-9D02670330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D3CE65-CB3A-4751-9BB4-CD4FD6F38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8EA2B-2EAE-4BD4-8060-B3455EFCF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97120-FD65-4D48-92C5-CDB41F7AA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D82B-8B1A-4ADC-BE10-4AA26173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4FA56F-CD8E-4149-BC47-3878BF434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1E52C-BD40-465D-8D0B-CA5E83080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3A932-316A-4281-B847-8E1964C55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C6018-2393-478D-A067-BFCCF8099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E0C07-EB40-47A8-B256-990889C8B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206CC-EED8-4956-8DA0-3D0E5413B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DD8BE-0C56-4D1D-8DEF-0E4E3C8EB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423BE2-0A64-4882-9089-6864B9EE6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CB64E-424E-45DE-B717-D4A7E649B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8A4641-5771-4CE5-A27E-24D734EF67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6F87-74E1-4914-8EB5-83E12718C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49936-ED06-440F-9F36-7A7BC8BFB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D3763-A7A4-413C-994D-601C96D92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969B5-0DF3-405F-95CB-61F64D292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778260-94A4-4546-A944-CCFC611B7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A822F-A883-4CCA-850D-9769E4EFC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824C4-4225-4936-8BAD-D91BCF92B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F0B07-222F-4A23-B997-3B5F06911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9D098-5D39-4864-9D41-A8B4003E6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6D0CA-ED4E-4C33-AB51-1B7D7C52E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0ABD1-5E88-4F27-AC7B-126812A62A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D990-F3EB-41A7-9251-3058C4F93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DD297A-3AEC-4AD3-8F13-AD68B4AB6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D0A8A3-03FF-42CC-8826-2458246FC7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512C87-CB1E-49C7-8BAC-3A59C9D36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17738-CC5D-44C9-B182-794B06F19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66814-944F-45BF-A4C8-FD82C1731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FF121-11D3-473A-B021-DBCB02AFC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CEA23-98F8-4B6D-B2B0-92843C2BA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EF042-7D8D-491B-8DEA-476F1CFEA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71A97-72DC-433F-A4E6-A748FB927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EFBF5-5E9D-4E5F-B695-69C2546FE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899C-545C-40FD-A16E-DE8D78585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4E7EE-ADBC-466C-BA3A-082D1B42E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A1135A-2345-4F03-A048-EF51E76A7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467AA-9A74-4898-A81E-1C892086BB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F9E2-FD6B-467A-8688-2049B5E19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C333-A070-4066-AEB7-4656007F7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51FA-F37B-4BAF-B6CE-78FC9E2B6AC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23EF-93C5-4088-8572-05425C16EDC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BD6C-9537-4491-BEEB-6751D596E52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EB9-7DBB-476D-9F4C-A32DF38E77A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5DA5-FB0F-4377-9437-AF8449173D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A836-5512-48BF-8725-1B46430E013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fontScale="89000"/>
          </a:bodyPr>
          <a:p>
            <a:pPr marL="305280" indent="-3052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عدد هو خاصية للمجموعة، وهو تجريد لفكرة داخل العقل، والعدد لا يكتب ولا يرى ولا يسمع.</a:t>
            </a:r>
            <a:endParaRPr b="0" lang="en-US" sz="3200" spc="-1" strike="noStrike">
              <a:solidFill>
                <a:srgbClr val="000000"/>
              </a:solidFill>
              <a:latin typeface="Times New Roman"/>
            </a:endParaRPr>
          </a:p>
          <a:p>
            <a:pPr marL="305280" indent="-3052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ما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marL="305280" indent="-305280"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2"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4"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907560"/>
            <a:ext cx="7772400" cy="5264280"/>
          </a:xfrm>
          <a:prstGeom prst="rect">
            <a:avLst/>
          </a:prstGeom>
          <a:noFill/>
          <a:ln w="0">
            <a:noFill/>
          </a:ln>
        </p:spPr>
        <p:txBody>
          <a:bodyPr lIns="92160" rIns="92160" tIns="46080" bIns="4608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نمو مفهوم الرمز العددي</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ما هو الفرق بين العدد والرمز العددي؟</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imes New Roman"/>
              </a:rPr>
              <a:t> </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repeatCount="1000">
                                  <p:stCondLst>
                                    <p:cond delay="0"/>
                                  </p:stCondLst>
                                  <p:childTnLst>
                                    <p:animScale>
                                      <p:cBhvr>
                                        <p:cTn id="6" dur="3250" fill="hold"/>
                                        <p:tgtEl>
                                          <p:spTgt spid="279">
                                            <p:txEl>
                                              <p:pRg st="2" end="2"/>
                                            </p:txEl>
                                          </p:spTgt>
                                        </p:tgtEl>
                                      </p:cBhvr>
                                      <p:to x="150000" y="150000"/>
                                    </p:animScale>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6" repeatCount="1000">
                                  <p:stCondLst>
                                    <p:cond delay="0"/>
                                  </p:stCondLst>
                                  <p:childTnLst>
                                    <p:animScale>
                                      <p:cBhvr>
                                        <p:cTn id="10" dur="3250" fill="hold"/>
                                        <p:tgtEl>
                                          <p:spTgt spid="279">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5-11-03T06:27:22Z</dcterms:modified>
  <cp:revision>71</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