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137-69C1-483E-B142-80CA0E2E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F5C-C794-4163-BA37-11716C04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56B-C28E-4CEA-AB09-B8ED757D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8D1-3A73-41C8-AD74-3E96CD71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FB67-BB1A-4A0E-B9E3-C4774AF5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2093-411F-45B0-ABFF-C985AD98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9B57-C0D9-41FA-AA93-6302FBF9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1E15-82E6-4744-B2F0-5C764AD0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A6F0-0FDD-455C-B7BA-EC20F16C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D34A-23CB-42A4-BBD0-E9915292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3CB4-6CE6-4652-B264-96BAF702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9A4-2729-48DD-9ECA-C69A42A5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121D-1459-4B2C-904D-43FC5693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8DA0-553B-4D34-A847-BF05B86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C9B7-F522-41C7-B894-CDD69323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54C7-65F7-40B3-81AD-462AB098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D61B-0526-4D7E-BFC5-8330EC85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009-7882-4390-A26D-2F38843B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0A8-A3C6-4C46-A73E-DD76A29F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BEE-5901-4569-A8F1-A7CC8E00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C20-ECE9-4DA8-B93A-5C853F33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758-6A97-4ED0-852B-A956E3D2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8A4-7CBB-4F20-8BA3-BAD65F2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D40-4F0B-4599-B341-288F7A1F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E086-D701-47D3-A40D-86D7ACFC4DD0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D7D7-3E51-4A71-9D07-304900646BEC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42884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ffff"/>
                </a:solidFill>
                <a:latin typeface="Garamond"/>
              </a:rPr>
              <a:t>المحاضرة السادسة</a:t>
            </a:r>
            <a:endParaRPr b="0" lang="en-US" sz="9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1" lang="ar-SA" sz="2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بروتينات المرتبطة بالدنا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afbf39"/>
                </a:solidFill>
                <a:latin typeface="Arial"/>
              </a:rPr>
              <a:t>هناك نوعان منها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أ -  بروتينات هسيتونية :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Histones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 ( الشكل 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18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وجد بكميات متساوية من ناحية الكتلة مع الدنا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بروتينات قاعدية صغيرة الحجم غنية بالليسين والارجنين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ys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afbf39"/>
                </a:solidFill>
                <a:latin typeface="Arial"/>
              </a:rPr>
              <a:t>هناك خمسة انواع منها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,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,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كمية ونسبة هذه البروتينات ثابته من خلية لاخرى في كل الكائنات الحقيقية النواة, ممايشير الى انها تلعب دورا اساسيا في تنظيم الدنا لكروموسومات الكائنات الحية حقيقية النوا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لـ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كثر الانواع تباينا وهناك عدد مختلف منه في كل خلية. كما انه قدلا يوجد على الاطلاق في بعض الانسجه ويستبدل بالـ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كما هو الحال في الخلايا الدموية الحمراء للطيو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23840" y="1454040"/>
            <a:ext cx="7096320" cy="394992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ب – بروتينات غير هيستونية: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Nonhist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يقصد بها كل البروتينات المرتبطة بالدنا فيما عدا الهسيتونات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حامضية عاد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هناك العديد من الانواع المختلفة من هذه البروتينات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بعضها يلعب دورا مهما في تركيب الكروموسوم , والبعض الاخر مهم في تنظيم التعبير الجيني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تختلف وبشدة في العدد والنوع من نوع خلوى لاخر  داخل الكائن الحي وفي الاوقات المختلفة في نفس الخلية ومن كائن لاخ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3280" y="552600"/>
            <a:ext cx="4751280" cy="72072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Garamond"/>
              </a:rPr>
              <a:t>مستويات تغليف الدنا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afbf39"/>
                </a:solidFill>
                <a:latin typeface="Arial"/>
              </a:rPr>
              <a:t>هناك عدة مستويات (الشكل </a:t>
            </a:r>
            <a:r>
              <a:rPr b="0" lang="ar-SA" sz="2600" spc="-1" strike="noStrike">
                <a:solidFill>
                  <a:srgbClr val="afbf39"/>
                </a:solidFill>
                <a:latin typeface="Arial"/>
              </a:rPr>
              <a:t>19</a:t>
            </a:r>
            <a:r>
              <a:rPr b="0" lang="ar-SA" sz="2600" spc="-1" strike="noStrike">
                <a:solidFill>
                  <a:srgbClr val="afbf3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المستوى الاول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ويتضمن التفاف الدنا حول مركز هسيتوني في تركيب يعرف بالنيوكليوسومه ( الجسم النووي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osme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 . راجع الاشكال الخاصه بذلك من الاوراق المرفقه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لنيوكليوسومه= الجسم النووي = الوحدة التركيبية الاساسية للكروماتين والكروموسوم في الكائنات الحية حقيقية النواة . يبلغ قطرها حوالي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نانوميتر (الوحدة التركيبية المتكررة داخل الكروماتين)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المستوى الثاني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تكوين الليفة ذات القطر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نانوميت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مستويات عليا :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كوين الحقول الملتوية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ped domains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كوين كروموسوم المرحلة الاستوائية من الانقسام النووي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44600" y="271440"/>
            <a:ext cx="4695840" cy="632628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كروماتين متجانس :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Euchromatin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lang="ar-SA" sz="2100" spc="-1" strike="noStrike">
                <a:solidFill>
                  <a:srgbClr val="006633"/>
                </a:solidFill>
                <a:latin typeface="Arial"/>
              </a:rPr>
              <a:t>الشكلان </a:t>
            </a:r>
            <a:r>
              <a:rPr b="0" lang="ar-SA" sz="2100" spc="-1" strike="noStrike">
                <a:solidFill>
                  <a:srgbClr val="006633"/>
                </a:solidFill>
                <a:latin typeface="Arial"/>
              </a:rPr>
              <a:t>20</a:t>
            </a:r>
            <a:r>
              <a:rPr b="0" lang="ar-SA" sz="21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lang="ar-SA" sz="2100" spc="-1" strike="noStrike">
                <a:solidFill>
                  <a:srgbClr val="006633"/>
                </a:solidFill>
                <a:latin typeface="Arial"/>
              </a:rPr>
              <a:t>21</a:t>
            </a:r>
            <a:r>
              <a:rPr b="0" lang="ar-SA" sz="30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عبارة عن المناطق الاقل تغلظا من الكروموسوم وهو نشط استناخيا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كروماتين غير متجانس :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Heterochromat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عبارة عن المناطق الاكثر تغلظا من الكروموسوم . وهو غير نشط استنساخيا عاد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الدنا التابع :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Satelitte 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عبارة عن الدنا الذي يشكل شريطا صغيرا عند تعريض الدنا للطرد المركزي في ملح السيزيوم. ويتكون هذا الدنا من تتابعات عالية التكرار قصيرة في الجينوم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41320" y="2184480"/>
            <a:ext cx="7461360" cy="248760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0560" y="1490760"/>
            <a:ext cx="7022880" cy="387648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جينيوم (المجين / الطاقم الوراثي) :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Gen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عبير يصف كل انواع الجينات وتتابعات الدنا التي يمتلكها الكائن الحي داخل أنوية خلاياه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مجين في البدائية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روموسوم حلقي واحد عاد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مجين في حقيقة النوا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مجين نووي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ل الجينات وتتابعات الدنا التي توجد في العدد الاحادي من الكروموسومات في نواة الخل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جين ميتوكونديري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روموسوم حلقي واحد او اكث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مجين بلاستيدي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روموسوم حلقي واحد او اكث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عندما يقال مجين (جينوم) في الكائنات الحية حقيقية النواة , فانه يقصد به المجين النووي عاد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مجين في الفيروسات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مجين فيروسي او كرموسوم فيروسي: هو المادة الوراثية المحاطه بالغلاف الخارجي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633"/>
                </a:solidFill>
                <a:latin typeface="Arial"/>
              </a:rPr>
              <a:t>كروموسومان متماثلان :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Homologous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كروموسومان متطابقان من حيث الشكل والحجم والطول وموقع السنتروميروبهما نفس المواقع الجينية , احدهما مورث من الاب والاخر مورث من الا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كروماتيدتان شقيقتان(اختيتان)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Sister chromatids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عبارة عن الجديلتين المتطابقتين الناتجتين عن التضاعف الذاتي للكروموسوم والملتصقتين معا بسنترمير واحد واللتين يمكن رؤيتهما خلال المرحلة الابتدائية والاستوائية من الانقسام النووي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الهيئة الكروموسومية:(طبعة النواة) :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Karyotype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(الشكل 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مجموعة كروموسومات نواة الخلية او الكائن الحي. وغالبا مايشير هذا التعبير الى تنظيم او ترتيب كروموسومات المرحلة الاستوائية في تتابع قياسي   طبقا لاطوالها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وهي صورة فوتغرافية لكروموسومات المرحلة الاستوائية المرتبه في ترتيب قياسي طبقا لاطوالها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781000"/>
            <a:ext cx="8642160" cy="115236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Garamond"/>
              </a:rPr>
              <a:t>الكروموسومات </a:t>
            </a: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Chromosom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321160" cy="548496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869000"/>
            <a:ext cx="8353440" cy="115092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شكال الكروموسومات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راجع الورقه المرفقه رقم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(الشكل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عداد الكروموسومات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راجع كتاب العملي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نواع الكروموسومات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( الشكل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كروموسومات جنسية :(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sex chromosomes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هي الكروموسومات التي تلعب دورا مهما في تحديد جنس الفرد(الكروموسو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الكروموسو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 كروموسومات ذاتية او جسدية: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Aut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كل كروموسومات نواة الخلية ماعدا الكروموسومات الجنس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afbf39"/>
                </a:solidFill>
                <a:latin typeface="Arial"/>
              </a:rPr>
              <a:t>في الانسان</a:t>
            </a:r>
            <a:r>
              <a:rPr b="0" lang="ar-SA" sz="2600" spc="-1" strike="noStrike">
                <a:solidFill>
                  <a:srgbClr val="afbf39"/>
                </a:solidFill>
                <a:latin typeface="Arial"/>
              </a:rPr>
              <a:t>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تحتوى الخلية الجسديه على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روموسو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} 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انثى (كروموسومات جنسية ) ,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x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ذكر(كروموسومات جنسي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                           +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كروموسوم جسدي)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14480" y="476280"/>
            <a:ext cx="5308560" cy="547380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916360" y="333360"/>
            <a:ext cx="3384360" cy="792000"/>
          </a:xfrm>
          <a:prstGeom prst="rect">
            <a:avLst/>
          </a:prstGeom>
          <a:solidFill>
            <a:srgbClr val="cc9900"/>
          </a:solidFill>
          <a:ln w="572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Garamond"/>
              </a:rPr>
              <a:t>الكروموسومات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633"/>
                </a:solidFill>
                <a:latin typeface="Arial"/>
              </a:rPr>
              <a:t>تعريف: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تراكيب خطية اسطوانة الشكل توجد دائما بين قطبي الخلية حقيقية النواة المنقسمة ولها القدرة على التضاعف الذاتي . وهي التراكيب التي تحتوى على المادة الوراثية والتي تعمل كنواقل لتخزين ونقل وتعبير وتطور المعلومات الوارثية , وهي تراكيب حركية ( متغيرة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الكروماتين: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Chromat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عقد الدنا ومايرتبط به من بروتينات خلال الفترة التي تكون فيها الخلية حقيقية النواة غير منقسمة . وهو تركيب حركي يمكن أن يغير شكله ومكوناته خلال دورة الخلي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1280" y="290520"/>
            <a:ext cx="5545080" cy="79056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مكونات الكروموسومات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كرموسوم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جزيء من الحلزون المزدوج للدنا+ بروتينات هسيتونية + بروتينات غير هسيتونية +كميات قليلة من الدنا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دنا الكروموسومات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(الشكل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يحتوي الدنا الكروموسومي على ثلاثه أنواع من التتابعات اللازمة لتضاعف وانعزال الكروموسومات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أ- مناشئ التضاعف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: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Replication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Origins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تابعات نيوكليوتيديه توجد داخل الدنا الكروموسومي وهي ضرورية لبدء تضاعف الدنا وبالتالي الكروموسومات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ب – السنتروميرات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: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entrome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تابعات نيوكليوتيدية عالية التكرار في الدنا وهي ضرورية للانعزال الدقيق للكروموسومات خلال الانقسام النووي (الميتوزي والميوزي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4176720" cy="544536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6633"/>
                </a:solidFill>
                <a:latin typeface="Arial"/>
              </a:rPr>
              <a:t>الكينيتوكور: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 ( الشكل 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17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مجموعة من البروتينات الخلوية التي ترتبط بالسنترومير خلال الانقسام النووي (الميتوزي والميوزي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6633"/>
                </a:solidFill>
                <a:latin typeface="Arial"/>
              </a:rPr>
              <a:t>ج –</a:t>
            </a:r>
            <a:r>
              <a:rPr b="1" lang="ar-SA" sz="25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6633"/>
                </a:solidFill>
                <a:latin typeface="Arial"/>
              </a:rPr>
              <a:t>التيلوميرات : 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Telomeres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 (الشكل 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20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تتابعات متخصصة من الدنا توجد عند نهايتي كل كروموسوم خطي . ولهذه التتابعات عدة وظائف منها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. تسهيل عملية تضاعف نهايات الكروموسومات وضمان عدم قصرها عند كل دورة تضاع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. منع التحام نهايات الكروموسومات الخطية مع بعضها البعض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. منع الانزيمات المحللة للدنا من تكسير نهايات الكروموسومات الخطية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6633"/>
                </a:solidFill>
                <a:latin typeface="Arial"/>
              </a:rPr>
              <a:t>الجينات 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 توجد بين التيلوميرات والسنتروميرات على طول الكرموسومات . وكل كروموسوم يحتوى على مئات او الاف الجينات المختلف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461360" cy="318780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767640" cy="93672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نواع  تتابعات الدنا في الكرموسوم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هناك 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 انواع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. تتابعات فريدة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يتراوح عدد نسخها م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الى اقل م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. وهي تمثل تتابعات الجينات عادة وتشكل مابي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% من الجينو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. تتابعات متوسطة التكرار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يتراوح عدد نسخها من مئات الى بعض الالالف من الجينوم في حالات قليلة تكون نسخ متعددة لنفس الجين( جينات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RN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جينات الهسيتونات وتتابعات المناشئ وتشكل مابي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الى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% من الجينو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. تتابعات عالية التكرار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يتراوح عدد نسخها من عشرات الالاف الى الملايين على طول الجينوم. تكون قصيرة عادة , اذا تتراوح اطوالها من عدد قليل من النيوكليوتيدات الى عدة مئات . قد تكون تتابعات مترادفة كالتتابعات التي تكون السنترومير . وهي تشكل مابي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الى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% من الجينو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407520"/>
            <a:ext cx="6624720" cy="100980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ffffff"/>
                </a:solidFill>
                <a:latin typeface="Garamond"/>
              </a:rPr>
              <a:t>أهم الوظائف المقترحة لهذه التتابعات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غير معروفة تماما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لها وظائف تركيبية او تنظيمية في الكروموسومات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قد تلعب دورا مهما في عملية الارتفاق او التشاب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قد تلعب دورا مهما في عملية العبور وتكوين الاتحادات الجديد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حماية الجينات التركيب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خزن للتابعات غير المهمه              تطو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ليس وظيفة على الاطلاق              مجرد  ذرة من الدن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563640" y="5157720"/>
            <a:ext cx="718920" cy="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51280" y="5734080"/>
            <a:ext cx="719280" cy="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7:53:27Z</dcterms:created>
  <dc:creator>هلا</dc:creator>
  <dc:description/>
  <dc:language>en-US</dc:language>
  <cp:lastModifiedBy>هلا</cp:lastModifiedBy>
  <dcterms:modified xsi:type="dcterms:W3CDTF">2007-11-11T15:25:18Z</dcterms:modified>
  <cp:revision>4</cp:revision>
  <dc:subject/>
  <dc:title>الكروموسومات Chromosomes</dc:title>
</cp:coreProperties>
</file>