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049-65D9-4E3C-B343-F9D5C68F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1BA-CDE4-498D-B134-051618C3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396-FD37-4CAD-AD8E-68804922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2DC-5844-451D-9725-B6FAEA53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32B5-C96D-47F2-96AF-AB3AFD65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44E2-EC29-468E-BC47-EBFFAC4D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DA69-4DA6-462A-AAB5-6BA8C61C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27E1-FA22-46F6-B44A-4732446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5FC4-F05F-4821-A68A-2E7E005B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7CF4-35FF-423F-BE80-919FBDBE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620E-0904-47FB-A594-3449E434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85B-E978-456B-93AD-32831B8A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233F-7722-47A4-AE61-208782A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003A-1E75-4758-B669-0253AC3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7382-14B4-4D48-8409-984E7341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E2F8-C009-4957-99A2-AAD9F781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3C74-5A7D-4FD6-9396-73E2D43C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BF1-10EF-4E21-9D55-37153C1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84C-D1B6-44E3-8EE8-F98F662B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BAD-65F8-45B6-80A8-71B76C1D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229-501A-4586-9419-B778BD11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E52-0A1C-497F-9E32-DBE90D80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6C0-1488-4C51-B1E3-AE1347BC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3B9-AB0E-4789-A914-9A30CBC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D188-5141-4866-8BB0-7D6926B23BBF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1279-3AA9-4156-9B85-B8ABE4876EB0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42884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ffff"/>
                </a:solidFill>
                <a:latin typeface="Garamond"/>
              </a:rPr>
              <a:t>المحاضرة السادسة</a:t>
            </a: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1" lang="ar-SA" sz="2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بروتينات المرتبطة بالدنا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fbf39"/>
                </a:solidFill>
                <a:latin typeface="Arial"/>
              </a:rPr>
              <a:t>هناك نوعان منها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أ -  بروتينات هسيتونية :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Histones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 ( الشكل 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18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وجد بكميات متساوية من ناحية الكتلة مع الدنا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بروتينات قاعدية صغيرة الحجم غنية بالليسين والارجنين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y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fbf39"/>
                </a:solidFill>
                <a:latin typeface="Arial"/>
              </a:rPr>
              <a:t>هناك خمسة انواع منها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,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كمية ونسبة هذه البروتينات ثابته من خلية لاخرى في كل الكائنات الحقيقية النواة, ممايشير الى انها تلعب دورا اساسيا في تنظيم الدنا لكروموسومات الكائنات الحية حقيقية النوا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ل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كثر الانواع تباينا وهناك عدد مختلف منه في كل خلية. كما انه قدلا يوجد على الاطلاق في بعض الانسجه ويستبدل بال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كما هو الحال في الخلايا الدموية الحمراء للطيو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23840" y="1454040"/>
            <a:ext cx="7096320" cy="394992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ب – بروتينات غير هيستونية: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Nonhist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يقصد بها كل البروتينات المرتبطة بالدنا فيما عدا الهسيتونات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حامضية عاد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هناك العديد من الانواع المختلفة من هذه البروتينا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عضها يلعب دورا مهما في تركيب الكروموسوم , والبعض الاخر مهم في تنظيم التعبير الجيني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ختلف وبشدة في العدد والنوع من نوع خلوى لاخر  داخل الكائن الحي وفي الاوقات المختلفة في نفس الخلية ومن كائن لاخ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3280" y="552600"/>
            <a:ext cx="4751280" cy="72072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Garamond"/>
              </a:rPr>
              <a:t>مستويات تغليف الدنا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afbf39"/>
                </a:solidFill>
                <a:latin typeface="Arial"/>
              </a:rPr>
              <a:t>هناك عدة مستويات (الشكل </a:t>
            </a:r>
            <a:r>
              <a:rPr b="0" lang="ar-SA" sz="2600" spc="-1" strike="noStrike">
                <a:solidFill>
                  <a:srgbClr val="afbf39"/>
                </a:solidFill>
                <a:latin typeface="Arial"/>
              </a:rPr>
              <a:t>19</a:t>
            </a:r>
            <a:r>
              <a:rPr b="0" lang="ar-SA" sz="2600" spc="-1" strike="noStrike">
                <a:solidFill>
                  <a:srgbClr val="afbf3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المستوى الاول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ويتضمن التفاف الدنا حول مركز هسيتوني في تركيب يعرف بالنيوكليوسومه ( الجسم النووي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osme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 . راجع الاشكال الخاصه بذلك من الاوراق المرفق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لنيوكليوسومه= الجسم النووي = الوحدة التركيبية الاساسية للكروماتين والكروموسوم في الكائنات الحية حقيقية النواة . يبلغ قطرها حوالي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نانوميتر (الوحدة التركيبية المتكررة داخل الكروماتين)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المستوى الثاني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تكوين الليفة ذات القطر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نانوميت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مستويات عليا :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كوين الحقول الملتوية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ped domain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كوين كروموسوم المرحلة الاستوائية من الانقسام النووي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44600" y="271440"/>
            <a:ext cx="4695840" cy="632628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كروماتين متجانس :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Euchromatin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lang="ar-SA" sz="2100" spc="-1" strike="noStrike">
                <a:solidFill>
                  <a:srgbClr val="006633"/>
                </a:solidFill>
                <a:latin typeface="Arial"/>
              </a:rPr>
              <a:t>الشكلان </a:t>
            </a:r>
            <a:r>
              <a:rPr b="0" lang="ar-SA" sz="2100" spc="-1" strike="noStrike">
                <a:solidFill>
                  <a:srgbClr val="006633"/>
                </a:solidFill>
                <a:latin typeface="Arial"/>
              </a:rPr>
              <a:t>20</a:t>
            </a:r>
            <a:r>
              <a:rPr b="0" lang="ar-SA" sz="21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lang="ar-SA" sz="2100" spc="-1" strike="noStrike">
                <a:solidFill>
                  <a:srgbClr val="006633"/>
                </a:solidFill>
                <a:latin typeface="Arial"/>
              </a:rPr>
              <a:t>21</a:t>
            </a:r>
            <a:r>
              <a:rPr b="0" lang="ar-SA" sz="30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عبارة عن المناطق الاقل تغلظا من الكروموسوم وهو نشط استناخيا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كروماتين غير متجانس :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Heterochroma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عبارة عن المناطق الاكثر تغلظا من الكروموسوم . وهو غير نشط استنساخيا عا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الدنا التابع :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Satelitte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عبارة عن الدنا الذي يشكل شريطا صغيرا عند تعريض الدنا للطرد المركزي في ملح السيزيوم. ويتكون هذا الدنا من تتابعات عالية التكرار قصيرة في الجينوم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41320" y="2184480"/>
            <a:ext cx="7461360" cy="248760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0560" y="1490760"/>
            <a:ext cx="7022880" cy="387648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جينيوم (المجين / الطاقم الوراثي) :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Ge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عبير يصف كل انواع الجينات وتتابعات الدنا التي يمتلكها الكائن الحي داخل أنوية خلاياه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مجين في البدائية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روموسوم حلقي واحد عاد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مجين في حقيقة النوا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مجين نووي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ل الجينات وتتابعات الدنا التي توجد في العدد الاحادي من الكروموسومات في نواة الخل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جين ميتوكونديري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روموسوم حلقي واحد او اكث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مجين بلاستيدي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روموسوم حلقي واحد او اكث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عندما يقال مجين (جينوم) في الكائنات الحية حقيقية النواة , فانه يقصد به المجين النووي عاد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مجين في الفيروسات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مجين فيروسي او كرموسوم فيروسي: هو المادة الوراثية المحاطه بالغلاف الخارجي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633"/>
                </a:solidFill>
                <a:latin typeface="Arial"/>
              </a:rPr>
              <a:t>كروموسومان متماثلان :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Homologous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كروموسومان متطابقان من حيث الشكل والحجم والطول وموقع السنتروميروبهما نفس المواقع الجينية , احدهما مورث من الاب والاخر مورث من الا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كروماتيدتان شقيقتان(اختيتان)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Sister chromatids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عبارة عن الجديلتين المتطابقتين الناتجتين عن التضاعف الذاتي للكروموسوم والملتصقتين معا بسنترمير واحد واللتين يمكن رؤيتهما خلال المرحلة الابتدائية والاستوائية من الانقسام النووي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الهيئة الكروموسومية:(طبعة النواة) :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Karyotype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(الشكل 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مجموعة كروموسومات نواة الخلية او الكائن الحي. وغالبا مايشير هذا التعبير الى تنظيم او ترتيب كروموسومات المرحلة الاستوائية في تتابع قياسي   طبقا لاطوالها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وهي صورة فوتغرافية لكروموسومات المرحلة الاستوائية المرتبه في ترتيب قياسي طبقا لاطوالها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781000"/>
            <a:ext cx="8642160" cy="115236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Garamond"/>
              </a:rPr>
              <a:t>الكروموسومات </a:t>
            </a: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Chromosom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321160" cy="548496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869000"/>
            <a:ext cx="8353440" cy="115092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شكال الكروموسومات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راجع الورقه المرفقه رقم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(الشكل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عداد الكروموسومات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راجع كتاب العملي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نواع الكروموسومات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( الشكل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كروموسومات جنسية :(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sex chromosomes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هي الكروموسومات التي تلعب دورا مهما في تحديد جنس الفرد(الكروموسو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الكروموسو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 كروموسومات ذاتية او جسدية: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Aut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كل كروموسومات نواة الخلية ماعدا الكروموسومات الجنس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fbf39"/>
                </a:solidFill>
                <a:latin typeface="Arial"/>
              </a:rPr>
              <a:t>في الانسان</a:t>
            </a:r>
            <a:r>
              <a:rPr b="0" lang="ar-SA" sz="2600" spc="-1" strike="noStrike">
                <a:solidFill>
                  <a:srgbClr val="afbf39"/>
                </a:solidFill>
                <a:latin typeface="Arial"/>
              </a:rPr>
              <a:t>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تحتوى الخلية الجسديه على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روموسو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} 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انثى (كروموسومات جنسية ) ,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x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ذكر(كروموسومات جنسي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                           +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كروموسوم جسدي)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14480" y="476280"/>
            <a:ext cx="5308560" cy="547380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916360" y="333360"/>
            <a:ext cx="3384360" cy="792000"/>
          </a:xfrm>
          <a:prstGeom prst="rect">
            <a:avLst/>
          </a:prstGeom>
          <a:solidFill>
            <a:srgbClr val="cc9900"/>
          </a:solidFill>
          <a:ln w="572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Garamond"/>
              </a:rPr>
              <a:t>الكروموسومات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633"/>
                </a:solidFill>
                <a:latin typeface="Arial"/>
              </a:rPr>
              <a:t>تعريف: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راكيب خطية اسطوانة الشكل توجد دائما بين قطبي الخلية حقيقية النواة المنقسمة ولها القدرة على التضاعف الذاتي . وهي التراكيب التي تحتوى على المادة الوراثية والتي تعمل كنواقل لتخزين ونقل وتعبير وتطور المعلومات الوارثية , وهي تراكيب حركية ( متغيرة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الكروماتين: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Chroma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عقد الدنا ومايرتبط به من بروتينات خلال الفترة التي تكون فيها الخلية حقيقية النواة غير منقسمة . وهو تركيب حركي يمكن أن يغير شكله ومكوناته خلال دورة الخلي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1280" y="290520"/>
            <a:ext cx="5545080" cy="79056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مكونات الكروموسومات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الكرموسوم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جزيء من الحلزون المزدوج للدنا+ بروتينات هسيتونية + بروتينات غير هسيتونية +كميات قليلة من الدنا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. دنا الكروموسومات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(الشكل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يحتوي الدنا الكروموسومي على ثلاثه أنواع من التتابعات اللازمة لتضاعف وانعزال الكروموسومات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أ- مناشئ التضاعف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: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Replication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Origins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تابعات نيوكليوتيديه توجد داخل الدنا الكروموسومي وهي ضرورية لبدء تضاعف الدنا وبالتالي الكروموسوما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ب – السنتروميرات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 :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entrom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تتابعات نيوكليوتيدية عالية التكرار في الدنا وهي ضرورية للانعزال الدقيق للكروموسومات خلال الانقسام النووي (الميتوزي والميوزي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4176720" cy="544536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6633"/>
                </a:solidFill>
                <a:latin typeface="Arial"/>
              </a:rPr>
              <a:t>الكينيتوكور: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 ( الشكل 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17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مجموعة من البروتينات الخلوية التي ترتبط بالسنترومير خلال الانقسام النووي (الميتوزي والميوزي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6633"/>
                </a:solidFill>
                <a:latin typeface="Arial"/>
              </a:rPr>
              <a:t>ج –</a:t>
            </a:r>
            <a:r>
              <a:rPr b="1" lang="ar-SA" sz="25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6633"/>
                </a:solidFill>
                <a:latin typeface="Arial"/>
              </a:rPr>
              <a:t>التيلوميرات : </a:t>
            </a:r>
            <a:r>
              <a:rPr b="1" lang="en-US" sz="2500" spc="-1" strike="noStrike">
                <a:solidFill>
                  <a:srgbClr val="006633"/>
                </a:solidFill>
                <a:latin typeface="Arial"/>
              </a:rPr>
              <a:t>Telomeres</a:t>
            </a:r>
            <a:r>
              <a:rPr b="0" lang="en-US" sz="2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 (الشكل 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20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تتابعات متخصصة من الدنا توجد عند نهايتي كل كروموسوم خطي . ولهذه التتابعات عدة وظائف منها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. تسهيل عملية تضاعف نهايات الكروموسومات وضمان عدم قصرها عند كل دورة تضاع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. منع التحام نهايات الكروموسومات الخطية مع بعضها البعض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. منع الانزيمات المحللة للدنا من تكسير نهايات الكروموسومات الخطية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6633"/>
                </a:solidFill>
                <a:latin typeface="Arial"/>
              </a:rPr>
              <a:t>الجينات </a:t>
            </a:r>
            <a:r>
              <a:rPr b="0" lang="ar-SA" sz="25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 توجد بين التيلوميرات والسنتروميرات على طول الكرموسومات . وكل كروموسوم يحتوى على مئات او الاف الجينات المختلف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61360" cy="3187800"/>
          </a:xfrm>
          <a:prstGeom prst="rect">
            <a:avLst/>
          </a:prstGeom>
          <a:ln w="7632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767640" cy="93672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نواع  تتابعات الدنا في الكرموسوم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هناك 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006633"/>
                </a:solidFill>
                <a:latin typeface="Arial"/>
              </a:rPr>
              <a:t> انواع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. تتابعات فريدة 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يتراوح عدد نسخها م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الى اقل م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. وهي تمثل تتابعات الجينات عادة وتشكل مابي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% من الجينو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. تتابعات متوسطة التكرار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يتراوح عدد نسخها من مئات الى بعض الالالف من الجينوم في حالات قليلة تكون نسخ متعددة لنفس الجين( جينات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RN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جينات الهسيتونات وتتابعات المناشئ وتشكل مابي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الى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% من الجينو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ar-SA" sz="2600" spc="-1" strike="noStrike">
                <a:solidFill>
                  <a:srgbClr val="006633"/>
                </a:solidFill>
                <a:latin typeface="Arial"/>
              </a:rPr>
              <a:t>. تتابعات عالية التكرار: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يتراوح عدد نسخها من عشرات الالاف الى الملايين على طول الجينوم. تكون قصيرة عادة , اذا تتراوح اطوالها من عدد قليل من النيوكليوتيدات الى عدة مئات . قد تكون تتابعات مترادفة كالتتابعات التي تكون السنترومير . وهي تشكل مابي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الى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% من الجينو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407520"/>
            <a:ext cx="6624720" cy="1009800"/>
          </a:xfrm>
          <a:prstGeom prst="rect">
            <a:avLst/>
          </a:prstGeom>
          <a:solidFill>
            <a:srgbClr val="cc9900"/>
          </a:solidFill>
          <a:ln w="76320">
            <a:solidFill>
              <a:srgbClr val="00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ffffff"/>
                </a:solidFill>
                <a:latin typeface="Garamond"/>
              </a:rPr>
              <a:t>أهم الوظائف المقترحة لهذه التتابعات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غير معروفة تماما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لها وظائف تركيبية او تنظيمية في الكروموسوما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قد تلعب دورا مهما في عملية الارتفاق او التشاب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قد تلعب دورا مهما في عملية العبور وتكوين الاتحادات الجدي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حماية الجينات التركيب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خزن للتابعات غير المهمه              تطو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ليس وظيفة على الاطلاق              مجرد  ذرة من الدن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563640" y="5157720"/>
            <a:ext cx="718920" cy="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51280" y="5734080"/>
            <a:ext cx="719280" cy="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7:53:27Z</dcterms:created>
  <dc:creator>هلا</dc:creator>
  <dc:description/>
  <dc:language>en-US</dc:language>
  <cp:lastModifiedBy>هلا</cp:lastModifiedBy>
  <dcterms:modified xsi:type="dcterms:W3CDTF">2007-11-11T15:25:18Z</dcterms:modified>
  <cp:revision>4</cp:revision>
  <dc:subject/>
  <dc:title>الكروموسومات Chromosomes</dc:title>
</cp:coreProperties>
</file>