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B23-D512-4485-B81A-829622C03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BA05-4999-41C5-A355-A7B3F5A51D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E3AE-C253-4CF0-AD4A-AD30F2B689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7079-7802-4522-A4F5-E8AB2D8F13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D0DB-86FB-48E7-A2D4-4A54A20982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8D71-CAE6-4C26-8E26-C3E05152F0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41B1-EFA6-4B05-A2B6-394214C423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8B12-329B-429C-A1D9-6EF62FEE9C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BD83-38B3-4BEF-80DD-904AD1C294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95FF-972D-4E0F-B24A-8358938E8A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5E86-472F-453D-8E1C-3D7B0CFD88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B13C-010F-40B9-8C26-21062D4909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F779-0708-49D4-B52B-26B674E592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5883-775A-47DA-90E1-77F94EB784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714D8-1A34-4EC6-8788-2B15C6534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40A66-90CC-4F47-98CE-A7EE8678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9F61F-EFA6-472E-886E-67A145D1D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6B2EC-F2AE-47E4-A9F2-47C9D48BF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E5689-5EAF-45A4-920E-8A51DDACF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C4C35-444F-4CBB-AEAC-4ADFD5C44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41E1C-8FD5-42D4-A29F-2BBFFA2F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12807-6C7D-4CE5-8A19-0287FDB6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B97DF-5BAF-492B-A80A-F5A200C64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54916-962C-4C34-935C-2B3D8F961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55271-E1E6-4A55-B56A-5862A2529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EF77-0750-4FB9-95D5-C66D2AB4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9961-340F-4299-BF70-09CC88107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3F3EA-843D-49A6-877E-4EE18A352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877D9-46E2-4B0A-B43A-A6FB710A2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29854-18EE-4CA3-B576-7D7A8EDBF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4A718-AF4E-469D-BDD1-E552D6FD1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9C15E-3E31-4BFC-A2B2-010F589C0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7F28-B6A2-4DF6-8B76-9F22C920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76D0-F378-41DE-A22D-88D8A2E03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2E1DC-457F-4ABD-9B6F-E02B9912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CB763-87F3-4842-BC1B-C8C021BE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E30B-ABA0-4A15-B292-ABAB43D38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3E78-0B34-40D9-8B32-D814641E9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6E99-7348-4233-A5BF-418F5042E6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9EAA38E7-1EB6-40EA-AAE2-1D8B2F825B48}"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A80160EB-B624-45D3-808C-6C98D20F0927}"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CECE-40DA-490C-A4D0-5A021AE010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Bolivia, Columbia, Ecuador, Peru, and Chile. 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keep own trade policies toward others.</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6-11-26T18:27:25Z</dcterms:modified>
  <cp:revision>43</cp:revision>
  <dc:subject/>
  <dc:title>Slide 1</dc:title>
</cp:coreProperties>
</file>