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D282-EFD3-47BE-80A3-5415F3028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C6C7-E553-40C2-B572-8F6394498B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6B70-DE7A-4C43-BF25-C5D09909EF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EF7D-065D-4A80-8DD6-5D00E82F8E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2C8C-7012-4354-8EB5-7EB052579F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797B-E069-41B9-A1DA-A9E8368872B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16CA-BE41-4FE3-8452-F2958B7FFA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1AAC-E764-4E34-867F-DF3FEBB9C18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CFB5-1F85-4784-8FFE-F753BBFFEFA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1208-3E4B-4D6F-8A2F-18F9658A9B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FE4C-F58B-4029-A27C-286C57321F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5A8B-3681-4E5B-B394-A2A58F36DB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361A-C450-4CB1-92AD-D68CA03220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ECA5-0A6E-4266-8419-C1B09F2A76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14504-B4B2-4662-A093-E13493FC0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57304-C08D-4AE9-A7D2-C4BFE6A2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3CC3-AD1F-45A4-8D1A-D76166C8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FA4C-438F-43C7-8CEC-EF3694DD1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B4F9A-7199-437F-A737-AB2CC2A0B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6DF90-5E53-4013-B076-CC62B273F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186C4-50E8-469C-8FCD-960EC4D12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B793B-B73D-4F37-BB2B-2ACD91509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23E19-866A-4905-BEC6-D5CD4C3F7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B52AA-B3C5-4071-8528-5F0A5B159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112E6-7374-416E-B162-977D6F057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2797C-6042-439A-A87F-1BBE1028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DAB9-3F87-4CB3-A0CD-1AC53C597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8103F-A6F4-4AB2-84B2-360EC94BB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A1F7B-218A-4E2A-BA22-63E599E2E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ECE05-84A5-42A1-8AFF-95024B253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E7734-0230-4EDE-A055-35D770508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62C1-149E-4EE3-BC2C-C16BDE5C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8FA24-A7BE-4B80-99BE-91AA608AE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4FCD2-6BCA-4EA0-B1C6-9D65B076C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55D7-338C-4F5F-86F4-4FD3CE2AD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304F-5F97-4F19-8A21-280780A47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0DBB-7DCB-4FC2-9816-93E0B90D5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D992-31A2-4F07-BF7E-22B718CF9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E52F-5258-445A-8EF2-9CD33D50B4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DE946751-F5C9-47C9-8518-E4C061E7C7B7}"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A042111E-D701-40A3-9B67-9756DFE0DE82}"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8AD7-0B46-474A-91C7-CE56BFC7A4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Bolivia, Columbia, Ecuador, Peru, and Chile. 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keep own trade policies toward others.</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6-11-26T18:27:25Z</dcterms:modified>
  <cp:revision>43</cp:revision>
  <dc:subject/>
  <dc:title>Slide 1</dc:title>
</cp:coreProperties>
</file>