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9E48-51F2-43EC-B4BE-6C24BF8EF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77FD-5113-4824-8166-AA893CADD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D232F-9E68-4ADF-BB67-0946BC732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01702-6B42-4FCC-8595-9F04064AC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A5FFF-C810-4BB4-8EAB-87BE0FFEE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BD7AA-EF55-467B-828C-9A2ECAE67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AD81F-FF55-431E-8439-C86F79682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C3F9-966D-49A2-9F12-644517063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79804-4B36-454B-A5C6-57D79F03D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BB894-2730-4321-9565-89C5216D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62695-417C-4355-A6A2-CEDB4C342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1A46-C725-4364-BA1B-2467BAEA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87CF-5530-4150-B470-C5FACF686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5CC1-AC9F-4B3A-828D-2435E592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DF39-92A7-4B41-B373-A9C709533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AF054-BAA7-40E5-8635-EC1C4FA0C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A3839-F3A7-4A9D-8A7C-6A1A6E2EE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4D5DEC-495E-4C68-B74A-5ABD79A9AA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51E47-546A-4B41-8CEB-AF7201A92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281E5-1534-4A39-B648-C3BCC5943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A911B-B375-4DFD-B85B-718BA7A06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C1340-48BB-4263-86D4-083A97B3E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466E-2275-4264-B3CA-D97173B4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11529-9738-474C-9022-3B11734A4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A556B-8FC9-46BC-A208-9CFE1A3E7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5FB55-1B2F-4B16-90C6-EFA3F3B08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0FCCA-216A-46B6-9B93-30E926650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FA4A38-087C-41C4-9ACD-7C4AB0AC3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8DF2D-7EF1-4C63-A340-743866761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6C26C-126C-47F9-B1D9-27796BE01B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1D85F-354B-49B0-A82C-B69645E8C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5DB69-4917-4B08-A621-45C9DAB144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B891C-EF0D-4528-955B-AF2BDC3F4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F2464-76E7-4571-B9FF-EF00510C4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00ABB-109B-4AA7-8283-8DF75E475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62695-6BC2-47A2-A72F-32D28EFD1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960CB-99C3-4F0C-8AF3-09D3178D0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8841F-0952-4B5C-8C04-120290B3E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E4093-77FE-4364-8FCE-D8C5124B4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FCE25-2B1B-4EB0-980E-5FF462D3A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D0C72-1E9C-4690-AC43-D6BC18F1C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DDBEA-F10F-4A13-890E-1F1ABE4302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DA548E-6D36-49CD-934F-9D23BE0BA8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E28FFC-7A90-4439-B294-A63BEFFCAC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F425-3977-4CEA-895C-EF8BDFA0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73439-48B6-4258-9550-B98A1D634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9C04D-DD28-4D9A-BB83-881650CC7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783BE-F302-48FE-988F-DB5DCF4AC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9B4F5-EE04-4324-863B-61958272B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E2E93-50A3-4665-81CE-8BF6E4C75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41D55-DE74-4E2B-8E36-AF2C3FC5C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DDEA4-5615-4B77-B52D-019AD8853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886B9-3B8F-45CB-8E7B-FBEC9D01C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13F1F-14F1-4B73-82CB-C59507484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C12471-9287-4859-BC6E-AFBCB6286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D73FB-2E46-4F2B-A7BD-96A6D7737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27320D-151B-4436-AF50-48CF727E48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6C2B1B-1DCC-4FAC-9008-B649219E8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FF9E8-D3D3-4943-BB26-4BFBC2E95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222E6-47FA-406A-9ADC-DA721289F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C52A89-4715-4612-A998-3D5D217BE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37F46-E305-4BB8-8D6E-57B2E686D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B0D75-94E8-4CB3-9B8F-08F2D9876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752A1-CDD1-49CD-8616-AD98272FE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CF040-412F-479A-8196-6077E573C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2B10C-0883-4CF0-A886-A85A3A574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9506-E8D7-4C7E-BAFB-A59D5D9F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7564B8-A38C-45C0-99E4-FE4672958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00157-879F-4533-9FF2-A768210490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082643-1E65-4624-9EAA-C54760669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4CE2-1FED-4F31-96FE-1770A688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5BB6-DB15-46EC-A3DA-8BF7BA0D8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1073-67C4-47FF-A756-22CF6EA93D5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4688-B445-4D3F-9D30-22525F05D2D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2B90-6A5B-4091-B9A1-08845432E04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1323-C066-47F6-8304-5EC2ECDCDDD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8B43-9A95-4097-ADB4-E2D88CD3F72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AAAF-17D5-4B63-893A-2D2E6F9640D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1"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3"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24000" y="260280"/>
            <a:ext cx="8496000" cy="4114800"/>
          </a:xfrm>
          <a:prstGeom prst="rect">
            <a:avLst/>
          </a:prstGeom>
          <a:noFill/>
          <a:ln w="0">
            <a:noFill/>
          </a:ln>
        </p:spPr>
        <p:txBody>
          <a:bodyPr lIns="92160" rIns="92160" tIns="46080" bIns="46080" anchor="t">
            <a:normAutofit fontScale="65000"/>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المشروع الرابع</a:t>
            </a:r>
            <a:endParaRPr b="0" lang="en-US" sz="3200" spc="-1" strike="noStrike">
              <a:solidFill>
                <a:srgbClr val="000000"/>
              </a:solidFill>
              <a:latin typeface="Times New Roman"/>
            </a:endParaRPr>
          </a:p>
          <a:p>
            <a:pPr algn="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نشاط تعريف وتسمية الأعداد</a:t>
            </a:r>
            <a:r>
              <a:rPr b="1" lang="ar-SA" sz="3200" spc="-1" strike="noStrike" u="sng">
                <a:solidFill>
                  <a:srgbClr val="ff0000"/>
                </a:solidFill>
                <a:uFillTx/>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تار الطالبة 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طط نشاط تقديم العدد إلى الطفل من خلال قصة او انشودة او اي نشاط تبتكره المعلمة لجذب انتباه الاطفال وتشويقهم لتعلم، مع احضار ادوات مشوقة للنشاط حتى لو كانت انشود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حضر الطالبة تطبيقات للأطفال حول ال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قدم الطالبة النشاط بأسلوب التدريس المصغر وتتدرب على النشاط وتحضر الاسئلة المناسبة، وتؤدي النشاط بأسلوب مناسب لطفل الروض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فهوم الرمز العددي:</a:t>
            </a:r>
            <a:endParaRPr b="0" lang="en-US" sz="3200" spc="-1" strike="noStrike">
              <a:solidFill>
                <a:srgbClr val="000000"/>
              </a:solidFill>
              <a:latin typeface="Times New Roman"/>
            </a:endParaRPr>
          </a:p>
          <a:p>
            <a:pPr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6-12-06T09:17:11Z</dcterms:modified>
  <cp:revision>72</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