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73226-0760-4CA0-9896-4CFEE594F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7C4D-D6B4-4F79-91EC-335FF371F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A3EB8-569D-4E73-AFAF-3797243A2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EE48A-7DCE-45B8-836A-E64FE64FE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2104B-C9A7-422F-8E75-8DD7D2B60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FD233-AF49-4B9B-A86C-DFBA91C99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8C9D1-062F-4C69-8523-796504A48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C878A-4B8F-4F04-8F00-4ACA7CD73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EBA34-EF10-49E1-9536-47E435E6E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9B9C0-FB73-4485-AE10-A42D08DD3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ADB10-9312-46AB-8A4A-AC2569249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DCC63-1E97-4A03-A6AE-D561AF277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03F4C-B7F6-4117-852D-4029020D0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CE953-15F4-46F2-9A29-8CE820B87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16847-4CDF-459A-8D8C-BCE2A9890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205BB-61FA-4346-A817-EC978888D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FCBC2-A3D4-4D58-AD72-A885C35EF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8482C9-CF4C-452D-A867-400E8DB493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41A36-C60F-424B-827E-2B25B34DE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C3431-F1C7-4EA6-9ACE-B56BAFB713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569F2-A7C0-49FA-B3C6-EB35A5854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78C3B-7EA7-42A4-B6C1-7573919DF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7FCA6-0B61-46DC-A1CA-27FF4FA3D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8D0E4-9DC8-4C6A-9F94-7194E7D36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87B52-3D5D-428A-832A-F1B4E74FF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70372-7424-467B-A71F-2CF550A18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00A7A-3979-4139-8413-7D37E9ECA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3693B-37C2-4EF8-B625-138BBBCA1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60FD7-3A0F-4694-96A0-5497CAFD95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B05E97-1179-4176-BF3E-66E05A95C5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BBC212-F8BD-4265-A161-87BBF3178C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D4064-962D-4A7F-9D7D-F989F90D5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8CF97-92A9-452E-B7FF-B3D6C9C56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AA6E-1410-41DA-8915-F0728AB43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11D03-30CB-4419-8ECE-6D452AA14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D4650-FAE6-4595-B57F-9C8B20474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94962C-79A8-48AB-A2C4-F86EEFA181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AF6AB-E709-4CDC-8EDD-1EC343CD2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53E84-0378-49AD-8422-365326A74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ADAA1-AEB1-4219-9050-55584B0C0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AE3AF4-0FBA-440F-B567-445FFC8D4A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D3D8EB-C421-4445-B0EF-15912A3C5A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E33DE-5215-486F-9104-936B6CCF6A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368A70-D510-4F3B-895E-D445A2A0DB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05A5-737B-4C4D-A689-C6CF8CBC3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1F7578-3514-4DEA-81A7-882408284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B2D0D-4A8F-442C-8807-58E916E18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784559-F744-4EA8-B04F-31EE2FDD6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B19E67-D4E1-4BDC-A79B-1F28E45C5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77EB52-3030-4F68-9086-EA8AA01FB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4598AC-4913-4CDE-8883-00EC36B62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7F4CD-BF7D-4750-A3B6-7172A6F34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17DDD-8E5D-4EC9-BF6D-2BA88E7AF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E2337-A742-430A-AF40-8AC7D9C91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45E4DC-906B-4244-B8B9-4B91A4C1BA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8FAE-FBC5-48C0-BFC3-0D374A0F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E679C9-5535-4B41-9E15-E021254333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D9679F-10B2-425C-956C-FF4A5AB8B3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18ED7-2C25-438E-B47A-AF97E81F47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A1D0EE-CEA1-4348-8749-B947A861F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1B66F2-3118-4291-8C2B-A945A2926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FB9612-8BD3-48CB-BB56-56E334F93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DA5FA7-266A-42BE-B300-4C4C66720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F41F7-FA6B-44A6-9FB4-EBD9264CD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9075A-460D-4077-BF64-88789613E4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30D11-B1A5-41D2-91F6-0AEC0F658D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252B9-AA0D-45A1-A668-792ADAC4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1935AC-E794-46AF-A280-E30FA937B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1CB42D-16AB-48F4-BB4C-F18B1F0D08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7F1F6F-F55C-4861-8711-260C1E4124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DADF2-423A-4BA0-B7F6-8C3B1406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82825-6553-4821-A173-DAAFF8898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FC73-CD47-4CF5-8296-DEF8A995BF8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9301-FB6D-429C-9D25-50995E21627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7"/>
          <p:cNvGrpSpPr/>
          <p:nvPr/>
        </p:nvGrpSpPr>
        <p:grpSpPr>
          <a:xfrm>
            <a:off x="228600" y="228600"/>
            <a:ext cx="8763120" cy="6553080"/>
            <a:chOff x="228600" y="228600"/>
            <a:chExt cx="8763120" cy="6553080"/>
          </a:xfrm>
        </p:grpSpPr>
        <p:sp>
          <p:nvSpPr>
            <p:cNvPr id="51"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3"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037B-D6CC-4FBB-AE9E-A044EEDDA3C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Group 7"/>
          <p:cNvGrpSpPr/>
          <p:nvPr/>
        </p:nvGrpSpPr>
        <p:grpSpPr>
          <a:xfrm>
            <a:off x="228600" y="228600"/>
            <a:ext cx="8763120" cy="6553080"/>
            <a:chOff x="228600" y="228600"/>
            <a:chExt cx="8763120" cy="6553080"/>
          </a:xfrm>
        </p:grpSpPr>
        <p:sp>
          <p:nvSpPr>
            <p:cNvPr id="9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0" y="2457360"/>
            <a:ext cx="9067680" cy="4324320"/>
            <a:chOff x="0" y="2457360"/>
            <a:chExt cx="9067680" cy="4324320"/>
          </a:xfrm>
        </p:grpSpPr>
        <p:sp>
          <p:nvSpPr>
            <p:cNvPr id="13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0" descr="dice2"/>
            <p:cNvPicPr/>
            <p:nvPr/>
          </p:nvPicPr>
          <p:blipFill>
            <a:blip r:embed="rId2"/>
            <a:stretch/>
          </p:blipFill>
          <p:spPr>
            <a:xfrm>
              <a:off x="0" y="2457360"/>
              <a:ext cx="1552680" cy="1581120"/>
            </a:xfrm>
            <a:prstGeom prst="rect">
              <a:avLst/>
            </a:prstGeom>
            <a:ln w="0">
              <a:noFill/>
            </a:ln>
          </p:spPr>
        </p:pic>
      </p:grpSp>
      <p:sp>
        <p:nvSpPr>
          <p:cNvPr id="13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9930-2F59-4ECF-8317-AAC5526DDDF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7"/>
          <p:cNvGrpSpPr/>
          <p:nvPr/>
        </p:nvGrpSpPr>
        <p:grpSpPr>
          <a:xfrm>
            <a:off x="0" y="2457360"/>
            <a:ext cx="9067680" cy="4324320"/>
            <a:chOff x="0" y="2457360"/>
            <a:chExt cx="9067680" cy="4324320"/>
          </a:xfrm>
        </p:grpSpPr>
        <p:sp>
          <p:nvSpPr>
            <p:cNvPr id="181"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10" descr="dice2"/>
            <p:cNvPicPr/>
            <p:nvPr/>
          </p:nvPicPr>
          <p:blipFill>
            <a:blip r:embed="rId2"/>
            <a:stretch/>
          </p:blipFill>
          <p:spPr>
            <a:xfrm>
              <a:off x="0" y="2457360"/>
              <a:ext cx="1552680" cy="1581120"/>
            </a:xfrm>
            <a:prstGeom prst="rect">
              <a:avLst/>
            </a:prstGeom>
            <a:ln w="0">
              <a:noFill/>
            </a:ln>
          </p:spPr>
        </p:pic>
      </p:grpSp>
      <p:sp>
        <p:nvSpPr>
          <p:cNvPr id="18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5"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E7E0-D229-4B90-B7C9-EDB99F92187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7"/>
          <p:cNvGrpSpPr/>
          <p:nvPr/>
        </p:nvGrpSpPr>
        <p:grpSpPr>
          <a:xfrm>
            <a:off x="0" y="2457360"/>
            <a:ext cx="9067680" cy="4324320"/>
            <a:chOff x="0" y="2457360"/>
            <a:chExt cx="9067680" cy="4324320"/>
          </a:xfrm>
        </p:grpSpPr>
        <p:sp>
          <p:nvSpPr>
            <p:cNvPr id="22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Picture 10" descr="dice2"/>
            <p:cNvPicPr/>
            <p:nvPr/>
          </p:nvPicPr>
          <p:blipFill>
            <a:blip r:embed="rId2"/>
            <a:stretch/>
          </p:blipFill>
          <p:spPr>
            <a:xfrm>
              <a:off x="0" y="2457360"/>
              <a:ext cx="1552680" cy="1581120"/>
            </a:xfrm>
            <a:prstGeom prst="rect">
              <a:avLst/>
            </a:prstGeom>
            <a:ln w="0">
              <a:noFill/>
            </a:ln>
          </p:spPr>
        </p:pic>
      </p:grpSp>
      <p:sp>
        <p:nvSpPr>
          <p:cNvPr id="22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0537-E0FF-4EBC-A6B5-E657D22C9BE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62120" y="1052280"/>
            <a:ext cx="7772400" cy="5119560"/>
          </a:xfrm>
          <a:prstGeom prst="rect">
            <a:avLst/>
          </a:prstGeom>
          <a:noFill/>
          <a:ln w="0">
            <a:noFill/>
          </a:ln>
        </p:spPr>
        <p:txBody>
          <a:bodyPr lIns="92160" rIns="92160" tIns="46080" bIns="46080" anchor="t">
            <a:normAutofit/>
          </a:bodyPr>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rPr>
              <a:t>مفهوم العدد</a:t>
            </a:r>
            <a:endParaRPr b="0" lang="en-US" sz="5400" spc="-1" strike="noStrike">
              <a:solidFill>
                <a:srgbClr val="000000"/>
              </a:solidFill>
              <a:latin typeface="Times New Roman"/>
            </a:endParaRPr>
          </a:p>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271" name="Picture 1" descr=""/>
          <p:cNvPicPr/>
          <p:nvPr/>
        </p:nvPicPr>
        <p:blipFill>
          <a:blip r:embed="rId1"/>
          <a:stretch/>
        </p:blipFill>
        <p:spPr>
          <a:xfrm>
            <a:off x="2195640" y="2276640"/>
            <a:ext cx="4752720" cy="26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هناك مهارات ست للرموز العددية مسلسلة حسب النمو العقلي</a:t>
            </a:r>
            <a:r>
              <a:rPr b="0" lang="ar-SA" sz="4400" spc="-1" strike="noStrike">
                <a:solidFill>
                  <a:srgbClr val="ff0000"/>
                </a:solidFill>
                <a:latin typeface="Times New Roman"/>
              </a:rPr>
              <a:t>:</a:t>
            </a:r>
            <a:br>
              <a:rPr sz="4400"/>
            </a:br>
            <a:endParaRPr b="0" lang="en-US" sz="4400" spc="-1" strike="noStrike">
              <a:solidFill>
                <a:srgbClr val="000000"/>
              </a:solidFill>
              <a:latin typeface="Times New Roman"/>
            </a:endParaRPr>
          </a:p>
        </p:txBody>
      </p:sp>
      <p:sp>
        <p:nvSpPr>
          <p:cNvPr id="281" name=""/>
          <p:cNvSpPr txBox="1"/>
          <p:nvPr/>
        </p:nvSpPr>
        <p:spPr>
          <a:xfrm>
            <a:off x="762120" y="1773000"/>
            <a:ext cx="7772400" cy="4398840"/>
          </a:xfrm>
          <a:prstGeom prst="rect">
            <a:avLst/>
          </a:prstGeom>
          <a:noFill/>
          <a:ln w="0">
            <a:noFill/>
          </a:ln>
        </p:spPr>
        <p:txBody>
          <a:bodyPr lIns="92160" rIns="92160" tIns="46080" bIns="46080" anchor="t">
            <a:normAutofit fontScale="87000"/>
          </a:bodyPr>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2800" spc="-1" strike="noStrike">
                <a:solidFill>
                  <a:srgbClr val="000000"/>
                </a:solidFill>
                <a:latin typeface="Times New Roman"/>
              </a:rPr>
              <a:t>يردد اسم كل رمز عددي وان يميز بين تلك الرمو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يضع الرموز العددية في ترتيب </a:t>
            </a:r>
            <a:r>
              <a:rPr b="1" lang="ar-SA" sz="2800" spc="-1" strike="noStrike">
                <a:solidFill>
                  <a:srgbClr val="000000"/>
                </a:solidFill>
                <a:latin typeface="Times New Roman"/>
              </a:rPr>
              <a:t>1</a:t>
            </a: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ربط الرموز العددية بالمجموعات فمثلا العدد </a:t>
            </a:r>
            <a:r>
              <a:rPr b="1" lang="ar-SA" sz="2800" spc="-1" strike="noStrike">
                <a:solidFill>
                  <a:srgbClr val="000000"/>
                </a:solidFill>
                <a:latin typeface="Times New Roman"/>
              </a:rPr>
              <a:t>1</a:t>
            </a:r>
            <a:r>
              <a:rPr b="1" lang="ar-SA" sz="2800" spc="-1" strike="noStrike">
                <a:solidFill>
                  <a:srgbClr val="000000"/>
                </a:solidFill>
                <a:latin typeface="Times New Roman"/>
              </a:rPr>
              <a:t> يرتبط بشيء واحد</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درك ان كل رمز في ترتيب يشير الى (اكثر بواحد) من الرمز السابق له بمعنى ثلاثة اكثر من اثنين بواحد وهكذا</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قابل كل رمز عددي بالمجموعة ذات الحجم الذي يشير اليه الرم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كتب الرموز.</a:t>
            </a:r>
            <a:endParaRPr b="0" lang="en-US" sz="2800" spc="-1" strike="noStrike">
              <a:solidFill>
                <a:srgbClr val="000000"/>
              </a:solidFill>
              <a:latin typeface="Times New Roman"/>
            </a:endParaRPr>
          </a:p>
          <a:p>
            <a:pPr marL="298440" indent="-298440"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نشطة تنمية المفاهيم العددية والحس العددي</a:t>
            </a:r>
            <a:r>
              <a:rPr b="1" lang="ar-SA" sz="4400" spc="-1" strike="noStrike">
                <a:solidFill>
                  <a:srgbClr val="ff0000"/>
                </a:solidFill>
                <a:latin typeface="Times New Roman"/>
              </a:rPr>
              <a:t>:</a:t>
            </a:r>
            <a:endParaRPr b="0" lang="en-US" sz="4400" spc="-1" strike="noStrike">
              <a:solidFill>
                <a:srgbClr val="000000"/>
              </a:solidFill>
              <a:latin typeface="Times New Roman"/>
            </a:endParaRPr>
          </a:p>
        </p:txBody>
      </p:sp>
      <p:sp>
        <p:nvSpPr>
          <p:cNvPr id="283" name=""/>
          <p:cNvSpPr txBox="1"/>
          <p:nvPr/>
        </p:nvSpPr>
        <p:spPr>
          <a:xfrm>
            <a:off x="762120" y="2057400"/>
            <a:ext cx="7772400" cy="4114800"/>
          </a:xfrm>
          <a:prstGeom prst="rect">
            <a:avLst/>
          </a:prstGeom>
          <a:noFill/>
          <a:ln w="0">
            <a:noFill/>
          </a:ln>
        </p:spPr>
        <p:txBody>
          <a:bodyPr lIns="92160" rIns="92160" tIns="46080" bIns="46080"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الجزء الأول: عد الاعدا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رديد او عد الاعداد هي مهمة استظهار، يمكن اثناء العد ان يقفز الاطفال بين الاعداد وذلك لعدم ادراكهم اهميتها او انهم يعتقدون ان لامعنى لها</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نشطة: مثل الاناشيد- عد الاشيا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55640" y="1628640"/>
            <a:ext cx="7772400" cy="4114800"/>
          </a:xfrm>
          <a:prstGeom prst="rect">
            <a:avLst/>
          </a:prstGeom>
          <a:noFill/>
          <a:ln w="0">
            <a:noFill/>
          </a:ln>
        </p:spPr>
        <p:txBody>
          <a:bodyPr lIns="92160" rIns="92160" tIns="46080" bIns="46080" anchor="t">
            <a:normAutofit fontScale="82000"/>
          </a:bodyPr>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ني : تمييز الاعداد:</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هارة تمييز الرموز العددية تعتمد على الادراك البصري والذاكرة البصرية والطفل يمكن ان يخلط بين </a:t>
            </a:r>
            <a:r>
              <a:rPr b="1" lang="ar-SA" sz="2400" spc="-1" strike="noStrike">
                <a:solidFill>
                  <a:srgbClr val="000000"/>
                </a:solidFill>
                <a:latin typeface="Times New Roman"/>
              </a:rPr>
              <a:t>6</a:t>
            </a:r>
            <a:r>
              <a:rPr b="1" lang="ar-SA" sz="2400" spc="-1" strike="noStrike">
                <a:solidFill>
                  <a:srgbClr val="000000"/>
                </a:solidFill>
                <a:latin typeface="Times New Roman"/>
              </a:rPr>
              <a:t>و</a:t>
            </a:r>
            <a:r>
              <a:rPr b="1" lang="ar-SA" sz="2400" spc="-1" strike="noStrike">
                <a:solidFill>
                  <a:srgbClr val="000000"/>
                </a:solidFill>
                <a:latin typeface="Times New Roman"/>
              </a:rPr>
              <a:t>2</a:t>
            </a:r>
            <a:r>
              <a:rPr b="1" lang="ar-SA" sz="2400" spc="-1" strike="noStrike">
                <a:solidFill>
                  <a:srgbClr val="000000"/>
                </a:solidFill>
                <a:latin typeface="Times New Roman"/>
              </a:rPr>
              <a:t> او بين </a:t>
            </a:r>
            <a:r>
              <a:rPr b="1" lang="ar-SA" sz="2400" spc="-1" strike="noStrike">
                <a:solidFill>
                  <a:srgbClr val="000000"/>
                </a:solidFill>
                <a:latin typeface="Times New Roman"/>
              </a:rPr>
              <a:t>8</a:t>
            </a:r>
            <a:r>
              <a:rPr b="1" lang="ar-SA" sz="2400" spc="-1" strike="noStrike">
                <a:solidFill>
                  <a:srgbClr val="000000"/>
                </a:solidFill>
                <a:latin typeface="Times New Roman"/>
              </a:rPr>
              <a:t> و </a:t>
            </a:r>
            <a:r>
              <a:rPr b="1" lang="ar-SA" sz="2400" spc="-1" strike="noStrike">
                <a:solidFill>
                  <a:srgbClr val="000000"/>
                </a:solidFill>
                <a:latin typeface="Times New Roman"/>
              </a:rPr>
              <a:t>7</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لث: كتابة الرموز العددية: </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دراك الطفل للرموز العددية قد لا يتواكب مع قدرته على كتابتها التي تتطلب نمو القدرات الحركية الدقيقة وتناسق العين مع اليد.</a:t>
            </a:r>
            <a:endParaRPr b="0" lang="en-US" sz="2400" spc="-1" strike="noStrike">
              <a:solidFill>
                <a:srgbClr val="000000"/>
              </a:solidFill>
              <a:latin typeface="Times New Roman"/>
            </a:endParaRPr>
          </a:p>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755640" y="1628640"/>
            <a:ext cx="7772400" cy="4114800"/>
          </a:xfrm>
          <a:prstGeom prst="rect">
            <a:avLst/>
          </a:prstGeom>
          <a:noFill/>
          <a:ln w="0">
            <a:noFill/>
          </a:ln>
        </p:spPr>
        <p:txBody>
          <a:bodyPr lIns="92160" rIns="92160" tIns="46080" bIns="46080" anchor="t">
            <a:normAutofit fontScale="7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رابع: رموز للأعداد والعدد الكمي لمجمو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ربط بين اسم العدد والعدد الكمي لمجموعة ، (كم عناصر المجموعة) يمكن ان تطلب المعلمة عدة امور مثل:</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ذكر عدد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كتابة العدد الدال على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قابلة عدد العناصر بالرمز العددي الدال عل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خامس : ترتيب الرموز العددية تبعا للترتيب العدد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قبل هذه الانشطة من المفترض ان يميز الطفل الاعداد ويكتب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24000" y="260280"/>
            <a:ext cx="8496000" cy="4114800"/>
          </a:xfrm>
          <a:prstGeom prst="rect">
            <a:avLst/>
          </a:prstGeom>
          <a:noFill/>
          <a:ln w="0">
            <a:noFill/>
          </a:ln>
        </p:spPr>
        <p:txBody>
          <a:bodyPr lIns="92160" rIns="92160" tIns="46080" bIns="46080" anchor="t">
            <a:normAutofit fontScale="65000"/>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المشروع الرابع</a:t>
            </a:r>
            <a:endParaRPr b="0" lang="en-US" sz="3200" spc="-1" strike="noStrike">
              <a:solidFill>
                <a:srgbClr val="000000"/>
              </a:solidFill>
              <a:latin typeface="Times New Roman"/>
            </a:endParaRPr>
          </a:p>
          <a:p>
            <a:pPr algn="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نشاط تعريف وتسمية الأعداد</a:t>
            </a:r>
            <a:r>
              <a:rPr b="1" lang="ar-SA" sz="3200" spc="-1" strike="noStrike" u="sng">
                <a:solidFill>
                  <a:srgbClr val="ff0000"/>
                </a:solidFill>
                <a:uFillTx/>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تار الطالبة 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طط نشاط تقديم العدد إلى الطفل من خلال قصة او انشودة او اي نشاط تبتكره المعلمة لجذب انتباه الاطفال وتشويقهم لتعلم، مع احضار ادوات مشوقة للنشاط حتى لو كانت انشود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حضر الطالبة تطبيقات للأطفال حول ال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قدم الطالبة النشاط بأسلوب التدريس المصغر وتتدرب على النشاط وتحضر الاسئلة المناسبة، وتؤدي النشاط بأسلوب مناسب لطفل الروض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762120" y="1125000"/>
            <a:ext cx="7772400" cy="5046840"/>
          </a:xfrm>
          <a:prstGeom prst="rect">
            <a:avLst/>
          </a:prstGeom>
          <a:noFill/>
          <a:ln w="0">
            <a:noFill/>
          </a:ln>
        </p:spPr>
        <p:txBody>
          <a:bodyPr lIns="92160" rIns="92160" tIns="46080" bIns="46080" anchor="t">
            <a:norm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نمو مفهوم العدد</a:t>
            </a:r>
            <a:endParaRPr b="0" lang="en-US" sz="36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فهوم العدد ينمو من خلال بيئة الطفل فكل منزل يعتبر مصدر عظيما للخبرات العددية حيث نشجع الطفل اثناء لعبه ونموه ان يعد الاشياء مثل : اصابعه..العابه...بالاضافة الى الاغاني والقصص التي يستمع اليها، فهو يرفع اصابعه عندما نسأله عن عمره ويربط احيانا بين لفظ </a:t>
            </a:r>
            <a:r>
              <a:rPr b="0" lang="ar-SA" sz="2800" spc="-1" strike="noStrike">
                <a:solidFill>
                  <a:srgbClr val="000000"/>
                </a:solidFill>
                <a:latin typeface="Times New Roman"/>
              </a:rPr>
              <a:t>2</a:t>
            </a:r>
            <a:r>
              <a:rPr b="0" lang="ar-SA" sz="2800" spc="-1" strike="noStrike">
                <a:solidFill>
                  <a:srgbClr val="000000"/>
                </a:solidFill>
                <a:latin typeface="Times New Roman"/>
              </a:rPr>
              <a:t> وعينيه او قدميه....</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يستطيع الطفل ان يقوم  بالتناظر الاحادي لمجموعتين متكافئتين من الاشياء وهذا يعتبر تقدير كمي بسيط مثل (البيض وكؤوس البي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762120" y="1341000"/>
            <a:ext cx="7772400" cy="4830840"/>
          </a:xfrm>
          <a:prstGeom prst="rect">
            <a:avLst/>
          </a:prstGeom>
          <a:noFill/>
          <a:ln w="0">
            <a:noFill/>
          </a:ln>
        </p:spPr>
        <p:txBody>
          <a:bodyPr lIns="92160" rIns="92160" tIns="46080" bIns="46080" anchor="t">
            <a:normAutofit fontScale="91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نمو مفهوم العدد الكمي (الكاردينالي)</a:t>
            </a:r>
            <a:endParaRPr b="0" lang="en-US" sz="36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لمجموعة ما: هو عدد العناصر او اعضاء تلك المجموعة   </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هو العدد الذي نجيب به على سؤال كم عنصرا في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جب التأكد ان كل الاطفال قد بني لديهم فهم العدد الكاردينالي ، فمثلا عندما نطلب من الطفل ان يستخدم اصابعه ليبين لنا الخمسة فان البعض منهم قد يشير الى الاصبع الخامس فقط.</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ا ان بعض الاطفال قد يتعلمون الربط بين العدد الكمي وشكل معين عناصر المجموعة (مشكلة الاحتفا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71640" y="1125000"/>
            <a:ext cx="7772400" cy="5046840"/>
          </a:xfrm>
          <a:prstGeom prst="rect">
            <a:avLst/>
          </a:prstGeom>
          <a:noFill/>
          <a:ln w="0">
            <a:noFill/>
          </a:ln>
        </p:spPr>
        <p:txBody>
          <a:bodyPr lIns="92160" rIns="92160" tIns="46080" bIns="46080"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نمو مفهوم عدد الرتبة</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د الرتبة هو الذي يحدد موضع العدد بالنسبة لغيره في سلسلة الاعداد الطبيعية فهو يكون الاول او الثاني او الثالث.</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عداد الرتبة تستنتج في مرحلة الحضانة لان معظم الاطفال يعرف الاول والاخي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يتأخر سيصبح الاخير، انا اول واحد في الطابو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26920" y="836640"/>
            <a:ext cx="7772400" cy="5046480"/>
          </a:xfrm>
          <a:prstGeom prst="rect">
            <a:avLst/>
          </a:prstGeom>
          <a:noFill/>
          <a:ln w="0">
            <a:noFill/>
          </a:ln>
        </p:spPr>
        <p:txBody>
          <a:bodyPr lIns="92160" rIns="92160" tIns="46080" bIns="46080" anchor="t">
            <a:normAutofit fontScale="79000"/>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نمو مفهومي العدد والترتيب العددي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سرد اسماء الاعداد في ترتيب من الذاكرة هو ما يعرف بـ(العد الالي) او (العد الصم) او ( العد بالاستظهار)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و ترديد اسماء العدد في ترتيب دون امتلاك اي فكرة عما تعنيه اسماء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آلي خلفية ضرورية لتعلم العد العقلي لأنه يعلم الطفل الترتيب الصحيح للارقام.(يعرف الطفل ان </a:t>
            </a:r>
            <a:r>
              <a:rPr b="1" lang="ar-SA" sz="2400" spc="-1" strike="noStrike">
                <a:solidFill>
                  <a:srgbClr val="000000"/>
                </a:solidFill>
                <a:latin typeface="Times New Roman"/>
              </a:rPr>
              <a:t>8</a:t>
            </a:r>
            <a:r>
              <a:rPr b="1" lang="ar-SA" sz="2400" spc="-1" strike="noStrike">
                <a:solidFill>
                  <a:srgbClr val="000000"/>
                </a:solidFill>
                <a:latin typeface="Times New Roman"/>
              </a:rPr>
              <a:t> بعد </a:t>
            </a:r>
            <a:r>
              <a:rPr b="1" lang="ar-SA" sz="2400" spc="-1" strike="noStrike">
                <a:solidFill>
                  <a:srgbClr val="000000"/>
                </a:solidFill>
                <a:latin typeface="Times New Roman"/>
              </a:rPr>
              <a:t>7</a:t>
            </a:r>
            <a:r>
              <a:rPr b="1" lang="ar-SA" sz="2400" spc="-1" strike="noStrike">
                <a:solidFill>
                  <a:srgbClr val="000000"/>
                </a:solidFill>
                <a:latin typeface="Times New Roman"/>
              </a:rPr>
              <a:t>، ولكنه قد لا يدرك لو كان معه </a:t>
            </a:r>
            <a:r>
              <a:rPr b="1" lang="ar-SA" sz="2400" spc="-1" strike="noStrike">
                <a:solidFill>
                  <a:srgbClr val="000000"/>
                </a:solidFill>
                <a:latin typeface="Times New Roman"/>
              </a:rPr>
              <a:t>7</a:t>
            </a:r>
            <a:r>
              <a:rPr b="1" lang="ar-SA" sz="2400" spc="-1" strike="noStrike">
                <a:solidFill>
                  <a:srgbClr val="000000"/>
                </a:solidFill>
                <a:latin typeface="Times New Roman"/>
              </a:rPr>
              <a:t> أقلام وأعطي قلم آخر بأن مجموعهم سيكون </a:t>
            </a:r>
            <a:r>
              <a:rPr b="1" lang="ar-SA" sz="2400" spc="-1" strike="noStrike">
                <a:solidFill>
                  <a:srgbClr val="000000"/>
                </a:solidFill>
                <a:latin typeface="Times New Roman"/>
              </a:rPr>
              <a:t>8</a:t>
            </a:r>
            <a:r>
              <a:rPr b="1" lang="ar-SA" sz="2400" spc="-1" strike="noStrike">
                <a:solidFill>
                  <a:srgbClr val="000000"/>
                </a:solidFill>
                <a:latin typeface="Times New Roman"/>
              </a:rPr>
              <a:t> أقلام).</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إضافة الى ادراكهم لمفهوم التناظر الأحادي.</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ذه المهارة هامة وضرورية لما يعرف بالعد العقلي او العد ذو المعنى  فبدون تلك المعرفة يستحيل على الطفل ان يعد مجموعة مكونة من تسعة خرزات مثلا </a:t>
            </a:r>
            <a:endParaRPr b="0" lang="en-US" sz="2400" spc="-1" strike="noStrike">
              <a:solidFill>
                <a:srgbClr val="000000"/>
              </a:solidFill>
              <a:latin typeface="Times New Roman"/>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87000"/>
          </a:bodyPr>
          <a:p>
            <a:pPr marL="2984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فهوم الثبات العددي</a:t>
            </a:r>
            <a:endParaRPr b="0" lang="en-US" sz="40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اطفال الذين لا يستطيعون الحكم على الثبات العددي غالبا ما يشيرون الى المجموعة الاكثر انتشارا على انها الاكثر عددا. والاطفال الذين يدركون الثبات العددي يعرفون انه اذا كانت كلتا المجموعتين لهما العدد نفسه فانه مهما اختلف شكل توزيع العناصر سيظل لهما العدد نفسه.</a:t>
            </a:r>
            <a:endParaRPr b="0" lang="en-US" sz="36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يجب ان يدرك الطفل أن مهما تغير توزيع العناصر في المجموعة واختلف حجمها وشكلها  لا يتغير العدد،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762120" y="1557000"/>
            <a:ext cx="7772400" cy="4614840"/>
          </a:xfrm>
          <a:prstGeom prst="rect">
            <a:avLst/>
          </a:prstGeom>
          <a:noFill/>
          <a:ln w="0">
            <a:noFill/>
          </a:ln>
        </p:spPr>
        <p:txBody>
          <a:bodyPr lIns="92160" rIns="92160" tIns="46080" bIns="4608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فهوم الرمز العددي:</a:t>
            </a:r>
            <a:endParaRPr b="0" lang="en-US" sz="3200" spc="-1" strike="noStrike">
              <a:solidFill>
                <a:srgbClr val="000000"/>
              </a:solidFill>
              <a:latin typeface="Times New Roman"/>
            </a:endParaRPr>
          </a:p>
          <a:p>
            <a:pPr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رمز العددي فهو رمز يستخدم لتمثيل العدد من </a:t>
            </a:r>
            <a:r>
              <a:rPr b="1" lang="ar-SA" sz="3200" spc="-1" strike="noStrike">
                <a:solidFill>
                  <a:srgbClr val="000000"/>
                </a:solidFill>
                <a:latin typeface="Times New Roman"/>
              </a:rPr>
              <a:t>1</a:t>
            </a:r>
            <a:r>
              <a:rPr b="1" lang="ar-SA" sz="3200" spc="-1" strike="noStrike">
                <a:solidFill>
                  <a:srgbClr val="000000"/>
                </a:solidFill>
                <a:latin typeface="Times New Roman"/>
              </a:rPr>
              <a:t> </a:t>
            </a:r>
            <a:r>
              <a:rPr b="1" lang="ar-SA" sz="3200" spc="-1" strike="noStrike">
                <a:solidFill>
                  <a:srgbClr val="000000"/>
                </a:solidFill>
                <a:latin typeface="Times New Roman"/>
              </a:rPr>
              <a:t>2</a:t>
            </a:r>
            <a:r>
              <a:rPr b="1" lang="ar-SA" sz="3200" spc="-1" strike="noStrike">
                <a:solidFill>
                  <a:srgbClr val="000000"/>
                </a:solidFill>
                <a:latin typeface="Times New Roman"/>
              </a:rPr>
              <a:t> </a:t>
            </a:r>
            <a:r>
              <a:rPr b="1" lang="ar-SA" sz="3200" spc="-1" strike="noStrike">
                <a:solidFill>
                  <a:srgbClr val="000000"/>
                </a:solidFill>
                <a:latin typeface="Times New Roman"/>
              </a:rPr>
              <a:t>3</a:t>
            </a:r>
            <a:r>
              <a:rPr b="1" lang="ar-SA" sz="3200" spc="-1" strike="noStrike">
                <a:solidFill>
                  <a:srgbClr val="000000"/>
                </a:solidFill>
                <a:latin typeface="Times New Roman"/>
              </a:rPr>
              <a:t>... او واحد اثنين ثلاثة..</a:t>
            </a:r>
            <a:endParaRPr b="0" lang="en-US" sz="32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مراحل تقديم رموز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واحد الى خمس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ستة الى عشر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احدى عشر الى عشرين</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عشرين الى مائة</a:t>
            </a:r>
            <a:endParaRPr b="0" lang="en-US" sz="24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Lama Aljathlan</cp:lastModifiedBy>
  <dcterms:modified xsi:type="dcterms:W3CDTF">2016-12-06T09:17:11Z</dcterms:modified>
  <cp:revision>72</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