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A5B0D-3011-4E3C-BF01-CC677E12F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D2822-3E09-400E-9BCF-BAA30673D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735C-B19D-46BD-A4D7-E857E5B39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0B2A-AAED-47F9-B6E4-811B70443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D5801-D056-48E6-91CA-4461F603E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4E329-A400-46E8-8B50-75495B8F9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BB489-88A5-49E0-A7E2-A5AFEB5B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391E8-5BE6-4B4A-A453-35B1C2C9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A2830-7AFE-4A43-8C1E-B3B18EEF2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42E25-3A7C-4E89-A5C8-ACDFFC96E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2090D-D917-41CB-8902-58D5934F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B4D26-F6E5-42B7-B3EB-28B04396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543E0-AC70-40E7-950F-32596D715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03F8D-1686-4D11-B872-BB03C9CB1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310AC-DF37-4D85-B1B3-05D6F3457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92966-2489-4F8D-B05C-7D78E66A1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7E563-9092-4AB9-A168-0B2E5755B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B4E7DF-05EF-4920-A1FC-A7BBE4F6D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0FC453-108F-487E-8727-297FB3C87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344E0-A681-46BF-804E-197B05E64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D5F0F-1157-4E9F-ADD6-CA9281EC1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E48C6-4522-4285-9861-59E9B8CD7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D528-BB73-413A-B1D8-A56A0289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A487A-A003-4B4A-ABD0-69BAFC211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7652A-87C0-4D62-95EF-3DB2441C3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F2CB3-09B9-4EA5-B8FB-DFA9F8576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9BBBD-9F0C-4B23-A7AB-27111569C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E0EE4-792F-4F19-ABB3-B411A1F49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D8D73-BF10-416F-AC83-6C81622385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ED6978-CDFA-4AEA-BA1D-FC860D72E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A2627-373E-44E2-915E-A19EBA895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14371-A196-4C90-B72A-38E99BBCC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93D31-BE43-494D-92E4-5182C3497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71902-FD6B-495E-9DF6-B1AC87C30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ED9C7-C83B-48ED-A994-69CF6770A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A7BAB-3580-4940-BA7A-89E1A544E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ED09A-BEB3-4257-9247-93279F128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8FC66-1A78-46C1-9B6B-6E66FDCB7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92140-FB7C-4E06-8D35-14B788D22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71149-59A6-4BA8-973D-216D45DB5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2AA2D-DA42-4CAC-963B-76F4DFD07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5DD05B-3687-4FF2-A6E4-A58A71E54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9540E-59A9-4CB0-89F9-F963FF6B0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40F03-77F7-456C-BECC-342814C5D7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1AD33-B348-4FF7-9A83-C9FD1201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8CC1E3-7011-47AD-B6D6-C0FC0F80B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6A3B5-B276-464E-A4E1-66197994C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079E7-A314-49B7-B480-3425693DB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EEBBE-CD14-48A0-8C4C-71B2105AB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20CF5-C74A-4401-9DA3-CEC5B324C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CB470-FEE1-4A92-A944-875802DC6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8B4EB-CEA7-4085-8C74-1228DDA8B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67D54-DDEA-48FF-A6A8-EE4C317EA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9DE64-6C37-49F1-96AA-A0C47B732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3E0F2-8F06-494D-8555-F5F72EDAA1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A5AA-FBAE-455B-B1C1-C93B9C54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6AAB18-99D7-48C0-A3C2-57B7230D27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072FDA-A1B4-4D1C-9249-E415AEC503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9D095-3E99-440B-A366-CEC8321271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3E9352-6E38-45BB-91DE-7B9479A28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E194F-5E0B-43A3-AA95-8C89AE26D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FDB14-B81B-40AD-A541-59029ECB14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77006-D314-4291-951D-D0996617E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9FB83-07F9-44B7-A240-1DD3E7DD8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BF14A-5B42-4A05-9063-6BB3E6FB7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D039A-AA22-4BFD-8181-85A6C783D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809B-16FF-4B10-A6DC-BB8C0622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61554-5950-46F7-800B-0FB0B5A8E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AB0FC-6F7D-4609-8DED-6C848C791A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AA6C84-FC24-4FFC-8850-BD49AE64F2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589B-48DE-4AA5-93BA-B0792C51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2115-1388-43C2-BD85-85E69D14C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C32D-8AFA-432C-A2CC-F96004F398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2FA6-402F-42BE-B654-B42DE694AE1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8559-B2C3-4242-A359-D7432BA2CFA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07DB-D1B5-4AEF-90FC-6AD025476B0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94FE-8254-4407-AEC6-1D679CE3145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53F4-51EA-4D28-8C83-547C87416B3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1"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3"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24000" y="260280"/>
            <a:ext cx="8496000" cy="4114800"/>
          </a:xfrm>
          <a:prstGeom prst="rect">
            <a:avLst/>
          </a:prstGeom>
          <a:noFill/>
          <a:ln w="0">
            <a:noFill/>
          </a:ln>
        </p:spPr>
        <p:txBody>
          <a:bodyPr lIns="92160" rIns="92160" tIns="46080" bIns="46080" anchor="t">
            <a:normAutofit fontScale="65000"/>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المشروع الرابع</a:t>
            </a:r>
            <a:endParaRPr b="0" lang="en-US" sz="3200" spc="-1" strike="noStrike">
              <a:solidFill>
                <a:srgbClr val="000000"/>
              </a:solidFill>
              <a:latin typeface="Times New Roman"/>
            </a:endParaRPr>
          </a:p>
          <a:p>
            <a:pPr algn="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نشاط تعريف وتسمية الأعداد</a:t>
            </a:r>
            <a:r>
              <a:rPr b="1" lang="ar-SA" sz="3200" spc="-1" strike="noStrike" u="sng">
                <a:solidFill>
                  <a:srgbClr val="ff0000"/>
                </a:solidFill>
                <a:uFillTx/>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تار الطالبة 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طط نشاط تقديم العدد إلى الطفل من خلال قصة او انشودة او اي نشاط تبتكره المعلمة لجذب انتباه الاطفال وتشويقهم لتعلم، مع احضار ادوات مشوقة للنشاط حتى لو كانت انشود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حضر الطالبة تطبيقات للأطفال حول ال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قدم الطالبة النشاط بأسلوب التدريس المصغر وتتدرب على النشاط وتحضر الاسئلة المناسبة، وتؤدي النشاط بأسلوب مناسب لطفل الروض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فهوم الرمز العددي:</a:t>
            </a:r>
            <a:endParaRPr b="0" lang="en-US" sz="3200" spc="-1" strike="noStrike">
              <a:solidFill>
                <a:srgbClr val="000000"/>
              </a:solidFill>
              <a:latin typeface="Times New Roman"/>
            </a:endParaRPr>
          </a:p>
          <a:p>
            <a:pPr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6-12-06T09:17:11Z</dcterms:modified>
  <cp:revision>72</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