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152-77AB-483B-BCFA-4F25F0F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E1C-8BFC-4C15-A560-0AC81ED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57B87-1A9B-4C8F-883C-E51CE2D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4DED2-E2CD-4F9A-9B7B-A97F8BF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B612A-141A-49C8-8C34-EFF54346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CF087-A47D-4277-B4BD-F7C41E3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0F08D-2024-490A-A0CD-3638EB3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2E2A2-FE17-4B4E-8DF6-95FB424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E5391-E5ED-4CCF-883F-C568963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CEAC0-93A2-4A03-B2E1-C556EC05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620D-0FD2-4446-B417-D07D244D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6427F-906B-4654-9E99-DBC22067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005-A55B-4C33-A882-1EB0D103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3A61A-C117-4544-AA25-4E48140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9BFC8-EC92-4DAE-AF63-D56FC3A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FDB9F-2CEE-4B7D-B648-6A26C518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42F68-25F2-4F32-ADC6-D54A208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B4E1A-8CDA-4B53-881C-85C9377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8492B-327D-4965-A269-F7873FB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BADE5-9852-48CC-8A3A-78C0806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E8C44-110D-44D3-BE04-BA3A78F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6220-E2CA-449E-9EAC-40194346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6777D-F212-4590-855A-A116A4FD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7E8-D7A0-401F-8CA7-FAE8C93A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2627-0570-41A8-9C93-4CB266B4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FFAB-0335-40C1-A420-A3C5C779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EB262-B70F-455E-9858-5C9FC1D8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0DCB8-71BE-487E-954E-EA167373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408B9-A874-4CB4-864E-B1A5A9C3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EA3EE-088B-4107-A533-B42B57D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35C38-93DE-4670-9ECB-AEF6751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98E72-92EF-4607-840B-2928BB6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8F3F5-5081-4482-80E9-4363CD98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62C2C-1C9A-4B53-B02B-B989BF7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47FE-CDFB-4AA3-AB81-836E1561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74A8-E480-45DB-86ED-8DE8483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9EA19-160B-40C8-A461-6A50606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BB141-911E-4769-90A8-0BFE9A10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F80CB-BDA5-43D7-ACF0-79C14E7A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5AA84-1B3B-4760-AB78-BB3E21F2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FF95D-DC12-47FA-80BB-286B3A89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1367-AEE2-489E-847F-67CFE7AD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C6D10-5C4F-434E-802F-B60A6D5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C9F7-AE78-4908-91AC-F54E46C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E00D0-CE9F-402C-B5B2-13F206B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B15-C8A5-424C-B866-95E58527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6B707-A62E-4E55-B0F5-5A2ABC6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C3E8-1A32-4F79-90EE-97A9860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E6318-30FA-40E8-9CB2-16254301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E8EAB-D43E-490D-9B4F-53EFCDA3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84227-042C-4B0C-89D3-4C5AFE43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F23-A921-41D3-9A31-7B05689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DA2-DA48-43A1-99B0-A5F0DC9D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D72B-13EE-4D5C-B5FA-90CE6B3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C14-24AD-41FC-AA80-F7DB4FD8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21DC-FE31-4791-8326-C923088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1C2-EEA8-40EB-902F-17235703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F7F9-2E3D-4064-B1A4-7A5C7E7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8D3-A3C2-46ED-92DE-6A4457D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30B-B9FF-404D-BC9C-42232C8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483-B7A2-4652-8BBC-9D631C07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9FBE-EE81-43A1-A2D2-40CC63C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8790-0116-4EF0-B8B7-88309A01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3FC0-D253-4B92-BF4C-24966901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3719-F6F9-47F9-A356-AF06B673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AE05-39F7-4FC9-9C4D-3013B750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627B-03EA-419C-8284-50D1165D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4EB-D5F8-4622-BD97-522D71B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6F32-2D47-4FB7-90A2-D5C72CB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786F-B246-4C4A-975C-F217527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32F0-09BD-4571-BEEC-3974CD2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2DD3-338E-43C1-90A7-8CAF361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A652-4D7D-4F52-A4F3-8502EB8C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6080-4CC9-47DF-A043-0C503A82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D9BE-213A-4936-B66C-DE3728D0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1D17-62A7-4C37-99F3-AEE1F2BB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2FE4-A01E-4CF9-808E-C876D9B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F417-9E9A-4561-86F5-6BED7C75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FD8-EC35-48AC-9D92-EC61BB4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1388-F748-4ED2-884C-A0B70590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D69B-B228-4936-8317-35D683A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5B68-4249-4F06-871D-0411349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B23C-A98C-43A4-8DB9-5BCF4BB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D2CD-D37E-4B4B-BFD9-0D9A6E8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21AB-7855-4DF8-9F99-F311F08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E7F5-5C0D-443F-A709-1299259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890E-21F0-4996-A36F-3F66AAF2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A165-C066-45D4-9ED5-2FEA33BB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3F67-ED09-4240-9D2A-4D48465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9E7-D006-4352-974E-7A370A6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7102-D5FA-4DE8-AF39-86BCA19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B9BF-CB39-42BA-AF0D-60ED246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8AEF-221C-4748-A8C2-D5D64EB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9A1E-D835-4EB5-B5EB-D57EB124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FF58-3C0D-4110-B2CF-F8DAA3B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0594A-B969-4CA2-AAE4-D8DAB48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2B69-B363-4C05-8E06-59C75D8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D4E4-D673-4132-8A3D-BEC99F8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A8A8-ABC5-40F1-885A-B33716E9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0F80-5549-4838-979D-98C2E022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42E-8EEE-4DA0-82BD-E791899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A74A-591E-4575-9CDD-7D71E30E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773C-FC74-4386-B38B-539C59BF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D13F-E062-4A1F-9646-70B0A4C7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7AD3-1CD7-4697-8DF2-9CD0D53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92DF-18CF-4696-A727-9DFD5C2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2742-D080-4850-959A-A25E8CF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C78D-C610-44FA-A1C2-2CBCC483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E9EC7-779F-4769-BF33-47B5C059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6B5B-566D-406F-85FC-EF3975D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EC16-426B-4262-A54E-FF7A7CC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235-0600-41DD-AE9F-DD480FD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278F-DA48-49A7-ACA9-F8A9A83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AE9D-D848-4395-B6E4-E5310B75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D57A-E1D8-4580-BA50-05BA4DA7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1099-AB81-4490-B3AF-0B9A2022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C669-49D2-4EE3-96F2-B80B0E8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46DE-918B-44FA-82D1-11FA987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63D9-4196-4036-AE29-B29448F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B120-18C5-4A31-B168-61FBAA2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56B1-B6E9-465D-B246-F8D4CFA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2971-A921-4BF3-873B-7A487FE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C9F-31A7-4D39-9CCB-65DF1EA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A7D0-0F78-4265-88F4-3F741DE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2BB6-878F-4D57-84AA-E856485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4A84-224F-462B-A9D0-5E02F86D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01D0-48C8-4604-A94C-766C9C07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B564-CB2D-4E1E-BD91-5E3241C1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096BD-8176-48BE-BDE5-956A8844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84BB-9841-4B35-8C9E-42ACCA2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046F5-1A9B-469E-B41C-25FD03B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A340-E3EE-4ABA-B124-D64C505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6ECD-90FF-4E2D-8789-14ECF60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EEE-E3F4-42C5-9E42-2B3F1BA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8450-85E0-4E1F-9B57-A8D1F67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E0D7-9220-4A31-B8DF-09BA8B9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719F1-DA2B-42D9-A68D-5A3830D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F6AAF-7A9D-425D-8D46-6ADC545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5D88-BD4A-49A5-AD47-77F73BE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0F2E-AFD9-4467-89D8-D8CFA349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B7BFE-43F3-4068-A3BA-D9ABD80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7111B-AC18-4EF8-98D9-1F95569B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8476-7578-4FB0-8706-317F0EC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8E1C3-2172-4FD6-B39B-AC5DF4F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10C-683B-43C1-9ECE-F4C6B3C1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396-E77D-4A00-9DB4-3C7EA236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ECCD-83A5-4532-9C60-683768E2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BDF7-8E17-4461-A985-35897ECE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6386-F744-4EE0-88B5-408118A23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E75-30FC-4079-A1BA-2F3F19E4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342F-3474-4725-AAC9-BBC00CAA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422C-5E81-41D2-AC53-4809DE6A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8A9-2F61-4154-9369-287BF5BD5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9EB-CF05-45AC-8DA4-28BE5049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903E-EBCF-458C-8FD6-0BB10994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C85-BE67-42E2-9252-0749D4D7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Correlation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4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7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8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2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3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4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5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6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437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438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2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3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4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5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6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7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9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0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1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3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4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5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6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7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8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3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6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8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9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0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2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6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7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8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9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1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3" name="Text Box 5"/>
          <p:cNvSpPr/>
          <p:nvPr/>
        </p:nvSpPr>
        <p:spPr>
          <a:xfrm>
            <a:off x="1380960" y="2057400"/>
            <a:ext cx="664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0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3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5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7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8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36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0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2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3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4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6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8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2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6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7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8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1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Group 10"/>
          <p:cNvGrpSpPr/>
          <p:nvPr/>
        </p:nvGrpSpPr>
        <p:grpSpPr>
          <a:xfrm>
            <a:off x="685800" y="1828800"/>
            <a:ext cx="7679880" cy="3504960"/>
            <a:chOff x="685800" y="1828800"/>
            <a:chExt cx="7679880" cy="3504960"/>
          </a:xfrm>
        </p:grpSpPr>
        <p:sp>
          <p:nvSpPr>
            <p:cNvPr id="1563" name="Rectangle 2"/>
            <p:cNvSpPr/>
            <p:nvPr/>
          </p:nvSpPr>
          <p:spPr>
            <a:xfrm>
              <a:off x="685800" y="1828800"/>
              <a:ext cx="762012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64" name="Group 6"/>
            <p:cNvGrpSpPr/>
            <p:nvPr/>
          </p:nvGrpSpPr>
          <p:grpSpPr>
            <a:xfrm>
              <a:off x="853560" y="1828800"/>
              <a:ext cx="7512120" cy="3307680"/>
              <a:chOff x="853560" y="1828800"/>
              <a:chExt cx="7512120" cy="3307680"/>
            </a:xfrm>
          </p:grpSpPr>
          <p:sp>
            <p:nvSpPr>
              <p:cNvPr id="1565" name="Rectangle 4"/>
              <p:cNvSpPr/>
              <p:nvPr/>
            </p:nvSpPr>
            <p:spPr>
              <a:xfrm>
                <a:off x="853560" y="1828800"/>
                <a:ext cx="751212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significant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Linear relationship is significant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6" name="Object 3"/>
                  <p:cNvSpPr txBox="1"/>
                  <p:nvPr/>
                </p:nvSpPr>
                <p:spPr>
                  <a:xfrm>
                    <a:off x="3707640" y="3452760"/>
                    <a:ext cx="415008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1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6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80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6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7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9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90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91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9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93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4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0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685800" y="10666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ly, we test the hypothes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 (the independent variable is not a    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redictor of the 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 (the in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is a significant predictor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)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 (if the null hypothesis is rejected),  we can conclude that the  Independent variable contributes significantly in predicting the Dependent variable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1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2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546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47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548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49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50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53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554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5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6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7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8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9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1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4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5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6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7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8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9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0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1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2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3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4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5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6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7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8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9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0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1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2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3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4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5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6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7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8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9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0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591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592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3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594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5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96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9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600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1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2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3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4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5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7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8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9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0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1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2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3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4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5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6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7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8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9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0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1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2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3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4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5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6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7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8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9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30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631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2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633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34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35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8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639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0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1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2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3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4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5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6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7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8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9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0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1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2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3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4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5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6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7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8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9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0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1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2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3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4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5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6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7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8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69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670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71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672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3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74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677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678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6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7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8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9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0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754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755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56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757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8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59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62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763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764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5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6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7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8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9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0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71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772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3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4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5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6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7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8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779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780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1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782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3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84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7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788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789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0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1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2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3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4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5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96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797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8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9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0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1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2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3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0" name="Text Box 6"/>
          <p:cNvSpPr/>
          <p:nvPr/>
        </p:nvSpPr>
        <p:spPr>
          <a:xfrm>
            <a:off x="1216440" y="4800600"/>
            <a:ext cx="27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(using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efficients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664640" y="1676520"/>
            <a:ext cx="62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819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8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9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0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1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0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1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2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95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996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3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4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5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63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64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1065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5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6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7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34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35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36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1137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4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5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6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7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8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9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0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1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2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3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4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5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6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7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8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9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0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1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2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0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1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2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3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4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5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6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7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8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9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0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1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2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3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4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5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06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07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1208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9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0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1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2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3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4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5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6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7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8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9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0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1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2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3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4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5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6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7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8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9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0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1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2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3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4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5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6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7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8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9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0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1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2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3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4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5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6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7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8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9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0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1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2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3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4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5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6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7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8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9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0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1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2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3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4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5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6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7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8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9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0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1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2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3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4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5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6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7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8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79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80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281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2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3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4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5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6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7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8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9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0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1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2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3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4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5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6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7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8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1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2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3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4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5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6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7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8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9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0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1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2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3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4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5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6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7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8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9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0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1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2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3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4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5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6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7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8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9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0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1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2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3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4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5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6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7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8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9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0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1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2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3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4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7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8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9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0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351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352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353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4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5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6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7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8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9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0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1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2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3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4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5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6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7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8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9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0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1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2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3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4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5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6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7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8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9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0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1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2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3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6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7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8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9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0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1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2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3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4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5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6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7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8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9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0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1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2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3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4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5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6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7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8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9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0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1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2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3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4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5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6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7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8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9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Nadia MS</cp:lastModifiedBy>
  <cp:lastPrinted>2012-11-24T07:41:59Z</cp:lastPrinted>
  <dcterms:modified xsi:type="dcterms:W3CDTF">2017-04-19T21:45:06Z</dcterms:modified>
  <cp:revision>126</cp:revision>
  <dc:subject/>
  <dc:title>No Slide Title</dc:title>
</cp:coreProperties>
</file>