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B43-5D23-460E-8893-76817321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888-78B9-4CE9-A7E5-2BF7A52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47A62-5C4F-437B-8776-5777928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09D22-CBC8-46CE-9A68-F6AB30C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2BFB-0815-4E2A-B352-36FA955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BC112-F906-4886-AD2B-EA0000D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AC907-FE9D-4399-8B50-C343FBD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F2F3E-0DB6-4633-AA10-AEC17B9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B6DC6-B895-48E7-B16B-19FCE02A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EE823-F888-43E1-8DBF-7FBCA1B3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42299-8C17-422F-9C78-4B9BE1FE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80B7-F256-4286-8271-E82470F8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E2D-E8E2-4FFE-B0C8-CFE88823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423DC-51FD-4287-B369-ED9E97C3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1C2DC-812D-4685-B65B-3A6B919F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D9D1B-EA89-4EE6-9E3A-C90753F0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E1AB2-447F-4BFB-8974-E29068D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E1196-391B-4308-B237-A620ABE8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5351-1F53-452C-8729-16967ED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BC4CD-91FB-4079-BC22-E4C804E9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DA3C6-F1BD-4A72-B9B4-692A9B5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4371F-2BBA-4CE5-BE99-E706621E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7B6F1-9FC4-4FE1-9D6E-AAB7F4BE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A3C-47BB-415B-B84E-4832103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61BE6-6189-4AD2-A899-2296976B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DE6AE-15BF-49E7-9A6F-EDFC3E3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ACA3A-F08E-4BF6-8ED4-417FB428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11A01-D834-428E-881E-951380A4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CAD88-8B18-420D-9196-FCF0F1BB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894D5-122A-4249-9252-32116043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21364-6196-47F5-89EC-0A51ECF4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47A3B-BE07-4223-B317-46A46C2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5509-D064-47DF-B81F-BF85AE81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DF302-1D36-41C1-B2CA-97F4529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8C17-DE44-46AF-BF48-294E6046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7FCA-3150-4D61-8B35-5F21BBF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E3FF-3C98-43D7-BBBE-1BC50CD6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EC8F-C23A-45CF-A05A-9BFAF6EB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ECD9D-ECE5-4772-83DF-9599044C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A288B-7593-43B2-8604-0584D88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D7265-0FEF-4FBA-BAFB-702719DB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5A298-6B84-4FC9-9EAD-5A2A6EA6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9C56C-E68A-47CF-AB9F-4BE31B2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5D2E5-7C68-4351-8806-249DCFA3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B47C9-29FC-4B65-ADD6-67C3DFC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7BE-774F-40ED-9185-04F84F30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091BF-81AE-4952-9CD8-A6D76DA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1A66F-1CBE-4B14-B505-0BA31CF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962EF-1992-4F7F-846A-4BD21FAC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0B20-9EBC-46FA-A6EE-467BF74A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02515-547F-41EB-93E8-C8A585EA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470-488F-46B4-983A-B7039BFD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2C9-27A9-4D1A-91A7-17705996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2A97-97B1-47D9-B012-E1A281F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7C64-81DD-419C-A1AD-0D24D35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808-1823-4141-AD7F-6C7AE2A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139-2BA8-4D5D-9436-F126926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AA11-8B94-463F-A153-9CF454E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3ACF-C1BB-4ADB-AA11-CA31103F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830-BEFE-42AA-9233-FCF2B0D5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F828-BCBD-4CFA-B424-4D3E448C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2EF6-9E5A-4961-87A6-BF7216D2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D611-A0B2-4714-8E64-CE731E11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B67C-EE1A-4178-9D09-0F87454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C514-A7EC-45F3-8789-99F1849E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8D3A-1209-4143-9F27-7E23BD34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9EAD-A49C-4671-B69A-3C704C1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280-34AB-43D0-A5BA-09916CC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2D4F-E070-47AB-A4FB-4D68F52D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0E28-4807-4C92-90CB-C8212D2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881D-028E-4E5E-9430-76A3E5BF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8876-FE47-4AC0-94EA-F945177D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2E1F-BDC4-4B9B-BA11-44DA16E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2F8C-972C-471C-AF7C-A609E3F8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AF56-54DA-47F2-9E5F-67523979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F3F20-B44D-41AC-A23D-04273A66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A9F25-8DF2-492C-84CF-DBF3741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8259-B3ED-4871-9ADF-34B707D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F80-000B-4022-AEB1-8878EB1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E8FD-C9DA-4A2D-AC95-176EC87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33B1-56C7-40AF-B510-DFB3EF13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FED2-0355-4C4A-9F55-9E6244B3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BA074-9290-4FA9-A413-10731C3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51ED-95E1-41AD-AEE6-3CEE7C7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5F47-0CD1-438C-8C96-7088FE48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C399-6607-4B00-8E1D-8E771D9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00AC-82A8-4AEC-B8B2-6165E1EA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E3BE-9167-4160-BB20-97454F3F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EB4E-05D3-483C-A748-4530B6D8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B6D-9DC5-4A6A-9EFD-9767C6D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F009E-A809-47A4-9EE1-0F08F318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D12C-ACFC-43E8-B797-CD53AA7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15A3-F65F-43AD-9233-471E9E00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3E87-B471-46BA-B41C-45F4111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CF36-6F78-4AC5-8EA1-1D1FD04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3F65-ECC6-4022-B738-BCA782A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3516-7727-41B9-82D7-ECA7174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7AB2C-5F10-4136-9347-9626A53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C47E-ED9D-4FFE-9B72-9916F90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B588-FDC9-4EC7-B6B2-194A4AD6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7EE-EB10-42B9-9E6F-EA83641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7F3B-AB39-4A35-89E9-43C36D15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179A-CED5-456C-955A-FDAC86BB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8503-584E-459E-BBAF-84F8D63E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4510E-D39F-4FA1-B0BE-57E06F25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A333-CEDF-4C72-91C4-B5DF8660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0D46-2454-4038-BF95-C637E2D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839D-485F-434A-B714-D06C6290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AFEE-E4A8-498E-9B42-8F98C1A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240F-2088-42EB-B942-ED6608E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7407-5918-472C-A4D0-CAD0488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4FA-3B45-49E6-9DD5-6845508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543F-F79F-4F75-8CAE-810D4EE4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949C-77FE-4844-95EA-C3BEFEF2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2EC1F-7689-4103-9E3B-B2FBD478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9A8F-122B-4190-A920-AE017C15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A439-943D-480A-B7D6-7CB083F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7FB31-2B72-43AB-AAEF-4B41B0F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0B56-178C-4DDC-99D2-2CAC4EF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5886-993B-495B-899D-F340AE03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8B37-C927-434C-9007-3CB10B37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5FF3-C391-4281-8149-B1C9D37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4A4-0FEA-4B78-B648-1DA5B90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686B-CAF6-4328-B7A9-A3E41D6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05F99-70B7-4927-A18D-AB67512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A2DFE-0D90-4B09-8DA3-C761121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F42E-84B2-47DB-BEC4-F645AD6A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AB2E-A612-4F44-9CA2-E23A0078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B88FE-4412-4B79-9364-F4C449B2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9F4A-7780-49A5-A047-19C464B2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DB6D-C440-4986-8379-D78A7CC6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B9B1-F229-44C9-86D9-13CCCDB9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4D34D-01DE-4C1B-B9E4-46A59B8B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D15-6469-4A9E-B81E-495D12B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30F7A-4834-44D2-A957-18417D30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3A2E-6E7A-446D-A110-477CCB5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84F4-C808-45EE-8BC1-201E6F7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DDBDA-54B3-41E1-85D8-66C5093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3FA1-20D2-41CA-98C7-988E3EEF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D97C-5C24-4D24-9818-B4A71CD5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0EE4B-3EF2-4E91-8000-D22B52C2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5719-9121-4331-AF5A-2E0AB614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BFCD-5B63-48FD-8B61-A81AEDE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03608-EB22-4544-8039-3CD539CF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B391-D8A5-4E05-9875-69F4D3316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24F9-DF74-4D1B-B5D9-5D2782D0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76A-E7A7-4822-9F2F-C54538D7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3221-95A5-4058-92CA-D355DC3B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EB7-E325-4271-862C-5F022110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B533-79E0-4EF7-9619-A7E947C4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343-B277-4AFA-9884-9987CD51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C54-BC5F-4A32-B9F8-12A00F4FE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266-B9D8-4E95-A582-358E10FEE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8D7F-0430-415F-9E30-E865BED5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D69-BCC9-4701-9204-4FCDD86D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6B4-5224-4A7F-B5B9-B344455F5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Correlation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4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7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8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2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3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4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5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6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437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438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2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3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4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5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6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7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9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0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1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3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4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5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6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7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8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3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6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8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9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0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2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6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7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8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9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1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3" name="Text Box 5"/>
          <p:cNvSpPr/>
          <p:nvPr/>
        </p:nvSpPr>
        <p:spPr>
          <a:xfrm>
            <a:off x="1380960" y="2057400"/>
            <a:ext cx="664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0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3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5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7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8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36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0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2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3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4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6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8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2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6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7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8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1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Group 10"/>
          <p:cNvGrpSpPr/>
          <p:nvPr/>
        </p:nvGrpSpPr>
        <p:grpSpPr>
          <a:xfrm>
            <a:off x="685800" y="1828800"/>
            <a:ext cx="7679880" cy="3504960"/>
            <a:chOff x="685800" y="1828800"/>
            <a:chExt cx="7679880" cy="3504960"/>
          </a:xfrm>
        </p:grpSpPr>
        <p:sp>
          <p:nvSpPr>
            <p:cNvPr id="1563" name="Rectangle 2"/>
            <p:cNvSpPr/>
            <p:nvPr/>
          </p:nvSpPr>
          <p:spPr>
            <a:xfrm>
              <a:off x="685800" y="1828800"/>
              <a:ext cx="762012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64" name="Group 6"/>
            <p:cNvGrpSpPr/>
            <p:nvPr/>
          </p:nvGrpSpPr>
          <p:grpSpPr>
            <a:xfrm>
              <a:off x="853560" y="1828800"/>
              <a:ext cx="7512120" cy="3307680"/>
              <a:chOff x="853560" y="1828800"/>
              <a:chExt cx="7512120" cy="3307680"/>
            </a:xfrm>
          </p:grpSpPr>
          <p:sp>
            <p:nvSpPr>
              <p:cNvPr id="1565" name="Rectangle 4"/>
              <p:cNvSpPr/>
              <p:nvPr/>
            </p:nvSpPr>
            <p:spPr>
              <a:xfrm>
                <a:off x="853560" y="1828800"/>
                <a:ext cx="751212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significant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Linear relationship is significant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6" name="Object 3"/>
                  <p:cNvSpPr txBox="1"/>
                  <p:nvPr/>
                </p:nvSpPr>
                <p:spPr>
                  <a:xfrm>
                    <a:off x="3707640" y="3452760"/>
                    <a:ext cx="415008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1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6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80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6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7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9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90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91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9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93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4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0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685800" y="10666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ly, we test the hypothes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 (the independent variable is not a    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redictor of the 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 (the in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is a significant predictor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)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 (if the null hypothesis is rejected),  we can conclude that the  Independent variable contributes significantly in predicting the Dependent variable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1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2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546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47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548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49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50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53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554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5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6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7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8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9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1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4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5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6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7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8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9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0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1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2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3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4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5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6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7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8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9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0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1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2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3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4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5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6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7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8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9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0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591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592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3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594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5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96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9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600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1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2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3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4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5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7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8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9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0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1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2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3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4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5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6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7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8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9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0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1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2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3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4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5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6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7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8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9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30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631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2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633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34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35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8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639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0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1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2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3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4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5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6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7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8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9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0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1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2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3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4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5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6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7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8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9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0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1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2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3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4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5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6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7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8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69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670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71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672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3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74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677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678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6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7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8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9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0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754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755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56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757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8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59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62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763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764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5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6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7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8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9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0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71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772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3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4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5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6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7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8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779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780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1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782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3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84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7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788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789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0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1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2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3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4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5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96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797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8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9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0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1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2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3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0" name="Text Box 6"/>
          <p:cNvSpPr/>
          <p:nvPr/>
        </p:nvSpPr>
        <p:spPr>
          <a:xfrm>
            <a:off x="1216440" y="4800600"/>
            <a:ext cx="27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(using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efficients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664640" y="1676520"/>
            <a:ext cx="62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819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8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9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0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1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0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1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2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95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996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3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4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5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63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64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1065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5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6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7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34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35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36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1137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4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5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6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7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8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9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0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1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2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3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4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5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6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7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8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9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0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1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2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0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1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2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3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4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5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6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7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8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9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0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1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2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3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4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5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06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07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1208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9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0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1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2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3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4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5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6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7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8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9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0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1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2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3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4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5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6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7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8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9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0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1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2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3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4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5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6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7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8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9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0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1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2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3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4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5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6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7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8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9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0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1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2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3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4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5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6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7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8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9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0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1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2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3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4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5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6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7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8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9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0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1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2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3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4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5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6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7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8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79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80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281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2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3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4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5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6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7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8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9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0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1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2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3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4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5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6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7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8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1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2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3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4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5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6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7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8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9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0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1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2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3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4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5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6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7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8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9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0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1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2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3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4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5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6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7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8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9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0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1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2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3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4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5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6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7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8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9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0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1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2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3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4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7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8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9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0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351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352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353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4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5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6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7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8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9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0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1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2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3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4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5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6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7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8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9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0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1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2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3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4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5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6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7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8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9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0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1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2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3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6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7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8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9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0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1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2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3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4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5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6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7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8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9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0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1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2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3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4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5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6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7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8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9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0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1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2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3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4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5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6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7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8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9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User</cp:lastModifiedBy>
  <cp:lastPrinted>2012-11-24T07:41:59Z</cp:lastPrinted>
  <dcterms:modified xsi:type="dcterms:W3CDTF">2014-11-13T07:10:37Z</dcterms:modified>
  <cp:revision>126</cp:revision>
  <dc:subject/>
  <dc:title>No Slide Title</dc:title>
</cp:coreProperties>
</file>