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174A-6415-4B77-8169-734977C7F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31FD-454F-41F5-965F-1420EB5E1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4175-1600-4D28-BB3F-7A09C30D0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AE58-A502-452B-A2AA-BB833BE4A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DE35-905B-41E7-8C21-653496881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C149-D4B4-416D-8066-8920C79F6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DB3F-D2FD-49F7-BF64-EF623F6F9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253E-C49B-4017-BE47-CF1E2A29C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E3DE-210E-4FDF-AB75-E4BBEA394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51D6-A378-4CF1-8005-EC0D77DFF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223583-B7FD-482A-B5DF-9B0B162C43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6AAF8B-C847-4A05-98D7-5771A49821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551DBD-04F2-4C01-8FB3-D978837958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074623-3DF4-4D4C-A3F1-EFDB81F3B7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D4403A-86A0-4B96-80B7-4B6EF6C982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9A4CFA-1E6E-4E87-8E36-BC3A7C446B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76B488-2794-4C3F-B4FA-1FB1FF22E4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13BD8F-1C39-4513-8C82-9F3BAC7C0E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A88BC4-8461-4822-8D65-406E265859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54421C-E199-48FB-8C70-8FB2BFFF34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033DD37-733C-4FE2-9FBE-16B01CA701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56F0F34-538A-4450-8398-A3F385239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0CE9B3-910F-4645-9260-6FC8C86D95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859CFEA-C4E3-4977-9A45-00C59EF399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86CCF25-7E16-4F43-97D1-1886E50829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1F14F4-D467-4D9F-9494-DCA39CCA26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CD1140-A749-4DC3-998D-6633B3260E9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494453-B817-4FCF-9281-5A673A801B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1132E28-AC95-4F1C-85AF-1CBA8339B9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BBE105-903C-4361-9AAB-7AF8B23AAF1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59D314-68A3-415B-ABFB-63598FF9C6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133DFA-A322-4906-8A67-5242DD230ED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3825B98-1B63-469F-B9ED-15F047841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3519A6-F263-4F30-AEAF-D591E39E3E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47D0AFD-75B0-48D3-932C-1C5581AEF5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A3E533-0757-4F65-B6AD-2A11A60379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AC0408-0DAA-4979-8704-C9ADC0EB48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7BF99-9264-40E8-B680-B6D659D9FE2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1D697-50C7-40B1-AA39-9EE24A3C5B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18AD8-E147-4559-BFC4-BD4FB8311D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5F7D5-D63E-4AD9-BFC2-5030F506A3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69ED1-1FAB-4793-8883-3253AB5954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5CBFC-DD85-4D4A-9AF8-CF67024084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18488-FC99-4F22-AB8D-B969B2BF1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B2978-F9F0-4568-AB9E-335A5FE448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19FDE-11F3-4A2E-8E57-3C3445E524B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151761-E704-4AF8-B3A6-ECB72C63048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43A5C98-7E5F-405D-9B9B-9EEFE25CC70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215DD1-385B-48A8-BAAC-26F481691C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53767B-91B5-4C64-8D0A-B7977A7132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DE1811-D339-4262-8BCC-14AB6D835A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9302EA-2B0E-482B-9F64-D3C7A88CC0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E405182-797A-48D9-AFE2-808BF712EC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A0098F-0958-4A93-A858-BD5D869C9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23E633-6EB1-42D3-BB9D-1D2F13C69B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1AD68A-FDCF-4117-B256-377070DD6B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C8573B-4FAA-4C7B-B1B6-7D7C9C1B36E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9D784FA-DCED-465E-9E7D-48CDD3E05E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CDE8794-277F-4C66-9221-358F1D16BE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3DA0A04-D98F-4079-9D14-1C9A0F078F3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0ED9086-4956-4115-B53C-D34DDE9B621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1EB132-02AE-4AAC-8161-7EF2BFC03E1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3A1C924-DE86-47BD-AEB4-0505BA9453A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016506E-E4D8-4259-89A1-B9456F3B5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C4E6CA-BA46-4618-863B-E8579D3CEB0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9B00BF2-4BBE-44A6-BF5D-B8FBE1EC530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1A70EA-F640-4257-A561-6DA468060E7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CF1A6B-DFC3-4F81-B0AE-CC9CB0007E8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F10764F-8ECB-40DB-8171-6798D0BE5C6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CB2F221-942D-476B-A3F1-03F94C121EE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DEB5072-E7B0-405C-800C-01C55B8815C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A715F4-13E0-4BC1-8EFB-234856410F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BB0867-46A6-4384-A694-052FC579C9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96DC5F-9403-482A-B830-88CA5155EA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B6605B-BF87-46F3-B8E5-B2130607E2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CA631-6E75-455A-BD5B-1F938952C4F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3EB985-1695-481E-A5D9-297CD17217E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8B3D0-C1E1-4325-A873-8477E0DAA95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E595D-6038-4BF0-B8F3-6C1B77400F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6D68F-9EBE-49BE-B566-EFEE44D1FA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00FDD-56BE-4D61-9510-2101BD613C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35E69-C9E0-4855-A3DB-CC637CBB79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61CB55-254F-455B-BCA6-AC0D527C2A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9792BC-FC89-485A-A570-600E818DE2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AC6C4A-DA11-4219-AD04-C325B91D43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B0819-CA06-406C-86BF-1A5CC04BF6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5A4882-4FF9-4BA2-97BF-5808D0C5BD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8F8EBB-C352-4BD9-B403-E62FE78418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3E55C-2853-40C1-A8E9-94F2221B1B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B9D07B-66D4-4E14-B7E2-2077F2DF7A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24C70-15D4-441F-A4D6-1548790A54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22B12-42AE-4A2B-9AFA-273E72AD16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D4352-E12F-4FE7-BF77-671292ECD1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CB6CF-907C-4EB1-BF3F-C267CF401E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E9EA3-7DC4-4330-8CCB-3067ABAEEA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E6741B-3150-46E4-95AC-7F367BA949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0D28A1-CE62-4001-AC28-48CCF0A6C4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93C80CE-2641-4E0B-846C-956985AF38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7FE066-2560-4B14-A2C0-410F84ADDC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9493B4F-C6A6-4C80-BF19-45E2F8AE2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3D3BF-6F7F-4764-B679-B37A55E5BE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FCB1F4-77D0-4949-8DA6-8C6AA8F558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CB9DCF-955D-4B46-A1FD-DB0878684E1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D74652C-ACBD-4548-A81B-BE9DFCDFCAD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B6297D-33E7-48E8-AEF4-87E69CA998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7534E7-6DEC-41F1-B19E-EBAE8F02D8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37FD38-E6DE-42C1-8141-D61931767DE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5BC4763-CA59-4736-BD7C-618274AEDC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B338D58-A764-45EC-94D0-127024223C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37533C0-193B-4066-9CDC-8277520166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D515D-8C37-46E3-AB0E-B36755778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67DA58-7780-436C-BB5A-EAF19EB5F5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15524-CD11-4A5D-9DC2-D016246A548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E5A7B-4460-4BA2-8C56-96F0D67CA09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9E175-9468-4423-BC16-2491C347F2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0AC57-41D1-4402-959A-360D69FFDA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F063D-1F56-40D5-80ED-C92CD7DF31B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ACC35-55C0-48A0-9FE4-B2552CEAD4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8E0DF-419A-472F-8B84-581C639567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7D929-680D-4E00-B19B-CA06A30FEA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AF241-45BB-41EF-91F8-D0067E0818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9CA1FC-E91F-4473-BA06-67F40E83D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D0DD06-67FA-4D79-BF7F-323C3B015F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94C50-4828-44E0-BD25-E4FABE7871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CA1E75-FED6-4186-803F-B03F69BC9E5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FA33A4-C2B6-4AC6-A1BE-F24B80E9B68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5D2418-B6E1-4000-A273-21C0843F5C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168A76-04E5-4F5B-AF1C-193C72A9CB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2194DA-0479-48B1-8999-D719A23EFF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A502D5-51F1-4823-9557-F90651FE82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4ACD68-DC54-4EA9-BBA6-8D8886381B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3265FD-E5E7-47E8-A664-5AEEAC05FD7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D48767-B2BA-483D-A21B-D8C1496A0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F7EF20-31C3-435E-B4E2-28EE17775F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E4ABF2-B3BB-4713-A20B-021CD7939E6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CDB4857-C405-4DFA-8E09-A188DB2E53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0D0771-35B3-4A41-AC24-BC83B17521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B7E6481-45B4-42CD-B38E-EE2BBDB9C7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4A920DB-39B8-474C-9E66-67B194A2F7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04D354-B2B9-41ED-A329-CC12D2DDB4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8FE1B0-4653-489C-A581-F51A0A84EE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5741C03-A927-47EF-94FC-0FB78A7D0A5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A3DD17-F864-48F2-B624-1356905CD82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53B2C0-A5E0-43A9-9B9A-F93C128674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F5289C-0EEC-4001-B007-60235BD569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CD4400-ECC5-452A-89A4-C92644F89CA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28BF4A-742C-4327-B355-61E79AB3FF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CB6240-31A7-4C82-9D91-D6CF1E3C93F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0326C21-7317-4DEE-B38C-E5B9529B02C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2F7CA47-BB86-4A53-B75D-AB7B25A4869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BA9142-1C8E-4808-BEC3-AE34645C62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781AB1-0BE2-4348-9BDF-713093C50F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0D21D-520F-4368-9D4B-98D25CC1CF1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C25D2-584E-47F7-BD90-2CEBCA0056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05027-1FE9-4074-89EF-083479EBD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AF1E75-87A7-455D-84C5-BCBBBF11E30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865B3-3213-4DC2-95BD-3F08DD8893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C7C20-1223-4340-8C57-1297B1CEB6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64CA2-330D-461C-A8B1-697970CF88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ACBAE-E1B2-4699-82D7-9D9B64EA86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5E808-CF6A-4395-992F-E1D9EF26C9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D60EA6-0F67-4772-894A-9710559AD2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124E25-05B7-41A6-855B-6347FAB78B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F46082-E64A-4EA1-A2C1-F00FDF2DB6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6A3B2D-A3A8-413F-8A03-2101E6427B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0A3D66-87EB-4632-94B4-840BD220A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6D93-EC97-42E3-A486-F7C9BFD95A7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5525D00B-28C7-4D48-A336-768D7B491F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00A1-7C8C-4DDE-BACD-469817C85A6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10FC-B26D-41AE-B5F8-844C10F9FD0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2089-E215-4D7C-B4F7-86F4BA92A34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E42D-48E2-4070-AEE0-EF107118E66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A39A-0889-4335-8CB2-4B590E3A48E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4D78-7C2A-4F1C-A6AF-9C8374F8431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25FC-7CA4-40CE-8FC6-CB7F8C73C7B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27D4-CEAB-453C-9B71-31A505C29C6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C85D-AF0B-410A-B9BC-583C31F7D71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8036-BCFC-4DFD-B5EE-3D0A91FC6A8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6547-9737-479D-BE41-74FADBF3FDB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50A7-E293-42D5-B010-AFE55367FEC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Probability Distributions</a:t>
            </a:r>
            <a:endParaRPr b="1" lang="en-US" sz="36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MEA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of a probability distribution is also referred to as its </a:t>
            </a:r>
            <a:r>
              <a:rPr b="1" lang="en-US" sz="1400" spc="-1" strike="noStrike">
                <a:solidFill>
                  <a:srgbClr val="000000"/>
                </a:solidFill>
                <a:latin typeface="Arial"/>
                <a:ea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293760" y="763560"/>
            <a:ext cx="4560840" cy="176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65200" y="298800"/>
            <a:ext cx="7860600" cy="440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277920" y="857160"/>
            <a:ext cx="4505040" cy="167184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409680" y="2556000"/>
            <a:ext cx="4651200" cy="153972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41188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grpSp>
        <p:nvGrpSpPr>
          <p:cNvPr id="632" name="Group 9"/>
          <p:cNvGrpSpPr/>
          <p:nvPr/>
        </p:nvGrpSpPr>
        <p:grpSpPr>
          <a:xfrm>
            <a:off x="830160" y="4162320"/>
            <a:ext cx="2941920" cy="1054080"/>
            <a:chOff x="830160" y="4162320"/>
            <a:chExt cx="2941920" cy="1054080"/>
          </a:xfrm>
        </p:grpSpPr>
        <p:pic>
          <p:nvPicPr>
            <p:cNvPr id="633" name="Picture 7" descr=""/>
            <p:cNvPicPr/>
            <p:nvPr/>
          </p:nvPicPr>
          <p:blipFill>
            <a:blip r:embed="rId5"/>
            <a:srcRect l="0" t="0" r="39843" b="0"/>
            <a:stretch/>
          </p:blipFill>
          <p:spPr>
            <a:xfrm>
              <a:off x="830160" y="4162320"/>
              <a:ext cx="2941920" cy="466200"/>
            </a:xfrm>
            <a:prstGeom prst="rect">
              <a:avLst/>
            </a:prstGeom>
            <a:ln w="0">
              <a:noFill/>
            </a:ln>
          </p:spPr>
        </p:pic>
        <p:pic>
          <p:nvPicPr>
            <p:cNvPr id="634" name="Picture 8" descr=""/>
            <p:cNvPicPr/>
            <p:nvPr/>
          </p:nvPicPr>
          <p:blipFill>
            <a:blip r:embed="rId6"/>
            <a:stretch/>
          </p:blipFill>
          <p:spPr>
            <a:xfrm>
              <a:off x="884160" y="4673160"/>
              <a:ext cx="2863800" cy="543240"/>
            </a:xfrm>
            <a:prstGeom prst="rect">
              <a:avLst/>
            </a:prstGeom>
            <a:ln w="0">
              <a:noFill/>
            </a:ln>
          </p:spPr>
        </p:pic>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7"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8" name="Picture 16" descr="0623"/>
          <p:cNvPicPr/>
          <p:nvPr/>
        </p:nvPicPr>
        <p:blipFill>
          <a:blip r:embed="rId1"/>
          <a:srcRect l="0" t="0" r="22365" b="0"/>
          <a:stretch/>
        </p:blipFill>
        <p:spPr>
          <a:xfrm>
            <a:off x="304920" y="3517920"/>
            <a:ext cx="3997080" cy="2908440"/>
          </a:xfrm>
          <a:prstGeom prst="rect">
            <a:avLst/>
          </a:prstGeom>
          <a:ln w="0">
            <a:noFill/>
          </a:ln>
        </p:spPr>
      </p:pic>
      <p:pic>
        <p:nvPicPr>
          <p:cNvPr id="639" name="Picture 12" descr="0625"/>
          <p:cNvPicPr/>
          <p:nvPr/>
        </p:nvPicPr>
        <p:blipFill>
          <a:blip r:embed="rId2"/>
          <a:stretch/>
        </p:blipFill>
        <p:spPr>
          <a:xfrm>
            <a:off x="4448160" y="1492200"/>
            <a:ext cx="4368960" cy="2292480"/>
          </a:xfrm>
          <a:prstGeom prst="rect">
            <a:avLst/>
          </a:prstGeom>
          <a:ln w="0">
            <a:noFill/>
          </a:ln>
        </p:spPr>
      </p:pic>
      <p:sp>
        <p:nvSpPr>
          <p:cNvPr id="640"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41" name="Picture 9" descr="0626"/>
          <p:cNvPicPr/>
          <p:nvPr/>
        </p:nvPicPr>
        <p:blipFill>
          <a:blip r:embed="rId3"/>
          <a:stretch/>
        </p:blipFill>
        <p:spPr>
          <a:xfrm>
            <a:off x="4538520" y="4216320"/>
            <a:ext cx="4272120" cy="2432160"/>
          </a:xfrm>
          <a:prstGeom prst="rect">
            <a:avLst/>
          </a:prstGeom>
          <a:ln w="0">
            <a:noFill/>
          </a:ln>
        </p:spPr>
      </p:pic>
      <p:sp>
        <p:nvSpPr>
          <p:cNvPr id="642"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3"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7"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9" name="Picture 9" descr="0637"/>
          <p:cNvPicPr/>
          <p:nvPr/>
        </p:nvPicPr>
        <p:blipFill>
          <a:blip r:embed="rId1"/>
          <a:stretch/>
        </p:blipFill>
        <p:spPr>
          <a:xfrm>
            <a:off x="911160" y="3527280"/>
            <a:ext cx="4991040" cy="1781280"/>
          </a:xfrm>
          <a:prstGeom prst="rect">
            <a:avLst/>
          </a:prstGeom>
          <a:ln w="0">
            <a:noFill/>
          </a:ln>
        </p:spPr>
      </p:pic>
      <p:pic>
        <p:nvPicPr>
          <p:cNvPr id="650" name="Picture 5" descr=""/>
          <p:cNvPicPr/>
          <p:nvPr/>
        </p:nvPicPr>
        <p:blipFill>
          <a:blip r:embed="rId2"/>
          <a:stretch/>
        </p:blipFill>
        <p:spPr>
          <a:xfrm>
            <a:off x="860400" y="5332320"/>
            <a:ext cx="5348160" cy="606600"/>
          </a:xfrm>
          <a:prstGeom prst="rect">
            <a:avLst/>
          </a:prstGeom>
          <a:ln w="0">
            <a:noFill/>
          </a:ln>
        </p:spPr>
      </p:pic>
      <p:sp>
        <p:nvSpPr>
          <p:cNvPr id="651"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3" name="Picture 10" descr="0640"/>
          <p:cNvPicPr/>
          <p:nvPr/>
        </p:nvPicPr>
        <p:blipFill>
          <a:blip r:embed="rId1"/>
          <a:stretch/>
        </p:blipFill>
        <p:spPr>
          <a:xfrm>
            <a:off x="985680" y="3919680"/>
            <a:ext cx="7234560" cy="2754000"/>
          </a:xfrm>
          <a:prstGeom prst="rect">
            <a:avLst/>
          </a:prstGeom>
          <a:ln w="0">
            <a:noFill/>
          </a:ln>
        </p:spPr>
      </p:pic>
      <p:sp>
        <p:nvSpPr>
          <p:cNvPr id="654"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the number of lost bags per flight follows a Poisson distribution with µ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7:01:02Z</dcterms:modified>
  <cp:revision>224</cp:revision>
  <dc:subject>Probability Distributions</dc:subject>
  <dc:title>Chapter 6</dc:title>
</cp:coreProperties>
</file>