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6F9-CBF4-4A1C-85E1-58A482EA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857-209C-482E-AFD2-8774B61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C1D-1F98-4165-AFC4-3EE57C1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B3F-26CE-4063-BC7A-F1ACF2F3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1980-E95C-47AE-BA63-D97E1D25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17E-F024-42BD-A140-B50F156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D8F-8193-460E-89D9-6E12D81F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024-1A47-4F37-8F1C-311BD84A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664-8CAD-4F13-B374-F0FAA88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24EF-2550-4F9D-8750-D2944A7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495-0FEA-4C71-A539-A110430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583-F09B-4875-884F-6B4E21F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C73-D703-465E-9C41-1EBFD7F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582-D6BF-4C57-867A-6BFF80B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7F22-E2D0-41BF-8116-21C256C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3BCE-F44C-4087-AE0D-54FE887D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AD17-3D49-44FB-AC22-AC036F54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8E3-F55D-4E5A-B155-E138CD82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16F-ED10-410B-89E4-5341A3A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C5C-A46D-4C03-B545-9F11A146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1BE-EDEA-4353-BF57-4198C30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236-D7CE-4A70-AFB8-9F5C9AB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096-518C-4F61-9E74-76A9356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E7A-DC01-42B7-A897-9558694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6EF3-A7D8-43E1-BE49-27E1F51299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BC8-43A5-4A99-BA7E-3F196531DAE1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mage Acquisition and Processing Hard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: Alanoud Al Sale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 process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63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future of digital imaging is promising in that a wide variety of applications have received increasing attention such as 3D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C:\Users\ksu\Desktop\imagesCAI724U9.jpg"/>
          <p:cNvPicPr/>
          <p:nvPr/>
        </p:nvPicPr>
        <p:blipFill>
          <a:blip r:embed="rId1"/>
          <a:stretch/>
        </p:blipFill>
        <p:spPr>
          <a:xfrm>
            <a:off x="6659640" y="2492280"/>
            <a:ext cx="2305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ssential image-processing operations used in digital imaging technolo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major image processing operations in medical imaging that are now common in the radiology department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subtraction angiography (DSA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btraction of images out of a sequence, analytic process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mediate display of subtraction images, evaluation of perfusion and/or blood flow, removal of artefacts arising from patient movement, extraction of physiologic data, contrast enhanc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7993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fore and After Subtraction D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Picture3"/>
          <p:cNvPicPr/>
          <p:nvPr/>
        </p:nvPicPr>
        <p:blipFill>
          <a:blip r:embed="rId1"/>
          <a:stretch/>
        </p:blipFill>
        <p:spPr>
          <a:xfrm>
            <a:off x="324000" y="1844640"/>
            <a:ext cx="4392360" cy="482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Picture2"/>
          <p:cNvPicPr/>
          <p:nvPr/>
        </p:nvPicPr>
        <p:blipFill>
          <a:blip r:embed="rId2"/>
          <a:stretch/>
        </p:blipFill>
        <p:spPr>
          <a:xfrm>
            <a:off x="4859280" y="1844640"/>
            <a:ext cx="4011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uted tomography (CT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vel of window adjustment, image comparison, magnification, region of interest  processing, reconstruction of perpendicular sl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play of very large contrast range, display adaptation to human observer, image re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T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7" descr="st_ct"/>
          <p:cNvPicPr/>
          <p:nvPr/>
        </p:nvPicPr>
        <p:blipFill>
          <a:blip r:embed="rId1"/>
          <a:stretch/>
        </p:blipFill>
        <p:spPr>
          <a:xfrm>
            <a:off x="571680" y="1071720"/>
            <a:ext cx="4105080" cy="51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No lung detail"/>
          <p:cNvPicPr/>
          <p:nvPr/>
        </p:nvPicPr>
        <p:blipFill>
          <a:blip r:embed="rId2"/>
          <a:stretch/>
        </p:blipFill>
        <p:spPr>
          <a:xfrm>
            <a:off x="4859280" y="1052640"/>
            <a:ext cx="40338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gnetic resonance imaging (MRI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vel and window adjustment, image comparesion, magnification, image 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ptation to display to human observer, creation of new images showing tendency on T1, T2, local density and fl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RI  Brain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Picture 2" descr="C:\Users\ksu\Desktop\بدون عنوان.png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857160" y="2143080"/>
            <a:ext cx="280980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4143600" cy="464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571680" y="1785960"/>
            <a:ext cx="4190760" cy="4676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in Images (MRI&amp;M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ltrasound imag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sing of image sequences, filt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play quality, extraction of physiolog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major components a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og-to-digital conve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displ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st comp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gital-to analog conve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und Kidney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7" descr="C:\Users\ksu\Desktop\imagesCAAY1GJL.jpg"/>
          <p:cNvPicPr/>
          <p:nvPr/>
        </p:nvPicPr>
        <p:blipFill>
          <a:blip r:embed="rId1"/>
          <a:stretch/>
        </p:blipFill>
        <p:spPr>
          <a:xfrm>
            <a:off x="250920" y="2133720"/>
            <a:ext cx="4465440" cy="45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ksu\Desktop\imagesCAJ9N70V.jpg"/>
          <p:cNvPicPr/>
          <p:nvPr/>
        </p:nvPicPr>
        <p:blipFill>
          <a:blip r:embed="rId2"/>
          <a:stretch/>
        </p:blipFill>
        <p:spPr>
          <a:xfrm>
            <a:off x="4932360" y="2133720"/>
            <a:ext cx="4103640" cy="4464000"/>
          </a:xfrm>
          <a:prstGeom prst="rect">
            <a:avLst/>
          </a:prstGeom>
          <a:ln w="0">
            <a:noFill/>
          </a:ln>
        </p:spPr>
      </p:pic>
      <p:sp>
        <p:nvSpPr>
          <p:cNvPr id="146" name="مستطيل 9"/>
          <p:cNvSpPr/>
          <p:nvPr/>
        </p:nvSpPr>
        <p:spPr>
          <a:xfrm>
            <a:off x="5364000" y="1628640"/>
            <a:ext cx="302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ppl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radiograph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ification of display parameters using contrast reproduction curve, spatial filtration, selection of a sequence of basic im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play optimization harmonization of image, extraction of quantitative or semi quantitative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7791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Picture 2" descr="C:\Users\ksu\Desktop\بدون عنوان.png"/>
          <p:cNvPicPr/>
          <p:nvPr/>
        </p:nvPicPr>
        <p:blipFill>
          <a:blip r:embed="rId1"/>
          <a:stretch/>
        </p:blipFill>
        <p:spPr>
          <a:xfrm>
            <a:off x="395280" y="2133720"/>
            <a:ext cx="8109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Nuclear imag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sing of image sequences, slice reconstruction, filtration, quantitative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play quality, tomography, extraction of physiologic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13584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mma Camera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643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T Filtered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501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00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8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k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8800" spc="-1" strike="noStrike">
                <a:solidFill>
                  <a:srgbClr val="262673"/>
                </a:solidFill>
                <a:latin typeface="Tahoma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izer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analog signal is converted into digital form by the digitizer or analog-to-digital converter (ADC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mage memor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igitized image is held in storage for further processing. Several components are connected to the image store and provide input and outpu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size of the memory depends on the image. For example, a 512x512x8 bit image requires a memory of 2,097,152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-to-analog converter (DAC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igital image held in the memory can be displayed on a television monitor. However, because monitors work with analog signals, it is necessary to convert the digital data to analog signals with DA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nal image processo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is responsible for high-speed processing of the input digital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st comput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digital image processing, the host computer is a primary component capable of performing several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 example: The host computer can read and write the data in the image, store and provide it for archival storage on tape or disk storage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st comput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host computer plays a significant role in applications that involve the transmission of images to another location, such as medical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 process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number of imaging modalities in radiology use image processing techniques, including digital radiography and fluoroscopy, nuclear medicine, magnetic resonance imaging, ultrasound and computed tomograph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34:08Z</dcterms:created>
  <dc:creator>ايمان</dc:creator>
  <dc:description/>
  <dc:language>en-US</dc:language>
  <cp:lastModifiedBy>ksu</cp:lastModifiedBy>
  <dcterms:modified xsi:type="dcterms:W3CDTF">2012-10-02T07:59:25Z</dcterms:modified>
  <cp:revision>33</cp:revision>
  <dc:subject/>
  <dc:title>Slide 1</dc:title>
</cp:coreProperties>
</file>