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3A6-3ABB-4C13-8E69-EEF59F73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E68A-ED16-40BA-B973-B4D94B98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16D-A580-4B87-A924-A2045376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BA7-FFD2-459C-B662-FCBE6C5E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D798-FCF6-48F9-B9B9-416C078F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3C94-A688-43D3-9A4D-1623BFC9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785C-4CD5-4263-A422-1AB04DF0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D327-6A68-42E3-BE13-4E4B07A6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6310-FD6C-4F7F-8D02-07EE26D4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2DF2-9DE6-49D0-A3E0-44B60224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488B-51A1-446E-B1E2-69C31395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D054-6CCA-4A6E-85E5-841A7075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1AC4-4C8A-4C14-A3ED-8A37B35E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0F7D-997D-411D-98A1-7CC41BC0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53B3-EC11-48DC-BA59-292CCAD2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9C22-D8C6-4206-8CA4-AA3F553F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6A20-7A60-47E8-81C2-F57C907F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CEE8-EE4B-43B9-A1AF-ED53611D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4520-FE95-4133-9245-15F23627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5040-DBDC-4A36-90E5-3C68FD64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8FB7-D17B-4E85-B313-42B79615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17F-C928-48B1-AD7F-7F4B1BDC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7F8-A6F2-4752-877D-DA688B39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6B26-F4AC-4849-8B6C-57667A0B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5DD1-F020-48DA-BFB8-5E180882FEE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1018-70E3-4822-B794-5EEEEC7316A1}" type="slidenum">
              <a:rPr b="0" lang="ar-SA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mage Acquisition and Processing Hard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: Alanoud Al Sale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gital image processing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63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future of digital imaging is promising in that a wide variety of applications have received increasing attention such as 3D imag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4" descr="C:\Users\ksu\Desktop\imagesCAI724U9.jpg"/>
          <p:cNvPicPr/>
          <p:nvPr/>
        </p:nvPicPr>
        <p:blipFill>
          <a:blip r:embed="rId1"/>
          <a:stretch/>
        </p:blipFill>
        <p:spPr>
          <a:xfrm>
            <a:off x="6659640" y="2492280"/>
            <a:ext cx="23050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792920" cy="16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Essential image-processing operations used in digital imaging technolog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92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major image processing operations in medical imaging that are now common in the radiology department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1.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gital subtraction angiography (DSA)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rocessing operation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btraction of images out of a sequence, analytic process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mediate display of subtraction images, evaluation of perfusion and/or blood flow, removal of artefacts arising from patient movement, extraction of physiologic data, contrast enhance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981000"/>
            <a:ext cx="79930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fore and After Subtraction D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Picture3"/>
          <p:cNvPicPr/>
          <p:nvPr/>
        </p:nvPicPr>
        <p:blipFill>
          <a:blip r:embed="rId1"/>
          <a:stretch/>
        </p:blipFill>
        <p:spPr>
          <a:xfrm>
            <a:off x="324000" y="1844640"/>
            <a:ext cx="4392360" cy="4824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Picture2"/>
          <p:cNvPicPr/>
          <p:nvPr/>
        </p:nvPicPr>
        <p:blipFill>
          <a:blip r:embed="rId2"/>
          <a:stretch/>
        </p:blipFill>
        <p:spPr>
          <a:xfrm>
            <a:off x="4859280" y="1844640"/>
            <a:ext cx="40118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puted tomography (CT)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rocessing oper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vel of window adjustment, image comparison, magnification, region of interest  processing, reconstruction of perpendicular sl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play of very large contrast range, display adaptation to human observer, image re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T Im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7" descr="st_ct"/>
          <p:cNvPicPr/>
          <p:nvPr/>
        </p:nvPicPr>
        <p:blipFill>
          <a:blip r:embed="rId1"/>
          <a:stretch/>
        </p:blipFill>
        <p:spPr>
          <a:xfrm>
            <a:off x="571680" y="1071720"/>
            <a:ext cx="4105080" cy="5113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No lung detail"/>
          <p:cNvPicPr/>
          <p:nvPr/>
        </p:nvPicPr>
        <p:blipFill>
          <a:blip r:embed="rId2"/>
          <a:stretch/>
        </p:blipFill>
        <p:spPr>
          <a:xfrm>
            <a:off x="4859280" y="1052640"/>
            <a:ext cx="403380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agnetic resonance imaging (MRI)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rocessing oper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vel and window adjustment, image comparesion, magnification, image syn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daptation to display to human observer, creation of new images showing tendency on T1, T2, local density and flow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RI  Brain Im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Picture 2" descr="C:\Users\ksu\Desktop\بدون عنوان.png"/>
          <p:cNvPicPr/>
          <p:nvPr/>
        </p:nvPicPr>
        <p:blipFill>
          <a:blip r:embed="rId1"/>
          <a:stretch/>
        </p:blipFill>
        <p:spPr>
          <a:xfrm>
            <a:off x="250920" y="1628640"/>
            <a:ext cx="87138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857160" y="2143080"/>
            <a:ext cx="2809800" cy="2762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4786200" y="1857240"/>
            <a:ext cx="4143600" cy="4643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571680" y="1785960"/>
            <a:ext cx="4190760" cy="46767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80866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ain Images (MRI&amp;MR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ltrasound imaging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Processing oper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essing of image sequences, filtr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splay quality, extraction of physiologic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major components ar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alog-to-digital conver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mage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mage displ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mage 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st compu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gital-to analog conver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932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trasound Kidney Im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Picture 7" descr="C:\Users\ksu\Desktop\imagesCAAY1GJL.jpg"/>
          <p:cNvPicPr/>
          <p:nvPr/>
        </p:nvPicPr>
        <p:blipFill>
          <a:blip r:embed="rId1"/>
          <a:stretch/>
        </p:blipFill>
        <p:spPr>
          <a:xfrm>
            <a:off x="250920" y="2133720"/>
            <a:ext cx="4465440" cy="453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Users\ksu\Desktop\imagesCAJ9N70V.jpg"/>
          <p:cNvPicPr/>
          <p:nvPr/>
        </p:nvPicPr>
        <p:blipFill>
          <a:blip r:embed="rId2"/>
          <a:stretch/>
        </p:blipFill>
        <p:spPr>
          <a:xfrm>
            <a:off x="4932360" y="2133720"/>
            <a:ext cx="4103640" cy="4464000"/>
          </a:xfrm>
          <a:prstGeom prst="rect">
            <a:avLst/>
          </a:prstGeom>
          <a:ln w="0">
            <a:noFill/>
          </a:ln>
        </p:spPr>
      </p:pic>
      <p:sp>
        <p:nvSpPr>
          <p:cNvPr id="146" name="مستطيل 9"/>
          <p:cNvSpPr/>
          <p:nvPr/>
        </p:nvSpPr>
        <p:spPr>
          <a:xfrm>
            <a:off x="5364000" y="1628640"/>
            <a:ext cx="3024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ppl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gital radiography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rocessing oper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dification of display parameters using contrast reproduction curve, spatial filtration, selection of a sequence of basic ima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play optimization harmonization of image, extraction of quantitative or semi quantitative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77914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gital imag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Picture 2" descr="C:\Users\ksu\Desktop\بدون عنوان.png"/>
          <p:cNvPicPr/>
          <p:nvPr/>
        </p:nvPicPr>
        <p:blipFill>
          <a:blip r:embed="rId1"/>
          <a:stretch/>
        </p:blipFill>
        <p:spPr>
          <a:xfrm>
            <a:off x="395280" y="2133720"/>
            <a:ext cx="8109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Nuclear imaging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Processing oper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essing of image sequences, slice reconstruction, filtration, quantitative process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splay quality, tomography, extraction of physiologic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613584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amma Camera Im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85840" y="1857240"/>
            <a:ext cx="864396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T Filtered Im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8501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90000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88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8800" spc="-1" strike="noStrike">
                <a:solidFill>
                  <a:srgbClr val="ffff00"/>
                </a:solidFill>
                <a:latin typeface="Tahoma"/>
              </a:rPr>
              <a:t>n</a:t>
            </a: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k 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88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0" lang="en-US" sz="8800" spc="-1" strike="noStrike">
                <a:solidFill>
                  <a:srgbClr val="262673"/>
                </a:solidFill>
                <a:latin typeface="Tahoma"/>
              </a:rPr>
              <a:t>u</a:t>
            </a: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gitizer 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analog signal is converted into digital form by the digitizer or analog-to-digital converter (ADC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mage memory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digitized image is held in storage for further processing. Several components are connected to the image store and provide input and output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size of the memory depends on the image. For example, a 512x512x8 bit image requires a memory of 2,097,152 bi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gital-to-analog converter (DAC)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digital image held in the memory can be displayed on a television monitor. However, because monitors work with analog signals, it is necessary to convert the digital data to analog signals with DA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ernal image processo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t is responsible for high-speed processing of the input digital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ost compute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 digital image processing, the host computer is a primary component capable of performing several fun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or example: The host computer can read and write the data in the image, store and provide it for archival storage on tape or disk storage syst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ost compute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host computer plays a significant role in applications that involve the transmission of images to another location, such as medical imag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gital image processing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 number of imaging modalities in radiology use image processing techniques, including digital radiography and fluoroscopy, nuclear medicine, magnetic resonance imaging, ultrasound and computed tomography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4:34:08Z</dcterms:created>
  <dc:creator>ايمان</dc:creator>
  <dc:description/>
  <dc:language>en-US</dc:language>
  <cp:lastModifiedBy>ksu</cp:lastModifiedBy>
  <dcterms:modified xsi:type="dcterms:W3CDTF">2012-10-02T07:59:25Z</dcterms:modified>
  <cp:revision>33</cp:revision>
  <dc:subject/>
  <dc:title>Slide 1</dc:title>
</cp:coreProperties>
</file>