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40A-7CF8-41D7-BB4C-685032A6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9C6-2879-459C-AC4A-DB989D42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8B4-7F85-4B93-8170-FB2EB8BB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AE5-4FB0-4121-B6EE-E4AD5BCF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D741-3C2B-4CB2-A680-447F4E9C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E6CD-DC7A-4A26-90B6-79CFC8A7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7C85-DE93-415D-89D3-FF2DA09B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0D3B-ADCE-4037-BE98-1379946F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1DFF-DF8C-4993-94FF-B83370F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8B19-47A9-4D20-A175-757EC3C7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9818-C51C-49D3-98EF-3EBD5D5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C20-B160-450F-8133-78863541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3F40-7353-4F8B-9908-A8EE342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7464-1DF3-4C68-A7D1-205469FB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EA86-0E64-461E-AC7F-8AA146DC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4C6E-1E18-4B93-8AFB-C76AFF67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F82A-5252-4D60-82CD-0210BB05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F1FC-0503-4C0E-A85A-52A1D0DD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39A3-01DC-4979-BEA6-1B9AD533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ED73-561C-4FDC-975B-D0BF11F5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5A27-E1E5-4692-B5E1-1E4446A8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F14CA-A459-4C5F-AFEC-186EB09B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725-3F3C-4B74-8C99-550CF019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667C-4643-4C2A-BEAB-8D1BAE8A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71BD-312E-4112-B631-4CFFA6F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24D1-56D9-4AC4-A171-6D46167F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B617-A3D6-4D69-8252-4DEA201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6EEC-C64D-43EE-A35B-463AA3A0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2D26-439B-4894-B002-8FE80AA6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8F66-F05D-47E9-883F-3B6DB649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ABD6-4912-4A30-9E72-D9D1ED09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DD68-D64C-474A-9218-166FFB74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DF5A7-2FA1-4EA2-9A37-AF6AC6B2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167-5D23-4457-8B2C-7EB9E409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F264-4E08-4C11-ADBE-8277AE2C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04311-73CF-4E46-8681-A662BE32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C986-5F93-4156-A295-04A854AD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BD17-8AF7-43E1-BEC2-D1CF223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E5BE-7868-419F-BB36-4DA16FDF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8ACC-3696-4E7D-BA8E-46C6353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B00E-4AEE-494D-9465-93779B83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9554D-169E-4574-9C0A-EA650488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425B9-8BFC-4073-B636-2B810393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EA2B-687E-4710-9EF3-91D91E7A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DB5-408C-49C8-AD45-F1BD81A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F3BE4-E576-401A-ABCF-BC0C8731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958F4-6C5E-4A2B-A93A-5227197B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045D8-EC60-47A5-8148-896513F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093A-06CF-444A-A4A5-E4A0FBE2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1CF4-332F-4947-ACCB-DEE85DD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2A5F-27E9-497F-AE49-18922DCE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3068A-121A-4745-B76B-C516F086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749D-183C-47FA-AA78-2B3A4E92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5B29-C182-47D4-9D29-DA3B7CD0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55AD-7167-413F-BCAA-84F3F38A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064-278E-4ABF-AEEE-8B30AE18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2E7C-BB3E-4EAC-AE1A-F82D983A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FD9A-E1D1-4268-9F56-9DE65FD3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C37DA-5F25-4D14-8B33-02AF42FA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44D74-0ABD-43D7-A4F5-33B2A3CA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FA28-8A96-42AA-8DFB-DD1F3BEF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50A87-0620-43C2-885B-23302047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2B334-8112-480E-895B-E167FE90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E3A4-3445-4666-BC9A-E325E162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0E5A7-CC24-450A-B0AA-87288030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B9B9A-8D73-4893-9F8B-A6CBC7EC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037-7163-45DE-8316-E17BF02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AF33-F721-4EC6-A7BB-6E6B67E5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44C13-AFFC-45B8-8420-5E0C3F9A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8513A-268C-4F27-91E7-9B934DEE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AA4C-E958-4168-B3CE-AA0B1093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17D34-039F-463B-B514-D2920B2B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DC59F-163D-4046-B692-AAB8399B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3B973-03D6-4D41-AC68-CCFE3BA1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C942E-A11A-46C5-BC86-069A47A5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0151F-8617-4227-A987-04C93F9A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88FF8-36A3-4441-8A67-3471353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829-DB7E-44AE-9EF4-E789FB4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739C7-D6DA-45C4-A7C2-2406D2DD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55FA-8F92-4B9F-84C7-055DDAC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4E141-965E-4961-AB22-8A31D5EF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2190-FB75-4D0E-83F7-7F81A594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9381E-6CA1-4DFA-9E72-A7C61713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5B2-2E41-4707-BA8D-4402CBD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8F4-F78D-4386-A2C9-AF858CD0ADC1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41AD-8FAE-4928-949A-039841C08370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E784-A7A4-4E18-91E6-1F6B97CD6912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220B-B1AB-4273-90B9-C951B79796B7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1BCA-57A7-4D43-9669-C55E805A15F6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1B38-7EDD-4E89-B696-E6F2F4B0727B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0253-E55C-419E-9DC8-4188B4683AB6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572314"/>
                </a:solidFill>
                <a:latin typeface="Gill Sans MT"/>
              </a:rPr>
              <a:t>جون ديوي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85840" y="571320"/>
            <a:ext cx="8400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رتبط اسمه بالحركة التقدمي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حركة التقدمية هي وليدة الفلسفة البراجماتية أو النفعي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مقياس الحق ( هو التجربة النافعة لأكبر عدد ممكن من الناس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عمل والممنفعة هما مقياس الحكم الوحيد بشرط ان يكون هذا النفع مستمراً أطول مدة ممكنة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ظهرت في بداية القرن العشرين في امريكا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سمى أيضا التربية العلمية – التربية العملية – مدرسة النشاط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13840" y="571320"/>
            <a:ext cx="8643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قوم على الاعتقاد بمايلي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أ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عالم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في حالة تغير وتطور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ا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أنسان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كائن بيولوجي واجتماعي معقد يحافظ على بقائه بأستخدام ذكائه لتحقيق التكيف مع البيئ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تربية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هي العملية التي ينمي بها الأنسان ذكائه الفردي والأجتماعي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تتميز الحركة التقدمية بما يلي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تهتم بالطفل من جميع النواحي (جسمياً – عقلياً – خلقياً – اجتماعيا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عليم يكون من خلال العمل (مدرسة النشاط) (منهج الخبرة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لاتستخدم التلقين في طريقة التدريس وانما اثارة ميول التلاميذ واهتماماتهم ومراعاة الفروق الفردية بينه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نظامها ديمقراطي حيث يشارك التلاميذ في ادارة المدرسة وتقل سلطة المعل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ربية الخلقية يجب ان تعمل على تنمية الوعي الاجتماع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572314"/>
                </a:solidFill>
                <a:latin typeface="Gill Sans MT"/>
              </a:rPr>
              <a:t>اوجه الاختلاف بين التربية التقليدية والتربية التقدمية :</a:t>
            </a:r>
            <a:endParaRPr b="0" lang="en-US" sz="4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1000"/>
          </a:bodyPr>
          <a:p>
            <a:pPr marL="51120" indent="0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ill Sans MT"/>
              </a:rPr>
              <a:t>التقدم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1000"/>
          </a:bodyPr>
          <a:p>
            <a:pPr marL="51120" indent="0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ill Sans MT"/>
              </a:rPr>
              <a:t>التقليد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4000"/>
          </a:bodyPr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هتم بميول الطفل واحتياجات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ؤكد خبرات الطفل المتصلة بحياته اليومي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طفل يختار مواد المنهج واساليب العمل والتنفي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علاقة تعاونية بين المعلم والتلاميذ وتتسم بالديمقراطي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قوم على الانقياد والطاعة والتلقي من جانب الطفل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لايسمح له بالقيام بالخبرات النافعة التي تتصل بحياته اليومي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منهج اعده الراشدون ويتلقاه الاطفال ويحفظونه دون سؤال او اعتراض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انظمة المدرسية صارمة والمعلم مسيطر تمام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معايير فحص الخبرات واختيار الصالح منها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- معيار الاستمرارية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بمعنى ان الخبرة تؤدي الى خبرات اخرى ( خبرة مربية) تنمي المعرفة والسلوك والمهارات 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- معيار التفاعل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أي بين مايقدم للطفل من خبرات وبين مايحتاجه ويرغب فيه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ــــــــــــــــــــــــــــــــــــــــــــــــــــــــــــــــــــــــــــــــــــــــ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الخبرات المربية  الصالحة التي تخضع لمعياري الاستمرارية والتفاعل = الشخصية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نقاط الضعف في التربية التقدمي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عليم عن طريق العمل ليست الطريق المناسب لتغطية كل ابعاد المعرفة وان طريقة حل المشكلات تستخدم بعد ان يكون المتعلم قد اكتسب خلفية كافية في المادة الدراسي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منهج يتحدد حسب المنفعة الفردية للطفل وهذا يحرمه من التعرف على التراث الانساني المتراك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حرية مطلقة تماما وهذا شئ يجب الا يكون ويجب ان تظل السلطة بيد المعلم وتتقيد بسن التلاميذ ومدى نضجه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هم المبادئ التي قدمتها التربية التقدمي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تحديد الغرض من الدرس وجعله واضحا امام التلامي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اهتمام بميول الاطفال حتى يشعروا بقيمة هذه المواد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عدم الانقياد الاعمى وتقبل أي قاعدة دون فهمها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عقل تابع للاراد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9:13:48Z</dcterms:created>
  <dc:creator>ام يزيد</dc:creator>
  <dc:description/>
  <dc:language>en-US</dc:language>
  <cp:lastModifiedBy>aaaa</cp:lastModifiedBy>
  <dcterms:modified xsi:type="dcterms:W3CDTF">2013-02-08T20:30:40Z</dcterms:modified>
  <cp:revision>18</cp:revision>
  <dc:subject/>
  <dc:title>جون ديوي</dc:title>
</cp:coreProperties>
</file>