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933-42E4-4CFD-92FB-78965103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016-8989-44C9-9A9E-2F8941B5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3A5B-94E4-4A82-9443-A0D15C5C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C82-09B3-417D-9456-AA11420A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BFD0-81F5-48FE-92F3-965D8A9C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F822-484C-40FF-BF98-E9D5BAA4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66FE-4B2D-4C81-AF20-B74D4D14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1A41-BFF5-4C4A-896E-C0CD6A04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DE7B-8BD1-4A9C-9AC9-7DBF4E8E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9E00-E4D1-4EE9-87F5-F4A8D6B5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4218-EDDA-43BE-8684-52AB398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965-77DE-4561-9865-A355B8B7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95EB-55B4-4D2F-9029-31704A3A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6DFE-6D14-4C1B-BA28-4DD087C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68E2-5530-4BB2-84F6-7A0C27BD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6CBB-0FF0-4ABC-9075-1F93F581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6B69-4D08-4E58-B745-C92842B7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D3BC-CFDA-40AE-B2EA-5248909D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55775-E075-40B1-867E-DDBACC1C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1921-478B-47D4-97C2-070144AA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7082-8270-4795-A93C-C4F5C9B7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D319-E940-492F-8DCB-52A23E1A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3F2-E752-4941-8813-A6802D20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A596D-A467-42A1-A097-54ED631F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C76A-2B0D-4545-8EA7-0593A80C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B1782-DC42-44D1-9617-78D0D27D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EC640-E983-4DE2-B0A2-AE29DF7E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4B81-C49C-46D5-8E05-DC092666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6121-1090-4646-A48B-16D24D5A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25B3-245A-43D6-BF2A-59CDC61E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FA212-AF82-4B2C-BA69-564D2E32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95D0D-5FA2-4028-8EEE-988F417B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2E9C2-3C19-4B0E-8009-912F9007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1AD-1273-4FF9-82FF-556D404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4A077-DB99-4CEE-8E7C-5825D78F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48F56-7436-43BB-9D52-0037953D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33712-8A3C-457E-939E-71C07ECB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9BE50-45D7-4A98-BF1D-C2140D72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72DB0-1BA8-47F6-93D2-FBAE9D3F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810E-6F52-4262-8A09-47CDE6C5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41A8-2F37-404E-A03E-92B0E1E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512E2-298A-457A-B041-B462A659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8677-26B7-42B7-B032-B4D27FA0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4511D-ABBC-49FA-BE9D-597B7DE4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B92-027B-428D-A3F5-42786E6F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4836F-3F83-4930-9795-80C63898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C0C98-6857-415A-9555-305A797B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2FDC6-61F9-456C-AFB3-AADD7883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4F17C-31EC-481E-AE76-C2D657AA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AC38C-2C19-4BC1-B3BF-6108B85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B6DF2-2870-4FAE-94E7-1A201923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F36DB-BEA8-48DE-AC38-6310DFA0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1BF86-EDE5-463D-948A-F7EA65F1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ABEE3-D20B-4DE9-8E50-543F7A0F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3DE7-18DD-43B9-BAA6-FFD802FE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C98-9867-4471-BD44-150CC09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24FE-8C29-4531-AC0A-7656B5EE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20A79-8481-4002-971C-B286F326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917CA-E4CA-41A1-A756-F34B8A94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04313-0670-475C-B685-BD818994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97242-0AF9-4475-93E8-9180CC60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3BE86-1B50-455C-8B44-1EF5D859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8EC2A-B241-416B-BEA7-8990357D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E139B-F9A3-4ACE-8AE5-07033996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DD23-F401-431E-92A8-A2A3E09C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5A7D1-AE83-413E-819B-E2B0ED7E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593-CF7F-41A9-AB4E-AD3CFC24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0C0F-38EE-4A55-A550-EA26E21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0BECE-1C4F-4CBD-898B-25C88CF9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F92D7-0DD4-4579-9BE4-40F65A64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ADAA4-C055-4FC7-B3CE-7CE8D1DE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BF987-91A4-49B3-A285-DC9032685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380F-06A8-4A5C-BAFF-6EFD55B6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8838E-0712-4C02-8DE3-8DD6A8E4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5C498-5E54-4C7A-A96B-1BEFF7D1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2037D-69BC-441E-9379-CEA085E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28E61-90C1-4360-B92E-48D25575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2F0-0F1B-44B8-B875-FE9C7E42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C495E-4932-4288-BE96-68493969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5107D-A916-40D3-A3B4-775B352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FC9D3-36AE-4F11-A737-D9258A4E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8F303-6883-4E6E-B7FD-438EA8DA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DD075-0E29-4CD2-96D1-BBF17FF3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6E9-E1B3-4EA0-BDE6-7DC0C724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918E-CF98-40F0-BFDA-350C9B2181D4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دائري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بيضاوي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دائرة مجوفة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دائرة مجوفة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مستطيل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مستطيل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شكل بيضاوي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شكل بيضاوي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شكل بيضاوي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8035-7808-4839-9EE4-02F230881B3A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ستطيل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شكل بيضاوي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شكل بيضاوي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شكل بيضاوي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758-F51A-40CC-87DE-4F45B74D1206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7166-D7CA-40C3-8FEE-3E341EC2E3BD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مستطيل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مستطيل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2935-99EB-45C5-B302-752C19C10DF9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9BB1-04F6-441D-B56D-1886F50D1E96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مستطيل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مستطيل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مخطط انسيابي: معالجة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خطط انسيابي: معالجة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8F89-68D1-4E38-8C46-BC69086E5896}" type="slidenum">
              <a:rPr b="0" lang="ar-S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572314"/>
                </a:solidFill>
                <a:latin typeface="Gill Sans MT"/>
              </a:rPr>
              <a:t>جون ديوي</a:t>
            </a:r>
            <a:endParaRPr b="0" lang="en-US" sz="7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85840" y="571320"/>
            <a:ext cx="8400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رتبط اسمه بالحركة التقدمي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حركة التقدمية هي وليدة الفلسفة البراجماتية أو النفعي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مقياس الحق ( هو التجربة النافعة لأكبر عدد ممكن من الناس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لعمل والممنفعة هما مقياس الحكم الوحيد بشرط ان يكون هذا النفع مستمراً أطول مدة ممكنة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ظهرت في بداية القرن العشرين في امريكا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سمى أيضا التربية العلمية – التربية العملية – مدرسة النشاط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13840" y="571320"/>
            <a:ext cx="8643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تقوم على الاعتقاد بمايلي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أ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عالم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في حالة تغير وتطور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ا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أنسان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كائن بيولوجي واجتماعي معقد يحافظ على بقائه بأستخدام ذكائه لتحقيق التكيف مع البيئة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ان </a:t>
            </a:r>
            <a:r>
              <a:rPr b="0" lang="ar-SA" sz="4800" spc="-1" strike="noStrike">
                <a:solidFill>
                  <a:srgbClr val="ff0000"/>
                </a:solidFill>
                <a:latin typeface="Gill Sans MT"/>
              </a:rPr>
              <a:t>التربية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هي العملية التي ينمي بها الأنسان ذكائه الفردي والأجتماعي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تتميز الحركة التقدمية بما يلي 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تهتم بالطفل من جميع النواحي (جسمياً – عقلياً – خلقياً – اجتماعياً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عليم يكون من خلال العمل (مدرسة النشاط) (منهج الخبرة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لاتستخدم التلقين في طريقة التدريس وانما اثارة ميول التلاميذ واهتماماتهم ومراعاة الفروق الفردية بينهم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نظامها ديمقراطي حيث يشارك التلاميذ في ادارة المدرسة وتقل سلطة المعل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ربية الخلقية يجب ان تعمل على تنمية الوعي الاجتماعي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516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572314"/>
                </a:solidFill>
                <a:latin typeface="Gill Sans MT"/>
              </a:rPr>
              <a:t>اوجه الاختلاف بين التربية التقليدية والتربية التقدمية :</a:t>
            </a:r>
            <a:endParaRPr b="0" lang="en-US" sz="4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1000"/>
          </a:bodyPr>
          <a:p>
            <a:pPr marL="51120" indent="0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ill Sans MT"/>
              </a:rPr>
              <a:t>التقدم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160" y="328320"/>
            <a:ext cx="402264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81000"/>
          </a:bodyPr>
          <a:p>
            <a:pPr marL="51120" indent="0" rtl="1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Gill Sans MT"/>
              </a:rPr>
              <a:t>التقليدية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4000"/>
          </a:bodyPr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هتم بميول الطفل واحتياجات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ؤكد خبرات الطفل المتصلة بحياته اليومي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طفل يختار مواد المنهج واساليب العمل والتنفيذ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8280" indent="-25632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علاقة تعاونية بين المعلم والتلاميذ وتتسم بالديمقراطية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64160" y="969840"/>
            <a:ext cx="4022640" cy="41148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تقوم على الانقياد والطاعة والتلقي من جانب الطفل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لايسمح له بالقيام بالخبرات النافعة التي تتصل بحياته اليوميه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منهج اعده الراشدون ويتلقاه الاطفال ويحفظونه دون سؤال او اعتراض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 algn="r" rtl="1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ill Sans MT"/>
              </a:rPr>
              <a:t>الانظمة المدرسية صارمة والمعلم مسيطر تماما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900" spc="-1" strike="noStrike">
                <a:solidFill>
                  <a:srgbClr val="572314"/>
                </a:solidFill>
                <a:latin typeface="Gill Sans MT"/>
              </a:rPr>
              <a:t>معايير فحص الخبرات واختيار الصالح منها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- معيار الاستمرارية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بمعنى ان الخبرة تؤدي الى خبرات اخرى ( خبرة مربية) تنمي المعرفة والسلوك والمهارات 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- معيار التفاعل 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أي بين مايقدم للطفل من خبرات وبين مايحتاجه ويرغب فيه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ــــــــــــــــــــــــــــــــــــــــــــــــــــــــــــــــــــــــــــــــــــــــ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r" rtl="1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الخبرات المربية  الصالحة التي تخضع لمعياري الاستمرارية والتفاعل = الشخصية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نقاط الضعف في التربية التقدمي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تعليم عن طريق العمل ليست الطريق المناسب لتغطية كل ابعاد المعرفة وان طريقة حل المشكلات تستخدم بعد ان يكون المتعلم قد اكتسب خلفية كافية في المادة الدراسي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منهج يتحدد حسب المنفعة الفردية للطفل وهذا يحرمه من التعرف على التراث الانساني المتراك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حرية مطلقة تماما وهذا شئ يجب الا يكون ويجب ان تظل السلطة بيد المعلم وتتقيد بسن التلاميذ ومدى نضجهم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572314"/>
                </a:solidFill>
                <a:latin typeface="Gill Sans MT"/>
              </a:rPr>
              <a:t>اهم المبادئ التي قدمتها التربية التقدمية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تحديد الغرض من الدرس وجعله واضحا امام التلامي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لاهتمام بميول الاطفال حتى يشعروا بقيمة هذه المواد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عدم الانقياد الاعمى وتقبل أي قاعدة دون فهمها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- ان العقل تابع للارادة 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09:13:48Z</dcterms:created>
  <dc:creator>ام يزيد</dc:creator>
  <dc:description/>
  <dc:language>en-US</dc:language>
  <cp:lastModifiedBy>aaaa</cp:lastModifiedBy>
  <dcterms:modified xsi:type="dcterms:W3CDTF">2013-02-08T20:30:40Z</dcterms:modified>
  <cp:revision>18</cp:revision>
  <dc:subject/>
  <dc:title>جون ديوي</dc:title>
</cp:coreProperties>
</file>