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619C-83F4-42C2-98DC-87E9F968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5EB4-6AAC-4D2A-8148-1092E2D1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CF6775-A271-49EA-A822-C9F3C232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757E4A-34E6-40F8-A7F1-34F82C3F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0D1CC-D0D1-41CE-8208-F1BF45E3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A3A907-2CB1-4920-90D6-5D996DC6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DB40FC-868A-4864-A214-7CA7C6DD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A6D217-ECCC-4C34-BBF8-2BA5A500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1D513B-DC14-4526-A1DC-F4C6042F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4552A6-154A-4490-8E19-F56F9D85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128D8-EC3E-4250-AB8B-3E14603E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3CAE25-2438-410C-B2F8-9A2F1EEA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B3BD-F668-41A2-B3EC-ADFFAEB5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641168-5F9C-4515-84E2-5BCA4AC7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57944D-77E7-421C-92EC-7F62F09E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B303EB-D3A3-4075-9D25-20FFC9AC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8DBBB0-51EC-4F0B-BB59-985F4B99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F29C2-A224-4CDE-8AC2-8B28ADDD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3516B8-6588-4D91-A6F8-A32116F2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8038BE-966B-408B-BFAC-D658E273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B70C0-8175-450A-B103-8911A98A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25B706-EC1A-4FF1-87F6-0A126D4D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6E5B1A-744A-4245-A6C4-BFBD3B45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63C0-E93A-4D79-9E49-5F98BDDF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287E2A-D783-4EA0-B575-EB1FFF67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6E27B-0AC2-4D7F-9ACF-31D2ACD8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9D9A7-AF1A-4FA5-A4ED-861744B0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A5C69-EE6E-4FDF-BF6C-74D00BCE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E7F2F-E01F-473B-92EA-B97A35E8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D1309-31C5-4628-A387-A4CEB85F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583F0-DDC6-4718-86CA-29E2CC65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CEABD-7279-489E-868E-A44FF8AE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0AE51-BEB6-4672-93D8-D4E1BC14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0B701-260A-46DD-8980-3C6CB5C0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466D-51CF-458E-8173-AF5BF054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6E92F-884B-40FF-8AE6-96E714C6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E01C6-D3A5-4DA8-9808-759F6461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F4DE2-B3F7-4632-B88D-AD268328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AC0B18-C061-4A56-AEFE-C58CEED5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490EC9-7F85-4BA4-887D-502F2BD0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7BE0EB-1C0B-46D0-A722-EA96F258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E2062-5D5B-4C8E-9911-109D5A5D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C496E8-7E6B-4F33-A00A-BA83A938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5D8F39-5659-4F04-A1D1-BE93B52B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97E331-9D45-4419-96CA-FAC5FDC0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4B71-DE2E-414D-B24A-8D68F26D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54F3B3-CD92-49BD-B5F1-F235EA48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187816-9783-46F0-980D-E3D661E3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D89CAC-D019-45DE-AFBB-B0227A91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E94EF4-2E78-46F3-AF0E-CC4B107D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132779-45D8-420D-A321-BD3FF2D0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C75E-ED2E-44B7-B1CD-B227F401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F31E-AD8A-441A-B90E-248D9D7B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7F1D-28A7-436C-8935-2ACB422D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E3B1-035B-42E9-9EDD-A83B1E3E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F1F4-549C-44B6-A4AC-452026AC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35D3-7CC9-4290-8D94-1EAC4241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A423-59EE-4BA3-BC0D-06157BAA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1B00-218D-4E23-90F1-2215D9DD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94A0-C6B2-4AFD-93FC-451E5C2D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2E8D-E181-4F7B-804B-9E1B75DD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F05F-ACD5-424B-A78F-A57505E9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346AA-C339-432F-A4B3-DDD1185B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E6A7E-2315-4D6E-B8F8-6AE4A95F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19DE1-A38D-4193-8BD6-29DC2654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36C67-905F-4692-AC12-6FDDC227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7C9F9-8B82-4B34-B3AF-1E2A08A9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CEFF-37DE-47CF-B590-5A8A50F8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CAC37-45CD-4C68-9695-354C07B1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0A542-AC87-4317-812C-78CCCAC7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C1C77-4444-477D-94E8-DBFF6C35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C21E5-5E90-4E44-82A3-6C8BA388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94D82-1EA5-4932-98F1-A3D8ACE7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69151-2FC0-492E-9F04-802886B4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FC045-83A5-41DD-9A2C-E07FCF0F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BE423-1D27-4FBB-B205-8FCBA5AE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4BE89-17E2-4A04-9B25-9E9BF678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63D7C-4CBD-4324-87A8-02B8C18F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D0AC-9A0B-4AE9-9574-F18054DA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DD041-88FC-412E-AF63-E2ABE29F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A4360-3CB3-4CCD-867B-A2A6416A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E026F-71F5-4D22-AE48-EBE07544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3A9BB-B7EE-45CC-9258-EC2F3705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45E45-BB35-4360-A608-720AD12D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D6EE6-E164-4261-A344-B043564D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C49FF-78DC-4A95-82B8-CD2DA901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7B7E9-B822-426F-8268-A6CBB32A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3CD4C-CAB6-4F7D-A116-1F807696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301A9-2A11-42DE-B6D9-22BB88A6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A39B-B872-4077-BEA3-5CBBC8D6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0DBEC-0D1A-4B95-8BED-7D8814DA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8A9E6-77C9-4F62-9591-46D02227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E7FC7-CF53-4CF2-AE00-EB67E22B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D75C0-86FC-48CC-B9E4-FCBA83BC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D9A2E-70E7-4F13-B804-B4B05013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9A548-62D9-4EA4-9A03-712E96A1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20E70-5202-4D05-8BA7-37D18C30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AA09A-D13A-4381-9EFC-4E346905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6C796-5552-441D-92A4-B63F3E0B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AD348-4B23-4AA1-A71E-D1843D99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9939-6355-49C0-96BE-22DD6445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CC37E-68F6-408E-96EB-A3A37AEF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454E8-8B6C-4953-AD3A-B003EB33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EABA9-A8EF-4D91-8D0F-6456D7FC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48055-3891-46EF-A1C1-AC81E2D4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92A93-BA4E-4C4A-8197-BC21DDEF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D7E94-6310-4B00-A7A8-D4B50BC8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98061-FC5C-4CA1-8EEC-355E9EBD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5CE37-26C5-4990-B934-B1745636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7934D-C29E-43A8-8E03-7D9287DF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CBB37-00DA-47FD-8B6F-F1201983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F82-31D0-45AE-B8AA-3BD8DFB0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D5125-FA88-4D11-A33D-1D6A01A1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FCAF2-FB51-44C4-9656-C047924D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64391-C82E-4990-8BE7-07D26D59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BDE65-C270-44F0-ABA9-508AD2B7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B9F8B-BAB0-4E46-890A-BEC4F695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E125F-4607-4E7C-9CEA-22F2C682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2C32C-6FB6-4AE0-AC3F-D5285D0A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E87B7-897F-4E5E-8BC4-22B84670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13408-969A-4EC9-A132-88697FD0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7BE6A-C933-42F0-AB8A-A403D85F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107B-3577-4BB1-BB0A-30EE2DA0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3CDCB-22D0-46A6-9D22-6F60153D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7628D-D499-49BE-AA50-85101BA0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C2298-7994-4A32-83DF-74683B35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C83EC-9DC2-41EC-AB6E-091F1B0C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2BB97-C321-4294-BED8-17871CDF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7A7BC-41E4-48C3-81E9-1A0B011E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0C043-590A-41ED-BAC0-222CD908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DBB7B-E66B-40A0-94BC-9CE3075D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EF3CB-A0F9-4E73-B764-DF3E3084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37BB1-4A04-4410-92C2-BA64DDD7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5A2-ACF4-4B89-B981-DF99C571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C7E3F-C1D8-46D2-9E7E-4F09A44A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7C50B-77D1-48AB-A1B3-C230F192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64EB8-E1C4-449E-8B5D-DF106776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A91A7-5285-4693-9C09-D52E0062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0CB35-E7A6-4667-9BCB-5E6C604C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E0D82-1FC7-4499-AABA-FA2D1048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78B64-FF51-4163-AFB3-F75DAB2D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473174-431A-4368-9F30-BFD99046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B01CDA-2FF3-414B-8FC7-76445321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801C52-6AA4-46AB-9E98-2A6C3845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45F6-04FF-48DE-8FBF-15563CEBBF0A}" type="slidenum">
              <a:rPr b="0" lang="ar-SA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0D7A-FE69-4A08-BCEC-447E2414CF82}" type="slidenum">
              <a:rPr b="0" lang="ar-SA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7BF2-4D14-408E-B937-B0257D5825C3}" type="slidenum">
              <a:rPr b="0" lang="ar-SA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37A0-DD5E-405A-ACD3-186787711D29}" type="slidenum">
              <a:rPr b="0" lang="ar-SA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FDDD-8458-42D2-AC8E-C89E2FD32F09}" type="slidenum">
              <a:rPr b="0" lang="ar-SA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4E1A-EAFF-4A3E-8A24-7DD7961FED97}" type="slidenum">
              <a:rPr b="0" lang="ar-SA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CDCF-B2B6-48A6-96D2-48E0BA336323}" type="slidenum">
              <a:rPr b="0" lang="ar-SA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666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1515-CC7C-4B9E-AFB0-BDE2F19D5C79}" type="slidenum">
              <a:rPr b="0" lang="ar-SA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666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822C-80A2-4078-B550-7907850E860E}" type="slidenum">
              <a:rPr b="0" lang="ar-SA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3461-2335-4AF1-9D59-8AD8B6EFCB85}" type="slidenum">
              <a:rPr b="0" lang="ar-SA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4524-F24D-476D-8436-4F9EF7B08519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DA2F-8AC8-4295-94FA-8BAB2329B86C}" type="slidenum">
              <a:rPr b="0" lang="ar-SA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39280" y="2997000"/>
            <a:ext cx="305604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lnSpc>
                <a:spcPct val="1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5005f"/>
                </a:solidFill>
                <a:latin typeface="Georgia"/>
              </a:rPr>
              <a:t>COMPONENTS</a:t>
            </a:r>
            <a:r>
              <a:rPr b="1" lang="en-US" sz="2200" spc="-1" strike="noStrike">
                <a:solidFill>
                  <a:srgbClr val="75005f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ctr" rtl="1">
              <a:lnSpc>
                <a:spcPct val="1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5005f"/>
                </a:solidFill>
                <a:latin typeface="Georgia"/>
              </a:rPr>
              <a:t>PREPARATIO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ctr" rtl="1">
              <a:lnSpc>
                <a:spcPct val="1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5005f"/>
                </a:solidFill>
                <a:latin typeface="Georgia"/>
              </a:rPr>
              <a:t>INOCULATION</a:t>
            </a:r>
            <a:r>
              <a:rPr b="1" lang="en-US" sz="2200" spc="-1" strike="noStrike">
                <a:solidFill>
                  <a:srgbClr val="75005f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5005f"/>
                </a:solidFill>
                <a:latin typeface="Georgia"/>
              </a:rPr>
              <a:t>Culture Media</a:t>
            </a:r>
            <a:endParaRPr b="0" lang="en-US" sz="4800" spc="-1" strike="noStrike">
              <a:solidFill>
                <a:srgbClr val="89006f"/>
              </a:solidFill>
              <a:latin typeface="Georgia"/>
            </a:endParaRPr>
          </a:p>
        </p:txBody>
      </p:sp>
      <p:pic>
        <p:nvPicPr>
          <p:cNvPr id="608" name="Picture 4" descr="C:\Users\Najola\Desktop\ksu\311\media1.jpg"/>
          <p:cNvPicPr/>
          <p:nvPr/>
        </p:nvPicPr>
        <p:blipFill>
          <a:blip r:embed="rId1"/>
          <a:stretch/>
        </p:blipFill>
        <p:spPr>
          <a:xfrm>
            <a:off x="5076720" y="2781360"/>
            <a:ext cx="30196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Procedure</a:t>
            </a: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asure out the required volume of the media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.g. 40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m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 media for 1000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l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water, let’s say u want to prepare 100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l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med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40           100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!!            100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 4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m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media for 100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l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wate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ut the media powder in the flas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d the water onto the medi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x wel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635" name="Straight Arrow Connector 4"/>
          <p:cNvCxnSpPr/>
          <p:nvPr/>
        </p:nvCxnSpPr>
        <p:spPr>
          <a:xfrm>
            <a:off x="1763280" y="3141360"/>
            <a:ext cx="648360" cy="361080"/>
          </a:xfrm>
          <a:prstGeom prst="straightConnector1">
            <a:avLst/>
          </a:prstGeom>
          <a:ln w="936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636" name="Straight Arrow Connector 8"/>
          <p:cNvCxnSpPr/>
          <p:nvPr/>
        </p:nvCxnSpPr>
        <p:spPr>
          <a:xfrm flipV="1">
            <a:off x="1619280" y="3212280"/>
            <a:ext cx="721440" cy="361080"/>
          </a:xfrm>
          <a:prstGeom prst="straightConnector1">
            <a:avLst/>
          </a:prstGeom>
          <a:ln w="9360">
            <a:solidFill>
              <a:srgbClr val="ff388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ver the flask with aluminum foi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ick the autoclave tape on the flask and use it for label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erilize the media in autoclave 15-20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in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at 12oC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eave to cool at room temperatur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our the media in petri dish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eave to solidified at R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5005f"/>
                </a:solidFill>
                <a:latin typeface="Georgia"/>
              </a:rPr>
              <a:t>Inoculation</a:t>
            </a:r>
            <a:r>
              <a:rPr b="0" lang="en-US" sz="3600" spc="-1" strike="noStrike">
                <a:solidFill>
                  <a:srgbClr val="75005f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t i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reaking bacteria on agar plate, allow the bacteria to grow to produce isolated colonies, and pure cultur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005f"/>
                </a:solidFill>
                <a:latin typeface="Georgia"/>
              </a:rPr>
              <a:t>Pure cultur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culture containing a single species of organism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005f"/>
                </a:solidFill>
                <a:latin typeface="Georgia"/>
              </a:rPr>
              <a:t>Mixed cultur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culture containing more than one species of organism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005f"/>
                </a:solidFill>
                <a:latin typeface="Georgia"/>
              </a:rPr>
              <a:t>Contamination culture: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bacterial culture that has acquired unwanted organism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order to obtain well-isolated colonies, the quadrant streak technique should be use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89006f"/>
                </a:solidFill>
                <a:latin typeface="Georgia"/>
              </a:rPr>
              <a:t> </a:t>
            </a: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Quadrant streak technique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Equipment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50000"/>
              </a:lnSpc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acti-cinerator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lnSpc>
                <a:spcPct val="150000"/>
              </a:lnSpc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oop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lnSpc>
                <a:spcPct val="150000"/>
              </a:lnSpc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ubculture media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lnSpc>
                <a:spcPct val="150000"/>
              </a:lnSpc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gar media plane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lnSpc>
                <a:spcPct val="150000"/>
              </a:lnSpc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arker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10552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PROCEDURE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terile the loop by bacti-cineratoe until it is red then allow to cool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ake a loopful of bacteria from the subculture media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mmediately streak the inoculating loop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VERY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gently over a quarter of the plate around 4-5 lines (quadrant 1)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terile the loop then allow to cool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Go back to the edge of the area 1, extend the streaks into the second quarter of the plate (quadrant 2)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terile the loop then allow to cool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Go back to the edge of the area 2, extend the streaks into the third quarter of the plate (quadrant 3)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550"/>
              </a:spcBef>
              <a:buClr>
                <a:srgbClr val="ff388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terile the loop then allow to cool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272880" indent="-272880">
              <a:spcBef>
                <a:spcPts val="550"/>
              </a:spcBef>
              <a:buClr>
                <a:srgbClr val="ff388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Go back to the edge of the area 3, extend the streaks into the forth quarter of the plate in zig zag lines (quadrant 4)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lvl="1" marL="272880" indent="-272880">
              <a:spcBef>
                <a:spcPts val="550"/>
              </a:spcBef>
              <a:buClr>
                <a:srgbClr val="ff388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et the bacteria to grow at 37 C° for 24 hr in the incubator.</a:t>
            </a:r>
            <a:endParaRPr b="0" lang="en-US" sz="2200" spc="-1" strike="noStrike">
              <a:solidFill>
                <a:srgbClr val="66666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ff388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300" spc="-1" strike="noStrike">
              <a:solidFill>
                <a:srgbClr val="89006f"/>
              </a:solidFill>
              <a:latin typeface="Georgia"/>
            </a:endParaRPr>
          </a:p>
        </p:txBody>
      </p:sp>
      <p:pic>
        <p:nvPicPr>
          <p:cNvPr id="649" name="Picture 4" descr="C:\Users\Najola\Desktop\ksu\311\streak2.jpg"/>
          <p:cNvPicPr/>
          <p:nvPr/>
        </p:nvPicPr>
        <p:blipFill>
          <a:blip r:embed="rId1"/>
          <a:stretch/>
        </p:blipFill>
        <p:spPr>
          <a:xfrm>
            <a:off x="4648320" y="1685880"/>
            <a:ext cx="4027320" cy="42642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C:\Users\Najola\Desktop\ksu\311\streak1.jpg"/>
          <p:cNvPicPr/>
          <p:nvPr/>
        </p:nvPicPr>
        <p:blipFill>
          <a:blip r:embed="rId2"/>
          <a:stretch/>
        </p:blipFill>
        <p:spPr>
          <a:xfrm>
            <a:off x="324000" y="1628640"/>
            <a:ext cx="42480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Georgia"/>
              </a:rPr>
              <a:t>BASAL OR COMPLEX MEDIA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Georgia"/>
              </a:rPr>
              <a:t>ENRICHED MEDIA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Georgia"/>
              </a:rPr>
              <a:t>SELECTIVE MEDIA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Georgia"/>
              </a:rPr>
              <a:t>DEFERENTIAL MEDIA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88c"/>
                </a:solidFill>
                <a:latin typeface="Georgia"/>
                <a:ea typeface="Times New Roman"/>
              </a:rPr>
              <a:t>Types of media</a:t>
            </a:r>
            <a:endParaRPr b="0" lang="en-US" sz="4400" spc="-1" strike="noStrike">
              <a:solidFill>
                <a:srgbClr val="89006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120" y="189000"/>
            <a:ext cx="8534520" cy="83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89006f"/>
                </a:solidFill>
                <a:latin typeface="Georgia"/>
                <a:ea typeface="Times New Roman"/>
              </a:rPr>
              <a:t>Basal or complex media: Nutrient Agar(NA)</a:t>
            </a:r>
            <a:endParaRPr b="0" lang="en-US" sz="29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It contains  nutrients tha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allows non fastidious o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Non pathogenic organism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o grow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Notice the shape, margi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elevation, color, siz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Smell of organism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5" name="Picture 3" descr="C:\Documents and Settings\user\My Documents\My Pictures\Shigella%20flexneri%20TopView.jpg"/>
          <p:cNvPicPr/>
          <p:nvPr/>
        </p:nvPicPr>
        <p:blipFill>
          <a:blip r:embed="rId1"/>
          <a:stretch/>
        </p:blipFill>
        <p:spPr>
          <a:xfrm>
            <a:off x="4572000" y="1700280"/>
            <a:ext cx="43340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06f"/>
                </a:solidFill>
                <a:latin typeface="Georgia"/>
                <a:ea typeface="Times New Roman"/>
              </a:rPr>
              <a:t>Notice pigment production by organism</a:t>
            </a:r>
            <a:endParaRPr b="0" lang="en-US" sz="3200" spc="-1" strike="noStrike">
              <a:solidFill>
                <a:srgbClr val="89006f"/>
              </a:solidFill>
              <a:latin typeface="Georgia"/>
            </a:endParaRPr>
          </a:p>
        </p:txBody>
      </p:sp>
      <p:pic>
        <p:nvPicPr>
          <p:cNvPr id="657" name="Picture 4" descr="C:\Documents and Settings\user\My Documents\My Pictures\1-5.jpg"/>
          <p:cNvPicPr/>
          <p:nvPr/>
        </p:nvPicPr>
        <p:blipFill>
          <a:blip r:embed="rId1"/>
          <a:stretch/>
        </p:blipFill>
        <p:spPr>
          <a:xfrm>
            <a:off x="425520" y="1841400"/>
            <a:ext cx="829296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ulture Media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source of energy and certain environmental conditions in order to grow and produce bacteri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150000"/>
              </a:lnSpc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pending on the type and combination of nutrients, different categories of media can be mad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006f"/>
                </a:solidFill>
                <a:latin typeface="Georgia"/>
                <a:ea typeface="Times New Roman"/>
              </a:rPr>
              <a:t>Enriched Media</a:t>
            </a:r>
            <a:r>
              <a:rPr b="0" lang="en-US" sz="2800" spc="-1" strike="noStrike">
                <a:solidFill>
                  <a:srgbClr val="89006f"/>
                </a:solidFill>
                <a:latin typeface="Georgia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89006f"/>
                </a:solidFill>
                <a:latin typeface="Georgia"/>
                <a:ea typeface="Times New Roman"/>
              </a:rPr>
              <a:t>Blood Agar (BA)/chocolate agar(Choc)</a:t>
            </a:r>
            <a:endParaRPr b="0" lang="en-US" sz="24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It contains simple nutrient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and additional requirem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such as blood, serum to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allow fastidious o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pathogenic organisms t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0" name="Picture 2" descr="C:\Documents and Settings\user\My Documents\My Pictures\Bacillus%20species%20fig%207.jpg"/>
          <p:cNvPicPr/>
          <p:nvPr/>
        </p:nvPicPr>
        <p:blipFill>
          <a:blip r:embed="rId1"/>
          <a:stretch/>
        </p:blipFill>
        <p:spPr>
          <a:xfrm>
            <a:off x="4859280" y="1341360"/>
            <a:ext cx="41212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006f"/>
                </a:solidFill>
                <a:latin typeface="Georgia"/>
                <a:ea typeface="Times New Roman"/>
              </a:rPr>
              <a:t>Selective Media</a:t>
            </a:r>
            <a:r>
              <a:rPr b="0" lang="en-US" sz="2800" spc="-1" strike="noStrike">
                <a:solidFill>
                  <a:srgbClr val="89006f"/>
                </a:solidFill>
                <a:latin typeface="Georgia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89006f"/>
                </a:solidFill>
                <a:latin typeface="Georgia"/>
                <a:ea typeface="Times New Roman"/>
              </a:rPr>
              <a:t>Mac Conkey agar(MAC)</a:t>
            </a:r>
            <a:endParaRPr b="0" lang="en-US" sz="24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It contains inhibiting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agents that inhibit som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organisms and allow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others to grow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Inhibiting agents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Bile salts, crystal viole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It inhibits gram positiv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organisms, allows growth of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gram negative organisms.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3" name="Picture 2" descr="C:\Documents and Settings\user\My Documents\My Pictures\MacConkey_agar_with_LF_and_LF_colonies.jpg"/>
          <p:cNvPicPr/>
          <p:nvPr/>
        </p:nvPicPr>
        <p:blipFill>
          <a:blip r:embed="rId1"/>
          <a:stretch/>
        </p:blipFill>
        <p:spPr>
          <a:xfrm>
            <a:off x="4357800" y="1643040"/>
            <a:ext cx="43574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1" lang="en-US" sz="2800" spc="-1" strike="noStrike">
                <a:solidFill>
                  <a:srgbClr val="89006f"/>
                </a:solidFill>
                <a:latin typeface="Georgia"/>
                <a:ea typeface="Times New Roman"/>
              </a:rPr>
              <a:t>Differential Media</a:t>
            </a:r>
            <a:br>
              <a:rPr sz="2500"/>
            </a:br>
            <a:r>
              <a:rPr b="0" lang="en-US" sz="2400" spc="-1" strike="noStrike">
                <a:solidFill>
                  <a:srgbClr val="89006f"/>
                </a:solidFill>
                <a:latin typeface="Georgia"/>
                <a:ea typeface="Times New Roman"/>
              </a:rPr>
              <a:t>Cysteine Lactose Electrolyte Deficient Agar (CLED)</a:t>
            </a:r>
            <a:r>
              <a:rPr b="0" lang="en-US" sz="2400" spc="-1" strike="noStrike">
                <a:solidFill>
                  <a:srgbClr val="89006f"/>
                </a:solidFill>
                <a:latin typeface="Georgia"/>
                <a:ea typeface="Times New Roman"/>
              </a:rPr>
              <a:t> </a:t>
            </a:r>
            <a:endParaRPr b="0" lang="en-US" sz="24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72880" indent="-2728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It contains a sugar and Indicato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if organism ferments sugar an acid i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ill change the color of</a:t>
            </a:r>
            <a:r>
              <a:rPr b="0" lang="ar-S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produced, thi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indicato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Indicato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: is Bromothymol blu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Sugar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 is lactos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If organism ferments lactose it will giv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Georgia"/>
                <a:ea typeface="Arial"/>
              </a:rPr>
              <a:t>yellow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 color, if it does not ferment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lactose no changes occurs,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colorless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6" name="Picture 2" descr="C:\Documents and Settings\user\My Documents\My Pictures\Agars_CLED.jpg"/>
          <p:cNvPicPr/>
          <p:nvPr/>
        </p:nvPicPr>
        <p:blipFill>
          <a:blip r:embed="rId1"/>
          <a:stretch/>
        </p:blipFill>
        <p:spPr>
          <a:xfrm>
            <a:off x="4876920" y="1557360"/>
            <a:ext cx="426708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006f"/>
                </a:solidFill>
                <a:latin typeface="Georgia"/>
                <a:ea typeface="Times New Roman"/>
              </a:rPr>
              <a:t>Selective and Differential Media: </a:t>
            </a:r>
            <a:r>
              <a:rPr b="0" lang="en-US" sz="2400" spc="-1" strike="noStrike">
                <a:solidFill>
                  <a:srgbClr val="89006f"/>
                </a:solidFill>
                <a:latin typeface="Georgia"/>
                <a:ea typeface="Times New Roman"/>
              </a:rPr>
              <a:t>MAC</a:t>
            </a:r>
            <a:endParaRPr b="0" lang="en-US" sz="24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78920" y="14842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Sugar: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is lactos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Indicator: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is neutral r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If  the organism ferment lactos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It will give </a:t>
            </a:r>
            <a:r>
              <a:rPr b="1" lang="en-US" sz="2400" spc="-1" strike="noStrike">
                <a:solidFill>
                  <a:srgbClr val="e90062"/>
                </a:solidFill>
                <a:latin typeface="Georgia"/>
                <a:ea typeface="Arial"/>
              </a:rPr>
              <a:t>pink color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=LF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If organism does not fer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Lactose, no change in colo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Colorless= NLF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9" name="Picture 2" descr="C:\Documents and Settings\user\My Documents\My Pictures\MacConkey_agar_with_LF_and_LF_colonies.jpg"/>
          <p:cNvPicPr/>
          <p:nvPr/>
        </p:nvPicPr>
        <p:blipFill>
          <a:blip r:embed="rId1"/>
          <a:stretch/>
        </p:blipFill>
        <p:spPr>
          <a:xfrm>
            <a:off x="4626000" y="1484280"/>
            <a:ext cx="45180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006f"/>
                </a:solidFill>
                <a:latin typeface="Georgia"/>
                <a:ea typeface="Times New Roman"/>
              </a:rPr>
              <a:t>Selective and Differential </a:t>
            </a:r>
            <a:br>
              <a:rPr sz="3200"/>
            </a:br>
            <a:r>
              <a:rPr b="0" lang="en-US" sz="2400" spc="-1" strike="noStrike">
                <a:solidFill>
                  <a:srgbClr val="89006f"/>
                </a:solidFill>
                <a:latin typeface="Georgia"/>
                <a:ea typeface="Times New Roman"/>
              </a:rPr>
              <a:t>Eosin Methylene Blue </a:t>
            </a:r>
            <a:r>
              <a:rPr b="0" lang="ar-SA" sz="2400" spc="-1" strike="noStrike">
                <a:solidFill>
                  <a:srgbClr val="89006f"/>
                </a:solidFill>
                <a:latin typeface="Georgia"/>
              </a:rPr>
              <a:t>(</a:t>
            </a:r>
            <a:r>
              <a:rPr b="0" lang="en-US" sz="2400" spc="-1" strike="noStrike">
                <a:solidFill>
                  <a:srgbClr val="89006f"/>
                </a:solidFill>
                <a:latin typeface="Georgia"/>
                <a:ea typeface="Times New Roman"/>
              </a:rPr>
              <a:t> (EMB</a:t>
            </a:r>
            <a:endParaRPr b="0" lang="en-US" sz="24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s</a:t>
            </a:r>
            <a:r>
              <a:rPr b="1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Mac Conkey,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  <a:ea typeface="Arial"/>
              </a:rPr>
              <a:t> inhibits G(+ve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  <a:ea typeface="Arial"/>
              </a:rPr>
              <a:t>organisms, allows growth of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  <a:ea typeface="Arial"/>
              </a:rPr>
              <a:t>G(-ve) organisms. 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Georgia"/>
              </a:rPr>
              <a:t>Indicator: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is Methylene Blu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nd Eosin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Lactose fermentor organsim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ppears </a:t>
            </a:r>
            <a:r>
              <a:rPr b="1" lang="en-US" sz="1900" spc="-1" strike="noStrike">
                <a:solidFill>
                  <a:srgbClr val="4e005f"/>
                </a:solidFill>
                <a:latin typeface="Georgia"/>
              </a:rPr>
              <a:t>dark purple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whil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non lactose fermentor appear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colorless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 u="sng">
                <a:solidFill>
                  <a:srgbClr val="000000"/>
                </a:solidFill>
                <a:uFillTx/>
                <a:latin typeface="Georgia"/>
              </a:rPr>
              <a:t>E.coli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 produces</a:t>
            </a:r>
            <a:r>
              <a:rPr b="0" lang="en-US" sz="1900" spc="-1" strike="noStrike">
                <a:solidFill>
                  <a:srgbClr val="00cc00"/>
                </a:solidFill>
                <a:latin typeface="Georgia"/>
              </a:rPr>
              <a:t> </a:t>
            </a:r>
            <a:r>
              <a:rPr b="1" lang="en-US" sz="1900" spc="-1" strike="noStrike">
                <a:solidFill>
                  <a:srgbClr val="00b050"/>
                </a:solidFill>
                <a:latin typeface="Georgia"/>
              </a:rPr>
              <a:t>green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b050"/>
                </a:solidFill>
                <a:latin typeface="Georgia"/>
              </a:rPr>
              <a:t>Metallic sheen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( LF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2" name="Picture 4" descr="C:\Documents and Settings\user\My Documents\My Pictures\3emb.jpg"/>
          <p:cNvPicPr/>
          <p:nvPr/>
        </p:nvPicPr>
        <p:blipFill>
          <a:blip r:embed="rId1"/>
          <a:stretch/>
        </p:blipFill>
        <p:spPr>
          <a:xfrm>
            <a:off x="3929040" y="1571760"/>
            <a:ext cx="49770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9006f"/>
                </a:solidFill>
                <a:latin typeface="Georgia"/>
                <a:ea typeface="Times New Roman"/>
              </a:rPr>
              <a:t>Selective and deferential: </a:t>
            </a:r>
            <a:r>
              <a:rPr b="0" lang="en-US" sz="2400" spc="-1" strike="noStrike">
                <a:solidFill>
                  <a:srgbClr val="89006f"/>
                </a:solidFill>
                <a:latin typeface="Georgia"/>
                <a:ea typeface="Times New Roman"/>
              </a:rPr>
              <a:t>Mannitol Salt Agar( MSA)</a:t>
            </a:r>
            <a:endParaRPr b="0" lang="en-US" sz="24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Selectiv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:  as it contains 7.5% salt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Only organisms that can tolerate high salt conc. can grow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Differential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 :as it contains mannitol sugar and phenol red indicator 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The organism that ferments mannitol produces  acid thus color changes to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  <a:ea typeface="Arial"/>
              </a:rPr>
              <a:t>yellow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If organism does not ferment mannitol no change in color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6" name="Picture 2" descr="C:\Documents and Settings\user\My Documents\My Pictures\msa.jpg"/>
          <p:cNvPicPr/>
          <p:nvPr/>
        </p:nvPicPr>
        <p:blipFill>
          <a:blip r:embed="rId1"/>
          <a:stretch/>
        </p:blipFill>
        <p:spPr>
          <a:xfrm>
            <a:off x="4716360" y="2133720"/>
            <a:ext cx="400212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006f"/>
                </a:solidFill>
                <a:latin typeface="Georgia"/>
                <a:ea typeface="Times New Roman"/>
              </a:rPr>
              <a:t>Differential Media</a:t>
            </a:r>
            <a:br>
              <a:rPr sz="3000"/>
            </a:br>
            <a:r>
              <a:rPr b="0" lang="en-US" sz="3000" spc="-1" strike="noStrike">
                <a:solidFill>
                  <a:srgbClr val="89006f"/>
                </a:solidFill>
                <a:latin typeface="Georgia"/>
                <a:ea typeface="Times New Roman"/>
              </a:rPr>
              <a:t>Blood Agar</a:t>
            </a:r>
            <a:endParaRPr b="0" lang="en-US" sz="30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ypes of hemolysi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α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Hemolys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  <a:ea typeface="Arial"/>
              </a:rPr>
              <a:t>β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Hemolys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  <a:ea typeface="Arial"/>
              </a:rPr>
              <a:t>γ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Hemolysi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9" name="Picture 2" descr="C:\Documents and Settings\user\My Documents\My Pictures\Streptococcus%20alpha%20beta%20gamma%20fig14.jpg"/>
          <p:cNvPicPr/>
          <p:nvPr/>
        </p:nvPicPr>
        <p:blipFill>
          <a:blip r:embed="rId1"/>
          <a:stretch/>
        </p:blipFill>
        <p:spPr>
          <a:xfrm>
            <a:off x="4376880" y="2000160"/>
            <a:ext cx="41828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  <a:ea typeface="Times New Roman"/>
              </a:rPr>
              <a:t>Types of Hemolysis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Georgia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  hemoly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Incomplete hemoly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greenish color arou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colon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2" name="Picture 2" descr="C:\Documents and Settings\user\My Documents\My Pictures\Streptococcus%20species%20fig31.jpg"/>
          <p:cNvPicPr/>
          <p:nvPr/>
        </p:nvPicPr>
        <p:blipFill>
          <a:blip r:embed="rId1"/>
          <a:stretch/>
        </p:blipFill>
        <p:spPr>
          <a:xfrm>
            <a:off x="4356000" y="1628640"/>
            <a:ext cx="42865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06f"/>
                </a:solidFill>
                <a:latin typeface="Georgia"/>
                <a:ea typeface="Times New Roman"/>
              </a:rPr>
              <a:t>Types of hemolysis</a:t>
            </a:r>
            <a:endParaRPr b="0" lang="en-US" sz="32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orgia"/>
                <a:ea typeface="Arial"/>
              </a:rPr>
              <a:t>β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hemolys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Complete hemolysi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Clear area arou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colonie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5" name="Picture 2" descr="C:\Documents and Settings\user\My Documents\My Pictures\bloodsp2.jpg"/>
          <p:cNvPicPr/>
          <p:nvPr/>
        </p:nvPicPr>
        <p:blipFill>
          <a:blip r:embed="rId1"/>
          <a:stretch/>
        </p:blipFill>
        <p:spPr>
          <a:xfrm>
            <a:off x="4572000" y="1773360"/>
            <a:ext cx="42418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  <a:ea typeface="Times New Roman"/>
              </a:rPr>
              <a:t>Swarming of Proteus on BA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Swarming appear a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spreading rose on B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plat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8" name="Picture 3" descr="C:\Documents and Settings\user\My Documents\My Pictures\swarming%20Proteus%20fig9.jpg"/>
          <p:cNvPicPr/>
          <p:nvPr/>
        </p:nvPicPr>
        <p:blipFill>
          <a:blip r:embed="rId1"/>
          <a:stretch/>
        </p:blipFill>
        <p:spPr>
          <a:xfrm>
            <a:off x="4211640" y="1484280"/>
            <a:ext cx="471492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Types of Media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asal or complex medi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nriched medi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lective medi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ferential medi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C:\Users\Najola\Desktop\ksu\311\thank_you_colony_card-p137238145065931267qiae_400.jpg"/>
          <p:cNvPicPr/>
          <p:nvPr/>
        </p:nvPicPr>
        <p:blipFill>
          <a:blip r:embed="rId1"/>
          <a:stretch/>
        </p:blipFill>
        <p:spPr>
          <a:xfrm>
            <a:off x="1835280" y="476280"/>
            <a:ext cx="611496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  <a:ea typeface="Times New Roman"/>
              </a:rPr>
              <a:t>Common Ingredients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5005f"/>
                </a:solidFill>
                <a:latin typeface="Georgia"/>
              </a:rPr>
              <a:t>Water: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ssential for bacterial growth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5005f"/>
                </a:solidFill>
                <a:latin typeface="Georgia"/>
              </a:rPr>
              <a:t>Peptone :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rom hydrolyzed animal or plant protei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5005f"/>
                </a:solidFill>
                <a:latin typeface="Georgia"/>
              </a:rPr>
              <a:t>Meat extract: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rovide amino acids, vitamins, minerals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5005f"/>
                </a:solidFill>
                <a:latin typeface="Georgia"/>
              </a:rPr>
              <a:t>Yeast extract: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used as bacterial growth stimulant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5005f"/>
                </a:solidFill>
                <a:latin typeface="Georgia"/>
              </a:rPr>
              <a:t>Mineral salts</a:t>
            </a:r>
            <a:r>
              <a:rPr b="0" lang="en-US" sz="2200" spc="-1" strike="noStrike">
                <a:solidFill>
                  <a:srgbClr val="75005f"/>
                </a:solidFill>
                <a:latin typeface="Georgi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ssential for bacterial enzyme activity, Sulfur, phosphorus, iron, potassium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5005f"/>
                </a:solidFill>
                <a:latin typeface="Georgia"/>
              </a:rPr>
              <a:t>Carbohydrates: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imple or complex sugars as source of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nergy and carbon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4000" spc="-1" strike="noStrike">
                <a:solidFill>
                  <a:srgbClr val="89006f"/>
                </a:solidFill>
                <a:latin typeface="Georgia"/>
              </a:rPr>
              <a:t>Agar</a:t>
            </a:r>
            <a:endParaRPr b="0" lang="en-US" sz="40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’s solidifying agent of the medium. A gelatinou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Inert polysaccharid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material, derived from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 sea-weed or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certain marine algae. It i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  <a:ea typeface="Arial"/>
              </a:rPr>
              <a:t>Resistant to microbial action. Non toxic to bacteria. Dissolves at 100 c°, Solidifies when cooled below 45 c°. Use 1-2% concentra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  <a:ea typeface="Times New Roman"/>
              </a:rPr>
              <a:t>Forms of Media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5005f"/>
                </a:solidFill>
                <a:latin typeface="Georgia"/>
                <a:ea typeface="Arial"/>
              </a:rPr>
              <a:t>1) Liquid form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  <a:ea typeface="Arial"/>
              </a:rPr>
              <a:t>: called broth. Without agar, used to grow bacteria in a large quantity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  <a:ea typeface="Arial"/>
              </a:rPr>
              <a:t>Growth of bacteria         turbidity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  <a:ea typeface="Arial"/>
              </a:rPr>
              <a:t>No growth           clear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5005f"/>
                </a:solidFill>
                <a:latin typeface="Georgia"/>
                <a:ea typeface="Arial"/>
              </a:rPr>
              <a:t>2)solid: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2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5005f"/>
                </a:solidFill>
                <a:latin typeface="Georgia"/>
                <a:ea typeface="Arial"/>
              </a:rPr>
              <a:t>plate: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  <a:ea typeface="Arial"/>
              </a:rPr>
              <a:t>used mostly to culture organisms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2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5005f"/>
                </a:solidFill>
                <a:latin typeface="Georgia"/>
                <a:ea typeface="Arial"/>
              </a:rPr>
              <a:t>slant: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  <a:ea typeface="Arial"/>
              </a:rPr>
              <a:t>a tube containing solid media that was left to solidify at an angle.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used to keep the bacteria for long period of time (3 months)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2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5005f"/>
                </a:solidFill>
                <a:latin typeface="Georgia"/>
                <a:ea typeface="Arial"/>
              </a:rPr>
              <a:t>Deep agar :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  <a:ea typeface="Arial"/>
              </a:rPr>
              <a:t>agar solidified at bottom of tube.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used to keep the bacteria for long time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30000"/>
              </a:lnSpc>
              <a:spcBef>
                <a:spcPts val="42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1700" spc="-1" strike="noStrike">
                <a:solidFill>
                  <a:srgbClr val="75005f"/>
                </a:solidFill>
                <a:latin typeface="Georgia"/>
                <a:ea typeface="Arial"/>
              </a:rPr>
              <a:t>Semi-solid agar deep: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  <a:ea typeface="Arial"/>
              </a:rPr>
              <a:t>same as agar deep except it contains less agar (0.5% agar) to allow motility of organisms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619" name="Straight Arrow Connector 4"/>
          <p:cNvCxnSpPr/>
          <p:nvPr/>
        </p:nvCxnSpPr>
        <p:spPr>
          <a:xfrm>
            <a:off x="2268000" y="2133360"/>
            <a:ext cx="288360" cy="1080"/>
          </a:xfrm>
          <a:prstGeom prst="straightConnector1">
            <a:avLst/>
          </a:prstGeom>
          <a:ln w="936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620" name="Straight Arrow Connector 5"/>
          <p:cNvCxnSpPr/>
          <p:nvPr/>
        </p:nvCxnSpPr>
        <p:spPr>
          <a:xfrm>
            <a:off x="1547280" y="2565000"/>
            <a:ext cx="288360" cy="1080"/>
          </a:xfrm>
          <a:prstGeom prst="straightConnector1">
            <a:avLst/>
          </a:prstGeom>
          <a:ln w="9360">
            <a:solidFill>
              <a:srgbClr val="ff388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lant Aga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late Agar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Picture 2" descr="C:\Users\Najola\Desktop\ksu\311\slanttube.jpg"/>
          <p:cNvPicPr/>
          <p:nvPr/>
        </p:nvPicPr>
        <p:blipFill>
          <a:blip r:embed="rId1"/>
          <a:stretch/>
        </p:blipFill>
        <p:spPr>
          <a:xfrm>
            <a:off x="1547640" y="2421000"/>
            <a:ext cx="1479600" cy="35654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" descr="C:\Users\Najola\Desktop\ksu\311\Agar_Plate.jpg"/>
          <p:cNvPicPr/>
          <p:nvPr/>
        </p:nvPicPr>
        <p:blipFill>
          <a:blip r:embed="rId2"/>
          <a:stretch/>
        </p:blipFill>
        <p:spPr>
          <a:xfrm>
            <a:off x="4572000" y="3068640"/>
            <a:ext cx="43290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ep Aga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10552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9" name="Picture 5" descr="C:\Users\Najola\Desktop\ksu\311\agar deep.jpg"/>
          <p:cNvPicPr/>
          <p:nvPr/>
        </p:nvPicPr>
        <p:blipFill>
          <a:blip r:embed="rId1"/>
          <a:stretch/>
        </p:blipFill>
        <p:spPr>
          <a:xfrm>
            <a:off x="468360" y="2492280"/>
            <a:ext cx="33512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Media preparation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Equipment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dia powder.</a:t>
            </a:r>
            <a:endParaRPr b="0" lang="en-US" sz="24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ater (100 ml).</a:t>
            </a:r>
            <a:endParaRPr b="0" lang="en-US" sz="24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alance.</a:t>
            </a:r>
            <a:endParaRPr b="0" lang="en-US" sz="24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lask ( larger than the size of media volume). </a:t>
            </a:r>
            <a:endParaRPr b="0" lang="en-US" sz="24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eighing plate.</a:t>
            </a:r>
            <a:endParaRPr b="0" lang="en-US" sz="24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eighing spatula</a:t>
            </a:r>
            <a:endParaRPr b="0" lang="en-US" sz="2400" spc="-1" strike="noStrike">
              <a:solidFill>
                <a:srgbClr val="66666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ylinder.</a:t>
            </a:r>
            <a:endParaRPr b="0" lang="en-US" sz="2400" spc="-1" strike="noStrike">
              <a:solidFill>
                <a:srgbClr val="66666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acti-cinerato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utovalv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erile empty Petri dish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272880" indent="-272880">
              <a:spcBef>
                <a:spcPts val="601"/>
              </a:spcBef>
              <a:buClr>
                <a:srgbClr val="ff388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utoclave tape.</a:t>
            </a:r>
            <a:endParaRPr b="0" lang="en-US" sz="2400" spc="-1" strike="noStrike">
              <a:solidFill>
                <a:srgbClr val="666666"/>
              </a:solidFill>
              <a:latin typeface="Georgia"/>
            </a:endParaRPr>
          </a:p>
          <a:p>
            <a:pPr lvl="1" marL="272880" indent="-272880">
              <a:spcBef>
                <a:spcPts val="601"/>
              </a:spcBef>
              <a:buClr>
                <a:srgbClr val="ff388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luminum foil.</a:t>
            </a:r>
            <a:endParaRPr b="0" lang="en-US" sz="2400" spc="-1" strike="noStrike">
              <a:solidFill>
                <a:srgbClr val="666666"/>
              </a:solidFill>
              <a:latin typeface="Georgia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04:26:44Z</dcterms:created>
  <dc:creator>ksu</dc:creator>
  <dc:description/>
  <dc:language>en-US</dc:language>
  <cp:lastModifiedBy>ksu</cp:lastModifiedBy>
  <dcterms:modified xsi:type="dcterms:W3CDTF">2012-03-07T07:58:37Z</dcterms:modified>
  <cp:revision>118</cp:revision>
  <dc:subject/>
  <dc:title>Media</dc:title>
</cp:coreProperties>
</file>