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2F4-2205-44D9-A7EB-43E64C38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23D-953C-41F5-86B2-0BC002D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C4D99-602E-4043-A945-8AFDC95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CEFA8-AD69-4DC5-B549-D44B786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3FCB1-1102-45B5-B376-93F90D8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A86E3-8A33-453D-A602-06A42A5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E4D0F-D01D-4945-8F38-E7F983A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1E824-037B-49D2-AA7E-1A6B6E5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B5131-C929-485D-8853-3BD43D9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869FD-1F5D-4FBC-9EB2-1D9CE0DD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3CB7E-14F6-495E-A1EA-02C74AA1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7F909-B5E2-41A9-A1C0-4891167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AE3-D9F2-48C0-9538-4F4F2F38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76FF1-54D7-4F65-9B93-8342C183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99AAF-2829-403A-B24B-61B264D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15D18-496D-40EA-9B21-05C45D4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F2CB7-F00B-412B-B2D0-3D2771B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1B413-FD59-40AB-AA11-75908290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FA448-463F-46E5-8ED7-0CF024D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30BC2-C146-4258-AC87-9FEE137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AA8B9-7D18-4E07-87DD-3E9A45F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24763-B776-4B68-9676-1523CCA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44CBF-DF22-4F84-A7A3-C2DDEAAD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9C6-B23E-4EBC-921A-77FF2EC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BD520-06E0-402C-AAC4-7E24CF20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0331D-030A-4A2B-B236-634FF2AF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9FE3-B201-4EC8-93D2-51FBF43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FB63-969D-46C8-8F47-FF15E0C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927A-78B7-4D09-B37D-348A35EC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D7268-ABC9-4C98-8A82-A54B869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80A4-748A-45D6-A041-35D1E9E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AFC2-8FE3-48AD-B883-A51048A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952ED-DEAE-4366-8DB9-2229BD54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214D-8BBB-448C-9197-950E570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303-AF9E-4B63-8D76-5A3F549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4E9F-D571-4221-96DA-9A4FD43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B75A-98C8-4887-A101-BA4AB7DD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28DF-48EE-4895-AF11-BFE2CBA5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881AA-5946-4961-8EB0-DE069365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CA1B1-65C3-4755-B38E-3B32A23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7E10E-9448-4628-A055-E1870DC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199D1-FB2D-4E85-BB3E-AB202872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E59F9-9E21-4458-B15A-72A78ED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E28DD-F496-47B5-A8D7-34C524F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F022B-F439-4739-8182-AEF0E34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BA57-02E0-43A5-A971-43657EC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C9B48-278F-4B34-B733-44B4F74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B4D6B-7554-41B7-AD79-AE3D630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4A176-B630-4246-9BB1-F3E33C3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8220C-7285-4BFB-9971-7CFBC49F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7D3EC-1234-4AD9-BB79-65E4241A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EF0-2A38-4868-AADB-354B37F1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8319-1E06-4847-A91A-45A1D6D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A556-5459-4E6D-8672-7153450F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CDD-B17E-4A2E-BBEC-660D0AB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21C-C5AE-49E7-9E0A-BC869407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F70-A696-437B-8DFF-DE42F015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AE7-DC15-4A18-B522-5D435E4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DED-BD08-4F60-B431-DAA3CBF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204A-3488-42E6-8AA8-2394936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6118-9D8C-42E5-A3BC-6176984D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7EF4-0907-4A60-933B-5C7AC276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8524-EDF5-4456-80F7-8CD6A496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DA77-3C7E-404A-9C09-9421AF07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327A-EC0C-4C49-BFDC-CC107F0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639D-63A0-4F87-9262-8A541506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146F-E54C-4D8B-9E71-97867A8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4C3-0F9F-4DA7-9A5C-9C5E089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3838-E4C5-4A24-AE5A-D2F15C6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7668-DC69-4EE3-9E08-2D0C675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B0D7-BB21-43A8-ACE8-5DF6186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C2ED-1690-4759-8EB9-5432C6A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1CEA-1923-4B8F-B94E-3B0B468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3608-AE59-49C0-8DC2-5C96F4FB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FE31-11AB-4451-BE04-B37FA5E5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69BA-483F-489E-9CBE-0E26EC53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DD0B-A84E-462E-9138-01E594C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D9A1-023F-4884-A958-001F33A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56F-5EDB-4809-B1A3-A8A084F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BF09-2508-498E-AB90-577886C6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DD17-0F19-4656-AAFC-CB45B61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E3FA-479B-45FD-9AE9-8EEA6AD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2788-3EB2-4227-923C-F0CCB0E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9A7B-FC7B-45E1-A08D-A10BA821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F5A9-97CF-457F-A3C4-1EC2A47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ADD7-0C6C-467D-ACE2-15ADA5F7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4EF1-A9CB-45DC-8559-26BFC37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A149-6FEF-4322-8AD0-E6E24736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1756-432C-44E6-B10D-F0501E0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513-FC61-411D-8032-B50A143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12BD-D879-4DB9-A1A5-2F9574B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1028-B025-4DB4-B74F-122FF4C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F386-3A3C-4DE7-81BA-79CB3FE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6B7E-5CED-405D-AB30-AF6A7C1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FD58-EE28-406E-84B6-8E1370D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3513-69C4-4694-81C9-49A0452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6AE3-81D8-4290-9B76-93CB461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30FD-6434-4E94-9344-D6442C3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0658-FFB4-49C9-8F3E-7012AC1F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C84F-343E-460D-8886-9607A6AA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915-9D5A-453D-BBF3-14455D9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BDBC-51ED-4C63-A193-6CA8A32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D581-352C-4DFE-9B8A-8E30ECCB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23E0-1D6C-43FC-BB2A-7A7FE30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093B-2419-4FB2-AD58-1A8C03C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D2EA-A817-4D67-B27E-E66F8DE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1B23-7463-475C-86F3-D314B1F4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F23F-8BA8-4570-890D-7E959E9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FCBF-D82D-4F3E-B450-02A7D89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BD719-2E5B-4692-8B6F-F235DC0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CD8D-DB5E-415D-A285-2A91537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E20-D4AC-41AE-AF06-EB1FA8A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E3E1-8614-4BE8-BD49-6241B63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0AAE-B80B-4400-9737-FA892556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787B-2B03-4602-9808-4D72184D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47D54-D24A-4A07-ABC3-5F89F7C6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A9C8-4CE7-48A6-8655-8105A46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9A64-1297-4AF9-B3AF-B610ED5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96AA-653F-4529-8D6E-6DD1E328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26161-C8C2-4301-B8E8-A47B4D8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19A2-6008-4D89-9142-B1B368A5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8D76-DB68-4D71-87AC-53AF2D3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DE8-96D6-48DF-86CA-2B417C5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AC6D-CEE5-42C4-98EE-1BABEDAD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DB27-8B1A-4FFA-94B7-7085CA2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1887-2881-41CE-9668-C7B3A7A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03E8-0427-40D2-ACD1-D66B46AC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036A-F88B-498B-A4D9-3AD90D7F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C137-7155-4F76-86FA-71E37D72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962C-C3AC-4BFC-8624-045FF03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CE65-D6AA-432C-AB96-1E3DDCF2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5665-889E-481E-93FD-1BF97FB8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669E-D1A6-4544-96C4-1E52D6B4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A7A-6C64-4B8A-BBAF-A37F5E3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25BF-186D-4950-AE22-0480F6C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F4BD-1BE9-497A-A4BC-F8F4DF35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DBA5-6CC4-463C-A22E-F1EEC43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B4F3-B1A1-45A9-B45D-62D4597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9BD3-4AE6-45E6-979D-3EC7F4B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A6A89-9158-4025-82B0-6A5CC8E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0641-7CE2-4C02-96D7-D1938E7B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4FC60-6D63-4E5C-852B-7CE55EC4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0CB20-935E-4B0C-BD2D-04758BD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73BE1-F3C5-460B-A6E6-B6A643F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5E0-341E-48BB-A725-20863F964727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5EA-C8CB-4635-8B50-C65235BD79CE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BADF-02C8-4AB3-A83E-172AC8F70C2D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295B-BEB0-41FC-AA34-F32C0F061414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4FD0-8E98-431E-A01A-8BFE8B23E93D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D70-79DD-4388-9D09-2A405F8B6E36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42F-638E-4516-9351-59FD5A25ADCF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552-06C7-474C-9F4B-1114C4CC13FF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8B6-B136-4CF8-A748-ACA56DB62FBE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00A-F3D9-4B1B-8371-2BC2F4192767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A87-8092-40BC-B18D-1DD4D503FDAF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A7B-4117-4788-96AF-4B5FDFD67AB5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9280" y="2997000"/>
            <a:ext cx="305604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COMPONENTS</a:t>
            </a: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PREPAR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INOCULATION</a:t>
            </a: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005f"/>
                </a:solidFill>
                <a:latin typeface="Georgia"/>
              </a:rPr>
              <a:t>Culture Media</a:t>
            </a:r>
            <a:endParaRPr b="0" lang="en-US" sz="4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08" name="Picture 4" descr="C:\Users\Najola\Desktop\ksu\311\media1.jpg"/>
          <p:cNvPicPr/>
          <p:nvPr/>
        </p:nvPicPr>
        <p:blipFill>
          <a:blip r:embed="rId1"/>
          <a:stretch/>
        </p:blipFill>
        <p:spPr>
          <a:xfrm>
            <a:off x="5076720" y="2781360"/>
            <a:ext cx="3019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Procedure</a:t>
            </a: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e out the required volume of the media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 4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media for 10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water, let’s say u want to prepare 1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ed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0           10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!!            10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edia for 1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t the media powder in the fla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the water onto the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x wel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35" name="Straight Arrow Connector 4"/>
          <p:cNvCxnSpPr/>
          <p:nvPr/>
        </p:nvCxnSpPr>
        <p:spPr>
          <a:xfrm>
            <a:off x="1763280" y="3141360"/>
            <a:ext cx="648360" cy="36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636" name="Straight Arrow Connector 8"/>
          <p:cNvCxnSpPr/>
          <p:nvPr/>
        </p:nvCxnSpPr>
        <p:spPr>
          <a:xfrm flipV="1">
            <a:off x="1619280" y="3212280"/>
            <a:ext cx="721440" cy="36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ver the flask with aluminum f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ick the autoclave tape on the flask and use it for label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rilize the media in autoclave 15-2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12oC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ve to cool at room temperatu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ur the media in petri dis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ve to solidified at 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005f"/>
                </a:solidFill>
                <a:latin typeface="Georgia"/>
              </a:rPr>
              <a:t>Inoculation</a:t>
            </a:r>
            <a:r>
              <a:rPr b="0" lang="en-US" sz="36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 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eaking bacteria on agar plate, allow the bacteria to grow to produce isolated colonies, and pure cultur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Pure cult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culture containing a single species of organis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Mixed cult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culture containing more than one species of organis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Contamination culture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bacterial culture that has acquired unwanted organism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order to obtain well-isolated colonies, the quadrant streak technique should be us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9006f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Quadrant streak technique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quipmen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acti-cinerato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oop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bculture media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gar media plane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rke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10552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PROCEDURE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by bacti-cineratoe until it is red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ake a loopful of bacteria from the subculture media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mmediately streak the inoculating loop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ER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gently over a quarter of the plate around 4-5 lines (quadrant 1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1, extend the streaks into the second quarter of the plate (quadrant 2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2, extend the streaks into the third quarter of the plate (quadrant 3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3, extend the streaks into the forth quarter of the plate in zig zag lines (quadrant 4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t the bacteria to grow at 37 C° for 24 hr in the incubato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49" name="Picture 4" descr="C:\Users\Najola\Desktop\ksu\311\streak2.jpg"/>
          <p:cNvPicPr/>
          <p:nvPr/>
        </p:nvPicPr>
        <p:blipFill>
          <a:blip r:embed="rId1"/>
          <a:stretch/>
        </p:blipFill>
        <p:spPr>
          <a:xfrm>
            <a:off x="4648320" y="1685880"/>
            <a:ext cx="4027320" cy="4264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C:\Users\Najola\Desktop\ksu\311\streak1.jpg"/>
          <p:cNvPicPr/>
          <p:nvPr/>
        </p:nvPicPr>
        <p:blipFill>
          <a:blip r:embed="rId2"/>
          <a:stretch/>
        </p:blipFill>
        <p:spPr>
          <a:xfrm>
            <a:off x="324000" y="1628640"/>
            <a:ext cx="4248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BASAL OR COMPLEX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ENRICHED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LECTIVE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DEFERENTIAL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88c"/>
                </a:solidFill>
                <a:latin typeface="Georgia"/>
                <a:ea typeface="Times New Roman"/>
              </a:rPr>
              <a:t>Types of media</a:t>
            </a:r>
            <a:endParaRPr b="0" lang="en-US" sz="44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853452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89006f"/>
                </a:solidFill>
                <a:latin typeface="Georgia"/>
                <a:ea typeface="Times New Roman"/>
              </a:rPr>
              <a:t>Basal or complex media: Nutrient Agar(NA)</a:t>
            </a:r>
            <a:endParaRPr b="0" lang="en-US" sz="29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 nutrients tha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llows non fastidious 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Non pathogenic organis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o grow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Notice the shape, marg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elevation, color, siz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mell of organis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3" descr="C:\Documents and Settings\user\My Documents\My Pictures\Shigella%20flexneri%20TopView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340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06f"/>
                </a:solidFill>
                <a:latin typeface="Georgia"/>
                <a:ea typeface="Times New Roman"/>
              </a:rPr>
              <a:t>Notice pigment production by organism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57" name="Picture 4" descr="C:\Documents and Settings\user\My Documents\My Pictures\1-5.jpg"/>
          <p:cNvPicPr/>
          <p:nvPr/>
        </p:nvPicPr>
        <p:blipFill>
          <a:blip r:embed="rId1"/>
          <a:stretch/>
        </p:blipFill>
        <p:spPr>
          <a:xfrm>
            <a:off x="425520" y="1841400"/>
            <a:ext cx="82929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ulture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ource of energy and certain environmental conditions in order to grow and produce bac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50000"/>
              </a:lnSpc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pending on the type and combination of nutrients, different categories of media can be ma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Enriched Media</a:t>
            </a:r>
            <a:r>
              <a:rPr b="0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Blood Agar (BA)/chocolate agar(Choc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simple nutrient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nd additional requir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uch as blood, serum t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llow fastidious 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pathogenic organisms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2" descr="C:\Documents and Settings\user\My Documents\My Pictures\Bacillus%20species%20fig%207.jpg"/>
          <p:cNvPicPr/>
          <p:nvPr/>
        </p:nvPicPr>
        <p:blipFill>
          <a:blip r:embed="rId1"/>
          <a:stretch/>
        </p:blipFill>
        <p:spPr>
          <a:xfrm>
            <a:off x="4859280" y="1341360"/>
            <a:ext cx="4121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Media</a:t>
            </a:r>
            <a:r>
              <a:rPr b="0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c Conkey agar(MAC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inhibi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gents that inhibit som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rganisms and allow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thers to grow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Inhibiting agent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Bile salts, crystal viole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inhibits gram positi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rganisms, allows growth o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gram negative organisms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Documents and Settings\user\My Documents\My Pictures\MacConkey_agar_with_LF_and_LF_colonies.jpg"/>
          <p:cNvPicPr/>
          <p:nvPr/>
        </p:nvPicPr>
        <p:blipFill>
          <a:blip r:embed="rId1"/>
          <a:stretch/>
        </p:blipFill>
        <p:spPr>
          <a:xfrm>
            <a:off x="4357800" y="1643040"/>
            <a:ext cx="4357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Differential Media</a:t>
            </a:r>
            <a:br>
              <a:rPr sz="2500"/>
            </a:b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Cysteine Lactose Electrolyte Deficient Agar (CLED)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 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t contains a sugar and Indica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ferments sugar an acid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 change the color of</a:t>
            </a: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produced, th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ndica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ndica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: is Bromothymol blu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ug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is lactos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ferments lactose it will g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eorgia"/>
                <a:ea typeface="Arial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color, if it does not ferme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lactose no changes occurs,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colorless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2" descr="C:\Documents and Settings\user\My Documents\My Pictures\Agars_CLED.jpg"/>
          <p:cNvPicPr/>
          <p:nvPr/>
        </p:nvPicPr>
        <p:blipFill>
          <a:blip r:embed="rId1"/>
          <a:stretch/>
        </p:blipFill>
        <p:spPr>
          <a:xfrm>
            <a:off x="4876920" y="1557360"/>
            <a:ext cx="4267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ifferential Media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C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ugar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is lacto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ndicator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is neutral 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f  the organism ferment lacto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will give </a:t>
            </a:r>
            <a:r>
              <a:rPr b="1" lang="en-US" sz="2400" spc="-1" strike="noStrike">
                <a:solidFill>
                  <a:srgbClr val="e90062"/>
                </a:solidFill>
                <a:latin typeface="Georgia"/>
                <a:ea typeface="Arial"/>
              </a:rPr>
              <a:t>pink color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=L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f organism does not fer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Lactose, no change in col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Colorless= NL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9" name="Picture 2" descr="C:\Documents and Settings\user\My Documents\My Pictures\MacConkey_agar_with_LF_and_LF_colonies.jpg"/>
          <p:cNvPicPr/>
          <p:nvPr/>
        </p:nvPicPr>
        <p:blipFill>
          <a:blip r:embed="rId1"/>
          <a:stretch/>
        </p:blipFill>
        <p:spPr>
          <a:xfrm>
            <a:off x="4626000" y="1484280"/>
            <a:ext cx="4518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ifferential </a:t>
            </a:r>
            <a:br>
              <a:rPr sz="3200"/>
            </a:b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Eosin Methylene Blue </a:t>
            </a:r>
            <a:r>
              <a:rPr b="0" lang="ar-SA" sz="2400" spc="-1" strike="noStrike">
                <a:solidFill>
                  <a:srgbClr val="89006f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 (EMB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</a:t>
            </a: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c Conkey,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 inhibits G(+v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organisms, allows growth o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G(-ve) organisms.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Indicator: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s Methylene Bl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d Eosin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actose fermentor organsim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ppears </a:t>
            </a:r>
            <a:r>
              <a:rPr b="1" lang="en-US" sz="1900" spc="-1" strike="noStrike">
                <a:solidFill>
                  <a:srgbClr val="4e005f"/>
                </a:solidFill>
                <a:latin typeface="Georgia"/>
              </a:rPr>
              <a:t>dark purple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hil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non lactose fermentor appea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olorles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E.coli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 produces</a:t>
            </a:r>
            <a:r>
              <a:rPr b="0" lang="en-US" sz="19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1" lang="en-US" sz="1900" spc="-1" strike="noStrike">
                <a:solidFill>
                  <a:srgbClr val="00b050"/>
                </a:solidFill>
                <a:latin typeface="Georgia"/>
              </a:rPr>
              <a:t>gree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b050"/>
                </a:solidFill>
                <a:latin typeface="Georgia"/>
              </a:rPr>
              <a:t>Metallic shee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( LF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4" descr="C:\Documents and Settings\user\My Documents\My Pictures\3emb.jpg"/>
          <p:cNvPicPr/>
          <p:nvPr/>
        </p:nvPicPr>
        <p:blipFill>
          <a:blip r:embed="rId1"/>
          <a:stretch/>
        </p:blipFill>
        <p:spPr>
          <a:xfrm>
            <a:off x="3929040" y="1571760"/>
            <a:ext cx="4977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eferential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nnitol Salt Agar( MSA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electiv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:  as it contains 7.5% sal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Only organisms that can tolerate high salt conc. can gr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Differentia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:as it contains mannitol sugar and phenol red indicator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The organism that ferments mannitol produces  acid thus color changes to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  <a:ea typeface="Arial"/>
              </a:rPr>
              <a:t>yellow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does not ferment mannitol no change in colo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C:\Documents and Settings\user\My Documents\My Pictures\msa.jpg"/>
          <p:cNvPicPr/>
          <p:nvPr/>
        </p:nvPicPr>
        <p:blipFill>
          <a:blip r:embed="rId1"/>
          <a:stretch/>
        </p:blipFill>
        <p:spPr>
          <a:xfrm>
            <a:off x="4716360" y="2133720"/>
            <a:ext cx="40021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006f"/>
                </a:solidFill>
                <a:latin typeface="Georgia"/>
                <a:ea typeface="Times New Roman"/>
              </a:rPr>
              <a:t>Differential Media</a:t>
            </a:r>
            <a:br>
              <a:rPr sz="3000"/>
            </a:br>
            <a:r>
              <a:rPr b="0" lang="en-US" sz="3000" spc="-1" strike="noStrike">
                <a:solidFill>
                  <a:srgbClr val="89006f"/>
                </a:solidFill>
                <a:latin typeface="Georgia"/>
                <a:ea typeface="Times New Roman"/>
              </a:rPr>
              <a:t>Blood Agar</a:t>
            </a:r>
            <a:endParaRPr b="0" lang="en-US" sz="3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ypes of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γ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Documents and Settings\user\My Documents\My Pictures\Streptococcus%20alpha%20beta%20gamma%20fig14.jpg"/>
          <p:cNvPicPr/>
          <p:nvPr/>
        </p:nvPicPr>
        <p:blipFill>
          <a:blip r:embed="rId1"/>
          <a:stretch/>
        </p:blipFill>
        <p:spPr>
          <a:xfrm>
            <a:off x="4376880" y="2000160"/>
            <a:ext cx="4182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Types of Hemolysi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orgia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 hemoly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Incomplete hemoly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greenish color a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colo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2" descr="C:\Documents and Settings\user\My Documents\My Pictures\Streptococcus%20species%20fig31.jpg"/>
          <p:cNvPicPr/>
          <p:nvPr/>
        </p:nvPicPr>
        <p:blipFill>
          <a:blip r:embed="rId1"/>
          <a:stretch/>
        </p:blipFill>
        <p:spPr>
          <a:xfrm>
            <a:off x="4356000" y="1628640"/>
            <a:ext cx="4286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06f"/>
                </a:solidFill>
                <a:latin typeface="Georgia"/>
                <a:ea typeface="Times New Roman"/>
              </a:rPr>
              <a:t>Types of hemolysis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omplete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lear area ar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oloni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C:\Documents and Settings\user\My Documents\My Pictures\bloodsp2.jpg"/>
          <p:cNvPicPr/>
          <p:nvPr/>
        </p:nvPicPr>
        <p:blipFill>
          <a:blip r:embed="rId1"/>
          <a:stretch/>
        </p:blipFill>
        <p:spPr>
          <a:xfrm>
            <a:off x="4572000" y="1773360"/>
            <a:ext cx="4241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Swarming of Proteus on B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warming appear 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preading rose on B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pl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3" descr="C:\Documents and Settings\user\My Documents\My Pictures\swarming%20Proteus%20fig9.jpg"/>
          <p:cNvPicPr/>
          <p:nvPr/>
        </p:nvPicPr>
        <p:blipFill>
          <a:blip r:embed="rId1"/>
          <a:stretch/>
        </p:blipFill>
        <p:spPr>
          <a:xfrm>
            <a:off x="4211640" y="1484280"/>
            <a:ext cx="4714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Types of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al or complex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riched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ective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erential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Najola\Desktop\ksu\311\thank_you_colony_card-p137238145065931267qiae_400.jpg"/>
          <p:cNvPicPr/>
          <p:nvPr/>
        </p:nvPicPr>
        <p:blipFill>
          <a:blip r:embed="rId1"/>
          <a:stretch/>
        </p:blipFill>
        <p:spPr>
          <a:xfrm>
            <a:off x="1835280" y="476280"/>
            <a:ext cx="61149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Common Ingredient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Water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ssential for bacterial growth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Peptone 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om hydrolyzed animal or plant protei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Meat extract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vide amino acids, vitamins, mineral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Yeast extract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d as bacterial growth stimulan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Mineral salts</a:t>
            </a:r>
            <a:r>
              <a:rPr b="0" lang="en-US" sz="2200" spc="-1" strike="noStrike">
                <a:solidFill>
                  <a:srgbClr val="75005f"/>
                </a:solidFill>
                <a:latin typeface="Georgi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ssential for bacterial enzyme activity, Sulfur, phosphorus, iron, potassium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Carbohydrates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imple or complex sugars as source of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ergy and carbo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4000" spc="-1" strike="noStrike">
                <a:solidFill>
                  <a:srgbClr val="89006f"/>
                </a:solidFill>
                <a:latin typeface="Georgia"/>
              </a:rPr>
              <a:t>Agar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’s solidifying agent of the medium. A gelatinou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nert polysaccharid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terial, derived from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sea-weed 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certain marine algae. It i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Resistant to microbial action. Non toxic to bacteria. Dissolves at 100 c°, Solidifies when cooled below 45 c°. Use 1-2% concentr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Forms of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1) Liquid form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: called broth. Without agar, used to grow bacteria in a large quantity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Growth of bacteria         turbidit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No growth           clea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2)solid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plate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used mostly to culture organism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slant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a tube containing solid media that was left to solidify at an angle.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used to keep the bacteria for long period of time (3 months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Deep agar 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agar solidified at bottom of tube.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used to keep the bacteria for long time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Semi-solid agar deep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same as agar deep except it contains less agar (0.5% agar) to allow motility of organisms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2268000" y="2133360"/>
            <a:ext cx="288360" cy="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620" name="Straight Arrow Connector 5"/>
          <p:cNvCxnSpPr/>
          <p:nvPr/>
        </p:nvCxnSpPr>
        <p:spPr>
          <a:xfrm>
            <a:off x="1547280" y="2565000"/>
            <a:ext cx="288360" cy="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ant Ag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late Ag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C:\Users\Najola\Desktop\ksu\311\slanttube.jpg"/>
          <p:cNvPicPr/>
          <p:nvPr/>
        </p:nvPicPr>
        <p:blipFill>
          <a:blip r:embed="rId1"/>
          <a:stretch/>
        </p:blipFill>
        <p:spPr>
          <a:xfrm>
            <a:off x="1547640" y="2421000"/>
            <a:ext cx="1479600" cy="3565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C:\Users\Najola\Desktop\ksu\311\Agar_Plate.jpg"/>
          <p:cNvPicPr/>
          <p:nvPr/>
        </p:nvPicPr>
        <p:blipFill>
          <a:blip r:embed="rId2"/>
          <a:stretch/>
        </p:blipFill>
        <p:spPr>
          <a:xfrm>
            <a:off x="4572000" y="3068640"/>
            <a:ext cx="43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ep Aga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5" descr="C:\Users\Najola\Desktop\ksu\311\agar deep.jpg"/>
          <p:cNvPicPr/>
          <p:nvPr/>
        </p:nvPicPr>
        <p:blipFill>
          <a:blip r:embed="rId1"/>
          <a:stretch/>
        </p:blipFill>
        <p:spPr>
          <a:xfrm>
            <a:off x="468360" y="2492280"/>
            <a:ext cx="3351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Media preparation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quipment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a powder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ter (100 ml)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lanc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ask ( larger than the size of media volume). 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ighing plat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ighing spatula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ylinder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cti-cinerato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valv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erile empty Petri dish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clave tap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uminum foil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4:26:44Z</dcterms:created>
  <dc:creator>ksu</dc:creator>
  <dc:description/>
  <dc:language>en-US</dc:language>
  <cp:lastModifiedBy>ksu</cp:lastModifiedBy>
  <dcterms:modified xsi:type="dcterms:W3CDTF">2012-03-07T07:58:37Z</dcterms:modified>
  <cp:revision>118</cp:revision>
  <dc:subject/>
  <dc:title>Media</dc:title>
</cp:coreProperties>
</file>