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B7BEA-0AC6-40FB-BD3C-2C9F9B918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913E-2426-4F54-978C-34581CDED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6A03E-44D0-4D71-B8DD-6016EEEE6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D145F-930C-40A8-BA2A-7D4E301DB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1381D-316B-456F-ADA7-5EF64037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4B7D0-0F35-411C-A6E1-D842C2A4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5F7AE-D2C7-48EF-9A72-81B552976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7854-E2CC-44DA-956B-069E88723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7FAD8-029D-41EF-B6F3-5AAF7CE1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BD18E-1725-479B-BF94-0F602F37F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CF133-E885-4CA9-BD51-101A0CDC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2DF9F-34D3-47F5-A5FA-2B762BB4F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5A3A-DD9E-4AAA-AA65-D88D81E936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0720" y="341280"/>
            <a:ext cx="8242560" cy="58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FeRaS</cp:lastModifiedBy>
  <dcterms:modified xsi:type="dcterms:W3CDTF">2010-04-06T01:29:18Z</dcterms:modified>
  <cp:revision>17</cp:revision>
  <dc:subject/>
  <dc:title>Fluid and Electrolyte Therapy</dc:title>
</cp:coreProperties>
</file>