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11C-35DE-4F49-B9D6-D77F9EE0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C5C-BB0E-4ECD-8205-95FBF949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7F2-1B22-4A36-AFB5-D1174A61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37D-1EED-4B95-8ABE-01561333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FEF-C843-4592-B1F7-D1BE1486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F4E-54C3-4EE6-BF63-969FC35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5D5-8D40-495C-841C-C07954B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7EF-E57C-4C3C-B2F9-2CACEFB4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D3C-B8E5-4994-B466-10869E2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64-C434-42F2-92D4-D31E56E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45C-C7EE-4C8C-BB36-76A53EE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63F-8BD1-4FD7-BA3D-9261AEC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5E2-3AA0-4550-849F-D7EE631BC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45720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nder of principle metamorphic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rystal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grain size responding to T &amp; P changes. Coarsening of grains is common e.g. Quartz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mi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new mineral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oriented fab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vasive planar fabric defined by parallel structural planes &amp; lineation of minera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somat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lk chemical composition is affec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t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omat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Hot inter-granular fluids (commonl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&amp;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speed up metamorphic reactions and fluids are heated by geothermal gradient or igneous intr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289548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429000" y="2666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029200" y="3200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200400" y="4495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380880"/>
            <a:ext cx="8229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a wide variation in bulk composition of protoliths, these rocks deve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Metamorphic assemblages with simple mineralogies where each rock  h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following minerals: quartz, K-feldspar, plagioclase, cordierite, wollastonite, diopside, hypersthene and ga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For a particular bulk composition, the mineral assemblage i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457200"/>
            <a:ext cx="822960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single rock-type but a wide range of minerals that form under similar P-T and fluid composition conditions.  A general facies diagram was developed and names of each facies are based on those mineral assemblages that develop when a mafic bulk composition undergoes various P-T conditions.  These faci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olite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eo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hnite-Pumpelly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ehnite + pumpelly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ue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laucophane +lawsonite or epidote (+ albite + chlor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lorite + albite + epidote + actin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idote-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+/-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u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orthopyroxene + clinopyoxene + plag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log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mphacitic pyroxen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ies between 2 facies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30492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lthough rocks undergo metamorphism over increasing (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well as decrea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t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ring exhumation process) set of P-T conditions, the assignment of a rock to a facies is always based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ak metamorphic condi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reached.  The retrograde conditions are generally  incapable of obliterating the peak P-T conditions re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 Series &amp; Plate Tect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noted the consistent differences between Barrovian &amp; Buchan-type sequences in his study of Japan metamorphic belts.  He noted 3 sequences, mainly formed due to a variation in pressur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 Zeolite - prehnite-pumpellyite-blueschist-eclogite (HIGH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 Greenschist-epidote-amphibolite-amphibolite-granulite-(INTERMED.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/ Greenschist-amphibolite-granulite (LOW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prior to the concept of plate tectonics, Miyashiro recognized sub-parallel belts of high P-T adjacent to low P-T metamorphic rocks parallel to the Trench &amp; called th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ed metamorphic be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4849560" cy="3494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5800" y="4343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ired metamorphic belts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480" y="4876920"/>
            <a:ext cx="8153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 P-T belt is composed of andalusite-sillimanite facies assemblages, occuring to the NW of a major tectonic discontinuity and the high P-T belt occuring to SE of it.  High P-T belt consists of zeolite facies to blueschist / greenschist facies and some amphibolite roc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also noted paired metamorphic belts around the entire Pacific 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" y="5410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657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pan, the high P-T belt mirrors the location of the subduction zone where the subducting plate moves to the NW.  The low P-T belt is an ancient island arc that has been thrust against the high P-T be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on in subduction z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064040" y="380880"/>
            <a:ext cx="5079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3520" y="457200"/>
            <a:ext cx="815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mmonly one metamorphic mineral grows much larger than other constituent miner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may grow over an extended period or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-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amorphic ev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oliated rock, foliation may wrap around a porphyroblast and slightly coarser grains may develop in ‘pressure shadows’ on either side of porphyrobl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610480" cy="3432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962520" y="990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638680" y="6019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H="1" flipV="1">
            <a:off x="5409720" y="51051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429000" y="4571640"/>
            <a:ext cx="220968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7150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phy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4571640" y="3505320"/>
            <a:ext cx="11430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609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idenc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sulting rotation of porphyroblasts is often preserved as subparallel S-shaped inclusions within them.    The line of inclusions appear continuous with the surrounding groundmass fol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32240" y="1600200"/>
            <a:ext cx="407808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34290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orphyroblast growth foliation occurs at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 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metamorphism then the porphyroblasts simply overprints the general fab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353052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638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phyroblasts may grow over long period of time and recor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emp &amp; pressure change therefore the study of porphyroblasts is of importance to metamorphic petrolog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533520"/>
            <a:ext cx="8686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ar stress &amp; accompanying brittle to ductile de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lon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clas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ault zone environment, a layered rock consisting of bands of hard, brittle rocks in a matrix of softer, clay-rich layers will develop ‘lenses’ of brittle miner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d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French word meaning ‘saus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371600" y="3886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576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ge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0" y="4572000"/>
            <a:ext cx="2590920" cy="165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4382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228600" y="6216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lava block from Chaos Crags, N.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867280" y="4724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tacla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va block with stretched phenocrysts from shear zone in Chaos Crags d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477120" y="685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57200" y="20574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1066680"/>
            <a:ext cx="83822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amorphic petrologist can decipher the times at which a metamorphic rocks of a region were subjected to different P-T conditions.  In other words, the evolutionary history of such a region in terms of pressure-temp-time (P-T-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3 George Barrow carried out field-based study in Scotland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metamorphic intensity in mudrock protolith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tamorphic petrology).  Barrow showed that distinct zones or boundaries are marked by appearance/disappearance of a specific mineral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 mi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is can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outcrop scale, not just in Highlands but glob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80880"/>
            <a:ext cx="838224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zon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ite zone:    Chlorite + Muscovite + Quartz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tite zone:   Biotite + Chlorite + Muscovite + Albite +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 zone:   Garnet + Quartz + Biotite + Muscovite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zone: Staurolite + Garnet Quartz + Muscovite + Biotite + P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yanite zone: Kyanite + Garnet  + Muscovite + Biotite + Quartz + Plag + K-felds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w’s interpretation that the metamorphic grade/intensity increased from Chlorite to the Sillimanite zones was based on observation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in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se z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ovian Z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recognized as representativ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medi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T meta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lley extended this study and introduced the concept of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g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geological map that marks the first appearance &amp; disappearance of an index mi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419720" y="50292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09760" y="0"/>
            <a:ext cx="6129360" cy="6648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40080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ch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ovi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73040" y="200160"/>
            <a:ext cx="5073840" cy="6124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2860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morphic facies + tectonic associ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199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d-ocean 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715000" y="227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ogenic be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86200" y="152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62940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White lines                   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og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33520" y="1981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phane amphib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666880" y="22860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181480" y="609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net &amp; Omphacite pyrox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4647960" y="914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380880"/>
            <a:ext cx="80010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studies found different types of metamorphic zonation in rocks of pelitic composition worldwide.  Close to Barrows study area, in the Buchan area of eastern Dalradians, a very different sequence of metamorphic zones occurs in a pelitic protolith.  Here, the index mineral sequence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chan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- Cordierite - Andalusite - Sillim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lk com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. fluid composition) has an important control on type of mineral reactions in a protolith thus affecting the mineral-based isogr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composition also dictates what minerals may form at specific P-T &amp; fluid composition.  The list below highlights the different rocks forming under similar P-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d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e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al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-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limanite 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dot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ivine-tremolite sch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38:15Z</dcterms:created>
  <dc:creator>Rob Watts</dc:creator>
  <dc:description/>
  <dc:language>en-US</dc:language>
  <cp:lastModifiedBy>Dell</cp:lastModifiedBy>
  <dcterms:modified xsi:type="dcterms:W3CDTF">2011-10-05T23:37:19Z</dcterms:modified>
  <cp:revision>29</cp:revision>
  <dc:subject/>
  <dc:title>PowerPoint Presentation</dc:title>
</cp:coreProperties>
</file>