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421-35B6-44EE-95D8-8CFDA7FF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AEF-46B4-4AB8-ACC3-2587682C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F4F-8725-405B-B56E-0828CC02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895-5BE3-4D7C-9D2A-A16D8C7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915-EB8B-474C-9A5E-626D9046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29B-1BE4-48B3-9DC7-19C6BBB0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D3C-81AB-4DA5-AA67-6F295C3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728-7819-46E9-B9A5-2EE08FDC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55B-C8E3-4BE4-BB9A-0E0DB66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45A-AB3B-4DD1-9838-F1B491C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94B-27CC-480E-B5BD-5B5A130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3FE-C11F-4BE8-92EE-A6507A9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D67B-F455-4B31-9D30-99727298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457200"/>
            <a:ext cx="84582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nder of principle metamorphic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rystal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grain size responding to T &amp; P changes. Coarsening of grains is common e.g. Quartz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omi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f new minerals is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oriented fab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vasive planar fabric defined by parallel structural planes &amp; lineation of mineral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somat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lk chemical composition is affec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t flu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somat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Hot inter-granular fluids (commonly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&amp;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speed up metamorphic reactions and fluids are heated by geothermal gradient or igneous intr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289548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200400" y="1828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429000" y="26668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029200" y="32004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3200400" y="4495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380880"/>
            <a:ext cx="822960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a wide variation in bulk composition of protoliths, these rocks devel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 Metamorphic assemblages with simple mineralogies where each rock  h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following minerals: quartz, K-feldspar, plagioclase, cordierite, wollastonite, diopside, hypersthene and ga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 For a particular bulk composition, the mineral assemblage i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457200"/>
            <a:ext cx="8229600" cy="65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a single rock-type but a wide range of minerals that form under similar P-T and fluid composition conditions.  A general facies diagram was developed and names of each facies are based on those mineral assemblages that develop when a mafic bulk composition undergoes various P-T conditions.  These faci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olite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eo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hnite-Pumpelly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rehnite + pumpelly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ue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laucophane +lawsonite or epidote (+ albite + chlor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eenschist Fac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lorite + albite + epidote + actin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idote-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+/-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lagioclase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ul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orthopyroxene + clinopyoxene + plag + hornblend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logite fac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omphacitic pyroxene + ga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undaries between 2 facies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rada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30492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: Although rocks undergo metamorphism over increasing (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well as decrea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tro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ring exhumation process) set of P-T conditions, the assignment of a rock to a facies is always based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ak metamorphic condi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reached.  The retrograde conditions are generally  incapable of obliterating the peak P-T conditions rea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morphic Facies Series &amp; Plate Tect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noted the consistent differences between Barrovian &amp; Buchan-type sequences in his study of Japan metamorphic belts.  He noted 3 sequences, mainly formed due to a variation in pressur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 Zeolite - prehnite-pumpellyite-blueschist-eclogite (HIGH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 Greenschist-epidote-amphibolite-amphibolite-granulite-(INTERMED.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/ Greenschist-amphibolite-granulite (LOW P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prior to the concept of plate tectonics, Miyashiro recognized sub-parallel belts of high P-T adjacent to low P-T metamorphic rocks parallel to the Trench &amp; called th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red metamorphic be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33920" y="457200"/>
            <a:ext cx="4849560" cy="3494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85800" y="4343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ired metamorphic belts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480" y="4876920"/>
            <a:ext cx="8153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w P-T belt is composed of andalusite-sillimanite facies assemblages, occuring to the NW of a major tectonic discontinuity and the high P-T belt occuring to SE of it.  High P-T belt consists of zeolite facies to blueschist / greenschist facies and some amphibolite rock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yashiro also noted paired metamorphic belts around the entire Pacific 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7200" y="54100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36576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pan, the high P-T belt mirrors the location of the subduction zone where the subducting plate moves to the NW.  The low P-T belt is an ancient island arc that has been thrust against the high P-T belt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ru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on in subduction zone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064040" y="380880"/>
            <a:ext cx="5079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33520" y="457200"/>
            <a:ext cx="8153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ommonly one metamorphic mineral grows much larger than other constituent miner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phyrobla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may grow over an extended period or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-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metamorphic ev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oliated rock, foliation may wrap around a porphyroblast and slightly coarser grains may develop in ‘pressure shadows’ on either side of porphyrobla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8610480" cy="34322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962520" y="990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638680" y="6019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H="1" flipV="1">
            <a:off x="5409720" y="5105160"/>
            <a:ext cx="30492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 flipH="1" flipV="1">
            <a:off x="3429000" y="4571640"/>
            <a:ext cx="220968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715000" y="3048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phy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4571640" y="3505320"/>
            <a:ext cx="11430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609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vidence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sulting rotation of porphyroblasts is often preserved as subparallel S-shaped inclusions within them.    The line of inclusions appear continuous with the surrounding groundmass fol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32240" y="1600200"/>
            <a:ext cx="4078080" cy="1609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609480" y="342900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orphyroblast growth foliation occurs at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te st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metamorphism then the porphyroblasts simply overprints the general fabr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819520" y="4114800"/>
            <a:ext cx="3530520" cy="1407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609480" y="5638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phyroblasts may grow over long period of time and recor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st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emp &amp; pressure change therefore the study of porphyroblasts is of importance to metamorphic petrolog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533520"/>
            <a:ext cx="8686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ar stress &amp; accompanying brittle to ductile de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lon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clas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ur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ault zone environment, a layered rock consisting of bands of hard, brittle rocks in a matrix of softer, clay-rich layers will develop ‘lenses’ of brittle miner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ud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rom French word meaning ‘sausag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1371600" y="3886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ud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6576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gen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0" y="4572000"/>
            <a:ext cx="2590920" cy="1654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3276720" y="4648320"/>
            <a:ext cx="2438280" cy="1557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228600" y="6216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 lava block from Chaos Crags, N.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867280" y="4724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tacla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ava block with stretched phenocrysts from shear zone in Chaos Crags d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477120" y="6858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57200" y="20574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80880" y="1066680"/>
            <a:ext cx="838224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amorphic Fac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amorphic petrologist can decipher the times at which a metamorphic rocks of a region were subjected to different P-T conditions.  In other words, the evolutionary history of such a region in terms of pressure-temp-time (P-T-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93 George Barrow carried out field-based study in Scotland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era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function of metamorphic intensity in mudrock protolith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i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etamorphic petrology).  Barrow showed that distinct zones or boundaries are marked by appearance/disappearance of a specific mineral (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ex mi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is can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pp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outcrop scale, not just in Highlands but global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80880"/>
            <a:ext cx="838224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zone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lorite zone:    Chlorite + Muscovite + Quartz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otite zone:   Biotite + Chlorite + Muscovite + Albite + Quar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 zone:   Garnet + Quartz + Biotite + Muscovite + Alb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zone: Staurolite + Garnet Quartz + Muscovite + Biotite + P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yanite zone: Kyanite + Garnet  + Muscovite + Biotite + Quartz + Plag + K-felds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w’s interpretation that the metamorphic grade/intensity increased from Chlorite to the Sillimanite zones was based on observation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in 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rea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se z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rrovian Z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re recognized as representativ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medi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-T metamorph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lley extended this study and introduced the concept of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gr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i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to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geological map that marks the first appearance &amp; disappearance of an index min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419720" y="502920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409760" y="0"/>
            <a:ext cx="6129360" cy="66484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40080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ch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808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rrovia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73040" y="200160"/>
            <a:ext cx="5073840" cy="6124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28600" y="6400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morphic facies + tectonic associ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0199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id-ocean 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715000" y="2278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rogenic be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886200" y="152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629400" y="50292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White lines                   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og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33520" y="19810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phane amphib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666880" y="2286000"/>
            <a:ext cx="83844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181480" y="6094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net &amp; Omphacite pyrox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 flipH="1">
            <a:off x="4647960" y="914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380880"/>
            <a:ext cx="80010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studies found different types of metamorphic zonation in rocks of pelitic composition worldwide.  Close to Barrows study area, in the Buchan area of eastern Dalradians, a very different sequence of metamorphic zones occurs in a pelitic protolith.  Here, the index mineral sequence 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uchan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urolite - Cordierite - Andalusite - Sillima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lk com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. fluid composition) has an important control on type of mineral reactions in a protolith thus affecting the mineral-based isogra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 composition also dictates what minerals may form at specific P-T &amp; fluid composition.  The list below highlights the different rocks forming under similar P-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nd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est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al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hibo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rnet-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limanite gne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idoti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livine-tremolite sch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38:15Z</dcterms:created>
  <dc:creator>Rob Watts</dc:creator>
  <dc:description/>
  <dc:language>en-US</dc:language>
  <cp:lastModifiedBy>Dell</cp:lastModifiedBy>
  <dcterms:modified xsi:type="dcterms:W3CDTF">2011-10-05T23:37:19Z</dcterms:modified>
  <cp:revision>29</cp:revision>
  <dc:subject/>
  <dc:title>PowerPoint Presentation</dc:title>
</cp:coreProperties>
</file>