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718-5629-4E1A-B044-C69B7DAF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B0E-E675-468C-9F09-A07E283F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C41-E7E7-4BE6-A97D-56A28D7A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DB3-22D2-4DCD-920E-E9B7C3C4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49B-4C37-47E3-81B3-3814A492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8F5-AAA2-4681-AFC1-BB7687A2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B1F-9340-4B43-A629-9FCCDE48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BAA-76E0-417D-B5EC-9B12CBC9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639-0275-4E40-8D37-CF007BD1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CD9-E5AB-40EA-A4C6-1DFA663E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742-7C49-495F-B536-BD4037CD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6CE-6CEB-4983-8A5E-1B8FF54B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723A-D34D-4EEA-935D-A0D4D84A3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57200" y="457200"/>
            <a:ext cx="84582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amorphic Fac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nder of principle metamorphic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rystal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grain size responding to T &amp; P changes. Coarsening of grains is common e.g. Quartz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ominer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of new minerals is com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of oriented fab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vasive planar fabric defined by parallel structural planes &amp; lineation of mineral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asomat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ulk chemical composition is affect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t flui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somatiz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Hot inter-granular fluids (commonly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&amp;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speed up metamorphic reactions and fluids are heated by geothermal gradient or igneous intr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>
            <a:off x="2895480" y="4114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200400" y="1828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3429000" y="26668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5029200" y="32004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3200400" y="44956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04920" y="380880"/>
            <a:ext cx="82296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amorphic Fa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ite a wide variation in bulk composition of protoliths, these rocks devel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 Metamorphic assemblages with simple mineralogies where each rock  h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following minerals: quartz, K-feldspar, plagioclase, cordierite, wollastonite, diopside, hypersthene and ga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 For a particular bulk composition, the mineral assemblage i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80880" y="457200"/>
            <a:ext cx="8229600" cy="65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: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amorphic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 a single rock-type but a wide range of minerals that form under similar P-T and fluid composition conditions.  A general facies diagram was developed and names of each facies are based on those mineral assemblages that develop when a mafic bulk composition undergoes various P-T conditions.  These faci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eolite fac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zeo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hnite-Pumpelly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rehnite + pumpelly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ueschist fac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laucophane +lawsonite or epidote (+ albite + chlor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eenschist Fac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lorite + albite + epidote + actino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idote-Amphibolite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lagioclase + hornblende + +/- ga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hibolite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lagioclase + hornblende + ga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ulite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orthopyroxene + clinopyoxene + plag + hornblende + ga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logite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omphacitic pyroxene + ga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undaries between 2 facies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rada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304920"/>
            <a:ext cx="84582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: Although rocks undergo metamorphism over increasing (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s well as decrea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retro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ring exhumation process) set of P-T conditions, the assignment of a rock to a facies is always based o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ak metamorphic condi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 reached.  The retrograde conditions are generally  incapable of obliterating the peak P-T conditions reac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amorphic Facies Series &amp; Plate Tect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yashiro noted the consistent differences between Barrovian &amp; Buchan-type sequences in his study of Japan metamorphic belts.  He noted 3 sequences, mainly formed due to a variation in pressur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 Zeolite - prehnite-pumpellyite-blueschist-eclogite (HIGH P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 Greenschist-epidote-amphibolite-amphibolite-granulite-(INTERMED. P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/ Greenschist-amphibolite-granulite (LOW P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prior to the concept of plate tectonics, Miyashiro recognized sub-parallel belts of high P-T adjacent to low P-T metamorphic rocks parallel to the Trench &amp; called the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ired metamorphic be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733920" y="457200"/>
            <a:ext cx="4849560" cy="3494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85800" y="4343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ired metamorphic belts of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09480" y="4876920"/>
            <a:ext cx="81536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w P-T belt is composed of andalusite-sillimanite facies assemblages, occuring to the NW of a major tectonic discontinuity and the high P-T belt occuring to SE of it.  High P-T belt consists of zeolite facies to blueschist / greenschist facies and some amphibolite rock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yashiro also noted paired metamorphic belts around the entire Pacific R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57200" y="54100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3657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Japan, the high P-T belt mirrors the location of the subduction zone where the subducting plate moves to the NW.  The low P-T belt is an ancient island arc that has been thrust against the high P-T bel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ru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mmon in subduction zon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064040" y="380880"/>
            <a:ext cx="50799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533520" y="457200"/>
            <a:ext cx="81532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phyrobla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ommonly one metamorphic mineral grows much larger than other constituent miner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phyrobla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may grow over an extended period or 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te-st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metamorphic ev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foliated rock, foliation may wrap around a porphyroblast and slightly coarser grains may develop in ‘pressure shadows’ on either side of porphyrobla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8610480" cy="34322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962520" y="990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638680" y="6019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sha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6"/>
          <p:cNvSpPr/>
          <p:nvPr/>
        </p:nvSpPr>
        <p:spPr>
          <a:xfrm flipH="1" flipV="1">
            <a:off x="5409720" y="5105160"/>
            <a:ext cx="30492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7"/>
          <p:cNvSpPr/>
          <p:nvPr/>
        </p:nvSpPr>
        <p:spPr>
          <a:xfrm flipH="1" flipV="1">
            <a:off x="3429000" y="4571640"/>
            <a:ext cx="220968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715000" y="3048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phyrob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4571640" y="3505320"/>
            <a:ext cx="114300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57200" y="6094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vidence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hear st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esulting rotation of porphyroblasts is often preserved as subparallel S-shaped inclusions within them.    The line of inclusions appear continuous with the surrounding groundmass foli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532240" y="1600200"/>
            <a:ext cx="4078080" cy="1609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609480" y="342900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porphyroblast growth foliation occurs at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te st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metamorphism then the porphyroblasts simply overprints the general fabr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819520" y="4114800"/>
            <a:ext cx="3530520" cy="1407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09480" y="56386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phyroblasts may grow over long period of time and record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ist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emp &amp; pressure change therefore the study of porphyroblasts is of importance to metamorphic petrolog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533520"/>
            <a:ext cx="8686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ear stress &amp; accompanying brittle to ductile deform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loni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clast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r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fault zone environment, a layered rock consisting of bands of hard, brittle rocks in a matrix of softer, clay-rich layers will develop ‘lenses’ of brittle miner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udi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om French word meaning ‘sausag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371600" y="3886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ud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65760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gen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0" y="4572000"/>
            <a:ext cx="2590920" cy="165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3276720" y="4648320"/>
            <a:ext cx="2438280" cy="1557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228600" y="62164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 lava block from Chaos Crags, N. 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867280" y="47242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taclas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ava block with stretched phenocrysts from shear zone in Chaos Crags d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6477120" y="6858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457200" y="20574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80880" y="1066680"/>
            <a:ext cx="838224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amorphic Fac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tamorphic petrologist can decipher the times at which a metamorphic rocks of a region were subjected to different P-T conditions.  In other words, the evolutionary history of such a region in terms of pressure-temp-time (P-T-t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93 George Barrow carried out field-based study in Scotland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eralogical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function of metamorphic intensity in mudrock protolith (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li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etamorphic petrology).  Barrow showed that distinct zones or boundaries are marked by appearance/disappearance of a specific mineral (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x min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this can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pp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outcrop scale, not just in Highlands but global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80880" y="380880"/>
            <a:ext cx="8382240" cy="62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zon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lorite zone:    Chlorite + Muscovite + Quartz + Alb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otite zone:   Biotite + Chlorite + Muscovite + Albite + Quar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rnet zone:   Garnet + Quartz + Biotite + Muscovite + Alb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urolite zone: Staurolite + Garnet Quartz + Muscovite + Biotite + P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yanite zone: Kyanite + Garnet  + Muscovite + Biotite + Quartz + Plag + K-felds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row’s interpretation that the metamorphic grade/intensity increased from Chlorite to the Sillimanite zones was based on observation tha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in 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s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crea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These zon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rrovian Zo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re recognized as representativ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medi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-T metamorph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lley extended this study and introduced the concept of 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ogr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i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t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a geological map that marks the first appearance &amp; disappearance of an index mine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3"/>
          <p:cNvSpPr/>
          <p:nvPr/>
        </p:nvSpPr>
        <p:spPr>
          <a:xfrm>
            <a:off x="4419720" y="502920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409760" y="0"/>
            <a:ext cx="6129360" cy="66484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6400800" y="1295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chan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808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rrovian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373040" y="200160"/>
            <a:ext cx="5073840" cy="6124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28600" y="6400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morphic facies + tectonic associ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019920" y="4419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d-ocean ri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715000" y="2278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ogenic be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886200" y="152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duction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629400" y="50292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White lines                   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ogr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33520" y="19810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aucophane amphib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2666880" y="2286000"/>
            <a:ext cx="8384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5181480" y="6094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rnet &amp; Omphacite pyrox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 flipH="1">
            <a:off x="4647960" y="9144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380880"/>
            <a:ext cx="8001000" cy="61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 studies found different types of metamorphic zonation in rocks of pelitic composition worldwide.  Close to Barrows study area, in the Buchan area of eastern Dalradians, a very different sequence of metamorphic zones occurs in a pelitic protolith.  Here, the index mineral sequence 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uchan sequ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urolite - Cordierite - Andalusite - Sillima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lk compo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c. fluid composition) has an important control on type of mineral reactions in a protolith thus affecting the mineral-based isogra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lk composition also dictates what minerals may form at specific P-T &amp; fluid composition.  The list below highlights the different rocks forming under similar P-T condi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ndsto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rtz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esto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al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hibo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i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rnet-gnei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l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llimanite gnei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idoti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livine-tremolite sch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7:38:15Z</dcterms:created>
  <dc:creator>Rob Watts</dc:creator>
  <dc:description/>
  <dc:language>en-US</dc:language>
  <cp:lastModifiedBy>Dell</cp:lastModifiedBy>
  <dcterms:modified xsi:type="dcterms:W3CDTF">2011-10-05T23:37:19Z</dcterms:modified>
  <cp:revision>29</cp:revision>
  <dc:subject/>
  <dc:title>PowerPoint Presentation</dc:title>
</cp:coreProperties>
</file>