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CF3-B012-4CBE-9645-0AC82827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B44-C59B-46F3-AF1F-9915F3B2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CB5-CFD1-45E6-8549-7C673A45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E11-230E-4D89-AD44-8EE32408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15E0-AD96-48D8-A4D8-07C18E01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78AB-973B-4516-98F5-0E18F8E2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CF06-84B3-477C-9D4F-DB57336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7179-F5A6-4892-9423-EF5E9570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37F5-741F-449E-85BD-2800BFDE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16F5-9FD8-4454-A801-DEDE834D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C650-A14B-4E06-B92B-45D9872E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F00-3CE9-48DE-A003-7B7183B1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6488-0775-48F3-8852-E3BD2FAD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C86A-CDFB-4A56-A31F-DC576A00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4315-88D2-46E4-8FD9-F83F421C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FEAC-1889-45E2-9277-C3EED2D8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2B2A-ED5D-4371-9302-47D38F1D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0CF2-B9B6-467A-9CDF-B94F1CDE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ED01-79EF-465A-BC28-F98513C2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42723-E475-4C42-8091-37863F58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DC66-67AA-422A-A53D-DFFA5F87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F2750-5A66-4AAA-A873-AF860CB6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AF3-314A-4829-9801-AAB9682D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AA83-5CB5-451A-A4D9-10229261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BB00-2ADF-418D-87B7-B6B70B06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4095-F8A1-4305-9E16-8B80641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5A25-C827-49CA-AADF-11C7890B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16EE-E73C-42C8-996D-94AAAA93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00DC-B4CD-4BF9-AF93-03366612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5EFC-3126-4D75-9CB4-7BC8FD98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753C-0539-4B16-A720-565318E8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7357-11EC-468A-9EFB-838C269A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70C0C-37C1-44DE-9338-893BA9BC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C8D-ECEA-40F5-88D7-5BAD46A2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4411-17E8-48A8-A25D-902C76D0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21208-D627-4088-B84D-B5241234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07AE7-57BA-4BB0-A966-DBDA03F4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92B00-9AD4-4D1B-977C-83DA8694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C6E8-95B1-4AB8-9071-EFB75B4B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779F2-4369-47C9-B5F5-3F2A45C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DCA30-500F-4C20-8630-800A898A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69A4-C019-4ED3-A7A9-6868F013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578C2-82C2-4814-89B3-67A4CA89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4AE-0F0C-4475-9861-4E47D7A8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F41-1F57-4025-911C-08318496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CC8-5DE5-4AE0-B820-4DFAC36F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A3F-B080-420F-AB4F-4E560504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A23-DFC9-4183-BF8D-B03BA47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99FA-BE33-41B7-AD08-43E82FAF7FC0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5D3D-4815-410B-A2DC-2B76D5DA0690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EFCF-A3F4-478B-8191-1214B5C66AEA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7f7f7f"/>
                </a:solidFill>
                <a:latin typeface="Times New Roman"/>
                <a:ea typeface="Tahom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05EF-D549-4BC1-81A7-32FD41051F7D}" type="slidenum">
              <a:rPr b="1" lang="ar-SA" sz="1200" spc="-1" strike="noStrike">
                <a:solidFill>
                  <a:srgbClr val="7f7f7f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عنوان 1" descr=""/>
          <p:cNvPicPr/>
          <p:nvPr/>
        </p:nvPicPr>
        <p:blipFill>
          <a:blip r:embed="rId2"/>
          <a:stretch/>
        </p:blipFill>
        <p:spPr>
          <a:xfrm>
            <a:off x="-255600" y="-171360"/>
            <a:ext cx="73756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23640" y="549000"/>
            <a:ext cx="48956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ystematic documentation of a patient's medical history and car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raditionally, medical records have been written on paper and kept in fold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n electronic health record (EHR) </a:t>
            </a:r>
            <a:r>
              <a:rPr b="0" lang="en-US" sz="2200" spc="-1" strike="noStrike">
                <a:solidFill>
                  <a:srgbClr val="0070c0"/>
                </a:solidFill>
                <a:latin typeface="Trebuchet MS"/>
              </a:rPr>
              <a:t>refers to an individual patient's medical record in digital forma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C:\Users\user\Desktop\EHR1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88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4000" y="549000"/>
            <a:ext cx="8712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Medical record, health record, or medical chart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lectronic health record systems co-ordinate the storage and retrieval of individual records with the aid of computer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EHRs are usually accessed on a computer, often over a network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t may be made up of electronic medical records (EMRs) from many locations and/or sour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mong the many forms of data often included in EMRs are patient demographics, medical history, laboratory test results, radiology images, billing records and advanced directiv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54900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dvantages of EHRs over paper-based record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mplete patient data displayed in an integrated fashion that facilitates medical decision mak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any workstation in the hospital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bility to enter orders, notes, data at same workst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double entry of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mmediate availability of resul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multaneous users can access same medical recor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ccess from on site or remot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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No loss of patient inform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3640" y="549000"/>
            <a:ext cx="7993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Nursing Information System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formation system that supports the use and documentation of nursing processes and provides tools for managing the delivery of nursing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collects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, stores, processes, retrieves, display, and communicate timely information needed in nursing practice, education, administration, and research.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2" descr="http://www.healthcaredesignmagazine.com/sites/healthcaredesignmagazine.com/files/imagecache/570x360/ICU_Nursing_Station.jpg"/>
          <p:cNvPicPr/>
          <p:nvPr/>
        </p:nvPicPr>
        <p:blipFill>
          <a:blip r:embed="rId1"/>
          <a:stretch/>
        </p:blipFill>
        <p:spPr>
          <a:xfrm>
            <a:off x="3714840" y="3716280"/>
            <a:ext cx="5429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Patient Charting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A patient’s vital signs, admission and nursing assessments, care plan and nursing notes can be entered into the system either as structured or free text. These are the stored in a central repository and retrieved when neede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Clinical Data Integration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Here clinical information from all the disciplines can be retrieved, viewed and analyzed by nursing staff and then integrated into a patient’s care pla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Decision Support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They provide prompts and reminders, along with guides to disease linkages between signs/symptoms, etiologies/related factors and patient popul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Staff Schedule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Nurse can self schedule their shifts using scheduling rules provided in shift modul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23640" y="549000"/>
            <a:ext cx="7993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Radiology Information System (R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RIS is a computerized system used by radiology departments to store, manipulate and distribute patient radiological data and image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A modern Radiology Information System (RIS) is a pre-requisite for the efficient management of a department of Radiolog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4920" y="731520"/>
            <a:ext cx="8209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The system generally consists of patient tracking and scheduling, result reporting and image tracking capabili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Used to support both administrative and clinical oper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Trebuchet MS"/>
              </a:rPr>
              <a:t>-RIS complements HIS (Hospital Information Systems) and are critical to efficient workflow to radiology practic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2" descr="http://files.gereports.com/wp-content/uploads/2010/02/GE-DIS-Workstation.jpg"/>
          <p:cNvPicPr/>
          <p:nvPr/>
        </p:nvPicPr>
        <p:blipFill>
          <a:blip r:embed="rId1"/>
          <a:stretch/>
        </p:blipFill>
        <p:spPr>
          <a:xfrm>
            <a:off x="4284720" y="4257720"/>
            <a:ext cx="47624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Simple Workflow within RI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clinician orders a radiographic exam using the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Within minutes, the order subsequently appears at the modality in 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st of patients requiring radiographs that da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radiology technicians select the appropriate patient from the list and conducts the stud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Once the images are generated, they are sent to a central local server and the exam is automatically completed and charged in the HI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By simply clicking the ‘‘view images’’ button under the images tab in the HIS the images appear in an easy to use browser- based medical image viewer, or on a Digital Imaging and Communications in Medicine (DICOM) workstation program on the local computer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n addition, the images and reports are accessible from anywhere inside the local area network (LAN) and also potentially available outside the clinic network via the world wide web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C:\Users\user\Desktop\untitle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4000" y="549000"/>
            <a:ext cx="3960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What does “System”  mean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A system is a group of interrelated components working together toward a common goal by accept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in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and producing </a:t>
            </a: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outputs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in an organized transformation proces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5" descr="http://assets4.bigthink.com/system/idea_thumbnails/38458/original/computer-system-america-135278-o.jpg?1305630268"/>
          <p:cNvPicPr/>
          <p:nvPr/>
        </p:nvPicPr>
        <p:blipFill>
          <a:blip r:embed="rId1"/>
          <a:stretch/>
        </p:blipFill>
        <p:spPr>
          <a:xfrm>
            <a:off x="5076720" y="2852640"/>
            <a:ext cx="3810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-360" y="54900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DICOM Image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COM stands for Digital Imaging and Communications in Medicine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It’s a standard protocol for the transferring, displaying, and storing of medical images data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Most modern imaging machines are capable of producing DICOM imag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2" descr="http://www.dicomconverter.com/dicomconverter-logo.jpg"/>
          <p:cNvPicPr/>
          <p:nvPr/>
        </p:nvPicPr>
        <p:blipFill>
          <a:blip r:embed="rId1"/>
          <a:stretch/>
        </p:blipFill>
        <p:spPr>
          <a:xfrm>
            <a:off x="1908000" y="2997360"/>
            <a:ext cx="571500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-360" y="549000"/>
            <a:ext cx="615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DICOM Viewer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Is a specialized application software enables you to open, process, and interpre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here are a lot of DICOM Viewer applications availabl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icroDicom (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Fre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adiA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ingenium.home.xs4all.nl/dicombrowsersmall2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The Basic requirements of a DICOM workstation are a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follow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query and send image ﬁles to multiple DICOM devices, including other workstation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capability to manipulate images (window/level, magniﬁcation, measurements, annotation, stack scroll, Invert, rotate, etc.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A HIS/Radiology Information System (RIS) interface to link reports to the image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import/export other image types, such as jpeg, and convert them to DICOM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functionality to allow dual monitor viewing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-The ability to print DICOM imag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icture Archiving and Communication System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What is PACS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PACS refers to the host of technologies that contribu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to the creation, distribution, and archiving of </a:t>
            </a:r>
            <a:r>
              <a:rPr b="1" i="1" lang="en-US" sz="2200" spc="-1" strike="noStrike">
                <a:solidFill>
                  <a:srgbClr val="0d79ca"/>
                </a:solidFill>
                <a:latin typeface="Trebuchet MS"/>
              </a:rPr>
              <a:t>digital images</a:t>
            </a: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-Data workflow within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رسم تخطيطي 1" descr=""/>
          <p:cNvPicPr/>
          <p:nvPr/>
        </p:nvPicPr>
        <p:blipFill>
          <a:blip r:embed="rId1"/>
          <a:stretch/>
        </p:blipFill>
        <p:spPr>
          <a:xfrm>
            <a:off x="378000" y="4206960"/>
            <a:ext cx="8169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911556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-Typical PACS component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A digital imaging modality or devic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A network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An archive devic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diagnostic workst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Archive/routing software, and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6-Some interplay with the hospital or radiology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549000"/>
            <a:ext cx="849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Potential Beneﬁts of PAC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ncreased connectivity and integration between facilities and departme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ductivity improvements (less time spent looking for misplaced radiographs or ultrasound images, less time spent hanging/removing ﬁlms, less time distributing ﬁlms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multaneous viewing of the same images in multiple location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tter image quality than analog ﬁlm or thermal prin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s an avenue for rapid consultation with speciali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rebuchet MS"/>
              </a:rPr>
              <a:t>Laboratory Information system LIS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lab information system ("LIS") is a class of software that receives, processes, and stores information generated by medical laboratory processes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These systems often must interface with instruments and other information systems such as hospital information systems (HIS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Disciplines of laboratory science supported by LIS' include hematology, chemistry, immunology, blood bank (Donor and Transfusion Management), surgical pathology, anatomical pathology, flow cytometry and microbiology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n information system 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s a collection of people, procedures, software, hardware, and data .They all work together to provide information essential to running an organization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(as we discussed in chapter 1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n information system, that combines a computer-based patient record with other modules that support clinical workflow is called a hospital information system (HIS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://ars.els-cdn.com/content/image/1-s2.0-S0272271207000893-gr3.jpg"/>
          <p:cNvPicPr/>
          <p:nvPr/>
        </p:nvPicPr>
        <p:blipFill>
          <a:blip r:embed="rId1"/>
          <a:stretch/>
        </p:blipFill>
        <p:spPr>
          <a:xfrm>
            <a:off x="395280" y="390600"/>
            <a:ext cx="816444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rebuchet MS"/>
              </a:rPr>
              <a:t>In summery, the Uses of computer in the hospital can be categorized into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1- Handling and processing Medical Dat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2- Decision suppo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3-Medical education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4-Medical search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rebuchet MS"/>
              </a:rPr>
              <a:t>5- Monitor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مستطيل 5"/>
          <p:cNvSpPr/>
          <p:nvPr/>
        </p:nvSpPr>
        <p:spPr>
          <a:xfrm>
            <a:off x="63828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مستطيل 7"/>
          <p:cNvSpPr/>
          <p:nvPr/>
        </p:nvSpPr>
        <p:spPr>
          <a:xfrm>
            <a:off x="6686640" y="349560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مستطيل 8"/>
          <p:cNvSpPr/>
          <p:nvPr/>
        </p:nvSpPr>
        <p:spPr>
          <a:xfrm>
            <a:off x="3618000" y="5116680"/>
            <a:ext cx="2232000" cy="79200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2" name="رابط كسهم مستقيم 10"/>
          <p:cNvCxnSpPr>
            <a:stCxn id="219" idx="3"/>
          </p:cNvCxnSpPr>
          <p:nvPr/>
        </p:nvCxnSpPr>
        <p:spPr>
          <a:xfrm>
            <a:off x="2869920" y="389232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3" name="رابط كسهم مستقيم 11"/>
          <p:cNvCxnSpPr/>
          <p:nvPr/>
        </p:nvCxnSpPr>
        <p:spPr>
          <a:xfrm>
            <a:off x="5370120" y="3828600"/>
            <a:ext cx="57708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4" name="مستطيل 19"/>
          <p:cNvSpPr/>
          <p:nvPr/>
        </p:nvSpPr>
        <p:spPr>
          <a:xfrm>
            <a:off x="3564000" y="1892160"/>
            <a:ext cx="2232000" cy="79236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5" name="رابط كسهم مستقيم 21"/>
          <p:cNvCxnSpPr>
            <a:stCxn id="224" idx="2"/>
          </p:cNvCxnSpPr>
          <p:nvPr/>
        </p:nvCxnSpPr>
        <p:spPr>
          <a:xfrm>
            <a:off x="4679640" y="2684160"/>
            <a:ext cx="1080" cy="313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26" name="رابط كسهم مستقيم 23"/>
          <p:cNvCxnSpPr>
            <a:stCxn id="221" idx="0"/>
          </p:cNvCxnSpPr>
          <p:nvPr/>
        </p:nvCxnSpPr>
        <p:spPr>
          <a:xfrm flipV="1">
            <a:off x="4733640" y="4580640"/>
            <a:ext cx="1080" cy="5360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27" name="شكل بيضاوي 24"/>
          <p:cNvSpPr/>
          <p:nvPr/>
        </p:nvSpPr>
        <p:spPr>
          <a:xfrm>
            <a:off x="6421320" y="1616040"/>
            <a:ext cx="138132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شكل بيضاوي 25"/>
          <p:cNvSpPr/>
          <p:nvPr/>
        </p:nvSpPr>
        <p:spPr>
          <a:xfrm>
            <a:off x="1487520" y="16034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شكل بيضاوي 26"/>
          <p:cNvSpPr/>
          <p:nvPr/>
        </p:nvSpPr>
        <p:spPr>
          <a:xfrm>
            <a:off x="1487520" y="4857840"/>
            <a:ext cx="138276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شكل بيضاوي 27"/>
          <p:cNvSpPr/>
          <p:nvPr/>
        </p:nvSpPr>
        <p:spPr>
          <a:xfrm>
            <a:off x="6421320" y="4857840"/>
            <a:ext cx="1381320" cy="130788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شكل بيضاوي 28"/>
          <p:cNvSpPr/>
          <p:nvPr/>
        </p:nvSpPr>
        <p:spPr>
          <a:xfrm>
            <a:off x="3989520" y="3130560"/>
            <a:ext cx="1380960" cy="1308240"/>
          </a:xfrm>
          <a:prstGeom prst="ellipse">
            <a:avLst/>
          </a:prstGeom>
          <a:solidFill>
            <a:srgbClr val="5dcea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rebuchet MS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2" name="رابط كسهم مستقيم 2"/>
          <p:cNvCxnSpPr>
            <a:stCxn id="228" idx="5"/>
          </p:cNvCxnSpPr>
          <p:nvPr/>
        </p:nvCxnSpPr>
        <p:spPr>
          <a:xfrm>
            <a:off x="2666880" y="2720520"/>
            <a:ext cx="1323360" cy="637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3" name="رابط كسهم مستقيم 16"/>
          <p:cNvCxnSpPr/>
          <p:nvPr/>
        </p:nvCxnSpPr>
        <p:spPr>
          <a:xfrm flipV="1">
            <a:off x="2869920" y="4465440"/>
            <a:ext cx="1236960" cy="6516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4" name="رابط كسهم مستقيم 18"/>
          <p:cNvCxnSpPr/>
          <p:nvPr/>
        </p:nvCxnSpPr>
        <p:spPr>
          <a:xfrm flipH="1">
            <a:off x="5508360" y="2684520"/>
            <a:ext cx="1008720" cy="6739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35" name="رابط كسهم مستقيم 29"/>
          <p:cNvCxnSpPr>
            <a:stCxn id="230" idx="1"/>
          </p:cNvCxnSpPr>
          <p:nvPr/>
        </p:nvCxnSpPr>
        <p:spPr>
          <a:xfrm flipH="1" flipV="1">
            <a:off x="5381280" y="4279680"/>
            <a:ext cx="1242000" cy="7704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3640" y="549000"/>
            <a:ext cx="5676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 Hospital Information System (HIS)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s a comprehensive, integrated information system designed to meet all the information needs within a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-It can be composed of one or a few software components with specialty-specific extensions as well as of a large variety of sub-systems in medical specialtie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C:\Users\user\AppData\Local\Microsoft\Windows\Temporary Internet Files\Content.IE5\81PKDDAC\System Interfaces.jpg"/>
          <p:cNvPicPr/>
          <p:nvPr/>
        </p:nvPicPr>
        <p:blipFill>
          <a:blip r:embed="rId1"/>
          <a:stretch/>
        </p:blipFill>
        <p:spPr>
          <a:xfrm>
            <a:off x="6000840" y="1557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280" y="476280"/>
            <a:ext cx="6788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Application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A hospital information system has many different aspects incorporated within itself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Technology allows for the information within these systems to flow more easily and more accurately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Some of these systems include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1- Laboratory Information System (L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2- Nursing Information System (NI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3-Picture Archiving Communication System (PACS)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4-Radiology Information System (RIS)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Pharamacy Information System (PIS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6-Adminstration Information System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7-Financial Information System (FIS)</a:t>
            </a: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64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rebuchet MS"/>
              </a:rPr>
              <a:t>Common Features:-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Registration and scheduling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List Management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terface with different modalities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Department workflow managemen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questing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sult(s) Entr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porting and printou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Patient Tracking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odality and Material management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Information storage and backup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http://www.goomedic.com/wp-content/uploads/2009/07/hospitalgate.jpeg"/>
          <p:cNvPicPr/>
          <p:nvPr/>
        </p:nvPicPr>
        <p:blipFill>
          <a:blip r:embed="rId1"/>
          <a:stretch/>
        </p:blipFill>
        <p:spPr>
          <a:xfrm>
            <a:off x="250920" y="272880"/>
            <a:ext cx="87868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23640" y="549000"/>
            <a:ext cx="7605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rebuchet MS"/>
              </a:rPr>
              <a:t>Advantages of HIS includ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1-Improved quality of patient car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2-Improved communications within the hospital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3-Increased productivit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4-Reduced chances of error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5-Reduced costs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3:08:13Z</dcterms:created>
  <dc:creator>Hassan</dc:creator>
  <dc:description/>
  <dc:language>en-US</dc:language>
  <cp:lastModifiedBy>Hassan</cp:lastModifiedBy>
  <dcterms:modified xsi:type="dcterms:W3CDTF">2012-12-05T09:21:39Z</dcterms:modified>
  <cp:revision>54</cp:revision>
  <dc:subject/>
  <dc:title>Information Systems</dc:title>
</cp:coreProperties>
</file>