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F17-9FBA-409B-A915-9C3A062E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060-97B7-4613-BBED-5C4B688E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58D-87B5-41C4-AAAA-CB0062EC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460-8A09-477F-B50F-3AE0DF64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17C-D131-4AA3-BA9A-22EA061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01F-E626-4AD4-B409-98008DD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CE3-AE11-4011-8671-77605E2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7A5-6D1D-4502-883C-1C766EE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A6E-2A00-47EB-AE24-16DB1F7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467-ACBA-444E-B85F-EAFA6A4A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016-C715-4D41-8EC7-1CA87F0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7D5-947C-4904-A6E7-BB14DA7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71D7-6F88-4942-B899-8460CA15F9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A7E0-1867-4FAA-8810-97D032C90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81360" y="228600"/>
            <a:ext cx="8071920" cy="6400440"/>
            <a:chOff x="81360" y="228600"/>
            <a:chExt cx="8071920" cy="6400440"/>
          </a:xfrm>
        </p:grpSpPr>
        <p:grpSp>
          <p:nvGrpSpPr>
            <p:cNvPr id="43" name="Group 12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4" name="Picture 9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Oval 10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Text Box 13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4"/>
            <p:cNvSpPr/>
            <p:nvPr/>
          </p:nvSpPr>
          <p:spPr>
            <a:xfrm>
              <a:off x="1219320" y="1676520"/>
              <a:ext cx="6933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tion A: The Principles of Energy Harv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284D-11CF-453E-9D20-5B831D3631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179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185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/>
              <a:ahLst/>
              <a:rect l="l" t="t" r="r" b="b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188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083E-C7D4-464D-972E-8340FCFE76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1479600"/>
            <a:ext cx="86868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إليكترون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رحل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1066680" y="5572080"/>
            <a:ext cx="7467840" cy="525960"/>
            <a:chOff x="1066680" y="5572080"/>
            <a:chExt cx="7467840" cy="525960"/>
          </a:xfrm>
        </p:grpSpPr>
        <p:sp>
          <p:nvSpPr>
            <p:cNvPr id="196" name="Text Box 6"/>
            <p:cNvSpPr/>
            <p:nvPr/>
          </p:nvSpPr>
          <p:spPr>
            <a:xfrm>
              <a:off x="1066680" y="5699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3352680" y="5572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3200400" y="5927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22C2-BBAA-4940-A03B-86FD628158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76320" y="21337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0" y="6537240"/>
            <a:ext cx="83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80880" y="304920"/>
            <a:ext cx="8458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s as the oxidizing agent in many of the redox steps during the catabolism of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476520" y="4861080"/>
            <a:ext cx="53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oxyg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energy is tapped to synthesiz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634-680D-42F7-8AB0-1C212957CD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0" y="651672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5, Page 1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3112920" y="1627200"/>
            <a:ext cx="6031080" cy="4164120"/>
            <a:chOff x="3112920" y="1627200"/>
            <a:chExt cx="6031080" cy="416412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112920" y="1627200"/>
              <a:ext cx="603108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6"/>
            <p:cNvSpPr/>
            <p:nvPr/>
          </p:nvSpPr>
          <p:spPr>
            <a:xfrm>
              <a:off x="3124080" y="1627200"/>
              <a:ext cx="2286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2F7-053F-4DDC-8D9A-ECB26947C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311760" y="3124080"/>
            <a:ext cx="7994160" cy="3162960"/>
            <a:chOff x="311760" y="3124080"/>
            <a:chExt cx="7994160" cy="3162960"/>
          </a:xfrm>
        </p:grpSpPr>
        <p:sp>
          <p:nvSpPr>
            <p:cNvPr id="213" name="Oval 3"/>
            <p:cNvSpPr/>
            <p:nvPr/>
          </p:nvSpPr>
          <p:spPr>
            <a:xfrm>
              <a:off x="609480" y="312408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 rot="21180000">
              <a:off x="1752480" y="329076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 rot="1284600">
              <a:off x="348840" y="5478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731520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ge 158 &amp; Fig.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0880" y="806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13240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80880" y="17971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80880" y="233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2"/>
          <p:cNvGrpSpPr/>
          <p:nvPr/>
        </p:nvGrpSpPr>
        <p:grpSpPr>
          <a:xfrm>
            <a:off x="3505320" y="3657600"/>
            <a:ext cx="4495680" cy="1828800"/>
            <a:chOff x="3505320" y="3657600"/>
            <a:chExt cx="4495680" cy="1828800"/>
          </a:xfrm>
        </p:grpSpPr>
        <p:sp>
          <p:nvSpPr>
            <p:cNvPr id="223" name="AutoShape 13"/>
            <p:cNvSpPr/>
            <p:nvPr/>
          </p:nvSpPr>
          <p:spPr>
            <a:xfrm>
              <a:off x="3505320" y="403848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4800600" y="365760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5"/>
          <p:cNvGrpSpPr/>
          <p:nvPr/>
        </p:nvGrpSpPr>
        <p:grpSpPr>
          <a:xfrm>
            <a:off x="838080" y="4038480"/>
            <a:ext cx="7010640" cy="606600"/>
            <a:chOff x="838080" y="4038480"/>
            <a:chExt cx="7010640" cy="606600"/>
          </a:xfrm>
        </p:grpSpPr>
        <p:sp>
          <p:nvSpPr>
            <p:cNvPr id="226" name="Text Box 16"/>
            <p:cNvSpPr/>
            <p:nvPr/>
          </p:nvSpPr>
          <p:spPr>
            <a:xfrm>
              <a:off x="838080" y="422892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1523880" y="43815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600200" y="4152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523880" y="4368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3009960" y="438156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5715000" y="4381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3124080" y="4038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5765760" y="4038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4"/>
          <p:cNvGrpSpPr/>
          <p:nvPr/>
        </p:nvGrpSpPr>
        <p:grpSpPr>
          <a:xfrm>
            <a:off x="5486400" y="4876920"/>
            <a:ext cx="1447920" cy="459720"/>
            <a:chOff x="5486400" y="4876920"/>
            <a:chExt cx="1447920" cy="459720"/>
          </a:xfrm>
        </p:grpSpPr>
        <p:sp>
          <p:nvSpPr>
            <p:cNvPr id="235" name="Text Box 25"/>
            <p:cNvSpPr/>
            <p:nvPr/>
          </p:nvSpPr>
          <p:spPr>
            <a:xfrm>
              <a:off x="5486400" y="4876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 flipH="1">
              <a:off x="6324480" y="502920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7"/>
          <p:cNvGrpSpPr/>
          <p:nvPr/>
        </p:nvGrpSpPr>
        <p:grpSpPr>
          <a:xfrm>
            <a:off x="2971440" y="4876920"/>
            <a:ext cx="2590920" cy="459720"/>
            <a:chOff x="2971440" y="4876920"/>
            <a:chExt cx="2590920" cy="459720"/>
          </a:xfrm>
        </p:grpSpPr>
        <p:sp>
          <p:nvSpPr>
            <p:cNvPr id="238" name="Text Box 28"/>
            <p:cNvSpPr/>
            <p:nvPr/>
          </p:nvSpPr>
          <p:spPr>
            <a:xfrm>
              <a:off x="4038480" y="4876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 flipH="1">
              <a:off x="4800240" y="5105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 flipH="1">
              <a:off x="2971440" y="51055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31"/>
          <p:cNvSpPr/>
          <p:nvPr/>
        </p:nvSpPr>
        <p:spPr>
          <a:xfrm>
            <a:off x="6934320" y="464832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1EDA-B54B-4AA8-9C61-7E6FCC7A81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"/>
          <p:cNvSpPr/>
          <p:nvPr/>
        </p:nvSpPr>
        <p:spPr>
          <a:xfrm>
            <a:off x="304920" y="912960"/>
            <a:ext cx="8458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522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ction B: The Process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114300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glycolysis, the Krebs cycle, and electron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Krebs cy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tochonderial matr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Cellular respiration generates many ATP molecules for each sugar molecule it oxidiz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FB1-8019-42B7-8394-1DA44756D8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4F3-A60A-45C7-8EC0-D8CF0257EC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16400" y="2362320"/>
            <a:ext cx="3775320" cy="4267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2280" y="309240"/>
            <a:ext cx="8839440" cy="18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ve phosphorylation produces almo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d by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8600" y="2868480"/>
            <a:ext cx="51055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also generated in glycolysis and in Krebs cycle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an enzyme transfers a phosphate group from an organic molecule (the substrate) to ADP, forming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700040" y="649116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7, Page 1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228600" y="5257800"/>
            <a:ext cx="518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A61-5ADD-4F2E-9D0E-99C327B5DA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036440"/>
            <a:ext cx="9144000" cy="55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energy by phosphorylating glucose                                                                            (this requires 2 ATP per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phosphorylation and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NA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occurs in the absence                                                                         of O2, thu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334120" y="2743200"/>
            <a:ext cx="3776400" cy="3809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76320" y="3168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: harvests chemical energy by oxidizing glucose to 2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937200" y="65530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8BF7-D2CE-4D0B-A0D5-5534310714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57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280" y="1066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yruv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52280" y="1706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685800" y="4343400"/>
            <a:ext cx="7924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25720" y="388620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56240" y="31240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8580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E93-925A-491B-BCD0-1E2EF25A7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304920" y="762120"/>
            <a:ext cx="830556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76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1520" y="114300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7A4-C458-4F64-BC7A-6E7B57914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0880" y="26668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- The result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i="1" lang="en-GB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wo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for reducing 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hydrogen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880" y="4495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)- The net yield of this process is the form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3720" y="1219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80880" y="1981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)- The two resulting 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s are then oxidized (los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80880" y="3886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)-  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914400" y="12240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74674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80880" y="55767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)- Now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ready for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C34-D363-4CD4-BAE9-87913FFECB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960720" y="33670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DA9-FA80-4116-A2E8-6E8F2F0BA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04920" y="137160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04920" y="2286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7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90D-3E9D-485F-BE94-719659C231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295280" y="895320"/>
            <a:ext cx="60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04920" y="19051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04920" y="255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3505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1828800" y="4464000"/>
            <a:ext cx="2590560" cy="802800"/>
            <a:chOff x="1828800" y="4464000"/>
            <a:chExt cx="2590560" cy="802800"/>
          </a:xfrm>
        </p:grpSpPr>
        <p:sp>
          <p:nvSpPr>
            <p:cNvPr id="304" name="Freeform 8"/>
            <p:cNvSpPr/>
            <p:nvPr/>
          </p:nvSpPr>
          <p:spPr>
            <a:xfrm>
              <a:off x="2514600" y="4809960"/>
              <a:ext cx="1904760" cy="4568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1828800" y="4464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0"/>
          <p:cNvSpPr/>
          <p:nvPr/>
        </p:nvSpPr>
        <p:spPr>
          <a:xfrm>
            <a:off x="3505320" y="4403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1"/>
          <p:cNvGrpSpPr/>
          <p:nvPr/>
        </p:nvGrpSpPr>
        <p:grpSpPr>
          <a:xfrm>
            <a:off x="228600" y="5064120"/>
            <a:ext cx="7238520" cy="714240"/>
            <a:chOff x="228600" y="5064120"/>
            <a:chExt cx="7238520" cy="714240"/>
          </a:xfrm>
        </p:grpSpPr>
        <p:sp>
          <p:nvSpPr>
            <p:cNvPr id="308" name="Text Box 12"/>
            <p:cNvSpPr/>
            <p:nvPr/>
          </p:nvSpPr>
          <p:spPr>
            <a:xfrm>
              <a:off x="228600" y="507996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5264280" y="506412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>
              <a:off x="1880640" y="531792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3061080" y="525780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6"/>
          <p:cNvSpPr/>
          <p:nvPr/>
        </p:nvSpPr>
        <p:spPr>
          <a:xfrm>
            <a:off x="7440120" y="5089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7"/>
          <p:cNvGrpSpPr/>
          <p:nvPr/>
        </p:nvGrpSpPr>
        <p:grpSpPr>
          <a:xfrm>
            <a:off x="4191120" y="5334120"/>
            <a:ext cx="3809880" cy="855720"/>
            <a:chOff x="4191120" y="5334120"/>
            <a:chExt cx="3809880" cy="855720"/>
          </a:xfrm>
        </p:grpSpPr>
        <p:sp>
          <p:nvSpPr>
            <p:cNvPr id="314" name="Freeform 18"/>
            <p:cNvSpPr/>
            <p:nvPr/>
          </p:nvSpPr>
          <p:spPr>
            <a:xfrm>
              <a:off x="5867280" y="5334120"/>
              <a:ext cx="2133720" cy="609480"/>
            </a:xfrm>
            <a:custGeom>
              <a:avLst/>
              <a:gdLst/>
              <a:ahLst/>
              <a:rect l="l" t="t" r="r" b="b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4191120" y="579096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BD7E-264B-460B-9540-8A4DC62866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4702320" y="0"/>
            <a:ext cx="4441680" cy="6019920"/>
            <a:chOff x="4702320" y="0"/>
            <a:chExt cx="4441680" cy="6019920"/>
          </a:xfrm>
        </p:grpSpPr>
        <p:pic>
          <p:nvPicPr>
            <p:cNvPr id="318" name="Picture 15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4702320" y="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AutoShape 17"/>
            <p:cNvSpPr/>
            <p:nvPr/>
          </p:nvSpPr>
          <p:spPr>
            <a:xfrm>
              <a:off x="7467480" y="9907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7620120" y="1295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2"/>
          <p:cNvSpPr/>
          <p:nvPr/>
        </p:nvSpPr>
        <p:spPr>
          <a:xfrm>
            <a:off x="146520" y="44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28600" y="83664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752480" y="511956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76320" y="5075280"/>
            <a:ext cx="1599840" cy="1311120"/>
            <a:chOff x="76320" y="5075280"/>
            <a:chExt cx="1599840" cy="1311120"/>
          </a:xfrm>
        </p:grpSpPr>
        <p:sp>
          <p:nvSpPr>
            <p:cNvPr id="325" name="AutoShape 9"/>
            <p:cNvSpPr/>
            <p:nvPr/>
          </p:nvSpPr>
          <p:spPr>
            <a:xfrm>
              <a:off x="1184040" y="5075280"/>
              <a:ext cx="492120" cy="131112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120"/>
                <a:gd name="textAreaBottom" fmla="*/ 127692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76320" y="554184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1"/>
          <p:cNvGrpSpPr/>
          <p:nvPr/>
        </p:nvGrpSpPr>
        <p:grpSpPr>
          <a:xfrm>
            <a:off x="2048040" y="6141960"/>
            <a:ext cx="3972960" cy="565920"/>
            <a:chOff x="2048040" y="6141960"/>
            <a:chExt cx="3972960" cy="565920"/>
          </a:xfrm>
        </p:grpSpPr>
        <p:sp>
          <p:nvSpPr>
            <p:cNvPr id="328" name="Rectangle 12"/>
            <p:cNvSpPr/>
            <p:nvPr/>
          </p:nvSpPr>
          <p:spPr>
            <a:xfrm>
              <a:off x="2434320" y="630900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2048040" y="6141960"/>
              <a:ext cx="4748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22"/>
          <p:cNvSpPr/>
          <p:nvPr/>
        </p:nvSpPr>
        <p:spPr>
          <a:xfrm>
            <a:off x="152280" y="4267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0" y="190512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8D0-B676-49D9-ABFB-7594317DC9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 The inner mitochondrial membrane couples electron transport to ATP synthes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 of AT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4866120" y="3115440"/>
            <a:ext cx="4277520" cy="3208680"/>
            <a:chOff x="4866120" y="3115440"/>
            <a:chExt cx="4277520" cy="3208680"/>
          </a:xfrm>
        </p:grpSpPr>
        <p:pic>
          <p:nvPicPr>
            <p:cNvPr id="336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280680"/>
              <a:ext cx="382644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9"/>
            <p:cNvSpPr/>
            <p:nvPr/>
          </p:nvSpPr>
          <p:spPr>
            <a:xfrm rot="18849000">
              <a:off x="5022000" y="351216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6250320" y="355392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90%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5E97-7856-45C8-976E-0D1B1CB3A2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693-A585-4A6B-B4DE-3C39679409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AC7-871C-43F4-8F29-F177667168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D05A-C1B2-4FC0-B242-06EF80B8F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1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ix-carbon glucose molecule is oxidized to 6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Krebs cycle and the conversion of pyruvate contributes enough energy to generate a maximum of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3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D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Krebs cycle can be used to generate about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2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. Cellular respiration generates many ATP molecules for each sugar molecule it oxid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B32-74A7-4A9A-A53A-10D99FE158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waste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respiration and fermentation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54E3-133B-44CB-A3C1-3C9BAD5AFE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357120"/>
            <a:ext cx="8991720" cy="58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strate-level phosphoryl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lysis &amp;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a bottom line of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8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D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ctron transport chain          proton-motive force           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P is produced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828800" y="3581280"/>
            <a:ext cx="5867280" cy="914400"/>
            <a:chOff x="1828800" y="3581280"/>
            <a:chExt cx="5867280" cy="914400"/>
          </a:xfrm>
        </p:grpSpPr>
        <p:sp>
          <p:nvSpPr>
            <p:cNvPr id="360" name="AutoShape 6"/>
            <p:cNvSpPr/>
            <p:nvPr/>
          </p:nvSpPr>
          <p:spPr>
            <a:xfrm>
              <a:off x="2209680" y="358128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7"/>
            <p:cNvSpPr/>
            <p:nvPr/>
          </p:nvSpPr>
          <p:spPr>
            <a:xfrm>
              <a:off x="4343400" y="358128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182880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685800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5D8-711F-4694-9DE8-2C344427D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189000" y="914400"/>
            <a:ext cx="8764560" cy="5216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5"/>
          <p:cNvSpPr/>
          <p:nvPr/>
        </p:nvSpPr>
        <p:spPr>
          <a:xfrm>
            <a:off x="152280" y="90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52C-D181-43F3-B0C1-0E892BD815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ummary of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7621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52280" y="12952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52280" y="22096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7C9-1DDB-4EF1-B460-5061A3E36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30481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fini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04920" y="106668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4920" y="2286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28600" y="3505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04920" y="472428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E37-1AB4-4440-9E14-129CA39696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two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, 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 (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ther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fer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rmentation ena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428-CCFD-4BE3-989D-0B126B9CB8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scar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0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6580-7313-4474-8AED-96DFDD1D2A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65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and cellular respiration are anaerobic and aerobic alternatives, respectively, for producing ATP from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glycolysis to oxidize sugars to pyruvate with a net production of 2 ATP by substrate-level phosphory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n electron ac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ermentation, the electrons of NADH are passed to an organic molecule, regenerating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spiration, the electrons of NADH are ultimately passed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enerating ATP by oxidative phosphory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even more ATP is generated from the oxidation of pyruvate in the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oxygen, the energy still stored in pyruvate is unavailable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erobic respiration, a molecule of glucose yields 38 ATP, but the same molecule of glucose yields only 2 ATP under anaerobic respi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BCD-3602-4523-A8E8-9ED34356AC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52280" y="2509920"/>
            <a:ext cx="4191120" cy="41036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398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BF9-9E1A-4086-A652-F8966FD0B7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228600" y="10666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2666880" y="12952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3276720" y="762120"/>
            <a:ext cx="990360" cy="2297880"/>
            <a:chOff x="3276720" y="762120"/>
            <a:chExt cx="990360" cy="2297880"/>
          </a:xfrm>
        </p:grpSpPr>
        <p:sp>
          <p:nvSpPr>
            <p:cNvPr id="62" name="Text Box 5"/>
            <p:cNvSpPr/>
            <p:nvPr/>
          </p:nvSpPr>
          <p:spPr>
            <a:xfrm>
              <a:off x="3352680" y="21337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3276720" y="7621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7"/>
          <p:cNvSpPr/>
          <p:nvPr/>
        </p:nvSpPr>
        <p:spPr>
          <a:xfrm>
            <a:off x="5257800" y="9907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 rot="10800000">
            <a:off x="5638320" y="28954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7315200" y="762120"/>
            <a:ext cx="1676520" cy="2158920"/>
            <a:chOff x="7315200" y="762120"/>
            <a:chExt cx="1676520" cy="2158920"/>
          </a:xfrm>
        </p:grpSpPr>
        <p:sp>
          <p:nvSpPr>
            <p:cNvPr id="67" name="Text Box 10"/>
            <p:cNvSpPr/>
            <p:nvPr/>
          </p:nvSpPr>
          <p:spPr>
            <a:xfrm>
              <a:off x="7696080" y="7621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7696080" y="21337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7315200" y="1143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3"/>
          <p:cNvSpPr/>
          <p:nvPr/>
        </p:nvSpPr>
        <p:spPr>
          <a:xfrm>
            <a:off x="2133720" y="41911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304920" y="5715000"/>
            <a:ext cx="8533800" cy="510120"/>
            <a:chOff x="304920" y="5715000"/>
            <a:chExt cx="8533800" cy="510120"/>
          </a:xfrm>
        </p:grpSpPr>
        <p:sp>
          <p:nvSpPr>
            <p:cNvPr id="73" name="Text Box 16"/>
            <p:cNvSpPr/>
            <p:nvPr/>
          </p:nvSpPr>
          <p:spPr>
            <a:xfrm>
              <a:off x="304920" y="57150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410080" y="57150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>
              <a:off x="4190760" y="58672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6D30-6DC1-4CE3-BD97-4D5C455D4B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882720"/>
            <a:ext cx="8686800" cy="58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F69-B4BC-4617-938E-3C4D49E312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2510280" y="1038600"/>
            <a:ext cx="2279880" cy="2209680"/>
            <a:chOff x="2510280" y="1038600"/>
            <a:chExt cx="2279880" cy="2209680"/>
          </a:xfrm>
        </p:grpSpPr>
        <p:sp>
          <p:nvSpPr>
            <p:cNvPr id="83" name="AutoShape 4"/>
            <p:cNvSpPr/>
            <p:nvPr/>
          </p:nvSpPr>
          <p:spPr>
            <a:xfrm rot="1476000">
              <a:off x="3581280" y="1218960"/>
              <a:ext cx="1067040" cy="914040"/>
            </a:xfrm>
            <a:prstGeom prst="hexagon">
              <a:avLst>
                <a:gd name="adj" fmla="val 2918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 rot="19995000">
              <a:off x="2944440" y="1298160"/>
              <a:ext cx="76212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 rot="20174400">
              <a:off x="2615760" y="2437920"/>
              <a:ext cx="76212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3301920" y="218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2616120" y="24890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1752480" y="2286000"/>
            <a:ext cx="851040" cy="457200"/>
            <a:chOff x="1752480" y="2286000"/>
            <a:chExt cx="851040" cy="457200"/>
          </a:xfrm>
        </p:grpSpPr>
        <p:sp>
          <p:nvSpPr>
            <p:cNvPr id="89" name="Line 10"/>
            <p:cNvSpPr/>
            <p:nvPr/>
          </p:nvSpPr>
          <p:spPr>
            <a:xfrm flipH="1">
              <a:off x="2222640" y="2501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175248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228600" y="2286000"/>
            <a:ext cx="761760" cy="457200"/>
            <a:chOff x="228600" y="2286000"/>
            <a:chExt cx="761760" cy="457200"/>
          </a:xfrm>
        </p:grpSpPr>
        <p:sp>
          <p:nvSpPr>
            <p:cNvPr id="92" name="Oval 13"/>
            <p:cNvSpPr/>
            <p:nvPr/>
          </p:nvSpPr>
          <p:spPr>
            <a:xfrm>
              <a:off x="22860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H="1">
              <a:off x="68544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1003320" y="2286000"/>
            <a:ext cx="749160" cy="457200"/>
            <a:chOff x="1003320" y="2286000"/>
            <a:chExt cx="749160" cy="457200"/>
          </a:xfrm>
        </p:grpSpPr>
        <p:sp>
          <p:nvSpPr>
            <p:cNvPr id="95" name="Oval 16"/>
            <p:cNvSpPr/>
            <p:nvPr/>
          </p:nvSpPr>
          <p:spPr>
            <a:xfrm>
              <a:off x="100332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7"/>
            <p:cNvSpPr/>
            <p:nvPr/>
          </p:nvSpPr>
          <p:spPr>
            <a:xfrm flipH="1">
              <a:off x="14479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5118120" y="3781800"/>
            <a:ext cx="3786840" cy="2209680"/>
            <a:chOff x="5118120" y="3781800"/>
            <a:chExt cx="3786840" cy="2209680"/>
          </a:xfrm>
        </p:grpSpPr>
        <p:grpSp>
          <p:nvGrpSpPr>
            <p:cNvPr id="99" name="Group 20"/>
            <p:cNvGrpSpPr/>
            <p:nvPr/>
          </p:nvGrpSpPr>
          <p:grpSpPr>
            <a:xfrm>
              <a:off x="6625080" y="3781800"/>
              <a:ext cx="2279880" cy="2209680"/>
              <a:chOff x="6625080" y="3781800"/>
              <a:chExt cx="2279880" cy="2209680"/>
            </a:xfrm>
          </p:grpSpPr>
          <p:sp>
            <p:nvSpPr>
              <p:cNvPr id="100" name="AutoShape 21"/>
              <p:cNvSpPr/>
              <p:nvPr/>
            </p:nvSpPr>
            <p:spPr>
              <a:xfrm rot="1476000">
                <a:off x="7696080" y="39621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22"/>
              <p:cNvSpPr/>
              <p:nvPr/>
            </p:nvSpPr>
            <p:spPr>
              <a:xfrm rot="19995000">
                <a:off x="7059240" y="40413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3"/>
              <p:cNvSpPr/>
              <p:nvPr/>
            </p:nvSpPr>
            <p:spPr>
              <a:xfrm rot="20174400">
                <a:off x="6730560" y="51811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7416720" y="49273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6730920" y="52322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6"/>
            <p:cNvGrpSpPr/>
            <p:nvPr/>
          </p:nvGrpSpPr>
          <p:grpSpPr>
            <a:xfrm>
              <a:off x="5867280" y="5029200"/>
              <a:ext cx="851040" cy="456840"/>
              <a:chOff x="5867280" y="5029200"/>
              <a:chExt cx="851040" cy="456840"/>
            </a:xfrm>
          </p:grpSpPr>
          <p:sp>
            <p:nvSpPr>
              <p:cNvPr id="106" name="Line 27"/>
              <p:cNvSpPr/>
              <p:nvPr/>
            </p:nvSpPr>
            <p:spPr>
              <a:xfrm flipH="1">
                <a:off x="6337440" y="52444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28"/>
              <p:cNvSpPr/>
              <p:nvPr/>
            </p:nvSpPr>
            <p:spPr>
              <a:xfrm>
                <a:off x="586728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9"/>
            <p:cNvGrpSpPr/>
            <p:nvPr/>
          </p:nvGrpSpPr>
          <p:grpSpPr>
            <a:xfrm>
              <a:off x="5118120" y="5029200"/>
              <a:ext cx="749160" cy="456840"/>
              <a:chOff x="5118120" y="5029200"/>
              <a:chExt cx="749160" cy="456840"/>
            </a:xfrm>
          </p:grpSpPr>
          <p:sp>
            <p:nvSpPr>
              <p:cNvPr id="109" name="Oval 30"/>
              <p:cNvSpPr/>
              <p:nvPr/>
            </p:nvSpPr>
            <p:spPr>
              <a:xfrm>
                <a:off x="511812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"/>
              <p:cNvSpPr/>
              <p:nvPr/>
            </p:nvSpPr>
            <p:spPr>
              <a:xfrm flipH="1">
                <a:off x="5562720" y="5257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Rectangle 32"/>
          <p:cNvSpPr/>
          <p:nvPr/>
        </p:nvSpPr>
        <p:spPr>
          <a:xfrm>
            <a:off x="4894560" y="17524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4876920" y="5257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4"/>
          <p:cNvSpPr/>
          <p:nvPr/>
        </p:nvSpPr>
        <p:spPr>
          <a:xfrm>
            <a:off x="1600200" y="4419720"/>
            <a:ext cx="220968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762120" y="121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7632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 rot="19137600">
            <a:off x="5457600" y="2619000"/>
            <a:ext cx="533160" cy="2133720"/>
          </a:xfrm>
          <a:prstGeom prst="downArrow">
            <a:avLst>
              <a:gd name="adj1" fmla="val 50000"/>
              <a:gd name="adj2" fmla="val 100051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1911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17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437-DA0D-485E-BE0F-285EA654B0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phosphory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C56-E483-4C75-9374-057DCCA590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6248520" y="1143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5400000">
            <a:off x="4210200" y="1428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76320" y="3429000"/>
            <a:ext cx="2438280" cy="1752480"/>
            <a:chOff x="76320" y="3429000"/>
            <a:chExt cx="2438280" cy="1752480"/>
          </a:xfrm>
        </p:grpSpPr>
        <p:sp>
          <p:nvSpPr>
            <p:cNvPr id="126" name="AutoShape 5"/>
            <p:cNvSpPr/>
            <p:nvPr/>
          </p:nvSpPr>
          <p:spPr>
            <a:xfrm>
              <a:off x="1600200" y="3429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76320" y="3641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1066680" y="3962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8"/>
          <p:cNvSpPr/>
          <p:nvPr/>
        </p:nvSpPr>
        <p:spPr>
          <a:xfrm>
            <a:off x="1066680" y="2133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413080" y="3708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1981080" y="4572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5943600" y="990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6477120" y="-52920"/>
            <a:ext cx="2782800" cy="1741680"/>
            <a:chOff x="6477120" y="-52920"/>
            <a:chExt cx="2782800" cy="1741680"/>
          </a:xfrm>
        </p:grpSpPr>
        <p:grpSp>
          <p:nvGrpSpPr>
            <p:cNvPr id="134" name="Group 14"/>
            <p:cNvGrpSpPr/>
            <p:nvPr/>
          </p:nvGrpSpPr>
          <p:grpSpPr>
            <a:xfrm>
              <a:off x="7570080" y="-52920"/>
              <a:ext cx="1689840" cy="1741680"/>
              <a:chOff x="7570080" y="-52920"/>
              <a:chExt cx="1689840" cy="1741680"/>
            </a:xfrm>
          </p:grpSpPr>
          <p:sp>
            <p:nvSpPr>
              <p:cNvPr id="135" name="AutoShape 15"/>
              <p:cNvSpPr/>
              <p:nvPr/>
            </p:nvSpPr>
            <p:spPr>
              <a:xfrm rot="1476000">
                <a:off x="8362440" y="76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16"/>
              <p:cNvSpPr/>
              <p:nvPr/>
            </p:nvSpPr>
            <p:spPr>
              <a:xfrm rot="19995000">
                <a:off x="7897320" y="139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7"/>
              <p:cNvSpPr/>
              <p:nvPr/>
            </p:nvSpPr>
            <p:spPr>
              <a:xfrm rot="20174400">
                <a:off x="7656840" y="1051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8"/>
              <p:cNvSpPr/>
              <p:nvPr/>
            </p:nvSpPr>
            <p:spPr>
              <a:xfrm>
                <a:off x="8158320" y="848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9"/>
              <p:cNvSpPr/>
              <p:nvPr/>
            </p:nvSpPr>
            <p:spPr>
              <a:xfrm>
                <a:off x="7656840" y="1092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7025040" y="929520"/>
              <a:ext cx="621720" cy="365400"/>
              <a:chOff x="7025040" y="929520"/>
              <a:chExt cx="621720" cy="365400"/>
            </a:xfrm>
          </p:grpSpPr>
          <p:sp>
            <p:nvSpPr>
              <p:cNvPr id="141" name="Line 21"/>
              <p:cNvSpPr/>
              <p:nvPr/>
            </p:nvSpPr>
            <p:spPr>
              <a:xfrm flipH="1">
                <a:off x="7368480" y="109944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2"/>
              <p:cNvSpPr/>
              <p:nvPr/>
            </p:nvSpPr>
            <p:spPr>
              <a:xfrm>
                <a:off x="702504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6477120" y="929520"/>
              <a:ext cx="547560" cy="365400"/>
              <a:chOff x="6477120" y="929520"/>
              <a:chExt cx="547560" cy="365400"/>
            </a:xfrm>
          </p:grpSpPr>
          <p:sp>
            <p:nvSpPr>
              <p:cNvPr id="144" name="Oval 24"/>
              <p:cNvSpPr/>
              <p:nvPr/>
            </p:nvSpPr>
            <p:spPr>
              <a:xfrm>
                <a:off x="647712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5"/>
              <p:cNvSpPr/>
              <p:nvPr/>
            </p:nvSpPr>
            <p:spPr>
              <a:xfrm flipH="1">
                <a:off x="6802200" y="110988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29"/>
          <p:cNvGrpSpPr/>
          <p:nvPr/>
        </p:nvGrpSpPr>
        <p:grpSpPr>
          <a:xfrm>
            <a:off x="6139080" y="1371240"/>
            <a:ext cx="1772640" cy="1406160"/>
            <a:chOff x="6139080" y="1371240"/>
            <a:chExt cx="1772640" cy="1406160"/>
          </a:xfrm>
        </p:grpSpPr>
        <p:sp>
          <p:nvSpPr>
            <p:cNvPr id="147" name="Line 27"/>
            <p:cNvSpPr/>
            <p:nvPr/>
          </p:nvSpPr>
          <p:spPr>
            <a:xfrm flipH="1" flipV="1">
              <a:off x="6311520" y="1371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8"/>
            <p:cNvSpPr/>
            <p:nvPr/>
          </p:nvSpPr>
          <p:spPr>
            <a:xfrm rot="2119200">
              <a:off x="6069960" y="1892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5943600" y="965160"/>
            <a:ext cx="533160" cy="380880"/>
            <a:chOff x="5943600" y="965160"/>
            <a:chExt cx="533160" cy="380880"/>
          </a:xfrm>
        </p:grpSpPr>
        <p:sp>
          <p:nvSpPr>
            <p:cNvPr id="150" name="Oval 30"/>
            <p:cNvSpPr/>
            <p:nvPr/>
          </p:nvSpPr>
          <p:spPr>
            <a:xfrm>
              <a:off x="5943600" y="965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>
              <a:off x="6324480" y="1143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3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256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258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260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26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C16B-E8B2-4480-A1D0-36D67FDECE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960" y="1066680"/>
            <a:ext cx="876276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631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4746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609480" y="4853160"/>
            <a:ext cx="7391520" cy="627120"/>
            <a:chOff x="609480" y="4853160"/>
            <a:chExt cx="7391520" cy="627120"/>
          </a:xfrm>
        </p:grpSpPr>
        <p:sp>
          <p:nvSpPr>
            <p:cNvPr id="158" name="Text Box 8"/>
            <p:cNvSpPr/>
            <p:nvPr/>
          </p:nvSpPr>
          <p:spPr>
            <a:xfrm>
              <a:off x="609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25146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54864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7467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16765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64771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3276720" y="520380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5"/>
          <p:cNvSpPr/>
          <p:nvPr/>
        </p:nvSpPr>
        <p:spPr>
          <a:xfrm>
            <a:off x="5716800" y="4648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5102640" y="5356080"/>
            <a:ext cx="3628080" cy="703800"/>
            <a:chOff x="5102640" y="5356080"/>
            <a:chExt cx="3628080" cy="703800"/>
          </a:xfrm>
        </p:grpSpPr>
        <p:sp>
          <p:nvSpPr>
            <p:cNvPr id="167" name="Rectangle 17"/>
            <p:cNvSpPr/>
            <p:nvPr/>
          </p:nvSpPr>
          <p:spPr>
            <a:xfrm>
              <a:off x="5102640" y="535608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7082280" y="535608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19"/>
          <p:cNvSpPr/>
          <p:nvPr/>
        </p:nvSpPr>
        <p:spPr>
          <a:xfrm>
            <a:off x="6400800" y="601992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152280" y="6019920"/>
            <a:ext cx="4267440" cy="477720"/>
            <a:chOff x="152280" y="6019920"/>
            <a:chExt cx="4267440" cy="477720"/>
          </a:xfrm>
        </p:grpSpPr>
        <p:sp>
          <p:nvSpPr>
            <p:cNvPr id="171" name="Text Box 20"/>
            <p:cNvSpPr/>
            <p:nvPr/>
          </p:nvSpPr>
          <p:spPr>
            <a:xfrm>
              <a:off x="152280" y="6019920"/>
              <a:ext cx="4267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1981080" y="624852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23"/>
          <p:cNvSpPr/>
          <p:nvPr/>
        </p:nvSpPr>
        <p:spPr>
          <a:xfrm>
            <a:off x="4800600" y="2895480"/>
            <a:ext cx="396252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n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ep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32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User</cp:lastModifiedBy>
  <dcterms:modified xsi:type="dcterms:W3CDTF">2015-03-09T10:44:48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