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42E-1959-414B-94B5-1C67524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9DF-E515-4842-9EBE-07692A0B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4CE-7F6C-433E-A3B7-A06833FB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517-41EB-497C-85CD-EF9A8B48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3B5-61A7-497D-A052-25FCE85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847-D12C-4004-BE6A-04DE9B94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2C4-03FD-498A-A3B0-9638F3D3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905-2CE5-4D00-81E6-2A71E8E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CC7-A37B-4515-ABE5-ABAFDB7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018-C7D9-407F-8CA7-39FF16EC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65C-40F2-4D54-B4A5-1966305D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1BC-406C-4F48-8BDA-CEA0A2C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529-75ED-43A0-821F-3369391E89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B5A6-6C86-4067-B7F1-414D343B8D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81360" y="228600"/>
            <a:ext cx="8071920" cy="6400440"/>
            <a:chOff x="81360" y="228600"/>
            <a:chExt cx="8071920" cy="6400440"/>
          </a:xfrm>
        </p:grpSpPr>
        <p:grpSp>
          <p:nvGrpSpPr>
            <p:cNvPr id="43" name="Group 12"/>
            <p:cNvGrpSpPr/>
            <p:nvPr/>
          </p:nvGrpSpPr>
          <p:grpSpPr>
            <a:xfrm>
              <a:off x="81360" y="1260720"/>
              <a:ext cx="7976520" cy="5368320"/>
              <a:chOff x="81360" y="1260720"/>
              <a:chExt cx="7976520" cy="5368320"/>
            </a:xfrm>
          </p:grpSpPr>
          <p:pic>
            <p:nvPicPr>
              <p:cNvPr id="44" name="Picture 9" descr=""/>
              <p:cNvPicPr/>
              <p:nvPr/>
            </p:nvPicPr>
            <p:blipFill>
              <a:blip r:embed="rId1">
                <a:lum contrast="24000"/>
              </a:blip>
              <a:srcRect l="0" t="0" r="0" b="6594"/>
              <a:stretch/>
            </p:blipFill>
            <p:spPr>
              <a:xfrm>
                <a:off x="798840" y="1629360"/>
                <a:ext cx="7259040" cy="49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Oval 10"/>
              <p:cNvSpPr/>
              <p:nvPr/>
            </p:nvSpPr>
            <p:spPr>
              <a:xfrm rot="18849000">
                <a:off x="437760" y="1870200"/>
                <a:ext cx="2581200" cy="208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1"/>
              <p:cNvSpPr/>
              <p:nvPr/>
            </p:nvSpPr>
            <p:spPr>
              <a:xfrm>
                <a:off x="2568960" y="2077920"/>
                <a:ext cx="2145600" cy="47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Text Box 13"/>
            <p:cNvSpPr/>
            <p:nvPr/>
          </p:nvSpPr>
          <p:spPr>
            <a:xfrm>
              <a:off x="2286000" y="228600"/>
              <a:ext cx="495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ELLULAR RESPIRATION:                                    HARVESTING CHEMICAL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4"/>
            <p:cNvSpPr/>
            <p:nvPr/>
          </p:nvSpPr>
          <p:spPr>
            <a:xfrm>
              <a:off x="1219320" y="1676520"/>
              <a:ext cx="6933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ection A: The Principles of Energy Harv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E59F-50D7-4D61-8F10-BB74DF2C53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179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/>
            <a:ahLst/>
            <a:rect l="l" t="t" r="r" b="b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185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/>
              <a:ahLst/>
              <a:rect l="l" t="t" r="r" b="b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188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5F0D-70AD-4EB1-8C07-FBC05DEDDA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600" y="1479600"/>
            <a:ext cx="86868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حدار الإليكترون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رحل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1066680" y="5572080"/>
            <a:ext cx="7467840" cy="525960"/>
            <a:chOff x="1066680" y="5572080"/>
            <a:chExt cx="7467840" cy="525960"/>
          </a:xfrm>
        </p:grpSpPr>
        <p:sp>
          <p:nvSpPr>
            <p:cNvPr id="196" name="Text Box 6"/>
            <p:cNvSpPr/>
            <p:nvPr/>
          </p:nvSpPr>
          <p:spPr>
            <a:xfrm>
              <a:off x="1066680" y="5699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"/>
            <p:cNvSpPr/>
            <p:nvPr/>
          </p:nvSpPr>
          <p:spPr>
            <a:xfrm>
              <a:off x="3352680" y="5572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3200400" y="5927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525C-A6F2-451F-BC82-EA41F2B309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76320" y="2133720"/>
            <a:ext cx="89913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0" y="6537240"/>
            <a:ext cx="83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80880" y="304920"/>
            <a:ext cx="8458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s as the oxidizing agent in many of the redox steps during the catabolism of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476520" y="4861080"/>
            <a:ext cx="53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oxyg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energy is tapped to synthesize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A05-C330-4E76-8B11-D638177CB6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0" y="6516720"/>
            <a:ext cx="144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5, Page 1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3112920" y="1627200"/>
            <a:ext cx="6031080" cy="4164120"/>
            <a:chOff x="3112920" y="1627200"/>
            <a:chExt cx="6031080" cy="416412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3112920" y="1627200"/>
              <a:ext cx="603108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6"/>
            <p:cNvSpPr/>
            <p:nvPr/>
          </p:nvSpPr>
          <p:spPr>
            <a:xfrm>
              <a:off x="3124080" y="1627200"/>
              <a:ext cx="2286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6BE-03ED-4036-A006-FD0C5B977B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311760" y="3124080"/>
            <a:ext cx="7994160" cy="3162960"/>
            <a:chOff x="311760" y="3124080"/>
            <a:chExt cx="7994160" cy="3162960"/>
          </a:xfrm>
        </p:grpSpPr>
        <p:sp>
          <p:nvSpPr>
            <p:cNvPr id="213" name="Oval 3"/>
            <p:cNvSpPr/>
            <p:nvPr/>
          </p:nvSpPr>
          <p:spPr>
            <a:xfrm>
              <a:off x="609480" y="312408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"/>
            <p:cNvSpPr/>
            <p:nvPr/>
          </p:nvSpPr>
          <p:spPr>
            <a:xfrm rot="21180000">
              <a:off x="1752480" y="329076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 rot="1284600">
              <a:off x="348840" y="5478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731520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ge 158 &amp; Fig. 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0880" y="806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80880" y="13240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80880" y="17971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80880" y="2330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2"/>
          <p:cNvGrpSpPr/>
          <p:nvPr/>
        </p:nvGrpSpPr>
        <p:grpSpPr>
          <a:xfrm>
            <a:off x="3505320" y="3657600"/>
            <a:ext cx="4495680" cy="1828800"/>
            <a:chOff x="3505320" y="3657600"/>
            <a:chExt cx="4495680" cy="1828800"/>
          </a:xfrm>
        </p:grpSpPr>
        <p:sp>
          <p:nvSpPr>
            <p:cNvPr id="223" name="AutoShape 13"/>
            <p:cNvSpPr/>
            <p:nvPr/>
          </p:nvSpPr>
          <p:spPr>
            <a:xfrm>
              <a:off x="3505320" y="403848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4800600" y="365760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5"/>
          <p:cNvGrpSpPr/>
          <p:nvPr/>
        </p:nvGrpSpPr>
        <p:grpSpPr>
          <a:xfrm>
            <a:off x="838080" y="4038480"/>
            <a:ext cx="7010640" cy="606600"/>
            <a:chOff x="838080" y="4038480"/>
            <a:chExt cx="7010640" cy="606600"/>
          </a:xfrm>
        </p:grpSpPr>
        <p:sp>
          <p:nvSpPr>
            <p:cNvPr id="226" name="Text Box 16"/>
            <p:cNvSpPr/>
            <p:nvPr/>
          </p:nvSpPr>
          <p:spPr>
            <a:xfrm>
              <a:off x="838080" y="422892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1523880" y="43815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600200" y="4152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523880" y="4368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3009960" y="438156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5715000" y="4381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3124080" y="40384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5765760" y="4038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4"/>
          <p:cNvGrpSpPr/>
          <p:nvPr/>
        </p:nvGrpSpPr>
        <p:grpSpPr>
          <a:xfrm>
            <a:off x="5486400" y="4876920"/>
            <a:ext cx="1447920" cy="459720"/>
            <a:chOff x="5486400" y="4876920"/>
            <a:chExt cx="1447920" cy="459720"/>
          </a:xfrm>
        </p:grpSpPr>
        <p:sp>
          <p:nvSpPr>
            <p:cNvPr id="235" name="Text Box 25"/>
            <p:cNvSpPr/>
            <p:nvPr/>
          </p:nvSpPr>
          <p:spPr>
            <a:xfrm>
              <a:off x="5486400" y="4876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 flipH="1">
              <a:off x="6324480" y="502920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7"/>
          <p:cNvGrpSpPr/>
          <p:nvPr/>
        </p:nvGrpSpPr>
        <p:grpSpPr>
          <a:xfrm>
            <a:off x="2971440" y="4876920"/>
            <a:ext cx="2590920" cy="459720"/>
            <a:chOff x="2971440" y="4876920"/>
            <a:chExt cx="2590920" cy="459720"/>
          </a:xfrm>
        </p:grpSpPr>
        <p:sp>
          <p:nvSpPr>
            <p:cNvPr id="238" name="Text Box 28"/>
            <p:cNvSpPr/>
            <p:nvPr/>
          </p:nvSpPr>
          <p:spPr>
            <a:xfrm>
              <a:off x="4038480" y="4876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 flipH="1">
              <a:off x="4800240" y="5105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 flipH="1">
              <a:off x="2971440" y="51055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31"/>
          <p:cNvSpPr/>
          <p:nvPr/>
        </p:nvSpPr>
        <p:spPr>
          <a:xfrm>
            <a:off x="6934320" y="464832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2E85-F9AC-45D2-B7C6-6CE02E8DA5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"/>
          <p:cNvSpPr/>
          <p:nvPr/>
        </p:nvSpPr>
        <p:spPr>
          <a:xfrm>
            <a:off x="304920" y="912960"/>
            <a:ext cx="8458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522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ection B: The Process of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28600" y="114300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glycolysis, the Krebs cycle, and electron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Krebs cy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tochonderial matr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ctron trans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in to syn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Cellular respiration generates many ATP molecules for each sugar molecule it oxidiz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96B-901B-4985-A406-908196C7F0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EAB5-9041-467F-93DB-3CB8AA1068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16400" y="2362320"/>
            <a:ext cx="3775320" cy="4267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52280" y="309240"/>
            <a:ext cx="8839440" cy="18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ve phosphorylation produces almos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d by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8600" y="2868480"/>
            <a:ext cx="51055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also generated in glycolysis and in Krebs cycle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 an enzyme transfers a phosphate group from an organic molecule (the substrate) to ADP, forming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700040" y="649116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7, Page 1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228600" y="5257800"/>
            <a:ext cx="5181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21AA-F2BD-4C2A-992B-85D7C93D7F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036440"/>
            <a:ext cx="9144000" cy="55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energy by phosphorylating glucose                                                                            (this requires 2 ATP per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B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phosphorylation and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NA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 occurs in the absence                                                                         of O2, thu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334120" y="2743200"/>
            <a:ext cx="3776400" cy="3809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76320" y="31680"/>
            <a:ext cx="90676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: harvests chemical energy by oxidizing glucose to 2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937200" y="655308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806-D31E-44CB-BCA7-4736DADE68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57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280" y="10666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yruv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52280" y="1706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685800" y="4343400"/>
            <a:ext cx="7924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25720" y="388620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56240" y="31240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85800" y="5410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DE2-C3CC-4857-8588-520023B0DB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"/>
          <p:cNvSpPr/>
          <p:nvPr/>
        </p:nvSpPr>
        <p:spPr>
          <a:xfrm>
            <a:off x="304920" y="762120"/>
            <a:ext cx="830556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76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1520" y="114300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A21D-D8EF-41A0-B7BA-9A6976D9EA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0880" y="26668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- The resulting </a:t>
            </a:r>
            <a:r>
              <a:rPr b="1" i="1" lang="en-GB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GB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i="1" lang="en-GB" sz="2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wo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suga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for reducing 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hydrogen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880" y="4495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)- The net yield of this process is the form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ATP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3720" y="1219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80880" y="1981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)- The two resulting 3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sugars are then oxidized (losing </a:t>
            </a:r>
            <a:r>
              <a:rPr b="1" i="1" lang="en-GB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GB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80880" y="3886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)-  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914400" y="12240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74674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80880" y="55767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)- Now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ready for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648-9F7C-4BC9-ACAA-F9E1A9FC86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960720" y="33670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4AD-2715-42E2-8E0B-1843E8BB6F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04920" y="1371600"/>
            <a:ext cx="8610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04920" y="2286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7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BA9-0AF1-468F-9CB0-FE20C12DFA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295280" y="895320"/>
            <a:ext cx="60962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04920" y="19051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04920" y="2556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3505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1828800" y="4464000"/>
            <a:ext cx="2590560" cy="802800"/>
            <a:chOff x="1828800" y="4464000"/>
            <a:chExt cx="2590560" cy="802800"/>
          </a:xfrm>
        </p:grpSpPr>
        <p:sp>
          <p:nvSpPr>
            <p:cNvPr id="304" name="Freeform 8"/>
            <p:cNvSpPr/>
            <p:nvPr/>
          </p:nvSpPr>
          <p:spPr>
            <a:xfrm>
              <a:off x="2514600" y="4809960"/>
              <a:ext cx="1904760" cy="45684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1828800" y="4464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0"/>
          <p:cNvSpPr/>
          <p:nvPr/>
        </p:nvSpPr>
        <p:spPr>
          <a:xfrm>
            <a:off x="3505320" y="4403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1"/>
          <p:cNvGrpSpPr/>
          <p:nvPr/>
        </p:nvGrpSpPr>
        <p:grpSpPr>
          <a:xfrm>
            <a:off x="228600" y="5064120"/>
            <a:ext cx="7238520" cy="714240"/>
            <a:chOff x="228600" y="5064120"/>
            <a:chExt cx="7238520" cy="714240"/>
          </a:xfrm>
        </p:grpSpPr>
        <p:sp>
          <p:nvSpPr>
            <p:cNvPr id="308" name="Text Box 12"/>
            <p:cNvSpPr/>
            <p:nvPr/>
          </p:nvSpPr>
          <p:spPr>
            <a:xfrm>
              <a:off x="228600" y="507996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5264280" y="506412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>
              <a:off x="1880640" y="531792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3061080" y="525780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6"/>
          <p:cNvSpPr/>
          <p:nvPr/>
        </p:nvSpPr>
        <p:spPr>
          <a:xfrm>
            <a:off x="7440120" y="5089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7"/>
          <p:cNvGrpSpPr/>
          <p:nvPr/>
        </p:nvGrpSpPr>
        <p:grpSpPr>
          <a:xfrm>
            <a:off x="4191120" y="5334120"/>
            <a:ext cx="3809880" cy="855720"/>
            <a:chOff x="4191120" y="5334120"/>
            <a:chExt cx="3809880" cy="855720"/>
          </a:xfrm>
        </p:grpSpPr>
        <p:sp>
          <p:nvSpPr>
            <p:cNvPr id="314" name="Freeform 18"/>
            <p:cNvSpPr/>
            <p:nvPr/>
          </p:nvSpPr>
          <p:spPr>
            <a:xfrm>
              <a:off x="5867280" y="5334120"/>
              <a:ext cx="2133720" cy="609480"/>
            </a:xfrm>
            <a:custGeom>
              <a:avLst/>
              <a:gdLst/>
              <a:ahLst/>
              <a:rect l="l" t="t" r="r" b="b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4191120" y="579096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A75-F746-4B47-A781-3C9EEA3644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4702320" y="0"/>
            <a:ext cx="4441680" cy="6019920"/>
            <a:chOff x="4702320" y="0"/>
            <a:chExt cx="4441680" cy="6019920"/>
          </a:xfrm>
        </p:grpSpPr>
        <p:pic>
          <p:nvPicPr>
            <p:cNvPr id="318" name="Picture 15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4702320" y="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AutoShape 17"/>
            <p:cNvSpPr/>
            <p:nvPr/>
          </p:nvSpPr>
          <p:spPr>
            <a:xfrm>
              <a:off x="7467480" y="9907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7620120" y="1295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2"/>
          <p:cNvSpPr/>
          <p:nvPr/>
        </p:nvSpPr>
        <p:spPr>
          <a:xfrm>
            <a:off x="146520" y="44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28600" y="83664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752480" y="511956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76320" y="5075280"/>
            <a:ext cx="1599840" cy="1311120"/>
            <a:chOff x="76320" y="5075280"/>
            <a:chExt cx="1599840" cy="1311120"/>
          </a:xfrm>
        </p:grpSpPr>
        <p:sp>
          <p:nvSpPr>
            <p:cNvPr id="325" name="AutoShape 9"/>
            <p:cNvSpPr/>
            <p:nvPr/>
          </p:nvSpPr>
          <p:spPr>
            <a:xfrm>
              <a:off x="1184040" y="5075280"/>
              <a:ext cx="492120" cy="131112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120"/>
                <a:gd name="textAreaBottom" fmla="*/ 127692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76320" y="554184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1"/>
          <p:cNvGrpSpPr/>
          <p:nvPr/>
        </p:nvGrpSpPr>
        <p:grpSpPr>
          <a:xfrm>
            <a:off x="2048040" y="6141960"/>
            <a:ext cx="3972960" cy="565920"/>
            <a:chOff x="2048040" y="6141960"/>
            <a:chExt cx="3972960" cy="565920"/>
          </a:xfrm>
        </p:grpSpPr>
        <p:sp>
          <p:nvSpPr>
            <p:cNvPr id="328" name="Rectangle 12"/>
            <p:cNvSpPr/>
            <p:nvPr/>
          </p:nvSpPr>
          <p:spPr>
            <a:xfrm>
              <a:off x="2434320" y="630900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2048040" y="6141960"/>
              <a:ext cx="47484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22"/>
          <p:cNvSpPr/>
          <p:nvPr/>
        </p:nvSpPr>
        <p:spPr>
          <a:xfrm>
            <a:off x="152280" y="4267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0" y="190512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65A9-0F0C-4228-B0C1-1D620FC8A3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 The inner mitochondrial membrane couples electron transport to ATP synthes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 of AT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4866120" y="3115440"/>
            <a:ext cx="4277520" cy="3208680"/>
            <a:chOff x="4866120" y="3115440"/>
            <a:chExt cx="4277520" cy="3208680"/>
          </a:xfrm>
        </p:grpSpPr>
        <p:pic>
          <p:nvPicPr>
            <p:cNvPr id="336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280680"/>
              <a:ext cx="382644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Oval 9"/>
            <p:cNvSpPr/>
            <p:nvPr/>
          </p:nvSpPr>
          <p:spPr>
            <a:xfrm rot="18849000">
              <a:off x="5022000" y="351216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6250320" y="355392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90%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DEC5-4D0B-47B1-9A72-38A8578ABC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9ECE-28D1-4361-B097-A622CBB171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2EA0-73A7-485D-ADF8-52F7BB0E11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7E63-73BE-4F7E-A8BB-007A4B6BB7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1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ix-carbon glucose molecule is oxidized to 6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Krebs cycle and the conversion of pyruvate contributes enough energy to generate a maximum of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3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D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Krebs cycle can be used to generate about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2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. Cellular respiration generates many ATP molecules for each sugar molecule it oxid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CCC-BC32-42A7-B5F3-95E26ECB74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waste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respiration and fermentation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D33-0872-4039-853E-505D7C0725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357120"/>
            <a:ext cx="8991720" cy="58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strate-level phosphoryl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ycolysis &amp;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a bottom line of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8 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D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ctron transport chain          proton-motive force           AT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P is produced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828800" y="3581280"/>
            <a:ext cx="5867280" cy="914400"/>
            <a:chOff x="1828800" y="3581280"/>
            <a:chExt cx="5867280" cy="914400"/>
          </a:xfrm>
        </p:grpSpPr>
        <p:sp>
          <p:nvSpPr>
            <p:cNvPr id="360" name="AutoShape 6"/>
            <p:cNvSpPr/>
            <p:nvPr/>
          </p:nvSpPr>
          <p:spPr>
            <a:xfrm>
              <a:off x="2209680" y="3581280"/>
              <a:ext cx="838440" cy="380880"/>
            </a:xfrm>
            <a:prstGeom prst="rightArrow">
              <a:avLst>
                <a:gd name="adj1" fmla="val 50000"/>
                <a:gd name="adj2" fmla="val 55033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7"/>
            <p:cNvSpPr/>
            <p:nvPr/>
          </p:nvSpPr>
          <p:spPr>
            <a:xfrm>
              <a:off x="4343400" y="358128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182880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685800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00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D67-D995-430E-A3B0-06E1643DED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189000" y="914400"/>
            <a:ext cx="8764560" cy="5216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5"/>
          <p:cNvSpPr/>
          <p:nvPr/>
        </p:nvSpPr>
        <p:spPr>
          <a:xfrm>
            <a:off x="152280" y="90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97B2-5DDB-4419-8F98-3E443812C3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ummary of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320" y="7621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52280" y="12952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52280" y="22096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ow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BB0D-0784-42FD-B89D-A99FA83A51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3048120" y="152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fini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304920" y="1066680"/>
            <a:ext cx="86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304920" y="2286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28600" y="3505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04920" y="472428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D5C-A30E-4B48-BF09-49B0B602B8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two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, 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 (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ther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fer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ermentation ena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D30F-7633-4B75-BA9B-A449A71094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scar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0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004E-40AC-41E2-86E5-18042336E9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65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and cellular respiration are anaerobic and aerobic alternatives, respectively, for producing ATP from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glycolysis to oxidize sugars to pyruvate with a net production of 2 ATP by substrate-level phosphory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n electron ac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ermentation, the electrons of NADH are passed to an organic molecule, regenerating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spiration, the electrons of NADH are ultimately passed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enerating ATP by oxidative phosphory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even more ATP is generated from the oxidation of pyruvate in the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oxygen, the energy still stored in pyruvate is unavailable to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erobic respiration, a molecule of glucose yields 38 ATP, but the same molecule of glucose yields only 2 ATP under anaerobic respi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6F5D-724A-4229-B7B9-394DA9EF38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52280" y="2509920"/>
            <a:ext cx="4191120" cy="41036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398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49A-6A2F-4D02-9A6E-80F6464502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"/>
          <p:cNvSpPr/>
          <p:nvPr/>
        </p:nvSpPr>
        <p:spPr>
          <a:xfrm>
            <a:off x="228600" y="10666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2666880" y="12952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3276720" y="762120"/>
            <a:ext cx="990360" cy="2297880"/>
            <a:chOff x="3276720" y="762120"/>
            <a:chExt cx="990360" cy="2297880"/>
          </a:xfrm>
        </p:grpSpPr>
        <p:sp>
          <p:nvSpPr>
            <p:cNvPr id="62" name="Text Box 5"/>
            <p:cNvSpPr/>
            <p:nvPr/>
          </p:nvSpPr>
          <p:spPr>
            <a:xfrm>
              <a:off x="3352680" y="21337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3276720" y="7621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7"/>
          <p:cNvSpPr/>
          <p:nvPr/>
        </p:nvSpPr>
        <p:spPr>
          <a:xfrm>
            <a:off x="5257800" y="9907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 rot="10800000">
            <a:off x="5638320" y="28954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7315200" y="762120"/>
            <a:ext cx="1676520" cy="2158920"/>
            <a:chOff x="7315200" y="762120"/>
            <a:chExt cx="1676520" cy="2158920"/>
          </a:xfrm>
        </p:grpSpPr>
        <p:sp>
          <p:nvSpPr>
            <p:cNvPr id="67" name="Text Box 10"/>
            <p:cNvSpPr/>
            <p:nvPr/>
          </p:nvSpPr>
          <p:spPr>
            <a:xfrm>
              <a:off x="7696080" y="7621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7696080" y="21337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7315200" y="11430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3"/>
          <p:cNvSpPr/>
          <p:nvPr/>
        </p:nvSpPr>
        <p:spPr>
          <a:xfrm>
            <a:off x="2133720" y="41911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304920" y="5715000"/>
            <a:ext cx="8533800" cy="510120"/>
            <a:chOff x="304920" y="5715000"/>
            <a:chExt cx="8533800" cy="510120"/>
          </a:xfrm>
        </p:grpSpPr>
        <p:sp>
          <p:nvSpPr>
            <p:cNvPr id="73" name="Text Box 16"/>
            <p:cNvSpPr/>
            <p:nvPr/>
          </p:nvSpPr>
          <p:spPr>
            <a:xfrm>
              <a:off x="304920" y="57150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410080" y="57150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8"/>
            <p:cNvSpPr/>
            <p:nvPr/>
          </p:nvSpPr>
          <p:spPr>
            <a:xfrm>
              <a:off x="4190760" y="58672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C43A-9211-4FF0-92AA-4875274879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882720"/>
            <a:ext cx="8686800" cy="58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ase en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2820-F3D0-4276-82AC-388AE87F1A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2510280" y="1038600"/>
            <a:ext cx="2279880" cy="2209680"/>
            <a:chOff x="2510280" y="1038600"/>
            <a:chExt cx="2279880" cy="2209680"/>
          </a:xfrm>
        </p:grpSpPr>
        <p:sp>
          <p:nvSpPr>
            <p:cNvPr id="83" name="AutoShape 4"/>
            <p:cNvSpPr/>
            <p:nvPr/>
          </p:nvSpPr>
          <p:spPr>
            <a:xfrm rot="1476000">
              <a:off x="3581280" y="1218960"/>
              <a:ext cx="1067040" cy="914040"/>
            </a:xfrm>
            <a:prstGeom prst="hexagon">
              <a:avLst>
                <a:gd name="adj" fmla="val 2918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 rot="19995000">
              <a:off x="2944440" y="1298160"/>
              <a:ext cx="76212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"/>
            <p:cNvSpPr/>
            <p:nvPr/>
          </p:nvSpPr>
          <p:spPr>
            <a:xfrm rot="20174400">
              <a:off x="2615760" y="2437920"/>
              <a:ext cx="76212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3301920" y="2184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2616120" y="24890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1752480" y="2286000"/>
            <a:ext cx="851040" cy="457200"/>
            <a:chOff x="1752480" y="2286000"/>
            <a:chExt cx="851040" cy="457200"/>
          </a:xfrm>
        </p:grpSpPr>
        <p:sp>
          <p:nvSpPr>
            <p:cNvPr id="89" name="Line 10"/>
            <p:cNvSpPr/>
            <p:nvPr/>
          </p:nvSpPr>
          <p:spPr>
            <a:xfrm flipH="1">
              <a:off x="2222640" y="2501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175248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228600" y="2286000"/>
            <a:ext cx="761760" cy="457200"/>
            <a:chOff x="228600" y="2286000"/>
            <a:chExt cx="761760" cy="457200"/>
          </a:xfrm>
        </p:grpSpPr>
        <p:sp>
          <p:nvSpPr>
            <p:cNvPr id="92" name="Oval 13"/>
            <p:cNvSpPr/>
            <p:nvPr/>
          </p:nvSpPr>
          <p:spPr>
            <a:xfrm>
              <a:off x="22860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H="1">
              <a:off x="68544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1003320" y="2286000"/>
            <a:ext cx="749160" cy="457200"/>
            <a:chOff x="1003320" y="2286000"/>
            <a:chExt cx="749160" cy="457200"/>
          </a:xfrm>
        </p:grpSpPr>
        <p:sp>
          <p:nvSpPr>
            <p:cNvPr id="95" name="Oval 16"/>
            <p:cNvSpPr/>
            <p:nvPr/>
          </p:nvSpPr>
          <p:spPr>
            <a:xfrm>
              <a:off x="100332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7"/>
            <p:cNvSpPr/>
            <p:nvPr/>
          </p:nvSpPr>
          <p:spPr>
            <a:xfrm flipH="1">
              <a:off x="1447920" y="2514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5118120" y="3781800"/>
            <a:ext cx="3786840" cy="2209680"/>
            <a:chOff x="5118120" y="3781800"/>
            <a:chExt cx="3786840" cy="2209680"/>
          </a:xfrm>
        </p:grpSpPr>
        <p:grpSp>
          <p:nvGrpSpPr>
            <p:cNvPr id="99" name="Group 20"/>
            <p:cNvGrpSpPr/>
            <p:nvPr/>
          </p:nvGrpSpPr>
          <p:grpSpPr>
            <a:xfrm>
              <a:off x="6625080" y="3781800"/>
              <a:ext cx="2279880" cy="2209680"/>
              <a:chOff x="6625080" y="3781800"/>
              <a:chExt cx="2279880" cy="2209680"/>
            </a:xfrm>
          </p:grpSpPr>
          <p:sp>
            <p:nvSpPr>
              <p:cNvPr id="100" name="AutoShape 21"/>
              <p:cNvSpPr/>
              <p:nvPr/>
            </p:nvSpPr>
            <p:spPr>
              <a:xfrm rot="1476000">
                <a:off x="7696080" y="39621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22"/>
              <p:cNvSpPr/>
              <p:nvPr/>
            </p:nvSpPr>
            <p:spPr>
              <a:xfrm rot="19995000">
                <a:off x="7059240" y="40413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3"/>
              <p:cNvSpPr/>
              <p:nvPr/>
            </p:nvSpPr>
            <p:spPr>
              <a:xfrm rot="20174400">
                <a:off x="6730560" y="51811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7416720" y="49273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>
                <a:off x="6730920" y="52322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6"/>
            <p:cNvGrpSpPr/>
            <p:nvPr/>
          </p:nvGrpSpPr>
          <p:grpSpPr>
            <a:xfrm>
              <a:off x="5867280" y="5029200"/>
              <a:ext cx="851040" cy="456840"/>
              <a:chOff x="5867280" y="5029200"/>
              <a:chExt cx="851040" cy="456840"/>
            </a:xfrm>
          </p:grpSpPr>
          <p:sp>
            <p:nvSpPr>
              <p:cNvPr id="106" name="Line 27"/>
              <p:cNvSpPr/>
              <p:nvPr/>
            </p:nvSpPr>
            <p:spPr>
              <a:xfrm flipH="1">
                <a:off x="6337440" y="52444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28"/>
              <p:cNvSpPr/>
              <p:nvPr/>
            </p:nvSpPr>
            <p:spPr>
              <a:xfrm>
                <a:off x="586728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9"/>
            <p:cNvGrpSpPr/>
            <p:nvPr/>
          </p:nvGrpSpPr>
          <p:grpSpPr>
            <a:xfrm>
              <a:off x="5118120" y="5029200"/>
              <a:ext cx="749160" cy="456840"/>
              <a:chOff x="5118120" y="5029200"/>
              <a:chExt cx="749160" cy="456840"/>
            </a:xfrm>
          </p:grpSpPr>
          <p:sp>
            <p:nvSpPr>
              <p:cNvPr id="109" name="Oval 30"/>
              <p:cNvSpPr/>
              <p:nvPr/>
            </p:nvSpPr>
            <p:spPr>
              <a:xfrm>
                <a:off x="511812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"/>
              <p:cNvSpPr/>
              <p:nvPr/>
            </p:nvSpPr>
            <p:spPr>
              <a:xfrm flipH="1">
                <a:off x="5562720" y="5257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Rectangle 32"/>
          <p:cNvSpPr/>
          <p:nvPr/>
        </p:nvSpPr>
        <p:spPr>
          <a:xfrm>
            <a:off x="4894560" y="17524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4876920" y="5257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4"/>
          <p:cNvSpPr/>
          <p:nvPr/>
        </p:nvSpPr>
        <p:spPr>
          <a:xfrm>
            <a:off x="1600200" y="4419720"/>
            <a:ext cx="220968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762120" y="121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76320" y="29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7"/>
          <p:cNvSpPr/>
          <p:nvPr/>
        </p:nvSpPr>
        <p:spPr>
          <a:xfrm rot="19137600">
            <a:off x="5457600" y="2619000"/>
            <a:ext cx="533160" cy="2133720"/>
          </a:xfrm>
          <a:prstGeom prst="downArrow">
            <a:avLst>
              <a:gd name="adj1" fmla="val 50000"/>
              <a:gd name="adj2" fmla="val 100051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41911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17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6351-1ED0-486A-B625-DA2B77090E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phosphory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24F-9356-4E46-82EF-BA3D4FCA4E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6248520" y="1143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5400000">
            <a:off x="4210200" y="1428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76320" y="3429000"/>
            <a:ext cx="2438280" cy="1752480"/>
            <a:chOff x="76320" y="3429000"/>
            <a:chExt cx="2438280" cy="1752480"/>
          </a:xfrm>
        </p:grpSpPr>
        <p:sp>
          <p:nvSpPr>
            <p:cNvPr id="126" name="AutoShape 5"/>
            <p:cNvSpPr/>
            <p:nvPr/>
          </p:nvSpPr>
          <p:spPr>
            <a:xfrm>
              <a:off x="1600200" y="3429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76320" y="3641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1066680" y="3962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8"/>
          <p:cNvSpPr/>
          <p:nvPr/>
        </p:nvSpPr>
        <p:spPr>
          <a:xfrm>
            <a:off x="1066680" y="2133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413080" y="3708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1981080" y="4572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5943600" y="990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6477120" y="-52920"/>
            <a:ext cx="2782800" cy="1741680"/>
            <a:chOff x="6477120" y="-52920"/>
            <a:chExt cx="2782800" cy="1741680"/>
          </a:xfrm>
        </p:grpSpPr>
        <p:grpSp>
          <p:nvGrpSpPr>
            <p:cNvPr id="134" name="Group 14"/>
            <p:cNvGrpSpPr/>
            <p:nvPr/>
          </p:nvGrpSpPr>
          <p:grpSpPr>
            <a:xfrm>
              <a:off x="7570080" y="-52920"/>
              <a:ext cx="1689840" cy="1741680"/>
              <a:chOff x="7570080" y="-52920"/>
              <a:chExt cx="1689840" cy="1741680"/>
            </a:xfrm>
          </p:grpSpPr>
          <p:sp>
            <p:nvSpPr>
              <p:cNvPr id="135" name="AutoShape 15"/>
              <p:cNvSpPr/>
              <p:nvPr/>
            </p:nvSpPr>
            <p:spPr>
              <a:xfrm rot="1476000">
                <a:off x="8362440" y="76320"/>
                <a:ext cx="780480" cy="7311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16"/>
              <p:cNvSpPr/>
              <p:nvPr/>
            </p:nvSpPr>
            <p:spPr>
              <a:xfrm rot="19995000">
                <a:off x="7897320" y="139320"/>
                <a:ext cx="557280" cy="66528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7"/>
              <p:cNvSpPr/>
              <p:nvPr/>
            </p:nvSpPr>
            <p:spPr>
              <a:xfrm rot="20174400">
                <a:off x="7656840" y="1051200"/>
                <a:ext cx="557280" cy="54828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8"/>
              <p:cNvSpPr/>
              <p:nvPr/>
            </p:nvSpPr>
            <p:spPr>
              <a:xfrm>
                <a:off x="8158320" y="848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9"/>
              <p:cNvSpPr/>
              <p:nvPr/>
            </p:nvSpPr>
            <p:spPr>
              <a:xfrm>
                <a:off x="7656840" y="1092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7025040" y="929520"/>
              <a:ext cx="621720" cy="365400"/>
              <a:chOff x="7025040" y="929520"/>
              <a:chExt cx="621720" cy="365400"/>
            </a:xfrm>
          </p:grpSpPr>
          <p:sp>
            <p:nvSpPr>
              <p:cNvPr id="141" name="Line 21"/>
              <p:cNvSpPr/>
              <p:nvPr/>
            </p:nvSpPr>
            <p:spPr>
              <a:xfrm flipH="1">
                <a:off x="7368480" y="1099440"/>
                <a:ext cx="27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2"/>
              <p:cNvSpPr/>
              <p:nvPr/>
            </p:nvSpPr>
            <p:spPr>
              <a:xfrm>
                <a:off x="702504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6477120" y="929520"/>
              <a:ext cx="547560" cy="365400"/>
              <a:chOff x="6477120" y="929520"/>
              <a:chExt cx="547560" cy="365400"/>
            </a:xfrm>
          </p:grpSpPr>
          <p:sp>
            <p:nvSpPr>
              <p:cNvPr id="144" name="Oval 24"/>
              <p:cNvSpPr/>
              <p:nvPr/>
            </p:nvSpPr>
            <p:spPr>
              <a:xfrm>
                <a:off x="647712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5"/>
              <p:cNvSpPr/>
              <p:nvPr/>
            </p:nvSpPr>
            <p:spPr>
              <a:xfrm flipH="1">
                <a:off x="6802200" y="1109880"/>
                <a:ext cx="22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29"/>
          <p:cNvGrpSpPr/>
          <p:nvPr/>
        </p:nvGrpSpPr>
        <p:grpSpPr>
          <a:xfrm>
            <a:off x="6139080" y="1371240"/>
            <a:ext cx="1772640" cy="1406160"/>
            <a:chOff x="6139080" y="1371240"/>
            <a:chExt cx="1772640" cy="1406160"/>
          </a:xfrm>
        </p:grpSpPr>
        <p:sp>
          <p:nvSpPr>
            <p:cNvPr id="147" name="Line 27"/>
            <p:cNvSpPr/>
            <p:nvPr/>
          </p:nvSpPr>
          <p:spPr>
            <a:xfrm flipH="1" flipV="1">
              <a:off x="6311520" y="1371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8"/>
            <p:cNvSpPr/>
            <p:nvPr/>
          </p:nvSpPr>
          <p:spPr>
            <a:xfrm rot="2119200">
              <a:off x="6069960" y="1892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5943600" y="965160"/>
            <a:ext cx="533160" cy="380880"/>
            <a:chOff x="5943600" y="965160"/>
            <a:chExt cx="533160" cy="380880"/>
          </a:xfrm>
        </p:grpSpPr>
        <p:sp>
          <p:nvSpPr>
            <p:cNvPr id="150" name="Oval 30"/>
            <p:cNvSpPr/>
            <p:nvPr/>
          </p:nvSpPr>
          <p:spPr>
            <a:xfrm>
              <a:off x="5943600" y="965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>
              <a:off x="6324480" y="1143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2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3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256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258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260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26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C8D-7894-4407-BC1E-6EF8C0DB7E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960" y="1066680"/>
            <a:ext cx="876276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l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631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4746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609480" y="4853160"/>
            <a:ext cx="7391520" cy="627120"/>
            <a:chOff x="609480" y="4853160"/>
            <a:chExt cx="7391520" cy="627120"/>
          </a:xfrm>
        </p:grpSpPr>
        <p:sp>
          <p:nvSpPr>
            <p:cNvPr id="158" name="Text Box 8"/>
            <p:cNvSpPr/>
            <p:nvPr/>
          </p:nvSpPr>
          <p:spPr>
            <a:xfrm>
              <a:off x="609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25146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54864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7467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16765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64771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3276720" y="520380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5"/>
          <p:cNvSpPr/>
          <p:nvPr/>
        </p:nvSpPr>
        <p:spPr>
          <a:xfrm>
            <a:off x="5716800" y="4648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5102640" y="5356080"/>
            <a:ext cx="3628080" cy="703800"/>
            <a:chOff x="5102640" y="5356080"/>
            <a:chExt cx="3628080" cy="703800"/>
          </a:xfrm>
        </p:grpSpPr>
        <p:sp>
          <p:nvSpPr>
            <p:cNvPr id="167" name="Rectangle 17"/>
            <p:cNvSpPr/>
            <p:nvPr/>
          </p:nvSpPr>
          <p:spPr>
            <a:xfrm>
              <a:off x="5102640" y="535608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7082280" y="535608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19"/>
          <p:cNvSpPr/>
          <p:nvPr/>
        </p:nvSpPr>
        <p:spPr>
          <a:xfrm>
            <a:off x="6400800" y="601992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152280" y="6019920"/>
            <a:ext cx="4267440" cy="477720"/>
            <a:chOff x="152280" y="6019920"/>
            <a:chExt cx="4267440" cy="477720"/>
          </a:xfrm>
        </p:grpSpPr>
        <p:sp>
          <p:nvSpPr>
            <p:cNvPr id="171" name="Text Box 20"/>
            <p:cNvSpPr/>
            <p:nvPr/>
          </p:nvSpPr>
          <p:spPr>
            <a:xfrm>
              <a:off x="152280" y="6019920"/>
              <a:ext cx="4267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1981080" y="624852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23"/>
          <p:cNvSpPr/>
          <p:nvPr/>
        </p:nvSpPr>
        <p:spPr>
          <a:xfrm>
            <a:off x="4800600" y="2895480"/>
            <a:ext cx="396252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n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cep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32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User</cp:lastModifiedBy>
  <dcterms:modified xsi:type="dcterms:W3CDTF">2015-03-09T10:44:48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