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14D7-107F-4254-99F1-941F386E316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%28medicine%29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E339-632E-48E5-B142-D39A8666AA7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2E8-35A6-447E-BCDD-C0BEEE1D65E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509B-E7B1-4635-AE7B-55126714E07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C77-A38C-4E9D-9D1E-15D76ED1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E41-114D-419C-B8A7-95B7BFCF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329-ECB1-464D-98D6-9B6CED4E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D87-112A-458F-ADF7-3407637D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32A1-A081-4CE0-A7E7-B5DB3CD5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265D-DB77-4993-AC93-B2ACC8EA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4916-DEEE-4DEE-ADD6-BF2FE891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C94E-8D60-4082-AE82-C2D7C770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DD69-B9F5-4EA3-B160-4D0C5CF3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F684-AFCD-4D18-B864-5A0F7DDB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8885-90AB-4590-BE85-643B16F5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65C-E4BB-4C52-8E74-EE66CF04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9088-A290-40BC-9851-3006E4B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BE19-0210-4667-B2BA-DC906A60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36B9-FBC5-4A02-AF93-A92F30B9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F26-605C-4F29-9F14-D43CA475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D6E5-8162-4AE4-8D64-091ABC4A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7608E-7C05-41EA-AE1B-0627A82C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19F31-11AC-49E8-9E6D-5A76288A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32DCF-CB3B-4E2D-961B-57108FE2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CD666-AF8E-4D28-B7CA-18EFC22D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00615-D1B2-4CBF-A611-5FE0B0CA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65F-1E42-4F1F-890D-CBB456B3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ABE28-90D1-4065-9B90-1EE99EF8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E9828-B6D1-4E69-9E5A-B0F59B8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D3C40-3D92-4293-B06D-552927C1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20FC1-FBC5-4D2F-981E-F2994995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FD338-45B2-4677-80C8-2ECBC3CA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AB8A1-C176-4947-B705-DC9F9D67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965EE-98FC-4C0C-BF04-C68F9928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1F973-632F-4CF8-9B89-3DE9EBA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CF64-8D65-45EE-BF56-98662881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9857-7C68-45E9-A852-64F2C1CD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02E-3D0E-486D-BBB7-DA3D5798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368C-5D51-449F-8B90-F1F6932A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0B20-B0AF-4715-B37A-A0988665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1B61-2A0B-4824-A0E0-339D5CE6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0634-56B3-4DAC-8E1B-A3CC46CE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17EE-6BAF-45ED-A02A-7A59BED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396F-D5DD-4DCA-ABE7-1068B94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A6AC-E5CF-4DCD-A6FC-C3ACC02A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00C91-153E-44B9-8B16-D58ACAAF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034F-AC82-4A3F-B93F-3BE6B688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CC1-71E3-4B8E-A90C-F5AA7803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AA6-8483-462D-9742-895A2E9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5E2-3FED-4582-8217-E008DCA9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47D-EE3C-4383-99A1-AEDF908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F5A-8192-4B70-9A08-67F430F4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ADE0-7E87-41B1-9074-1727929BB846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٧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9699-9FD4-4A14-8E19-14DA7FC39867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FD17-750D-45F5-BE5B-D4692CED95B0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٧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B23F-A931-4E5E-B503-A9992DD8F1D1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7923-F602-4E95-A7A5-F52A76EF5005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٧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EDD5-8DAF-46FA-A793-81FCC84334AB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5A91-D630-41AA-8040-F34361D2C467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٧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8337-5995-41C8-8E48-254C7C45A3A4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3" name="Content Placeholder 2"/>
          <p:cNvGrpSpPr/>
          <p:nvPr/>
        </p:nvGrpSpPr>
        <p:grpSpPr>
          <a:xfrm>
            <a:off x="444600" y="2236680"/>
            <a:ext cx="8254800" cy="4353120"/>
            <a:chOff x="444600" y="2236680"/>
            <a:chExt cx="8254800" cy="4353120"/>
          </a:xfrm>
        </p:grpSpPr>
        <p:pic>
          <p:nvPicPr>
            <p:cNvPr id="26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236680"/>
              <a:ext cx="825480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“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308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4520" y="4316400"/>
            <a:ext cx="30672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705200" y="4370400"/>
            <a:ext cx="373248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53880" y="4280040"/>
            <a:ext cx="3864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“small dose”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 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 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“cryoscopic method”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-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“cryoscopic method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”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www.arabswell.com</cp:lastModifiedBy>
  <dcterms:modified xsi:type="dcterms:W3CDTF">2014-04-01T08:18:47Z</dcterms:modified>
  <cp:revision>84</cp:revision>
  <dc:subject/>
  <dc:title>Isotonicity</dc:title>
</cp:coreProperties>
</file>