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1627C-6DD4-48A3-8989-B62B686C1205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en.wikipedia.org/wiki/Subcutaneous" TargetMode="External"/><Relationship Id="rId2" Type="http://schemas.openxmlformats.org/officeDocument/2006/relationships/hyperlink" Target="http://en.wikipedia.org/wiki/Saline_%28medicine%29" TargetMode="External"/><Relationship Id="rId3" Type="http://schemas.openxmlformats.org/officeDocument/2006/relationships/slide" Target="../slides/slide5.xml"/><Relationship Id="rId4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334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1B668-1577-410B-AC61-F2DE52378DB4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subcutaneous infusio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is the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subcutaneou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administration of fluids to the body. This would often be in the form of a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salin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or glucose s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4A2F5-91E6-415E-BE44-EFD3ABDBEA08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olligative propertie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are properties of solutions that depend on the number of molecules in a given volume of solvent and not on the properties (e.g. size or mass) of the molecule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A78DE-6C44-4C33-A1BA-E981C3DC0D9E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8E9C-5E43-40CF-9BF8-D7B54616B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035C-51A9-45C2-AD94-F0E35A5FB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5816-E06D-4EA9-B16D-3D5FD511F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1F1C-8556-4F56-9BE3-8867574C7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F40A8-BB4E-43AF-8338-729FEB7D9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988BC-3EA1-4E09-BC65-18A2D0073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D5A1E-64EC-46A6-B0CB-9117EE81E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0AF29-0DD9-47D0-AC71-7E1B654C2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1F1C5-3A8F-466E-B6D6-644FF08EF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AF2A1-D4E2-4804-87AE-6E29CC02C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FCD76-07D0-450D-918F-401897D38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35B7-1983-4A0A-8CBE-8033E4241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7F358-676C-4514-AE35-EC0BE95AD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B11A2-6B04-4FE9-9181-1CB0B0521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E7438-9A12-4012-9621-7DB3EE0AF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361B0-EC7B-4D68-B255-76014B30F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1B097-C26B-4D89-86FF-956A50D76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674FB9-9659-4CD2-9E10-4F4E553FD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ECD9E4-A837-4C11-AEA5-0B0611A55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EA72B3-E850-41D0-B0E1-EB859B4BE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D21A7D-0A0D-40A1-8C24-862C95FD6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D0E9A9-2D4B-4038-A245-8181B4864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0A74-0E8D-426A-83CB-BEC056D54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7DA9AE-F5E0-4909-83BE-24E4E5D52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8445A6-4E9A-4DC6-AF1A-0301CEE45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E421EE-9713-41F0-846D-98027FC86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A8ECA3-831C-4624-9EEE-71B6D6527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E13CC1-83F6-4B12-BF64-42642D9DE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BF6520-EEC4-4CBF-B490-D505B7687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FAAE62-58B5-4E22-B750-1E6BDED97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56E11C-E13A-4A5C-B384-07242136B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A2786E-D4E0-47FF-8068-F81D5968B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44C1B0-F732-4F49-88DF-FC25AF109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C090-E956-48DA-9C15-C50E057C0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8CFFC4-E421-4E97-BA96-C31E8FF10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177710-5216-437E-9C04-891A1B4D4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2B39B9-CB05-492B-8D92-D9DA79E3C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CB2118-E5CF-4532-9E19-80F1F526C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611DD1-4725-43A0-8133-53E3BC492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AB91EA-2D14-471A-AD32-B31B9E92E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C713A6-0C90-435F-8397-E25FCD519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236E8C-A3CF-43E6-B5B1-3F8145475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2B91CD-660B-40CA-BE06-ACCF3D4C3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99A4-F150-4F76-98C7-0A5F74D03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1470-3BBF-43A2-A2A2-4EDD7C3E2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9802-51F5-49E6-A1E0-7E46168AA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7606-1068-435E-9F1F-CE3385C77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26FA-DD7F-4F5C-9012-AC0102685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CAFB4-9A3B-4C5F-88AA-C80BB215FBE4}" type="datetime">
              <a:rPr b="0" lang="ar-SA" sz="800" spc="-1" strike="noStrike">
                <a:solidFill>
                  <a:srgbClr val="438086"/>
                </a:solidFill>
                <a:latin typeface="Georgia"/>
              </a:rPr>
              <a:t>١٤٤٨/٠٢/١٤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980D9-9065-41C0-B5A2-6EA21497B269}" type="slidenum">
              <a:rPr b="0" lang="ar-SA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5C8E3-007D-4B4E-8D6B-52B5F962105D}" type="datetime">
              <a:rPr b="0" lang="ar-SA" sz="800" spc="-1" strike="noStrike">
                <a:solidFill>
                  <a:srgbClr val="438086"/>
                </a:solidFill>
                <a:latin typeface="Georgia"/>
              </a:rPr>
              <a:t>١٤٤٨/٠٢/١٤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FA884-E9DD-4A16-880A-3A338B17C480}" type="slidenum">
              <a:rPr b="0" lang="ar-SA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09066-631D-497C-BA18-6E9C421F89A6}" type="datetime">
              <a:rPr b="0" lang="ar-SA" sz="800" spc="-1" strike="noStrike">
                <a:solidFill>
                  <a:srgbClr val="438086"/>
                </a:solidFill>
                <a:latin typeface="Georgia"/>
              </a:rPr>
              <a:t>١٤٤٨/٠٢/١٤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2725F-870A-4455-AEE2-06F89B95C946}" type="slidenum">
              <a:rPr b="0" lang="ar-SA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87E70-1930-41F5-A9AF-37F5C40778D0}" type="datetime">
              <a:rPr b="0" lang="ar-SA" sz="800" spc="-1" strike="noStrike">
                <a:solidFill>
                  <a:srgbClr val="438086"/>
                </a:solidFill>
                <a:latin typeface="Georgia"/>
              </a:rPr>
              <a:t>١٤٤٨/٠٢/١٤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43703-2D13-401E-8DA3-47C23FC7411A}" type="slidenum">
              <a:rPr b="0" lang="ar-SA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4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13840" y="178560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rebuchet MS"/>
              </a:rPr>
              <a:t>Isotonicity</a:t>
            </a: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7601040" y="4285800"/>
            <a:ext cx="1542960" cy="11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Georgia"/>
              </a:rPr>
              <a:t>PHT 434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229600" cy="1066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How to calculate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?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451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onc. gm/100 ml of adjusting substanc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= 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f.p.d of 1% of unadjusted substance(table) X percentage strength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 f.p.d of 1% of adjusting substance (table)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Object 6"/>
              <p:cNvSpPr txBox="1"/>
              <p:nvPr/>
            </p:nvSpPr>
            <p:spPr>
              <a:xfrm>
                <a:off x="2952720" y="2143080"/>
                <a:ext cx="3238560" cy="13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2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Object 8"/>
              <p:cNvSpPr txBox="1"/>
              <p:nvPr/>
            </p:nvSpPr>
            <p:spPr>
              <a:xfrm>
                <a:off x="285840" y="3714840"/>
                <a:ext cx="123516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Object 9"/>
              <p:cNvSpPr txBox="1"/>
              <p:nvPr/>
            </p:nvSpPr>
            <p:spPr>
              <a:xfrm>
                <a:off x="428760" y="4857840"/>
                <a:ext cx="85860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Object 10"/>
              <p:cNvSpPr txBox="1"/>
              <p:nvPr/>
            </p:nvSpPr>
            <p:spPr>
              <a:xfrm>
                <a:off x="500040" y="6000840"/>
                <a:ext cx="714240" cy="64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11" descr=""/>
          <p:cNvPicPr/>
          <p:nvPr/>
        </p:nvPicPr>
        <p:blipFill>
          <a:blip r:embed="rId1"/>
          <a:stretch/>
        </p:blipFill>
        <p:spPr>
          <a:xfrm>
            <a:off x="2500200" y="5857920"/>
            <a:ext cx="3181320" cy="100008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229600" cy="1066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Example I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857240"/>
            <a:ext cx="8229600" cy="47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How much NaCl is required to render 100 ml of a 1% soln. of apomorphin HCL isotonic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.p.d of 1%NaCl=0.58º, F.p.d of 1%drug=0.08º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1% drug                   0.08º   (0.52º- 0.08º=0.44º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1% NaCl                  0.58º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w% NaCl                 0.44º        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Object 3"/>
              <p:cNvSpPr txBox="1"/>
              <p:nvPr/>
            </p:nvSpPr>
            <p:spPr>
              <a:xfrm>
                <a:off x="770040" y="3500280"/>
                <a:ext cx="2388960" cy="98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2</m:t>
                        </m:r>
                        <m:r>
                          <m:t xml:space="preserve">º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Object 4"/>
              <p:cNvSpPr txBox="1"/>
              <p:nvPr/>
            </p:nvSpPr>
            <p:spPr>
              <a:xfrm>
                <a:off x="6573960" y="3770280"/>
                <a:ext cx="207000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6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Object 5"/>
              <p:cNvSpPr txBox="1"/>
              <p:nvPr/>
            </p:nvSpPr>
            <p:spPr>
              <a:xfrm>
                <a:off x="3270240" y="3500280"/>
                <a:ext cx="2962440" cy="98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2</m:t>
                        </m:r>
                        <m:r>
                          <m:t xml:space="preserve">º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8</m:t>
                        </m:r>
                        <m:r>
                          <m:t xml:space="preserve">º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8</m:t>
                        </m:r>
                        <m:r>
                          <m:t xml:space="preserve">º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6" name="Right Arrow 7"/>
          <p:cNvSpPr/>
          <p:nvPr/>
        </p:nvSpPr>
        <p:spPr>
          <a:xfrm>
            <a:off x="2428920" y="4714920"/>
            <a:ext cx="1000080" cy="28584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ight Arrow 8"/>
          <p:cNvSpPr/>
          <p:nvPr/>
        </p:nvSpPr>
        <p:spPr>
          <a:xfrm>
            <a:off x="2428920" y="5143680"/>
            <a:ext cx="1000080" cy="285480"/>
          </a:xfrm>
          <a:prstGeom prst="rightArrow">
            <a:avLst>
              <a:gd name="adj1" fmla="val 50000"/>
              <a:gd name="adj2" fmla="val 50050"/>
            </a:avLst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ight Arrow 9"/>
          <p:cNvSpPr/>
          <p:nvPr/>
        </p:nvSpPr>
        <p:spPr>
          <a:xfrm rot="10800000">
            <a:off x="2500200" y="5572080"/>
            <a:ext cx="1000080" cy="28584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9" name="Object 6"/>
              <p:cNvSpPr txBox="1"/>
              <p:nvPr/>
            </p:nvSpPr>
            <p:spPr>
              <a:xfrm>
                <a:off x="6500880" y="5214960"/>
                <a:ext cx="207000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6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60" name="Picture 8" descr=""/>
          <p:cNvPicPr/>
          <p:nvPr/>
        </p:nvPicPr>
        <p:blipFill>
          <a:blip r:embed="rId2"/>
          <a:stretch/>
        </p:blipFill>
        <p:spPr>
          <a:xfrm>
            <a:off x="5643720" y="5143680"/>
            <a:ext cx="761760" cy="157140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4" descr=""/>
          <p:cNvPicPr/>
          <p:nvPr/>
        </p:nvPicPr>
        <p:blipFill>
          <a:blip r:embed="rId3"/>
          <a:stretch/>
        </p:blipFill>
        <p:spPr>
          <a:xfrm>
            <a:off x="6415200" y="5715000"/>
            <a:ext cx="16570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229600" cy="1066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Example II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grpSp>
        <p:nvGrpSpPr>
          <p:cNvPr id="263" name="Content Placeholder 2"/>
          <p:cNvGrpSpPr/>
          <p:nvPr/>
        </p:nvGrpSpPr>
        <p:grpSpPr>
          <a:xfrm>
            <a:off x="444600" y="2236680"/>
            <a:ext cx="8254800" cy="4353120"/>
            <a:chOff x="444600" y="2236680"/>
            <a:chExt cx="8254800" cy="4353120"/>
          </a:xfrm>
        </p:grpSpPr>
        <p:pic>
          <p:nvPicPr>
            <p:cNvPr id="264" name="Content Placeholder 2" descr=""/>
            <p:cNvPicPr/>
            <p:nvPr/>
          </p:nvPicPr>
          <p:blipFill>
            <a:blip r:embed="rId1"/>
            <a:stretch/>
          </p:blipFill>
          <p:spPr>
            <a:xfrm>
              <a:off x="444600" y="2236680"/>
              <a:ext cx="825480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457200" y="2249640"/>
              <a:ext cx="8229600" cy="432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65040" indent="-255600">
                <a:lnSpc>
                  <a:spcPct val="100000"/>
                </a:lnSpc>
                <a:spcBef>
                  <a:spcPts val="300"/>
                </a:spcBef>
                <a:buClr>
                  <a:srgbClr val="a04da3"/>
                </a:buClr>
                <a:buFont typeface="Georgi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adjust isotonicity of procaine HCl 3% using NaCl ? Fpd of 1%NaCl=0.57º, f.p.d of 1% drug=0.112º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65040" indent="-255600">
                <a:lnSpc>
                  <a:spcPct val="100000"/>
                </a:lnSpc>
                <a:spcBef>
                  <a:spcPts val="300"/>
                </a:spcBef>
                <a:buClr>
                  <a:srgbClr val="a04da3"/>
                </a:buClr>
                <a:buFont typeface="Georgi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65040" indent="-255600">
                <a:lnSpc>
                  <a:spcPct val="100000"/>
                </a:lnSpc>
                <a:spcBef>
                  <a:spcPts val="300"/>
                </a:spcBef>
                <a:buClr>
                  <a:srgbClr val="a04da3"/>
                </a:buClr>
                <a:buFont typeface="Georgi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65040" indent="-25560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66" name="Object 2"/>
              <p:cNvSpPr txBox="1"/>
              <p:nvPr/>
            </p:nvSpPr>
            <p:spPr>
              <a:xfrm>
                <a:off x="2952720" y="3432240"/>
                <a:ext cx="2548080" cy="106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2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" name="Object 3"/>
              <p:cNvSpPr txBox="1"/>
              <p:nvPr/>
            </p:nvSpPr>
            <p:spPr>
              <a:xfrm>
                <a:off x="3000240" y="4689360"/>
                <a:ext cx="2286000" cy="102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2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12</m:t>
                    </m:r>
                    <m:r>
                      <m:t xml:space="preserve">∗</m:t>
                    </m:r>
                    <m:r>
                      <m:t xml:space="preserve">3</m:t>
                    </m:r>
                    <m:r>
                      <m:t xml:space="preserve">)</m:t>
                    </m:r>
                    <m:eqArr>
                      <m:e>
                        <m:f>
                          <m:num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76</m:t>
                            </m:r>
                          </m:num>
                          <m:den/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Object 4"/>
              <p:cNvSpPr txBox="1"/>
              <p:nvPr/>
            </p:nvSpPr>
            <p:spPr>
              <a:xfrm>
                <a:off x="1285920" y="5857920"/>
                <a:ext cx="585792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g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ml</m:t>
                    </m:r>
                    <m:acc>
                      <m:accPr>
                        <m:chr m:val="⃗"/>
                      </m:accPr>
                      <m:e/>
                    </m:acc>
                    <m:r>
                      <m:rPr>
                        <m:lit/>
                        <m:nor/>
                      </m:rPr>
                      <m:t xml:space="preserve">NaCl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229600" cy="1066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2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-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NaCl equivalent method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NaCl equivalent “E”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Amount of NaCl that is equivalent to(i.e., has the same osmotic effect (same f.p.d) as ) 1 gm of drug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eorgia"/>
              </a:rPr>
              <a:t>st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calculate  E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eorgia"/>
              </a:rPr>
              <a:t>NaCl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eorgi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add NaCl to reach 0.9%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600" cy="1069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How to calculate E</a:t>
            </a:r>
            <a:r>
              <a:rPr b="0" lang="en-US" sz="4000" spc="-1" strike="noStrike" baseline="-25000">
                <a:solidFill>
                  <a:srgbClr val="424456"/>
                </a:solidFill>
                <a:latin typeface="Trebuchet MS"/>
              </a:rPr>
              <a:t>NaCl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 ?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2" name="Object 2"/>
              <p:cNvSpPr txBox="1"/>
              <p:nvPr/>
            </p:nvSpPr>
            <p:spPr>
              <a:xfrm>
                <a:off x="214200" y="2714760"/>
                <a:ext cx="391500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T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rug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so</m:t>
                        </m:r>
                      </m:sub>
                    </m:sSub>
                    <m:r>
                      <m:t xml:space="preserve">x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wt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rug</m:t>
                            </m:r>
                          </m:sub>
                        </m:sSub>
                      </m:num>
                      <m:den>
                        <m:r>
                          <m:t xml:space="preserve">M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wt 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rug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x V 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rug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" name="Object 3"/>
              <p:cNvSpPr txBox="1"/>
              <p:nvPr/>
            </p:nvSpPr>
            <p:spPr>
              <a:xfrm>
                <a:off x="4789440" y="2714760"/>
                <a:ext cx="3879720" cy="85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T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aCl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so</m:t>
                            </m:r>
                          </m:e>
                          <m:sub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NaCl</m:t>
                            </m:r>
                            <m:r>
                              <m:t xml:space="preserve">)</m:t>
                            </m:r>
                          </m:sub>
                        </m:sSub>
                      </m:sub>
                    </m:sSub>
                    <m:r>
                      <m:t xml:space="preserve">x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wt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aCl</m:t>
                            </m:r>
                          </m:sub>
                        </m:sSub>
                      </m:num>
                      <m:den>
                        <m:r>
                          <m:t xml:space="preserve">M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wt 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aCl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x V 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aCl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" name="Object 4"/>
              <p:cNvSpPr txBox="1"/>
              <p:nvPr/>
            </p:nvSpPr>
            <p:spPr>
              <a:xfrm>
                <a:off x="4857840" y="3857760"/>
                <a:ext cx="3790800" cy="72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so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aCl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x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wt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Cl</m:t>
                            </m:r>
                          </m:sub>
                        </m:sSub>
                      </m:num>
                      <m:den>
                        <m:r>
                          <m:t xml:space="preserve">M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wt 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Cl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x V 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Cl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" name="Object 5"/>
              <p:cNvSpPr txBox="1"/>
              <p:nvPr/>
            </p:nvSpPr>
            <p:spPr>
              <a:xfrm>
                <a:off x="6788160" y="4799160"/>
                <a:ext cx="199872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wt 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aCl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6" name="TextBox 11"/>
          <p:cNvSpPr/>
          <p:nvPr/>
        </p:nvSpPr>
        <p:spPr>
          <a:xfrm>
            <a:off x="4286160" y="3857760"/>
            <a:ext cx="28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Georgia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7" name="Object 6"/>
              <p:cNvSpPr txBox="1"/>
              <p:nvPr/>
            </p:nvSpPr>
            <p:spPr>
              <a:xfrm>
                <a:off x="3146400" y="5821200"/>
                <a:ext cx="2298600" cy="9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aC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iso</m:t>
                                </m:r>
                              </m:e>
                              <m:sub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rug</m:t>
                                </m:r>
                                <m:r>
                                  <m:t xml:space="preserve">)</m:t>
                                </m:r>
                              </m:sub>
                            </m:sSub>
                          </m:sub>
                        </m:sSub>
                      </m:num>
                      <m:den>
                        <m:r>
                          <m:t xml:space="preserve">M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wt 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rug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" name="Object 7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" name="Object 8"/>
              <p:cNvSpPr txBox="1"/>
              <p:nvPr/>
            </p:nvSpPr>
            <p:spPr>
              <a:xfrm>
                <a:off x="3929040" y="2286000"/>
                <a:ext cx="12873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Tf</m:t>
                    </m:r>
                    <m:r>
                      <m:t xml:space="preserve">=</m:t>
                    </m:r>
                    <m:r>
                      <m:t xml:space="preserve">L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Object 10"/>
              <p:cNvSpPr txBox="1"/>
              <p:nvPr/>
            </p:nvSpPr>
            <p:spPr>
              <a:xfrm>
                <a:off x="1171440" y="4786200"/>
                <a:ext cx="175752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wt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rug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g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1" name="Object 11"/>
              <p:cNvSpPr txBox="1"/>
              <p:nvPr/>
            </p:nvSpPr>
            <p:spPr>
              <a:xfrm>
                <a:off x="4856040" y="4786200"/>
                <a:ext cx="16448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wt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aCl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aCl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Object 12"/>
              <p:cNvSpPr txBox="1"/>
              <p:nvPr/>
            </p:nvSpPr>
            <p:spPr>
              <a:xfrm>
                <a:off x="6786720" y="5357880"/>
                <a:ext cx="19238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so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NaCL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Object 13"/>
              <p:cNvSpPr txBox="1"/>
              <p:nvPr/>
            </p:nvSpPr>
            <p:spPr>
              <a:xfrm>
                <a:off x="368280" y="3825720"/>
                <a:ext cx="362592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so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drug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x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wt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rug</m:t>
                            </m:r>
                          </m:sub>
                        </m:sSub>
                      </m:num>
                      <m:den>
                        <m:r>
                          <m:t xml:space="preserve">M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wt 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rug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x V 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rug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600" cy="1069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How to calculate amount of NaCl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5" name="Object 2"/>
              <p:cNvSpPr txBox="1"/>
              <p:nvPr/>
            </p:nvSpPr>
            <p:spPr>
              <a:xfrm>
                <a:off x="500040" y="3071880"/>
                <a:ext cx="8228160" cy="224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>
                        <m:r>
                          <m:t xml:space="preserve">w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weight of NaCl in gm per 100 ml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o make solution isotonic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d</m:t>
                        </m:r>
                        <m:r>
                          <m:rPr>
                            <m:lit/>
                            <m:nor/>
                          </m:rPr>
                          <m:t xml:space="preserve">rug%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weight of drug in gm per 100 ml</m:t>
                        </m:r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aCl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aCl equivalent weight to 1gm of drug</m:t>
                        </m:r>
                      </m:e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isotonic solution of NaC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" name="Object 4"/>
              <p:cNvSpPr txBox="1"/>
              <p:nvPr/>
            </p:nvSpPr>
            <p:spPr>
              <a:xfrm>
                <a:off x="1808280" y="2571840"/>
                <a:ext cx="430992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 drug%</m:t>
                    </m:r>
                    <m:r>
                      <m:t xml:space="preserve">×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aCl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229600" cy="1066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Example I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 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00040" y="18572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alculate 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eorgia"/>
              </a:rPr>
              <a:t>NaCl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of drug (M.wt=187, 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eorgia"/>
              </a:rPr>
              <a:t>iso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=3.4)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How much NaCl needed to make 2% of this drug isotonic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eorgia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9" name="Object 2"/>
              <p:cNvSpPr txBox="1"/>
              <p:nvPr/>
            </p:nvSpPr>
            <p:spPr>
              <a:xfrm>
                <a:off x="5072040" y="2928960"/>
                <a:ext cx="192096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aC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</m:t>
                    </m:r>
                    <m:r>
                      <m:rPr>
                        <m:lit/>
                        <m:nor/>
                      </m:rPr>
                      <m:t xml:space="preserve">g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Object 3"/>
              <p:cNvSpPr txBox="1"/>
              <p:nvPr/>
            </p:nvSpPr>
            <p:spPr>
              <a:xfrm>
                <a:off x="2071800" y="2643120"/>
                <a:ext cx="2298600" cy="9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aC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iso</m:t>
                                </m:r>
                              </m:e>
                              <m:sub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rug</m:t>
                                </m:r>
                                <m:r>
                                  <m:t xml:space="preserve">)</m:t>
                                </m:r>
                              </m:sub>
                            </m:sSub>
                          </m:sub>
                        </m:sSub>
                      </m:num>
                      <m:den>
                        <m:r>
                          <m:t xml:space="preserve">M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wt 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rug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Object 4"/>
              <p:cNvSpPr txBox="1"/>
              <p:nvPr/>
            </p:nvSpPr>
            <p:spPr>
              <a:xfrm>
                <a:off x="857160" y="4714920"/>
                <a:ext cx="348948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</m:t>
                    </m:r>
                    <m:r>
                      <m:rPr>
                        <m:lit/>
                        <m:nor/>
                      </m:rPr>
                      <m:t xml:space="preserve">gm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NaCl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gm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drug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2" name="Object 5"/>
              <p:cNvSpPr txBox="1"/>
              <p:nvPr/>
            </p:nvSpPr>
            <p:spPr>
              <a:xfrm>
                <a:off x="857160" y="5572080"/>
                <a:ext cx="336240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2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8</m:t>
                    </m:r>
                    <m:r>
                      <m:rPr>
                        <m:lit/>
                        <m:nor/>
                      </m:rPr>
                      <m:t xml:space="preserve">gm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NaCl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3" name="Right Arrow 7"/>
          <p:cNvSpPr/>
          <p:nvPr/>
        </p:nvSpPr>
        <p:spPr>
          <a:xfrm>
            <a:off x="4500720" y="4786200"/>
            <a:ext cx="357120" cy="214560"/>
          </a:xfrm>
          <a:prstGeom prst="rightArrow">
            <a:avLst>
              <a:gd name="adj1" fmla="val 50000"/>
              <a:gd name="adj2" fmla="val 49933"/>
            </a:avLst>
          </a:prstGeom>
          <a:solidFill>
            <a:srgbClr val="00000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4" name="Object 6"/>
              <p:cNvSpPr txBox="1"/>
              <p:nvPr/>
            </p:nvSpPr>
            <p:spPr>
              <a:xfrm>
                <a:off x="5033880" y="4714920"/>
                <a:ext cx="356544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2</m:t>
                    </m:r>
                    <m:r>
                      <m:rPr>
                        <m:lit/>
                        <m:nor/>
                      </m:rPr>
                      <m:t xml:space="preserve">gm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NaCl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gm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drug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95" name="Picture 8" descr=""/>
          <p:cNvPicPr/>
          <p:nvPr/>
        </p:nvPicPr>
        <p:blipFill>
          <a:blip r:embed="rId1"/>
          <a:stretch/>
        </p:blipFill>
        <p:spPr>
          <a:xfrm>
            <a:off x="7643880" y="5214960"/>
            <a:ext cx="761760" cy="157176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7" descr=""/>
          <p:cNvPicPr/>
          <p:nvPr/>
        </p:nvPicPr>
        <p:blipFill>
          <a:blip r:embed="rId2"/>
          <a:stretch/>
        </p:blipFill>
        <p:spPr>
          <a:xfrm>
            <a:off x="4643280" y="5357880"/>
            <a:ext cx="288612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229600" cy="1066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Example II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alculate amount of NaCl needed to adjust 1.5% Atropine 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eorgia"/>
              </a:rPr>
              <a:t>4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(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eorgia"/>
              </a:rPr>
              <a:t>NaCl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=0.12gm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=0.9 –(W x E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= 0.9 –(1.5x 0.12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= 0.72 gm of NaCl should be added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99" name="Picture 8" descr=""/>
          <p:cNvPicPr/>
          <p:nvPr/>
        </p:nvPicPr>
        <p:blipFill>
          <a:blip r:embed="rId1"/>
          <a:stretch/>
        </p:blipFill>
        <p:spPr>
          <a:xfrm>
            <a:off x="5572080" y="4857840"/>
            <a:ext cx="762120" cy="157140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3" descr=""/>
          <p:cNvPicPr/>
          <p:nvPr/>
        </p:nvPicPr>
        <p:blipFill>
          <a:blip r:embed="rId2"/>
          <a:stretch/>
        </p:blipFill>
        <p:spPr>
          <a:xfrm>
            <a:off x="2071800" y="4929120"/>
            <a:ext cx="3341520" cy="150012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4" descr=""/>
          <p:cNvPicPr/>
          <p:nvPr/>
        </p:nvPicPr>
        <p:blipFill>
          <a:blip r:embed="rId3"/>
          <a:stretch/>
        </p:blipFill>
        <p:spPr>
          <a:xfrm>
            <a:off x="6343560" y="4929120"/>
            <a:ext cx="165744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229600" cy="1066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3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-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White – Vincent method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rinciple: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1</a:t>
            </a:r>
            <a:r>
              <a:rPr b="0" lang="en-US" sz="2600" spc="-1" strike="noStrike" baseline="30000">
                <a:solidFill>
                  <a:srgbClr val="438086"/>
                </a:solidFill>
                <a:latin typeface="Georgia"/>
              </a:rPr>
              <a:t>st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 Addition of H2O to drug to make it isotonic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2</a:t>
            </a:r>
            <a:r>
              <a:rPr b="0" lang="en-US" sz="2600" spc="-1" strike="noStrike" baseline="30000">
                <a:solidFill>
                  <a:srgbClr val="438086"/>
                </a:solidFill>
                <a:latin typeface="Georgia"/>
              </a:rPr>
              <a:t>nd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 addition of isotonic vehicle to bring solution to final volume 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229600" cy="1066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How to calculate amount of H</a:t>
            </a:r>
            <a:r>
              <a:rPr b="0" lang="en-US" sz="4000" spc="-1" strike="noStrike" baseline="-25000">
                <a:solidFill>
                  <a:srgbClr val="424456"/>
                </a:solidFill>
                <a:latin typeface="Trebuchet MS"/>
              </a:rPr>
              <a:t>2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O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 ?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uppose preparing 30ml of 1% drug isotonic with body fluid(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eorgia"/>
              </a:rPr>
              <a:t>NaCl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=0.16gm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1gm                       100m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?                             30ml        =0.3gm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mount of NaCl eq. to 0.3 drug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= 0.3 x 0.16 =0.048gm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0.9 gm                         100 m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0.048 gm                      ? ml   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=5.3 ml 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06" name="Picture 2" descr=""/>
          <p:cNvPicPr/>
          <p:nvPr/>
        </p:nvPicPr>
        <p:blipFill>
          <a:blip r:embed="rId1"/>
          <a:stretch/>
        </p:blipFill>
        <p:spPr>
          <a:xfrm>
            <a:off x="8072280" y="4734000"/>
            <a:ext cx="928800" cy="212400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4" descr=""/>
          <p:cNvPicPr/>
          <p:nvPr/>
        </p:nvPicPr>
        <p:blipFill>
          <a:blip r:embed="rId2"/>
          <a:stretch/>
        </p:blipFill>
        <p:spPr>
          <a:xfrm>
            <a:off x="7639200" y="3643200"/>
            <a:ext cx="1504800" cy="1152720"/>
          </a:xfrm>
          <a:prstGeom prst="rect">
            <a:avLst/>
          </a:prstGeom>
          <a:ln w="0">
            <a:noFill/>
          </a:ln>
        </p:spPr>
      </p:pic>
      <p:sp>
        <p:nvSpPr>
          <p:cNvPr id="308" name="Right Arrow 6"/>
          <p:cNvSpPr/>
          <p:nvPr/>
        </p:nvSpPr>
        <p:spPr>
          <a:xfrm>
            <a:off x="2071800" y="3357720"/>
            <a:ext cx="1357200" cy="214200"/>
          </a:xfrm>
          <a:prstGeom prst="rightArrow">
            <a:avLst>
              <a:gd name="adj1" fmla="val 50000"/>
              <a:gd name="adj2" fmla="val 50014"/>
            </a:avLst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ight Arrow 7"/>
          <p:cNvSpPr/>
          <p:nvPr/>
        </p:nvSpPr>
        <p:spPr>
          <a:xfrm rot="10800000">
            <a:off x="1999800" y="3786120"/>
            <a:ext cx="1357560" cy="214560"/>
          </a:xfrm>
          <a:prstGeom prst="rightArrow">
            <a:avLst>
              <a:gd name="adj1" fmla="val 50000"/>
              <a:gd name="adj2" fmla="val 49944"/>
            </a:avLst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ight Arrow 8"/>
          <p:cNvSpPr/>
          <p:nvPr/>
        </p:nvSpPr>
        <p:spPr>
          <a:xfrm>
            <a:off x="2428920" y="5214960"/>
            <a:ext cx="1357200" cy="214200"/>
          </a:xfrm>
          <a:prstGeom prst="rightArrow">
            <a:avLst>
              <a:gd name="adj1" fmla="val 50000"/>
              <a:gd name="adj2" fmla="val 50014"/>
            </a:avLst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ight Arrow 9"/>
          <p:cNvSpPr/>
          <p:nvPr/>
        </p:nvSpPr>
        <p:spPr>
          <a:xfrm>
            <a:off x="2571840" y="5643720"/>
            <a:ext cx="1357200" cy="214200"/>
          </a:xfrm>
          <a:prstGeom prst="rightArrow">
            <a:avLst>
              <a:gd name="adj1" fmla="val 50000"/>
              <a:gd name="adj2" fmla="val 50014"/>
            </a:avLst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11"/>
          <p:cNvSpPr/>
          <p:nvPr/>
        </p:nvSpPr>
        <p:spPr>
          <a:xfrm>
            <a:off x="5357880" y="3643200"/>
            <a:ext cx="1285920" cy="500040"/>
          </a:xfrm>
          <a:prstGeom prst="rect">
            <a:avLst/>
          </a:prstGeom>
          <a:noFill/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12"/>
          <p:cNvSpPr/>
          <p:nvPr/>
        </p:nvSpPr>
        <p:spPr>
          <a:xfrm>
            <a:off x="928800" y="6000840"/>
            <a:ext cx="1285920" cy="500040"/>
          </a:xfrm>
          <a:prstGeom prst="rect">
            <a:avLst/>
          </a:prstGeom>
          <a:noFill/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Picture 8" descr=""/>
          <p:cNvPicPr/>
          <p:nvPr/>
        </p:nvPicPr>
        <p:blipFill>
          <a:blip r:embed="rId3"/>
          <a:stretch/>
        </p:blipFill>
        <p:spPr>
          <a:xfrm>
            <a:off x="5286240" y="5219640"/>
            <a:ext cx="264816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229600" cy="1066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osmosi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Georgia"/>
              </a:rPr>
              <a:t>Osmosis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 is the diffusion of solvent through a semi-permeable membrane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Water always flows from lower solute concentration [dilute solution] to higher solute concentration until a balance is produced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eorgia"/>
              </a:rPr>
              <a:t>Osmotic pressure</a:t>
            </a:r>
            <a:r>
              <a:rPr b="1" lang="en-US" sz="26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is the force that cause this diffusion 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eorgia"/>
              </a:rPr>
              <a:t>Tonicity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 is a measure of the                                     osmotic pressure of two solutions                       separated by a semi-permeable                                 membrane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5" name="Picture 3" descr=""/>
          <p:cNvPicPr/>
          <p:nvPr/>
        </p:nvPicPr>
        <p:blipFill>
          <a:blip r:embed="rId1"/>
          <a:stretch/>
        </p:blipFill>
        <p:spPr>
          <a:xfrm>
            <a:off x="5924520" y="4316400"/>
            <a:ext cx="3067200" cy="25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229600" cy="1066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One step equation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                  </a:t>
            </a: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V :      volume of H</a:t>
            </a:r>
            <a:r>
              <a:rPr b="0" lang="en-US" sz="2400" spc="-1" strike="noStrike" baseline="-25000">
                <a:solidFill>
                  <a:srgbClr val="53548a"/>
                </a:solidFill>
                <a:latin typeface="Georgia"/>
              </a:rPr>
              <a:t>2</a:t>
            </a: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O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                  </a:t>
            </a: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W:      weight of drug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                  </a:t>
            </a: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111.1= 100/0.9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Last exampl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7" name="Object 2"/>
              <p:cNvSpPr txBox="1"/>
              <p:nvPr/>
            </p:nvSpPr>
            <p:spPr>
              <a:xfrm>
                <a:off x="2357280" y="2428920"/>
                <a:ext cx="330840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w</m:t>
                    </m:r>
                    <m:r>
                      <m:t xml:space="preserve">×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aCl</m:t>
                        </m:r>
                      </m:sub>
                    </m:sSub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1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" name="Object 3"/>
              <p:cNvSpPr txBox="1"/>
              <p:nvPr/>
            </p:nvSpPr>
            <p:spPr>
              <a:xfrm>
                <a:off x="2214720" y="5429160"/>
                <a:ext cx="337644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×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1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" name="Object 4"/>
              <p:cNvSpPr txBox="1"/>
              <p:nvPr/>
            </p:nvSpPr>
            <p:spPr>
              <a:xfrm>
                <a:off x="3143160" y="6143760"/>
                <a:ext cx="16210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ml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066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424456"/>
                </a:solidFill>
                <a:latin typeface="Trebuchet MS"/>
                <a:ea typeface="Tahoma"/>
              </a:rPr>
              <a:t>     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II</a:t>
            </a:r>
            <a:r>
              <a:rPr b="0" lang="ar-SA" sz="4000" spc="-1" strike="noStrike">
                <a:solidFill>
                  <a:srgbClr val="424456"/>
                </a:solidFill>
                <a:latin typeface="Trebuchet MS"/>
                <a:ea typeface="Tahoma"/>
              </a:rPr>
              <a:t> 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exampl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28760" y="1214280"/>
            <a:ext cx="814392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dd volume of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eorgi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O and then complete with isotonic solut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  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Phenacaine HCl                   0.06 gm  (E</a:t>
            </a:r>
            <a:r>
              <a:rPr b="0" lang="en-US" sz="2600" spc="-1" strike="noStrike" baseline="-25000">
                <a:solidFill>
                  <a:srgbClr val="438086"/>
                </a:solidFill>
                <a:latin typeface="Georgia"/>
              </a:rPr>
              <a:t>NaCl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=0.16)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  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Boric acid                              0.3 gm     (E</a:t>
            </a:r>
            <a:r>
              <a:rPr b="0" lang="en-US" sz="2600" spc="-1" strike="noStrike" baseline="-25000">
                <a:solidFill>
                  <a:srgbClr val="438086"/>
                </a:solidFill>
                <a:latin typeface="Georgia"/>
              </a:rPr>
              <a:t>NaCl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=0.5)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  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sterile distilled H</a:t>
            </a:r>
            <a:r>
              <a:rPr b="0" lang="en-US" sz="2600" spc="-1" strike="noStrike" baseline="-25000">
                <a:solidFill>
                  <a:srgbClr val="438086"/>
                </a:solidFill>
                <a:latin typeface="Georgia"/>
              </a:rPr>
              <a:t>2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O up to    100 ml 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V = 111.1 x(weight x 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eorgia"/>
              </a:rPr>
              <a:t>NaCl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V =111.1 x [(0.06x0.16)+(0.3x0.5)] = 17.7 ml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eorgi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Rectangle 3"/>
          <p:cNvSpPr/>
          <p:nvPr/>
        </p:nvSpPr>
        <p:spPr>
          <a:xfrm>
            <a:off x="785880" y="1714680"/>
            <a:ext cx="7429320" cy="2143080"/>
          </a:xfrm>
          <a:prstGeom prst="rect">
            <a:avLst/>
          </a:prstGeom>
          <a:noFill/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8" descr=""/>
          <p:cNvPicPr/>
          <p:nvPr/>
        </p:nvPicPr>
        <p:blipFill>
          <a:blip r:embed="rId1"/>
          <a:stretch/>
        </p:blipFill>
        <p:spPr>
          <a:xfrm>
            <a:off x="6858000" y="5143680"/>
            <a:ext cx="762120" cy="15714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2" descr=""/>
          <p:cNvPicPr/>
          <p:nvPr/>
        </p:nvPicPr>
        <p:blipFill>
          <a:blip r:embed="rId2"/>
          <a:stretch/>
        </p:blipFill>
        <p:spPr>
          <a:xfrm>
            <a:off x="785880" y="5072040"/>
            <a:ext cx="6143400" cy="150012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4" descr=""/>
          <p:cNvPicPr/>
          <p:nvPr/>
        </p:nvPicPr>
        <p:blipFill>
          <a:blip r:embed="rId3"/>
          <a:stretch/>
        </p:blipFill>
        <p:spPr>
          <a:xfrm>
            <a:off x="7486560" y="4786200"/>
            <a:ext cx="165744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0040" y="928800"/>
            <a:ext cx="8229600" cy="6429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424456"/>
                </a:solidFill>
                <a:latin typeface="Trebuchet MS"/>
              </a:rPr>
              <a:t>Types of Tonicity</a:t>
            </a:r>
            <a:br>
              <a:rPr sz="3600"/>
            </a:b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27" name="Picture 2" descr=""/>
          <p:cNvPicPr/>
          <p:nvPr/>
        </p:nvPicPr>
        <p:blipFill>
          <a:blip r:embed="rId1"/>
          <a:stretch/>
        </p:blipFill>
        <p:spPr>
          <a:xfrm>
            <a:off x="4705200" y="4370400"/>
            <a:ext cx="3732480" cy="2494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8" name=""/>
          <p:cNvGraphicFramePr/>
          <p:nvPr/>
        </p:nvGraphicFramePr>
        <p:xfrm>
          <a:off x="1357200" y="1785960"/>
          <a:ext cx="6786720" cy="2620800"/>
        </p:xfrm>
        <a:graphic>
          <a:graphicData uri="http://schemas.openxmlformats.org/drawingml/2006/table">
            <a:tbl>
              <a:tblPr/>
              <a:tblGrid>
                <a:gridCol w="2262240"/>
                <a:gridCol w="2262240"/>
                <a:gridCol w="22622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Georgia"/>
                        </a:rPr>
                        <a:t>Hypoton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Georgia"/>
                        </a:rPr>
                        <a:t>isoton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Georgia"/>
                        </a:rPr>
                        <a:t>Hyperton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NaCl 0.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NaCl 0.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NaCl 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160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solute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</a:t>
                      </a:r>
                      <a:r>
                        <a:rPr b="0" lang="en-US" sz="6000" spc="-1" strike="noStrike" baseline="-15000">
                          <a:solidFill>
                            <a:srgbClr val="000000"/>
                          </a:solidFill>
                          <a:latin typeface="Georgia"/>
                        </a:rPr>
                        <a:t>›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solu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Inside     outs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solute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</a:t>
                      </a:r>
                      <a:r>
                        <a:rPr b="0" lang="en-US" sz="6000" spc="-1" strike="noStrike" baseline="-15000">
                          <a:solidFill>
                            <a:srgbClr val="000000"/>
                          </a:solidFill>
                          <a:latin typeface="Georgia"/>
                        </a:rPr>
                        <a:t>=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solu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Inside     outs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solute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</a:t>
                      </a:r>
                      <a:r>
                        <a:rPr b="0" lang="en-US" sz="6000" spc="-1" strike="noStrike" baseline="-15000">
                          <a:solidFill>
                            <a:srgbClr val="000000"/>
                          </a:solidFill>
                          <a:latin typeface="Georgia"/>
                        </a:rPr>
                        <a:t>‹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solu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Inside     outs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swell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equilibr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shrink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</a:tbl>
          </a:graphicData>
        </a:graphic>
      </p:graphicFrame>
      <p:pic>
        <p:nvPicPr>
          <p:cNvPr id="229" name="Picture 2" descr=""/>
          <p:cNvPicPr/>
          <p:nvPr/>
        </p:nvPicPr>
        <p:blipFill>
          <a:blip r:embed="rId2"/>
          <a:stretch/>
        </p:blipFill>
        <p:spPr>
          <a:xfrm>
            <a:off x="353880" y="4280040"/>
            <a:ext cx="386424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600" cy="1069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Why using isotonic solutions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?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31" name="Picture 5" descr="SDXTMPPPT01.emf"/>
          <p:cNvPicPr/>
          <p:nvPr/>
        </p:nvPicPr>
        <p:blipFill>
          <a:blip r:embed="rId1"/>
          <a:stretch/>
        </p:blipFill>
        <p:spPr>
          <a:xfrm>
            <a:off x="457200" y="2286000"/>
            <a:ext cx="832968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71320" y="609120"/>
            <a:ext cx="8143560" cy="1143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Isotonicity &amp; route of administration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93560" indent="-49356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ubcu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taneous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injection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1048320" indent="-493560">
              <a:lnSpc>
                <a:spcPct val="9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548a"/>
                </a:solidFill>
                <a:latin typeface="Georgia"/>
              </a:rPr>
              <a:t>not necessarily “small dose” but isotonicity reduce pain.</a:t>
            </a:r>
            <a:endParaRPr b="0" lang="en-US" sz="2000" spc="-1" strike="noStrike">
              <a:solidFill>
                <a:srgbClr val="53548a"/>
              </a:solidFill>
              <a:latin typeface="Georgia"/>
            </a:endParaRPr>
          </a:p>
          <a:p>
            <a:pPr marL="493560" indent="-49356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Hypodermoclysis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lvl="2" marL="1048320" indent="-493560">
              <a:lnSpc>
                <a:spcPct val="9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548a"/>
                </a:solidFill>
                <a:latin typeface="Georgia"/>
              </a:rPr>
              <a:t>should be isotonic “Large volume”</a:t>
            </a:r>
            <a:endParaRPr b="0" lang="en-US" sz="2000" spc="-1" strike="noStrike">
              <a:solidFill>
                <a:srgbClr val="53548a"/>
              </a:solidFill>
              <a:latin typeface="Georgia"/>
            </a:endParaRPr>
          </a:p>
          <a:p>
            <a:pPr marL="493560" indent="-49356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Intramuscular injection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lvl="2" marL="1048320" indent="-493560">
              <a:lnSpc>
                <a:spcPct val="9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548a"/>
                </a:solidFill>
                <a:latin typeface="Georgia"/>
              </a:rPr>
              <a:t>should be isotonic or slightly hypertonic  to increase  penetration</a:t>
            </a:r>
            <a:endParaRPr b="0" lang="en-US" sz="2000" spc="-1" strike="noStrike">
              <a:solidFill>
                <a:srgbClr val="53548a"/>
              </a:solidFill>
              <a:latin typeface="Georgia"/>
            </a:endParaRPr>
          </a:p>
          <a:p>
            <a:pPr marL="493560" indent="-49356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Intravenous injection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lvl="2" marL="1048320" indent="-493560">
              <a:lnSpc>
                <a:spcPct val="9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548a"/>
                </a:solidFill>
                <a:latin typeface="Georgia"/>
              </a:rPr>
              <a:t>should be isotonic “Large volume ”</a:t>
            </a:r>
            <a:endParaRPr b="0" lang="en-US" sz="2000" spc="-1" strike="noStrike">
              <a:solidFill>
                <a:srgbClr val="53548a"/>
              </a:solidFill>
              <a:latin typeface="Georgia"/>
            </a:endParaRPr>
          </a:p>
          <a:p>
            <a:pPr lvl="2" marL="1048320" indent="-493560">
              <a:lnSpc>
                <a:spcPct val="9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548a"/>
                </a:solidFill>
                <a:latin typeface="Georgia"/>
              </a:rPr>
              <a:t>Hypotonic cause haemolysis</a:t>
            </a:r>
            <a:endParaRPr b="0" lang="en-US" sz="2000" spc="-1" strike="noStrike">
              <a:solidFill>
                <a:srgbClr val="53548a"/>
              </a:solidFill>
              <a:latin typeface="Georgia"/>
            </a:endParaRPr>
          </a:p>
          <a:p>
            <a:pPr lvl="2" marL="1048320" indent="-493560">
              <a:lnSpc>
                <a:spcPct val="9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548a"/>
                </a:solidFill>
                <a:latin typeface="Georgia"/>
              </a:rPr>
              <a:t>Hypertonic solution may be administered slowly into a vein</a:t>
            </a:r>
            <a:endParaRPr b="0" lang="en-US" sz="2000" spc="-1" strike="noStrike">
              <a:solidFill>
                <a:srgbClr val="53548a"/>
              </a:solidFill>
              <a:latin typeface="Georgia"/>
            </a:endParaRPr>
          </a:p>
          <a:p>
            <a:pPr lvl="2" marL="1048320" indent="-493560">
              <a:lnSpc>
                <a:spcPct val="9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548a"/>
                </a:solidFill>
                <a:latin typeface="Georgia"/>
              </a:rPr>
              <a:t>Hypertonic large volume administered through a cannula into large vessels.</a:t>
            </a:r>
            <a:endParaRPr b="0" lang="en-US" sz="2000" spc="-1" strike="noStrike">
              <a:solidFill>
                <a:srgbClr val="53548a"/>
              </a:solidFill>
              <a:latin typeface="Georgia"/>
            </a:endParaRPr>
          </a:p>
          <a:p>
            <a:pPr marL="493560" indent="-49356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85840" y="609120"/>
            <a:ext cx="8501040" cy="1143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Isotonicity &amp; route of administration </a:t>
            </a:r>
            <a:r>
              <a:rPr b="0" lang="en-US" sz="2400" spc="-1" strike="noStrike">
                <a:solidFill>
                  <a:srgbClr val="424456"/>
                </a:solidFill>
                <a:latin typeface="Trebuchet MS"/>
              </a:rPr>
              <a:t>cont</a:t>
            </a:r>
            <a:r>
              <a:rPr b="0" lang="en-US" sz="2400" spc="-1" strike="noStrike">
                <a:solidFill>
                  <a:srgbClr val="424456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ntrathecal inject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374840" indent="-51444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3548a"/>
                </a:solidFill>
                <a:latin typeface="Georgia"/>
              </a:rPr>
              <a:t>Should be isotonic</a:t>
            </a:r>
            <a:endParaRPr b="0" lang="en-US" sz="2200" spc="-1" strike="noStrike">
              <a:solidFill>
                <a:srgbClr val="53548a"/>
              </a:solidFill>
              <a:latin typeface="Georgia"/>
            </a:endParaRPr>
          </a:p>
          <a:p>
            <a:pPr marL="514440" indent="-5144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Eye drop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374840" indent="-51444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3548a"/>
                </a:solidFill>
                <a:latin typeface="Georgia"/>
              </a:rPr>
              <a:t>Rapid diluted by tear, but most of it is isotonic to decrease irritation</a:t>
            </a:r>
            <a:endParaRPr b="0" lang="en-US" sz="2200" spc="-1" strike="noStrike">
              <a:solidFill>
                <a:srgbClr val="53548a"/>
              </a:solidFill>
              <a:latin typeface="Georgia"/>
            </a:endParaRPr>
          </a:p>
          <a:p>
            <a:pPr marL="514440" indent="-5144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Eye lotion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374840" indent="-51444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3548a"/>
                </a:solidFill>
                <a:latin typeface="Georgia"/>
              </a:rPr>
              <a:t>Preferably isotonic</a:t>
            </a:r>
            <a:endParaRPr b="0" lang="en-US" sz="2200" spc="-1" strike="noStrike">
              <a:solidFill>
                <a:srgbClr val="53548a"/>
              </a:solidFill>
              <a:latin typeface="Georgia"/>
            </a:endParaRPr>
          </a:p>
          <a:p>
            <a:pPr marL="514440" indent="-5144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Nasal drop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374840" indent="-51444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3548a"/>
                </a:solidFill>
                <a:latin typeface="Georgia"/>
              </a:rPr>
              <a:t>Isotonic, but not essentially</a:t>
            </a:r>
            <a:endParaRPr b="0" lang="en-US" sz="2200" spc="-1" strike="noStrike">
              <a:solidFill>
                <a:srgbClr val="53548a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57120" y="609120"/>
            <a:ext cx="8072640" cy="1143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Classes of adjustment of isotonicity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Georgia"/>
              </a:rPr>
              <a:t>Class I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806400" indent="-514440">
              <a:spcBef>
                <a:spcPts val="300"/>
              </a:spcBef>
              <a:buClr>
                <a:srgbClr val="43808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Adding substace  to lower f.p of solution to -0.52º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806400" indent="-514440">
              <a:spcBef>
                <a:spcPts val="300"/>
              </a:spcBef>
              <a:buClr>
                <a:srgbClr val="438086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Freezing point depression (FPD) “cryoscopic method”.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806400" indent="-514440">
              <a:spcBef>
                <a:spcPts val="300"/>
              </a:spcBef>
              <a:buClr>
                <a:srgbClr val="438086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NaCL equivalent method.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514440" indent="-5144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Georgia"/>
              </a:rPr>
              <a:t>Class II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806400" indent="-514440">
              <a:spcBef>
                <a:spcPts val="300"/>
              </a:spcBef>
              <a:buClr>
                <a:srgbClr val="43808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Adding H2O 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806400" indent="-514440">
              <a:spcBef>
                <a:spcPts val="300"/>
              </a:spcBef>
              <a:buClr>
                <a:srgbClr val="438086"/>
              </a:buClr>
              <a:buFont typeface="Georgi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White –Vincent method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229600" cy="1066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Freezing point depression (f.p.d)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reezing Poin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eorgia"/>
              </a:rPr>
              <a:t>solution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= Freezing Poin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eorgia"/>
              </a:rPr>
              <a:t>solvent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- Δ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eorgia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Δ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eorgia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=L c       L : constant ,   c : conc.(molarity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t is 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Colligative property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438086"/>
                </a:solidFill>
                <a:latin typeface="Georgia"/>
              </a:rPr>
              <a:t>Depend on concetration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438086"/>
                </a:solidFill>
                <a:latin typeface="Georgia"/>
              </a:rPr>
              <a:t>same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f.p.d             same conc.             same tonicity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0.9% NaCl is isotonic i.e.  F.p.d = -0.52º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Right Arrow 3"/>
          <p:cNvSpPr/>
          <p:nvPr/>
        </p:nvSpPr>
        <p:spPr>
          <a:xfrm>
            <a:off x="2928960" y="4286160"/>
            <a:ext cx="857160" cy="14292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ight Arrow 4"/>
          <p:cNvSpPr/>
          <p:nvPr/>
        </p:nvSpPr>
        <p:spPr>
          <a:xfrm>
            <a:off x="5572080" y="4286160"/>
            <a:ext cx="785880" cy="14292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229600" cy="1066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1</a:t>
            </a: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- </a:t>
            </a: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Freezing point depression (FPD) “cryoscopic method</a:t>
            </a: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”.</a:t>
            </a:r>
            <a:br>
              <a:rPr sz="3600"/>
            </a:b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500040" y="1857240"/>
            <a:ext cx="814392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.P. of blood &amp; tears = - 0.52º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ny solution have F.P. = - 0.52º is isotonic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ny solution have F.P. </a:t>
            </a:r>
            <a:r>
              <a:rPr b="0" lang="en-US" sz="4000" spc="-1" strike="noStrike">
                <a:solidFill>
                  <a:srgbClr val="000000"/>
                </a:solidFill>
                <a:latin typeface="Georgia"/>
              </a:rPr>
              <a:t>›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- 0.52º is hypotonic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- 0.4º hypotonic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-0.6º  hypertonic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dd solute to hypotonic solution to reach f.p.d of blood (- 0.52º 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5T20:04:28Z</dcterms:created>
  <dc:creator>M.Tayel</dc:creator>
  <dc:description/>
  <dc:language>en-US</dc:language>
  <cp:lastModifiedBy>www.arabswell.com</cp:lastModifiedBy>
  <dcterms:modified xsi:type="dcterms:W3CDTF">2014-04-01T08:18:47Z</dcterms:modified>
  <cp:revision>84</cp:revision>
  <dc:subject/>
  <dc:title>Isotonicity</dc:title>
</cp:coreProperties>
</file>