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16E4-AD1B-4284-BD58-F3DB16336FF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4ABC-0CEB-43FF-B162-1E2851CC981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Boring: process of enlarging a hole that has already been drilled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Tapping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cutting internal threads in a round hole with a multi-point t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BDEA-CAFD-495F-9BE4-1942876A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0A69-AFC0-4805-A119-118FA5DC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5F8E1-8913-490E-9B8C-CD429726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4BE88-9EA2-4263-877C-98CDC28F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CDE09-A5E8-4097-A718-55390286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5A705-EE04-4CCB-BA9E-2550F36C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01DEA-6FC7-4370-B87F-5A8504E8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3A6C8-D9C8-40D5-A29F-B36B1226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D76AB-DB4A-4D6C-9C7A-474382AD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E4B5C-A3DF-4D3A-9864-A623D4F6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ED7F8-4038-4F7E-877A-2CC956D4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F9B8-723E-4857-B788-521AD914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9C3D-326C-45F3-9759-D83C91F2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DB25-D609-4050-807D-C44F1C6B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E7B4-F8E3-497B-8D06-0C16F93F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32D7-71C3-4A79-8418-20EA5C74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A0AE-DD40-4401-81FD-A60CE32D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D4D7-9A4B-45AF-AF4A-B14EF3D0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879F-741B-4BBC-970C-38D142A6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CF97-290A-4D7C-9D77-87084F5A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0E29-7DFA-4381-88BE-FA687E38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C489-2791-4519-9136-8759FE84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5D36-873A-4F7E-AB09-D4E9FE10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E66C-6A06-4C74-A69B-DFD2651E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A27A-297E-48E4-8578-0DDB9414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7686-9A7D-49A4-91B0-2A6B960B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21F8C9-B28A-49D6-826C-0F9DC25E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359DEF-FF27-49A3-A955-9D9D5245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8E1D37-4E49-463A-A409-1D6529DF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9519F0-B84A-4C09-8565-2DBB7A8E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A7C0FB-3E66-4A53-B4F7-8BCFE733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2894-09E9-47F6-A466-BE1D07FF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DC3F41-9880-4017-A23D-17177444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902963-5CB7-4C7C-8746-3859CCD7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C4A0B7-E822-46A5-91A6-A3AA620C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A37174-3DA0-4EB4-B277-6F20242C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3F791A-7009-497B-8E1C-D9B34F2D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B38DDF-5369-438E-85E1-3EF65875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D7D51-E62A-4957-B7BA-AC1D47CC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F618C1-566A-4FC2-A462-C85B9156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503B81-F586-453D-9F7F-D54B9199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09BBF9-6FFD-4AA7-BEC1-39DA8948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BC7B-C652-4AE6-880D-4E21B3E1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A948FF-60B2-4194-A51D-7C8EC051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9E1BC7-A61A-4277-B7AE-4847CD38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8687E3-6BAB-419C-8DE9-36D0D1A2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8C6E73-5A75-4CD5-8D35-680DF619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72F948-98FD-431E-816D-661F8770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DB3A57-4DDD-41D7-B98A-19873910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761D17-DB69-4B4F-B27D-0DF8190A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590E2E-1A16-453D-8F48-143D571B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6D823C-2593-4B5E-85D1-05F8B608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8CDD74-3808-40DA-90AA-A4A059BF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6150-FECB-4A53-A3B9-A9E2F53C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725C30-F990-4A61-AFB1-1D8533A5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4AEFD1-B14B-4C11-AB0B-3ADB88DA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02776-2235-407F-8398-6391C11E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CF5F62-6BFD-4077-9E58-38D71028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934FD9-DAED-42E4-86A1-F9014FF1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2454A9-69BD-41BD-B4F2-17EF596A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4644EB-4C84-4F64-AA0D-8CDF7560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C3C5EB-D12A-4967-B006-F5F8F4E5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F68271-7E8A-42DD-8E55-C6D2EC4B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9EDD57-EABC-47CB-A5B8-2E015833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F3BE-A10D-43CB-9FB3-8F71F67B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D1EB80-30A8-4828-AE69-6EE1C5DC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25292-50EF-4199-BA61-236E1E4F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FEC85-A8AE-4DD2-B5C9-6A6348C5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FDD55-A88C-4D2B-9215-2E483719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CAE7E-1E1A-4E87-A16B-05C77332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654FD-DE12-4834-A38B-6F149A8F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B2971-019F-46B9-B919-4310CFC6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FBE53-59F0-41BC-9D21-C0CC62D7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787E0-7F44-43E2-A3F9-E4B48C01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E8D7B-E5D0-466B-9AAA-9046941B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F4FF-AEC3-40D5-85F2-A670E583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E569D-EB5D-40AC-8F0B-B93D311A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D6E1D-E9B1-4916-BCA6-F4F14A44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4679A-8405-497E-A57F-F26F7C8D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1CD94-C561-41C9-A4B7-76181FC9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DB9E5-C012-4DD6-B4AC-4251B92C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91728-F590-4E1B-8A6A-1433F848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130FA-950E-4E92-AF2B-E059A24F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2BC3A-7AF7-4463-AB74-E85F8B2C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AA788-315B-4085-978E-5A2EF26C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F8752-A168-4E6C-88FB-2499E45E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3228-23A8-4343-8A86-68786471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BE9C7-DB92-4CC5-9DEF-1A9F690A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5C428-C461-49B5-9135-BFED77CE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0D600-CE55-48AD-90A3-5462DDEA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B70D4-DF70-403C-BAD1-A44EBEE0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AFFEB-8C4D-422B-9394-ABA81149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523FDB-9DEE-43FC-BCDB-114979A9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E46B1C-74BD-456E-9451-83911EA5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B0D665-2C3C-46E9-B722-D65FB6AB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CD8E5C-A922-4092-98A7-C11E06D7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4DC036-769D-4672-B0E0-817407FA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28F7-F7C4-462A-AFE0-6ACB4E0D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8B2049-CB36-4CA8-9800-CCC4EF1B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100C56-F37C-4412-8A23-4527300C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14F55A-C8A9-446A-9368-3908DF78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B89CFF-202C-4D28-AFB5-0EC2F14C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53D7F7-2EF9-4E7F-9E3B-C7655D82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9F4C55-59A1-4135-B50D-6D9C6AFF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CD6487-6487-4BFE-930A-28BA4A18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EF9F2-AB24-455F-91BE-55B92093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C069E-C8D9-400C-B882-DB4B26AD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03E9A-B6E9-4571-BD28-61D8D90F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E866-C1BF-416A-A4BE-1CF7D3B6E6E1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8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7F88E35F-FD86-46FD-A5FB-404FC73E1269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21:4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ED99-F9A3-4479-9DD8-849361E8E197}" type="slidenum">
              <a:rPr b="1" lang="en-US" sz="12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2E35-CB65-4B7C-B438-479A61A61C12}" type="datetime">
              <a:rPr b="0" lang="en-US" sz="2000" spc="-1" strike="noStrike">
                <a:solidFill>
                  <a:srgbClr val="ffffff"/>
                </a:solidFill>
                <a:latin typeface="Tw Cen MT"/>
                <a:ea typeface="SimSun"/>
              </a:rPr>
              <a:t>07/28/26</a:t>
            </a:fld>
            <a:r>
              <a:rPr b="0" lang="en-US" sz="2000" spc="-1" strike="noStrike">
                <a:solidFill>
                  <a:srgbClr val="ffffff"/>
                </a:solidFill>
                <a:latin typeface="Tw Cen MT"/>
                <a:ea typeface="SimSun"/>
              </a:rPr>
              <a:t> </a:t>
            </a:r>
            <a:fld id="{8350CEF3-D095-414C-81D3-0A739DCF3264}" type="datetime10">
              <a:rPr b="0" lang="en-US" sz="2000" spc="-1" strike="noStrike">
                <a:solidFill>
                  <a:srgbClr val="ffffff"/>
                </a:solidFill>
                <a:latin typeface="Tw Cen MT"/>
                <a:ea typeface="SimSun"/>
              </a:rPr>
              <a:t>21:44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7197-157F-4B8B-BEE1-CF64C23BD9A6}" type="slidenum">
              <a:rPr b="1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0B2A-AF33-4160-8223-E1F06025F086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8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F116D8E8-D32A-4553-86D0-7A2B02F0F367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21:4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550C-51BA-4B59-8F1F-2BA0AD755E1C}" type="slidenum">
              <a:rPr b="1" lang="en-US" sz="2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4349-65A1-4997-AE07-90B4BCD205EA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8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68936C75-18E1-454B-A1FB-2DEECF052404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21:4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5E8F-A413-4362-A04B-F593FD286F71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7EE6-1E9F-4F3D-9273-A2918155FBAF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8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E8270046-521B-4973-AE9E-BE37BFEA488E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21:4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B5D6-A408-4235-B8CC-19E90F1A60B4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BE55-D6C9-43D9-9743-A73DF6895C94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8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780311A2-AB28-4008-AEE0-95A9ABAA6CCB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21:4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E347-5317-4EFF-859A-FC08D8F73B24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A614-8D9C-4F3D-A6C9-F0574D9CD97A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8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3956AC23-161F-4F1C-9B66-F4610BE7AFD2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21:4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3878-BCB2-4D57-A8D5-26811BDCE702}" type="slidenum">
              <a:rPr b="1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9477-8449-43C2-8683-0E097E7CB0C4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8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6BE95E52-C307-4AFE-84C9-CC7F08F46839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21:4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2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EF50-7A63-4B7E-A96A-F08591AEB66D}" type="slidenum">
              <a:rPr b="1" lang="en-US" sz="28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70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spcBef>
                <a:spcPts val="700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spcBef>
                <a:spcPts val="700"/>
              </a:spcBef>
              <a:buClr>
                <a:srgbClr val="a04da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c465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E022-8F08-4BF5-803A-9C2FF801F5FC}" type="datetime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07/28/26</a:t>
            </a:fld>
            <a:r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 </a:t>
            </a:r>
            <a:fld id="{695C652D-00CC-4992-AFA2-CA455B608055}" type="datetime10">
              <a:rPr b="0" lang="en-US" sz="1400" spc="-1" strike="noStrike">
                <a:solidFill>
                  <a:srgbClr val="424456"/>
                </a:solidFill>
                <a:latin typeface="Tw Cen MT"/>
                <a:ea typeface="SimSun"/>
              </a:rPr>
              <a:t>21:4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24456"/>
                </a:solidFill>
                <a:latin typeface="Tw Cen MT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8FD7-106A-4421-AEBF-1C185F56243D}" type="slidenum">
              <a:rPr b="1" lang="en-US" sz="1200" spc="-1" strike="noStrike">
                <a:solidFill>
                  <a:srgbClr val="424456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3809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e3f68"/>
                </a:solidFill>
                <a:latin typeface="Tw Cen MT"/>
                <a:ea typeface="SimSun"/>
              </a:rPr>
              <a:t>Manual Process Planning</a:t>
            </a:r>
            <a:endParaRPr b="0" lang="en-US" sz="3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02" name="Rectangle 1"/>
          <p:cNvSpPr/>
          <p:nvPr/>
        </p:nvSpPr>
        <p:spPr>
          <a:xfrm>
            <a:off x="0" y="198108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e3f68"/>
                </a:solidFill>
                <a:latin typeface="Tw Cen MT"/>
                <a:ea typeface="SimSun"/>
              </a:rPr>
              <a:t>Manufacturing Processes (2), IE-35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e3f68"/>
                </a:solidFill>
                <a:latin typeface="Tw Cen MT"/>
                <a:ea typeface="SimSun"/>
              </a:rPr>
              <a:t>Ahmed M El-Sherbeeny, Ph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e3f68"/>
                </a:solidFill>
                <a:latin typeface="Tw Cen MT"/>
                <a:ea typeface="SimSun"/>
              </a:rPr>
              <a:t>Spring 201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 Pla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level of details in the plan depends on the ap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: a proces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 Pl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-pl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): description of an oper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cludes tools, machines to be used, process parameters, machining time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-plan sequenc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: Summary of a process pla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C965-A2C9-44BA-9991-0F2356AF00C7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24456"/>
                </a:solidFill>
                <a:latin typeface="Tw Cen MT"/>
                <a:ea typeface="SimSun"/>
              </a:rPr>
              <a:t>Process Plan:</a:t>
            </a:r>
            <a:br>
              <a:rPr sz="2900"/>
            </a:br>
            <a:r>
              <a:rPr b="1" lang="en-US" sz="2900" spc="-1" strike="noStrike">
                <a:solidFill>
                  <a:srgbClr val="424456"/>
                </a:solidFill>
                <a:latin typeface="Tw Cen MT"/>
                <a:ea typeface="SimSun"/>
              </a:rPr>
              <a:t>Examples of Process Plans</a:t>
            </a:r>
            <a:endParaRPr b="0" lang="en-US" sz="29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35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1074-5239-4CE9-980F-453078E6EAD7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457200" y="1474920"/>
            <a:ext cx="8305920" cy="538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 wide variety of manufacturing processes are used to produce a work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se processes can be classifi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ast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orming and shap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Join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nishing 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A02A-9700-4940-8453-BCCA416D45C4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achining proc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rill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drilling, countering, countersinking, deep-hole drill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Bor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app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ill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face milling, end mi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ur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facing, straight turning, taper turning, part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rea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1B57-38B3-42B8-A1C6-2478B744DBB3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eatures that must be considered in selecting machining processe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art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equired dimensional and geometric accuracy and tolera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equired surface finis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vailable resources, including NC machines and cutting too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9D00-C65A-4D26-97B9-8C5B739C58A2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art fea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istinctive geometric form or shape to be produced from raw materi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t determines process type, tool types (shapes and size), machine requirements (3-, 4-, or 5-axis), and tool pa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wo types of part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Basic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simple forms/shapes that require only one machining 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clude holes, slots, pockets, shoulders, profiles, and 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mpound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consist of two or more basic part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e.g. the combined result of two holes with different di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B4B5-2325-48D4-B468-A3A4871B1D6C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Example: Machining Processes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lect the machining processes for the part shown in the figure given in the next s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ssume required dimensional accuracy and surface roughness are within process capability of drilling and milling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four sides of the raw material have been pre-machined to required dimen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F743-BA8F-4FEC-BE2A-4C872FD3F8B7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Example: Machining Processes Selection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D482-EFBA-4DBB-98E4-FE58B945F8CE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Object 2"/>
          <p:cNvGraphicFramePr/>
          <p:nvPr/>
        </p:nvGraphicFramePr>
        <p:xfrm>
          <a:off x="304920" y="2209680"/>
          <a:ext cx="84898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4898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art Features Identification and Processes Selection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Example: Machining Processes Selection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op flat surfac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uter profil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ree ho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ecommended machining processes for feature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ce-milling: the top surfac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ough-milling: the outer pro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nish-milling: the outer pro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enter-drilling: the three hol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rilling: the three ho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C5AC-1F3A-4DB4-AEAB-3F12D7FDAE4C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quence of operations determined by three consid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atum surfaces should be machined first if multiple work-holding setup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f possible, datum surfaces should be pre-machined in manually operated machine to facilitate workpiece locating and clamp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n cases where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2 holding setups are required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rough datum surfaces are preprocessed in a manually operated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n used as setup references to produce finished datum surfaces for the final work-ho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is ensures the accuracy of the finished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F9DA-FA18-4513-8E4C-D63B9C2AC064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Chapter Outline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127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1" action="ppaction://hlinksldjump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2" action="ppaction://hlinksldjump"/>
              </a:rPr>
              <a:t>Manual Process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3" action="ppaction://hlinksldjump"/>
              </a:rPr>
              <a:t>Process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4" action="ppaction://hlinksldjump"/>
              </a:rPr>
              <a:t>Part Features Identification and Processes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afbd"/>
                </a:solidFill>
                <a:uFillTx/>
                <a:latin typeface="Arial"/>
                <a:ea typeface="SimSun"/>
                <a:hlinkClick r:id="rId5" action="ppaction://hlinksldjump"/>
              </a:rPr>
              <a:t>Processes Seque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259E-82A4-4B77-8D80-610DA3BE52BF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quence of operations determined by 3 considerations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urfaces with larger area have prece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Larger surfaces tend to be more adaptable to disturbances resulting from machining operation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eature interference should be avoi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eature interference occurs when machining of one feature destroys a requirement for the production of other fea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is happens when there is interaction or dependency between machining oper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69DD-E982-48D9-8C39-168EC508BF48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figure shown in the next slide is a workpiece in which some features are inter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workpiece has five basic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 through slot in side 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wo angle strips (strip 1, strip 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wo through holes on strip 1 that are perpendicular to side 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mpound features are two tapped holes perpendicular to strip 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 the process sequence for producing the p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745E-024E-43B7-BF5E-7354FB906D36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 (cont.)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7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4D9D-C234-4994-B53D-38B51D63BA21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Object 1"/>
          <p:cNvGraphicFramePr/>
          <p:nvPr/>
        </p:nvGraphicFramePr>
        <p:xfrm>
          <a:off x="1143000" y="1600200"/>
          <a:ext cx="7162920" cy="51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16292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 (cont.)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raw material is cut from a block stock with dimensions: 6.25 x 4.25 x 2.25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tudying the part features reve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2 through holes on strip 1 interact with the formation of angle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lot in sid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interacts with the cutting of angle </a:t>
            </a:r>
            <a:r>
              <a:rPr b="0" lang="el-GR" sz="2100" spc="-1" strike="noStrike">
                <a:solidFill>
                  <a:srgbClr val="000000"/>
                </a:solidFill>
                <a:latin typeface="Cambria Math"/>
                <a:ea typeface="Cambria Math"/>
              </a:rPr>
              <a:t>β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achining angle strip 1 fir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difficulty in drilling 2 h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2 holes must be produced before angle strip 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ikewise, making angle strip 2 fir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difficulty in setting up workpiece to produce the through s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e slot has to be machined before angle strip 2 is mad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B18C-7E56-482B-8459-5BF4A6BA0DCA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Processes Sequencing:</a:t>
            </a:r>
            <a:br>
              <a:rPr sz="4000"/>
            </a:br>
            <a:r>
              <a:rPr b="1" lang="en-US" sz="4000" spc="-1" strike="noStrike">
                <a:solidFill>
                  <a:srgbClr val="424456"/>
                </a:solidFill>
                <a:latin typeface="Tw Cen MT"/>
                <a:ea typeface="SimSun"/>
              </a:rPr>
              <a:t>Example (cont.)</a:t>
            </a:r>
            <a:endParaRPr b="0" lang="en-US" sz="40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ecommended processes sequence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 machining si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side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lso drilling two holes on Sid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side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lso cutting the slot in sid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utting angle strip 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rilling two tap holes and tapping the two hol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et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for cutting angle stri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2C3D-E4A2-4160-AD8E-42CDEFF60FCE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6959-AA88-4098-AFD8-36B2D3B3DB42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Object 1"/>
          <p:cNvGraphicFramePr/>
          <p:nvPr/>
        </p:nvGraphicFramePr>
        <p:xfrm>
          <a:off x="1905120" y="52560"/>
          <a:ext cx="5181480" cy="68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52560"/>
                    <a:ext cx="518148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Introductio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仿宋"/>
              </a:rPr>
              <a:t>Process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Know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nufacturing plan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terial process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 engineer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e rou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ct of preparing detailed work instructions to produce a par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t’s a function within the manufacturing facility (see figure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establishes processes and parameters used to convert part from initial form to final for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edetermined in an engineering draw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erson who develops process plan: often called process plann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0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418A-D85D-45E5-B88F-9CF6DAFA0B00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4200480" y="1892160"/>
            <a:ext cx="4791240" cy="237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Introductio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unctions included in process pla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aw material prepar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es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 sequenc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ing parameter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ool path plan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e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xture sel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1177-0685-4C9A-B754-F07ACF9F0E33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Introductio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ctors Affecting Process Plan Sel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hap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olera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urface finis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iz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terial typ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Quanti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Value of the produ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Urgenc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nufacturing system itsel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wo approaches to carry out task of process pla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nual Process Plan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mputer Aided Process Planning (CAPP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7F06-1B21-46AB-99F4-5823A6275BD3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Manual Process Plann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cess planner must have following knowled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bility to interpret an engineering draw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miliarity with manufacturing processes and practi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miliarity with tooling and fix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Know what resources are available in the sho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Know how to use reference books (e.g. machinability data handbook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bility to do computations on machining time and cos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amiliarity with raw materia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2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4B10-F275-4F56-86F4-706C4A10F196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Manual Process Plann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ome necessary steps to prepare a process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tudy overall shape of part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 identify features, all critical dimens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oroughly study the drawing; try to identify all manufacturing features and no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etermine best raw material shape to use if raw stock not giv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Identify datum surfaces; Use information on datum surfaces to determine the setup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elect machines for each setup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Determine rough sequence of operations necessary to create all the features for each setu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A03C-1E62-480A-96B1-A8E35EE281EA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Manual Process Planning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nt. Some necessary steps to prepare a process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equence the operations determined in the previous step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8720" indent="-4572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Check whether there is any interference or dependency between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8720" indent="-4572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Use this information to modify the sequence of oper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elect tools for each operatio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8720" indent="-4572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ry to use the same tool for several operations if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8720" indent="-457200">
              <a:lnSpc>
                <a:spcPct val="100000"/>
              </a:lnSpc>
              <a:spcBef>
                <a:spcPts val="499"/>
              </a:spcBef>
              <a:buClr>
                <a:srgbClr val="438086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Keep in mind the trade-off on tool-change time and estimated machining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elect or design fixtures for each setup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Evaluate the plan generated and make necessary modification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45720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8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Select cutting parameters for each operatio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8B74-4D2E-4309-826C-E952089AE5FC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4456"/>
                </a:solidFill>
                <a:latin typeface="Tw Cen MT"/>
                <a:ea typeface="SimSun"/>
              </a:rPr>
              <a:t>Process Plan</a:t>
            </a:r>
            <a:endParaRPr b="0" lang="en-US" sz="4400" spc="-1" strike="noStrike">
              <a:solidFill>
                <a:srgbClr val="424456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523520"/>
            <a:ext cx="845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cess Plan AKA (among other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 shee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oute shee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operation planning summar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43808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tailed plan contai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rou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process paramet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chine and tool sele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53548a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fixtu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Picture 10" descr="MCj0442150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228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E269-D56D-4DB9-BF01-522ECDF222CA}" type="slidenum">
              <a:rPr b="1" lang="en-US" sz="1200" spc="-1" strike="noStrike">
                <a:solidFill>
                  <a:srgbClr val="ffffff"/>
                </a:solidFill>
                <a:latin typeface="Tw Cen MT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20:01:56Z</dcterms:created>
  <dc:creator/>
  <dc:description/>
  <dc:language>en-US</dc:language>
  <cp:lastModifiedBy/>
  <dcterms:modified xsi:type="dcterms:W3CDTF">2017-04-30T22:16:43Z</dcterms:modified>
  <cp:revision>268</cp:revision>
  <dc:subject/>
  <dc:title>PRESENTATION TITLE PRESENTATION SUB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811033</vt:lpwstr>
  </property>
</Properties>
</file>