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EEE9-8A41-424D-B8E6-5489B27C11D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5DF7-AAF4-48A7-9559-DBC7736545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Boring: process of enlarging a hole that has already been drilled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apping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cutting internal threads in a round hole with a multi-point t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0EE-F685-4765-BE74-A5E1598F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7CE-8112-4850-8363-3E45DA10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6E53A-3322-42F0-85F3-6866FE9C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767DF-B001-439A-9584-DD5C498D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48D95-06D9-4B57-BE2C-42810ABA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7D670-0D9B-470B-87C9-0D87EC99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3E040-07B8-43E7-AE36-A5AD4A56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44E90-7795-4749-B407-EC8CA351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2B431-BC48-4250-BD15-73AAE1BD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4FEF4-1971-4490-B638-0818D517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BABF8-60C4-4273-B074-DA5E8BFA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EE3-1EC2-4C48-84E2-8D912023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6857-93F6-49DD-9715-A9E07F1D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E301-D855-4228-ABB0-D9B25D8F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1EC6-82B7-498F-8E56-58A9D225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6346-B5BC-4A6B-BFB8-9E69670C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C619-CC64-4D1B-803D-9AE9DF9B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4B20-3B1A-4B79-8091-029B23F9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91C1-011E-444E-8894-A83BB21A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7F57-9D17-4341-AA6B-2B3E66A0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774-DDBC-4821-957C-DFDAB9A9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7A19-AC7E-45D5-92DD-2669AFE3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F489-46A5-45BF-AC58-3842D261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56AD-7F04-430D-A299-DB493C67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EE33-529D-4D16-B5A4-4DC00C62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AE8F-92B3-4371-B635-7EAB7D7E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02102-6576-40DC-AB5F-3579326D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7ECB9-A64A-4345-B27C-FBB0A1DF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EDE08-6C6E-442A-B310-C15FB28F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EFD5E-C911-4EF3-9F31-39384421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D0513-FCAF-4468-99DC-01E14563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E28-E95E-49D4-89CB-17AFA050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82F63-F19B-4292-8C1E-37EB20E1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EB10A-63A4-4BBC-BEAB-A1B4857C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6DF22-7D20-45BE-A1BF-64E9001B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38E0F-EB1F-4E75-9BD5-00FDD827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0BD98-8A1A-4A1B-B202-69E61E7B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AE5E0-B8B9-4FD3-B593-BBA5E82F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217F5-F86B-4B54-B9E7-60725A06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B19A8-DBD7-4C28-90C3-0E41E907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C50175-4658-4D9C-8EBD-A89BFFE9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2DDF4E-A3C7-4D8D-9AF3-8DA74581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1D2-C6A2-45F6-BEB7-2558C4FB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6EB25-2E3C-4CB6-98A4-A794D690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9BA46F-84F5-42D3-9E86-2A7AA007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58AC9-E820-4262-8213-20A412F2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19EEFE-B1EB-4CE2-9E83-4D50225C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7C6E08-B12A-4507-8800-5E4B2FA0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3BD485-44A8-41E5-9ECE-8EB6C358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CCAFD-C562-46F8-BB76-FD592CA6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3BAB93-4BF8-4F23-9C1E-D01ED7AA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0860B6-3B83-49A4-9F29-10519579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8D06B-79F1-4DF7-8531-90B205DA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7D5-901A-40C1-83E4-5FA99F16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5BD56-F1A2-4DB5-9FD9-09FBBD79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8AC8F-4F68-440C-B59C-40B0B3DD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C67683-2BD0-4AA5-85FE-73BC3EF9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053428-F0B5-4F0E-B70D-EA57F094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C2F071-3A66-480A-8D48-7B9BA34E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1E506-5788-44EA-A303-99A9650D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F871A-9A71-477C-B286-1897C09D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DC365-324B-4382-AB3F-D35933C1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D3FEC-9871-4F0B-B4FC-0085BF1D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F246D-63E6-42CF-A382-A9CDE008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038-CCD5-4A75-A84D-89310473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AA47E-0CD2-4026-9BDF-E2AD499D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858AC-1016-48B5-80CE-70C5B79F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862AE-054A-4D21-BDE0-C29B841E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FDE7C-3FC6-4C64-8958-FA483F80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B8EF5-BFE9-4F55-AF3C-AD3692AF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F5991-4F82-40B9-917A-CF26A61D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31E97-910D-4E5D-87EB-21342E8E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90C12-194A-46E2-8080-1D43CED5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61F39-89B6-4755-AE8F-D9759222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D2CEC-8776-45D8-8FF3-4EDA1414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D3B-8E58-4C14-9251-50330483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1B3ED-33F1-4940-B280-08B0C909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2B0EE-5D39-494B-B7D9-EE794F46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F1F81-C72E-4368-B485-2EF9C69C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2EE73-0723-47AD-B216-40C64169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495E8-BE34-44EC-B941-D9BCAF48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7DDBF-3010-41EB-B88A-3488ED1F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863F5-DA73-46CD-AA1E-6C9C1CC0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AADA3-CF0F-44C6-B54B-38D722C9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41532-32BB-4003-8FB2-22DD5085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8EE6A-EF1B-4DC6-A5F5-3AC0ECBA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432-2F33-44BD-B32B-00745F9F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2638E-4258-4235-8FB7-52E628A3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B8DDD-0A1E-445F-865F-F4B40E88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53EFE-E5CD-4E37-97C2-E4B312F7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B313E-F6AE-441E-908A-6A6F62E3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5F71E-9FA9-45CD-8370-903E55F7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260B03-311F-42FA-ADBD-BE093340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4AF261-B8FA-4560-BF86-11E9E240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9EA07B-C581-4329-B1A7-1E40BD3C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1FD2F4-4B97-483C-8EAB-C312E434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95BE8C-4152-4EA6-817C-D8E58CD2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ACF-803D-4DE0-AEA5-318E1A9E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4FF6A0-7E38-46D0-AE8B-B108732A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8D4846-E115-497B-B508-EDC1C0CE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047430-897C-48B7-9043-BCCC67E9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8D4B92-4B9E-4D7F-9548-75A5188C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B39FD4-0F1F-4B8A-BD6F-194D31DC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6C38D8-50B2-47F2-8A00-91F70EC0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656E62-7498-4251-A696-13125B3C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602A3-51E9-4097-A3BB-1352BB87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1A414-EA1A-442D-A5A5-E8458F9D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B7ADA-8BD4-4E3E-8C52-28A02AB1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A5AF-6D5F-467E-B299-2BF8DC24D995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1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0D65DA48-2170-4DEC-A380-8796ADD6497D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0: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5CE0-1E4E-44EC-ADBB-FBC52A756B62}" type="slidenum">
              <a:rPr b="1" lang="en-US" sz="12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FB7A-DB2B-4AA3-BC6D-28F2C70243E6}" type="datetime"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07/31/26</a:t>
            </a:fld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 </a:t>
            </a:r>
            <a:fld id="{7384E0A0-639C-42A8-99C7-E22BD26CD552}" type="datetime10"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00:28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5DFD-B442-4C3A-A7DE-D6EEB1FF75DD}" type="slidenum">
              <a:rPr b="1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5662-A545-4C0A-BE2C-25C5AD968B7C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1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678232F7-89E9-4A9E-B26A-CE7A5FB54267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0: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BD9B-B199-4191-A9A1-1A87C42782A9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6329-54F0-4B9D-BCF0-9226BEDF072D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1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040B5AA7-9E4F-4377-BE06-EF5C85DF46CD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0: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32C4-1C37-4C76-AA67-8A94FC101B0C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5721-26C7-43C6-92AD-253D2A02D8C9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1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DB917447-4EFD-4523-B730-9C3BBCF1F9E9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0: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B83C-968B-4D23-8315-CC774737934C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851E-5C57-44FB-9A25-71E84654B27E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1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200C5D14-FE56-4410-AFEA-4D475F8D74AD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0: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35C4-99E6-4E6D-B290-9AC99D3C8A5A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FC6D-BCD3-4B12-A95D-03A0208FC452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1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97D1012C-BAB1-4FC3-AB8A-66F2F9E6E1F8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0: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D191-497F-4D6B-80D4-BA08C9423A4A}" type="slidenum">
              <a:rPr b="1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34EA-0586-431E-A39E-91FE7F61CAB1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1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8CC4EBF4-6757-4094-9905-B9788641E4F9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0: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D67C-63CC-4999-AC80-FB689E54AD75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C9C5-5549-4679-95F6-A9C46E5E8763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1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623E195C-FB48-48AE-9FDD-719F1FA64A19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0: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93B3-8CD7-486C-8D6A-5DDCFBDB2014}" type="slidenum">
              <a:rPr b="1" lang="en-US" sz="12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3809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3f68"/>
                </a:solidFill>
                <a:latin typeface="Tw Cen MT"/>
                <a:ea typeface="SimSun"/>
              </a:rPr>
              <a:t>Manual Process Planning</a:t>
            </a:r>
            <a:endParaRPr b="0" lang="en-US" sz="3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0" y="19810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Manufacturing Processes (2), IE-35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Ahmed M El-Sherbeeny, Ph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Spring 201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level of details in the plan depends on the ap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: a proc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Pl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-pl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): description of an ope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cludes tools, machines to be used, process parameters, machining tim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-plan sequ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: Summary of a process pla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501D-AC59-4717-AFB8-A8EE7334E37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:</a:t>
            </a:r>
            <a:br>
              <a:rPr sz="2900"/>
            </a:br>
            <a:r>
              <a:rPr b="1" lang="en-US" sz="2900" spc="-1" strike="noStrike">
                <a:solidFill>
                  <a:srgbClr val="424456"/>
                </a:solidFill>
                <a:latin typeface="Tw Cen MT"/>
                <a:ea typeface="SimSun"/>
              </a:rPr>
              <a:t>Examples of Process Plans</a:t>
            </a:r>
            <a:endParaRPr b="0" lang="en-US" sz="29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4101-042B-436F-A792-23E17B0768E6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457200" y="1474920"/>
            <a:ext cx="8305920" cy="538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wide variety of manufacturing processes are used to produce a work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se processes can be classifi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ast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orming and shap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Join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nish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CF5C-5AD5-494F-BBB0-4D8F6335DC5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chining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drilling, countering, countersinking, deep-hole drill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Bo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app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i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ace milling, end m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ur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acing, straight turning, taper turning, par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r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69C3-0BF9-4C4B-A80E-083632CC5E8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atures that must be considered in selecting machining processe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art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quired dimensional and geometric accuracy and toler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quired surface finis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vailable resources, including NC machines and cutting too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2975-8A27-4A7D-9E1F-BCD717E80D0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art fea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istinctive geometric form or shape to be produced from raw materi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t determines process type, tool types (shapes and size), machine requirements (3-, 4-, or 5-axis), and tool pa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wo types of part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Basic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imple forms/shapes that require only one machining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clude holes, slots, pockets, shoulders, profiles, and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ound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onsist of two or more basic part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e.g. the combined result of two holes with different di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5855-57BF-4053-A78B-5F9B311CAC7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lect the machining processes for the part shown in the figure given i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ssume required dimensional accuracy and surface roughness are within process capability of drilling and milling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four sides of the raw material have been pre-machined to required dimen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0867-79FF-4A45-B877-F03D5951056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3015-A20D-4EEF-AE18-3B8D0476C13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Object 2"/>
          <p:cNvGraphicFramePr/>
          <p:nvPr/>
        </p:nvGraphicFramePr>
        <p:xfrm>
          <a:off x="304920" y="2209680"/>
          <a:ext cx="84898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4898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p flat surfa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uter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ree ho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mmended machining processes for feature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ce-milling: the top surfa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gh-milling: the outer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nish-milling: the outer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enter-drilling: the three hol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: the three ho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A657-EEE8-4582-A08F-4BF49674E9C0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quence of operations determined by three consid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atum surfaces should be machined first if multiple work-holding setup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f possible, datum surfaces should be pre-machined in manually operated machine to facilitate workpiece locating and clamp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n cases wher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2 holding setups are required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rough datum surfaces are preprocessed in a manually operated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n used as setup references to produce finished datum surfaces for the final work-ho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is ensures the accuracy of the finished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81E0-A57E-4FE4-83AA-E345AFD8269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Chapter Outline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1" action="ppaction://hlinksldjump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2" action="ppaction://hlinksldjump"/>
              </a:rPr>
              <a:t>Manual Process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3" action="ppaction://hlinksldjump"/>
              </a:rPr>
              <a:t>Process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4" action="ppaction://hlinksldjump"/>
              </a:rPr>
              <a:t>Part Features Identification and Processes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5" action="ppaction://hlinksldjump"/>
              </a:rPr>
              <a:t>Processes Sequ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4D16-DCD2-46B8-B5B4-FBC3BAD72AB5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quence of operations determined by 3 consideration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urfaces with larger area hav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Larger surfaces tend to be more adaptable to disturbances resulting from machining operation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ature interference should be avo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eature interference occurs when machining of one feature destroys a requirement for the production of other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is happens when there is interaction or dependency between machining ope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4E68-FEBA-45B3-B46B-C8298C8B321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figure shown in the next slide is a workpiece in which some features are inter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workpiece has five basic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 through slot in side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wo angle strips (strip 1, strip 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wo through holes on strip 1 that are perpendicular to side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ound features are two tapped holes perpendicular to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 the process sequence for producing the 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BF5B-BC01-49AB-8FCA-D25DAC6FAA85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E3CD-C444-4D0C-83A0-F1B46403A27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Object 1"/>
          <p:cNvGraphicFramePr/>
          <p:nvPr/>
        </p:nvGraphicFramePr>
        <p:xfrm>
          <a:off x="1143000" y="1600200"/>
          <a:ext cx="716292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6292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raw material is cut from a block stock with dimensions: 6.25 x 4.25 x 2.2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tudying the part features reve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2 through holes on strip 1 interact with the formation of angl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lot i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interacts with the cutting of angle </a:t>
            </a:r>
            <a:r>
              <a:rPr b="0" lang="el-GR" sz="2100" spc="-1" strike="noStrike">
                <a:solidFill>
                  <a:srgbClr val="000000"/>
                </a:solidFill>
                <a:latin typeface="Cambria Math"/>
                <a:ea typeface="Cambria Math"/>
              </a:rPr>
              <a:t>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chining angle strip 1 fir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difficulty in drilling 2 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2 holes must be produced before angle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kewise, making angle strip 2 fir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difficulty in setting up workpiece to produce the through s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e slot has to be machined before angle strip 2 is ma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CB79-78F4-40C5-9A01-E646CD70718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mmended processes sequence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 machining si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sid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lso drilling two holes o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sid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lso cutting the slot i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utting angle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 two tap holes and tapping the two ho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 cutting angle stri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BBF5-2F32-48DC-AFE3-8140B36DC52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C70A-819A-4353-830B-2183D6DB141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Object 1"/>
          <p:cNvGraphicFramePr/>
          <p:nvPr/>
        </p:nvGraphicFramePr>
        <p:xfrm>
          <a:off x="1905120" y="52560"/>
          <a:ext cx="518148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2560"/>
                    <a:ext cx="518148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Process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Know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facturing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terial process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enginee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rou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ct of preparing detailed work instructions to produce a pa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t’s a function within the manufacturing facility (see figur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stablishes processes and parameters used to convert part from initial form to final for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edetermined in an engineering draw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erson who develops process plan: often called process plan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0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E56A-4252-4471-8FF9-3BBB2483E8D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4200480" y="1892160"/>
            <a:ext cx="4791240" cy="23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unctions included in process pl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aw material prepa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es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sequenc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parameter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ol path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xture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48EC-2BAF-414D-9F2D-5F3E6B52128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tors Affecting Process Plan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ha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ler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urface finis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iz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terial ty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Quant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Value of the produ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Urgenc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facturing system itsel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wo approaches to carry out task of process pl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al Process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uter Aided Process Planning (CAPP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40B0-D1A3-46B5-B41A-9D6872A7FFB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ss planner must have following knowled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bility to interpret an engineering draw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manufacturing processes and practi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tooling and fix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Know what resources are available in the sho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Know how to use reference books (e.g. machinability data handbook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bility to do computations on machining time and 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raw materia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2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6F8F-53BA-4793-A898-B2D3E8F5E9E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ome necessary steps to prepare a process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tudy overall shape of part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identify features, all critical dimen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oroughly study the drawing; try to identify all manufacturing features and no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etermine best raw material shape to use if raw stock not giv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dentify datum surfaces; Use information on datum surfaces to determine the setup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elect machines for each setup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etermine rough sequence of operations necessary to create all the features for each setu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C128-209C-487D-9971-209C4C15C0E8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nt. Some necessary steps to prepare a process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equence the operations determined in the previous step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8720" indent="-4572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heck whether there is any interference or dependency between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8720" indent="-4572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Use this information to modify the sequence of oper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elect tools for each operatio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8720" indent="-4572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ry to use the same tool for several operations if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8720" indent="-4572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Keep in mind the trade-off on tool-change time and estimated machining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elect or design fixtures for each setup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valuate the plan generated and make necessary modification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elect cutting parameters for each operatio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6288-858F-444F-BA6A-F4BA8C60E2F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ss Plan AKA (among other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she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te she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planning summa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tailed plan cont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parame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and tool sele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x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B5D5-FFC3-419B-BA9F-DB0DC855550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01:56Z</dcterms:created>
  <dc:creator/>
  <dc:description/>
  <dc:language>en-US</dc:language>
  <cp:lastModifiedBy/>
  <dcterms:modified xsi:type="dcterms:W3CDTF">2017-04-30T22:16:43Z</dcterms:modified>
  <cp:revision>268</cp:revision>
  <dc:subject/>
  <dc:title>PRESENTATION TITLE PRESENTATION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