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8"/>
          </p:nvPr>
        </p:nvSpPr>
        <p:spPr>
          <a:xfrm>
            <a:off x="3871800" y="-36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9"/>
          </p:nvPr>
        </p:nvSpPr>
        <p:spPr>
          <a:xfrm>
            <a:off x="0" y="947844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0"/>
          </p:nvPr>
        </p:nvSpPr>
        <p:spPr>
          <a:xfrm>
            <a:off x="3871800" y="947844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A5A9F-2E3E-4EAF-96D0-94C9CA41BD7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5A3B-06DB-41A4-A880-8ABCDA336E3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Boring: process of enlarging a hole that has already been drilled;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Tapping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cess of cutting internal threads in a round hole with a multi-point t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d these remaining steps in the fu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the operations determined in the previous step. Check whether there is any interference or dependency between operations. Use this information to modify the sequence of opera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lect tools for each operation. Try to use the same tool for several operations if possible. Keep in mind the trade-off on tool-change time and estimated machining tim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lect or design fixtures for each setu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valuate the plan generated and make necessary modifica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lect cutting parameters for each oper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738B-9318-4E0E-BEC7-EDA49CCBA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E098-8422-4ECB-A2CD-D355531E8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826324-BD49-4339-804C-799A8F8E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DD5D03-DB11-4C65-AE97-B32671251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8261A2-B308-48FC-AB89-93884F6E2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15B1D7-1928-4837-84F1-E4013936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3E48FD-82C2-41FF-B6B4-F3EC08A5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22C645-F615-47B1-A30F-C6B6FB16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FDC5AD-3D4B-4FE1-B8D8-4B44411B9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9F16B8-63F7-492B-85DE-CB05AD973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E0C45E-F679-402C-B2B2-9305EC6C1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5900-5C7B-4679-93B6-776019DFF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F247-B719-4023-9F7A-A9BC1EDC3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B78D3-05C5-44A8-BCE0-4FC7B6058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4CDF0-FB4A-4B35-941F-2A7E8A9D1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8E9D6-1B78-4032-89D0-98DB000CE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068D8-612C-4A5B-B754-24BB342FC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70CC3-ACB8-4262-B718-EA438DB2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9C7CC-4ADD-43F5-8954-939B80F58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BFEB0-479D-4905-8C89-CD13C10E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8E78-595A-4B74-83D4-D453BE908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C3866-757D-4D54-B826-AD7AF260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22AF9-BB39-4D79-A485-38D2FCD5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C7863-C29C-46C6-8152-9B5229703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042B8-DC9C-456F-9CBC-6D519CADE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6A164-0DC2-4DB3-A17F-75F16811D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622829-5467-476D-9B8E-0731B0191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4DF8D6-94F9-4092-859C-770A03FC9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FEF4CD-DE80-4C69-952C-ACCBF14E5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E5F298-A565-4F1E-8F0F-EDD129112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9ED534-5EB2-4DDB-9491-EEF7089F0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5888-32F8-4EC7-9061-D8E2883E1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2ADCC7-7728-4E1E-97A1-15336E900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646B6A-1E7C-43CD-A4BD-A0A9F38E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2FD7BD-B98C-4303-9B0D-90C0859F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F5ABA0-812C-4F56-A177-9B53BD54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FB6333-3BF9-4EAA-995F-954D84770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004277-4334-4F7D-9A20-863FF28C0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7F321F-5E84-4B1A-960D-49A4C1654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3BFA73-DF86-4818-BCC2-F9CA98C6C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FE82D3-3183-40AB-9441-13FB6D657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0EF7A4-09DE-4F2E-A7F6-16864EE37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A62F-FD6A-488B-96A6-83E1D76C5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A98D14-F914-4951-9275-DCCFB43DB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12AB83-33B8-45E2-B2D1-514710AD1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4968F6-0056-41F2-AE25-E47A55A65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E656F0-5862-4ABA-A433-C61E1A2C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1360A5-0611-4A9D-8F2C-4A24B0CD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185905-1D6E-4B65-89E8-BC3F8F28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E8B94A-2148-4A25-8814-1FD64D0A4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C02E24-39F9-49AE-957A-50A27FA31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2A1790-3520-4812-937B-DA9B94B87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6E5DB5-61DA-4DA2-A082-5ACF6F87A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B870-AA64-40C7-A26C-FBDC83624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59C22A-F92A-4974-84F0-BFDDD9168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5E1306-AF7E-47C4-B9A7-B634901E1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D681F1-461F-4BF4-9261-2D09A653E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24B7C3-6312-46E5-BB39-CD51B52CD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52DA5A-6D2E-4E6F-B645-EC1BBA695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630006-4E7E-49D4-8006-416F1A64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B16557-81B9-4DE9-BA7C-F1640806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CEEF3C-5CD9-4F5B-9F4B-40B3195D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85B083-0054-4016-B8E7-FF7EC873F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111218-94B7-4648-BEFB-5D1A10525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4C38-BAFE-49F6-B53F-7A36C2B85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0D9F3F-35D7-46D3-BB1A-928E1F548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B7F09-FC6C-487E-9B0E-D5FB8A466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99691-670B-40CE-95F5-6500DF01F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E30B6-53C1-4BBB-A13C-0B6CA768E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15BD7-F62B-4581-973A-2DDE987FC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296C3-6D59-43DC-A57E-9FE609AA8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0B07D9-8F07-48A0-8AA2-BFA0C6C65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538F05-8352-48E9-AEE8-9FF1D392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AFDB3-A5A1-45F9-B5E9-5A93C5CA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D6943-9CFC-4140-9640-C32D9751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A661-2D3F-4B24-8A21-B14AB98A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52A6E-EB0E-4C21-A817-928F72D7B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DE093-DEDF-4856-8EE6-450ADAC5B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7835B-022E-4C71-A45A-A55812384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68AA5-2E94-45F2-BF8F-6E6D4EE3E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A0A99-6CE1-4B60-8483-3FC597508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27DA0-F953-416D-B279-892241087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38E34C-82B7-4C06-BD49-12429D155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8D4E4-8AF8-4B18-84BB-225D5AC77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2FF82-57AC-4E73-8422-2AB0476E7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FC99CE-C606-43DE-A3F4-5B5E3302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51D2-C741-4337-90D8-B9A06DD7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2A175-2828-4D34-8D07-B6C78E78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2B270-5844-4988-BA63-64901866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5BFBD-AAF9-4719-99D6-11BDEFBEB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608E6D-1029-4D03-A3D7-E9992CE8C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19D9A4-7D9E-475B-BABF-AA76C79E5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93381A-608F-4A0C-B00C-9692413B9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F18D9B-48BA-4DD9-AC43-5AF7F93F2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4E27AF-F2BD-495E-AB72-3EEB7AC43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634575-BCEF-4918-B770-C24EFD4D9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5508DA-7913-44A6-AF6D-E23718951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FD02-3B34-4536-8515-62D0DD29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8AAFCA-296B-46E9-B848-CDBC355F5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BF8003-6568-45C5-8E93-AE2513BF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80F4C0-1991-4BB5-B7BD-C23F68C5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6E5992-E36B-4ED3-8092-51BD3827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58859C-A9EE-435B-93CB-5CE05C698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395032-97EB-4ED2-9948-D6852B497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71B37C-891A-4B73-B851-27C9BF1E1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EE4978-6461-42C2-BA12-C6D006F0E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4E03D4-F727-4F73-8750-4E2F51EF6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95FD49-FAB8-4A02-81DE-F63F950DC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70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700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spcBef>
                <a:spcPts val="700"/>
              </a:spcBef>
              <a:buClr>
                <a:srgbClr val="a04da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228600">
              <a:spcBef>
                <a:spcPts val="700"/>
              </a:spcBef>
              <a:buClr>
                <a:srgbClr val="c465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Tw Cen MT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43281-9523-4399-8AF1-B57600032E68}" type="datetime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07/30/26</a:t>
            </a:fld>
            <a:r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 </a:t>
            </a:r>
            <a:fld id="{348CD994-BA45-4715-8DBA-FDD5C2273834}" type="datetime10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17:2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24456"/>
                </a:solidFill>
                <a:latin typeface="Tw Cen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D2477-19B2-48DE-A50E-869F1A8FE2A1}" type="slidenum">
              <a:rPr b="1" lang="en-US" sz="1200" spc="-1" strike="noStrike">
                <a:solidFill>
                  <a:srgbClr val="424456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70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700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spcBef>
                <a:spcPts val="700"/>
              </a:spcBef>
              <a:buClr>
                <a:srgbClr val="a04da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228600">
              <a:spcBef>
                <a:spcPts val="700"/>
              </a:spcBef>
              <a:buClr>
                <a:srgbClr val="c465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7EBEC-42F2-4C6E-ACBF-A5DE2B8D6AFB}" type="datetime">
              <a:rPr b="0" lang="en-US" sz="2000" spc="-1" strike="noStrike">
                <a:solidFill>
                  <a:srgbClr val="ffffff"/>
                </a:solidFill>
                <a:latin typeface="Tw Cen MT"/>
                <a:ea typeface="SimSun"/>
              </a:rPr>
              <a:t>07/30/26</a:t>
            </a:fld>
            <a:r>
              <a:rPr b="0" lang="en-US" sz="2000" spc="-1" strike="noStrike">
                <a:solidFill>
                  <a:srgbClr val="ffffff"/>
                </a:solidFill>
                <a:latin typeface="Tw Cen MT"/>
                <a:ea typeface="SimSun"/>
              </a:rPr>
              <a:t> </a:t>
            </a:r>
            <a:fld id="{B0EDCF7D-9F4A-4123-9B02-985E175E4861}" type="datetime10">
              <a:rPr b="0" lang="en-US" sz="2000" spc="-1" strike="noStrike">
                <a:solidFill>
                  <a:srgbClr val="ffffff"/>
                </a:solidFill>
                <a:latin typeface="Tw Cen MT"/>
                <a:ea typeface="SimSun"/>
              </a:rPr>
              <a:t>17:22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24456"/>
                </a:solidFill>
                <a:latin typeface="Tw Cen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BA8C7-1791-4D52-AFA6-87F4F5584F96}" type="slidenum">
              <a:rPr b="1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70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700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spcBef>
                <a:spcPts val="700"/>
              </a:spcBef>
              <a:buClr>
                <a:srgbClr val="a04da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228600">
              <a:spcBef>
                <a:spcPts val="700"/>
              </a:spcBef>
              <a:buClr>
                <a:srgbClr val="c465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Tw Cen MT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638C2-2F17-4E4D-9AB0-4BB2777D6EBE}" type="datetime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07/30/26</a:t>
            </a:fld>
            <a:r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 </a:t>
            </a:r>
            <a:fld id="{F10E17D1-874A-49C8-9F05-2529E6E0602B}" type="datetime10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17:2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99964-0426-47F0-B635-78158CA87C3F}" type="slidenum">
              <a:rPr b="1" lang="en-US" sz="24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70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700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spcBef>
                <a:spcPts val="700"/>
              </a:spcBef>
              <a:buClr>
                <a:srgbClr val="a04da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228600">
              <a:spcBef>
                <a:spcPts val="700"/>
              </a:spcBef>
              <a:buClr>
                <a:srgbClr val="c465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Tw Cen MT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D70A1-DED5-4AA4-9888-C089AD462FC4}" type="datetime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07/30/26</a:t>
            </a:fld>
            <a:r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 </a:t>
            </a:r>
            <a:fld id="{E2410F17-8989-4C04-8335-C9C40BD3FF3F}" type="datetime10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17:2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6CB48-CF71-478C-99CD-BE5528FB8A12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70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700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spcBef>
                <a:spcPts val="700"/>
              </a:spcBef>
              <a:buClr>
                <a:srgbClr val="a04da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228600">
              <a:spcBef>
                <a:spcPts val="700"/>
              </a:spcBef>
              <a:buClr>
                <a:srgbClr val="c465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Tw Cen MT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5E7A1-B2A7-4E0B-B853-B0D959D06C73}" type="datetime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07/30/26</a:t>
            </a:fld>
            <a:r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 </a:t>
            </a:r>
            <a:fld id="{1D915167-65B8-4DF0-82BC-E9B576F09D95}" type="datetime10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17:2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308E2-6CBE-43DF-99A7-3E3D8E4D00A6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70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700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spcBef>
                <a:spcPts val="700"/>
              </a:spcBef>
              <a:buClr>
                <a:srgbClr val="a04da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228600">
              <a:spcBef>
                <a:spcPts val="700"/>
              </a:spcBef>
              <a:buClr>
                <a:srgbClr val="c465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Tw Cen MT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308F9-1E97-47BF-A39E-F0A4B1C223DF}" type="datetime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07/30/26</a:t>
            </a:fld>
            <a:r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 </a:t>
            </a:r>
            <a:fld id="{D95B8F47-B7E4-46EE-A634-4BECD839CC59}" type="datetime10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17:2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7C052-C0CD-417B-B571-63A3F97EA8D1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70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700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spcBef>
                <a:spcPts val="700"/>
              </a:spcBef>
              <a:buClr>
                <a:srgbClr val="a04da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228600">
              <a:spcBef>
                <a:spcPts val="700"/>
              </a:spcBef>
              <a:buClr>
                <a:srgbClr val="c465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Tw Cen MT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5B0DE-6C61-44A9-B643-917D93898F4A}" type="datetime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07/30/26</a:t>
            </a:fld>
            <a:r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 </a:t>
            </a:r>
            <a:fld id="{04825EDB-BB0C-4531-8C10-3194C1DF4C0C}" type="datetime10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17:2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24456"/>
                </a:solidFill>
                <a:latin typeface="Tw Cen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E2DAB-A467-45C9-8D88-87041387A834}" type="slidenum">
              <a:rPr b="1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70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700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spcBef>
                <a:spcPts val="700"/>
              </a:spcBef>
              <a:buClr>
                <a:srgbClr val="a04da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228600">
              <a:spcBef>
                <a:spcPts val="700"/>
              </a:spcBef>
              <a:buClr>
                <a:srgbClr val="c465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Tw Cen MT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25F3B-B191-45FA-8462-730C38D00477}" type="datetime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07/30/26</a:t>
            </a:fld>
            <a:r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 </a:t>
            </a:r>
            <a:fld id="{3819E356-5236-4CB0-9135-0989789DA00C}" type="datetime10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17:2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23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DFAF0-0B9B-4CA2-B8C4-44D111C5DFDA}" type="slidenum">
              <a:rPr b="1" lang="en-US" sz="28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ftr" idx="24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70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700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spcBef>
                <a:spcPts val="700"/>
              </a:spcBef>
              <a:buClr>
                <a:srgbClr val="a04da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228600">
              <a:spcBef>
                <a:spcPts val="700"/>
              </a:spcBef>
              <a:buClr>
                <a:srgbClr val="c465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Tw Cen MT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90461-8005-4D73-8939-00597D86454B}" type="datetime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07/30/26</a:t>
            </a:fld>
            <a:r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 </a:t>
            </a:r>
            <a:fld id="{1124698D-0B11-4717-9019-B9888CFB8F02}" type="datetime10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17:2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24456"/>
                </a:solidFill>
                <a:latin typeface="Tw Cen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8C96D-F00A-4105-B73B-B96441A6A28B}" type="slidenum">
              <a:rPr b="1" lang="en-US" sz="1200" spc="-1" strike="noStrike">
                <a:solidFill>
                  <a:srgbClr val="424456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0" y="3809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e3f68"/>
                </a:solidFill>
                <a:latin typeface="Tw Cen MT"/>
                <a:ea typeface="SimSun"/>
              </a:rPr>
              <a:t>Manual Process Planning</a:t>
            </a:r>
            <a:endParaRPr b="0" lang="en-US" sz="30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02" name="Rectangle 1"/>
          <p:cNvSpPr/>
          <p:nvPr/>
        </p:nvSpPr>
        <p:spPr>
          <a:xfrm>
            <a:off x="0" y="1981080"/>
            <a:ext cx="9144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e3f68"/>
                </a:solidFill>
                <a:latin typeface="Tw Cen MT"/>
                <a:ea typeface="SimSun"/>
              </a:rPr>
              <a:t>Manufacturing Processes (2), IE-35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e3f68"/>
                </a:solidFill>
                <a:latin typeface="Tw Cen MT"/>
                <a:ea typeface="SimSun"/>
              </a:rPr>
              <a:t>Ahmed M El-Sherbeeny, Ph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e3f68"/>
                </a:solidFill>
                <a:latin typeface="Tw Cen MT"/>
                <a:ea typeface="SimSun"/>
              </a:rPr>
              <a:t>Spring 201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424456"/>
                </a:solidFill>
                <a:latin typeface="Tw Cen MT"/>
                <a:ea typeface="SimSun"/>
              </a:rPr>
              <a:t>Process Plan:</a:t>
            </a:r>
            <a:br>
              <a:rPr sz="2900"/>
            </a:br>
            <a:r>
              <a:rPr b="1" lang="en-US" sz="2900" spc="-1" strike="noStrike">
                <a:solidFill>
                  <a:srgbClr val="424456"/>
                </a:solidFill>
                <a:latin typeface="Tw Cen MT"/>
                <a:ea typeface="SimSun"/>
              </a:rPr>
              <a:t>Examples of Process Plans</a:t>
            </a:r>
            <a:endParaRPr b="0" lang="en-US" sz="29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32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D4E86-6480-4BD3-9EE2-A8A986B8A7C3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3" descr=""/>
          <p:cNvPicPr/>
          <p:nvPr/>
        </p:nvPicPr>
        <p:blipFill>
          <a:blip r:embed="rId1"/>
          <a:stretch/>
        </p:blipFill>
        <p:spPr>
          <a:xfrm>
            <a:off x="457200" y="1474920"/>
            <a:ext cx="8305920" cy="5383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Part Features Identification and Processes Selection</a:t>
            </a:r>
            <a:endParaRPr b="0" lang="en-US" sz="40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A wide variety of manufacturing processes are used to produce a workpi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hese processes can be classified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Casting process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Forming and shaping process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achining process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Joining process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Finishing process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DAE26-58C7-419E-8087-FE765D7FF964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10" descr="MCj04421500000[1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2286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Part Features Identification and Processes Selection</a:t>
            </a:r>
            <a:endParaRPr b="0" lang="en-US" sz="40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Machining proces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Drill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drilling, countering, countersinking, deep-hole drilling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Bor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Tapp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ill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face milling, end mil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Turn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facing, straight turning, taper turning, parting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Thread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E7DE8-F911-47F4-9814-D9836ACD19FB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Part Features Identification and Processes Selection</a:t>
            </a:r>
            <a:endParaRPr b="0" lang="en-US" sz="40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Features that must be considered in selecting machining processes inclu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part featur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required dimensional and geometric accuracy and toleranc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required surface finish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available resources, including NC machines and cutting tool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cos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D4C3D-B5D6-4002-9C24-589AC2A806AF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Part Features Identification and Processes Selection</a:t>
            </a:r>
            <a:endParaRPr b="0" lang="en-US" sz="40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Part featu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distinctive geometric form or shape to be produced from raw materia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it determines process type, tool types (shapes and size), machine requirements (3-, 4-, or 5-axis), and tool path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wo types of part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Basic featur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simple forms/shapes that require only one machining op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include holes, slots, pockets, shoulders, profiles, and ang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Compound featur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consist of two or more basic part fea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e.g. the combined result of two holes with different diame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E3C6C-85ED-4E27-9E2E-26AAA2B25282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Part Features Identification and Processes Selection</a:t>
            </a:r>
            <a:endParaRPr b="0" lang="en-US" sz="40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仿宋"/>
              </a:rPr>
              <a:t>Example: Machining Processes 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elect the machining processes for the part shown in the figure given in the next sl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Assume required dimensional accuracy and surface roughness are within process capability of drilling and milling oper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he four sides of the raw material have been pre-machined to required dimens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4FD96-4AB0-4845-A896-8741BACC6138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Part Features Identification and Processes Selection</a:t>
            </a:r>
            <a:endParaRPr b="0" lang="en-US" sz="40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仿宋"/>
              </a:rPr>
              <a:t>Example: Machining Processes Selection 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19986-1AF3-4FDE-AEA8-15A5C7410D97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Object 2"/>
          <p:cNvGraphicFramePr/>
          <p:nvPr/>
        </p:nvGraphicFramePr>
        <p:xfrm>
          <a:off x="304920" y="2209680"/>
          <a:ext cx="84898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09680"/>
                    <a:ext cx="84898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Part Features Identification and Processes Selection</a:t>
            </a:r>
            <a:endParaRPr b="0" lang="en-US" sz="40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仿宋"/>
              </a:rPr>
              <a:t>Example: Machining Processes Selection 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仿宋"/>
              </a:rPr>
              <a:t>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Top flat surfac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Outer profil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Three hol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Recommended machining processes for features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Face-milling: the top surfac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Rough-milling: the outer pro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Finish-milling: the outer pro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Center-drilling: the three hole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Drilling: the three hol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759DE-3EE0-4697-B4DE-3FB7A6A20FA5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4456"/>
                </a:solidFill>
                <a:latin typeface="Tw Cen MT"/>
                <a:ea typeface="SimSun"/>
              </a:rPr>
              <a:t>Processes Sequencing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equence of operations determined by three consider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Datum surfaces should be machined first if multiple work-holding setups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If possible, datum surfaces should be pre-machined in manually operated machine to facilitate workpiece locating and clamp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In cases where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 2 holding setups are required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rough datum surfaces are preprocessed in a manually operated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n used as setup references to produce finished datum surfaces for the final work-hol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is ensures the accuracy of the finished 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C67F2-0B58-48A4-96A4-31BD22224F9D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10" descr="MCj04421500000[1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2286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4456"/>
                </a:solidFill>
                <a:latin typeface="Tw Cen MT"/>
                <a:ea typeface="SimSun"/>
              </a:rPr>
              <a:t>Processes Sequencing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equence of operations determined by 3 considerations 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8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urfaces with larger area have prece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Larger surfaces tend to be more adaptable to disturbances resulting from machining operation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8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Feature interference should be avoid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Feature interference occurs when machining of one feature destroys a requirement for the production of other featur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This happens when there is interaction or dependency between machining opera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161C-C3D9-4243-A4FE-0C42AEA24906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Tw Cen MT"/>
                <a:ea typeface="SimSun"/>
              </a:rPr>
              <a:t>Chapter Outline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1272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lnSpc>
                <a:spcPct val="9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7afbd"/>
                </a:solidFill>
                <a:uFillTx/>
                <a:latin typeface="Arial"/>
                <a:ea typeface="SimSun"/>
                <a:hlinkClick r:id="rId1" action="ppaction://hlinksldjump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9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7afbd"/>
                </a:solidFill>
                <a:uFillTx/>
                <a:latin typeface="Arial"/>
                <a:ea typeface="SimSun"/>
                <a:hlinkClick r:id="rId2" action="ppaction://hlinksldjump"/>
              </a:rPr>
              <a:t>Manual Process Pl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9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7afbd"/>
                </a:solidFill>
                <a:uFillTx/>
                <a:latin typeface="Arial"/>
                <a:ea typeface="SimSun"/>
                <a:hlinkClick r:id="rId3" action="ppaction://hlinksldjump"/>
              </a:rPr>
              <a:t>Process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9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7afbd"/>
                </a:solidFill>
                <a:uFillTx/>
                <a:latin typeface="Arial"/>
                <a:ea typeface="SimSun"/>
                <a:hlinkClick r:id="rId4" action="ppaction://hlinksldjump"/>
              </a:rPr>
              <a:t>Part Features Identification and Processes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9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7afbd"/>
                </a:solidFill>
                <a:uFillTx/>
                <a:latin typeface="Arial"/>
                <a:ea typeface="SimSun"/>
                <a:hlinkClick r:id="rId5" action="ppaction://hlinksldjump"/>
              </a:rPr>
              <a:t>Processes Sequen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E2554-A323-441D-AD9C-58D5B0752215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Processes Sequencing:</a:t>
            </a:r>
            <a:br>
              <a:rPr sz="4000"/>
            </a:b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Example</a:t>
            </a:r>
            <a:endParaRPr b="0" lang="en-US" sz="40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he figure shown in the next slide is a workpiece in which some features are interrel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he workpiece has five basic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a through slot in side 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two angle strips (strip 1, strip 2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two through holes on strip 1 that are perpendicular to side 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compound features are two tapped holes perpendicular to strip 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Develop the process sequence for producing the p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52F8C-0C0A-41EA-9CA6-2FC39443149E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Processes Sequencing:</a:t>
            </a:r>
            <a:br>
              <a:rPr sz="4000"/>
            </a:b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Example (cont.)</a:t>
            </a:r>
            <a:endParaRPr b="0" lang="en-US" sz="40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69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923FC-636C-490B-AE84-A7308C3CD589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0" name="Object 1"/>
          <p:cNvGraphicFramePr/>
          <p:nvPr/>
        </p:nvGraphicFramePr>
        <p:xfrm>
          <a:off x="1143000" y="1600200"/>
          <a:ext cx="7162920" cy="51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00200"/>
                    <a:ext cx="7162920" cy="51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Processes Sequencing:</a:t>
            </a:r>
            <a:br>
              <a:rPr sz="4000"/>
            </a:b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Example (cont.)</a:t>
            </a:r>
            <a:endParaRPr b="0" lang="en-US" sz="40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仿宋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he raw material is cut from a block stock with dimensions: 6.25 x 4.25 x 2.25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tudying the part features reve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2 through holes on strip 1 interact with the formation of angle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slot in side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C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 interacts with the cutting of angle </a:t>
            </a:r>
            <a:r>
              <a:rPr b="0" lang="el-GR" sz="2100" spc="-1" strike="noStrike">
                <a:solidFill>
                  <a:srgbClr val="000000"/>
                </a:solidFill>
                <a:latin typeface="Cambria Math"/>
                <a:ea typeface="Cambria Math"/>
              </a:rPr>
              <a:t>β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Machining angle strip 1 fir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difficulty in drilling 2 h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2 holes must be produced before angle strip 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Likewise, making angle strip 2 fir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difficulty in setting up workpiece to produce the through sl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the slot has to be machined before angle strip 2 is mad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D991B-3387-4DB9-820D-C9BEF0F6568F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Processes Sequencing:</a:t>
            </a:r>
            <a:br>
              <a:rPr sz="4000"/>
            </a:b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Example (cont.)</a:t>
            </a:r>
            <a:endParaRPr b="0" lang="en-US" sz="40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Recommended processes sequence i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etup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for machining sid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etup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f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achining sides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 and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also drilling two holes on Side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etup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f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achining sides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C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 and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F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also cutting the slot in side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etup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f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cutting angle strip 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drilling two tap holes and tapping the two hole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etup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for cutting angle stri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76DAC-23FC-4B74-AFE5-E6C836F622C4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0A336-7383-48BD-9F71-2C09C4A47CD5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9" name="Object 1"/>
          <p:cNvGraphicFramePr/>
          <p:nvPr/>
        </p:nvGraphicFramePr>
        <p:xfrm>
          <a:off x="1828800" y="0"/>
          <a:ext cx="5181480" cy="683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0"/>
                    <a:ext cx="5181480" cy="683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4456"/>
                </a:solidFill>
                <a:latin typeface="Tw Cen MT"/>
                <a:ea typeface="SimSun"/>
              </a:rPr>
              <a:t>Introduction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仿宋"/>
              </a:rPr>
              <a:t>Process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Known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anufacturing plann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aterial process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process engineer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achine rout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Defini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act of preparing detailed work instructions to produce a par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it’s a function within the manufacturing facility (see figure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establishes processes and parameters used to convert part from initial form to final for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predetermined in an engineering draw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person who develops process plan: often called process plann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8" name="Picture 10" descr="MCj04421500000[1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228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409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297EC-70E3-4A8A-8A24-92DB7F62A960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3" descr=""/>
          <p:cNvPicPr/>
          <p:nvPr/>
        </p:nvPicPr>
        <p:blipFill>
          <a:blip r:embed="rId3"/>
          <a:stretch/>
        </p:blipFill>
        <p:spPr>
          <a:xfrm>
            <a:off x="4200480" y="1892160"/>
            <a:ext cx="4791240" cy="2374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4456"/>
                </a:solidFill>
                <a:latin typeface="Tw Cen MT"/>
                <a:ea typeface="SimSun"/>
              </a:rPr>
              <a:t>Introduction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Functions included in process plann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Raw material prepara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Processes selec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Process sequenc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achining parameter selec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Tool path plann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achine selec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Fixture selec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B052C-BA1D-45A0-9573-1D34E5E4DFCA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4456"/>
                </a:solidFill>
                <a:latin typeface="Tw Cen MT"/>
                <a:ea typeface="SimSun"/>
              </a:rPr>
              <a:t>Introduction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Factors Affecting Process Plan Sele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Shap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Toleranc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Surface finish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Siz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aterial typ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Quantit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Value of the produc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Urgenc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anufacturing system itsel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wo approaches to carry out task of process plann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anual Process Plann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Computer Aided Process Planning (CAPP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DC463-8B4E-4001-94F2-9D1EFA7700E6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4456"/>
                </a:solidFill>
                <a:latin typeface="Tw Cen MT"/>
                <a:ea typeface="SimSun"/>
              </a:rPr>
              <a:t>Manual Process Planning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Process planner must have following knowled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Ability to interpret an engineering draw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Familiarity with manufacturing processes and practic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Familiarity with tooling and fixtur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Know what resources are available in the shop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Know how to use reference books (e.g. machinability data handbook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Ability to do computations on machining time and cos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Familiarity with raw material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9" name="Picture 10" descr="MCj04421500000[1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228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420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E6EBB-75E0-4DF7-82AB-86D47CFE013C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4456"/>
                </a:solidFill>
                <a:latin typeface="Tw Cen MT"/>
                <a:ea typeface="SimSun"/>
              </a:rPr>
              <a:t>Manual Process Planning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ome necessary steps to prepare a process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4040" indent="-45720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Study overall shape of part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 identify features, all critical dimens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824040" indent="-45720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Thoroughly study the drawing; try to identify all manufacturing features and no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824040" indent="-45720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Determine best raw material shape to use if raw stock not giv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824040" indent="-45720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Identify datum surfaces; Use information on datum surfaces to determine the setup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824040" indent="-45720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Select machines for each setup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824040" indent="-45720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Determine rough sequence of operations necessary to create all the features for each setup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A586A-899C-4EC1-B9AE-15D75DAF6C4C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4456"/>
                </a:solidFill>
                <a:latin typeface="Tw Cen MT"/>
                <a:ea typeface="SimSun"/>
              </a:rPr>
              <a:t>Process Plan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Process Plan AKA (among other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operation shee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route shee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operation planning summar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Detailed plan contai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rout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process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process parameter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achine and tool selec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fixtur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Picture 10" descr="MCj04421500000[1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228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427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835D6-7587-44E6-B611-18B76EDA8038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4456"/>
                </a:solidFill>
                <a:latin typeface="Tw Cen MT"/>
                <a:ea typeface="SimSun"/>
              </a:rPr>
              <a:t>Process Plan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he level of details in the plan depends on the appl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Operatio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: a proces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Operation Pla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 (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Op-pla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): description of an opera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includes tools, machines to be used, process parameters, machining time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Op-plan sequenc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: Summary of a process pla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8396-C8B7-44B8-9599-117AB4686D9E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20:01:56Z</dcterms:created>
  <dc:creator/>
  <dc:description/>
  <dc:language>en-US</dc:language>
  <cp:lastModifiedBy/>
  <dcterms:modified xsi:type="dcterms:W3CDTF">2014-05-06T20:55:55Z</dcterms:modified>
  <cp:revision>268</cp:revision>
  <dc:subject/>
  <dc:title>PRESENTATION TITLE PRESENTATION SUB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524811033</vt:lpwstr>
  </property>
</Properties>
</file>