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8BAB-B332-4A01-8858-D411B63459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783A-66DD-412C-8FB6-3C54C51F4E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Boring: process of enlarging a hole that has already been drilled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apping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cutting internal threads in a round hole with a multi-point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se remaining steps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the operations determined in the previous step. Check whether there is any interference or dependency between operations. Use this information to modify the sequence of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tools for each operation. Try to use the same tool for several operations if possible. Keep in mind the trade-off on tool-change time and estimated machining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or design fixtures for each set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e the plan generated and make necessary modif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cutting parameters for each op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D36-AD24-462A-BD6B-153D7186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5E7-04C8-4FD5-8460-CF1B6D1B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F6497-B2AF-4F0A-AE0D-B2025E37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4D760-B7C7-459D-94C9-E38B2BAA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87EE4-C1E2-4CC1-BBF2-3558A3A0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B918E-0DF3-490E-AF77-96A62955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5686E-C471-4E38-9DA8-BA52DE9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34E9B-A195-4FDB-A49B-715E49F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184BF-FF7B-4FCD-9268-78F2CB7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1AF76-AADE-44A6-9E88-3AAE50CE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B9132-9B5B-405A-A6B3-B034E473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ED7-F28A-4495-B296-9B3B65A4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B31-8495-4FAE-B625-A1729A30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4A1D-EF21-40EC-884E-DC31EAAF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463D-5EF0-4FB9-99A4-FF659D5C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B684-CF61-4F81-8B5A-B551D30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BAC6-BD30-48DC-99E1-FFFBE992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41A6-6242-49FF-B7FD-2F4F7B7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F071-0684-44FB-88F5-4ED017AB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09E3-3CF8-4DF0-9CBE-D62AB8FC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EEC-1127-4DAB-8130-846CA536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A9AF-86D1-4B4A-945D-C767745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0FAC-D3D2-4537-AE65-F1208CB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B676-9E14-43AC-B941-6657E623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9C9-FD64-4634-9CD6-EFD317C6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7F94-008E-4A65-930A-6678606F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3F344-6BEE-47C7-8868-051B0E6F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73E7E-3C5F-4FA8-8205-A125C04E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45CB9-D67A-4122-9383-73A4FC0A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C5213-6931-4EB8-865D-B2751965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34613-5F14-4062-BD73-C969F3E4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44A-FAAD-4E4B-8161-17EDEAE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E1D61-22BC-4FD3-BDD2-0BCAD827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C84B8-7159-4D3B-8F21-5436497A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D739A-84ED-46AA-947D-2F63AD1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CD24B-4D0A-4032-8B34-52AD3B21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FE957-67DB-4537-BD2F-0F3B050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5B8AB-2EEA-4032-946A-6E7DF17A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D8AA8-29A8-48B3-9BA1-4D43690B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E40391-4DA8-4A70-A951-367B5E3C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50F21-904E-478B-BA2E-17682684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FEC66-785C-4917-8CDA-EF1F42A6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B6C-CE4C-415F-8426-6B7A799E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ABC6C-9452-40F1-BBEC-402D582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7D379-5994-4C8A-BFAF-D10A9972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31307-18CC-49DA-9570-776B8DA8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45648-5661-4EAD-B83A-2EDE800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ED58C-1A56-4A21-A44C-327B21AC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703CF-346B-463F-9DE9-6D3FAED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68485-7C71-4903-8D5E-57F7FFCF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CCA04-FD20-47C0-80B6-A5B9378F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3F878-15D9-45E7-B20D-BCA5CD28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F8C91-0BAF-4FD3-B0E6-210AE44D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3BA-8DCC-461A-8E12-C5893B2F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27B74-BADE-46A6-8F3F-1CE7D203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9E849-A78B-4FEF-89A7-038B55E9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0B511-38E7-40EB-9FBB-AEF91887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D1B48-6FBE-437D-BAB6-729EB1E4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AD35C-49BF-4924-A7FE-76FDDC13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5B359-655A-4E0E-AFE9-D57A59B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B51D9-FE23-48A7-A569-BE3DB92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DF84C-8BA8-40E3-AEBF-4AE00C9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FB550-771E-4CF1-BB58-C1866799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672DD-0583-4794-A1DA-C4D2FB78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816-CC10-4A2C-820B-39C3DEE5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38F19-2F20-4B49-927F-5B2DD2E4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00B55-A8A1-40BD-91B4-BAE0EFF6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3A4EF-110A-4327-AEF7-881AD553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DD5E-128D-41FA-897A-6F36DA67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45E55-5E33-4D90-B2D1-81AEAE00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015C4-85C3-4931-AF39-0DAC37C6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9EAD6-0CFF-46EC-B671-9237F11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DDF0-B0BD-4C1B-8198-D9706F82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6D75A-5A2E-4F1C-8156-8B03B4F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EC1C6-5288-4B22-A0A3-C55B991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D2F-6DC9-49E0-B4C9-DCBD7A9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B88AA-31DF-42CC-BF3F-433FAE79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A7113-2EE7-49BF-9295-E9FEDB51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7A67-D221-473D-9D55-DA12085B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B63C-A2A1-4AEF-9657-5B438B87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D07CB-C28F-48AE-AAC6-022CD59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5705-F629-4A16-984F-0D9C8DF5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D4C62-E72B-439B-B704-D6F2B6BC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5BED0-08A9-472C-9B7F-BA6CA1F2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404E4-B8E1-4FE1-84C4-2FBFD0C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6738B-2F44-4396-9C45-35C8E9B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457-C851-404A-B3FD-325C4859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BD03D-8B5E-42E2-97C2-38D044A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37C6C-3E54-4912-ABEC-03DEA723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DC86E-F674-4E9C-89AF-F9530C08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9B55-202B-47F9-8B48-F7E6FD1E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4F935-1D4F-49BF-838D-DE95E280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9BE602-4A2B-4166-B9AF-1DF2E47F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D3E374-CB7C-474C-8CE4-6AF324F8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61F3D8-254B-413A-8E94-DE2E336F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560EA-06E3-4971-BCC9-F626CA34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576B8-71A7-486F-B780-DC8DC401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D56-8B95-43D2-AC1E-798706C2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15A36-B190-41D3-AC4D-F907362B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AD984-A760-47F4-9E8D-FE7A760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79BD74-C930-4B76-A9C2-769E42A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42C28-4DF5-4D81-81A3-096B685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6FDB68-9005-40E0-8D58-F1DDE793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52CBE-C6DA-4F88-B9EC-6F7A9C18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C658B-654D-4492-9FDC-22CE89EC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F9FAE-63B2-4548-9904-BFA458E7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40D37-0FDA-49A1-A04A-3CC4E9D6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54FCE-B640-4E0D-9D0E-396DBC53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AFDD-C176-4540-9D96-2D384E5A46FD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16E55915-A1B4-4E44-BDDD-3E80D79D6A15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5FEA-E707-4DE5-8BBB-2684AFE43BC2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41E-437E-4D7D-9FC8-4AA7B9FFA0A0}" type="datetime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 </a:t>
            </a:r>
            <a:fld id="{62853DAD-551D-4B05-A201-4DD43DF163ED}" type="datetime10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17:2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4C56-E4EA-4F5E-AA43-56326C0848AC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8A6-2294-4643-8DBE-C922805A091E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3224CE09-97AF-4EDA-B58B-547CD9A778F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879-24BC-4021-9A56-219BA799D20D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704C-D7DC-486A-B802-8F4E69BAADAB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E0BD599B-BC84-4DAC-B575-47F60BD86D5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C7EB-498D-4B6E-AC2E-6B5B09F5CC5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8DB3-C2C3-4280-A9D5-48EA80FDAEF3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7191FE0C-4FE5-47FE-BC6A-8FA84AFA6E48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33B9-E2B2-4B78-AB7F-DB1B95943F6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7D84-CA4E-4B4D-BD0D-A8DD9309ED62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3AEE25F4-F6C4-4A58-AD8F-F7630129BA9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1747-E1B9-4AFB-94DB-8E248A9CB9C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21A6-3535-43AF-BDA4-3B9B1CD49700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EC6A5CEA-DCE4-4E18-8250-59122A5E53E4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56DA-03E4-4CEF-AE0B-B58C13F62C92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B0DE-5E14-4305-95A9-3E7CB04BAFF7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04DA074A-805A-465F-8DCF-75A5269C85F0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BED6-4E39-45B9-A2FC-DAD307E7F54B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CFE5-C7FB-4DCC-B47E-E1B3E1ED1405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30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1FB09FD1-8A00-4F26-A150-08029508B716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02B2-9281-491C-A020-FCCA6735276B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3f68"/>
                </a:solidFill>
                <a:latin typeface="Tw Cen MT"/>
                <a:ea typeface="SimSun"/>
              </a:rPr>
              <a:t>Manual Process Planning</a:t>
            </a:r>
            <a:endParaRPr b="0" lang="en-US" sz="3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Manufacturing Processes (2), IE-3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Ahmed M El-Sherbeeny, Ph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Spring 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:</a:t>
            </a:r>
            <a:br>
              <a:rPr sz="2900"/>
            </a:b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Examples of Process Plans</a:t>
            </a:r>
            <a:endParaRPr b="0" lang="en-US" sz="29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15F8-85C5-45F2-A339-28EFA8DB78E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592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wide variety of manufacturing processes are used to produce a 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processes can be classifi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st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orming and shap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Jo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7E63-9E82-4ACD-9520-F2C3A88F1D9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illing, countering, countersinking, deep-hole drill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p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e milling, end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u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ing, straight turning, taper turning, par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CF7-DDAB-4DA2-864C-E20642783A5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s that must be considered in selecting machining process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art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dimensional and geometric accuracy and 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vailable resources, including NC machines and cutting too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9A1C-5F73-4787-A0CB-9D465C9D6B8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art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istinctive geometric form or shape to be produced from raw ma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 determines process type, tool types (shapes and size), machine requirements (3-, 4-, or 5-axis), and tool pa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types of par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asic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mple forms/shapes that require only one machin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 holes, slots, pockets, shoulders, profiles, and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sist of two or more basic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the combined result of two holes with different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9857-963C-4BCD-9895-AF9A42C0704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lect the machining processes for the part shown in the figure given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ssume required dimensional accuracy and surface roughness are within process capability of drilling and mill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our sides of the raw material have been pre-machined to required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9C24-C2BE-4316-9C08-8CF64F6505A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16E7-C229-4086-B914-76ED97E8815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304920" y="2209680"/>
          <a:ext cx="848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p flat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uter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machining processes for featur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ce-milling: the top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g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enter-drilling: the three hol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: the 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4394-2082-4731-87CD-9061943AFA7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three 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atum surfaces should be machined first if multiple work-holding setup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f possible, datum surfaces should be pre-machined in manually operated machine to facilitate workpiece locating and clam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n cases wher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2 holding setups are required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ough datum surfaces are preprocessed in a manually operated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n used as setup references to produce finished datum surfaces for the final work-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is ensures the accuracy of the finishe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37A5-1C36-4157-90FC-2116770B288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3 consideration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rfaces with larger area hav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arger surfaces tend to be more adaptable to disturbances resulting from machining opera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should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occurs when machining of one feature destroys a requirement for the production of other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is happens when there is interaction or dependency between machining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E28A-CEC5-44C1-97F9-594F0E82ED1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Chapter Outlin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2" action="ppaction://hlinksldjump"/>
              </a:rPr>
              <a:t>Manual Proces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3" action="ppaction://hlinksldjump"/>
              </a:rPr>
              <a:t>Proc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4" action="ppaction://hlinksldjump"/>
              </a:rPr>
              <a:t>Part Features Identification and Processe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5" action="ppaction://hlinksldjump"/>
              </a:rPr>
              <a:t>Processes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50F-B7DA-402C-AA37-ADC4543C802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igure shown in the next slide is a workpiece in which some features are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workpiece has five bas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 through slot in side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angle strips (strip 1, strip 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through holes on strip 1 that are perpendicular to side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 are two tapped holes perpendicular to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 the process sequence for producing th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0611-183A-4411-B341-C8A4F30BBE9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9B7C-349A-4E13-B3B9-AB96A214342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1"/>
          <p:cNvGraphicFramePr/>
          <p:nvPr/>
        </p:nvGraphicFramePr>
        <p:xfrm>
          <a:off x="1143000" y="1600200"/>
          <a:ext cx="7162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raw material is cut from a block stock with dimensions: 6.25 x 4.25 x 2.2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udying the part features reve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through holes on strip 1 interact with the formation of angl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nteracts with the cutting of angle </a:t>
            </a:r>
            <a:r>
              <a:rPr b="0" lang="el-GR" sz="2100" spc="-1" strike="noStrike">
                <a:solidFill>
                  <a:srgbClr val="000000"/>
                </a:solidFill>
                <a:latin typeface="Cambria Math"/>
                <a:ea typeface="Cambria Math"/>
              </a:rPr>
              <a:t>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angle strip 1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drilling 2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holes must be produced before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kewise, making angle strip 2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setting up workpiece to produce the through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slot has to be machined before angle strip 2 is ma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0D0C-E028-419F-AC1A-A4401D9E5FE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processes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machining si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drilling two holes o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cutting the 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utting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 two tap holes and tapping the two ho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cutting angle stri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7F1-2A0B-4F58-875B-D344A8DB910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740-1B53-44A1-A945-C22C2E129E8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1828800" y="0"/>
          <a:ext cx="51814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0"/>
                    <a:ext cx="51814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proces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engine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ct of preparing detailed work instructions to produce a p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’s a function within the manufacturing facility (see figur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stablishes processes and parameters used to convert part from initial form to final for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edetermined in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erson who develops process plan: often called process 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1082-DF8A-49F3-AA27-956217E3E7F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4200480" y="1892160"/>
            <a:ext cx="479124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unctions included in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aw material prepa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sequenc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arameter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ol path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6507-1741-42B4-BB93-FAFBFA4C8B5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tors Affecting Process Plan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ha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Qua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Value of the produ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Urgenc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system its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approaches to carry out task of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al Process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uter Aided Process Planning (CAP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6838-9638-48A5-BAEA-09D58F5F7E1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ner must have following knowl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interpret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manufacturing processes an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tooling and 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what resources are available in the sho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how to use reference books (e.g. machinability data handbook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do computations on machining time and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raw materia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566-B400-4059-94FC-2A3F2193382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tudy overall shape of par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dentify features, all critical dimen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oroughly study the drawing; try to identify all manufacturing features and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best raw material shape to use if raw stock not giv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 datum surfaces; Use information on datum surfaces to determine the setu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machin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rough sequence of operations necessary to create all the features for each set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E3D0-51B3-4D65-A4A5-6586B6CCC33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 AKA (among oth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ning summ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tailed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and tool se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904E-12EF-4F0D-ABF3-7707995A638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level of details in the plan depends on the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a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: description of an op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s tools, machines to be used, process parameters, machining tim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 sequ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Summary of a process pla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1607-F0F3-42D8-8184-934EC2AE99D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5-05-07T06:57:53Z</dcterms:modified>
  <cp:revision>268</cp:revision>
  <dc:subject/>
  <dc:title>PRESENTATION TITLE PRESENTATION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