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A821-B5B5-47F9-88A7-DFE7D83E06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AB12-1FBE-4347-BC35-A00363CCCE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Boring: process of enlarging a hole that has already been drilled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apping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cutting internal threads in a round hole with a multi-point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se remaining steps in the fu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the operations determined in the previous step. Check whether there is any interference or dependency between operations. Use this information to modify the sequence of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tools for each operation. Try to use the same tool for several operations if possible. Keep in mind the trade-off on tool-change time and estimated machining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or design fixtures for each set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e the plan generated and make necessary modif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cutting parameters for each ope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E7E-1DC4-4427-8957-DA7E04B2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9FF-668E-487D-9011-4588A217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514BE-325B-4A2F-9C00-9D561187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6D872-2F1D-49C2-863C-A21D1C15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CC8A5-5486-427B-A3DD-7D91260D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7D4F8-CAFD-4C1D-9B2B-6A034034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CE847-EC85-424C-B66F-031D1A67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350D1-CD65-444F-AD2E-CA5B84F9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52605-9D26-4C79-985F-BF7C1DBD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6A72A-7F64-4E1B-A023-6372A4AE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59888-8D70-42F9-BAA1-8A515B33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45C-85C3-4F33-9C2F-E5680A1B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474-5750-4307-B122-039E02D9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57DA-E6DF-4D62-BD29-C98B57EB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F83D-A238-4507-8F7C-4F6C705B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4EC7-3511-4C09-BEB5-B44895F1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183B-57EB-485A-A169-546D472B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07F2-EADE-4BB2-8984-BF2FBF04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0316-B3BC-47B8-821A-B6B7CC49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CEED-E26C-4733-A7D9-1CBB9480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80F-56EB-4B10-BBA5-23B6F70D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5D71-5C33-431E-BF6A-C256BE25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B279-4AFC-4130-842B-320DD6A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6AED-7027-4912-86FD-BCCCCAB8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2DD7-1D4D-4546-84BE-DD85F709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9DDE-D541-4D35-9363-6B9F5498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1E579-6ECE-4D32-A498-EC0AE938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5B07C-1517-4AAC-8B5D-69C8956D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9783C-5EA5-4C6A-8251-65FD4DD4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5A499-B317-49F3-B55C-106E983B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BB72E-1AD8-463B-B139-4BFF1016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693-C1DE-4DDE-8898-1914F62F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2D12A-8292-41CF-A09F-4F4503D0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54DE3-F693-4F1E-99CA-495A8C3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D0280-15E0-451B-BD3B-1A99BACC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B571E-ED79-4DA8-8D87-4930104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79654-0FA4-42AF-BF0F-685EA285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E37E5-21A7-4EE2-88AE-44D6C963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84FCF-27C9-410F-94CE-24254FCB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395AB-F708-40BC-AE65-415E7FC2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141EA-841E-4E1C-B9BC-B6862787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567A1-495D-4E53-AFC8-5E0F959A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FCA-1FA2-4046-8D39-00E0A60C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42D847-5020-447B-A316-779E104F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1CC6D2-63D2-479D-AEBF-0DF7682C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46800-A93A-42E7-AAAB-0910090D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2C95E-8DFE-4AF1-863F-CC5AE6E0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8C9F0-AD61-4966-8B7F-94C5242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6DC10-05F3-4A8D-979B-58913C87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A4DEF-0245-47DE-9B06-AACCEBD3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A5187-8E19-4181-BAA6-3C88B2AE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F2644-D3FA-480C-830E-BF640E59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60D71-BEAC-4952-A420-66FFED50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304-3F3C-46E9-80AF-53FC8C52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90A48-99BA-41E8-8F6C-D8AE422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AB00B-A7BF-4CE3-A4A3-DB8494BB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A3FEE-55D7-4359-8F05-0EE54C25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25F6D-DCC8-40C3-9961-12B55B7B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03142-F120-47A1-8A5E-097F87C3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6F4A6-0979-40FF-8E17-D7F45445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91AD8-7C0B-4504-9987-5A87695E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270E0-800A-4197-82F8-D5B5C434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1B9A3-4240-43C0-97D0-922572AF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ED6B1-6435-46EE-9427-8EC6FD9A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89D-04B3-44D0-B262-4B005230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36D34-5647-4236-839A-8415705A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27760-5A04-40D7-B4A9-657444B6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D821F-8996-4D5E-9360-8945FD67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49EED-793F-4C41-967B-32B1D319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93BD0-CB4B-40EC-8CB0-08E4D732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B40D3-9767-4B1D-92FA-F1D03100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1D172-939D-4B31-88F2-16426808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AA1D6-70C2-4417-ACB2-CBB92BD2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D8D8C-C7B5-4033-B7AF-6E5EF160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51347-11B8-4265-8865-05D487CB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A65-CBF1-4C28-A7CC-B7E7A85E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E5973-ECFA-4483-9704-91F1F98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B88C-6BD7-45EE-A1C7-44D2BC18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CE070-A05C-42F8-8930-9AD18B64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A2DA4-95EA-49FB-9AB9-CE99F174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7FAAC-D431-493E-9FAA-8B753A9E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28672-1AF8-4838-B51A-2533A643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91BF9-415F-4378-8F16-BC25DBB2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95B4-C4CA-490C-90E5-AAB95DAA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8C37D-026D-45E3-81C5-9639897E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8FECB-F51E-48F4-939B-659B615B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176-5E3D-49F8-82CB-51B2944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A46C4-7BC7-42A4-8D3E-654EE5A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C2392-FA18-431F-B40E-232EA103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B00F8-A570-432B-8A23-378300EB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C1FAC-DD3D-42D7-A82A-08D8C5B6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30DF5-ECCB-4BA4-B691-A17C5CEA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D88B4-9D9F-4F55-A07F-EDB5DB1D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D74ED5-B2C8-4537-AD39-78F8645F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D2316B-8D70-4A4A-9B8B-E1597552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C2446F-A55A-407D-992C-53A98539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DB7FE9-A215-469D-9D07-EC885D4E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B64-82E2-4562-B3CF-601C010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309F48-8AD8-4380-9129-99EEF959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B15BA-8E31-4219-8AB3-0EAEF781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1F0694-7AE1-4E2A-90A4-181C6363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F17A83-AC05-4B87-8357-AAE9479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941E5D-EA2B-49A4-BAD9-16B6D300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AC0121-4F13-480B-9CF0-84E99009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3AC50B-3470-4173-93BA-788AB40D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98802-A5D7-4567-BB56-64F5FF33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1DB96-1A18-4C73-A5B4-E84E7863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B9F15-D191-49B4-BF1C-930BA74F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D308-91A6-4178-A734-AB647750AF58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480CDBC6-14F7-4023-AB54-F8CE8A2554A1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1062-9263-4883-864E-D8682868ADFD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A92D-7D66-4555-BC34-C2B5B30BEAC6}" type="datetime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07/29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 </a:t>
            </a:r>
            <a:fld id="{EE9BAA9F-1AEE-405A-8C72-EB358FC1D9F8}" type="datetime10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16:22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6767-B4F9-4C5F-BB5F-F8F1D65ABA6F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3DA8-FA14-4FA8-8ACD-8787B962CB96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43D52C6E-E929-4E5F-8467-9A34BEE98C19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3289-50F3-40EE-8ACE-AEDEB9072072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9C36-605A-43F4-A94E-CA84132CCF56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8CD9F58B-24BF-477D-9289-DBE928BD2BB2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E710-0DA5-465D-98FB-786351D1D536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DCD4-4444-436C-9D6A-781F67157DF8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C14D9465-C504-42D6-A163-FD93901B7689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C81B-ACAB-483B-8303-AEDF197EBC8D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FD6B-3D43-4C86-B9A7-CF14E8892042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66D4A0F0-9057-4273-A3E1-94190C92C8AA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9DA4-A317-4404-B3FF-91EAA2A2BF70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D1AC-3F2E-45DE-9293-87EB046A32A4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2D2D8D69-5C25-4270-B54A-C8040C928A5A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1DD1-C8D5-4F17-8389-4E56F2974738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6120-B6C0-48DA-8416-D8142DEB0586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170D9C9F-5CF0-43EF-95B7-3B951A5460EA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9F47-7D1A-4751-85AB-49764072824B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EFC1-0EDD-4B90-9DD4-3DC367800E1C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9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FD5535AA-ECEB-4524-9FE5-9F0543286FA2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16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317D-CBA9-44CE-85D8-E9801DCF404E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809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3f68"/>
                </a:solidFill>
                <a:latin typeface="Tw Cen MT"/>
                <a:ea typeface="SimSun"/>
              </a:rPr>
              <a:t>Manual Process Planning</a:t>
            </a:r>
            <a:endParaRPr b="0" lang="en-US" sz="3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0" y="1981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Manufacturing Processes (2), IE-35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Ahmed M El-Sherbeeny, Ph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Spring 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:</a:t>
            </a:r>
            <a:br>
              <a:rPr sz="2900"/>
            </a:b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Examples of Process Plans</a:t>
            </a:r>
            <a:endParaRPr b="0" lang="en-US" sz="29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3A62-62A4-4C12-A084-7BA975729988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457200" y="1474920"/>
            <a:ext cx="8305920" cy="538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wide variety of manufacturing processes are used to produce a 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se processes can be classifi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ast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orming and shap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Jo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4BC4-42C1-41CE-BB48-647EBFEEA5E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drilling, countering, countersinking, deep-hole drill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ap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e milling, end 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u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ing, straight turning, taper turning, par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0E03-89A5-488D-9BE1-52E3D72B9F9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s that must be considered in selecting machining process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art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dimensional and geometric accuracy and 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vailable resources, including NC machines and cutting too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B4E8-81BF-434A-AD9F-C0E19A66445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art fe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istinctive geometric form or shape to be produced from raw mate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 determines process type, tool types (shapes and size), machine requirements (3-, 4-, or 5-axis), and tool pa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types of par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asic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imple forms/shapes that require only one machining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 holes, slots, pockets, shoulders, profiles, and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onsist of two or more basic part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.g. the combined result of two holes with different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F8FA-5B19-4C7F-9C41-A2FC7FDD079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lect the machining processes for the part shown in the figure given i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ssume required dimensional accuracy and surface roughness are within process capability of drilling and milling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our sides of the raw material have been pre-machined to required dim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C266-F004-4C7C-A7F5-5E42B2540FB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C7D5-10A9-49A0-806B-4B68994DB7A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2"/>
          <p:cNvGraphicFramePr/>
          <p:nvPr/>
        </p:nvGraphicFramePr>
        <p:xfrm>
          <a:off x="304920" y="2209680"/>
          <a:ext cx="8489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89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p flat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uter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machining processes for featur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ce-milling: the top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g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enter-drilling: the three hol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: the 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756B-13E5-45FD-B344-6FB7D17880D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three consid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atum surfaces should be machined first if multiple work-holding setup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f possible, datum surfaces should be pre-machined in manually operated machine to facilitate workpiece locating and clam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n cases wher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2 holding setups are required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rough datum surfaces are preprocessed in a manually operated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n used as setup references to produce finished datum surfaces for the final work-ho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is ensures the accuracy of the finished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159A-AEB9-4E2A-9393-3A37FDB71A2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3 consideration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urfaces with larger area hav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Larger surfaces tend to be more adaptable to disturbances resulting from machining operation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should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occurs when machining of one feature destroys a requirement for the production of other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is happens when there is interaction or dependency between machining ope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37CE-A0EA-4833-A7FD-4A1748776C5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Chapter Outlin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1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2" action="ppaction://hlinksldjump"/>
              </a:rPr>
              <a:t>Manual Process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3" action="ppaction://hlinksldjump"/>
              </a:rPr>
              <a:t>Process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4" action="ppaction://hlinksldjump"/>
              </a:rPr>
              <a:t>Part Features Identification and Processes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5" action="ppaction://hlinksldjump"/>
              </a:rPr>
              <a:t>Processes Sequ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C133-92FC-46A1-A600-A5F7DFEDC4B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igure shown in the next slide is a workpiece in which some features are inter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workpiece has five basic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 through slot in side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angle strips (strip 1, strip 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through holes on strip 1 that are perpendicular to side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 are two tapped holes perpendicular to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 the process sequence for producing the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5960-42D8-4260-B885-B5755D0DA8F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7223-FBBC-4968-B760-D7673FF4AD7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1"/>
          <p:cNvGraphicFramePr/>
          <p:nvPr/>
        </p:nvGraphicFramePr>
        <p:xfrm>
          <a:off x="1143000" y="1600200"/>
          <a:ext cx="716292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raw material is cut from a block stock with dimensions: 6.25 x 4.25 x 2.2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tudying the part features reve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through holes on strip 1 interact with the formation of angl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nteracts with the cutting of angle </a:t>
            </a:r>
            <a:r>
              <a:rPr b="0" lang="el-GR" sz="2100" spc="-1" strike="noStrike">
                <a:solidFill>
                  <a:srgbClr val="000000"/>
                </a:solidFill>
                <a:latin typeface="Cambria Math"/>
                <a:ea typeface="Cambria Math"/>
              </a:rPr>
              <a:t>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angle strip 1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drilling 2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holes must be produced before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kewise, making angle strip 2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setting up workpiece to produce the through 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e slot has to be machined before angle strip 2 is ma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001C-3170-410E-B21A-99F25522BF3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processes sequence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machining si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drilling two holes o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cutting the 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utting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 two tap holes and tapping the two ho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cutting angle stri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EAA7-4E65-47D0-AD39-A3B49D40BB8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EA09-56CA-45C2-90E4-8B2A2C308DA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1"/>
          <p:cNvGraphicFramePr/>
          <p:nvPr/>
        </p:nvGraphicFramePr>
        <p:xfrm>
          <a:off x="1828800" y="0"/>
          <a:ext cx="518148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0"/>
                    <a:ext cx="518148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Proces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now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process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engine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ro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ct of preparing detailed work instructions to produce a pa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’s a function within the manufacturing facility (see figur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stablishes processes and parameters used to convert part from initial form to final for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edetermined in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erson who develops process plan: often called process 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0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71DE-6253-41A2-B852-58E3DFD35B15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4200480" y="1892160"/>
            <a:ext cx="479124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unctions included in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aw material prepa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sequenc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arameter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ol path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2874-D201-45CF-87CC-43F390C79C3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tors Affecting Process Plan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ha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iz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ty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Quant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Value of the produ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Urgenc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system its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approaches to carry out task of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al Process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uter Aided Process Planning (CAP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23BA-61E5-48A6-BBE7-31CE6B8F522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ner must have following knowled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interpret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manufacturing processes and pract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tooling and 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what resources are available in the sho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how to use reference books (e.g. machinability data handbook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do computations on machining time and 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raw materia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00BC-020D-48ED-A75C-DD2A2218374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me necessary steps to prepare a process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tudy overall shape of par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dentify features, all critical dimen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oroughly study the drawing; try to identify all manufacturing features and no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best raw material shape to use if raw stock not giv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dentify datum surfaces; Use information on datum surfaces to determine the setu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machines for each setu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rough sequence of operations necessary to create all the features for each set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11B5-2E33-4055-9432-734242D20D9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 AKA (among othe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ning summa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tailed plan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parame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and tool sele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4444-8B77-4A15-A288-5420B216269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level of details in the plan depends on the ap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a pro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): description of an ope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s tools, machines to be used, process parameters, machining tim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 sequ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Summary of a process pla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3EA3-0E68-4721-8DFF-8A41F2234E3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01:56Z</dcterms:created>
  <dc:creator/>
  <dc:description/>
  <dc:language>en-US</dc:language>
  <cp:lastModifiedBy/>
  <dcterms:modified xsi:type="dcterms:W3CDTF">2015-05-07T06:57:53Z</dcterms:modified>
  <cp:revision>268</cp:revision>
  <dc:subject/>
  <dc:title>PRESENTATION TITLE PRESENTATION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