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30387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8400"/>
            <a:ext cx="46450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7188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 rtl="1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831160"/>
            <a:ext cx="30387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rtl="1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F0A87E-29EE-4057-8DE0-5F6B953CB3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397188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1440" y="8831160"/>
            <a:ext cx="3038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438135-646D-41A1-8129-77EC8238AD4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199-81D4-44FA-BE82-7BD47A9E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1C9-55BB-4581-B3EE-C665F7A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634-C7C9-4CD9-972B-181CE91C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296-5774-43A3-AE1D-F561AFBC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DF3-2812-4E1E-A422-11E24ED2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F59-CFBD-4A1F-86A9-DF07A4D5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51F-8B4D-4EB0-AE80-E3465C2A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B21-7EB6-4A7A-9787-A3C6479C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95D-AEC5-4449-8397-4A6E242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17D-6C68-4276-85D7-C938339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1D6-36CA-4056-8773-6DDEAB90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CCA-24E6-438C-9ABA-EDCBEE4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1749-FB9B-4D44-B5E9-182D69CD22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Soil" TargetMode="External"/><Relationship Id="rId4" Type="http://schemas.openxmlformats.org/officeDocument/2006/relationships/hyperlink" Target="http://en.wikipedia.org/wiki/Sand" TargetMode="External"/><Relationship Id="rId5" Type="http://schemas.openxmlformats.org/officeDocument/2006/relationships/hyperlink" Target="http://en.wikipedia.org/wiki/Silt" TargetMode="External"/><Relationship Id="rId6" Type="http://schemas.openxmlformats.org/officeDocument/2006/relationships/hyperlink" Target="http://en.wikipedia.org/wiki/Clay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54120" y="2901960"/>
            <a:ext cx="60577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 OF SO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24000" y="16286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re were no gravel in the soil, the line representing the three sizes included in the chart would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Calibri"/>
              </a:rPr>
              <a:t>intersect at a common po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836640"/>
            <a:ext cx="83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hart is based on only the fraction of soils that passes through 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</a:rPr>
              <a:t>No. 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ieve (opening = 2 m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24000" y="38624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concrete technology calle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er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24000" y="4437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centage of each class can be determined from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S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withou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S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percentage can be determined based on sieve size open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4000" y="28875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a certain percentage of the soil particles are </a:t>
            </a: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&gt; 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m in diameter, the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a correc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ill b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95280" y="189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80720" y="-270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it be desired to determine the textural classification of a soil whose grading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557360"/>
          <a:ext cx="2448000" cy="1828800"/>
        </p:xfrm>
        <a:graphic>
          <a:graphicData uri="http://schemas.openxmlformats.org/drawingml/2006/table">
            <a:tbl>
              <a:tblPr/>
              <a:tblGrid>
                <a:gridCol w="1511280"/>
                <a:gridCol w="93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-size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-size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58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5189400" cy="4719600"/>
          </a:xfrm>
          <a:prstGeom prst="rect">
            <a:avLst/>
          </a:prstGeom>
          <a:ln w="0">
            <a:noFill/>
          </a:ln>
        </p:spPr>
      </p:pic>
      <p:sp>
        <p:nvSpPr>
          <p:cNvPr id="110" name="Line 59"/>
          <p:cNvSpPr/>
          <p:nvPr/>
        </p:nvSpPr>
        <p:spPr>
          <a:xfrm flipH="1" flipV="1">
            <a:off x="5608800" y="3298680"/>
            <a:ext cx="1584000" cy="266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0"/>
          <p:cNvSpPr/>
          <p:nvPr/>
        </p:nvSpPr>
        <p:spPr>
          <a:xfrm flipH="1">
            <a:off x="6068520" y="3730680"/>
            <a:ext cx="1297080" cy="2233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2"/>
          <p:cNvSpPr/>
          <p:nvPr/>
        </p:nvSpPr>
        <p:spPr>
          <a:xfrm>
            <a:off x="179280" y="3429000"/>
            <a:ext cx="40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intersect within the area labeled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LO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ich is the textural class of this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4"/>
          <p:cNvSpPr/>
          <p:nvPr/>
        </p:nvSpPr>
        <p:spPr>
          <a:xfrm>
            <a:off x="254160" y="450864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5"/>
          <p:cNvSpPr/>
          <p:nvPr/>
        </p:nvSpPr>
        <p:spPr>
          <a:xfrm>
            <a:off x="250920" y="49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ould have used the point of intersec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ilt-size+ Clay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and-size + Clay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91160" y="-27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Example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778200" y="5391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xtural classification is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341360"/>
          <a:ext cx="2448000" cy="1622520"/>
        </p:xfrm>
        <a:graphic>
          <a:graphicData uri="http://schemas.openxmlformats.org/drawingml/2006/table">
            <a:tbl>
              <a:tblPr/>
              <a:tblGrid>
                <a:gridCol w="1511280"/>
                <a:gridCol w="936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-size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-siz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5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176720" cy="3797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9"/>
          <p:cNvSpPr/>
          <p:nvPr/>
        </p:nvSpPr>
        <p:spPr>
          <a:xfrm>
            <a:off x="108000" y="299736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nd the modified textural com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0"/>
              <p:cNvSpPr txBox="1"/>
              <p:nvPr/>
            </p:nvSpPr>
            <p:spPr>
              <a:xfrm>
                <a:off x="179280" y="3645000"/>
                <a:ext cx="3257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nd-siz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1"/>
              <p:cNvSpPr txBox="1"/>
              <p:nvPr/>
            </p:nvSpPr>
            <p:spPr>
              <a:xfrm>
                <a:off x="166680" y="4653000"/>
                <a:ext cx="31431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lt-siz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3"/>
              <p:cNvSpPr txBox="1"/>
              <p:nvPr/>
            </p:nvSpPr>
            <p:spPr>
              <a:xfrm>
                <a:off x="177840" y="5661000"/>
                <a:ext cx="3260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ay-siz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34"/>
          <p:cNvSpPr/>
          <p:nvPr/>
        </p:nvSpPr>
        <p:spPr>
          <a:xfrm>
            <a:off x="466560" y="5493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it be desired to determine the textural classification of a soil whose grading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3778200" y="5896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 large percentage of gravel, it may be called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GRAVELLY CL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"/>
          <p:cNvSpPr/>
          <p:nvPr/>
        </p:nvSpPr>
        <p:spPr>
          <a:xfrm>
            <a:off x="6588000" y="314172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"/>
          <p:cNvSpPr/>
          <p:nvPr/>
        </p:nvSpPr>
        <p:spPr>
          <a:xfrm flipV="1" rot="17845200">
            <a:off x="6566760" y="2328840"/>
            <a:ext cx="1440000" cy="635040"/>
          </a:xfrm>
          <a:custGeom>
            <a:avLst/>
            <a:gdLst/>
            <a:ahLst/>
            <a:rect l="l" t="t" r="r" b="b"/>
            <a:pathLst>
              <a:path w="2096297" h="738191">
                <a:moveTo>
                  <a:pt x="0" y="700088"/>
                </a:moveTo>
                <a:cubicBezTo>
                  <a:pt x="1570434" y="769144"/>
                  <a:pt x="3140868" y="838200"/>
                  <a:pt x="118586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324000" y="907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y are based entirely on  particle-size distribution and does not conside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PLASTIC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hich to great extent influences the physical properties of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9528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Limitations of Textural Classific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24000" y="37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two elaborate systems used at present ar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ASHT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C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Both systems take into account the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article-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istribu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lastic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24000" y="2133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textural classification systems do not take plasticity into account and are not totally indicative of many important soil properties, they are inadequate for most engineering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46240" y="49417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AASHTO classification system is used mostly by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highwa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epartmen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eotechnic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enginee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generally prefer the Unified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23920" y="227160"/>
            <a:ext cx="497052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ASSIFICATION BY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82160" y="955800"/>
            <a:ext cx="583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. AASHTO CLASS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1557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ASHT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 classification system was originally developed in the late 1920’s (1929) by the U.S. Bureau of Public Roads (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B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 for the classification of soils for highway subgrade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24000" y="31417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was developed as a result of the work of  Hogentogler in the 1920’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24000" y="551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iginally, the system classified soil as being either a group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a Group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24000" y="4581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ASHTO : Acronym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rica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socia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t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ghway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nsportatio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24000" y="4076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ed by Bureau of Public Roads in 193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24000" y="42512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went through various revisions since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192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and the classification system received its last revision i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97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5114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T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-328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ASHT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etho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14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24000" y="40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Group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 was able to maintain uniform pavement support at all location whereas the Group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s were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24000" y="1197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signation was subsequently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elet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leaving onl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s in the classific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20559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equently,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“A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till remains in an AASHTO classification of a soil type, but it no longer has any real signifi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324000" y="32907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s were subdivided into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ubgrade soil groups.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-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-8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50920" y="878040"/>
            <a:ext cx="8569080" cy="384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Text Box 5"/>
          <p:cNvSpPr/>
          <p:nvPr/>
        </p:nvSpPr>
        <p:spPr>
          <a:xfrm>
            <a:off x="255240" y="4869000"/>
            <a:ext cx="2867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ests Requ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980360" y="5410080"/>
            <a:ext cx="31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in-siz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qui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stic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5440" y="189000"/>
            <a:ext cx="15462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1908000" y="335772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598840" y="36734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674800" y="2808360"/>
            <a:ext cx="528840" cy="260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824280" y="3062160"/>
            <a:ext cx="649440" cy="3844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3538440" y="458136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9"/>
          <p:cNvSpPr/>
          <p:nvPr/>
        </p:nvSpPr>
        <p:spPr>
          <a:xfrm>
            <a:off x="189360" y="4859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468360" y="51814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addition to Sieve no. 10 &amp; 200 also sieve no. 40 is involved in AASHTO classification which separates between medium and fine 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the classification, differentiation between silt and clay soils is based on plast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6"/>
          <p:cNvGrpSpPr/>
          <p:nvPr/>
        </p:nvGrpSpPr>
        <p:grpSpPr>
          <a:xfrm>
            <a:off x="900000" y="376200"/>
            <a:ext cx="6840720" cy="4276800"/>
            <a:chOff x="900000" y="376200"/>
            <a:chExt cx="6840720" cy="427680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376200"/>
              <a:ext cx="6840720" cy="42768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976320" y="2487240"/>
              <a:ext cx="6480720" cy="593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Straight Arrow Connector 2"/>
            <p:cNvCxnSpPr/>
            <p:nvPr/>
          </p:nvCxnSpPr>
          <p:spPr>
            <a:xfrm>
              <a:off x="4419360" y="2679120"/>
              <a:ext cx="1080" cy="169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</p:cxnSp>
        <p:sp>
          <p:nvSpPr>
            <p:cNvPr id="160" name="TextBox 3"/>
            <p:cNvSpPr/>
            <p:nvPr/>
          </p:nvSpPr>
          <p:spPr>
            <a:xfrm>
              <a:off x="3840120" y="282348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ieve No.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3"/>
            <p:cNvSpPr/>
            <p:nvPr/>
          </p:nvSpPr>
          <p:spPr>
            <a:xfrm>
              <a:off x="5439600" y="2824200"/>
              <a:ext cx="13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ieve No. 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Straight Arrow Connector 19"/>
            <p:cNvCxnSpPr/>
            <p:nvPr/>
          </p:nvCxnSpPr>
          <p:spPr>
            <a:xfrm>
              <a:off x="6094800" y="2679840"/>
              <a:ext cx="1080" cy="169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A99E-641E-43AB-AE31-351532299A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07320" cy="5322600"/>
          </a:xfrm>
          <a:prstGeom prst="rect">
            <a:avLst/>
          </a:prstGeom>
          <a:ln w="0">
            <a:noFill/>
          </a:ln>
        </p:spPr>
      </p:pic>
      <p:sp>
        <p:nvSpPr>
          <p:cNvPr id="165" name="Line 12"/>
          <p:cNvSpPr/>
          <p:nvPr/>
        </p:nvSpPr>
        <p:spPr>
          <a:xfrm>
            <a:off x="3387600" y="62064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2843280" y="620640"/>
            <a:ext cx="0" cy="647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4356000" y="62064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5364000" y="620640"/>
            <a:ext cx="0" cy="647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 flipH="1">
            <a:off x="3387600" y="1459080"/>
            <a:ext cx="6480" cy="499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4368960" y="1506600"/>
            <a:ext cx="0" cy="446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 flipH="1">
            <a:off x="5363640" y="1514520"/>
            <a:ext cx="49320" cy="496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2843280" y="1484280"/>
            <a:ext cx="0" cy="446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2228040" y="66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3066840" y="2919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3916800" y="301680"/>
            <a:ext cx="11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42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5011920" y="44280"/>
            <a:ext cx="11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 flipH="1">
            <a:off x="1187280" y="1514520"/>
            <a:ext cx="20880" cy="49388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4"/>
          <p:cNvCxnSpPr/>
          <p:nvPr/>
        </p:nvCxnSpPr>
        <p:spPr>
          <a:xfrm>
            <a:off x="1208160" y="6244920"/>
            <a:ext cx="2186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9" name="TextBox 5"/>
          <p:cNvSpPr/>
          <p:nvPr/>
        </p:nvSpPr>
        <p:spPr>
          <a:xfrm>
            <a:off x="7378920" y="613584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SH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1730880" y="5932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26720" y="92160"/>
            <a:ext cx="9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C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1"/>
          <p:cNvSpPr/>
          <p:nvPr/>
        </p:nvSpPr>
        <p:spPr>
          <a:xfrm>
            <a:off x="1090440" y="176040"/>
            <a:ext cx="1011240" cy="292320"/>
          </a:xfrm>
          <a:prstGeom prst="rightArrow">
            <a:avLst>
              <a:gd name="adj1" fmla="val 50000"/>
              <a:gd name="adj2" fmla="val 4972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"/>
          <p:cNvCxnSpPr/>
          <p:nvPr/>
        </p:nvCxnSpPr>
        <p:spPr>
          <a:xfrm>
            <a:off x="3413160" y="6238440"/>
            <a:ext cx="199152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Down Arrow 4"/>
          <p:cNvSpPr/>
          <p:nvPr/>
        </p:nvSpPr>
        <p:spPr>
          <a:xfrm rot="5400000">
            <a:off x="6496560" y="5607720"/>
            <a:ext cx="344520" cy="1409760"/>
          </a:xfrm>
          <a:prstGeom prst="downArrow">
            <a:avLst>
              <a:gd name="adj1" fmla="val 50000"/>
              <a:gd name="adj2" fmla="val 5007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3985920" y="59277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8323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1351080" y="3403440"/>
            <a:ext cx="2103480" cy="366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386320" y="4968720"/>
            <a:ext cx="2349720" cy="366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475240" y="2206800"/>
            <a:ext cx="2351160" cy="36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21840" y="279360"/>
            <a:ext cx="8481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ve No. involved in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ASH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Class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37600" y="44280"/>
            <a:ext cx="2899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76200" y="47628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il classification is the arrangement of different soils with similar properties in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group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ubgroup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d on their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6200" y="155736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ils may be classified in a general way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53720" y="2062080"/>
            <a:ext cx="31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hesive vs. cohes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051200" y="2422440"/>
            <a:ext cx="37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ine- grained vs. coarse g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41480" y="2781360"/>
            <a:ext cx="30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sidual vs. Trans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76200" y="314172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ever these terms are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too gener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cover too wide range of physical and engineering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95280" y="39895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refin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lassification is necessary to determine the suitability of a soil for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pecifi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ngineering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95280" y="47480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fore, these terms are collected into SOIL CLASSIFICATION SYSTEMS, usually with some 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</a:rPr>
              <a:t>specific engineering purpose in m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85920" y="5910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number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lassif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have been proposed since th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quarter of the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1800" cy="5511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3851280" y="1197000"/>
            <a:ext cx="3529080" cy="576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242120" y="5816520"/>
            <a:ext cx="17355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2340000" y="2563920"/>
            <a:ext cx="0" cy="29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2050920" y="2708280"/>
            <a:ext cx="6337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93080" cy="49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Rectangle 5"/>
          <p:cNvSpPr/>
          <p:nvPr/>
        </p:nvSpPr>
        <p:spPr>
          <a:xfrm>
            <a:off x="4500720" y="907920"/>
            <a:ext cx="3528720" cy="576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738840" y="5950080"/>
            <a:ext cx="17355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3851280" y="2637000"/>
            <a:ext cx="0" cy="20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3564000" y="2997360"/>
            <a:ext cx="432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image1120"/>
          <p:cNvPicPr/>
          <p:nvPr/>
        </p:nvPicPr>
        <p:blipFill>
          <a:blip r:embed="rId1"/>
          <a:stretch/>
        </p:blipFill>
        <p:spPr>
          <a:xfrm>
            <a:off x="511200" y="344520"/>
            <a:ext cx="8632800" cy="56196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0"/>
          <p:cNvSpPr/>
          <p:nvPr/>
        </p:nvSpPr>
        <p:spPr>
          <a:xfrm>
            <a:off x="3708360" y="4649760"/>
            <a:ext cx="1440000" cy="2732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6659640" y="4664160"/>
            <a:ext cx="1439640" cy="2300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39640" y="560088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For classification starts apply the test data from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eft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 to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ight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top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 to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bottom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y process of elimination, the first group from the left into which the test data fit is the correct class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6199200" y="358920"/>
            <a:ext cx="28440" cy="475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3564000" y="344520"/>
            <a:ext cx="1584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588000" y="344520"/>
            <a:ext cx="1584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603360" y="17953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.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601560" y="20574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.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591480" y="2313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.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771640" y="2174760"/>
            <a:ext cx="6115320" cy="434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324000" y="13302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oil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annot use this chart (mainly non plastic soi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324000" y="1159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plot below is for the range of the liquid limit and the plasticity index for soils that fall into group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-2, A-4, A-5, A-6, and A-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324000" y="3068640"/>
            <a:ext cx="2016000" cy="219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Differentiation between A-2’s and other group is based on %passing Sieve No.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24000" y="692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this system, soil is classified into eight major group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24000" y="15969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 group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eat (very organic) or muck (thin very watery, and with considerable organic materi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24000" y="2565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oil is classified according to the table by proceeding from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le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r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bot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table to find the first group in which the soil test data will 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24000" y="4191120"/>
            <a:ext cx="83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oup from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which the test data will fit is the correct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8680" y="1015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24000" y="5127480"/>
            <a:ext cx="83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ification process stops at this point regardless if another column farther to the right can also qua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37440" y="44280"/>
            <a:ext cx="2312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GROUP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476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 contain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e-grain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terial are further identified by a number called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GROUP INDEX (G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is was to establish the relati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AN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soil within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bgro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help in evaluating the quality of a soil as a highway subgrad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95280" y="24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dependent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84360" y="2924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Percentage of the soil passing the No. 200 (0.075 mm) s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73240" y="3718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Liquid limit, 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682200" y="42210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 Plasticity Index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95280" y="4724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ex is given by the following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1776240" y="5246640"/>
                <a:ext cx="55198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Text Box 14"/>
          <p:cNvSpPr/>
          <p:nvPr/>
        </p:nvSpPr>
        <p:spPr>
          <a:xfrm>
            <a:off x="920160" y="6237360"/>
            <a:ext cx="45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% passing No. 200 s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82320" y="184320"/>
            <a:ext cx="608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les for Determining Group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68360" y="784080"/>
            <a:ext cx="828036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GI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 take it a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z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 is rounded off to the neares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o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mit for 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up index belonging to group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1-a, A-1-b, A-2-4, A-2-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ll always b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z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calculating the group index for soils belonging to group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2-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2-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partial group index for PI should be used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up index value is written in parenthesis next to the AASHTO symbol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. A-2-6(3), A- 4(5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eneral the higher the GI, the </a:t>
            </a: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less desir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soil for use as a subgrade.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icates a 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subgrade , and a GI&gt; or equ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icates a 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subgrade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1908000" y="3716280"/>
                <a:ext cx="5256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4"/>
          <p:cNvGrpSpPr/>
          <p:nvPr/>
        </p:nvGrpSpPr>
        <p:grpSpPr>
          <a:xfrm>
            <a:off x="428760" y="330120"/>
            <a:ext cx="8632800" cy="6554880"/>
            <a:chOff x="428760" y="330120"/>
            <a:chExt cx="8632800" cy="6554880"/>
          </a:xfrm>
        </p:grpSpPr>
        <p:pic>
          <p:nvPicPr>
            <p:cNvPr id="234" name="Picture 5" descr="image1120"/>
            <p:cNvPicPr/>
            <p:nvPr/>
          </p:nvPicPr>
          <p:blipFill>
            <a:blip r:embed="rId1"/>
            <a:stretch/>
          </p:blipFill>
          <p:spPr>
            <a:xfrm>
              <a:off x="428760" y="1266120"/>
              <a:ext cx="8632800" cy="56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"/>
            <p:cNvSpPr/>
            <p:nvPr/>
          </p:nvSpPr>
          <p:spPr>
            <a:xfrm>
              <a:off x="481320" y="270612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479520" y="296784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469440" y="322344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"/>
            <p:cNvSpPr/>
            <p:nvPr/>
          </p:nvSpPr>
          <p:spPr>
            <a:xfrm>
              <a:off x="563760" y="330120"/>
              <a:ext cx="4374720" cy="568800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2054880" y="567000"/>
              <a:ext cx="1022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I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"/>
            <p:cNvSpPr/>
            <p:nvPr/>
          </p:nvSpPr>
          <p:spPr>
            <a:xfrm>
              <a:off x="4931640" y="330120"/>
              <a:ext cx="1152000" cy="56880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"/>
            <p:cNvSpPr/>
            <p:nvPr/>
          </p:nvSpPr>
          <p:spPr>
            <a:xfrm>
              <a:off x="5049720" y="374760"/>
              <a:ext cx="932040" cy="91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6136920" y="330120"/>
              <a:ext cx="2339280" cy="5688000"/>
            </a:xfrm>
            <a:prstGeom prst="rect">
              <a:avLst/>
            </a:prstGeom>
            <a:noFill/>
            <a:ln w="572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7"/>
            <p:cNvSpPr/>
            <p:nvPr/>
          </p:nvSpPr>
          <p:spPr>
            <a:xfrm>
              <a:off x="6297480" y="613440"/>
              <a:ext cx="200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ll Group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190800" y="414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95280" y="620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eve analysis and plasticity data for two soils are given in the table below. Classify soils according to the AASHTO soil classific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132000" y="2205000"/>
          <a:ext cx="3095640" cy="349236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  <a:gridCol w="1008000"/>
              </a:tblGrid>
              <a:tr h="71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1"/>
          <p:cNvGrpSpPr/>
          <p:nvPr/>
        </p:nvGrpSpPr>
        <p:grpSpPr>
          <a:xfrm>
            <a:off x="-40680" y="333360"/>
            <a:ext cx="7263720" cy="4562640"/>
            <a:chOff x="-40680" y="333360"/>
            <a:chExt cx="7263720" cy="4562640"/>
          </a:xfrm>
        </p:grpSpPr>
        <p:pic>
          <p:nvPicPr>
            <p:cNvPr id="248" name="Picture 5" descr="image1120"/>
            <p:cNvPicPr/>
            <p:nvPr/>
          </p:nvPicPr>
          <p:blipFill>
            <a:blip r:embed="rId1"/>
            <a:stretch/>
          </p:blipFill>
          <p:spPr>
            <a:xfrm>
              <a:off x="9720" y="333360"/>
              <a:ext cx="7213320" cy="45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1"/>
            <p:cNvSpPr/>
            <p:nvPr/>
          </p:nvSpPr>
          <p:spPr>
            <a:xfrm>
              <a:off x="-25560" y="148464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9"/>
            <p:cNvSpPr/>
            <p:nvPr/>
          </p:nvSpPr>
          <p:spPr>
            <a:xfrm>
              <a:off x="-27000" y="170892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-40680" y="192744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3"/>
              <p:cNvSpPr txBox="1"/>
              <p:nvPr/>
            </p:nvSpPr>
            <p:spPr>
              <a:xfrm>
                <a:off x="2771640" y="4248000"/>
                <a:ext cx="3972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53" name=""/>
          <p:cNvGraphicFramePr/>
          <p:nvPr/>
        </p:nvGraphicFramePr>
        <p:xfrm>
          <a:off x="6804000" y="326880"/>
          <a:ext cx="2341440" cy="2951280"/>
        </p:xfrm>
        <a:graphic>
          <a:graphicData uri="http://schemas.openxmlformats.org/drawingml/2006/table">
            <a:tbl>
              <a:tblPr/>
              <a:tblGrid>
                <a:gridCol w="816120"/>
                <a:gridCol w="763560"/>
                <a:gridCol w="761760"/>
              </a:tblGrid>
              <a:tr h="60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grpSp>
        <p:nvGrpSpPr>
          <p:cNvPr id="254" name="Group 4"/>
          <p:cNvGrpSpPr/>
          <p:nvPr/>
        </p:nvGrpSpPr>
        <p:grpSpPr>
          <a:xfrm>
            <a:off x="114480" y="4927680"/>
            <a:ext cx="4321080" cy="1820520"/>
            <a:chOff x="114480" y="4927680"/>
            <a:chExt cx="4321080" cy="1820520"/>
          </a:xfrm>
        </p:grpSpPr>
        <p:sp>
          <p:nvSpPr>
            <p:cNvPr id="255" name="Text Box 161"/>
            <p:cNvSpPr/>
            <p:nvPr/>
          </p:nvSpPr>
          <p:spPr>
            <a:xfrm>
              <a:off x="116280" y="4927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Soil 1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72"/>
            <p:cNvSpPr/>
            <p:nvPr/>
          </p:nvSpPr>
          <p:spPr>
            <a:xfrm>
              <a:off x="1616400" y="4927680"/>
              <a:ext cx="119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-7-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3"/>
            <p:cNvSpPr/>
            <p:nvPr/>
          </p:nvSpPr>
          <p:spPr>
            <a:xfrm>
              <a:off x="114480" y="5535000"/>
              <a:ext cx="432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GI =(75-35)[0.2+.005(110-40)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              +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0.01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75-15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)[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60-10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] = 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74"/>
            <p:cNvSpPr/>
            <p:nvPr/>
          </p:nvSpPr>
          <p:spPr>
            <a:xfrm>
              <a:off x="118440" y="6227640"/>
              <a:ext cx="354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soil is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A-7-5</a:t>
              </a:r>
              <a:r>
                <a:rPr b="1" lang="en-US" sz="2800" spc="-1" strike="noStrike">
                  <a:solidFill>
                    <a:srgbClr val="cc0066"/>
                  </a:solidFill>
                  <a:latin typeface="Arial"/>
                </a:rPr>
                <a:t>(5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75"/>
          <p:cNvSpPr/>
          <p:nvPr/>
        </p:nvSpPr>
        <p:spPr>
          <a:xfrm>
            <a:off x="5294520" y="5635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il 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6"/>
          <p:cNvSpPr/>
          <p:nvPr/>
        </p:nvSpPr>
        <p:spPr>
          <a:xfrm>
            <a:off x="6732720" y="564840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-1-a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"/>
          <p:cNvSpPr/>
          <p:nvPr/>
        </p:nvSpPr>
        <p:spPr>
          <a:xfrm>
            <a:off x="4788000" y="5259240"/>
            <a:ext cx="0" cy="151308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96720" y="1916280"/>
            <a:ext cx="672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ED FOR SOIL CLASSIFIC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95280" y="2427120"/>
            <a:ext cx="82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soil classification system represents, in effect, a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Calibri"/>
              </a:rPr>
              <a:t>language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communication between engin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3308400"/>
            <a:ext cx="82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enables one to use the engineering experience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95280" y="3900600"/>
            <a:ext cx="82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gineer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perti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have been found to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rrel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quite well with the index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if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perti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a given soil depo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95280" y="52531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fore, by knowing the soil classification, the engineer already has a fairly goo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de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the way the soil will be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95280" y="316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st of the soil classification systems that have been developed for engineering purposes are based on simple index properties such as particle-size distribution and plast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7"/>
          <p:cNvGrpSpPr/>
          <p:nvPr/>
        </p:nvGrpSpPr>
        <p:grpSpPr>
          <a:xfrm>
            <a:off x="1289160" y="1285920"/>
            <a:ext cx="6194160" cy="4408560"/>
            <a:chOff x="1289160" y="1285920"/>
            <a:chExt cx="6194160" cy="4408560"/>
          </a:xfrm>
        </p:grpSpPr>
        <p:pic>
          <p:nvPicPr>
            <p:cNvPr id="263" name="Picture 4" descr=""/>
            <p:cNvPicPr/>
            <p:nvPr/>
          </p:nvPicPr>
          <p:blipFill>
            <a:blip r:embed="rId1"/>
            <a:stretch/>
          </p:blipFill>
          <p:spPr>
            <a:xfrm>
              <a:off x="1289160" y="1285920"/>
              <a:ext cx="6194160" cy="44085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64" name="Straight Connector 6"/>
            <p:cNvSpPr/>
            <p:nvPr/>
          </p:nvSpPr>
          <p:spPr>
            <a:xfrm flipV="1">
              <a:off x="6904440" y="1645920"/>
              <a:ext cx="0" cy="2932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12"/>
          <p:cNvSpPr/>
          <p:nvPr/>
        </p:nvSpPr>
        <p:spPr>
          <a:xfrm flipV="1">
            <a:off x="6824520" y="1828800"/>
            <a:ext cx="168480" cy="1699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4"/>
          <p:cNvSpPr/>
          <p:nvPr/>
        </p:nvSpPr>
        <p:spPr>
          <a:xfrm>
            <a:off x="1755720" y="1916280"/>
            <a:ext cx="54612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3"/>
          <p:cNvSpPr/>
          <p:nvPr/>
        </p:nvSpPr>
        <p:spPr>
          <a:xfrm>
            <a:off x="6184800" y="4578480"/>
            <a:ext cx="129852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5"/>
          <p:cNvSpPr/>
          <p:nvPr/>
        </p:nvSpPr>
        <p:spPr>
          <a:xfrm>
            <a:off x="6625800" y="459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9"/>
          <p:cNvSpPr/>
          <p:nvPr/>
        </p:nvSpPr>
        <p:spPr>
          <a:xfrm flipH="1" rot="631200">
            <a:off x="5986800" y="806040"/>
            <a:ext cx="1167480" cy="946080"/>
          </a:xfrm>
          <a:custGeom>
            <a:avLst/>
            <a:gdLst/>
            <a:ahLst/>
            <a:rect l="l" t="t" r="r" b="b"/>
            <a:pathLst>
              <a:path w="1204858" h="1384948">
                <a:moveTo>
                  <a:pt x="55417" y="1384948"/>
                </a:moveTo>
                <a:cubicBezTo>
                  <a:pt x="-1" y="848084"/>
                  <a:pt x="-55419" y="311221"/>
                  <a:pt x="110836" y="96476"/>
                </a:cubicBezTo>
                <a:cubicBezTo>
                  <a:pt x="277091" y="-118269"/>
                  <a:pt x="872836" y="91858"/>
                  <a:pt x="1052945" y="96476"/>
                </a:cubicBezTo>
                <a:cubicBezTo>
                  <a:pt x="1233054" y="101094"/>
                  <a:pt x="1212272" y="112639"/>
                  <a:pt x="1191490" y="12418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1"/>
          <p:cNvSpPr/>
          <p:nvPr/>
        </p:nvSpPr>
        <p:spPr>
          <a:xfrm>
            <a:off x="4321440" y="1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il 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2"/>
          <p:cNvSpPr/>
          <p:nvPr/>
        </p:nvSpPr>
        <p:spPr>
          <a:xfrm>
            <a:off x="5580720" y="18900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-7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5127480" y="5811840"/>
            <a:ext cx="37324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cause %Passing #200 &gt;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oil is classified as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-7-5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A-2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6337440" cy="2257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300400" y="2806560"/>
            <a:ext cx="6084720" cy="37544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09440" y="-10008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7"/>
          <p:cNvGrpSpPr/>
          <p:nvPr/>
        </p:nvGrpSpPr>
        <p:grpSpPr>
          <a:xfrm>
            <a:off x="539640" y="404640"/>
            <a:ext cx="6195960" cy="4407120"/>
            <a:chOff x="539640" y="404640"/>
            <a:chExt cx="6195960" cy="4407120"/>
          </a:xfrm>
        </p:grpSpPr>
        <p:pic>
          <p:nvPicPr>
            <p:cNvPr id="277" name="Picture 4" descr=""/>
            <p:cNvPicPr/>
            <p:nvPr/>
          </p:nvPicPr>
          <p:blipFill>
            <a:blip r:embed="rId1"/>
            <a:stretch/>
          </p:blipFill>
          <p:spPr>
            <a:xfrm>
              <a:off x="539640" y="404640"/>
              <a:ext cx="6195960" cy="4407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78" name="Straight Connector 3"/>
            <p:cNvSpPr/>
            <p:nvPr/>
          </p:nvSpPr>
          <p:spPr>
            <a:xfrm>
              <a:off x="1187640" y="2276640"/>
              <a:ext cx="3384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6"/>
            <p:cNvSpPr/>
            <p:nvPr/>
          </p:nvSpPr>
          <p:spPr>
            <a:xfrm flipV="1">
              <a:off x="4356360" y="1988640"/>
              <a:ext cx="0" cy="1728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177"/>
              <p:cNvSpPr txBox="1"/>
              <p:nvPr/>
            </p:nvSpPr>
            <p:spPr>
              <a:xfrm>
                <a:off x="971640" y="5187960"/>
                <a:ext cx="46800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TextBox 9"/>
          <p:cNvSpPr/>
          <p:nvPr/>
        </p:nvSpPr>
        <p:spPr>
          <a:xfrm>
            <a:off x="6594120" y="5003640"/>
            <a:ext cx="1492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200     8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L        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          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4284720" y="2205000"/>
            <a:ext cx="142920" cy="144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5237280" y="1527120"/>
            <a:ext cx="37335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cause %Passing #200 &gt;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oil is classified as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-7-5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A-2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126000" y="64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</a:t>
            </a: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71360" y="5904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ain size distribution curve, natural water content, liquid limit, and liquidity index are give below. Classify the soil according t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ASH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ification 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559"/>
              <p:cNvSpPr txBox="1"/>
              <p:nvPr/>
            </p:nvSpPr>
            <p:spPr>
              <a:xfrm>
                <a:off x="4076640" y="2038320"/>
                <a:ext cx="26416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Line 2560"/>
          <p:cNvSpPr/>
          <p:nvPr/>
        </p:nvSpPr>
        <p:spPr>
          <a:xfrm>
            <a:off x="6742080" y="2397240"/>
            <a:ext cx="57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563"/>
          <p:cNvSpPr/>
          <p:nvPr/>
        </p:nvSpPr>
        <p:spPr>
          <a:xfrm>
            <a:off x="7320240" y="21812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 =21.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64"/>
          <p:cNvSpPr/>
          <p:nvPr/>
        </p:nvSpPr>
        <p:spPr>
          <a:xfrm>
            <a:off x="6823080" y="297324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 = 18.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221000" y="2901960"/>
          <a:ext cx="2087640" cy="283536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Object 2607"/>
          <p:cNvGraphicFramePr/>
          <p:nvPr/>
        </p:nvGraphicFramePr>
        <p:xfrm>
          <a:off x="109440" y="2379600"/>
          <a:ext cx="373068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2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2379600"/>
                    <a:ext cx="373068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 Box 2612"/>
          <p:cNvSpPr/>
          <p:nvPr/>
        </p:nvSpPr>
        <p:spPr>
          <a:xfrm>
            <a:off x="5715720" y="24033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13"/>
          <p:cNvSpPr/>
          <p:nvPr/>
        </p:nvSpPr>
        <p:spPr>
          <a:xfrm flipH="1">
            <a:off x="5877000" y="239724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2"/>
          <p:cNvSpPr/>
          <p:nvPr/>
        </p:nvSpPr>
        <p:spPr>
          <a:xfrm>
            <a:off x="3963960" y="1652760"/>
            <a:ext cx="6480" cy="50101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74400" y="18795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6"/>
          <p:cNvSpPr/>
          <p:nvPr/>
        </p:nvSpPr>
        <p:spPr>
          <a:xfrm>
            <a:off x="4388040" y="156384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1"/>
          <p:cNvGrpSpPr/>
          <p:nvPr/>
        </p:nvGrpSpPr>
        <p:grpSpPr>
          <a:xfrm>
            <a:off x="138600" y="936720"/>
            <a:ext cx="7264080" cy="4562280"/>
            <a:chOff x="138600" y="936720"/>
            <a:chExt cx="7264080" cy="4562280"/>
          </a:xfrm>
        </p:grpSpPr>
        <p:pic>
          <p:nvPicPr>
            <p:cNvPr id="299" name="Picture 5" descr="image1120"/>
            <p:cNvPicPr/>
            <p:nvPr/>
          </p:nvPicPr>
          <p:blipFill>
            <a:blip r:embed="rId1"/>
            <a:stretch/>
          </p:blipFill>
          <p:spPr>
            <a:xfrm>
              <a:off x="189000" y="936720"/>
              <a:ext cx="7213680" cy="45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1"/>
            <p:cNvSpPr/>
            <p:nvPr/>
          </p:nvSpPr>
          <p:spPr>
            <a:xfrm>
              <a:off x="153720" y="208800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9"/>
            <p:cNvSpPr/>
            <p:nvPr/>
          </p:nvSpPr>
          <p:spPr>
            <a:xfrm>
              <a:off x="152280" y="231228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0"/>
            <p:cNvSpPr/>
            <p:nvPr/>
          </p:nvSpPr>
          <p:spPr>
            <a:xfrm>
              <a:off x="138600" y="253080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2195640" y="4869000"/>
                <a:ext cx="4697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7056360" y="1012680"/>
          <a:ext cx="2087640" cy="283536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05" name="Text Box 2608"/>
          <p:cNvSpPr/>
          <p:nvPr/>
        </p:nvSpPr>
        <p:spPr>
          <a:xfrm>
            <a:off x="345960" y="6014880"/>
            <a:ext cx="80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AASHTO Table the soil is classified a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-2-6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7020000" y="1989000"/>
            <a:ext cx="2124000" cy="115272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7"/>
          <p:cNvGrpSpPr/>
          <p:nvPr/>
        </p:nvGrpSpPr>
        <p:grpSpPr>
          <a:xfrm>
            <a:off x="660240" y="115920"/>
            <a:ext cx="6196320" cy="4408560"/>
            <a:chOff x="660240" y="115920"/>
            <a:chExt cx="6196320" cy="440856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660240" y="115920"/>
              <a:ext cx="6196320" cy="44085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09" name="Straight Connector 3"/>
            <p:cNvSpPr/>
            <p:nvPr/>
          </p:nvSpPr>
          <p:spPr>
            <a:xfrm>
              <a:off x="1308240" y="2583360"/>
              <a:ext cx="1944360" cy="25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6"/>
            <p:cNvSpPr/>
            <p:nvPr/>
          </p:nvSpPr>
          <p:spPr>
            <a:xfrm flipV="1">
              <a:off x="3166920" y="2319840"/>
              <a:ext cx="0" cy="1108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1" name="Object 177"/>
              <p:cNvSpPr txBox="1"/>
              <p:nvPr/>
            </p:nvSpPr>
            <p:spPr>
              <a:xfrm>
                <a:off x="1092240" y="4900680"/>
                <a:ext cx="46800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Oval 12"/>
          <p:cNvSpPr/>
          <p:nvPr/>
        </p:nvSpPr>
        <p:spPr>
          <a:xfrm>
            <a:off x="3094200" y="2523960"/>
            <a:ext cx="144360" cy="144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3"/>
          <p:cNvSpPr/>
          <p:nvPr/>
        </p:nvSpPr>
        <p:spPr>
          <a:xfrm>
            <a:off x="5097600" y="1397160"/>
            <a:ext cx="3662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cause %Passing #200 &lt;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oil is classified as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-2-6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A-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032600" y="3106800"/>
          <a:ext cx="2087640" cy="283536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sp>
        <p:nvSpPr>
          <p:cNvPr id="315" name="TextBox 15"/>
          <p:cNvSpPr/>
          <p:nvPr/>
        </p:nvSpPr>
        <p:spPr>
          <a:xfrm>
            <a:off x="299880" y="6093000"/>
            <a:ext cx="8713800" cy="642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Note: If the location comes along the border line, we need to consult the table and the grain size will tell the classification of the given so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187200" y="173160"/>
            <a:ext cx="576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 About AASHTO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95280" y="765000"/>
            <a:ext cx="835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lders (retained on 75 mm (3 inch) sieve] should b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lu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portion of the sample to which the classification is applied, but the percentage of such material, if any, in the sample should b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cor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95280" y="220500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tion between A-7-5, A-7-6 is according to the following criter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878120" y="2924280"/>
            <a:ext cx="3105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I &lt;= LL- 30 ------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I &gt; LL- 30--------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-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95280" y="35798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laced before group A-2 in the table si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547640" y="3938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better as a sub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based only on gra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84360" y="4794120"/>
            <a:ext cx="806292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o it was easer to put A-3 before A-2 in order to facilitat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ft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ght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p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ottom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procedures applied in this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95280" y="5607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-1, A-3, A-2-4, A-2-5…&gt;&gt; F&lt;= 35% , PI &lt; 15, therefore GI –ve (i.e. GI always ze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5092200" y="3075120"/>
            <a:ext cx="31662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Or instead we use th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15640" y="257040"/>
            <a:ext cx="8931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B. UNIFIED SOIL CLASSIFICATION SYSTEM (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USCS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68360" y="90792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ystem was developed b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th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sagran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4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use in the air field construction works undertaken by the Army Corps of Engineers dur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468360" y="25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ke it applicable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other constructions besides airfields, it was revised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cooperation with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468360" y="393372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stem was last revised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addition of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group symbol. This modification has not been adopted by some agencies which u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lassify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468360" y="5661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TM Test Designa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-248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755640" y="2131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-grained soils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 =5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sses siev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-grained soil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 5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sses siev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24000" y="126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ystem classifies soils under three broad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24000" y="3429000"/>
            <a:ext cx="36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for US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957960" y="3792600"/>
            <a:ext cx="4286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ra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lasticity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sticity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rt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324000" y="5013360"/>
            <a:ext cx="31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re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2269080" y="5373720"/>
            <a:ext cx="304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in-siz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qui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stic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324000" y="303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ystem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classification system amo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otechn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gine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826920" y="2997360"/>
          <a:ext cx="7488360" cy="3394080"/>
        </p:xfrm>
        <a:graphic>
          <a:graphicData uri="http://schemas.openxmlformats.org/drawingml/2006/table">
            <a:tbl>
              <a:tblPr/>
              <a:tblGrid>
                <a:gridCol w="1368720"/>
                <a:gridCol w="2087280"/>
                <a:gridCol w="1513080"/>
                <a:gridCol w="251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 gra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ly Gra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78"/>
          <p:cNvSpPr/>
          <p:nvPr/>
        </p:nvSpPr>
        <p:spPr>
          <a:xfrm>
            <a:off x="539640" y="3747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oils are classified in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5 grou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ach group is designated by two letters called a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GROUP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9"/>
          <p:cNvSpPr/>
          <p:nvPr/>
        </p:nvSpPr>
        <p:spPr>
          <a:xfrm>
            <a:off x="539640" y="130032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letter of the group symbol is termed the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second letter is termed the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se letters are abbreviations of certain soil characteristics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874600" y="2549520"/>
            <a:ext cx="33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111680" y="3889440"/>
            <a:ext cx="68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gineering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ability, shear strength, compressi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ll-shrinkage et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180440" y="5545080"/>
            <a:ext cx="672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gineering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ation, Dams, Highways, Airfields, et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05440" y="379440"/>
            <a:ext cx="8128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le of Soil Classification in Geotech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917720" y="1297080"/>
            <a:ext cx="52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ification and index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, e,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s, GSD, LL, PI, et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979640" y="1268280"/>
            <a:ext cx="5184720" cy="865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979640" y="2521080"/>
            <a:ext cx="5184720" cy="865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114560" y="3817800"/>
            <a:ext cx="68421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114560" y="5545080"/>
            <a:ext cx="6842160" cy="93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4427640" y="2162160"/>
            <a:ext cx="0" cy="358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427640" y="3386160"/>
            <a:ext cx="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4427640" y="5113440"/>
            <a:ext cx="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235080" y="692280"/>
            <a:ext cx="8420040" cy="54007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450720" y="4365720"/>
            <a:ext cx="1224000" cy="86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50720" y="2262240"/>
            <a:ext cx="1295640" cy="1081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1890720" y="1700280"/>
            <a:ext cx="576360" cy="216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1819440" y="2781360"/>
            <a:ext cx="576000" cy="216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"/>
          <p:cNvSpPr/>
          <p:nvPr/>
        </p:nvSpPr>
        <p:spPr>
          <a:xfrm>
            <a:off x="1833480" y="2722680"/>
            <a:ext cx="662472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"/>
          <p:cNvSpPr/>
          <p:nvPr/>
        </p:nvSpPr>
        <p:spPr>
          <a:xfrm>
            <a:off x="1890720" y="4797360"/>
            <a:ext cx="6624720" cy="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306360" y="3789360"/>
            <a:ext cx="820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1890720" y="4221000"/>
            <a:ext cx="936720" cy="43200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1890720" y="5157720"/>
            <a:ext cx="936720" cy="43200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4"/>
          <p:cNvSpPr/>
          <p:nvPr/>
        </p:nvSpPr>
        <p:spPr>
          <a:xfrm rot="16200000">
            <a:off x="-978480" y="4755240"/>
            <a:ext cx="239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lasticity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"/>
          <p:cNvSpPr/>
          <p:nvPr/>
        </p:nvSpPr>
        <p:spPr>
          <a:xfrm>
            <a:off x="5562720" y="4005360"/>
            <a:ext cx="28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"/>
          <p:cNvSpPr/>
          <p:nvPr/>
        </p:nvSpPr>
        <p:spPr>
          <a:xfrm rot="16200000">
            <a:off x="8322480" y="2014200"/>
            <a:ext cx="811800" cy="3373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ra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4"/>
          <p:cNvSpPr/>
          <p:nvPr/>
        </p:nvSpPr>
        <p:spPr>
          <a:xfrm rot="16200000">
            <a:off x="8390880" y="3130560"/>
            <a:ext cx="674640" cy="3373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5"/>
          <p:cNvSpPr/>
          <p:nvPr/>
        </p:nvSpPr>
        <p:spPr>
          <a:xfrm rot="16200000">
            <a:off x="8278920" y="5076000"/>
            <a:ext cx="986760" cy="580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s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6"/>
          <p:cNvSpPr/>
          <p:nvPr/>
        </p:nvSpPr>
        <p:spPr>
          <a:xfrm rot="16200000">
            <a:off x="8278920" y="4005720"/>
            <a:ext cx="986760" cy="580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s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3"/>
          <p:cNvSpPr/>
          <p:nvPr/>
        </p:nvSpPr>
        <p:spPr>
          <a:xfrm>
            <a:off x="3032280" y="2176560"/>
            <a:ext cx="11523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804440" cy="5965920"/>
          </a:xfrm>
          <a:prstGeom prst="rect">
            <a:avLst/>
          </a:prstGeom>
          <a:ln w="0">
            <a:noFill/>
          </a:ln>
        </p:spPr>
      </p:pic>
      <p:sp>
        <p:nvSpPr>
          <p:cNvPr id="358" name="Straight Connector 2"/>
          <p:cNvSpPr/>
          <p:nvPr/>
        </p:nvSpPr>
        <p:spPr>
          <a:xfrm>
            <a:off x="7308720" y="3241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7308720" y="14270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6"/>
          <p:cNvCxnSpPr/>
          <p:nvPr/>
        </p:nvCxnSpPr>
        <p:spPr>
          <a:xfrm>
            <a:off x="7956360" y="1426680"/>
            <a:ext cx="1080" cy="18154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1" name="Straight Connector 9"/>
          <p:cNvSpPr/>
          <p:nvPr/>
        </p:nvSpPr>
        <p:spPr>
          <a:xfrm>
            <a:off x="7359480" y="595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10"/>
          <p:cNvCxnSpPr/>
          <p:nvPr/>
        </p:nvCxnSpPr>
        <p:spPr>
          <a:xfrm>
            <a:off x="7956360" y="3241440"/>
            <a:ext cx="1080" cy="27090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3" name="TextBox 12"/>
          <p:cNvSpPr/>
          <p:nvPr/>
        </p:nvSpPr>
        <p:spPr>
          <a:xfrm>
            <a:off x="8002440" y="422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7962840" y="2071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7433640" y="995400"/>
            <a:ext cx="1256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SH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5225760" y="995400"/>
            <a:ext cx="887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rcRect l="0" t="0" r="0" b="10399"/>
          <a:stretch/>
        </p:blipFill>
        <p:spPr>
          <a:xfrm>
            <a:off x="201600" y="2108160"/>
            <a:ext cx="8134200" cy="46594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45960" y="836280"/>
            <a:ext cx="797112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termine if well graded (W) or poorly graded (P), calculat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6940440" y="2709720"/>
                <a:ext cx="1920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b>
                        </m:sSub>
                        <m:r>
                          <m:t xml:space="preserve">´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6889680" y="1706400"/>
                <a:ext cx="211140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Oval 1"/>
          <p:cNvSpPr/>
          <p:nvPr/>
        </p:nvSpPr>
        <p:spPr>
          <a:xfrm>
            <a:off x="4815000" y="5748480"/>
            <a:ext cx="5349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5349960" y="5748480"/>
            <a:ext cx="5349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"/>
          <p:cNvSpPr/>
          <p:nvPr/>
        </p:nvSpPr>
        <p:spPr>
          <a:xfrm>
            <a:off x="6642000" y="5700600"/>
            <a:ext cx="5349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"/>
          <p:cNvSpPr/>
          <p:nvPr/>
        </p:nvSpPr>
        <p:spPr>
          <a:xfrm>
            <a:off x="3780000" y="185256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efficient of uni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3830760" y="2727360"/>
            <a:ext cx="33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efficient of 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9"/>
          <p:cNvGrpSpPr/>
          <p:nvPr/>
        </p:nvGrpSpPr>
        <p:grpSpPr>
          <a:xfrm>
            <a:off x="611280" y="547560"/>
            <a:ext cx="7343280" cy="5991120"/>
            <a:chOff x="611280" y="547560"/>
            <a:chExt cx="7343280" cy="5991120"/>
          </a:xfrm>
        </p:grpSpPr>
        <p:pic>
          <p:nvPicPr>
            <p:cNvPr id="377" name="Picture 12" descr=""/>
            <p:cNvPicPr/>
            <p:nvPr/>
          </p:nvPicPr>
          <p:blipFill>
            <a:blip r:embed="rId1"/>
            <a:stretch/>
          </p:blipFill>
          <p:spPr>
            <a:xfrm>
              <a:off x="611280" y="547560"/>
              <a:ext cx="734328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Line 14"/>
            <p:cNvSpPr/>
            <p:nvPr/>
          </p:nvSpPr>
          <p:spPr>
            <a:xfrm flipV="1">
              <a:off x="4326840" y="629280"/>
              <a:ext cx="0" cy="49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 rot="16200000">
              <a:off x="3595320" y="97056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-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5623920" y="45162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5286960" y="1870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8"/>
            <p:cNvSpPr/>
            <p:nvPr/>
          </p:nvSpPr>
          <p:spPr>
            <a:xfrm>
              <a:off x="3815640" y="47131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9"/>
            <p:cNvSpPr/>
            <p:nvPr/>
          </p:nvSpPr>
          <p:spPr>
            <a:xfrm>
              <a:off x="2041200" y="41648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L-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0"/>
            <p:cNvSpPr/>
            <p:nvPr/>
          </p:nvSpPr>
          <p:spPr>
            <a:xfrm flipH="1">
              <a:off x="2431080" y="5148720"/>
              <a:ext cx="77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2278800" y="5352120"/>
              <a:ext cx="78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4"/>
            <p:cNvSpPr/>
            <p:nvPr/>
          </p:nvSpPr>
          <p:spPr>
            <a:xfrm>
              <a:off x="3636360" y="378936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5"/>
            <p:cNvSpPr/>
            <p:nvPr/>
          </p:nvSpPr>
          <p:spPr>
            <a:xfrm flipH="1">
              <a:off x="1545480" y="5138280"/>
              <a:ext cx="8899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6"/>
            <p:cNvSpPr/>
            <p:nvPr/>
          </p:nvSpPr>
          <p:spPr>
            <a:xfrm flipH="1">
              <a:off x="1540080" y="5352120"/>
              <a:ext cx="8902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278800" y="5105160"/>
              <a:ext cx="1003320" cy="24660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lnTo>
                    <a:pt x="91" y="0"/>
                  </a:lnTo>
                  <a:lnTo>
                    <a:pt x="409" y="0"/>
                  </a:lnTo>
                  <a:lnTo>
                    <a:pt x="318" y="90"/>
                  </a:lnTo>
                  <a:lnTo>
                    <a:pt x="0" y="9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3"/>
            <p:cNvSpPr/>
            <p:nvPr/>
          </p:nvSpPr>
          <p:spPr>
            <a:xfrm flipH="1" flipV="1">
              <a:off x="2502000" y="4483080"/>
              <a:ext cx="333000" cy="7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5"/>
          <p:cNvSpPr/>
          <p:nvPr/>
        </p:nvSpPr>
        <p:spPr>
          <a:xfrm rot="19025400">
            <a:off x="5058360" y="25081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 rot="18754200">
            <a:off x="4942800" y="12963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4740120" y="2536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5077800" y="22050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479200" y="5138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5560560" y="48448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3636000" y="534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3731760" y="50356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3202920" y="4352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3499920" y="41306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6"/>
          <p:cNvSpPr/>
          <p:nvPr/>
        </p:nvSpPr>
        <p:spPr>
          <a:xfrm>
            <a:off x="6273720" y="4289400"/>
            <a:ext cx="2027160" cy="70380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based on the valu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642960" y="404640"/>
            <a:ext cx="7848720" cy="613440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51656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c So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90248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0520" indent="-290520" algn="just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rganic clay or silt (group symbol OL or O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ond symbol is obtained by locating the values of PI and LL  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v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r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n the plasticity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just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Highly organic soils- Peat (Group symbol  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mple composed primarily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ge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ssue in various stages of decomposition and has a fibrous to amorphous texture,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rk-brow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lor, and an organi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 designated as a highly organic soil and shall be classified as peat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"/>
              <p:cNvSpPr txBox="1"/>
              <p:nvPr/>
            </p:nvSpPr>
            <p:spPr>
              <a:xfrm>
                <a:off x="2700360" y="1484280"/>
                <a:ext cx="4610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quid Lim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ven drie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quid Lim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ver-been - drie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1692360" y="2492280"/>
                <a:ext cx="6408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  the soil is considreed to be organi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5"/>
          <p:cNvSpPr/>
          <p:nvPr/>
        </p:nvSpPr>
        <p:spPr>
          <a:xfrm>
            <a:off x="968400" y="1222200"/>
            <a:ext cx="289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-grained soils (Gravel (G) or Sand (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5884920" y="1395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-grained soils (Silt (M) or Clay (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730520" y="93600"/>
            <a:ext cx="62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 sieve No.  200 (0.075 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56331"/>
          <p:cNvSpPr/>
          <p:nvPr/>
        </p:nvSpPr>
        <p:spPr>
          <a:xfrm>
            <a:off x="4371840" y="687240"/>
            <a:ext cx="2808360" cy="50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56333"/>
          <p:cNvSpPr/>
          <p:nvPr/>
        </p:nvSpPr>
        <p:spPr>
          <a:xfrm flipH="1">
            <a:off x="7180200" y="687240"/>
            <a:ext cx="14400" cy="270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6675480" y="955800"/>
            <a:ext cx="968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80"/>
          <p:cNvSpPr/>
          <p:nvPr/>
        </p:nvSpPr>
        <p:spPr>
          <a:xfrm>
            <a:off x="2211480" y="687240"/>
            <a:ext cx="21477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81"/>
          <p:cNvSpPr/>
          <p:nvPr/>
        </p:nvSpPr>
        <p:spPr>
          <a:xfrm>
            <a:off x="2211480" y="687240"/>
            <a:ext cx="3240" cy="265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730520" y="898560"/>
            <a:ext cx="1133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lt; = 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56338"/>
          <p:cNvSpPr/>
          <p:nvPr/>
        </p:nvSpPr>
        <p:spPr>
          <a:xfrm>
            <a:off x="4732200" y="588960"/>
            <a:ext cx="44640" cy="4748040"/>
          </a:xfrm>
          <a:prstGeom prst="line">
            <a:avLst/>
          </a:prstGeom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2"/>
          <p:cNvSpPr/>
          <p:nvPr/>
        </p:nvSpPr>
        <p:spPr>
          <a:xfrm>
            <a:off x="2139840" y="1876320"/>
            <a:ext cx="3240" cy="292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7240" y="2097000"/>
            <a:ext cx="4576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% </a:t>
            </a:r>
            <a:r>
              <a:rPr b="1" lang="en-US" sz="1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arse soil (Co) = 100 - % Passing #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% </a:t>
            </a:r>
            <a:r>
              <a:rPr b="1" lang="en-US" sz="1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Gravel  (G)         = 100 - % Passing 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26"/>
          <p:cNvSpPr/>
          <p:nvPr/>
        </p:nvSpPr>
        <p:spPr>
          <a:xfrm>
            <a:off x="2139840" y="2762280"/>
            <a:ext cx="0" cy="1983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7"/>
          <p:cNvSpPr/>
          <p:nvPr/>
        </p:nvSpPr>
        <p:spPr>
          <a:xfrm flipH="1">
            <a:off x="320400" y="2897280"/>
            <a:ext cx="1374840" cy="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9"/>
          <p:cNvSpPr/>
          <p:nvPr/>
        </p:nvSpPr>
        <p:spPr>
          <a:xfrm flipH="1">
            <a:off x="1681200" y="2897280"/>
            <a:ext cx="25020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2"/>
          <p:cNvSpPr/>
          <p:nvPr/>
        </p:nvSpPr>
        <p:spPr>
          <a:xfrm>
            <a:off x="320760" y="2897280"/>
            <a:ext cx="0" cy="1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35"/>
          <p:cNvSpPr/>
          <p:nvPr/>
        </p:nvSpPr>
        <p:spPr>
          <a:xfrm>
            <a:off x="4199040" y="2913120"/>
            <a:ext cx="0" cy="1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6320" y="303372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&gt; 1/2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3230640" y="3040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&lt; 1/2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5840" y="33465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el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405240" y="332748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50"/>
          <p:cNvSpPr/>
          <p:nvPr/>
        </p:nvSpPr>
        <p:spPr>
          <a:xfrm>
            <a:off x="304920" y="3755880"/>
            <a:ext cx="0" cy="1666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52"/>
          <p:cNvSpPr/>
          <p:nvPr/>
        </p:nvSpPr>
        <p:spPr>
          <a:xfrm>
            <a:off x="4183200" y="3772080"/>
            <a:ext cx="0" cy="1681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55"/>
          <p:cNvSpPr/>
          <p:nvPr/>
        </p:nvSpPr>
        <p:spPr>
          <a:xfrm flipH="1">
            <a:off x="304560" y="3940200"/>
            <a:ext cx="3894120" cy="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56"/>
          <p:cNvSpPr/>
          <p:nvPr/>
        </p:nvSpPr>
        <p:spPr>
          <a:xfrm>
            <a:off x="2195640" y="3940200"/>
            <a:ext cx="15840" cy="1036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74"/>
          <p:cNvSpPr/>
          <p:nvPr/>
        </p:nvSpPr>
        <p:spPr>
          <a:xfrm flipH="1">
            <a:off x="307440" y="5108400"/>
            <a:ext cx="528840" cy="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7"/>
          <p:cNvGrpSpPr/>
          <p:nvPr/>
        </p:nvGrpSpPr>
        <p:grpSpPr>
          <a:xfrm>
            <a:off x="304920" y="4924440"/>
            <a:ext cx="8707320" cy="1639800"/>
            <a:chOff x="304920" y="4924440"/>
            <a:chExt cx="8707320" cy="1639800"/>
          </a:xfrm>
        </p:grpSpPr>
        <p:sp>
          <p:nvSpPr>
            <p:cNvPr id="434" name="Text Box 13"/>
            <p:cNvSpPr/>
            <p:nvPr/>
          </p:nvSpPr>
          <p:spPr>
            <a:xfrm>
              <a:off x="836640" y="4924440"/>
              <a:ext cx="27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% 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Passing  sieve No.  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traight Connector 77"/>
            <p:cNvSpPr/>
            <p:nvPr/>
          </p:nvSpPr>
          <p:spPr>
            <a:xfrm>
              <a:off x="308160" y="5110200"/>
              <a:ext cx="0" cy="1326960"/>
            </a:xfrm>
            <a:prstGeom prst="line">
              <a:avLst/>
            </a:prstGeom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83"/>
            <p:cNvSpPr/>
            <p:nvPr/>
          </p:nvSpPr>
          <p:spPr>
            <a:xfrm>
              <a:off x="308160" y="5603760"/>
              <a:ext cx="21564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3"/>
            <p:cNvSpPr/>
            <p:nvPr/>
          </p:nvSpPr>
          <p:spPr>
            <a:xfrm>
              <a:off x="573120" y="5403600"/>
              <a:ext cx="7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traight Connector 93"/>
            <p:cNvSpPr/>
            <p:nvPr/>
          </p:nvSpPr>
          <p:spPr>
            <a:xfrm>
              <a:off x="317520" y="5986440"/>
              <a:ext cx="21600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3"/>
            <p:cNvSpPr/>
            <p:nvPr/>
          </p:nvSpPr>
          <p:spPr>
            <a:xfrm>
              <a:off x="582480" y="57877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5%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 -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traight Connector 95"/>
            <p:cNvSpPr/>
            <p:nvPr/>
          </p:nvSpPr>
          <p:spPr>
            <a:xfrm>
              <a:off x="304920" y="6395760"/>
              <a:ext cx="21420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3"/>
            <p:cNvSpPr/>
            <p:nvPr/>
          </p:nvSpPr>
          <p:spPr>
            <a:xfrm>
              <a:off x="568440" y="6195960"/>
              <a:ext cx="99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1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1838520" y="5357520"/>
              <a:ext cx="2149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GW, GP, SW or 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3"/>
            <p:cNvSpPr/>
            <p:nvPr/>
          </p:nvSpPr>
          <p:spPr>
            <a:xfrm>
              <a:off x="3987720" y="5346720"/>
              <a:ext cx="1654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800" spc="-1" strike="noStrike">
                  <a:solidFill>
                    <a:srgbClr val="063de8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 C</a:t>
              </a:r>
              <a:r>
                <a:rPr b="1" lang="en-US" sz="1800" spc="-1" strike="noStrike" baseline="-25000">
                  <a:solidFill>
                    <a:srgbClr val="063de8"/>
                  </a:solidFill>
                  <a:latin typeface="Times New Roman"/>
                  <a:ea typeface="Times New Roman"/>
                </a:rPr>
                <a:t>u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, C</a:t>
              </a:r>
              <a:r>
                <a:rPr b="1" lang="en-US" sz="1800" spc="-1" strike="noStrike" baseline="-25000">
                  <a:solidFill>
                    <a:srgbClr val="063de8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5451480" y="5348160"/>
              <a:ext cx="356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W : well graded   P: poorly gra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3"/>
            <p:cNvSpPr/>
            <p:nvPr/>
          </p:nvSpPr>
          <p:spPr>
            <a:xfrm>
              <a:off x="1868400" y="5763960"/>
              <a:ext cx="7143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GW-GM, GW-GC, GP-GM, GP-GC, SW-SM, SW-SC, SP-SM, SP-SC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1868400" y="6170400"/>
              <a:ext cx="1997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GM, GC, SM, 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3"/>
            <p:cNvSpPr/>
            <p:nvPr/>
          </p:nvSpPr>
          <p:spPr>
            <a:xfrm>
              <a:off x="3916440" y="612756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800" spc="-1" strike="noStrike">
                  <a:solidFill>
                    <a:srgbClr val="063de8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 plasticity ch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29"/>
          <p:cNvGrpSpPr/>
          <p:nvPr/>
        </p:nvGrpSpPr>
        <p:grpSpPr>
          <a:xfrm>
            <a:off x="5002200" y="2281680"/>
            <a:ext cx="3587760" cy="2852280"/>
            <a:chOff x="5002200" y="2281680"/>
            <a:chExt cx="3587760" cy="2852280"/>
          </a:xfrm>
        </p:grpSpPr>
        <p:pic>
          <p:nvPicPr>
            <p:cNvPr id="449" name="Picture 12" descr=""/>
            <p:cNvPicPr/>
            <p:nvPr/>
          </p:nvPicPr>
          <p:blipFill>
            <a:blip r:embed="rId1"/>
            <a:stretch/>
          </p:blipFill>
          <p:spPr>
            <a:xfrm>
              <a:off x="5002200" y="2359080"/>
              <a:ext cx="3587760" cy="27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14"/>
            <p:cNvSpPr/>
            <p:nvPr/>
          </p:nvSpPr>
          <p:spPr>
            <a:xfrm flipV="1">
              <a:off x="6817320" y="2396880"/>
              <a:ext cx="0" cy="2302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5"/>
            <p:cNvSpPr/>
            <p:nvPr/>
          </p:nvSpPr>
          <p:spPr>
            <a:xfrm rot="16200000">
              <a:off x="6229440" y="25437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-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6"/>
            <p:cNvSpPr/>
            <p:nvPr/>
          </p:nvSpPr>
          <p:spPr>
            <a:xfrm>
              <a:off x="6909840" y="415908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7"/>
            <p:cNvSpPr/>
            <p:nvPr/>
          </p:nvSpPr>
          <p:spPr>
            <a:xfrm>
              <a:off x="7196760" y="29718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8"/>
            <p:cNvSpPr/>
            <p:nvPr/>
          </p:nvSpPr>
          <p:spPr>
            <a:xfrm>
              <a:off x="6419880" y="427572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19"/>
            <p:cNvSpPr/>
            <p:nvPr/>
          </p:nvSpPr>
          <p:spPr>
            <a:xfrm>
              <a:off x="5383800" y="384048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L-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0"/>
            <p:cNvSpPr/>
            <p:nvPr/>
          </p:nvSpPr>
          <p:spPr>
            <a:xfrm flipH="1">
              <a:off x="5891040" y="4490280"/>
              <a:ext cx="37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1"/>
            <p:cNvSpPr/>
            <p:nvPr/>
          </p:nvSpPr>
          <p:spPr>
            <a:xfrm>
              <a:off x="5816880" y="45842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6432120" y="3699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5"/>
            <p:cNvSpPr/>
            <p:nvPr/>
          </p:nvSpPr>
          <p:spPr>
            <a:xfrm flipH="1">
              <a:off x="5458320" y="4485240"/>
              <a:ext cx="434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6"/>
            <p:cNvSpPr/>
            <p:nvPr/>
          </p:nvSpPr>
          <p:spPr>
            <a:xfrm flipH="1">
              <a:off x="5456160" y="4584240"/>
              <a:ext cx="4348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"/>
            <p:cNvSpPr/>
            <p:nvPr/>
          </p:nvSpPr>
          <p:spPr>
            <a:xfrm>
              <a:off x="5816880" y="4470120"/>
              <a:ext cx="489960" cy="1141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lnTo>
                    <a:pt x="91" y="0"/>
                  </a:lnTo>
                  <a:lnTo>
                    <a:pt x="409" y="0"/>
                  </a:lnTo>
                  <a:lnTo>
                    <a:pt x="318" y="90"/>
                  </a:lnTo>
                  <a:lnTo>
                    <a:pt x="0" y="9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3"/>
            <p:cNvSpPr/>
            <p:nvPr/>
          </p:nvSpPr>
          <p:spPr>
            <a:xfrm flipH="1" flipV="1">
              <a:off x="5925960" y="4181760"/>
              <a:ext cx="1627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15"/>
          <p:cNvSpPr/>
          <p:nvPr/>
        </p:nvSpPr>
        <p:spPr>
          <a:xfrm rot="18978000">
            <a:off x="7526520" y="29714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6807960" y="3456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7065360" y="32338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7635240" y="4164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7"/>
          <p:cNvSpPr/>
          <p:nvPr/>
        </p:nvSpPr>
        <p:spPr>
          <a:xfrm>
            <a:off x="7339320" y="4149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168600" y="40957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6370920" y="39006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6233760" y="4675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6413760" y="44514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7405560" y="4908600"/>
            <a:ext cx="146232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L or OH based on the value of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76320" y="103320"/>
            <a:ext cx="8935920" cy="65530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07360" y="414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95120" y="5526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eve analysis and plasticity data for two soils are given in the table below. Classify the soils according to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classific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755640" y="1916280"/>
          <a:ext cx="3095640" cy="347472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  <a:gridCol w="1008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7" name="Picture 51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35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8" name="Text Box 45"/>
          <p:cNvSpPr/>
          <p:nvPr/>
        </p:nvSpPr>
        <p:spPr>
          <a:xfrm>
            <a:off x="951480" y="5580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6"/>
          <p:cNvSpPr/>
          <p:nvPr/>
        </p:nvSpPr>
        <p:spPr>
          <a:xfrm>
            <a:off x="5003640" y="3284640"/>
            <a:ext cx="295308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7"/>
          <p:cNvSpPr/>
          <p:nvPr/>
        </p:nvSpPr>
        <p:spPr>
          <a:xfrm flipV="1">
            <a:off x="7913520" y="3284640"/>
            <a:ext cx="43200" cy="1311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8"/>
          <p:cNvSpPr/>
          <p:nvPr/>
        </p:nvSpPr>
        <p:spPr>
          <a:xfrm flipV="1">
            <a:off x="6213600" y="4091040"/>
            <a:ext cx="0" cy="5047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9"/>
          <p:cNvSpPr/>
          <p:nvPr/>
        </p:nvSpPr>
        <p:spPr>
          <a:xfrm>
            <a:off x="4903920" y="410544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5"/>
          <p:cNvSpPr/>
          <p:nvPr/>
        </p:nvSpPr>
        <p:spPr>
          <a:xfrm>
            <a:off x="951480" y="6159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"/>
          <p:cNvSpPr/>
          <p:nvPr/>
        </p:nvSpPr>
        <p:spPr>
          <a:xfrm>
            <a:off x="2343600" y="5726160"/>
            <a:ext cx="5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420-3793-4EFA-8B60-D8041372E8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3840" y="177480"/>
            <a:ext cx="19623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82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assify the following soils Using U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457200" y="2205000"/>
            <a:ext cx="7056360" cy="357516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"/>
          <p:cNvSpPr/>
          <p:nvPr/>
        </p:nvSpPr>
        <p:spPr>
          <a:xfrm>
            <a:off x="7743960" y="3889440"/>
            <a:ext cx="561600" cy="192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244440" y="601560"/>
            <a:ext cx="5051520" cy="2559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1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176720" cy="35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2" name="Straight Connector 4"/>
          <p:cNvSpPr/>
          <p:nvPr/>
        </p:nvSpPr>
        <p:spPr>
          <a:xfrm flipV="1">
            <a:off x="7236000" y="4508640"/>
            <a:ext cx="0" cy="12967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6"/>
          <p:cNvSpPr/>
          <p:nvPr/>
        </p:nvSpPr>
        <p:spPr>
          <a:xfrm>
            <a:off x="5219640" y="4724280"/>
            <a:ext cx="2232000" cy="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5299200" y="1521000"/>
            <a:ext cx="56160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152280" y="1764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 2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E647-1F71-4ED3-B8F5-ACAB06FFA9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98080" y="142560"/>
            <a:ext cx="322092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 2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287280" y="836640"/>
            <a:ext cx="85788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49120" y="235080"/>
            <a:ext cx="794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y more than one Classification System are in us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8360" y="8571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 systems are used to group soils in accordance with their general behavior und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ive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d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2205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 that are grouped in order of performance for ONE SET of Physical CONDITIONS will not necessarily have the same order for performance under other set of physical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3933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d to classifying soil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each agency (Like FAA, AASHTO, USBR) has in mind specific use for the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5A5C-2C73-46F1-ABC0-B5B25AC977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250920" y="360360"/>
            <a:ext cx="8461440" cy="587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"/>
          <p:cNvPicPr/>
          <p:nvPr/>
        </p:nvPicPr>
        <p:blipFill>
          <a:blip r:embed="rId2"/>
          <a:srcRect l="0" t="82553" r="79982" b="0"/>
          <a:stretch/>
        </p:blipFill>
        <p:spPr>
          <a:xfrm>
            <a:off x="258840" y="5742000"/>
            <a:ext cx="1832040" cy="1092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2" name="Rectangle 6"/>
          <p:cNvSpPr/>
          <p:nvPr/>
        </p:nvSpPr>
        <p:spPr>
          <a:xfrm>
            <a:off x="1685880" y="6080040"/>
            <a:ext cx="6303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22320" y="42840"/>
            <a:ext cx="2305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7020000" y="5445000"/>
            <a:ext cx="1008000" cy="505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7F4F-A4E9-4077-9A7B-95F321578D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647640" y="404640"/>
            <a:ext cx="7524720" cy="515484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5"/>
          <p:cNvSpPr/>
          <p:nvPr/>
        </p:nvSpPr>
        <p:spPr>
          <a:xfrm>
            <a:off x="636120" y="5589720"/>
            <a:ext cx="60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oil A is then classified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-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orly graded sand with silt and gravel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230508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3"/>
          <p:cNvGraphicFramePr/>
          <p:nvPr/>
        </p:nvGraphicFramePr>
        <p:xfrm>
          <a:off x="838080" y="755640"/>
          <a:ext cx="7696440" cy="42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5640"/>
                    <a:ext cx="76964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Line 4"/>
          <p:cNvSpPr/>
          <p:nvPr/>
        </p:nvSpPr>
        <p:spPr>
          <a:xfrm flipV="1">
            <a:off x="6645240" y="1092240"/>
            <a:ext cx="0" cy="307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5"/>
          <p:cNvSpPr/>
          <p:nvPr/>
        </p:nvSpPr>
        <p:spPr>
          <a:xfrm flipH="1">
            <a:off x="1866960" y="1163520"/>
            <a:ext cx="485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 flipV="1">
            <a:off x="4802040" y="3846240"/>
            <a:ext cx="0" cy="32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1909800" y="3798720"/>
            <a:ext cx="2838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1028880" y="5032440"/>
            <a:ext cx="743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4 = 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200 = 11%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rse fraction =100-11 = 89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vel = 100 -95 = 5% (5/89 = 5.6% &lt; 50%) -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46800" y="4514760"/>
            <a:ext cx="2797200" cy="78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Atterberg Tes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L = 32, PL = 2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Object 3"/>
          <p:cNvGraphicFramePr/>
          <p:nvPr/>
        </p:nvGraphicFramePr>
        <p:xfrm>
          <a:off x="838080" y="1004760"/>
          <a:ext cx="7696440" cy="42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04760"/>
                    <a:ext cx="7696440" cy="42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Rectangle 4"/>
          <p:cNvSpPr/>
          <p:nvPr/>
        </p:nvSpPr>
        <p:spPr>
          <a:xfrm>
            <a:off x="685800" y="5486400"/>
            <a:ext cx="6550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 = 0.06 mm, D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 = 0.25 mm, D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imes New Roman"/>
              </a:rPr>
              <a:t>60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 = 0.7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1847880" y="4086360"/>
            <a:ext cx="2857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"/>
          <p:cNvSpPr/>
          <p:nvPr/>
        </p:nvSpPr>
        <p:spPr>
          <a:xfrm>
            <a:off x="1876320" y="3467160"/>
            <a:ext cx="34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>
            <a:off x="1876320" y="2533680"/>
            <a:ext cx="398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>
            <a:off x="4695840" y="4086360"/>
            <a:ext cx="0" cy="314280"/>
          </a:xfrm>
          <a:prstGeom prst="line">
            <a:avLst/>
          </a:prstGeom>
          <a:ln w="25560">
            <a:solidFill>
              <a:srgbClr val="7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9"/>
          <p:cNvSpPr/>
          <p:nvPr/>
        </p:nvSpPr>
        <p:spPr>
          <a:xfrm>
            <a:off x="5353200" y="3467160"/>
            <a:ext cx="0" cy="933480"/>
          </a:xfrm>
          <a:prstGeom prst="line">
            <a:avLst/>
          </a:prstGeom>
          <a:ln w="25560">
            <a:solidFill>
              <a:srgbClr val="7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0"/>
          <p:cNvSpPr/>
          <p:nvPr/>
        </p:nvSpPr>
        <p:spPr>
          <a:xfrm>
            <a:off x="5838840" y="2533680"/>
            <a:ext cx="0" cy="1866960"/>
          </a:xfrm>
          <a:prstGeom prst="line">
            <a:avLst/>
          </a:prstGeom>
          <a:ln w="25560">
            <a:solidFill>
              <a:srgbClr val="7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960" y="243000"/>
            <a:ext cx="3166920" cy="5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 4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628560" y="6022800"/>
            <a:ext cx="686124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75/0.06 = 12.5    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25X0.25/(0.75X 0.06) =  1.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ell 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1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176720" cy="35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9" name="Straight Connector 4"/>
          <p:cNvSpPr/>
          <p:nvPr/>
        </p:nvSpPr>
        <p:spPr>
          <a:xfrm flipV="1">
            <a:off x="4140360" y="4149360"/>
            <a:ext cx="0" cy="3589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6"/>
          <p:cNvSpPr/>
          <p:nvPr/>
        </p:nvSpPr>
        <p:spPr>
          <a:xfrm>
            <a:off x="2916360" y="4264200"/>
            <a:ext cx="1439640" cy="3636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468360" y="306360"/>
            <a:ext cx="2797200" cy="78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Atterberg Tes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L = 32, PL = 2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183200" y="4507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 = 32-26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8"/>
          <p:cNvSpPr/>
          <p:nvPr/>
        </p:nvSpPr>
        <p:spPr>
          <a:xfrm>
            <a:off x="4111560" y="4257720"/>
            <a:ext cx="57240" cy="572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626400" y="5934240"/>
            <a:ext cx="636048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oil is classified a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-SM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(Well-graded sand with si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ight Arrow 21"/>
          <p:cNvSpPr/>
          <p:nvPr/>
        </p:nvSpPr>
        <p:spPr>
          <a:xfrm>
            <a:off x="3490920" y="500040"/>
            <a:ext cx="503280" cy="3189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Elbow Connector 24"/>
          <p:cNvCxnSpPr/>
          <p:nvPr/>
        </p:nvCxnSpPr>
        <p:spPr>
          <a:xfrm flipV="1">
            <a:off x="4168800" y="3283920"/>
            <a:ext cx="3140640" cy="980280"/>
          </a:xfrm>
          <a:prstGeom prst="bentConnector3">
            <a:avLst>
              <a:gd name="adj1" fmla="val 49994"/>
            </a:avLst>
          </a:prstGeom>
          <a:ln w="28440">
            <a:solidFill>
              <a:srgbClr val="000000"/>
            </a:solidFill>
            <a:prstDash val="sysDash"/>
            <a:round/>
            <a:headEnd len="med" type="triangle" w="med"/>
          </a:ln>
        </p:spPr>
      </p:cxnSp>
      <p:sp>
        <p:nvSpPr>
          <p:cNvPr id="537" name="Rectangle 25"/>
          <p:cNvSpPr/>
          <p:nvPr/>
        </p:nvSpPr>
        <p:spPr>
          <a:xfrm>
            <a:off x="7108200" y="291636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 fine part is s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76320" y="47520"/>
            <a:ext cx="9067680" cy="6782040"/>
          </a:xfrm>
          <a:prstGeom prst="rect">
            <a:avLst/>
          </a:prstGeom>
          <a:ln w="0">
            <a:noFill/>
          </a:ln>
        </p:spPr>
      </p:pic>
      <p:sp>
        <p:nvSpPr>
          <p:cNvPr id="539" name="Straight Connector 2"/>
          <p:cNvSpPr/>
          <p:nvPr/>
        </p:nvSpPr>
        <p:spPr>
          <a:xfrm>
            <a:off x="4284720" y="765000"/>
            <a:ext cx="259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61640" y="44280"/>
            <a:ext cx="1683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374760" y="549360"/>
            <a:ext cx="8445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 coarse-grained soils, the percent passing through the No. 200 sieve is between 5 and 12% dual symbols are need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i.e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W-GC, GP-GC, GW-GM, GP-GM, SW-SC, SP-SC, SW-SM, SP-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74760" y="2060640"/>
            <a:ext cx="84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oil that plots in the area to the left of the A-line in the plasticity chart bounded by 4&lt;= PI &lt;=7, the A-line, and the left of the boundary chart ha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al-classificatio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-M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e-grained soil that has such a dual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374760" y="4076640"/>
            <a:ext cx="84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t is visually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382680" y="4653000"/>
            <a:ext cx="84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 the fine-grained soil is organic or not, that is determin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2"/>
              <p:cNvSpPr txBox="1"/>
              <p:nvPr/>
            </p:nvSpPr>
            <p:spPr>
              <a:xfrm>
                <a:off x="4354560" y="5157720"/>
                <a:ext cx="4610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quid Lim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ven drie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quid Lim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ver-been - drie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3"/>
              <p:cNvSpPr txBox="1"/>
              <p:nvPr/>
            </p:nvSpPr>
            <p:spPr>
              <a:xfrm>
                <a:off x="1403280" y="6132600"/>
                <a:ext cx="6408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  the soil is considreed to be organi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519120" y="135000"/>
            <a:ext cx="7869240" cy="9471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arison of the USCS and AASHTO Classific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468360" y="11667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ASHTO 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passes No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e-g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USCS 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passes No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ed-g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468360" y="2060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ASHTO Siev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to separate gravel  from sand, in USCS it is Siev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468360" y="2925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USCS, the gravely and sandy soils are clearly separated, in the AASHTO system they are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468360" y="38210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mbol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others that are used in the USCS are mo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p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oil properties tha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ymbols used in the AASHTO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468360" y="5481720"/>
            <a:ext cx="8136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ification of organic soils such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been provided in the USCS. In AASHTO system, there is no place for organic soils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A-8 has been taken ou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395280" y="404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ASH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to distinguish between silt and clay (LL appears only in distinguish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7-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7-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In USCS  both PI and L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lasticity char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5280" y="20908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CS distinguish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stic fine-grained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95280" y="30369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ASHTO and USCS are better than most other available systems when applied to engineering or constructio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95280" y="425592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ASHTO and US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have the advantage of having been used f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e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having gain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cept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engineering and construction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2480" y="162000"/>
            <a:ext cx="587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IL CLASSIFIC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06800" y="765000"/>
            <a:ext cx="465192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rain-size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84360" y="4756320"/>
            <a:ext cx="799308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8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ives onl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orde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between groups (i.e. gravel, sand, silt,  clay) but does not give us a name for a given </a:t>
            </a:r>
            <a:r>
              <a:rPr b="1" lang="en-US" sz="2000" spc="-1" strike="noStrike">
                <a:solidFill>
                  <a:srgbClr val="6b6bcf"/>
                </a:solidFill>
                <a:latin typeface="Arial"/>
              </a:rPr>
              <a:t>bulk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of so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8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ost cases, natural soils are </a:t>
            </a:r>
            <a:r>
              <a:rPr b="1" lang="en-US" sz="2000" spc="-1" strike="noStrike" u="sng">
                <a:solidFill>
                  <a:srgbClr val="6b6bcf"/>
                </a:solidFill>
                <a:uFillTx/>
                <a:latin typeface="Arial"/>
              </a:rPr>
              <a:t>mixture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of particles from several size grou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48180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97640" y="189000"/>
            <a:ext cx="544140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XTURAL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66560" y="215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xture of a soil is its appearance or ”feel” and it depends on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19120" y="393372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the term texture is refereed wholly to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racteristics of the soil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166760" y="4802040"/>
            <a:ext cx="76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il particles with some small particles will give COARSE-APPEARNCE or COARSE-TEXTUR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66760" y="5586480"/>
            <a:ext cx="75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icles give a MEDIUM TEXTUR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166760" y="6127920"/>
            <a:ext cx="75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ne-grain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icles give FINE-TEXTUR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68360" y="792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textural classification system, the soils are named after their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rincipal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nd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a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ilt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a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and so for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187280" y="2924280"/>
            <a:ext cx="610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relativ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ize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f the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ange or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of these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hape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of the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umber of textural classification systems were developed in the past by differen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ganiz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4464000" y="2492280"/>
            <a:ext cx="4680000" cy="436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395280" y="11620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igure shows the textural classification system develop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is based on the particle size limit as shown in Table 2.3 in the text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4103640" cy="15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7" name="Rectangle 12"/>
          <p:cNvSpPr/>
          <p:nvPr/>
        </p:nvSpPr>
        <p:spPr>
          <a:xfrm>
            <a:off x="324000" y="4868640"/>
            <a:ext cx="403200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9360" bIns="936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m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oil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ed of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an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lt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lay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relatively even concentration (about 40-40-20% concentration, respectively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67840" cy="523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Rectangle 5"/>
          <p:cNvSpPr/>
          <p:nvPr/>
        </p:nvSpPr>
        <p:spPr>
          <a:xfrm>
            <a:off x="611280" y="2924280"/>
            <a:ext cx="7993080" cy="504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05:42Z</dcterms:created>
  <dc:creator>TENEBRA</dc:creator>
  <dc:description/>
  <dc:language>en-US</dc:language>
  <cp:lastModifiedBy>shamrani</cp:lastModifiedBy>
  <cp:lastPrinted>2015-10-11T20:37:57Z</cp:lastPrinted>
  <dcterms:modified xsi:type="dcterms:W3CDTF">2017-09-15T11:56:27Z</dcterms:modified>
  <cp:revision>166</cp:revision>
  <dc:subject/>
  <dc:title>Slide 1</dc:title>
</cp:coreProperties>
</file>