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F856-5398-4370-8E87-B342D27D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FAB-73FE-4B0B-8C45-1C2D4AE2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EEE-7F2F-4328-828C-1393AD8E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63F-81FF-4F4A-A832-2E1569974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0203-0F80-4B3F-82D7-EAAD78473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0AD0-6D44-46D4-A11E-63BA1FFC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4FEA-FFE6-45CD-A423-32CE2A0E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8A9F-AFDB-4706-B0CE-BD042C61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0864-602F-4244-B590-1F430ABA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CD0E-6E51-47C5-AB26-C0BB1122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102F-178A-4AA2-97B5-A8F83424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0544-363B-4F0F-A92D-9BB2F461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8151-08CF-4E8E-9234-0EEF3F26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CA93-B9EF-4205-9DD9-FF1DB2E7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2E9B-8E52-466F-B590-3D0C2DA5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5C4E-82B1-46B8-975A-FAE019E22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AC3A-2BBA-4E7C-8004-D33094D8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354A-9FC5-49D7-AC06-6C1AB70EE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FAC8-0A9C-4E96-A595-FA4B91FA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66FF2-518D-467E-B729-4E08320B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A73F-2BB8-4AF0-84AE-F6E56F16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83412-5D6B-461B-9FD9-902E77D0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55D9-39A8-476A-8BAC-80368368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0CA3-742F-4FB7-AD14-F0D3EAEF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CFF77-B72E-4B13-AA68-E46350EE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ABDAF-626F-4598-891D-5963E4DE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CA77-E116-41CF-8FBD-846F1F12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F9B8B-0274-431A-8B8E-0968CD04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A1D3D-BAEB-45B9-876B-8F0295C8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443C4-9368-4FB2-BE70-BE0C04E5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E802D-AB09-40FB-8BED-A8715DC6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61A8B-9BD4-4BE9-97F8-707F3B02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7686-451C-4362-A0A9-CF92290D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AB7-67CC-4437-B2F9-D9D791A2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C3E59-6A52-4760-8815-C33C9A4E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7144-0411-497C-883D-3013DF48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270F-B471-4733-885F-5F432293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DC24-5811-4348-953A-8675CB8A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E60E9-1D83-410E-B413-59976F1B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F1D5D-4BF0-487F-8241-F71907BA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6C5D4-79AB-4045-A75B-21821965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EAEE-3800-4F84-A718-403E2269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BB1D5-6442-4FDC-AE3C-12E4102C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E85-DCBB-4BCB-BD58-53C4A03E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FFD-F0F5-42FB-8D9C-DF63A32E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EF50-89E7-47D5-BFCB-3E6401D0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273-C4BF-4C00-B8C7-967E1E56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4CA-5229-4F39-A805-A69A9473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F9BBEE-5204-405E-A2DD-3DC22E32E05E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EDCE9-2CFC-4597-B904-27A78304842B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90691-D1A0-476C-B154-5495FAD27EFB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D806F-6DC0-43B3-8B73-18AC25A33C35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سابعة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5840" y="19191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راو أو صفة في السند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100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TextBox 6"/>
          <p:cNvSpPr/>
          <p:nvPr/>
        </p:nvSpPr>
        <p:spPr>
          <a:xfrm rot="16200000">
            <a:off x="8391600" y="3727440"/>
            <a:ext cx="532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راو أو صفة في السند    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عرف الطالب كيف يخرج الحديث عن طريق راو في السند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alibri"/>
                <a:ea typeface="Traditional Arabic"/>
              </a:rPr>
              <a:t> </a:t>
            </a: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عرف الطلب كيف يخرج الحديث عن طريق صفى تتعلق بالسند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تعرف على المصادر التي يستعان بها في هاتين الطريقتين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مارس التخريج عملياً بهاتين الطريقتين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TextBox 6"/>
          <p:cNvSpPr/>
          <p:nvPr/>
        </p:nvSpPr>
        <p:spPr>
          <a:xfrm rot="16200000">
            <a:off x="8391600" y="3727440"/>
            <a:ext cx="532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راو أو صفة في السند    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e6c133"/>
                </a:solidFill>
                <a:latin typeface="Calibri"/>
                <a:cs typeface="Traditional Arabic"/>
              </a:rPr>
              <a:t>التخريج عن طريق راو في السند 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1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كتب الراوي نفسه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2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كتب اعتنت بأحاديث راو معين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3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كتب التراجم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4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كتب المشيخات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5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كتب الأسماء والكنى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6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الفهارس العامة للأعلام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3" name="Straight Connector 4"/>
          <p:cNvSpPr/>
          <p:nvPr/>
        </p:nvSpPr>
        <p:spPr>
          <a:xfrm>
            <a:off x="1048068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TextBox 6"/>
          <p:cNvSpPr/>
          <p:nvPr/>
        </p:nvSpPr>
        <p:spPr>
          <a:xfrm rot="16200000">
            <a:off x="8391600" y="3727440"/>
            <a:ext cx="532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راو أو صفة في السند    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e6c133"/>
                </a:solidFill>
                <a:latin typeface="Calibri"/>
                <a:cs typeface="Traditional Arabic"/>
              </a:rPr>
              <a:t>التخريج عن طريق صفة تتعلق بالسند 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1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ظهور علامة تدل على صحته أو ضعفه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2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وصف السند بالغرابة أو التفرد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3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الاختلاف في السند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4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الحديث المسلسل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5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 الراوي المبهم</a:t>
            </a:r>
            <a:br>
              <a:rPr sz="4400"/>
            </a:b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6</a:t>
            </a:r>
            <a:r>
              <a:rPr b="1" lang="ar-SA" sz="4400" spc="-1" strike="noStrike">
                <a:solidFill>
                  <a:srgbClr val="ebebeb"/>
                </a:solidFill>
                <a:latin typeface="Calibri"/>
                <a:ea typeface="Traditional Arabic"/>
              </a:rPr>
              <a:t>-رواية الراوي عن أبيه عن جده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7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TextBox 6"/>
          <p:cNvSpPr/>
          <p:nvPr/>
        </p:nvSpPr>
        <p:spPr>
          <a:xfrm rot="16200000">
            <a:off x="8391600" y="3727440"/>
            <a:ext cx="5321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راو أو صفة في السند    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12-10T03:38:53Z</dcterms:modified>
  <cp:revision>55</cp:revision>
  <dc:subject/>
  <dc:title>تعريف التخريج وفوائده ..</dc:title>
</cp:coreProperties>
</file>