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55F-2B0D-45E8-BA25-044670C6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7BB-C16E-46D5-9E1C-6A6039CD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71F-BA58-40B0-8237-3094B613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709-1817-4BE0-84AC-66633478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DAD7-7182-4901-8340-ADA99956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A9CD-E7DA-4DF7-9C94-15218747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A41D-F06D-45BB-90B8-0DB0E286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C3BA-025D-496F-A71A-73146F39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B2AA-FA79-454A-B770-3D431A35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5FA9-C1E9-4DB4-9938-5D73E83D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3228-1B4B-4500-9C02-3BDAE63B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3B6-F368-4708-92AB-C618CDCA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3058-F4F8-4D54-873D-DD0DF80B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685C-9494-4439-A00A-E73D8171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0FA5-FF1F-4152-9DC3-E3FA85B0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1EC2-27E5-4C4D-A2D9-0FA98203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D9EC-DA37-4B04-96E2-8E1C0108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8D713-3C57-44FE-9C2C-D32A72A5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FD0D2-EDA5-4C73-ABA9-64A8416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A3C7-4CEC-4F6F-9482-D0BB647A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D2088-6BFF-4335-8C55-86355883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690AA-4197-4001-BF5D-928F9FDA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C7F-BE12-479D-8ADE-B1FC8722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0991-6074-44D5-8B54-6CA37E7C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AFF5-A83A-4D34-B313-022E5B1E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A750-BD7D-4F6A-B489-240578FA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D6F60-0FB5-4562-855A-2D9E2B04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D3AAC-2F6B-48E8-94E9-2CB85F1F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383C0-F256-441D-B47D-5AEA5708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716C3-55DE-40B6-91A6-0832F5C1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04B6-D635-4761-974C-F11F5393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2F72-8157-4ABD-9396-DAEA43A3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C99A9-43B9-48C4-9A43-B5510D3F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DA1-3458-45FF-AF1E-780402E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DEB74-B9F1-40BD-9621-4E9EADF7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6A8C7-B7D7-4B06-A858-E7B3253A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F5E8-0C53-4476-B280-3E3FB0EC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8A800-9132-4F55-8ED4-CF1362B1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7D2C5-7ADE-4236-B68F-F6ABB936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8E69D-2213-4AA4-B948-DAD72B8C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94BE-EB5A-4AEB-A50A-51A7611A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9270-70E0-4A20-A619-61D61C32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70DCB-55A5-45C4-BE4A-1950019B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906-B5A0-40F2-A21E-13928FA7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5D5-5288-4C04-9EE2-06AC7F70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BA1-A08A-4714-B88D-6F92E105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F01-BAF5-4BA5-8628-113391DB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2962-1DC6-4672-84E3-28E0D522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CCE4F-E545-40B4-BC47-FB33A5EA0E3D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2D2AE-FB76-4DAC-B2AD-5C87B9EC9B07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B2117-61C1-45A9-B884-F47864DC38EA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8F345-4ABB-4FAE-9A95-4588EAB83932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سابعة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5840" y="19191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راو أو صفة في السند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100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TextBox 6"/>
          <p:cNvSpPr/>
          <p:nvPr/>
        </p:nvSpPr>
        <p:spPr>
          <a:xfrm rot="16200000">
            <a:off x="8391600" y="3727440"/>
            <a:ext cx="532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راو أو صفة في السند    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عرف الطالب كيف يخرج الحديث عن طريق راو في السند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ea typeface="Traditional Arabic"/>
              </a:rPr>
              <a:t> </a:t>
            </a: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عرف الطلب كيف يخرج الحديث عن طريق صفى تتعلق بالسند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تعرف على المصادر التي يستعان بها في هاتين الطريقتين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مارس التخريج عملياً بهاتين الطريقتين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TextBox 6"/>
          <p:cNvSpPr/>
          <p:nvPr/>
        </p:nvSpPr>
        <p:spPr>
          <a:xfrm rot="16200000">
            <a:off x="8391600" y="3727440"/>
            <a:ext cx="532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راو أو صفة في السند    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e6c133"/>
                </a:solidFill>
                <a:latin typeface="Calibri"/>
                <a:cs typeface="Traditional Arabic"/>
              </a:rPr>
              <a:t>التخريج عن طريق راو في السند 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1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كتب الراوي نفسه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2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كتب اعتنت بأحاديث راو معين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3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كتب التراجم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4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كتب المشيخات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5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كتب الأسماء والكنى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6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الفهارس العامة للأعلام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3" name="Straight Connector 4"/>
          <p:cNvSpPr/>
          <p:nvPr/>
        </p:nvSpPr>
        <p:spPr>
          <a:xfrm>
            <a:off x="1048068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TextBox 6"/>
          <p:cNvSpPr/>
          <p:nvPr/>
        </p:nvSpPr>
        <p:spPr>
          <a:xfrm rot="16200000">
            <a:off x="8391600" y="3727440"/>
            <a:ext cx="532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راو أو صفة في السند    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e6c133"/>
                </a:solidFill>
                <a:latin typeface="Calibri"/>
                <a:cs typeface="Traditional Arabic"/>
              </a:rPr>
              <a:t>التخريج عن طريق صفة تتعلق بالسند 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1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ظهور علامة تدل على صحته أو ضعفه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2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وصف السند بالغرابة أو التفرد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3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الاختلاف في السند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4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الحديث المسلسل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5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الراوي المبهم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6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رواية الراوي عن أبيه عن جده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TextBox 6"/>
          <p:cNvSpPr/>
          <p:nvPr/>
        </p:nvSpPr>
        <p:spPr>
          <a:xfrm rot="16200000">
            <a:off x="8391600" y="3727440"/>
            <a:ext cx="532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راو أو صفة في السند    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12-10T03:38:53Z</dcterms:modified>
  <cp:revision>55</cp:revision>
  <dc:subject/>
  <dc:title>تعريف التخريج وفوائده ..</dc:title>
</cp:coreProperties>
</file>