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19CEF-5A21-4B44-88A1-8086705F7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AB4B-660C-487F-A1AD-4310F8F88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00B01C-C4AE-41A1-A191-FF5747D232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FBEEE6-A3E7-4E41-A08A-89DE5BADE7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9F06F7-34F4-493D-BACF-829DA089B6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02E07B-32B1-43D1-9CB4-FB31B7D0CD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02158E-35EF-4E85-A6E4-FFFD70CCB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F3387C-259B-484C-ACCA-F81061E742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1315E0-6810-4D0C-A961-E6E84FA479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045523-98EC-4C46-8C15-F0FC4E86A4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EFCBAF-2071-4655-99DD-B3680C4336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B7158D-2C83-4CEA-8E50-C87D63988B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251B3-F874-4B22-9D2E-726F98D0E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509DEE-1DAD-440C-90FC-C5B4B29D3A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C973F9-D7E5-4AEC-93A5-1DD8DF6A9A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01CE2D-B2EF-451D-85E5-0B9A849CB7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EDF952-D27A-40CB-9311-F56D3A2A78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7EC157-1416-4E1F-B4E9-7FEF1E07D9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AC2401-C644-42C9-B7BD-931F9BAC65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8EB9BA-865E-41D0-9FD5-0A8A9D5C20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C58F54-18B8-4742-8CF5-2E1059749D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D42D3F-403C-4F6F-AA90-85AC3444E4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256593-206E-49B0-89F0-0E8560D185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41675-E252-408D-980D-0647F623C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07EF62-6359-45A3-99B3-8908E526C3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F81F3A-DDCA-453B-8AC6-D04495CD71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7F7E1D-62A5-4276-B934-3AD2E826A5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08BD5A-E8BB-467F-863E-6B44EF0EA7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A96501-EFB5-4FF0-8CDB-9521081071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2EFCBE-5B72-4272-8BDB-BC7E1C6174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3F14E8-E4EB-46C5-B75E-C09C9BE1D8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752EAD-0F60-42BB-8715-6E785113D7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4134DF-20C5-49EA-94AC-6F287D4712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69BC91-3C0D-4312-B4D5-BD4656CBBA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40214-4DB0-4CEA-B177-E7C7E5272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BCB30C-240F-4558-9C89-D6965013BB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5EAB15-5B5A-438A-B25C-D546F400B78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15D8DC-5300-4CB8-88BE-9AEE2CCDAA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2AF705-7BB2-4E69-AC6C-330973E43A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743867-9864-47F4-9014-AA1234B697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AA51B3-02F1-4AEC-9ADF-39AEE25133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C9625F-F3D0-4387-825E-784E6D4724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1028A2-7C4A-48CF-A50B-E02193BB72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FCEC37-84CB-4115-95D8-2191558A46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B03F4D-D61C-43CB-8E4B-2DB660C440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5CBDF-7A6F-4AEC-BCBB-F6E4A3211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D5C382-D313-4F22-8CA3-176E43610A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9876BA-04CC-4630-B153-6E037A8326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97A52F-F521-4CE8-8BCF-A29A49A814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763E73-BB0E-4E7C-9E51-EEF4F09EA6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496A77-167E-4227-A449-826B4495FC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79021E-8D87-441D-B2DD-8123B1CE7F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3E4D6E-44B0-4D5E-B433-4A1D19831A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9390D9-7534-43B9-85F3-4D7C58060A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7333F9-7A09-4128-A1E4-04FFFFB0A6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BE7DD9-BBB1-4AE3-AC88-858929E487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C8504-B896-4A9B-B08F-3183C37B2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C287F7-C882-423A-9D8F-71AA61EC81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ED477B-64B7-4DBA-9473-4ECC644E56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F07FB7-F437-48AE-BEA3-6223E6B219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B30009-9572-45F6-BE1A-D2332F0AAE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991A45-E448-4DC7-A56D-1295AEF29E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8C545F3-FCC8-4B23-8CC5-9788BD2291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3AA63CD-A0CB-41ED-B0BD-E542C4E77E6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3B708D-971F-4EC5-BEEB-10B923DBD86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D8238A-0EC7-4776-876C-6B62D0276D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796F19-FC19-44F7-897F-C816919CB3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98B4B-EC5D-434E-BBB2-8103359FE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6D4BFB-1C50-400F-AC4F-9A2AD2C0B6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0A4193-E778-4E80-9DEB-EEA61B6270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F24EEC-EB5D-46A5-BD90-56DDA149DC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C8E7E1-1582-435B-8CAB-9351AB342A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B55720-AD1E-448F-AED2-BF59609A73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00D661-FA8F-464B-9B36-9D0E370A2C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4706FF-8CA3-4045-B699-FE5AFB1381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B286E8E-8512-4D5B-87CF-A15B5A2518B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5AF6E23-FD3F-4F11-BE8D-2579E007BF4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4BC92EB-8CC6-402A-BB4A-52785E307DA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5A073-5455-43A8-AC5C-61C9138C4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D944FA-9D46-4E29-952A-C9C2CF7453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8DEA608-9E76-4A1F-89ED-2262D0D87D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AA43798-F57F-4002-A7A2-EEFF2B700E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7692FC-8988-4F12-B2A6-69D8AA73C65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8EB9CA5-8392-4907-92EA-A02EFEA0D2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2B881B-8624-4343-AC52-55C494BDC6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E7B123-7DBB-4B99-92C3-45C8D46B98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3846BD-E197-4536-990B-478B537413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1B24587-A81D-4848-A026-92DCAF6560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CC189A8-8C83-4B48-B69B-0B30BC06EB4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43AFC-80F3-4485-916A-ED5AB03C9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F22535B-4990-4780-9760-08B7F0543B0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3235993-B243-4B9F-8B0C-DD5ACA9805B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C5D146-6ACB-4DDF-800A-E49D72B5E3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13AA1C-66E4-46D2-B951-9B628AE958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769B21E-5F6B-481D-B9C9-65C6C2936F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D0F4ED-4AED-45D0-9AAF-75614D4747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84EC13-1918-4F7C-98E8-EA1FFA6F8B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E61D54-2584-402A-A1B0-26836F8294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881480-9205-4AAD-B491-9408319713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9C5A445-FB64-4942-841E-A1C4A7BF57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8EE05-B6F5-4484-B790-B2C5D11C9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11258D1-8CC1-4136-9D51-CE09B368B0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C8A0023-6615-47BD-B9C8-108B2E8CCBC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859A609-D445-416E-98D3-33430E7448A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DDAE27E-C92D-4718-966C-5747E31BDC3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B148FD6-885B-4D47-9609-7162EB9D19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B242587-E6DC-477C-8034-5303A9CDAB3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3ADBB8C-2FA1-4149-A889-794F0CD529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0AF62F-E290-42B8-8436-B2A0AC220B2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F530B5-E38F-4325-B261-DA777628AF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14B929-A99D-4350-91C5-CF6AD13886F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55F62-2D81-40E7-BB36-6FD1C30E5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30677-C60A-4A00-8A06-A423729DF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8FA2AD-CE28-49C5-8E8F-DDF563945F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3D1B12-A4EE-472E-B827-496315AE5C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86D2E20-0F33-4624-9290-519B5859963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288B95-7F31-492A-820D-D077CED380F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0F32AEA-507A-4914-9327-81FFD8D7DD9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101C134-1206-434C-AB66-E42B0F4C80F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682FCCD-8B44-41F3-80F5-1D9488188D8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23DA920-AC21-4E5F-912D-B4E7C59168E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F8A68DB-9F7A-471A-92CA-4B8BA6BDB6E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9CB545E-2144-40AC-93EE-835E1534EFF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58374-42AB-48B3-9089-5A7157A0F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BABCDD5-B6F1-4DB8-94AA-83A1CFCE643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DB43494-F181-4FF6-A800-8B65FA9F51A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DB7BF7-FD83-4AAC-85D8-50AA7C3B1C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83E1139-4AD9-47E1-AB39-624D18F979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4809C2D-A1E6-454D-8926-F9D14710ECB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AD5C480-E1BC-41F0-A08E-C6961B108E4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07B9F48-7020-44B7-94D5-1D36060E962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B620289-B871-481B-8129-95732DF82A9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7041AE-0F6F-488F-9E7E-94E6E218FB4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F40399D-9352-4073-8856-6792362D9EC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929CA-5446-456E-9E8F-47DE9CE30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B2D1156-97FD-4FAA-AA57-5850B8DB73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DCD1DB7-7BE7-4F15-BA0E-1537CD52280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B3223C5-4685-42C2-AE84-81B4644CF9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79B864-D5B7-49F4-BC65-D1F117837D8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36D1CD-D81C-4847-89D0-AF07F9BCDC4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FDBE523-CC7B-4648-B728-16F0627207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A1BBB58-0D13-4F23-BFF9-8B0D7A9EE45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EA55C43-428D-4DFC-9C2C-628EFFC42F6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8A1A42F-A73B-46D3-92CE-F8D9B377CAE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64B0AC3-071A-4C94-B9F6-C969BD671AF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824B6-70CD-43F2-9FB7-4175FA3D7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950D93F-7547-487F-A462-9133BC55921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67BF060-20A0-4579-B92F-2EDE0B3D2B0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E64C332-2358-4FA5-ACD8-73460AC5F38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F1C9279-3606-4104-B322-F5B695432BE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640F6F2-8742-4379-A0B2-FA409EA125D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A4ADEC5-C9D7-4096-A665-C0C17B0CFE2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0EFF84-B930-4901-9127-2276B4F389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1E1E640-BED7-4683-83EA-6CD47175E8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C56F865-EF89-43AC-B910-CCE61380BE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95B46C5-D7C2-4CBD-A9B6-562D07B20FF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D8E64-67FC-4194-B252-C2FF79E80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78D46D9-6553-4699-A13C-6BE1F4879B0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666C514-8BDB-4E23-9A69-82EB3A86F02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6C9EBDD-B431-4BAC-A796-2BA1F31527C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A2677F1-E3E9-4D33-98FC-9863C47DE03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9E5EF19-78FE-4872-8CDD-12F1119DCAE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2FFF174-279E-4E1E-B128-ADAEEDF8AD8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F55DBF4-3A49-4E5D-B453-566457F8AF7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294378B-6DC0-42FF-B73F-81AF1366638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7CB309-4331-485B-9CDE-07751D1E105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CC9C90E-1C09-45D8-80E4-D149360EF6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9EFB7E-72B4-4066-880B-F2D3872223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040BEB3-F2E3-4426-88CA-809DADE9E72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FFA2DAE-8D53-424A-B24B-723FC7A1225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24DC71B-0228-4782-B8A3-8D4DA753767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74918A1-7DE7-4B3A-9D2E-29515406784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7A93623-184D-43FD-AFBF-BD27DEA1761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7FF80BD-8DF0-41DF-9DB9-ED34A4653DD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843E890-0B60-419E-B035-17C883369E3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6BCF2D0-3FE5-47D1-A928-662AD025D56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B7E0662-6A84-4B00-86CA-33F240849CC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8A4B845-A829-4263-A232-871E00D0EC2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C08E1-8956-4E22-87DA-06A88B135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F6DA88E-4902-4E87-A5F8-90C9E9F4A45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7C4E527-8605-458E-B288-FD308238C3C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0DEA3B9-B305-4F5F-A8EC-3D42FB8F70D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59837EC-86E2-4B41-B07A-1DA7BB3A7C8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5A16784-3C24-463D-BDE0-157073AF7F2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978F21A-D7A9-47D2-B8C7-5267CF746F0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21626EA-47EB-4987-B520-BF94C3086E5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111D249-A152-41DC-86ED-6012C87620F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02EB610-EA63-432D-9C36-1F3D61635DE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03D5C22-E581-4739-94D2-7713128FFF3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0BB27-C5C0-4D91-8B4A-457E08924C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014BE07-0E16-4A53-8F58-E04508AFFF3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AA7B7B4-3283-4163-A9BB-CC0294148A6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605A390-81C2-4BFC-88EF-8D2CCDBC816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06442BC-04A1-40F8-B06A-121019B474F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97CBD63-DA90-45DE-BEAF-9AA9AD2B514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F509E41-66C5-496C-8910-4F78E86E52F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C088BFD-6ED1-4E79-B08E-AC20E2E85B3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71D5495-D06F-4280-A0E7-CB700B7A049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37E857D-6BBF-4389-AF66-1FBC49F0985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2B9E05B-D696-4E96-8E20-ED97C4B05CF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771C2-0574-45AC-8839-3CEBDCABD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96063CE-D11A-4E57-89EB-F4CA30607FA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1D6AA74-6EAD-473A-BDAC-6A96547568B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D1A02D8-C3E6-4D99-9000-1D011DD54BA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6E0D707-DFB7-4B8F-9A15-75DCC88FB71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CCFC6C7-B6D4-450B-8C88-483B3142E9F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205DECB-A081-499C-B945-8A4C219A1EA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E6322C1-72B0-4AE8-B139-71F30125870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70804CC-2D5F-4A39-911D-850A381BE90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C3C1E8C-0E48-456D-AF0D-17A5BAE87A6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C4A6B2D-FDBE-4C30-91A7-3C025D1E9CD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5F3CC-DA6F-4B17-9C37-B1EC4B4C6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AEE5A0A-8426-4ADA-BC1A-39FE5A7499D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DBB40F1-C534-48CF-9E36-C5508A2B238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2F45491-A3E5-4FCA-B569-03B0FB958DF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113530E-F133-4504-B2CB-ED32D46A964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E71CBC3-CDC4-42A3-8FAF-A91960635D4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547599E-8E55-4E63-B5AC-710F74E5AF8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4F46523-A024-4E5E-8EB5-E3D35588722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1CAFD83-F2E4-4A29-85F7-6B3FE8EA995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7B4C014-8A41-4D5B-BDDE-FDBD981A775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37AF2A1-9CCD-49E7-9EDE-D55C19345CE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15B9-A471-49D5-8259-0FF4D5A50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95EE74-695C-4742-8AD6-BEA5690F0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47EBEA6-9ACF-4B94-BCBD-A84F4ACEB23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DDCEE61-357D-40E5-8176-DAFED5282AE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CC587A0-C6FA-4D9B-9E91-2ED7D08ECCF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541FF15-6C3B-4B72-AD67-FB2F83FA2BB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892A3A5-014D-4A93-97C8-F41DEA2DD07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4241546-342A-41D8-A875-F3BFCF6949C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CEE248D-4728-4A71-BFB6-EA11080B301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F138A61-5086-459E-82AE-942DC73A84A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5877C46-9CA6-42FC-AB0F-3D3D87F4AA8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3F8A139-426B-407A-A464-ED502A5304A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BE467-79AC-4A46-AA30-D67BBCDB7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1A7AAC2-1ADF-4A47-8F8F-AFFF4BE56BB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5CCEFAE-3175-4457-A938-58E02AD1A3E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3EEDF60-6B86-4878-B16D-B18DE31A3BD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E9628-0582-41DA-9044-FC3D92241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271F9-F153-4133-B9F3-A8D25989A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4F5C8-CDA6-42B5-BB6B-F0AF1802F0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D662CF-83B0-4E87-A98C-A2B03ED1A1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3242CB-9F4D-4B58-90FE-F1BC6A7B89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BAA230-6073-4A0E-90FD-C01B4651DE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F689A-F1E4-440D-9953-EFD5673DE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91EB8F-496F-4F22-9071-89DAA3E82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3CDF6-AD68-406A-8CCB-B52E658F0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080566-5DA4-4AB5-B833-F3CD191346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3F0DC-3FCC-4704-B0E5-C62AF29C38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2CCCE-98FB-41DE-838C-145F6F1CC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6CB5F-B4C5-461A-B0B5-04F1895A4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EB7E9-D307-4B3B-B483-F4AED5679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14EB1-9F96-45B0-BCBE-CED7355F3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F93B97-3E9F-4C92-904A-9E53101E15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11F23A-3996-4349-AB78-31BD67FD00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AF0AFB-61F8-469B-BE7D-8D79F7D0C1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EB488B-2305-4B09-A1DA-02AD21DEDE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27BE8-6165-4124-B613-ADA221D04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E745AB-B8BD-46C8-A4BD-4117F6D449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A5B53-79BF-4BE5-9A90-9AC898FF4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494B68-D81B-40B7-A459-3D7EE89884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C9C35-1545-4F2C-9D6F-D1A25EDB7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5E41E6-E98C-4F95-9FC1-907D8FD108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DC6658-C5D4-414C-92A7-CFE9BF1E3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C6D7E-63DA-4E44-9F1E-1EA0426C3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34D0F-D544-42B8-B18C-E45B40388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052B2-1198-46F5-BBA8-540CB0BDD6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44034F-C2C8-47C9-B573-FCFD070FB5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1AAC-9B6C-4B99-B5A5-43EB47A87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2DEDB0-E9AB-403B-8A90-0A817DB20F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5439D0-C79A-4722-BCF8-01DA8EEBB2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BFD43-7C03-4BE1-9DED-0AA9967178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383E14-F1A4-408F-90D4-17CECE97D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A8BB2-385F-4C85-A51D-2A4BD0D961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4F1EEB-A320-4737-9CF1-7975245899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6182B-F2DC-4960-B08E-FCFEEF4600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65615-80B1-4E54-A0FD-5A73EE0C9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AFC2C-06CD-444B-9322-B1B3539B0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91958-493C-434B-A895-0C320A239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EB116-1319-4523-80B8-46086D7B3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41B405-FE42-4EC7-857F-667481FE4E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F539ED-AE72-4FAC-9368-81AAD822B8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B5EB21-61C0-450C-961F-AC9AFF9AF3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6A4E03-9E1B-491F-A846-62343828C6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BC6C22-E527-424C-BE9D-A42A09AEB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0849D6-F9A9-415F-9F04-14370BEFF4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F9C4D9-B504-439B-A052-863404CDF6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AC8C09-6C28-447B-8C71-0606A69B4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177281-6823-48C9-A4C9-0EC67D02C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0E8521-B04C-4C04-ACF1-2EEC4DE54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45513-38F5-4E08-AB27-F8B425307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C574D-CC43-4360-9B1F-FE3B4175D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AAEE7-C462-42AF-A97F-CF0BAE880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D8478-C8DA-47F6-BED6-7BD142CF45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7D34AE-6AFD-4E01-A7FC-2CBADC1A31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BA237F-6B16-4A8E-8742-2035FF6F53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9F95C8-25B9-43B9-86B9-CC2E7281E7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15F8D-1363-470F-AACC-CBCBA73798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2DD2A6-520E-4293-B555-98B50F6492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DBDD92-97E0-4F65-BB6B-A249FF0480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C071DE-7BB3-4A14-BF92-C33E6F09C8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81B0-91E1-410D-957B-F6DCDD964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38A514-38EA-409E-9EF5-68165F499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9BBB4-192C-4D34-AE0F-1CBA9E16B3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D1F2FE-E915-49FC-A587-40367C811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96DBFB-6113-4E4A-BFBD-890B31563F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57E824-E25F-4662-802E-06ED71580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53AA4E-43E2-44BB-BA63-929CD3FC3B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3F90EE-07B6-415B-A300-53CC8853AF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987AB3-8173-49F8-8F96-0E3154A69B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455E06-5B85-446E-BD41-A1B158BD28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DE27D8-06A4-45CF-AA5D-5B679CF5E0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8A86-0517-469B-8EC4-A3E7F31F32A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2"/>
          <p:cNvGrpSpPr/>
          <p:nvPr/>
        </p:nvGrpSpPr>
        <p:grpSpPr>
          <a:xfrm>
            <a:off x="0" y="0"/>
            <a:ext cx="2666880" cy="6858000"/>
            <a:chOff x="0" y="0"/>
            <a:chExt cx="2666880" cy="6858000"/>
          </a:xfrm>
        </p:grpSpPr>
        <p:sp>
          <p:nvSpPr>
            <p:cNvPr id="39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4" descr="slidemaster_med3"/>
            <p:cNvPicPr/>
            <p:nvPr/>
          </p:nvPicPr>
          <p:blipFill>
            <a:blip r:embed="rId2"/>
            <a:stretch/>
          </p:blipFill>
          <p:spPr>
            <a:xfrm>
              <a:off x="0" y="0"/>
              <a:ext cx="2139840" cy="6858000"/>
            </a:xfrm>
            <a:prstGeom prst="rect">
              <a:avLst/>
            </a:prstGeom>
            <a:ln w="0">
              <a:noFill/>
            </a:ln>
          </p:spPr>
        </p:pic>
      </p:grpSp>
      <p:sp>
        <p:nvSpPr>
          <p:cNvPr id="3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9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7" name="PlaceHolder 3"/>
          <p:cNvSpPr>
            <a:spLocks noGrp="1"/>
          </p:cNvSpPr>
          <p:nvPr>
            <p:ph type="dt" idx="2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3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88AF-3601-40D8-A580-902C8FCAA8C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Group 2"/>
          <p:cNvGrpSpPr/>
          <p:nvPr/>
        </p:nvGrpSpPr>
        <p:grpSpPr>
          <a:xfrm>
            <a:off x="0" y="0"/>
            <a:ext cx="2666880" cy="6858000"/>
            <a:chOff x="0" y="0"/>
            <a:chExt cx="2666880" cy="6858000"/>
          </a:xfrm>
        </p:grpSpPr>
        <p:sp>
          <p:nvSpPr>
            <p:cNvPr id="43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4" descr="slidemaster_med3"/>
            <p:cNvPicPr/>
            <p:nvPr/>
          </p:nvPicPr>
          <p:blipFill>
            <a:blip r:embed="rId2"/>
            <a:stretch/>
          </p:blipFill>
          <p:spPr>
            <a:xfrm>
              <a:off x="0" y="0"/>
              <a:ext cx="2139840" cy="6858000"/>
            </a:xfrm>
            <a:prstGeom prst="rect">
              <a:avLst/>
            </a:prstGeom>
            <a:ln w="0">
              <a:noFill/>
            </a:ln>
          </p:spPr>
        </p:pic>
      </p:grpSp>
      <p:sp>
        <p:nvSpPr>
          <p:cNvPr id="4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4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3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628A-81DA-4ED4-9FBA-1C0E381645B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Group 2"/>
          <p:cNvGrpSpPr/>
          <p:nvPr/>
        </p:nvGrpSpPr>
        <p:grpSpPr>
          <a:xfrm>
            <a:off x="0" y="0"/>
            <a:ext cx="2666880" cy="6858000"/>
            <a:chOff x="0" y="0"/>
            <a:chExt cx="2666880" cy="6858000"/>
          </a:xfrm>
        </p:grpSpPr>
        <p:sp>
          <p:nvSpPr>
            <p:cNvPr id="48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2" name="Picture 4" descr="slidemaster_med3"/>
            <p:cNvPicPr/>
            <p:nvPr/>
          </p:nvPicPr>
          <p:blipFill>
            <a:blip r:embed="rId2"/>
            <a:stretch/>
          </p:blipFill>
          <p:spPr>
            <a:xfrm>
              <a:off x="0" y="0"/>
              <a:ext cx="2139840" cy="6858000"/>
            </a:xfrm>
            <a:prstGeom prst="rect">
              <a:avLst/>
            </a:prstGeom>
            <a:ln w="0">
              <a:noFill/>
            </a:ln>
          </p:spPr>
        </p:pic>
      </p:grpSp>
      <p:sp>
        <p:nvSpPr>
          <p:cNvPr id="4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3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3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5CF4-3E97-45D2-A5E6-0AA8951B604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Group 2"/>
          <p:cNvGrpSpPr/>
          <p:nvPr/>
        </p:nvGrpSpPr>
        <p:grpSpPr>
          <a:xfrm>
            <a:off x="0" y="0"/>
            <a:ext cx="2666880" cy="6858000"/>
            <a:chOff x="0" y="0"/>
            <a:chExt cx="2666880" cy="6858000"/>
          </a:xfrm>
        </p:grpSpPr>
        <p:sp>
          <p:nvSpPr>
            <p:cNvPr id="52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Picture 4" descr="slidemaster_med3"/>
            <p:cNvPicPr/>
            <p:nvPr/>
          </p:nvPicPr>
          <p:blipFill>
            <a:blip r:embed="rId2"/>
            <a:stretch/>
          </p:blipFill>
          <p:spPr>
            <a:xfrm>
              <a:off x="0" y="0"/>
              <a:ext cx="2139840" cy="6858000"/>
            </a:xfrm>
            <a:prstGeom prst="rect">
              <a:avLst/>
            </a:prstGeom>
            <a:ln w="0">
              <a:noFill/>
            </a:ln>
          </p:spPr>
        </p:pic>
      </p:grpSp>
      <p:sp>
        <p:nvSpPr>
          <p:cNvPr id="5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2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8693-95CC-43A4-A406-FC680A3F328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8" name="Group 2"/>
          <p:cNvGrpSpPr/>
          <p:nvPr/>
        </p:nvGrpSpPr>
        <p:grpSpPr>
          <a:xfrm>
            <a:off x="0" y="0"/>
            <a:ext cx="2666880" cy="6858000"/>
            <a:chOff x="0" y="0"/>
            <a:chExt cx="2666880" cy="6858000"/>
          </a:xfrm>
        </p:grpSpPr>
        <p:sp>
          <p:nvSpPr>
            <p:cNvPr id="56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4" descr="slidemaster_med3"/>
            <p:cNvPicPr/>
            <p:nvPr/>
          </p:nvPicPr>
          <p:blipFill>
            <a:blip r:embed="rId2"/>
            <a:stretch/>
          </p:blipFill>
          <p:spPr>
            <a:xfrm>
              <a:off x="0" y="0"/>
              <a:ext cx="2139840" cy="6858000"/>
            </a:xfrm>
            <a:prstGeom prst="rect">
              <a:avLst/>
            </a:prstGeom>
            <a:ln w="0">
              <a:noFill/>
            </a:ln>
          </p:spPr>
        </p:pic>
      </p:grpSp>
      <p:sp>
        <p:nvSpPr>
          <p:cNvPr id="5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7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3" name="PlaceHolder 3"/>
          <p:cNvSpPr>
            <a:spLocks noGrp="1"/>
          </p:cNvSpPr>
          <p:nvPr>
            <p:ph type="dt" idx="4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4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6E33-EB16-4859-818B-337BAEFACCA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Group 2"/>
          <p:cNvGrpSpPr/>
          <p:nvPr/>
        </p:nvGrpSpPr>
        <p:grpSpPr>
          <a:xfrm>
            <a:off x="0" y="0"/>
            <a:ext cx="2666880" cy="6858000"/>
            <a:chOff x="0" y="0"/>
            <a:chExt cx="2666880" cy="6858000"/>
          </a:xfrm>
        </p:grpSpPr>
        <p:sp>
          <p:nvSpPr>
            <p:cNvPr id="61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4" descr="slidemaster_med3"/>
            <p:cNvPicPr/>
            <p:nvPr/>
          </p:nvPicPr>
          <p:blipFill>
            <a:blip r:embed="rId2"/>
            <a:stretch/>
          </p:blipFill>
          <p:spPr>
            <a:xfrm>
              <a:off x="0" y="0"/>
              <a:ext cx="2139840" cy="6858000"/>
            </a:xfrm>
            <a:prstGeom prst="rect">
              <a:avLst/>
            </a:prstGeom>
            <a:ln w="0">
              <a:noFill/>
            </a:ln>
          </p:spPr>
        </p:pic>
      </p:grpSp>
      <p:sp>
        <p:nvSpPr>
          <p:cNvPr id="6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1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379B-D9E8-452C-81A3-F1BD41E5728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titlemaster_med"/>
          <p:cNvPicPr/>
          <p:nvPr/>
        </p:nvPicPr>
        <p:blipFill>
          <a:blip r:embed="rId2"/>
          <a:stretch/>
        </p:blipFill>
        <p:spPr>
          <a:xfrm>
            <a:off x="0" y="0"/>
            <a:ext cx="9144000" cy="6862680"/>
          </a:xfrm>
          <a:prstGeom prst="rect">
            <a:avLst/>
          </a:prstGeom>
          <a:ln w="0">
            <a:noFill/>
          </a:ln>
        </p:spPr>
      </p:pic>
      <p:sp>
        <p:nvSpPr>
          <p:cNvPr id="6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5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9" name="PlaceHolder 3"/>
          <p:cNvSpPr>
            <a:spLocks noGrp="1"/>
          </p:cNvSpPr>
          <p:nvPr>
            <p:ph type="dt" idx="46"/>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5"/>
          <p:cNvSpPr>
            <a:spLocks noGrp="1"/>
          </p:cNvSpPr>
          <p:nvPr>
            <p:ph type="sldNum" idx="48"/>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7DE1-908B-4571-A961-4622949785B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8" name="Group 2"/>
          <p:cNvGrpSpPr/>
          <p:nvPr/>
        </p:nvGrpSpPr>
        <p:grpSpPr>
          <a:xfrm>
            <a:off x="0" y="0"/>
            <a:ext cx="2666880" cy="6858000"/>
            <a:chOff x="0" y="0"/>
            <a:chExt cx="2666880" cy="6858000"/>
          </a:xfrm>
        </p:grpSpPr>
        <p:sp>
          <p:nvSpPr>
            <p:cNvPr id="69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0" name="Picture 4" descr="slidemaster_med3"/>
            <p:cNvPicPr/>
            <p:nvPr/>
          </p:nvPicPr>
          <p:blipFill>
            <a:blip r:embed="rId2"/>
            <a:stretch/>
          </p:blipFill>
          <p:spPr>
            <a:xfrm>
              <a:off x="0" y="0"/>
              <a:ext cx="2139840" cy="6858000"/>
            </a:xfrm>
            <a:prstGeom prst="rect">
              <a:avLst/>
            </a:prstGeom>
            <a:ln w="0">
              <a:noFill/>
            </a:ln>
          </p:spPr>
        </p:pic>
      </p:grpSp>
      <p:sp>
        <p:nvSpPr>
          <p:cNvPr id="7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0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4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AF26-494E-447E-B0D3-43DF41068FF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2" name="Group 2"/>
          <p:cNvGrpSpPr/>
          <p:nvPr/>
        </p:nvGrpSpPr>
        <p:grpSpPr>
          <a:xfrm>
            <a:off x="0" y="0"/>
            <a:ext cx="2666880" cy="6858000"/>
            <a:chOff x="0" y="0"/>
            <a:chExt cx="2666880" cy="6858000"/>
          </a:xfrm>
        </p:grpSpPr>
        <p:sp>
          <p:nvSpPr>
            <p:cNvPr id="74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4" name="Picture 4" descr="slidemaster_med3"/>
            <p:cNvPicPr/>
            <p:nvPr/>
          </p:nvPicPr>
          <p:blipFill>
            <a:blip r:embed="rId2"/>
            <a:stretch/>
          </p:blipFill>
          <p:spPr>
            <a:xfrm>
              <a:off x="0" y="0"/>
              <a:ext cx="2139840" cy="6858000"/>
            </a:xfrm>
            <a:prstGeom prst="rect">
              <a:avLst/>
            </a:prstGeom>
            <a:ln w="0">
              <a:noFill/>
            </a:ln>
          </p:spPr>
        </p:pic>
      </p:grpSp>
      <p:sp>
        <p:nvSpPr>
          <p:cNvPr id="7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7" name="PlaceHolder 3"/>
          <p:cNvSpPr>
            <a:spLocks noGrp="1"/>
          </p:cNvSpPr>
          <p:nvPr>
            <p:ph type="dt" idx="5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5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51C6-BA15-4C7A-8832-046D2D290D1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Group 2"/>
          <p:cNvGrpSpPr/>
          <p:nvPr/>
        </p:nvGrpSpPr>
        <p:grpSpPr>
          <a:xfrm>
            <a:off x="0" y="0"/>
            <a:ext cx="2666880" cy="6858000"/>
            <a:chOff x="0" y="0"/>
            <a:chExt cx="2666880" cy="6858000"/>
          </a:xfrm>
        </p:grpSpPr>
        <p:sp>
          <p:nvSpPr>
            <p:cNvPr id="78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4" descr="slidemaster_med3"/>
            <p:cNvPicPr/>
            <p:nvPr/>
          </p:nvPicPr>
          <p:blipFill>
            <a:blip r:embed="rId2"/>
            <a:stretch/>
          </p:blipFill>
          <p:spPr>
            <a:xfrm>
              <a:off x="0" y="0"/>
              <a:ext cx="2139840" cy="6858000"/>
            </a:xfrm>
            <a:prstGeom prst="rect">
              <a:avLst/>
            </a:prstGeom>
            <a:ln w="0">
              <a:noFill/>
            </a:ln>
          </p:spPr>
        </p:pic>
      </p:grpSp>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9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5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5"/>
          <p:cNvSpPr>
            <a:spLocks noGrp="1"/>
          </p:cNvSpPr>
          <p:nvPr>
            <p:ph type="sldNum" idx="5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A6C1-710D-4999-A9AF-0C92DB9A85B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2666880" cy="6858000"/>
            <a:chOff x="0" y="0"/>
            <a:chExt cx="2666880" cy="6858000"/>
          </a:xfrm>
        </p:grpSpPr>
        <p:sp>
          <p:nvSpPr>
            <p:cNvPr id="4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4" descr="slidemaster_med3"/>
            <p:cNvPicPr/>
            <p:nvPr/>
          </p:nvPicPr>
          <p:blipFill>
            <a:blip r:embed="rId2"/>
            <a:stretch/>
          </p:blipFill>
          <p:spPr>
            <a:xfrm>
              <a:off x="0" y="0"/>
              <a:ext cx="2139840" cy="6858000"/>
            </a:xfrm>
            <a:prstGeom prst="rect">
              <a:avLst/>
            </a:prstGeom>
            <a:ln w="0">
              <a:noFill/>
            </a:ln>
          </p:spPr>
        </p:pic>
      </p:grpSp>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79F1-1969-446D-84BD-4EABB5FEEAE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Group 2"/>
          <p:cNvGrpSpPr/>
          <p:nvPr/>
        </p:nvGrpSpPr>
        <p:grpSpPr>
          <a:xfrm>
            <a:off x="0" y="0"/>
            <a:ext cx="2666880" cy="6858000"/>
            <a:chOff x="0" y="0"/>
            <a:chExt cx="2666880" cy="6858000"/>
          </a:xfrm>
        </p:grpSpPr>
        <p:sp>
          <p:nvSpPr>
            <p:cNvPr id="83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slidemaster_med3"/>
            <p:cNvPicPr/>
            <p:nvPr/>
          </p:nvPicPr>
          <p:blipFill>
            <a:blip r:embed="rId2"/>
            <a:stretch/>
          </p:blipFill>
          <p:spPr>
            <a:xfrm>
              <a:off x="0" y="0"/>
              <a:ext cx="2139840" cy="6858000"/>
            </a:xfrm>
            <a:prstGeom prst="rect">
              <a:avLst/>
            </a:prstGeom>
            <a:ln w="0">
              <a:noFill/>
            </a:ln>
          </p:spPr>
        </p:pic>
      </p:grpSp>
      <p:sp>
        <p:nvSpPr>
          <p:cNvPr id="8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5" name="PlaceHolder 3"/>
          <p:cNvSpPr>
            <a:spLocks noGrp="1"/>
          </p:cNvSpPr>
          <p:nvPr>
            <p:ph type="dt" idx="5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5"/>
          <p:cNvSpPr>
            <a:spLocks noGrp="1"/>
          </p:cNvSpPr>
          <p:nvPr>
            <p:ph type="sldNum" idx="6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3463-153A-4A9C-8F9C-6C9D86309CE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4" name="Group 2"/>
          <p:cNvGrpSpPr/>
          <p:nvPr/>
        </p:nvGrpSpPr>
        <p:grpSpPr>
          <a:xfrm>
            <a:off x="0" y="0"/>
            <a:ext cx="2666880" cy="6858000"/>
            <a:chOff x="0" y="0"/>
            <a:chExt cx="2666880" cy="6858000"/>
          </a:xfrm>
        </p:grpSpPr>
        <p:sp>
          <p:nvSpPr>
            <p:cNvPr id="87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slidemaster_med3"/>
            <p:cNvPicPr/>
            <p:nvPr/>
          </p:nvPicPr>
          <p:blipFill>
            <a:blip r:embed="rId2"/>
            <a:stretch/>
          </p:blipFill>
          <p:spPr>
            <a:xfrm>
              <a:off x="0" y="0"/>
              <a:ext cx="2139840" cy="6858000"/>
            </a:xfrm>
            <a:prstGeom prst="rect">
              <a:avLst/>
            </a:prstGeom>
            <a:ln w="0">
              <a:noFill/>
            </a:ln>
          </p:spPr>
        </p:pic>
      </p:grpSp>
      <p:sp>
        <p:nvSpPr>
          <p:cNvPr id="8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9" name="PlaceHolder 3"/>
          <p:cNvSpPr>
            <a:spLocks noGrp="1"/>
          </p:cNvSpPr>
          <p:nvPr>
            <p:ph type="dt" idx="6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5"/>
          <p:cNvSpPr>
            <a:spLocks noGrp="1"/>
          </p:cNvSpPr>
          <p:nvPr>
            <p:ph type="sldNum" idx="6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314B-7173-4123-93C4-9718B6A5C41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Group 2"/>
          <p:cNvGrpSpPr/>
          <p:nvPr/>
        </p:nvGrpSpPr>
        <p:grpSpPr>
          <a:xfrm>
            <a:off x="0" y="0"/>
            <a:ext cx="2666880" cy="6858000"/>
            <a:chOff x="0" y="0"/>
            <a:chExt cx="2666880" cy="6858000"/>
          </a:xfrm>
        </p:grpSpPr>
        <p:sp>
          <p:nvSpPr>
            <p:cNvPr id="91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0" name="Picture 4" descr="slidemaster_med3"/>
            <p:cNvPicPr/>
            <p:nvPr/>
          </p:nvPicPr>
          <p:blipFill>
            <a:blip r:embed="rId2"/>
            <a:stretch/>
          </p:blipFill>
          <p:spPr>
            <a:xfrm>
              <a:off x="0" y="0"/>
              <a:ext cx="2139840" cy="6858000"/>
            </a:xfrm>
            <a:prstGeom prst="rect">
              <a:avLst/>
            </a:prstGeom>
            <a:ln w="0">
              <a:noFill/>
            </a:ln>
          </p:spPr>
        </p:pic>
      </p:grpSp>
      <p:sp>
        <p:nvSpPr>
          <p:cNvPr id="9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3" name="PlaceHolder 3"/>
          <p:cNvSpPr>
            <a:spLocks noGrp="1"/>
          </p:cNvSpPr>
          <p:nvPr>
            <p:ph type="dt" idx="6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5"/>
          <p:cNvSpPr>
            <a:spLocks noGrp="1"/>
          </p:cNvSpPr>
          <p:nvPr>
            <p:ph type="sldNum" idx="6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75F8-B197-4552-A1F3-FCE8D060EA7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2" name="Group 2"/>
          <p:cNvGrpSpPr/>
          <p:nvPr/>
        </p:nvGrpSpPr>
        <p:grpSpPr>
          <a:xfrm>
            <a:off x="0" y="0"/>
            <a:ext cx="2666880" cy="6858000"/>
            <a:chOff x="0" y="0"/>
            <a:chExt cx="2666880" cy="6858000"/>
          </a:xfrm>
        </p:grpSpPr>
        <p:sp>
          <p:nvSpPr>
            <p:cNvPr id="96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4" name="Picture 4" descr="slidemaster_med3"/>
            <p:cNvPicPr/>
            <p:nvPr/>
          </p:nvPicPr>
          <p:blipFill>
            <a:blip r:embed="rId2"/>
            <a:stretch/>
          </p:blipFill>
          <p:spPr>
            <a:xfrm>
              <a:off x="0" y="0"/>
              <a:ext cx="2139840" cy="6858000"/>
            </a:xfrm>
            <a:prstGeom prst="rect">
              <a:avLst/>
            </a:prstGeom>
            <a:ln w="0">
              <a:noFill/>
            </a:ln>
          </p:spPr>
        </p:pic>
      </p:grpSp>
      <p:sp>
        <p:nvSpPr>
          <p:cNvPr id="9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6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7" name="PlaceHolder 3"/>
          <p:cNvSpPr>
            <a:spLocks noGrp="1"/>
          </p:cNvSpPr>
          <p:nvPr>
            <p:ph type="dt" idx="6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PlaceHolder 5"/>
          <p:cNvSpPr>
            <a:spLocks noGrp="1"/>
          </p:cNvSpPr>
          <p:nvPr>
            <p:ph type="sldNum" idx="6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C75E-DA34-4F6F-A855-1C446EF3711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6" name="Group 2"/>
          <p:cNvGrpSpPr/>
          <p:nvPr/>
        </p:nvGrpSpPr>
        <p:grpSpPr>
          <a:xfrm>
            <a:off x="0" y="0"/>
            <a:ext cx="2666880" cy="6858000"/>
            <a:chOff x="0" y="0"/>
            <a:chExt cx="2666880" cy="6858000"/>
          </a:xfrm>
        </p:grpSpPr>
        <p:sp>
          <p:nvSpPr>
            <p:cNvPr id="100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4" descr="slidemaster_med3"/>
            <p:cNvPicPr/>
            <p:nvPr/>
          </p:nvPicPr>
          <p:blipFill>
            <a:blip r:embed="rId2"/>
            <a:stretch/>
          </p:blipFill>
          <p:spPr>
            <a:xfrm>
              <a:off x="0" y="0"/>
              <a:ext cx="2139840" cy="6858000"/>
            </a:xfrm>
            <a:prstGeom prst="rect">
              <a:avLst/>
            </a:prstGeom>
            <a:ln w="0">
              <a:noFill/>
            </a:ln>
          </p:spPr>
        </p:pic>
      </p:grpSp>
      <p:sp>
        <p:nvSpPr>
          <p:cNvPr id="10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1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1" name="PlaceHolder 3"/>
          <p:cNvSpPr>
            <a:spLocks noGrp="1"/>
          </p:cNvSpPr>
          <p:nvPr>
            <p:ph type="dt" idx="7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5"/>
          <p:cNvSpPr>
            <a:spLocks noGrp="1"/>
          </p:cNvSpPr>
          <p:nvPr>
            <p:ph type="sldNum" idx="7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D712-3E12-4427-B26F-ED9D47BC255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Group 2"/>
          <p:cNvGrpSpPr/>
          <p:nvPr/>
        </p:nvGrpSpPr>
        <p:grpSpPr>
          <a:xfrm>
            <a:off x="0" y="0"/>
            <a:ext cx="2666880" cy="6858000"/>
            <a:chOff x="0" y="0"/>
            <a:chExt cx="2666880" cy="6858000"/>
          </a:xfrm>
        </p:grpSpPr>
        <p:sp>
          <p:nvSpPr>
            <p:cNvPr id="105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4" descr="slidemaster_med3"/>
            <p:cNvPicPr/>
            <p:nvPr/>
          </p:nvPicPr>
          <p:blipFill>
            <a:blip r:embed="rId2"/>
            <a:stretch/>
          </p:blipFill>
          <p:spPr>
            <a:xfrm>
              <a:off x="0" y="0"/>
              <a:ext cx="2139840" cy="6858000"/>
            </a:xfrm>
            <a:prstGeom prst="rect">
              <a:avLst/>
            </a:prstGeom>
            <a:ln w="0">
              <a:noFill/>
            </a:ln>
          </p:spPr>
        </p:pic>
      </p:grpSp>
      <p:sp>
        <p:nvSpPr>
          <p:cNvPr id="10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5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5" name="PlaceHolder 3"/>
          <p:cNvSpPr>
            <a:spLocks noGrp="1"/>
          </p:cNvSpPr>
          <p:nvPr>
            <p:ph type="dt" idx="7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5"/>
          <p:cNvSpPr>
            <a:spLocks noGrp="1"/>
          </p:cNvSpPr>
          <p:nvPr>
            <p:ph type="sldNum" idx="7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0878-8489-4597-8749-571D35E1081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Group 2"/>
          <p:cNvGrpSpPr/>
          <p:nvPr/>
        </p:nvGrpSpPr>
        <p:grpSpPr>
          <a:xfrm>
            <a:off x="0" y="0"/>
            <a:ext cx="2666880" cy="6858000"/>
            <a:chOff x="0" y="0"/>
            <a:chExt cx="2666880" cy="6858000"/>
          </a:xfrm>
        </p:grpSpPr>
        <p:sp>
          <p:nvSpPr>
            <p:cNvPr id="109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6" name="Picture 4" descr="slidemaster_med3"/>
            <p:cNvPicPr/>
            <p:nvPr/>
          </p:nvPicPr>
          <p:blipFill>
            <a:blip r:embed="rId2"/>
            <a:stretch/>
          </p:blipFill>
          <p:spPr>
            <a:xfrm>
              <a:off x="0" y="0"/>
              <a:ext cx="2139840" cy="6858000"/>
            </a:xfrm>
            <a:prstGeom prst="rect">
              <a:avLst/>
            </a:prstGeom>
            <a:ln w="0">
              <a:noFill/>
            </a:ln>
          </p:spPr>
        </p:pic>
      </p:grpSp>
      <p:sp>
        <p:nvSpPr>
          <p:cNvPr id="10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9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9" name="PlaceHolder 3"/>
          <p:cNvSpPr>
            <a:spLocks noGrp="1"/>
          </p:cNvSpPr>
          <p:nvPr>
            <p:ph type="dt" idx="7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1AC5-50AB-4D21-A025-1D03F092480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0" y="0"/>
            <a:ext cx="2666880" cy="6858000"/>
            <a:chOff x="0" y="0"/>
            <a:chExt cx="2666880" cy="6858000"/>
          </a:xfrm>
        </p:grpSpPr>
        <p:sp>
          <p:nvSpPr>
            <p:cNvPr id="8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slidemaster_med3"/>
            <p:cNvPicPr/>
            <p:nvPr/>
          </p:nvPicPr>
          <p:blipFill>
            <a:blip r:embed="rId2"/>
            <a:stretch/>
          </p:blipFill>
          <p:spPr>
            <a:xfrm>
              <a:off x="0" y="0"/>
              <a:ext cx="2139840" cy="6858000"/>
            </a:xfrm>
            <a:prstGeom prst="rect">
              <a:avLst/>
            </a:prstGeom>
            <a:ln w="0">
              <a:noFill/>
            </a:ln>
          </p:spPr>
        </p:pic>
      </p:grpSp>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B672-0F65-4D1E-8044-3421A7EAD36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titlemaster_med"/>
          <p:cNvPicPr/>
          <p:nvPr/>
        </p:nvPicPr>
        <p:blipFill>
          <a:blip r:embed="rId2"/>
          <a:stretch/>
        </p:blipFill>
        <p:spPr>
          <a:xfrm>
            <a:off x="0" y="0"/>
            <a:ext cx="9144000" cy="6862680"/>
          </a:xfrm>
          <a:prstGeom prst="rect">
            <a:avLst/>
          </a:prstGeom>
          <a:ln w="0">
            <a:noFill/>
          </a:ln>
        </p:spPr>
      </p:pic>
      <p:sp>
        <p:nvSpPr>
          <p:cNvPr id="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18F3-4710-4DF0-AB57-1E30F9CAE52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titlemaster_med"/>
          <p:cNvPicPr/>
          <p:nvPr/>
        </p:nvPicPr>
        <p:blipFill>
          <a:blip r:embed="rId2"/>
          <a:stretch/>
        </p:blipFill>
        <p:spPr>
          <a:xfrm>
            <a:off x="0" y="0"/>
            <a:ext cx="9144000" cy="6862680"/>
          </a:xfrm>
          <a:prstGeom prst="rect">
            <a:avLst/>
          </a:prstGeom>
          <a:ln w="0">
            <a:noFill/>
          </a:ln>
        </p:spPr>
      </p:pic>
      <p:sp>
        <p:nvSpPr>
          <p:cNvPr id="1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7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82D8-9B6D-411C-AA3E-855CCEBBE66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2"/>
          <p:cNvGrpSpPr/>
          <p:nvPr/>
        </p:nvGrpSpPr>
        <p:grpSpPr>
          <a:xfrm>
            <a:off x="0" y="0"/>
            <a:ext cx="2666880" cy="6858000"/>
            <a:chOff x="0" y="0"/>
            <a:chExt cx="2666880" cy="6858000"/>
          </a:xfrm>
        </p:grpSpPr>
        <p:sp>
          <p:nvSpPr>
            <p:cNvPr id="21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4" descr="slidemaster_med3"/>
            <p:cNvPicPr/>
            <p:nvPr/>
          </p:nvPicPr>
          <p:blipFill>
            <a:blip r:embed="rId2"/>
            <a:stretch/>
          </p:blipFill>
          <p:spPr>
            <a:xfrm>
              <a:off x="0" y="0"/>
              <a:ext cx="2139840" cy="6858000"/>
            </a:xfrm>
            <a:prstGeom prst="rect">
              <a:avLst/>
            </a:prstGeom>
            <a:ln w="0">
              <a:noFill/>
            </a:ln>
          </p:spPr>
        </p:pic>
      </p:grpSp>
      <p:sp>
        <p:nvSpPr>
          <p:cNvPr id="2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2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7EEB-2F90-496E-9411-EC4E71D011B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2"/>
          <p:cNvGrpSpPr/>
          <p:nvPr/>
        </p:nvGrpSpPr>
        <p:grpSpPr>
          <a:xfrm>
            <a:off x="0" y="0"/>
            <a:ext cx="2666880" cy="6858000"/>
            <a:chOff x="0" y="0"/>
            <a:chExt cx="2666880" cy="6858000"/>
          </a:xfrm>
        </p:grpSpPr>
        <p:sp>
          <p:nvSpPr>
            <p:cNvPr id="26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4" descr="slidemaster_med3"/>
            <p:cNvPicPr/>
            <p:nvPr/>
          </p:nvPicPr>
          <p:blipFill>
            <a:blip r:embed="rId2"/>
            <a:stretch/>
          </p:blipFill>
          <p:spPr>
            <a:xfrm>
              <a:off x="0" y="0"/>
              <a:ext cx="2139840" cy="6858000"/>
            </a:xfrm>
            <a:prstGeom prst="rect">
              <a:avLst/>
            </a:prstGeom>
            <a:ln w="0">
              <a:noFill/>
            </a:ln>
          </p:spPr>
        </p:pic>
      </p:grpSp>
      <p:sp>
        <p:nvSpPr>
          <p:cNvPr id="2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6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1D5E-5DE3-45F3-A935-249DAB06D54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 name="Group 2"/>
          <p:cNvGrpSpPr/>
          <p:nvPr/>
        </p:nvGrpSpPr>
        <p:grpSpPr>
          <a:xfrm>
            <a:off x="0" y="0"/>
            <a:ext cx="2666880" cy="6858000"/>
            <a:chOff x="0" y="0"/>
            <a:chExt cx="2666880" cy="6858000"/>
          </a:xfrm>
        </p:grpSpPr>
        <p:sp>
          <p:nvSpPr>
            <p:cNvPr id="30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4" descr="slidemaster_med3"/>
            <p:cNvPicPr/>
            <p:nvPr/>
          </p:nvPicPr>
          <p:blipFill>
            <a:blip r:embed="rId2"/>
            <a:stretch/>
          </p:blipFill>
          <p:spPr>
            <a:xfrm>
              <a:off x="0" y="0"/>
              <a:ext cx="2139840" cy="6858000"/>
            </a:xfrm>
            <a:prstGeom prst="rect">
              <a:avLst/>
            </a:prstGeom>
            <a:ln w="0">
              <a:noFill/>
            </a:ln>
          </p:spPr>
        </p:pic>
      </p:grpSp>
      <p:sp>
        <p:nvSpPr>
          <p:cNvPr id="3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0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2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5"/>
          <p:cNvSpPr>
            <a:spLocks noGrp="1"/>
          </p:cNvSpPr>
          <p:nvPr>
            <p:ph type="sldNum" idx="2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956C-ABAC-41C6-B749-6F175C47E3D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Group 2"/>
          <p:cNvGrpSpPr/>
          <p:nvPr/>
        </p:nvGrpSpPr>
        <p:grpSpPr>
          <a:xfrm>
            <a:off x="0" y="0"/>
            <a:ext cx="2666880" cy="6858000"/>
            <a:chOff x="0" y="0"/>
            <a:chExt cx="2666880" cy="6858000"/>
          </a:xfrm>
        </p:grpSpPr>
        <p:sp>
          <p:nvSpPr>
            <p:cNvPr id="34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4" descr="slidemaster_med3"/>
            <p:cNvPicPr/>
            <p:nvPr/>
          </p:nvPicPr>
          <p:blipFill>
            <a:blip r:embed="rId2"/>
            <a:stretch/>
          </p:blipFill>
          <p:spPr>
            <a:xfrm>
              <a:off x="0" y="0"/>
              <a:ext cx="2139840" cy="6858000"/>
            </a:xfrm>
            <a:prstGeom prst="rect">
              <a:avLst/>
            </a:prstGeom>
            <a:ln w="0">
              <a:noFill/>
            </a:ln>
          </p:spPr>
        </p:pic>
      </p:grpSp>
      <p:sp>
        <p:nvSpPr>
          <p:cNvPr id="3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5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33E7-DF5E-4F8A-8C52-FDF8DC68331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95280" y="1341360"/>
            <a:ext cx="8569440" cy="34560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Arial"/>
              </a:rPr>
              <a:t>مفهوم القياس</a:t>
            </a:r>
            <a:br>
              <a:rPr sz="6600"/>
            </a:br>
            <a:r>
              <a:rPr b="1" lang="ar-SA" sz="6600" spc="-1" strike="noStrike" u="sng">
                <a:solidFill>
                  <a:srgbClr val="000000"/>
                </a:solidFill>
                <a:uFillTx/>
                <a:latin typeface="Arial"/>
              </a:rPr>
              <a:t>مفهوم الزمن </a:t>
            </a:r>
            <a:endParaRPr b="0" lang="en-US" sz="66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0" name="PlaceHolder 2"/>
          <p:cNvSpPr>
            <a:spLocks noGrp="1"/>
          </p:cNvSpPr>
          <p:nvPr>
            <p:ph/>
          </p:nvPr>
        </p:nvSpPr>
        <p:spPr>
          <a:xfrm>
            <a:off x="2438280" y="1599840"/>
            <a:ext cx="6400800" cy="4708440"/>
          </a:xfrm>
          <a:prstGeom prst="rect">
            <a:avLst/>
          </a:prstGeom>
          <a:noFill/>
          <a:ln w="0">
            <a:noFill/>
          </a:ln>
        </p:spPr>
        <p:txBody>
          <a:bodyPr anchor="t">
            <a:normAutofit fontScale="82000"/>
          </a:bodyPr>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مستوى رياض الاطفال الوقت يدور حول الصباح والليل. ايام الاسبوع، تسلسل الاحداث والاوقات...</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ت مفهوم مجرد، الاطفال يدركون ان بعض الاشياء تستغرق وقتا اطول مقارنة ببعض الاشياء الاخرى،  مثلا وقت اعداد الكيك اطول من وقت اعداد العصير.</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ذه الافكار الاساسية تعد مفتاحا لفهم الساعات والدقائق.</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2" name="PlaceHolder 2"/>
          <p:cNvSpPr>
            <a:spLocks noGrp="1"/>
          </p:cNvSpPr>
          <p:nvPr>
            <p:ph/>
          </p:nvPr>
        </p:nvSpPr>
        <p:spPr>
          <a:xfrm>
            <a:off x="2484360" y="1484280"/>
            <a:ext cx="6400800" cy="4495680"/>
          </a:xfrm>
          <a:prstGeom prst="rect">
            <a:avLst/>
          </a:prstGeom>
          <a:noFill/>
          <a:ln w="0">
            <a:noFill/>
          </a:ln>
        </p:spPr>
        <p:txBody>
          <a:bodyPr anchor="t">
            <a:normAutofit fontScale="83000"/>
          </a:bodyPr>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مرحلة الاولى: لا يستطيع الطفل اقامة تسلسل للأحداث المتتابعة عبر الزمن ولكن يلاحظ ان تسلسل الاحداث اليومية تساعده على وعي الزمن. (النوم– الاستيقاظ –الاغتسال - ارتداء الملابس – تناول الطعام)</a:t>
            </a:r>
            <a:endParaRPr b="0" lang="en-US" sz="3200" spc="-1" strike="noStrike">
              <a:solidFill>
                <a:srgbClr val="000000"/>
              </a:solidFill>
              <a:latin typeface="Arial"/>
            </a:endParaRPr>
          </a:p>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رحلة الثانية: ما قبل المفاهيم يدرك ان الاسبوع أطول من اليوم ولكن لا يدرك مداه. </a:t>
            </a: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r>
              <a:rPr b="0" lang="ar-SA" sz="3600" spc="-1" strike="noStrike">
                <a:solidFill>
                  <a:srgbClr val="8c0039"/>
                </a:solidFill>
                <a:latin typeface="Arial"/>
              </a:rPr>
              <a:t>تقديم مفهوم الزمن في مرحلة رياض الاطفال:</a:t>
            </a:r>
            <a:endParaRPr b="0" lang="en-US" sz="3600" spc="-1" strike="noStrike">
              <a:solidFill>
                <a:srgbClr val="8c0039"/>
              </a:solidFill>
              <a:latin typeface="Arial"/>
            </a:endParaRPr>
          </a:p>
        </p:txBody>
      </p:sp>
      <p:sp>
        <p:nvSpPr>
          <p:cNvPr id="1154" name="PlaceHolder 2"/>
          <p:cNvSpPr>
            <a:spLocks noGrp="1"/>
          </p:cNvSpPr>
          <p:nvPr>
            <p:ph/>
          </p:nvPr>
        </p:nvSpPr>
        <p:spPr>
          <a:xfrm>
            <a:off x="2195640" y="1484280"/>
            <a:ext cx="6400800" cy="449568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فل بين </a:t>
            </a:r>
            <a:r>
              <a:rPr b="0" lang="ar-SA" sz="3200" spc="-1" strike="noStrike">
                <a:solidFill>
                  <a:srgbClr val="000000"/>
                </a:solidFill>
                <a:latin typeface="Arial"/>
              </a:rPr>
              <a:t>4</a:t>
            </a:r>
            <a:r>
              <a:rPr b="0" lang="ar-SA" sz="3200" spc="-1" strike="noStrike">
                <a:solidFill>
                  <a:srgbClr val="000000"/>
                </a:solidFill>
                <a:latin typeface="Arial"/>
              </a:rPr>
              <a:t>-</a:t>
            </a:r>
            <a:r>
              <a:rPr b="0" lang="ar-SA" sz="3200" spc="-1" strike="noStrike">
                <a:solidFill>
                  <a:srgbClr val="000000"/>
                </a:solidFill>
                <a:latin typeface="Arial"/>
              </a:rPr>
              <a:t>7</a:t>
            </a:r>
            <a:r>
              <a:rPr b="0" lang="ar-SA" sz="3200" spc="-1" strike="noStrike">
                <a:solidFill>
                  <a:srgbClr val="000000"/>
                </a:solidFill>
                <a:latin typeface="Arial"/>
              </a:rPr>
              <a:t>سنوات يستطيع:</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امة تسلسل لأحداث يقوم بها.</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تيب صور مجالات نمو النبات والحيوانات.</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لاحظة حالة الطقس.</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نشطة يقوم بها الطفل من الصباح وحتى المساء.</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ام مصطلحات الزمن </a:t>
            </a:r>
            <a:r>
              <a:rPr b="0" lang="ar-SA" sz="3200" spc="-1" strike="noStrike">
                <a:solidFill>
                  <a:srgbClr val="000000"/>
                </a:solidFill>
                <a:latin typeface="Arial"/>
              </a:rPr>
              <a:t>(وقت طويل- وقت قصير)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اقشة الاطفال حول اوقات الاحداث اليومية، ويمكن استخدام التقريب (قبل الثالثة بقليل- بعد السادسة بقليل..)</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مناقشة الطفل: لماذا نحتاج ان نعرف الوقت: </a:t>
            </a:r>
            <a:r>
              <a:rPr b="0" lang="ar-SA" sz="3200" spc="-1" strike="noStrike">
                <a:solidFill>
                  <a:srgbClr val="000000"/>
                </a:solidFill>
                <a:latin typeface="Arial"/>
              </a:rPr>
              <a:t>لمعرفة : وقت السفر- وقت الحضور للروضة- وقت حضور حفلة - تاريخ الاجازة-تاريخ العيد.....</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2411280" y="620280"/>
            <a:ext cx="6400800" cy="4496040"/>
          </a:xfrm>
          <a:prstGeom prst="rect">
            <a:avLst/>
          </a:prstGeom>
          <a:noFill/>
          <a:ln w="0">
            <a:noFill/>
          </a:ln>
        </p:spPr>
        <p:txBody>
          <a:bodyPr anchor="t">
            <a:normAutofit fontScale="84000"/>
          </a:bodyPr>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بعد ان يتعلم الطفل النهار والليل ننتقل الى الاوقات الاخرى: الظهيرة- منتصف الليل......</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نشاط لوحة التقويم وايام الاسبوع:</a:t>
            </a:r>
            <a:r>
              <a:rPr b="0" lang="ar-SA" sz="3200" spc="-1" strike="noStrike">
                <a:solidFill>
                  <a:srgbClr val="000000"/>
                </a:solidFill>
                <a:latin typeface="Arial"/>
              </a:rPr>
              <a:t> كل يوم في الروضة تقوم المعلمة مع الاطفال بتسمية اليوم والشهر، وفي اليوم التالي تذكر باليوم السابق (أمس كان يوم الاثنين ، اذن اليوم هو ....)، ويحرك الطفل العلامة على التقويم ووضعها في اليوم والتاريخ والشهر المناسب مثلا (الاثنين </a:t>
            </a:r>
            <a:r>
              <a:rPr b="0" lang="ar-SA" sz="3200" spc="-1" strike="noStrike">
                <a:solidFill>
                  <a:srgbClr val="000000"/>
                </a:solidFill>
                <a:latin typeface="Arial"/>
              </a:rPr>
              <a:t>9</a:t>
            </a:r>
            <a:r>
              <a:rPr b="0" lang="ar-SA" sz="3200" spc="-1" strike="noStrike">
                <a:solidFill>
                  <a:srgbClr val="000000"/>
                </a:solidFill>
                <a:latin typeface="Arial"/>
              </a:rPr>
              <a:t> محرم)</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شودة ايام الاسبوع.</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غة الوقت غدا امس احيانا...</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علم المناسبات الخاصة: عيد الفطر, عيد الاضحى, اسماء الشهور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شروع القياس والزمن</a:t>
            </a:r>
            <a:endParaRPr b="0" lang="en-US" sz="3600" spc="-1" strike="noStrike">
              <a:solidFill>
                <a:srgbClr val="8c0039"/>
              </a:solidFill>
              <a:latin typeface="Arial"/>
            </a:endParaRPr>
          </a:p>
        </p:txBody>
      </p:sp>
      <p:sp>
        <p:nvSpPr>
          <p:cNvPr id="1159" name=""/>
          <p:cNvSpPr txBox="1"/>
          <p:nvPr/>
        </p:nvSpPr>
        <p:spPr>
          <a:xfrm>
            <a:off x="2111400" y="1484280"/>
            <a:ext cx="7020000" cy="4495680"/>
          </a:xfrm>
          <a:prstGeom prst="rect">
            <a:avLst/>
          </a:prstGeom>
          <a:noFill/>
          <a:ln w="0">
            <a:noFill/>
          </a:ln>
        </p:spPr>
        <p:txBody>
          <a:bodyPr anchor="t">
            <a:normAutofit fontScale="83000"/>
          </a:bodyPr>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سيلة او لعبة او تجربة تكون ممتعة للطفل وفكرتها مبتكرة  ويقوم الطفل فيها باستخدام  المقاييس غير المقننة مع احضار ادواتها.</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رقة عمل لمفهوم الزمن ويكون هدفها احد الاهداف التالية (ترتيب زمني اولا, ثانيا, الاخير– يحدد الامور التي تستغرق وقت طويل والامور التي تستغرق وقت قصير- يحدد النشاطات التي تحدث في النهار والنشاطات التي تحدث في الليل)</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روط ورقة العمل (ملونة - فيها مكان لكتابة اسم الطفل - موضح فيها المطلوب بجملة قصيرة)</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دم الطالبة تحضير لنشاط.</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د القياس من أكثر المهارات الرياضية نفعاً وتوظيفاً في حياتنا اليومية،  والقياس يتضمن توظيف الأعداد والعد للأشياء بحيث يمكن مقارنتها لخواصها مثل: الحجم ، الوزن، الطول ، الحرارة...الخ.</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فل يتعامل مع مهارات القياس في الحياة اليومية مثل يشرب كوب حليب مساء، يشاهد امه تشتري كيلو جرام من الدقيق، يقيس الطفل وزنه أو طوله في العيادة، وتقاس له درجة الحرارة... الخ.</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مراحل نمو مفاهيم القياس:</a:t>
            </a: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أولى: </a:t>
            </a:r>
            <a:r>
              <a:rPr b="1" lang="ar-SA" sz="2800" spc="-1" strike="noStrike">
                <a:solidFill>
                  <a:srgbClr val="000000"/>
                </a:solidFill>
                <a:latin typeface="Arial"/>
              </a:rPr>
              <a:t>(مرحلة اللعب)، وفيها يقلد الطفل الأطفال الاكبر سنا والبالغين، فيلعب بمسطرة القياس،  ويقوم بالقياس بالأكواب او الميزان مثلما يشاهد الآخرين، حيث يقوم بسكب الرمل والحبوب من وعاء الى آخر مستكشفاً خواص الحجم، ويرفع الأشياء مستكشفاً خواص الوزن، كما أنه يلاحظ ان ذراعه قصيرة لا يمكن ان تصل الى مكان معين وان اخيه الأكبر ذراعه أطول، كما يبدأ باستيعاب مفهوم  الحرارة فهو يحب الاستحمام بالماء البارد، ويحب الطعام ساخناً وهكذا.</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ثانية: </a:t>
            </a:r>
            <a:r>
              <a:rPr b="1" lang="ar-SA" sz="3200" spc="-1" strike="noStrike">
                <a:solidFill>
                  <a:srgbClr val="000000"/>
                </a:solidFill>
                <a:latin typeface="Arial"/>
              </a:rPr>
              <a:t>تتضمن هذه المرحلة القيام </a:t>
            </a:r>
            <a:r>
              <a:rPr b="1" lang="ar-SA" sz="3200" spc="-1" strike="noStrike">
                <a:solidFill>
                  <a:srgbClr val="ff0000"/>
                </a:solidFill>
                <a:latin typeface="Arial"/>
              </a:rPr>
              <a:t>بإجراء مقارنات</a:t>
            </a:r>
            <a:r>
              <a:rPr b="1" lang="ar-SA" sz="3200" spc="-1" strike="noStrike">
                <a:solidFill>
                  <a:srgbClr val="000000"/>
                </a:solidFill>
                <a:latin typeface="Arial"/>
              </a:rPr>
              <a:t>، حيث يدرك الطفل عادة مفاهيم المقارنة مثل، أكبر من / اقل من / اثقل من / اخف من / اطول من / اقصر من / اكثر حرارة / اكثر برودة...... وهكذا يستطيع الطفل توظيف علاقات المقارنة في مواقف يومية.</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p:nvPr>
        </p:nvSpPr>
        <p:spPr>
          <a:xfrm>
            <a:off x="2484360" y="260280"/>
            <a:ext cx="6400800" cy="4711680"/>
          </a:xfrm>
          <a:prstGeom prst="rect">
            <a:avLst/>
          </a:prstGeom>
          <a:noFill/>
          <a:ln w="0">
            <a:noFill/>
          </a:ln>
        </p:spPr>
        <p:txBody>
          <a:bodyPr anchor="t">
            <a:normAutofit fontScale="71000"/>
          </a:bodyPr>
          <a:p>
            <a:pPr marL="243360" indent="-243360" algn="r" rtl="1">
              <a:lnSpc>
                <a:spcPct val="15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ثالثة: </a:t>
            </a:r>
            <a:r>
              <a:rPr b="1" lang="ar-SA" sz="2800" spc="-1" strike="noStrike">
                <a:solidFill>
                  <a:srgbClr val="000000"/>
                </a:solidFill>
                <a:latin typeface="Arial"/>
              </a:rPr>
              <a:t>تبدأ في نهاية مرحلة ما قبل العمليات وفي بداية مرحلة العمليات المحسوسة، وفيها يتعلم الطفل استخدام وحدات القياس غير المقننة بمعنى شيء يمتكله الطفل ويمكن ان يستخدم كوحدة قياس، مثل ان يحاول الطفل ايجاد كم عدد فناجين الرمل التي تملأ علبة حليب فارغة، كم فرشة اسنان تمثل طول قدمه، وبنمو استخدام الطفل للوحدات غير المقننة يتعلم مفاهيم وعلاقات جديدة يحتاج فهمها الى استخدام الطفل وحدات القياس المقننة.</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p:nvPr>
        </p:nvSpPr>
        <p:spPr>
          <a:xfrm>
            <a:off x="2438280" y="1600200"/>
            <a:ext cx="6400800" cy="4495680"/>
          </a:xfrm>
          <a:prstGeom prst="rect">
            <a:avLst/>
          </a:prstGeom>
          <a:noFill/>
          <a:ln w="0">
            <a:noFill/>
          </a:ln>
        </p:spPr>
        <p:txBody>
          <a:bodyPr anchor="t">
            <a:normAutofit fontScale="86000"/>
          </a:bodyPr>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رابعة: </a:t>
            </a:r>
            <a:r>
              <a:rPr b="1" lang="ar-SA" sz="3200" spc="-1" strike="noStrike">
                <a:solidFill>
                  <a:srgbClr val="000000"/>
                </a:solidFill>
                <a:latin typeface="Arial"/>
              </a:rPr>
              <a:t>عندما يدخل الطفل مرحلة العمليات الحسية تبدأ الحاجة لديه باستخدام وحدات قياس مقنن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خامسة: </a:t>
            </a:r>
            <a:r>
              <a:rPr b="1" lang="ar-SA" sz="3200" spc="-1" strike="noStrike">
                <a:solidFill>
                  <a:srgbClr val="000000"/>
                </a:solidFill>
                <a:latin typeface="Arial"/>
              </a:rPr>
              <a:t>وهي تبدأ في مرحلة العمليات وفيها يفهم الطفل ويستخدم الوحدات المقننة للقياس مثل السنتيمتر والمتر واللتر</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2340000" y="907560"/>
            <a:ext cx="6400800" cy="4496040"/>
          </a:xfrm>
          <a:prstGeom prst="rect">
            <a:avLst/>
          </a:prstGeom>
          <a:noFill/>
          <a:ln w="0">
            <a:noFill/>
          </a:ln>
        </p:spPr>
        <p:txBody>
          <a:bodyPr anchor="t">
            <a:normAutofit fontScale="76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17b"/>
                </a:solidFill>
                <a:latin typeface="Arial"/>
              </a:rPr>
              <a:t>كيف يفكر الطفل حول القياس</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جارب بياجية مثل تجربة أوعية الماء تثبت ان الأطفال لا زال تفكيرهم حدسي، ولا يستطيعون الاحتفاظ بالصورة في مخيلتهم، وبذلك لا يستطيعون الاحتفاظ بثبات الكم ،،،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أطفال تفكيرهم حدسي مثلا لو احضرت كرتين كرة مطاط وكرة تنس وسألت الطفل ايهما اثقل فالطفل سيتأثر بالحجم فسيختار الكرة ذات الحجم الاكبر ويقول انها اثقل بغض النظر عن الوزن.</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نشطة:</a:t>
            </a:r>
            <a:endParaRPr b="0" lang="en-US" sz="3600" spc="-1" strike="noStrike">
              <a:solidFill>
                <a:srgbClr val="8c0039"/>
              </a:solidFill>
              <a:latin typeface="Arial"/>
            </a:endParaRPr>
          </a:p>
        </p:txBody>
      </p:sp>
      <p:sp>
        <p:nvSpPr>
          <p:cNvPr id="1148" name="PlaceHolder 2"/>
          <p:cNvSpPr>
            <a:spLocks noGrp="1"/>
          </p:cNvSpPr>
          <p:nvPr>
            <p:ph/>
          </p:nvPr>
        </p:nvSpPr>
        <p:spPr>
          <a:xfrm>
            <a:off x="2556000" y="1267920"/>
            <a:ext cx="6400800" cy="4496040"/>
          </a:xfrm>
          <a:prstGeom prst="rect">
            <a:avLst/>
          </a:prstGeom>
          <a:noFill/>
          <a:ln w="0">
            <a:noFill/>
          </a:ln>
        </p:spPr>
        <p:txBody>
          <a:bodyPr anchor="t">
            <a:normAutofit fontScale="78000"/>
          </a:bodyPr>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شطة المقارنات: اكبر اصغر- اخف اثقل اطول قصر..الخ- مثلا: اطلب من الطفل تمرير الكرة الكبيرة او التقاط المربع الصغير وتمييز الأحجام باللم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فاهيم الاساسية للقيا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مفاهيم الحجم (كبير وصغ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نياُ: مفاهيم الطول (طويل وقص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لثاُ: مفاهيم العرض (واسع وضيق)</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ابعا: مفاهيم السمك (سميك و رقيق (نحيف) </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خامساَ: مفاهيم السعة (مليان فارغ)</a:t>
            </a:r>
            <a:endParaRPr b="0" lang="en-US" sz="2400" spc="-1" strike="noStrike">
              <a:solidFill>
                <a:srgbClr val="000000"/>
              </a:solidFill>
              <a:latin typeface="Arial"/>
            </a:endParaRPr>
          </a:p>
          <a:p>
            <a:pPr marL="267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0:46:36Z</dcterms:created>
  <dc:creator>Hala</dc:creator>
  <dc:description/>
  <dc:language>en-US</dc:language>
  <cp:lastModifiedBy>Lama Aljathlan</cp:lastModifiedBy>
  <dcterms:modified xsi:type="dcterms:W3CDTF">2016-12-13T09:27:46Z</dcterms:modified>
  <cp:revision>32</cp:revision>
  <dc:subject/>
  <dc:title>مفهوم القياس</dc:title>
</cp:coreProperties>
</file>