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05CB9-E773-48E8-AC05-15865C9B7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ED207-7CD9-488A-9159-665BFF221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342257-4679-40D3-8E7D-E261044D2B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B468F4-B48E-41C1-AD93-6B5EA18978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16AA8E-66E4-4035-AF15-55FE30A14B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36C6AE-3F60-4065-9EC8-26C9F9DE1D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553D47-FC8A-4F9F-9545-4692EE81EB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D2BF7E-7863-4415-8B01-90F7789B07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E05D1E-2C7A-4CF7-9E83-304279125E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0B4A50-AE75-4D82-AAC1-D4A04816D6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100ADA-8A1B-4D64-9169-B270063E08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B1FD1F1-C1AA-42A9-952E-08B779ED813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3CB39-E7D7-4D8A-A826-C74CBC6B9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016EB9-91DD-418A-93EE-A65F8AAD28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F9F72A-3CD9-47D0-A645-839E843C4B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7173C7-7FB2-453F-9F71-A69F2E9498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186C6A-AD5E-4D32-9F4F-A9AB6CA491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07ABBA-213C-448B-A5C0-5A003C5189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35F434-461A-4A79-AB91-0BB7A01A5C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531219-4B04-4B8C-845B-8A00D60D31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910EC3-DBC2-42EC-8F4C-BEAF9AABC0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C07C64-E716-4A91-ACF2-21ADAFFD8E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C197DA8-7330-4AC6-A189-8980853A661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B5D1C-6ED0-4502-9D51-B6DFFF2AF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3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2F72E8C-D06F-4318-BEDB-ACD5943F2E9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0B7E961-715D-4480-B67E-3C8CF32FF2A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35BDC6-95C7-4844-8325-FD481DDA36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4FE3B8-9C9D-4F6F-B0E9-1364A18235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FF01E7-051B-48C8-8B83-451A4B650C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E2FB08-C28F-4735-81EC-DFF234E4CF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0371EB-DE70-489C-AF4C-2F30AA13B7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5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D6EC92-03B0-4267-865A-EF4516258B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5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FA1367-62CF-4F21-8DEC-41CB914C24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C8A197-7755-420B-8716-8D90E18177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63C18-5143-4D44-AC7E-75A99E224A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1AD9F9-CED3-41C2-A324-199DDDE21A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F97AC5F-E122-4F1D-8DAE-A5426E6CC78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7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48165EF-1ABE-41C4-A049-45F29EDEA08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A1745C8-DB12-4CDF-A9C5-45043981A2E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8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066D17-32FC-47AC-88B5-9CDF152A507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F4B4F5-A324-4F0B-8BCA-78B35E0D4A6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EAAAE55-38D0-4F4B-BA05-12E261CB23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504189-C870-4CD5-B48C-C6C8D9594F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C1ED93A-F4ED-4432-A6EA-4187402E53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7A9BDE-A7E7-4415-9EF7-E039BF2D0F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4AA18-197C-4605-813D-8B600D8E9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B48E03-8D38-4D48-9A54-DAADA70260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663FE3-F45D-44C2-A085-CB20613617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4CA19C-7190-4DEF-8120-7929D29A9A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2E6EEC1-A9E1-4688-B1BF-CDC3FB1E041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153F042-C4F0-4626-B1BE-459C4DFBCB4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147229E-6881-4DDE-BC08-DA257C0E008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AC3EB36-872C-44C3-A90C-739EF70A25A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60367E3-9E15-4FB9-8F46-8C55A9A34A2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4070E2E-7A25-491A-8D7D-8EC034A124C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E71D0CB-38D5-4132-9BC4-9E745A79C76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3750E-9515-4E25-8607-A9FA4430A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88C59E3-5E79-4C7E-8347-62AC5D2364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EDC76A-E2E6-4AD3-9E8E-D451E40D43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72B77A-19EE-455C-A48F-964D46E291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E246BA3-6C96-4DB5-9804-5131F5C53F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A3FA360-8193-4074-A45C-5485E2446B6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A73C572-4537-4ECB-9A87-9EF87A3EF37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27C015C-6175-421C-A660-73470481722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0A7820B-A72B-4417-A96B-48EC1802BF3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BD8BF26-0067-4101-BA16-91CACBF29DB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F191E6D-8935-4369-9528-8ED0236EEB8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B2AB7-A948-4897-AF5A-BDC5548FC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869AC37-A894-4578-8D16-883A8A7F72F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6544B16-C5A9-4AA2-B201-B65B11F56DA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EC033E6-2175-4AA5-A9AE-211152754A6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ED9E6A1-3D23-4AAC-8D93-C4C57118293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56051D-30FF-4F38-9AFD-1729F548274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B22E3BE-1A33-4638-8069-5192A5F1A1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90C43CA-20D2-4DAA-8FA7-A3BC1A86AD2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0B4A41A-CB0E-4353-A4F8-1203111490D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FD7ADDD-10A3-4AC9-9332-4A690288AC3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1858643-CBE9-4EA4-9878-7E1C68BD52C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9FF2F-C42F-44A9-966E-B98ECA1F3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0A735E4-FD89-48FA-BB20-D8BABB83BC4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B09DB59-1A31-4870-A7BE-90A80628BE9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7D94745-2596-464A-A673-8C27F4F68F7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B49259E-CB3C-418E-A0DC-4E2E38B145E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F206ACF-4952-4FA5-993D-A142979B92E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20985C4-BD64-4DAC-B93A-D61CE0A73E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A06F3A4-39E0-46FC-ADBF-D7FBBCCBF95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ABBBE24-50E1-4B17-B735-0E0A7886CB5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C18A4BA-0DDD-4496-826B-6B7D0035B1E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8B47D31-0C2D-4D32-A681-EB9C04AD8AC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C9A08-0999-4458-BF86-DF78958EF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5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28FB6C9-0C3F-4F20-A76D-5C7FE5AC874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0F237EF-CA67-4829-90B3-C94000CA078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7E5B1E2-3ED2-4565-B7BC-D836CB49F69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877FE6F-5E98-4117-BF38-A550F0292C3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9467346-2858-434D-9633-B21C27DC73F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68B4D5B-D201-4578-BBCB-BA536078F21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1FD8024-B346-4D9C-8180-1F3A58EB492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BE3A880-062C-4AF8-9280-D27FCB7A246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BEA28A6-9CAB-40A5-9B2D-C8A2B639A57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A20B42C-F6B5-4C7B-B754-AEBB61D33B9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F05D8-44F6-48EB-B0BF-3A7556662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8E13492-D7A9-4A27-9D68-E42B130BE8B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872C7A9-B76E-4691-8E12-1EA1E68F9DB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9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75F7088-BF5B-4704-A54C-6DF0EFDD838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61DD7CC-ACEC-4A2D-BB3D-92BD2728444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D47DC93-3DC6-4463-B6D5-3AEA803B78B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29F3208-159F-42DD-94E5-543E2EFAD53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7C1588A-51A3-42FB-9078-0E30DA61552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0CF7EAD-DD1D-4201-93A7-83F8ED758D8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0F32AF6-79E8-4B68-A35E-CEC59BEAF96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B0B480F-7C34-4FE9-B2E6-52E7734F104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CB546-9E2C-4B6C-8F6B-12F015E0C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E51CC-20EB-43A3-9DA2-F4FE88F38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0B93D76-1603-4E49-B6B2-7FE402128A5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A166EAA-3BDB-4443-93C0-1C3D28E137F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37774A8-0FEF-4E9E-A885-5B5141F4F3B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3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1C7B3D1-0B1A-496B-8ADA-60A90E106E6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3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8445226-C34D-45B9-8DCA-36F4C28B91E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329B3A7-7B0D-415C-ACB9-182D2CE3B1B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56A7716-28E6-402C-8A2E-7E816EC2855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B7EBC1A-9F17-4179-A69C-D3138A2561B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D332C39-6B76-44B2-A920-BD2F33C763C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8D3960F-DC55-4C02-BAC2-40360783ABA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6B5E1-B9F7-4E4A-A2C6-C259CCB44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652FE3B-6AF1-47D0-BFF3-916429029E2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7FFBA03-A4D2-4589-8C61-EB6F8CF1825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7C06986-836A-48C4-AC3C-AD6F49F5878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5C5612B-CF9C-47BA-BC17-2E5BC4E3D57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569DFFD-F402-453B-889D-69FE67B4E06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B3914EF-1520-4B52-9712-7DD7B180034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621D190-91EF-4DAE-A67B-A7C406E58D5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B06CF95-712B-4B28-B2F4-93877F17AC2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E7013F2-8997-4623-AA3C-BB2A04003E7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5F1613D-1A86-48C1-914E-B9086133251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51A36-72EE-4E32-A0C0-938F8F5DF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4BDB9E3-B4E5-48CA-A7B6-8B9F90758F5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7E9D686-CE94-4DD9-8B2C-DAE63234363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F48F846-0E4A-435B-8165-11B82873696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FCA28A2-F65B-4B8C-852D-832E5662DDD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7475756-81D9-49AA-A9D7-C1CC2D91024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725AB24-2BF3-491C-84B9-86F6AF0609A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054E58E-667F-4976-904B-BF712545612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7CA1869-54C4-4BD8-8502-B6E95F8492A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2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3444559-36BA-4C32-8327-0F365E26469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DCDD1C9-BF93-46EC-86D9-28693F45D9D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0DE0FF-D2DB-4F63-A85A-403D7B5BB2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3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0ACCBF2-8EE6-41F3-A962-CD365EC680F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8338F9D-EEF0-434C-B1BB-C352648972B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B5F4BB1-6005-4446-832E-062EEF15282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08C60B5-3F22-4AC3-9A9B-BE6E47E6AE2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9449898-0F0C-4EB7-9EB2-775BCAFDADF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2BEBF00-251C-4CC9-B7A3-0AD88332B9A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5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471A6E4-D5AE-4FA5-9D78-BA101CB9C97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18AB803-5F73-4A63-8DF6-E1FD710FC05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6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EB196C1-75F7-4D4C-89C8-C081CFCAF0F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6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68ACFC2-CE43-4106-B765-9ADDE42FD83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8F442B-DFFB-4F2F-8AE5-032FC8ABE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6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A0BB3C4-0DD6-4DD9-88F1-8867F0F16AC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98BB3C7-6168-44C9-B932-BD8B34475C1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AD520CB-2124-43D4-B2AA-144D64513BA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CE8FCD7-208C-49A2-93C7-576A511D2DC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3BA42F3-4AD2-4885-B185-5D3B81A5CD6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747EDA2-5131-4BE6-8857-2E71D07FCC3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14894DA-21CC-4B1E-83EF-43A6199726E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F8B8376-A812-46D3-A9FC-029E9A90CDF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E1912F8-CE2A-4264-91B0-13A285FE450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0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36EBA13-F480-4ACA-8252-6FCFE6986F5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3EC328-4D5A-46B0-8D1D-14A19D2185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0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EAC3AFF-A86F-4306-8D91-168440EC0C1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0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2DD33DE-0A16-4CCF-BCB0-58D6779B162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1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7124F5F-10A3-46E0-A82C-50CE070E856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CF91FC9-AB8A-43E6-B3CB-6C8EA3E2A48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E01A1FE-E0D6-49B4-9C8B-825C7D4A0A6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7184EC5-8F29-4E65-BFFF-1739C427138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815701E-267D-41E0-A752-36CF6B343D7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5EBD728-3B11-45B3-AC7B-468CA199D2E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40B3852-270B-453B-ABB9-0D80174A5B3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ACD864D-E0C4-4C6E-BD45-C72C1BD66B9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23B7B2-3D7E-45C7-98B5-389B4FA6C9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A2BEC21-E2CE-41BD-9E85-9394FA9FBAF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B93E401-05E8-4087-9775-387B4CB1D0F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6506CAB-976C-4FB0-802F-7D19A8F6DCF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5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E2F7244-B219-4CA8-95E5-2210FBBAC90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5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0183BCF-2761-4A92-BA1A-C0DF8AA8664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DEE450C-5A81-4D6D-83BF-9D1F6DC34AC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0EE1C22-03A7-4F5B-904D-280BB3330EF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8553D87-C5F7-4667-92BC-9C2494F5427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A2E57FB-61C3-4DFC-9897-2959184F006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DCC0ADC-2D3A-47F8-9B88-A6987E2DA1C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AA12A0-2FD4-4863-AC83-FBE1B283EE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C360BD1-3F62-4CA5-BD2E-79BB4A8F9B7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4C6663A-CDFB-40B3-9FA5-AA7F32025B2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B42B69E-5D3F-4EC7-BF6C-4E60B189C61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18ED2E7-A68D-404D-894F-C57C20DCA15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784822B-E66B-4E76-99DC-732EA625DE3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BB22707-16F2-4B50-B430-A11A29949A5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0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FB7E6A6-EA3B-4774-B1AF-30E315BA116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B3FA9C13-DF72-4BA8-9872-555A7EFFC931}"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D027CF9-2333-4C9B-BE55-F8E5A0113EC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78F0C92-3D4C-409A-AB32-B23D175174E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41F96A-3309-4B3A-89B7-C8189AD3CA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8F8F69C-988E-43CA-B716-0BFACE085EC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056BA52-7DF9-4A0A-A36F-BD968C5ED98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DE449C1-0E46-4BB6-A0CB-F4F79FAF971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2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53308EF-7DDA-4B57-9E21-0D7B58A5AAC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2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78515BE-EC79-48C7-974B-9D1A1850A91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1C85C4E-B043-4490-959E-B1CAF136CE9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CADFC81-7B6E-4A72-9657-52F5DE432F5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1F794F0A-05AE-48AC-9591-DE67865B94B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4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B2AEE1C1-8B74-4C40-AE13-937CA159CB8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9A6E4ADE-4EDB-44B0-9E73-3960395A464B}"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E9901E-5DA1-4142-BD3E-BE5470F410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E107777-642F-4A91-8DDA-0842BD3ABE6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1431F3D-8AA4-413E-8306-6575040D385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E026F27-7A8D-4155-8A08-C69FFAD3309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75C7FBE-A446-4814-B9CA-348276225B3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1B646EA-7BED-4FFF-A0F7-A40C3CD6479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42E006A-FF06-4EEA-876F-EF4FA063D08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AE8276E-D84D-4AE4-92EF-FA018808056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8553E1E-80AC-43AD-A622-2827F619463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D9D8D51-B659-4DC6-8144-C62A9F3DFDE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F05906E-E90B-488A-A99C-66F8AF78483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DC5D8-D492-4C4F-9224-4FE4D7736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9EEB9E-D14D-4D98-AC1F-65B0AB34AF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757AC822-F669-4915-8FDA-5B98D7EC4855}"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72D94F9-7139-4270-A261-476CCDD671A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376C889-AC5E-4919-926C-12564817CEA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FFE424D-2A1D-4959-A895-67915A0A6DE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4737970-3119-4AC8-9361-FB80DF0A106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E037FD1-57B8-4454-A972-52A7BE48958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BD32947-794F-44A1-8357-C510B809156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0DD47A4-4CE8-40EF-8B3E-A661A191FC1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DEF5DBE-FD20-45C7-9B10-BFEFF8A3256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41DD3DD-9923-48EE-8FB6-70B17B2F810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9D2F02-E1A3-4501-9A79-3A6B575159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8071E9E-3F2A-412B-8839-12B3CDB81B1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676D9FBE-4FD8-4981-82E5-C01C984AAC6C}"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FCAB3C8-9DF4-4458-B243-F716E0A3659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A4078A-EA35-4095-A487-4FCB2B71D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91C510-0F0B-4E1B-80C0-2DB1B26011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9CC03E-65FD-4612-9F8F-2DAD5812CF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BF1968-6DA3-41D6-8161-6F6408C7CA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58CE99-3924-4D29-A12A-3BDC570752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0F301B-5B0B-4556-8C96-9CABB3ACB3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25655B-9FA0-4263-A4EF-BB1E4F3CD9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ED0F05-AA4C-41BC-B944-0E35948345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794BA-DBD0-40C0-BA33-12C14DF3F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D60F7A-F05F-4FB8-AAE5-594315E5D8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263C6A-6602-4E0E-9D69-CFC49E312A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22B8F5-DC00-4BFE-BB5E-D4729E9735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8D771E-A2F5-4BBA-845A-F3E6C8DAFB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22908-6242-4BEE-B126-16AC74586D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714923-B56B-41E9-8E95-7A66E95777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4CFC57-B4E6-44D0-95E3-99FFC26A4E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A620B4-71CB-46DE-8814-0F3C072A84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F8A3E6-9795-4C5C-A553-478556FA05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F5DE4D-98CF-45FA-9F14-9741FD3994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36658-2C4F-4C6E-82E1-321569EB8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03E142-25AA-44E9-BBEC-AD117B8940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0F0695-A76C-42FC-B8A4-E6348F0466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BED0EF-9102-4FE8-942C-CE679E9320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CCC405-3B7F-45F9-B61F-D2DBE1F0A9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43DE71-AA1A-4EA9-9ADF-A11C9841CB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0B8D54-ECA3-4161-BA6E-5D3015D8A8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C17CF9-9B09-4AB7-AFA9-770DF5E8AD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D5922A-B71B-4A14-A4CB-E23BB8BFCD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1E7015-AD80-4414-BF04-652E89A38E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8F9C61-034D-48D1-9ED1-C18619A7B8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682AF-33C6-4984-A805-C358D164C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1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1C91D4-0447-4DB4-8F41-D997DAFA88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636D4A-FC4D-4234-96BA-1F692F5FA3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CE1328-970E-40DF-8F5F-A796796C08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1E1B1E-3281-4EE5-A1FC-27D1C9BB92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DA9D7C-C2A7-4BD2-B94B-9B7DA8C60A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B07054-3774-4EFE-96EE-249FD6EE19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92E8FF-6BC0-482D-A327-59B83A2993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EFABF5-334E-4AE0-810F-DA90A26328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E4B186-A602-4727-9129-9DC02C0995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3BB1D5-9852-4421-B747-31339D6E42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3DD7B-D3E1-49D6-BAD9-1EEA09A58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F4DEC9-9CA0-4B74-8259-BDDD6E977D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D2D634-62C8-4E09-844A-D0694A43BD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5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AE03EF-51EC-45A4-AA16-8C91C71051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6BD32E-48B1-4C5C-BDE5-184778B761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31B7E9-085C-4B82-8BB6-A2FEEE10E1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C2F643-0E44-400A-A0D0-9859788D1D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BF4DA0-25E6-4803-A25B-532B0DF4C5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B1B5CB-9086-4F9F-B762-74B9FA9006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9D145C-305B-45C0-B1C6-0C4321C148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573443-D0D7-4300-B572-DDFF0A7853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30C25-12D9-458E-BAE1-9AF51DE9B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75C1BD-18D9-4143-9618-6BCAF05C7A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5C7280-66BB-468B-A1E4-CCE0B9F0FE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32F3EF-A7F3-40C8-904E-DA8E37BE33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E7BD0A-EC22-49D8-8101-0B2B7DD03F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1FAF45-4E1E-4F5C-A559-2A14596F71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B6DF66-0624-44EB-AF8F-229DDFB540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396DC1-0502-4CA4-8575-E8C887699E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0393D9-6C4E-4245-A08A-CEA2E5BD22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462B96-20D2-4182-B6C6-AE175239F4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EE7F8E-C665-411E-BCCE-A8239BDC47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83C7E-0FF4-4EB6-B9AA-F8836DAA1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C5FECF-A1FE-448D-A602-E35D49A7A2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FE3C78-D917-46D4-A287-6E19191981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29D330-BF79-4D54-9661-0622F8D513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37B3AD-0751-40C3-89C8-07C22F962B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DA434E-C31F-4406-8A66-88F652B70B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BD22C3-A8A9-4163-8A1D-7C4A480009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4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C7420F-B5F0-49B4-BF51-9034195DB5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1B3AF2-BC38-4EBE-A3FA-297645B066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905C7B-EE28-4A85-9337-14294DFF5F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02D529-8675-4010-B8E4-E3F85322957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671D1-8038-431C-89A4-B8E3F11D178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2" name="Group 2"/>
          <p:cNvGrpSpPr/>
          <p:nvPr/>
        </p:nvGrpSpPr>
        <p:grpSpPr>
          <a:xfrm>
            <a:off x="0" y="0"/>
            <a:ext cx="2666880" cy="6858000"/>
            <a:chOff x="0" y="0"/>
            <a:chExt cx="2666880" cy="6858000"/>
          </a:xfrm>
        </p:grpSpPr>
        <p:sp>
          <p:nvSpPr>
            <p:cNvPr id="39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4" descr="slidemaster_med3"/>
            <p:cNvPicPr/>
            <p:nvPr/>
          </p:nvPicPr>
          <p:blipFill>
            <a:blip r:embed="rId2"/>
            <a:stretch/>
          </p:blipFill>
          <p:spPr>
            <a:xfrm>
              <a:off x="0" y="0"/>
              <a:ext cx="2139840" cy="6858000"/>
            </a:xfrm>
            <a:prstGeom prst="rect">
              <a:avLst/>
            </a:prstGeom>
            <a:ln w="0">
              <a:noFill/>
            </a:ln>
          </p:spPr>
        </p:pic>
      </p:grpSp>
      <p:sp>
        <p:nvSpPr>
          <p:cNvPr id="3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9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7" name="PlaceHolder 3"/>
          <p:cNvSpPr>
            <a:spLocks noGrp="1"/>
          </p:cNvSpPr>
          <p:nvPr>
            <p:ph type="dt" idx="28"/>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30"/>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468B9-26DF-4F00-9583-3C42EB24598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Group 2"/>
          <p:cNvGrpSpPr/>
          <p:nvPr/>
        </p:nvGrpSpPr>
        <p:grpSpPr>
          <a:xfrm>
            <a:off x="0" y="0"/>
            <a:ext cx="2666880" cy="6858000"/>
            <a:chOff x="0" y="0"/>
            <a:chExt cx="2666880" cy="6858000"/>
          </a:xfrm>
        </p:grpSpPr>
        <p:sp>
          <p:nvSpPr>
            <p:cNvPr id="43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Picture 4" descr="slidemaster_med3"/>
            <p:cNvPicPr/>
            <p:nvPr/>
          </p:nvPicPr>
          <p:blipFill>
            <a:blip r:embed="rId2"/>
            <a:stretch/>
          </p:blipFill>
          <p:spPr>
            <a:xfrm>
              <a:off x="0" y="0"/>
              <a:ext cx="2139840" cy="6858000"/>
            </a:xfrm>
            <a:prstGeom prst="rect">
              <a:avLst/>
            </a:prstGeom>
            <a:ln w="0">
              <a:noFill/>
            </a:ln>
          </p:spPr>
        </p:pic>
      </p:grpSp>
      <p:sp>
        <p:nvSpPr>
          <p:cNvPr id="4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4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1" name="PlaceHolder 3"/>
          <p:cNvSpPr>
            <a:spLocks noGrp="1"/>
          </p:cNvSpPr>
          <p:nvPr>
            <p:ph type="dt" idx="3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5"/>
          <p:cNvSpPr>
            <a:spLocks noGrp="1"/>
          </p:cNvSpPr>
          <p:nvPr>
            <p:ph type="sldNum" idx="33"/>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C4F8D-076A-430E-B9D7-FE273840E5D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0" name="Group 2"/>
          <p:cNvGrpSpPr/>
          <p:nvPr/>
        </p:nvGrpSpPr>
        <p:grpSpPr>
          <a:xfrm>
            <a:off x="0" y="0"/>
            <a:ext cx="2666880" cy="6858000"/>
            <a:chOff x="0" y="0"/>
            <a:chExt cx="2666880" cy="6858000"/>
          </a:xfrm>
        </p:grpSpPr>
        <p:sp>
          <p:nvSpPr>
            <p:cNvPr id="48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2" name="Picture 4" descr="slidemaster_med3"/>
            <p:cNvPicPr/>
            <p:nvPr/>
          </p:nvPicPr>
          <p:blipFill>
            <a:blip r:embed="rId2"/>
            <a:stretch/>
          </p:blipFill>
          <p:spPr>
            <a:xfrm>
              <a:off x="0" y="0"/>
              <a:ext cx="2139840" cy="6858000"/>
            </a:xfrm>
            <a:prstGeom prst="rect">
              <a:avLst/>
            </a:prstGeom>
            <a:ln w="0">
              <a:noFill/>
            </a:ln>
          </p:spPr>
        </p:pic>
      </p:grpSp>
      <p:sp>
        <p:nvSpPr>
          <p:cNvPr id="4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8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5" name="PlaceHolder 3"/>
          <p:cNvSpPr>
            <a:spLocks noGrp="1"/>
          </p:cNvSpPr>
          <p:nvPr>
            <p:ph type="dt" idx="3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5"/>
          <p:cNvSpPr>
            <a:spLocks noGrp="1"/>
          </p:cNvSpPr>
          <p:nvPr>
            <p:ph type="sldNum" idx="36"/>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65EB-4A64-497C-ABD0-B92F0E50CB1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4" name="Group 2"/>
          <p:cNvGrpSpPr/>
          <p:nvPr/>
        </p:nvGrpSpPr>
        <p:grpSpPr>
          <a:xfrm>
            <a:off x="0" y="0"/>
            <a:ext cx="2666880" cy="6858000"/>
            <a:chOff x="0" y="0"/>
            <a:chExt cx="2666880" cy="6858000"/>
          </a:xfrm>
        </p:grpSpPr>
        <p:sp>
          <p:nvSpPr>
            <p:cNvPr id="52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6" name="Picture 4" descr="slidemaster_med3"/>
            <p:cNvPicPr/>
            <p:nvPr/>
          </p:nvPicPr>
          <p:blipFill>
            <a:blip r:embed="rId2"/>
            <a:stretch/>
          </p:blipFill>
          <p:spPr>
            <a:xfrm>
              <a:off x="0" y="0"/>
              <a:ext cx="2139840" cy="6858000"/>
            </a:xfrm>
            <a:prstGeom prst="rect">
              <a:avLst/>
            </a:prstGeom>
            <a:ln w="0">
              <a:noFill/>
            </a:ln>
          </p:spPr>
        </p:pic>
      </p:grpSp>
      <p:sp>
        <p:nvSpPr>
          <p:cNvPr id="5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52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9" name="PlaceHolder 3"/>
          <p:cNvSpPr>
            <a:spLocks noGrp="1"/>
          </p:cNvSpPr>
          <p:nvPr>
            <p:ph type="dt" idx="37"/>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PlaceHolder 5"/>
          <p:cNvSpPr>
            <a:spLocks noGrp="1"/>
          </p:cNvSpPr>
          <p:nvPr>
            <p:ph type="sldNum" idx="39"/>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F1BE-A5C3-4137-B5BD-A4C8D1D3FA3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8" name="Group 2"/>
          <p:cNvGrpSpPr/>
          <p:nvPr/>
        </p:nvGrpSpPr>
        <p:grpSpPr>
          <a:xfrm>
            <a:off x="0" y="0"/>
            <a:ext cx="2666880" cy="6858000"/>
            <a:chOff x="0" y="0"/>
            <a:chExt cx="2666880" cy="6858000"/>
          </a:xfrm>
        </p:grpSpPr>
        <p:sp>
          <p:nvSpPr>
            <p:cNvPr id="56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4" descr="slidemaster_med3"/>
            <p:cNvPicPr/>
            <p:nvPr/>
          </p:nvPicPr>
          <p:blipFill>
            <a:blip r:embed="rId2"/>
            <a:stretch/>
          </p:blipFill>
          <p:spPr>
            <a:xfrm>
              <a:off x="0" y="0"/>
              <a:ext cx="2139840" cy="6858000"/>
            </a:xfrm>
            <a:prstGeom prst="rect">
              <a:avLst/>
            </a:prstGeom>
            <a:ln w="0">
              <a:noFill/>
            </a:ln>
          </p:spPr>
        </p:pic>
      </p:grpSp>
      <p:sp>
        <p:nvSpPr>
          <p:cNvPr id="5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57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3" name="PlaceHolder 3"/>
          <p:cNvSpPr>
            <a:spLocks noGrp="1"/>
          </p:cNvSpPr>
          <p:nvPr>
            <p:ph type="dt" idx="40"/>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PlaceHolder 5"/>
          <p:cNvSpPr>
            <a:spLocks noGrp="1"/>
          </p:cNvSpPr>
          <p:nvPr>
            <p:ph type="sldNum" idx="42"/>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EBF5B-B652-4D74-A7BE-B4752977FCA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Group 2"/>
          <p:cNvGrpSpPr/>
          <p:nvPr/>
        </p:nvGrpSpPr>
        <p:grpSpPr>
          <a:xfrm>
            <a:off x="0" y="0"/>
            <a:ext cx="2666880" cy="6858000"/>
            <a:chOff x="0" y="0"/>
            <a:chExt cx="2666880" cy="6858000"/>
          </a:xfrm>
        </p:grpSpPr>
        <p:sp>
          <p:nvSpPr>
            <p:cNvPr id="61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4" descr="slidemaster_med3"/>
            <p:cNvPicPr/>
            <p:nvPr/>
          </p:nvPicPr>
          <p:blipFill>
            <a:blip r:embed="rId2"/>
            <a:stretch/>
          </p:blipFill>
          <p:spPr>
            <a:xfrm>
              <a:off x="0" y="0"/>
              <a:ext cx="2139840" cy="6858000"/>
            </a:xfrm>
            <a:prstGeom prst="rect">
              <a:avLst/>
            </a:prstGeom>
            <a:ln w="0">
              <a:noFill/>
            </a:ln>
          </p:spPr>
        </p:pic>
      </p:grpSp>
      <p:sp>
        <p:nvSpPr>
          <p:cNvPr id="6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61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3"/>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5"/>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B624-6188-40C3-B3D1-D2F03F49833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6" name="Picture 2" descr="titlemaster_med"/>
          <p:cNvPicPr/>
          <p:nvPr/>
        </p:nvPicPr>
        <p:blipFill>
          <a:blip r:embed="rId2"/>
          <a:stretch/>
        </p:blipFill>
        <p:spPr>
          <a:xfrm>
            <a:off x="0" y="0"/>
            <a:ext cx="9144000" cy="6862680"/>
          </a:xfrm>
          <a:prstGeom prst="rect">
            <a:avLst/>
          </a:prstGeom>
          <a:ln w="0">
            <a:noFill/>
          </a:ln>
        </p:spPr>
      </p:pic>
      <p:sp>
        <p:nvSpPr>
          <p:cNvPr id="6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65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9" name="PlaceHolder 3"/>
          <p:cNvSpPr>
            <a:spLocks noGrp="1"/>
          </p:cNvSpPr>
          <p:nvPr>
            <p:ph type="dt" idx="46"/>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5"/>
          <p:cNvSpPr>
            <a:spLocks noGrp="1"/>
          </p:cNvSpPr>
          <p:nvPr>
            <p:ph type="sldNum" idx="48"/>
          </p:nvPr>
        </p:nvSpPr>
        <p:spPr>
          <a:xfrm>
            <a:off x="7010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CFFB-F81E-495F-ACB3-037C00CF2D6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8" name="Group 2"/>
          <p:cNvGrpSpPr/>
          <p:nvPr/>
        </p:nvGrpSpPr>
        <p:grpSpPr>
          <a:xfrm>
            <a:off x="0" y="0"/>
            <a:ext cx="2666880" cy="6858000"/>
            <a:chOff x="0" y="0"/>
            <a:chExt cx="2666880" cy="6858000"/>
          </a:xfrm>
        </p:grpSpPr>
        <p:sp>
          <p:nvSpPr>
            <p:cNvPr id="69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0" name="Picture 4" descr="slidemaster_med3"/>
            <p:cNvPicPr/>
            <p:nvPr/>
          </p:nvPicPr>
          <p:blipFill>
            <a:blip r:embed="rId2"/>
            <a:stretch/>
          </p:blipFill>
          <p:spPr>
            <a:xfrm>
              <a:off x="0" y="0"/>
              <a:ext cx="2139840" cy="6858000"/>
            </a:xfrm>
            <a:prstGeom prst="rect">
              <a:avLst/>
            </a:prstGeom>
            <a:ln w="0">
              <a:noFill/>
            </a:ln>
          </p:spPr>
        </p:pic>
      </p:grpSp>
      <p:sp>
        <p:nvSpPr>
          <p:cNvPr id="7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0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3" name="PlaceHolder 3"/>
          <p:cNvSpPr>
            <a:spLocks noGrp="1"/>
          </p:cNvSpPr>
          <p:nvPr>
            <p:ph type="dt" idx="49"/>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5"/>
          <p:cNvSpPr>
            <a:spLocks noGrp="1"/>
          </p:cNvSpPr>
          <p:nvPr>
            <p:ph type="sldNum" idx="51"/>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2BAF5-68B3-4A00-9082-099EEFBEA31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2" name="Group 2"/>
          <p:cNvGrpSpPr/>
          <p:nvPr/>
        </p:nvGrpSpPr>
        <p:grpSpPr>
          <a:xfrm>
            <a:off x="0" y="0"/>
            <a:ext cx="2666880" cy="6858000"/>
            <a:chOff x="0" y="0"/>
            <a:chExt cx="2666880" cy="6858000"/>
          </a:xfrm>
        </p:grpSpPr>
        <p:sp>
          <p:nvSpPr>
            <p:cNvPr id="74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4" name="Picture 4" descr="slidemaster_med3"/>
            <p:cNvPicPr/>
            <p:nvPr/>
          </p:nvPicPr>
          <p:blipFill>
            <a:blip r:embed="rId2"/>
            <a:stretch/>
          </p:blipFill>
          <p:spPr>
            <a:xfrm>
              <a:off x="0" y="0"/>
              <a:ext cx="2139840" cy="6858000"/>
            </a:xfrm>
            <a:prstGeom prst="rect">
              <a:avLst/>
            </a:prstGeom>
            <a:ln w="0">
              <a:noFill/>
            </a:ln>
          </p:spPr>
        </p:pic>
      </p:grpSp>
      <p:sp>
        <p:nvSpPr>
          <p:cNvPr id="7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7" name="PlaceHolder 3"/>
          <p:cNvSpPr>
            <a:spLocks noGrp="1"/>
          </p:cNvSpPr>
          <p:nvPr>
            <p:ph type="dt" idx="52"/>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5"/>
          <p:cNvSpPr>
            <a:spLocks noGrp="1"/>
          </p:cNvSpPr>
          <p:nvPr>
            <p:ph type="sldNum" idx="54"/>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925B-F7F1-495D-B6FB-1B1668DCA87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6" name="Group 2"/>
          <p:cNvGrpSpPr/>
          <p:nvPr/>
        </p:nvGrpSpPr>
        <p:grpSpPr>
          <a:xfrm>
            <a:off x="0" y="0"/>
            <a:ext cx="2666880" cy="6858000"/>
            <a:chOff x="0" y="0"/>
            <a:chExt cx="2666880" cy="6858000"/>
          </a:xfrm>
        </p:grpSpPr>
        <p:sp>
          <p:nvSpPr>
            <p:cNvPr id="78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8" name="Picture 4" descr="slidemaster_med3"/>
            <p:cNvPicPr/>
            <p:nvPr/>
          </p:nvPicPr>
          <p:blipFill>
            <a:blip r:embed="rId2"/>
            <a:stretch/>
          </p:blipFill>
          <p:spPr>
            <a:xfrm>
              <a:off x="0" y="0"/>
              <a:ext cx="2139840" cy="6858000"/>
            </a:xfrm>
            <a:prstGeom prst="rect">
              <a:avLst/>
            </a:prstGeom>
            <a:ln w="0">
              <a:noFill/>
            </a:ln>
          </p:spPr>
        </p:pic>
      </p:grpSp>
      <p:sp>
        <p:nvSpPr>
          <p:cNvPr id="7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9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1" name="PlaceHolder 3"/>
          <p:cNvSpPr>
            <a:spLocks noGrp="1"/>
          </p:cNvSpPr>
          <p:nvPr>
            <p:ph type="dt" idx="55"/>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PlaceHolder 5"/>
          <p:cNvSpPr>
            <a:spLocks noGrp="1"/>
          </p:cNvSpPr>
          <p:nvPr>
            <p:ph type="sldNum" idx="57"/>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F2DD9-0DB0-4D68-9C5A-2EEBDCBB33F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2666880" cy="6858000"/>
            <a:chOff x="0" y="0"/>
            <a:chExt cx="2666880" cy="6858000"/>
          </a:xfrm>
        </p:grpSpPr>
        <p:sp>
          <p:nvSpPr>
            <p:cNvPr id="4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4" descr="slidemaster_med3"/>
            <p:cNvPicPr/>
            <p:nvPr/>
          </p:nvPicPr>
          <p:blipFill>
            <a:blip r:embed="rId2"/>
            <a:stretch/>
          </p:blipFill>
          <p:spPr>
            <a:xfrm>
              <a:off x="0" y="0"/>
              <a:ext cx="2139840" cy="6858000"/>
            </a:xfrm>
            <a:prstGeom prst="rect">
              <a:avLst/>
            </a:prstGeom>
            <a:ln w="0">
              <a:noFill/>
            </a:ln>
          </p:spPr>
        </p:pic>
      </p:grpSp>
      <p:sp>
        <p:nvSpPr>
          <p:cNvPr id="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E993-FD04-4F57-837A-9888866027B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0" name="Group 2"/>
          <p:cNvGrpSpPr/>
          <p:nvPr/>
        </p:nvGrpSpPr>
        <p:grpSpPr>
          <a:xfrm>
            <a:off x="0" y="0"/>
            <a:ext cx="2666880" cy="6858000"/>
            <a:chOff x="0" y="0"/>
            <a:chExt cx="2666880" cy="6858000"/>
          </a:xfrm>
        </p:grpSpPr>
        <p:sp>
          <p:nvSpPr>
            <p:cNvPr id="83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Picture 4" descr="slidemaster_med3"/>
            <p:cNvPicPr/>
            <p:nvPr/>
          </p:nvPicPr>
          <p:blipFill>
            <a:blip r:embed="rId2"/>
            <a:stretch/>
          </p:blipFill>
          <p:spPr>
            <a:xfrm>
              <a:off x="0" y="0"/>
              <a:ext cx="2139840" cy="6858000"/>
            </a:xfrm>
            <a:prstGeom prst="rect">
              <a:avLst/>
            </a:prstGeom>
            <a:ln w="0">
              <a:noFill/>
            </a:ln>
          </p:spPr>
        </p:pic>
      </p:grpSp>
      <p:sp>
        <p:nvSpPr>
          <p:cNvPr id="8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3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5" name="PlaceHolder 3"/>
          <p:cNvSpPr>
            <a:spLocks noGrp="1"/>
          </p:cNvSpPr>
          <p:nvPr>
            <p:ph type="dt" idx="58"/>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PlaceHolder 5"/>
          <p:cNvSpPr>
            <a:spLocks noGrp="1"/>
          </p:cNvSpPr>
          <p:nvPr>
            <p:ph type="sldNum" idx="60"/>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D9E6-909A-487A-A282-7E44C511DBC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4" name="Group 2"/>
          <p:cNvGrpSpPr/>
          <p:nvPr/>
        </p:nvGrpSpPr>
        <p:grpSpPr>
          <a:xfrm>
            <a:off x="0" y="0"/>
            <a:ext cx="2666880" cy="6858000"/>
            <a:chOff x="0" y="0"/>
            <a:chExt cx="2666880" cy="6858000"/>
          </a:xfrm>
        </p:grpSpPr>
        <p:sp>
          <p:nvSpPr>
            <p:cNvPr id="87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6" name="Picture 4" descr="slidemaster_med3"/>
            <p:cNvPicPr/>
            <p:nvPr/>
          </p:nvPicPr>
          <p:blipFill>
            <a:blip r:embed="rId2"/>
            <a:stretch/>
          </p:blipFill>
          <p:spPr>
            <a:xfrm>
              <a:off x="0" y="0"/>
              <a:ext cx="2139840" cy="6858000"/>
            </a:xfrm>
            <a:prstGeom prst="rect">
              <a:avLst/>
            </a:prstGeom>
            <a:ln w="0">
              <a:noFill/>
            </a:ln>
          </p:spPr>
        </p:pic>
      </p:grpSp>
      <p:sp>
        <p:nvSpPr>
          <p:cNvPr id="8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7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9" name="PlaceHolder 3"/>
          <p:cNvSpPr>
            <a:spLocks noGrp="1"/>
          </p:cNvSpPr>
          <p:nvPr>
            <p:ph type="dt" idx="6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PlaceHolder 5"/>
          <p:cNvSpPr>
            <a:spLocks noGrp="1"/>
          </p:cNvSpPr>
          <p:nvPr>
            <p:ph type="sldNum" idx="63"/>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0BBFE-3AE3-45F5-BA5D-92F52CBA2D1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8" name="Group 2"/>
          <p:cNvGrpSpPr/>
          <p:nvPr/>
        </p:nvGrpSpPr>
        <p:grpSpPr>
          <a:xfrm>
            <a:off x="0" y="0"/>
            <a:ext cx="2666880" cy="6858000"/>
            <a:chOff x="0" y="0"/>
            <a:chExt cx="2666880" cy="6858000"/>
          </a:xfrm>
        </p:grpSpPr>
        <p:sp>
          <p:nvSpPr>
            <p:cNvPr id="91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0" name="Picture 4" descr="slidemaster_med3"/>
            <p:cNvPicPr/>
            <p:nvPr/>
          </p:nvPicPr>
          <p:blipFill>
            <a:blip r:embed="rId2"/>
            <a:stretch/>
          </p:blipFill>
          <p:spPr>
            <a:xfrm>
              <a:off x="0" y="0"/>
              <a:ext cx="2139840" cy="6858000"/>
            </a:xfrm>
            <a:prstGeom prst="rect">
              <a:avLst/>
            </a:prstGeom>
            <a:ln w="0">
              <a:noFill/>
            </a:ln>
          </p:spPr>
        </p:pic>
      </p:grpSp>
      <p:sp>
        <p:nvSpPr>
          <p:cNvPr id="9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2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3" name="PlaceHolder 3"/>
          <p:cNvSpPr>
            <a:spLocks noGrp="1"/>
          </p:cNvSpPr>
          <p:nvPr>
            <p:ph type="dt" idx="6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PlaceHolder 5"/>
          <p:cNvSpPr>
            <a:spLocks noGrp="1"/>
          </p:cNvSpPr>
          <p:nvPr>
            <p:ph type="sldNum" idx="66"/>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36A1F-3933-4FB4-8DD7-5DAAC463222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2" name="Group 2"/>
          <p:cNvGrpSpPr/>
          <p:nvPr/>
        </p:nvGrpSpPr>
        <p:grpSpPr>
          <a:xfrm>
            <a:off x="0" y="0"/>
            <a:ext cx="2666880" cy="6858000"/>
            <a:chOff x="0" y="0"/>
            <a:chExt cx="2666880" cy="6858000"/>
          </a:xfrm>
        </p:grpSpPr>
        <p:sp>
          <p:nvSpPr>
            <p:cNvPr id="96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4" name="Picture 4" descr="slidemaster_med3"/>
            <p:cNvPicPr/>
            <p:nvPr/>
          </p:nvPicPr>
          <p:blipFill>
            <a:blip r:embed="rId2"/>
            <a:stretch/>
          </p:blipFill>
          <p:spPr>
            <a:xfrm>
              <a:off x="0" y="0"/>
              <a:ext cx="2139840" cy="6858000"/>
            </a:xfrm>
            <a:prstGeom prst="rect">
              <a:avLst/>
            </a:prstGeom>
            <a:ln w="0">
              <a:noFill/>
            </a:ln>
          </p:spPr>
        </p:pic>
      </p:grpSp>
      <p:sp>
        <p:nvSpPr>
          <p:cNvPr id="9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6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7" name="PlaceHolder 3"/>
          <p:cNvSpPr>
            <a:spLocks noGrp="1"/>
          </p:cNvSpPr>
          <p:nvPr>
            <p:ph type="dt" idx="67"/>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PlaceHolder 5"/>
          <p:cNvSpPr>
            <a:spLocks noGrp="1"/>
          </p:cNvSpPr>
          <p:nvPr>
            <p:ph type="sldNum" idx="69"/>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AB8C-1D0C-40E9-BE8D-75F0CFC06B2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6" name="Group 2"/>
          <p:cNvGrpSpPr/>
          <p:nvPr/>
        </p:nvGrpSpPr>
        <p:grpSpPr>
          <a:xfrm>
            <a:off x="0" y="0"/>
            <a:ext cx="2666880" cy="6858000"/>
            <a:chOff x="0" y="0"/>
            <a:chExt cx="2666880" cy="6858000"/>
          </a:xfrm>
        </p:grpSpPr>
        <p:sp>
          <p:nvSpPr>
            <p:cNvPr id="100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8" name="Picture 4" descr="slidemaster_med3"/>
            <p:cNvPicPr/>
            <p:nvPr/>
          </p:nvPicPr>
          <p:blipFill>
            <a:blip r:embed="rId2"/>
            <a:stretch/>
          </p:blipFill>
          <p:spPr>
            <a:xfrm>
              <a:off x="0" y="0"/>
              <a:ext cx="2139840" cy="6858000"/>
            </a:xfrm>
            <a:prstGeom prst="rect">
              <a:avLst/>
            </a:prstGeom>
            <a:ln w="0">
              <a:noFill/>
            </a:ln>
          </p:spPr>
        </p:pic>
      </p:grpSp>
      <p:sp>
        <p:nvSpPr>
          <p:cNvPr id="10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01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1" name="PlaceHolder 3"/>
          <p:cNvSpPr>
            <a:spLocks noGrp="1"/>
          </p:cNvSpPr>
          <p:nvPr>
            <p:ph type="dt" idx="70"/>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PlaceHolder 5"/>
          <p:cNvSpPr>
            <a:spLocks noGrp="1"/>
          </p:cNvSpPr>
          <p:nvPr>
            <p:ph type="sldNum" idx="72"/>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3FC8-8FDE-4488-970D-D9A769983CB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0" name="Group 2"/>
          <p:cNvGrpSpPr/>
          <p:nvPr/>
        </p:nvGrpSpPr>
        <p:grpSpPr>
          <a:xfrm>
            <a:off x="0" y="0"/>
            <a:ext cx="2666880" cy="6858000"/>
            <a:chOff x="0" y="0"/>
            <a:chExt cx="2666880" cy="6858000"/>
          </a:xfrm>
        </p:grpSpPr>
        <p:sp>
          <p:nvSpPr>
            <p:cNvPr id="105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2" name="Picture 4" descr="slidemaster_med3"/>
            <p:cNvPicPr/>
            <p:nvPr/>
          </p:nvPicPr>
          <p:blipFill>
            <a:blip r:embed="rId2"/>
            <a:stretch/>
          </p:blipFill>
          <p:spPr>
            <a:xfrm>
              <a:off x="0" y="0"/>
              <a:ext cx="2139840" cy="6858000"/>
            </a:xfrm>
            <a:prstGeom prst="rect">
              <a:avLst/>
            </a:prstGeom>
            <a:ln w="0">
              <a:noFill/>
            </a:ln>
          </p:spPr>
        </p:pic>
      </p:grpSp>
      <p:sp>
        <p:nvSpPr>
          <p:cNvPr id="10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05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55" name="PlaceHolder 3"/>
          <p:cNvSpPr>
            <a:spLocks noGrp="1"/>
          </p:cNvSpPr>
          <p:nvPr>
            <p:ph type="dt" idx="73"/>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5"/>
          <p:cNvSpPr>
            <a:spLocks noGrp="1"/>
          </p:cNvSpPr>
          <p:nvPr>
            <p:ph type="sldNum" idx="75"/>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03F2-AD8A-48F9-94EC-608B0F2C86B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4" name="Group 2"/>
          <p:cNvGrpSpPr/>
          <p:nvPr/>
        </p:nvGrpSpPr>
        <p:grpSpPr>
          <a:xfrm>
            <a:off x="0" y="0"/>
            <a:ext cx="2666880" cy="6858000"/>
            <a:chOff x="0" y="0"/>
            <a:chExt cx="2666880" cy="6858000"/>
          </a:xfrm>
        </p:grpSpPr>
        <p:sp>
          <p:nvSpPr>
            <p:cNvPr id="109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6" name="Picture 4" descr="slidemaster_med3"/>
            <p:cNvPicPr/>
            <p:nvPr/>
          </p:nvPicPr>
          <p:blipFill>
            <a:blip r:embed="rId2"/>
            <a:stretch/>
          </p:blipFill>
          <p:spPr>
            <a:xfrm>
              <a:off x="0" y="0"/>
              <a:ext cx="2139840" cy="6858000"/>
            </a:xfrm>
            <a:prstGeom prst="rect">
              <a:avLst/>
            </a:prstGeom>
            <a:ln w="0">
              <a:noFill/>
            </a:ln>
          </p:spPr>
        </p:pic>
      </p:grpSp>
      <p:sp>
        <p:nvSpPr>
          <p:cNvPr id="10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09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9" name="PlaceHolder 3"/>
          <p:cNvSpPr>
            <a:spLocks noGrp="1"/>
          </p:cNvSpPr>
          <p:nvPr>
            <p:ph type="dt" idx="76"/>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PlaceHolder 4"/>
          <p:cNvSpPr>
            <a:spLocks noGrp="1"/>
          </p:cNvSpPr>
          <p:nvPr>
            <p:ph type="ftr" idx="7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5"/>
          <p:cNvSpPr>
            <a:spLocks noGrp="1"/>
          </p:cNvSpPr>
          <p:nvPr>
            <p:ph type="sldNum" idx="78"/>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1118-51D9-4E54-B441-F24E1A9495C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Group 2"/>
          <p:cNvGrpSpPr/>
          <p:nvPr/>
        </p:nvGrpSpPr>
        <p:grpSpPr>
          <a:xfrm>
            <a:off x="0" y="0"/>
            <a:ext cx="2666880" cy="6858000"/>
            <a:chOff x="0" y="0"/>
            <a:chExt cx="2666880" cy="6858000"/>
          </a:xfrm>
        </p:grpSpPr>
        <p:sp>
          <p:nvSpPr>
            <p:cNvPr id="8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slidemaster_med3"/>
            <p:cNvPicPr/>
            <p:nvPr/>
          </p:nvPicPr>
          <p:blipFill>
            <a:blip r:embed="rId2"/>
            <a:stretch/>
          </p:blipFill>
          <p:spPr>
            <a:xfrm>
              <a:off x="0" y="0"/>
              <a:ext cx="2139840" cy="6858000"/>
            </a:xfrm>
            <a:prstGeom prst="rect">
              <a:avLst/>
            </a:prstGeom>
            <a:ln w="0">
              <a:noFill/>
            </a:ln>
          </p:spPr>
        </p:pic>
      </p:grpSp>
      <p:sp>
        <p:nvSpPr>
          <p:cNvPr id="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7"/>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1FFE-DB8E-48D5-93E2-5453BE2E00F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titlemaster_med"/>
          <p:cNvPicPr/>
          <p:nvPr/>
        </p:nvPicPr>
        <p:blipFill>
          <a:blip r:embed="rId2"/>
          <a:stretch/>
        </p:blipFill>
        <p:spPr>
          <a:xfrm>
            <a:off x="0" y="0"/>
            <a:ext cx="9144000" cy="6862680"/>
          </a:xfrm>
          <a:prstGeom prst="rect">
            <a:avLst/>
          </a:prstGeom>
          <a:ln w="0">
            <a:noFill/>
          </a:ln>
        </p:spPr>
      </p:pic>
      <p:sp>
        <p:nvSpPr>
          <p:cNvPr id="1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3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10"/>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2C06-EAD1-4DDF-AFDF-81E4C575013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2" descr="titlemaster_med"/>
          <p:cNvPicPr/>
          <p:nvPr/>
        </p:nvPicPr>
        <p:blipFill>
          <a:blip r:embed="rId2"/>
          <a:stretch/>
        </p:blipFill>
        <p:spPr>
          <a:xfrm>
            <a:off x="0" y="0"/>
            <a:ext cx="9144000" cy="6862680"/>
          </a:xfrm>
          <a:prstGeom prst="rect">
            <a:avLst/>
          </a:prstGeom>
          <a:ln w="0">
            <a:noFill/>
          </a:ln>
        </p:spPr>
      </p:pic>
      <p:sp>
        <p:nvSpPr>
          <p:cNvPr id="1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7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 name="PlaceHolder 3"/>
          <p:cNvSpPr>
            <a:spLocks noGrp="1"/>
          </p:cNvSpPr>
          <p:nvPr>
            <p:ph type="dt" idx="13"/>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4C6D-B382-465C-979A-ADE7DC84931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Group 2"/>
          <p:cNvGrpSpPr/>
          <p:nvPr/>
        </p:nvGrpSpPr>
        <p:grpSpPr>
          <a:xfrm>
            <a:off x="0" y="0"/>
            <a:ext cx="2666880" cy="6858000"/>
            <a:chOff x="0" y="0"/>
            <a:chExt cx="2666880" cy="6858000"/>
          </a:xfrm>
        </p:grpSpPr>
        <p:sp>
          <p:nvSpPr>
            <p:cNvPr id="21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4" descr="slidemaster_med3"/>
            <p:cNvPicPr/>
            <p:nvPr/>
          </p:nvPicPr>
          <p:blipFill>
            <a:blip r:embed="rId2"/>
            <a:stretch/>
          </p:blipFill>
          <p:spPr>
            <a:xfrm>
              <a:off x="0" y="0"/>
              <a:ext cx="2139840" cy="6858000"/>
            </a:xfrm>
            <a:prstGeom prst="rect">
              <a:avLst/>
            </a:prstGeom>
            <a:ln w="0">
              <a:noFill/>
            </a:ln>
          </p:spPr>
        </p:pic>
      </p:grpSp>
      <p:sp>
        <p:nvSpPr>
          <p:cNvPr id="2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2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1" name="PlaceHolder 3"/>
          <p:cNvSpPr>
            <a:spLocks noGrp="1"/>
          </p:cNvSpPr>
          <p:nvPr>
            <p:ph type="dt" idx="16"/>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1A04F-46B6-4162-8451-ADEC39F5384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2"/>
          <p:cNvGrpSpPr/>
          <p:nvPr/>
        </p:nvGrpSpPr>
        <p:grpSpPr>
          <a:xfrm>
            <a:off x="0" y="0"/>
            <a:ext cx="2666880" cy="6858000"/>
            <a:chOff x="0" y="0"/>
            <a:chExt cx="2666880" cy="6858000"/>
          </a:xfrm>
        </p:grpSpPr>
        <p:sp>
          <p:nvSpPr>
            <p:cNvPr id="26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4" descr="slidemaster_med3"/>
            <p:cNvPicPr/>
            <p:nvPr/>
          </p:nvPicPr>
          <p:blipFill>
            <a:blip r:embed="rId2"/>
            <a:stretch/>
          </p:blipFill>
          <p:spPr>
            <a:xfrm>
              <a:off x="0" y="0"/>
              <a:ext cx="2139840" cy="6858000"/>
            </a:xfrm>
            <a:prstGeom prst="rect">
              <a:avLst/>
            </a:prstGeom>
            <a:ln w="0">
              <a:noFill/>
            </a:ln>
          </p:spPr>
        </p:pic>
      </p:grpSp>
      <p:sp>
        <p:nvSpPr>
          <p:cNvPr id="2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6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5" name="PlaceHolder 3"/>
          <p:cNvSpPr>
            <a:spLocks noGrp="1"/>
          </p:cNvSpPr>
          <p:nvPr>
            <p:ph type="dt" idx="19"/>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3D4D7-51AE-411E-8D74-8FF0298776E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4" name="Group 2"/>
          <p:cNvGrpSpPr/>
          <p:nvPr/>
        </p:nvGrpSpPr>
        <p:grpSpPr>
          <a:xfrm>
            <a:off x="0" y="0"/>
            <a:ext cx="2666880" cy="6858000"/>
            <a:chOff x="0" y="0"/>
            <a:chExt cx="2666880" cy="6858000"/>
          </a:xfrm>
        </p:grpSpPr>
        <p:sp>
          <p:nvSpPr>
            <p:cNvPr id="30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6" name="Picture 4" descr="slidemaster_med3"/>
            <p:cNvPicPr/>
            <p:nvPr/>
          </p:nvPicPr>
          <p:blipFill>
            <a:blip r:embed="rId2"/>
            <a:stretch/>
          </p:blipFill>
          <p:spPr>
            <a:xfrm>
              <a:off x="0" y="0"/>
              <a:ext cx="2139840" cy="6858000"/>
            </a:xfrm>
            <a:prstGeom prst="rect">
              <a:avLst/>
            </a:prstGeom>
            <a:ln w="0">
              <a:noFill/>
            </a:ln>
          </p:spPr>
        </p:pic>
      </p:grpSp>
      <p:sp>
        <p:nvSpPr>
          <p:cNvPr id="3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0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22"/>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5"/>
          <p:cNvSpPr>
            <a:spLocks noGrp="1"/>
          </p:cNvSpPr>
          <p:nvPr>
            <p:ph type="sldNum" idx="24"/>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8F84D-90E9-4217-B598-FC052EA4B60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Group 2"/>
          <p:cNvGrpSpPr/>
          <p:nvPr/>
        </p:nvGrpSpPr>
        <p:grpSpPr>
          <a:xfrm>
            <a:off x="0" y="0"/>
            <a:ext cx="2666880" cy="6858000"/>
            <a:chOff x="0" y="0"/>
            <a:chExt cx="2666880" cy="6858000"/>
          </a:xfrm>
        </p:grpSpPr>
        <p:sp>
          <p:nvSpPr>
            <p:cNvPr id="34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0" name="Picture 4" descr="slidemaster_med3"/>
            <p:cNvPicPr/>
            <p:nvPr/>
          </p:nvPicPr>
          <p:blipFill>
            <a:blip r:embed="rId2"/>
            <a:stretch/>
          </p:blipFill>
          <p:spPr>
            <a:xfrm>
              <a:off x="0" y="0"/>
              <a:ext cx="2139840" cy="6858000"/>
            </a:xfrm>
            <a:prstGeom prst="rect">
              <a:avLst/>
            </a:prstGeom>
            <a:ln w="0">
              <a:noFill/>
            </a:ln>
          </p:spPr>
        </p:pic>
      </p:grpSp>
      <p:sp>
        <p:nvSpPr>
          <p:cNvPr id="3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5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3" name="PlaceHolder 3"/>
          <p:cNvSpPr>
            <a:spLocks noGrp="1"/>
          </p:cNvSpPr>
          <p:nvPr>
            <p:ph type="dt" idx="25"/>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5"/>
          <p:cNvSpPr>
            <a:spLocks noGrp="1"/>
          </p:cNvSpPr>
          <p:nvPr>
            <p:ph type="sldNum" idx="27"/>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68B2-8E13-470D-920F-A97880CEDF7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395280" y="1341360"/>
            <a:ext cx="8569440" cy="3456000"/>
          </a:xfrm>
          <a:prstGeom prst="rect">
            <a:avLst/>
          </a:prstGeom>
          <a:solidFill>
            <a:srgbClr val="ffffff">
              <a:alpha val="50000"/>
            </a:srgbClr>
          </a:solidFill>
          <a:ln w="7632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u="sng">
                <a:solidFill>
                  <a:srgbClr val="000000"/>
                </a:solidFill>
                <a:uFillTx/>
                <a:latin typeface="Arial"/>
              </a:rPr>
              <a:t>مفهوم القياس</a:t>
            </a:r>
            <a:br>
              <a:rPr sz="6600"/>
            </a:br>
            <a:r>
              <a:rPr b="1" lang="ar-SA" sz="6600" spc="-1" strike="noStrike" u="sng">
                <a:solidFill>
                  <a:srgbClr val="000000"/>
                </a:solidFill>
                <a:uFillTx/>
                <a:latin typeface="Arial"/>
              </a:rPr>
              <a:t>مفهوم الزمن </a:t>
            </a:r>
            <a:endParaRPr b="0" lang="en-US" sz="6600" spc="-1" strike="noStrike">
              <a:solidFill>
                <a:srgbClr val="8c003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الزمن </a:t>
            </a:r>
            <a:endParaRPr b="0" lang="en-US" sz="3600" spc="-1" strike="noStrike">
              <a:solidFill>
                <a:srgbClr val="8c0039"/>
              </a:solidFill>
              <a:latin typeface="Arial"/>
            </a:endParaRPr>
          </a:p>
        </p:txBody>
      </p:sp>
      <p:sp>
        <p:nvSpPr>
          <p:cNvPr id="1150" name="PlaceHolder 2"/>
          <p:cNvSpPr>
            <a:spLocks noGrp="1"/>
          </p:cNvSpPr>
          <p:nvPr>
            <p:ph/>
          </p:nvPr>
        </p:nvSpPr>
        <p:spPr>
          <a:xfrm>
            <a:off x="2438280" y="1599840"/>
            <a:ext cx="6400800" cy="4708440"/>
          </a:xfrm>
          <a:prstGeom prst="rect">
            <a:avLst/>
          </a:prstGeom>
          <a:noFill/>
          <a:ln w="0">
            <a:noFill/>
          </a:ln>
        </p:spPr>
        <p:txBody>
          <a:bodyPr anchor="t">
            <a:normAutofit fontScale="82000"/>
          </a:bodyPr>
          <a:p>
            <a:pPr marL="281160" indent="-28116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مستوى رياض الاطفال الوقت يدور حول الصباح والليل. ايام الاسبوع، تسلسل الاحداث والاوقات...</a:t>
            </a:r>
            <a:endParaRPr b="0" lang="en-US" sz="3200" spc="-1" strike="noStrike">
              <a:solidFill>
                <a:srgbClr val="000000"/>
              </a:solidFill>
              <a:latin typeface="Arial"/>
            </a:endParaRPr>
          </a:p>
          <a:p>
            <a:pPr marL="281160" indent="-28116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ت مفهوم مجرد، الاطفال يدركون ان بعض الاشياء تستغرق وقتا اطول مقارنة ببعض الاشياء الاخرى،  مثلا وقت اعداد الكيك اطول من وقت اعداد العصير.</a:t>
            </a:r>
            <a:endParaRPr b="0" lang="en-US" sz="3200" spc="-1" strike="noStrike">
              <a:solidFill>
                <a:srgbClr val="000000"/>
              </a:solidFill>
              <a:latin typeface="Arial"/>
            </a:endParaRPr>
          </a:p>
          <a:p>
            <a:pPr marL="281160" indent="-28116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هذه الافكار الاساسية تعد مفتاحا لفهم الساعات والدقائق.</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الزمن </a:t>
            </a:r>
            <a:endParaRPr b="0" lang="en-US" sz="3600" spc="-1" strike="noStrike">
              <a:solidFill>
                <a:srgbClr val="8c0039"/>
              </a:solidFill>
              <a:latin typeface="Arial"/>
            </a:endParaRPr>
          </a:p>
        </p:txBody>
      </p:sp>
      <p:sp>
        <p:nvSpPr>
          <p:cNvPr id="1152" name="PlaceHolder 2"/>
          <p:cNvSpPr>
            <a:spLocks noGrp="1"/>
          </p:cNvSpPr>
          <p:nvPr>
            <p:ph/>
          </p:nvPr>
        </p:nvSpPr>
        <p:spPr>
          <a:xfrm>
            <a:off x="2484360" y="1484280"/>
            <a:ext cx="6400800" cy="4495680"/>
          </a:xfrm>
          <a:prstGeom prst="rect">
            <a:avLst/>
          </a:prstGeom>
          <a:noFill/>
          <a:ln w="0">
            <a:noFill/>
          </a:ln>
        </p:spPr>
        <p:txBody>
          <a:bodyPr anchor="t">
            <a:normAutofit fontScale="83000"/>
          </a:bodyPr>
          <a:p>
            <a:pPr marL="284400" indent="-284400" algn="r" rtl="1">
              <a:lnSpc>
                <a:spcPct val="15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مرحلة الاولى: لا يستطيع الطفل اقامة تسلسل للأحداث المتتابعة عبر الزمن ولكن يلاحظ ان تسلسل الاحداث اليومية تساعده على وعي الزمن. (النوم– الاستيقاظ –الاغتسال - ارتداء الملابس – تناول الطعام)</a:t>
            </a:r>
            <a:endParaRPr b="0" lang="en-US" sz="3200" spc="-1" strike="noStrike">
              <a:solidFill>
                <a:srgbClr val="000000"/>
              </a:solidFill>
              <a:latin typeface="Arial"/>
            </a:endParaRPr>
          </a:p>
          <a:p>
            <a:pPr marL="284400" indent="-284400" algn="r" rtl="1">
              <a:lnSpc>
                <a:spcPct val="15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رحلة الثانية: ما قبل المفاهيم يدرك ان الاسبوع أطول من اليوم ولكن لا يدرك مداه. </a:t>
            </a:r>
            <a:endParaRPr b="0" lang="en-US" sz="3200" spc="-1" strike="noStrike">
              <a:solidFill>
                <a:srgbClr val="000000"/>
              </a:solidFill>
              <a:latin typeface="Arial"/>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 </a:t>
            </a:r>
            <a:r>
              <a:rPr b="0" lang="ar-SA" sz="3600" spc="-1" strike="noStrike">
                <a:solidFill>
                  <a:srgbClr val="8c0039"/>
                </a:solidFill>
                <a:latin typeface="Arial"/>
              </a:rPr>
              <a:t>تقديم مفهوم الزمن في مرحلة رياض الاطفال:</a:t>
            </a:r>
            <a:endParaRPr b="0" lang="en-US" sz="3600" spc="-1" strike="noStrike">
              <a:solidFill>
                <a:srgbClr val="8c0039"/>
              </a:solidFill>
              <a:latin typeface="Arial"/>
            </a:endParaRPr>
          </a:p>
        </p:txBody>
      </p:sp>
      <p:sp>
        <p:nvSpPr>
          <p:cNvPr id="1154" name="PlaceHolder 2"/>
          <p:cNvSpPr>
            <a:spLocks noGrp="1"/>
          </p:cNvSpPr>
          <p:nvPr>
            <p:ph/>
          </p:nvPr>
        </p:nvSpPr>
        <p:spPr>
          <a:xfrm>
            <a:off x="2195640" y="1484280"/>
            <a:ext cx="6400800" cy="4495680"/>
          </a:xfrm>
          <a:prstGeom prst="rect">
            <a:avLst/>
          </a:prstGeom>
          <a:noFill/>
          <a:ln w="0">
            <a:noFill/>
          </a:ln>
        </p:spPr>
        <p:txBody>
          <a:bodyPr anchor="t">
            <a:normAutofit fontScale="89000"/>
          </a:bodyPr>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طفل بين </a:t>
            </a:r>
            <a:r>
              <a:rPr b="0" lang="ar-SA" sz="3200" spc="-1" strike="noStrike">
                <a:solidFill>
                  <a:srgbClr val="000000"/>
                </a:solidFill>
                <a:latin typeface="Arial"/>
              </a:rPr>
              <a:t>4</a:t>
            </a:r>
            <a:r>
              <a:rPr b="0" lang="ar-SA" sz="3200" spc="-1" strike="noStrike">
                <a:solidFill>
                  <a:srgbClr val="000000"/>
                </a:solidFill>
                <a:latin typeface="Arial"/>
              </a:rPr>
              <a:t>-</a:t>
            </a:r>
            <a:r>
              <a:rPr b="0" lang="ar-SA" sz="3200" spc="-1" strike="noStrike">
                <a:solidFill>
                  <a:srgbClr val="000000"/>
                </a:solidFill>
                <a:latin typeface="Arial"/>
              </a:rPr>
              <a:t>7</a:t>
            </a:r>
            <a:r>
              <a:rPr b="0" lang="ar-SA" sz="3200" spc="-1" strike="noStrike">
                <a:solidFill>
                  <a:srgbClr val="000000"/>
                </a:solidFill>
                <a:latin typeface="Arial"/>
              </a:rPr>
              <a:t>سنوات يستطيع:</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قامة تسلسل لأحداث يقوم بها.</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رتيب صور مجالات نمو النبات والحيوانات.</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لاحظة حالة الطقس.</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رد انشطة يقوم بها الطفل من الصباح وحتى المساء.</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خدام مصطلحات الزمن </a:t>
            </a:r>
            <a:r>
              <a:rPr b="0" lang="ar-SA" sz="3200" spc="-1" strike="noStrike">
                <a:solidFill>
                  <a:srgbClr val="000000"/>
                </a:solidFill>
                <a:latin typeface="Arial"/>
              </a:rPr>
              <a:t>(وقت طويل- وقت قصير)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txBox="1"/>
          <p:nvPr/>
        </p:nvSpPr>
        <p:spPr>
          <a:xfrm>
            <a:off x="2438280" y="1600200"/>
            <a:ext cx="6400800" cy="4495680"/>
          </a:xfrm>
          <a:prstGeom prst="rect">
            <a:avLst/>
          </a:prstGeom>
          <a:noFill/>
          <a:ln w="0">
            <a:noFill/>
          </a:ln>
        </p:spPr>
        <p:txBody>
          <a:bodyPr anchor="t">
            <a:normAutofit fontScale="95000"/>
          </a:bodyPr>
          <a:p>
            <a:pPr marL="325800" indent="-325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اقشة الاطفال حول اوقات الاحداث اليومية، ويمكن استخدام التقريب (قبل الثالثة بقليل- بعد السادسة بقليل..)</a:t>
            </a:r>
            <a:endParaRPr b="0" lang="en-US" sz="3200" spc="-1" strike="noStrike">
              <a:solidFill>
                <a:srgbClr val="000000"/>
              </a:solidFill>
              <a:latin typeface="Arial"/>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مناقشة الطفل: لماذا نحتاج ان نعرف الوقت: </a:t>
            </a:r>
            <a:r>
              <a:rPr b="0" lang="ar-SA" sz="3200" spc="-1" strike="noStrike">
                <a:solidFill>
                  <a:srgbClr val="000000"/>
                </a:solidFill>
                <a:latin typeface="Arial"/>
              </a:rPr>
              <a:t>لمعرفة : وقت السفر- وقت الحضور للروضة- وقت حضور حفلة - تاريخ الاجازة-تاريخ العيد.....</a:t>
            </a:r>
            <a:endParaRPr b="0" lang="en-US" sz="3200" spc="-1" strike="noStrike">
              <a:solidFill>
                <a:srgbClr val="000000"/>
              </a:solidFill>
              <a:latin typeface="Arial"/>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
          <p:cNvSpPr txBox="1"/>
          <p:nvPr/>
        </p:nvSpPr>
        <p:spPr>
          <a:xfrm>
            <a:off x="2411280" y="620280"/>
            <a:ext cx="6400800" cy="4496040"/>
          </a:xfrm>
          <a:prstGeom prst="rect">
            <a:avLst/>
          </a:prstGeom>
          <a:noFill/>
          <a:ln w="0">
            <a:noFill/>
          </a:ln>
        </p:spPr>
        <p:txBody>
          <a:bodyPr anchor="t">
            <a:normAutofit fontScale="84000"/>
          </a:bodyPr>
          <a:p>
            <a:pPr marL="288000" indent="-2880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بعد ان يتعلم الطفل النهار والليل ننتقل الى الاوقات الاخرى: الظهيرة- منتصف الليل......</a:t>
            </a:r>
            <a:endParaRPr b="0" lang="en-US" sz="3200" spc="-1" strike="noStrike">
              <a:solidFill>
                <a:srgbClr val="000000"/>
              </a:solidFill>
              <a:latin typeface="Arial"/>
            </a:endParaRPr>
          </a:p>
          <a:p>
            <a:pPr marL="288000" indent="-2880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نشاط لوحة التقويم وايام الاسبوع:</a:t>
            </a:r>
            <a:r>
              <a:rPr b="0" lang="ar-SA" sz="3200" spc="-1" strike="noStrike">
                <a:solidFill>
                  <a:srgbClr val="000000"/>
                </a:solidFill>
                <a:latin typeface="Arial"/>
              </a:rPr>
              <a:t> كل يوم في الروضة تقوم المعلمة مع الاطفال بتسمية اليوم والشهر، وفي اليوم التالي تذكر باليوم السابق (أمس كان يوم الاثنين ، اذن اليوم هو ....)، ويحرك الطفل العلامة على التقويم ووضعها في اليوم والتاريخ والشهر المناسب مثلا (الاثنين </a:t>
            </a:r>
            <a:r>
              <a:rPr b="0" lang="ar-SA" sz="3200" spc="-1" strike="noStrike">
                <a:solidFill>
                  <a:srgbClr val="000000"/>
                </a:solidFill>
                <a:latin typeface="Arial"/>
              </a:rPr>
              <a:t>9</a:t>
            </a:r>
            <a:r>
              <a:rPr b="0" lang="ar-SA" sz="3200" spc="-1" strike="noStrike">
                <a:solidFill>
                  <a:srgbClr val="000000"/>
                </a:solidFill>
                <a:latin typeface="Arial"/>
              </a:rPr>
              <a:t> محرم)</a:t>
            </a:r>
            <a:endParaRPr b="0" lang="en-US" sz="3200" spc="-1" strike="noStrike">
              <a:solidFill>
                <a:srgbClr val="000000"/>
              </a:solidFill>
              <a:latin typeface="Arial"/>
            </a:endParaRPr>
          </a:p>
          <a:p>
            <a:pPr marL="288000" indent="-288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
          <p:cNvSpPr txBox="1"/>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نشودة ايام الاسبوع.</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غة الوقت غدا امس احيانا...</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تعلم المناسبات الخاصة: عيد الفطر, عيد الاضحى, اسماء الشهور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مشروع القياس والزمن</a:t>
            </a:r>
            <a:endParaRPr b="0" lang="en-US" sz="3600" spc="-1" strike="noStrike">
              <a:solidFill>
                <a:srgbClr val="8c0039"/>
              </a:solidFill>
              <a:latin typeface="Arial"/>
            </a:endParaRPr>
          </a:p>
        </p:txBody>
      </p:sp>
      <p:sp>
        <p:nvSpPr>
          <p:cNvPr id="1159" name=""/>
          <p:cNvSpPr txBox="1"/>
          <p:nvPr/>
        </p:nvSpPr>
        <p:spPr>
          <a:xfrm>
            <a:off x="2111400" y="1484280"/>
            <a:ext cx="7020000" cy="4495680"/>
          </a:xfrm>
          <a:prstGeom prst="rect">
            <a:avLst/>
          </a:prstGeom>
          <a:noFill/>
          <a:ln w="0">
            <a:noFill/>
          </a:ln>
        </p:spPr>
        <p:txBody>
          <a:bodyPr anchor="t">
            <a:normAutofit fontScale="83000"/>
          </a:bodyPr>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صمم الطالبة وسيلة او لعبة او تجربة تكون ممتعة للطفل وفكرتها مبتكرة  ويقوم الطفل فيها باستخدام  المقاييس غير المقننة مع احضار ادواتها.</a:t>
            </a:r>
            <a:endParaRPr b="0" lang="en-US" sz="2400" spc="-1" strike="noStrike">
              <a:solidFill>
                <a:srgbClr val="000000"/>
              </a:solidFill>
              <a:latin typeface="Arial"/>
            </a:endParaRPr>
          </a:p>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صمم الطالبة ورقة عمل لمفهوم الزمن ويكون هدفها احد الاهداف التالية (ترتيب زمني اولا, ثانيا, الاخير– يحدد الامور التي تستغرق وقت طويل والامور التي تستغرق وقت قصير- يحدد النشاطات التي تحدث في النهار والنشاطات التي تحدث في الليل)</a:t>
            </a:r>
            <a:endParaRPr b="0" lang="en-US" sz="2400" spc="-1" strike="noStrike">
              <a:solidFill>
                <a:srgbClr val="000000"/>
              </a:solidFill>
              <a:latin typeface="Arial"/>
            </a:endParaRPr>
          </a:p>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شروط ورقة العمل (ملونة - فيها مكان لكتابة اسم الطفل - موضح فيها المطلوب بجملة قصيرة)</a:t>
            </a:r>
            <a:endParaRPr b="0" lang="en-US" sz="2400" spc="-1" strike="noStrike">
              <a:solidFill>
                <a:srgbClr val="000000"/>
              </a:solidFill>
              <a:latin typeface="Arial"/>
            </a:endParaRPr>
          </a:p>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قدم الطالبة تحضير لنشاط.</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د القياس من أكثر المهارات الرياضية نفعاً وتوظيفاً في حياتنا اليومية،  والقياس يتضمن توظيف الأعداد والعد للأشياء بحيث يمكن مقارنتها لخواصها مثل: الحجم ، الوزن، الطول ، الحرارة...الخ.</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طفل يتعامل مع مهارات القياس في الحياة اليومية مثل يشرب كوب حليب مساء، يشاهد امه تشتري كيلو جرام من الدقيق، يقيس الطفل وزنه أو طوله في العيادة، وتقاس له درجة الحرارة... الخ.</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rPr>
              <a:t>مراحل نمو مفاهيم القياس:</a:t>
            </a:r>
            <a:endParaRPr b="0" lang="en-US" sz="3600" spc="-1" strike="noStrike">
              <a:solidFill>
                <a:srgbClr val="8c0039"/>
              </a:solidFill>
              <a:latin typeface="Arial"/>
            </a:endParaRPr>
          </a:p>
        </p:txBody>
      </p:sp>
      <p:sp>
        <p:nvSpPr>
          <p:cNvPr id="1142" name="PlaceHolder 2"/>
          <p:cNvSpPr>
            <a:spLocks noGrp="1"/>
          </p:cNvSpPr>
          <p:nvPr>
            <p:ph/>
          </p:nvPr>
        </p:nvSpPr>
        <p:spPr>
          <a:xfrm>
            <a:off x="2438280" y="1600200"/>
            <a:ext cx="6400800" cy="4495680"/>
          </a:xfrm>
          <a:prstGeom prst="rect">
            <a:avLst/>
          </a:prstGeom>
          <a:noFill/>
          <a:ln w="0">
            <a:noFill/>
          </a:ln>
        </p:spPr>
        <p:txBody>
          <a:bodyPr anchor="t">
            <a:normAutofit fontScale="83000"/>
          </a:bodyPr>
          <a:p>
            <a:pPr marL="284400" indent="-284400" algn="r" rtl="1">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لمرحلة الأولى: </a:t>
            </a:r>
            <a:r>
              <a:rPr b="1" lang="ar-SA" sz="2800" spc="-1" strike="noStrike">
                <a:solidFill>
                  <a:srgbClr val="000000"/>
                </a:solidFill>
                <a:latin typeface="Arial"/>
              </a:rPr>
              <a:t>(مرحلة اللعب)، وفيها يقلد الطفل الأطفال الاكبر سنا والبالغين، فيلعب بمسطرة القياس،  ويقوم بالقياس بالأكواب او الميزان مثلما يشاهد الآخرين، حيث يقوم بسكب الرمل والحبوب من وعاء الى آخر مستكشفاً خواص الحجم، ويرفع الأشياء مستكشفاً خواص الوزن، كما أنه يلاحظ ان ذراعه قصيرة لا يمكن ان تصل الى مكان معين وان اخيه الأكبر ذراعه أطول، كما يبدأ باستيعاب مفهوم  الحرارة فهو يحب الاستحمام بالماء البارد، ويحب الطعام ساخناً وهكذا.</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p:nvPr>
        </p:nvSpPr>
        <p:spPr>
          <a:xfrm>
            <a:off x="2438280" y="1600200"/>
            <a:ext cx="6400800" cy="4495680"/>
          </a:xfrm>
          <a:prstGeom prst="rect">
            <a:avLst/>
          </a:prstGeom>
          <a:noFill/>
          <a:ln w="0">
            <a:noFill/>
          </a:ln>
        </p:spPr>
        <p:txBody>
          <a:bodyPr anchor="t">
            <a:normAutofit fontScale="96000"/>
          </a:bodyPr>
          <a:p>
            <a:pPr marL="329040" indent="-3290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مرحلة الثانية: </a:t>
            </a:r>
            <a:r>
              <a:rPr b="1" lang="ar-SA" sz="3200" spc="-1" strike="noStrike">
                <a:solidFill>
                  <a:srgbClr val="000000"/>
                </a:solidFill>
                <a:latin typeface="Arial"/>
              </a:rPr>
              <a:t>تتضمن هذه المرحلة القيام </a:t>
            </a:r>
            <a:r>
              <a:rPr b="1" lang="ar-SA" sz="3200" spc="-1" strike="noStrike">
                <a:solidFill>
                  <a:srgbClr val="ff0000"/>
                </a:solidFill>
                <a:latin typeface="Arial"/>
              </a:rPr>
              <a:t>بإجراء مقارنات</a:t>
            </a:r>
            <a:r>
              <a:rPr b="1" lang="ar-SA" sz="3200" spc="-1" strike="noStrike">
                <a:solidFill>
                  <a:srgbClr val="000000"/>
                </a:solidFill>
                <a:latin typeface="Arial"/>
              </a:rPr>
              <a:t>، حيث يدرك الطفل عادة مفاهيم المقارنة مثل، أكبر من / اقل من / اثقل من / اخف من / اطول من / اقصر من / اكثر حرارة / اكثر برودة...... وهكذا يستطيع الطفل توظيف علاقات المقارنة في مواقف يومية.</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p:nvPr>
        </p:nvSpPr>
        <p:spPr>
          <a:xfrm>
            <a:off x="2484360" y="260280"/>
            <a:ext cx="6400800" cy="4711680"/>
          </a:xfrm>
          <a:prstGeom prst="rect">
            <a:avLst/>
          </a:prstGeom>
          <a:noFill/>
          <a:ln w="0">
            <a:noFill/>
          </a:ln>
        </p:spPr>
        <p:txBody>
          <a:bodyPr anchor="t">
            <a:normAutofit fontScale="71000"/>
          </a:bodyPr>
          <a:p>
            <a:pPr marL="243360" indent="-243360" algn="r" rtl="1">
              <a:lnSpc>
                <a:spcPct val="15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لمرحلة الثالثة: </a:t>
            </a:r>
            <a:r>
              <a:rPr b="1" lang="ar-SA" sz="2800" spc="-1" strike="noStrike">
                <a:solidFill>
                  <a:srgbClr val="000000"/>
                </a:solidFill>
                <a:latin typeface="Arial"/>
              </a:rPr>
              <a:t>تبدأ في نهاية مرحلة ما قبل العمليات وفي بداية مرحلة العمليات المحسوسة، وفيها يتعلم الطفل استخدام وحدات القياس غير المقننة بمعنى شيء يمتكله الطفل ويمكن ان يستخدم كوحدة قياس، مثل ان يحاول الطفل ايجاد كم عدد فناجين الرمل التي تملأ علبة حليب فارغة، كم فرشة اسنان تمثل طول قدمه، وبنمو استخدام الطفل للوحدات غير المقننة يتعلم مفاهيم وعلاقات جديدة يحتاج فهمها الى استخدام الطفل وحدات القياس المقننة.</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p:nvPr>
        </p:nvSpPr>
        <p:spPr>
          <a:xfrm>
            <a:off x="2438280" y="1600200"/>
            <a:ext cx="6400800" cy="4495680"/>
          </a:xfrm>
          <a:prstGeom prst="rect">
            <a:avLst/>
          </a:prstGeom>
          <a:noFill/>
          <a:ln w="0">
            <a:noFill/>
          </a:ln>
        </p:spPr>
        <p:txBody>
          <a:bodyPr anchor="t">
            <a:normAutofit fontScale="86000"/>
          </a:bodyPr>
          <a:p>
            <a:pPr marL="294840" indent="-2948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مرحلة الرابعة: </a:t>
            </a:r>
            <a:r>
              <a:rPr b="1" lang="ar-SA" sz="3200" spc="-1" strike="noStrike">
                <a:solidFill>
                  <a:srgbClr val="000000"/>
                </a:solidFill>
                <a:latin typeface="Arial"/>
              </a:rPr>
              <a:t>عندما يدخل الطفل مرحلة العمليات الحسية تبدأ الحاجة لديه باستخدام وحدات قياس مقننة......</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مرحلة الخامسة: </a:t>
            </a:r>
            <a:r>
              <a:rPr b="1" lang="ar-SA" sz="3200" spc="-1" strike="noStrike">
                <a:solidFill>
                  <a:srgbClr val="000000"/>
                </a:solidFill>
                <a:latin typeface="Arial"/>
              </a:rPr>
              <a:t>وهي تبدأ في مرحلة العمليات وفيها يفهم الطفل ويستخدم الوحدات المقننة للقياس مثل السنتيمتر والمتر واللتر</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p:nvPr>
        </p:nvSpPr>
        <p:spPr>
          <a:xfrm>
            <a:off x="2340000" y="907560"/>
            <a:ext cx="6400800" cy="4496040"/>
          </a:xfrm>
          <a:prstGeom prst="rect">
            <a:avLst/>
          </a:prstGeom>
          <a:noFill/>
          <a:ln w="0">
            <a:noFill/>
          </a:ln>
        </p:spPr>
        <p:txBody>
          <a:bodyPr anchor="t">
            <a:normAutofit fontScale="76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17b"/>
                </a:solidFill>
                <a:latin typeface="Arial"/>
              </a:rPr>
              <a:t>كيف يفكر الطفل حول القياس</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جارب بياجية مثل تجربة أوعية الماء تثبت ان الأطفال لا زال تفكيرهم حدسي، ولا يستطيعون الاحتفاظ بالصورة في مخيلتهم، وبذلك لا يستطيعون الاحتفاظ بثبات الكم ،،،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الأطفال تفكيرهم حدسي مثلا لو احضرت كرتين كرة مطاط وكرة تنس وسألت الطفل ايهما اثقل فالطفل سيتأثر بالحجم فسيختار الكرة ذات الحجم الاكبر ويقول انها اثقل بغض النظر عن الوزن.</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rPr>
              <a:t>الأنشطة:</a:t>
            </a:r>
            <a:endParaRPr b="0" lang="en-US" sz="3600" spc="-1" strike="noStrike">
              <a:solidFill>
                <a:srgbClr val="8c0039"/>
              </a:solidFill>
              <a:latin typeface="Arial"/>
            </a:endParaRPr>
          </a:p>
        </p:txBody>
      </p:sp>
      <p:sp>
        <p:nvSpPr>
          <p:cNvPr id="1148" name="PlaceHolder 2"/>
          <p:cNvSpPr>
            <a:spLocks noGrp="1"/>
          </p:cNvSpPr>
          <p:nvPr>
            <p:ph/>
          </p:nvPr>
        </p:nvSpPr>
        <p:spPr>
          <a:xfrm>
            <a:off x="2556000" y="1267920"/>
            <a:ext cx="6400800" cy="4496040"/>
          </a:xfrm>
          <a:prstGeom prst="rect">
            <a:avLst/>
          </a:prstGeom>
          <a:noFill/>
          <a:ln w="0">
            <a:noFill/>
          </a:ln>
        </p:spPr>
        <p:txBody>
          <a:bodyPr anchor="t">
            <a:normAutofit fontScale="78000"/>
          </a:bodyPr>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شطة المقارنات: اكبر اصغر- اخف اثقل اطول قصر..الخ- مثلا: اطلب من الطفل تمرير الكرة الكبيرة او التقاط المربع الصغير وتمييز الأحجام باللمس.</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مفاهيم الاساسية للقياس:</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ولا مفاهيم الحجم (كبير وصغير)</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ثانياُ: مفاهيم الطول (طويل وقصير)</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ثالثاُ: مفاهيم العرض (واسع وضيق)</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ابعا: مفاهيم السمك (سميك و رقيق (نحيف) </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خامساَ: مفاهيم السعة (مليان فارغ)</a:t>
            </a:r>
            <a:endParaRPr b="0" lang="en-US" sz="2400" spc="-1" strike="noStrike">
              <a:solidFill>
                <a:srgbClr val="000000"/>
              </a:solidFill>
              <a:latin typeface="Arial"/>
            </a:endParaRPr>
          </a:p>
          <a:p>
            <a:pPr marL="267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20:46:36Z</dcterms:created>
  <dc:creator>Hala</dc:creator>
  <dc:description/>
  <dc:language>en-US</dc:language>
  <cp:lastModifiedBy>Lama Aljathlan</cp:lastModifiedBy>
  <dcterms:modified xsi:type="dcterms:W3CDTF">2016-12-13T09:27:46Z</dcterms:modified>
  <cp:revision>32</cp:revision>
  <dc:subject/>
  <dc:title>مفهوم القياس</dc:title>
</cp:coreProperties>
</file>