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</p:sldMasterIdLst>
  <p:sldIdLst>
    <p:sldId id="256" r:id="rId93"/>
    <p:sldId id="257" r:id="rId94"/>
    <p:sldId id="258" r:id="rId95"/>
    <p:sldId id="259" r:id="rId96"/>
    <p:sldId id="260" r:id="rId97"/>
    <p:sldId id="261" r:id="rId98"/>
    <p:sldId id="262" r:id="rId99"/>
    <p:sldId id="263" r:id="rId100"/>
    <p:sldId id="264" r:id="rId101"/>
    <p:sldId id="265" r:id="rId102"/>
    <p:sldId id="266" r:id="rId103"/>
    <p:sldId id="267" r:id="rId104"/>
    <p:sldId id="268" r:id="rId105"/>
    <p:sldId id="269" r:id="rId106"/>
    <p:sldId id="270" r:id="rId107"/>
    <p:sldId id="271" r:id="rId108"/>
    <p:sldId id="27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" Target="slides/slide1.xml"/><Relationship Id="rId94" Type="http://schemas.openxmlformats.org/officeDocument/2006/relationships/slide" Target="slides/slide2.xml"/><Relationship Id="rId95" Type="http://schemas.openxmlformats.org/officeDocument/2006/relationships/slide" Target="slides/slide3.xml"/><Relationship Id="rId96" Type="http://schemas.openxmlformats.org/officeDocument/2006/relationships/slide" Target="slides/slide4.xml"/><Relationship Id="rId97" Type="http://schemas.openxmlformats.org/officeDocument/2006/relationships/slide" Target="slides/slide5.xml"/><Relationship Id="rId98" Type="http://schemas.openxmlformats.org/officeDocument/2006/relationships/slide" Target="slides/slide6.xml"/><Relationship Id="rId99" Type="http://schemas.openxmlformats.org/officeDocument/2006/relationships/slide" Target="slides/slide7.xml"/><Relationship Id="rId100" Type="http://schemas.openxmlformats.org/officeDocument/2006/relationships/slide" Target="slides/slide8.xml"/><Relationship Id="rId101" Type="http://schemas.openxmlformats.org/officeDocument/2006/relationships/slide" Target="slides/slide9.xml"/><Relationship Id="rId102" Type="http://schemas.openxmlformats.org/officeDocument/2006/relationships/slide" Target="slides/slide10.xml"/><Relationship Id="rId103" Type="http://schemas.openxmlformats.org/officeDocument/2006/relationships/slide" Target="slides/slide11.xml"/><Relationship Id="rId104" Type="http://schemas.openxmlformats.org/officeDocument/2006/relationships/slide" Target="slides/slide12.xml"/><Relationship Id="rId105" Type="http://schemas.openxmlformats.org/officeDocument/2006/relationships/slide" Target="slides/slide13.xml"/><Relationship Id="rId106" Type="http://schemas.openxmlformats.org/officeDocument/2006/relationships/slide" Target="slides/slide14.xml"/><Relationship Id="rId107" Type="http://schemas.openxmlformats.org/officeDocument/2006/relationships/slide" Target="slides/slide15.xml"/><Relationship Id="rId108" Type="http://schemas.openxmlformats.org/officeDocument/2006/relationships/slide" Target="slides/slide16.xml"/><Relationship Id="rId109" Type="http://schemas.openxmlformats.org/officeDocument/2006/relationships/slide" Target="slides/slide1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3C5-58DB-4B60-873F-AE618430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FD0-71B3-4542-803D-6F577FF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A3B6B-B74A-430B-B4B3-5A2B8B4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698A3B0-B641-458B-BF99-5D3DCE5B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06CBCF6-1AF0-4CB3-BF58-63ACAF7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168802F-0949-45DF-A300-7CE5861C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382529C-2665-4FAC-A39C-AFF0118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3FC236F-C615-423D-9448-A990FE1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63DA1EF-22EC-4399-B166-BDABD01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2BFF437-32D1-404B-8C93-685410D7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7F8F869-5D4B-4413-9ADD-B99ED322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DEA017C-AA62-4E70-88BE-9F003E33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3BCD7D8-C241-474A-A130-020382A7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AE043-916F-4FAF-88CB-D35B378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9840D40-F33E-45C4-ACBB-6AF6F3E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DB30390-44D4-4637-8E6B-ED187B5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98FF80E-985F-4BF7-B04C-C6CCC0A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6893F60-B140-4017-9E3D-D5C63C0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211B477-9833-45F7-84F5-002431D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5F052F8-010F-4C4F-8DF2-B773127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20D446C-A11C-4B8D-8F66-FF0D111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B002453-465E-4A10-A4CF-34A228E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A1C4112-0A7D-41FE-8D93-B640760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6E25C99-CB86-4B50-9283-4FDF9362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2C9F-750D-4214-B8C3-02BBF3A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3EC8FAB-C73B-42EA-9F17-9E8C90DC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C7850D2-45AD-46F7-A14B-BE3D0F8F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5BBDA06-202B-4D29-9B55-9BD5A27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F8C8476-EA29-4B47-B57A-61592136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4B05522-8C24-4A70-9494-2CB4506D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BA2E105-CC6F-462D-A657-FAAE214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3A82B66-5878-4992-8A5E-A8FB2AA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8F8DF6A-29F9-4668-8304-5B9A4E8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3180D71-5107-4780-AA6D-1C319E6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EBADA7C-0F8E-48F5-90AE-35EE7F2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FA56-379C-461E-AD3C-35AED4C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54638D3-9E2D-481C-9166-8BC5176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C7211F9-9E5D-406A-B634-7A4847D2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AAF7A26-927C-470C-8A2E-8C019E07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83699F5-09EE-4733-9CF3-A151B4B0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636CF2D-0172-4C73-BEB2-FD5B7C43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2A65470-F82E-4B63-A6A4-17909EE1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FABFAEE-9886-4BD4-AD97-1DE9B5A4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D7608B0-1642-44AA-9049-6E4FF886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F99C9AD-61ED-4CD8-8630-774065B1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F8471CA-1BD9-4C51-B1F1-64593AF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B6DCC-FA3E-496F-B65A-A23037B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24B4DE7-430D-460A-A3C4-C60F7B0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8374488-0B00-4435-B644-90E5A49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4E500AA-2B57-4083-B6D0-4A81AFB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77F9718-006F-461D-8B46-91A808AB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927C2D9-A59E-416D-942B-56BF7E17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611D025-153F-4672-8038-5C3E12A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F3E0DD8-C07F-4DD8-9912-992993FC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1B52BAF-1A50-430D-988D-9F9EAB1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6B6D14A-E8D5-4060-A54C-EAC7500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AFCFDB2-5381-4DE2-A2B9-116BAFA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50122-7210-4AFA-AD14-82C083B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B03CB36-A596-4205-8E2D-80DF947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944E1FC-02E6-4150-8057-B665D0B5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DC5C73C-4EB6-47B9-A9FE-CF60BC7C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AC715FE-3AC5-4724-9E80-4C8CC91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1E98D17-FF94-4B53-ADEA-A167034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BD2E19A-BEC0-427F-A21B-DB86FBFF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7C0C65D-4390-4568-88B8-E9AC84D0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986E00F-1D8C-49D2-B3C2-CF24866F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075162C-2F73-444C-84B0-0423D5E4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6390BD2-859F-45C3-8F97-EE5F0B8E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ED191-0346-40FA-BDD6-3C0296E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34A81FB-74BF-4952-BFC7-D4A2881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3031C8E-241F-4B6A-8A78-10498D3C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88F4B91-D0BB-4B66-A77B-9B93D3D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A7196A6-4B3E-49E7-B6A8-10BFAC9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E3A9AF1-6557-4DF5-AC53-74C2155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7054E17-FB2E-4FD7-9281-557F8E1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1B857B7-6A37-48BE-AEBA-477040B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E89C77F-D0B8-4B59-BCFE-369E1B85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BBA4F65-96B6-442B-A109-529ADE96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6238A6D-82AA-483A-ADDB-1E9AEAE5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9090E-D989-4D3C-904D-4678732B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D499FDC-09B1-4D3F-8C01-6CE5DE3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3A0327D-E2A7-4FCC-B322-E3FE0537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B76275C-A339-483E-9A6F-161C81B6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3641B86-A0F7-4785-B9F5-7E94D75C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EEE5E3-F4E9-4796-86FD-1B4B316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E43BB48-F4CE-4070-B131-BFC2932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2ED91AD-C1E3-4071-AA6D-8FB4B6AF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38308BD-5905-4F28-B270-8DB589C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C2239CA-80F1-4A74-8770-5A2C791D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852EF7D-645D-4C12-AFD4-8E9B96EB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69F31-1CF9-4C2F-999A-D2E8A96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CFEA6FD-C292-4733-9753-710BFE9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010FAE8-9729-4DD7-B753-A4FE9968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34061D5-853A-4C61-B624-6E4CC425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947C11E-012F-4DAB-99F9-0EBA707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F6E9F49-AC7C-41F8-8F39-58B4ACFF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ED1C523-26C8-40D4-ACF2-C027D7D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6F048A5-40E5-41FA-8DBF-8D0B35E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3D14069-D9B7-4A6C-983C-30AAB52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1DA52C7-6A2D-4F1D-8701-D8036FB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CBAB580-50F2-4C64-A01E-8CFFEE7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E102A-B06B-4C40-9BED-ADE83A25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9455018-720A-4637-9840-94438C6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9DE07FA-4CCC-46DC-8EFA-BBEFEE1C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B9206DB-8E01-4C10-BFBB-63A835B9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621-B1FF-4DAB-92BB-F7339311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0486F-FCAE-4106-9698-14E1146C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935A3-AC2E-4EE5-B031-652C38A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1951C-A733-45DD-BD08-6F55111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70BBB-ECFB-41C7-A8EB-06350DD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64D1F-A35A-4C8B-96DF-9C8F3EFA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68E1B-71A3-4CDA-A21B-90E9798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907CD-2F6F-4034-A745-CC65043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FA7FD-4896-4AF1-B923-A761C10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AABC4-BE3F-4F8D-AE43-A296D992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C7A3B-571D-4838-B0A4-B6C3A015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BA2-44BF-487D-96D9-41DF3408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5D8C-CE4F-4955-82B2-3E364076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B7EE-C961-42D3-B1E9-483B5E5C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2409-B0FB-4D89-B8E0-4EC06BC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790AC-1EF6-42B3-A4DE-01044122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F5CA-74B6-41F6-8507-CFA0D7F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FD45-C1A5-4C1B-A493-E4A0A88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259F-96A3-488E-8FC3-B9B312D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410E-8D17-4EB3-98C2-25AB817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EBD6F-ADEC-4762-BF6E-A5ADCF9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F2082-A5C1-4DFE-A76F-15DD12BB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24E-9E54-4536-91BD-26D9BA39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002E-B421-4971-A4A4-CE3AA5C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DD728-2447-45E3-A629-599B20B0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5FC5B-FB21-4B16-A317-FC05FED9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98192-6FC5-4B66-B50F-FC157E5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E9C3B-93DA-4F78-B1AA-1396AF4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45F6D-B37B-437C-9A73-6CD49CC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52DC0-5709-4FA6-8C4C-3FEE2C1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2EDFB-5C05-4DFD-984D-5C24A37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95266-22E1-4075-B086-965B53DF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D1B5D-5FC9-4233-95AC-4E4D8C9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03CA-A4C6-43B3-9092-4C7C0C5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CD003-0924-41BD-99F1-CB705EA9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28F1-93EA-4EAB-A556-AE71C94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CA421-6C8D-49A1-AFC2-23D4621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08947-7666-4D56-96D5-6167C63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25F63-9DFD-48AA-9907-94D0265C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729BB-E460-4B2B-993A-9775D8C7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2692B-4932-48DC-A171-F5F11F7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B3FA-4012-4BA0-8618-CD33B79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C766D-E647-4964-9653-4F2FF24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FFBDD-8B79-45DB-B73B-65C7C8FF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0EDC-3C12-4703-B84A-F32510A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9BC63-4003-4AA8-8895-5E6A608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359B3-DE0D-4505-9BD4-1FFC5FB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261F0-E94D-420F-9E74-0AB1CE0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D7E97-D7A9-407F-A69D-469F819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720F0-7467-4CA7-88D9-5D9A752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17243-6114-4A61-88AF-12E1BC14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1BE81-2EBC-4B78-AC1E-44C95988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7200E-F4EE-4FF0-AF3C-B9FBE9BF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F49A1-171F-47BA-AE13-AA437AC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7C045-5BA1-4205-AE67-A317EBA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43A0-B480-418E-A627-D1BEDFD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E4893-3792-46D8-AF58-5F6B455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D6F75-5DE2-4C4E-B607-2BA8264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7675A-746C-4FB2-BDF2-6F9B6C4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BFE6B-FE62-4C61-B1F7-F719732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B5F66-A49A-4F88-83CC-E22577D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B94D8-E081-4DAF-B133-E76D1D8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30A0F-E9EC-41E5-B392-267567D2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6CDF5-9296-4725-B021-DFEAC861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7668F-4A9A-41E6-914D-FEF471D8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5C2A3-9C9C-4DFB-BCFC-536534A9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D37-511F-490B-9051-70593CE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1C78E-DE08-4D4D-8A52-2126C9C6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76BB5-3007-4A6D-8A13-92802119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A562E-2200-4E43-8EB3-559C168D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CAB26-DE54-43FC-A1ED-B0C728F0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292F6-AEEB-4448-B3D0-D8AD7A3E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BDCA5-B98C-45AE-85BC-ADB80C8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0E8A6-534B-40C5-9DEF-0E221F3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FCDDD-CFDA-43AA-ABCC-2D767AEA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B050E-52EA-40B1-AFFC-F9A3C5B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EAD11-C894-4AF7-A314-283FECD8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02F7-F816-42F7-A3DB-CFC2836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46D65-147C-49C7-89B2-F80ED254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2D4F6-9039-4F18-A6E4-D71E01B5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74340-EEA4-4DB3-9D8D-800C96F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B1148-D814-4C30-A80B-B8F75AC1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03F19-68DE-4498-B4C2-C490392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E3071-EE12-4922-966B-23B0354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C8B64-F63F-4442-9B4F-A0E6735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98671-022A-4F94-8EEA-C23B87A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AF248-DBBF-46DB-916F-9AF157C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A66E9-B67A-4207-88E0-5E17A2A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8AFE-CB6F-46B0-8B76-E61B7D9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66182-4003-4ED2-8F39-1E0DA00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A5CF4-1A79-41FF-B03C-B49BC29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A4551-9D20-4B82-8A45-13AD3FEA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F645FB-92BB-4481-B9D2-D3BE49E5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7B404-0297-44DC-A5B9-EC09ACC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B24B4-B38A-4A02-B77F-8CE41678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6F6A1-8AD0-4872-B89C-13A9D210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FF06C-4E0B-4141-8018-5D08ABD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543E1-BCCF-4123-AC39-D8DE4841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B3BAB-A411-4302-A938-E57C479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286-765B-4E85-9E3D-EE80BEA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602-B222-45C4-B0A8-AE4D5A6D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771B9-513F-44F8-A8CB-58D84F1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D3F79-A9B4-43DE-9F13-081586E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7F6E5-2553-486C-BCD8-002E8FA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811B6-7E39-4B21-BB26-EDB4CFB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EA042-C460-4A0D-AD1D-7249BA06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0D489-B968-4E33-B195-E7008D2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549B1-CEBD-4A61-946B-E2382C0D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9776C-1849-4810-9177-93B5249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33987-5CBA-4CC2-A43E-3D010F50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28523-9AF4-4A6E-8488-BC42429A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C17F-470D-4977-B41A-81AC544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6A46B-2C28-4574-AF3D-67DAD321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68390-71C1-407D-9EBA-05F32BAB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AA6DE-9162-42CE-8DDC-F1F4F8F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F7D74-2764-49BD-9C82-FD57E92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C018D-5750-45F8-8CCD-7450831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C8DB7-6C2E-40E0-91AD-3DA229D2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A2C72-8D4D-482F-8DFC-CC29C4AC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575BD-A44A-4C79-81BE-813CDF89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C4A77-B12C-4317-AF13-7E4E74AA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CBDC7-AA72-447F-A2FE-1426B66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8A04-636F-40F9-BC5B-0BCEDB3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C322FC-1DE8-4C76-9C33-AA81503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CF461-1E5F-4E13-8C19-4F92E8B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5DB3D-D7D3-4020-AF7F-2304451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6AD8F-E95A-476C-919F-5E40441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2F29C-721D-4589-9681-0062AFCF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1604C-8062-40E1-8F66-FB1B59D2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1D6D53-2956-4455-B7D9-8A60C4E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DF343-DD15-44FD-88DF-6F1F8498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9AA85-4020-4597-8797-0F559BB7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67AB0-2FAF-4532-AD6E-75C897EF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533-ADE9-4FD1-BAED-054C8E9C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75357-084A-4616-96C2-CCA1704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B0AD3-DF8F-4567-A89D-00FF584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9ED16-8932-4F3A-A0DE-903DCE5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1AE66-5BFF-4002-AB19-1ACD5175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F7F56-5DDE-4561-994D-88851036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360BB-30B6-4C6B-8612-8CA0F28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737A6-1CB6-46E6-8FDB-FAC5DEC2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723EA-9377-477E-9DC9-B3BFCDA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7AAB4-5AB3-4E67-B30B-2FF123F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AC5B7-0EDB-4DB4-BD6B-0FE859C1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B64-618A-4FF2-8565-715A5DFA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BCB5E-15A9-4D7F-8986-7A3ACAC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AF843-B474-4BA7-82C3-6FD8AB3B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87DF8E-D6A0-450F-B17D-5956951F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BEEEE-FB64-44DC-8DC2-0B29FC8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F6DB1-CD76-4889-A760-E14350D8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E4DD7-6DD2-4193-A390-C7B8B4A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E28F4-AA0A-4F1E-92E7-584E993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88BFF-E8C9-4EBC-AEB9-B4C54FB8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25FD6-C593-40B6-A9BA-ADEA0BC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A5C19-384E-4CAD-B5E2-3E704F8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DFB8-CBE9-483A-944C-2F79316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B55CE-4BC3-4196-AE6C-03837788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3AFEA-3D95-4705-BB6B-6F765491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18EC8-211B-4BE2-B938-49249E10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5F083-DCE6-44EC-811A-16C852FE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146A3-6FD5-48AD-B8D6-9AD2D1D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EF2AE-5109-4A37-97EC-789BFD6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7847F-C383-467C-B64D-3258E57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995B2-1DBA-4FFF-B172-F45FA184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97BF8-A3DB-43AE-A947-5D0541A8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B83497-3F34-4798-A406-87CCB37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0C28-611C-4DA8-B90E-49ACC1B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D4DDCF-569D-432A-8E34-337A76C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17E5E1-AA5B-408E-A06C-834DF3C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9FC40-F5EC-4CD0-BCBD-1E15EF9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FEE50-8A44-45D2-9800-9192FF44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7FDD18-324C-4630-8CB9-FD82317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F0447-F1AC-4669-8848-2076A28D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1B927-82F1-4D2E-89B1-97ED5E0E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E5EA5-7FFD-4FC4-BE9A-16D5D1D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146C6-6C07-4DF8-8C62-2B7EB45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5A1C2-DE5E-4D09-BF5A-F67FA89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A9F6-1670-41B7-BDE6-A7CF15C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716A4-2BEF-4730-A77E-F1042BE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B1CC0-F80D-4DD0-90A6-4BCF70B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E36CA6-54EC-4598-A69C-7BAD8D5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AF388D-FBE5-45F3-9F49-FBD0B6C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90DCE2-9B71-415E-A74D-581F319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562AE1-04E7-4D37-8446-F0B30C3F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C7326-8AC2-4723-8D5B-F6F0269E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8DB8B7-2D9D-48F5-B674-C988BEA5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ECDD3B-FE33-4F7A-9F30-666C8646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C1889A-6AD9-431F-B1C1-5C4FEAFA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EF61-FC72-42D7-AC85-9E8972B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58AEAE-F3D6-4F08-A347-5AAA33E7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6E5AA1-1F83-4BD1-875E-C41CE61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773370-0898-4401-8E99-79FE762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7EA166-DA5D-485C-B7BC-B5395A0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1A8E10-C1C5-49FB-B209-9DE8362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55B024-2F0E-4AB3-97A8-B26624D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C43E71-F1C4-4C41-B1FE-887B080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48EF87-476D-4237-A10F-95969AFB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0A0C6A-7868-4D90-AEA5-27800C8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292342-9F69-4175-B068-09300F8B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64E0-A21C-454E-9168-B648E58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EA9FD2-0314-4432-A04A-BE9D588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7B818-F5D7-4CAF-BED7-F0CF9D0C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68E3EC-4845-4A60-9F51-4C4BD921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89877-1D4F-4CEA-9F06-0EE07EB3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89A92F-8ED7-484D-B79F-AF28FD39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C3687-42FF-4800-A67B-CD71CBA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E12C00-00F7-49CB-81BE-76CB7BB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B6EAD2-F46A-45C7-A9B9-DCDE507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E31520-C07F-472F-9110-489CFCF9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C62439-CD6C-490A-9AF6-CFC003AA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C0-C9C5-4F22-AF6F-BAE8BF0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C7FC-092E-431F-BFEC-FB6D375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BB6738-CD01-472C-A4DE-D64D1319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9C84A7-FC7E-4DB2-9EC1-C8E6FF3A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94292-00D0-4F17-81D7-F49B11D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A8BB86-8316-4D93-986C-C4E0791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2CD48C-73E0-4272-BD46-4DC14F0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4F7E62-601D-4288-A057-D99870B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F9EBFE-1D0E-4164-9BAC-F86DDF1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5AECC7-B5E0-4519-AB9B-3AF886D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F760B9-BB92-4355-B057-062462C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A3C1E-69D0-4BA4-9183-39E8877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CD96-5082-4428-BF07-FCFA1C3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62F460-01EE-462D-9F24-755B989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4C0FA5-177C-46BA-B9C5-FC5628E4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F46F64-B4AA-45F0-B997-FF569AF1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4C7CDB-D915-41FC-877F-1C694D28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4E62EB-A26B-45EB-84D4-A24DE12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23BD72-1933-4185-877B-A5B13CA3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3B575-5996-40E4-AA13-59A0D75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AE3A43-4E20-42EA-A478-024AA8B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B93488-3BD1-4B7F-9477-302A40F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9CE47-15EB-4C48-8601-FE89F86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8140-A203-4D59-811D-50FC4ED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BC08EF-3299-47E4-8ABE-CBBB4B1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7CBB6-E322-40E9-887F-C5EB620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73628E-C2F9-45AB-8694-65F01823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A661BA-FE64-40BF-B84B-11408FF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258E84-3B83-4AFC-B46C-047BF824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A827B6-BE6D-4C3F-ADBF-BB9193F0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779655-1C38-4926-A388-9FD4A5B6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F95853-FEBF-4127-81F3-08C5C157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493FA-760C-4B0E-AA1A-A8CDB81A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81309D-8A9A-4F3A-A8CF-7F8C40E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0879-43A4-43D7-980C-0339EF39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77EFB3-0ECB-4B71-ABA5-76A71E73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75FF1-636C-47FB-B8CC-BE61F70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8EC4F2-DE0A-4A58-9571-5409A26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1EE17B-DD17-4B41-A6B8-AF30ACD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397DC2-64BF-48D5-937B-C13F4BA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6B473-3775-4E55-89BC-4E60C4E0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A6E942-41B5-4BAD-B1B9-FD3DED25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C949C3-65E8-4441-91BE-F2FA80B6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37A465-2D50-4444-8C11-FCDF4C6F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091503-D0AB-46BF-9F93-252928C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D866-96C6-47CA-860A-3C8E384D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62E6E0-6B79-40EB-9F0E-F125633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F3174E-E69D-4F17-B7B4-78D28707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B020F8-ADA2-4AC8-90CD-61E3208E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65EB58-D6EA-4D0F-AD89-4B3C8B53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BE0845-3D06-4C97-9E2A-0AFAA37C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8064C3-AFE0-4C30-8D93-963C010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5427D1-3DFF-47DD-AD2B-559C5F17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92E1C7-C445-4BA1-BDB0-CD58F064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68FDE7-E0CD-4130-A714-65AD31C9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F7E096-8C16-435B-8F4C-980EE619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0AC0-95DA-4085-9531-4F314AD4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B74DAA-D779-4C5E-8F28-20B7077B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0831F2-EF1A-4177-BC74-5CEFBEFE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0949FE-8C4A-4E4C-9850-DF69FDBD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6D0D1C-240A-4B73-9B90-F37DB3B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7C1FA8-5D01-447F-819C-C7ED448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1B78C0-2980-487B-82C9-3341042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97D101-3AF1-4C15-A763-11D6B91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066AF5-8494-4532-9BB4-EF48E2C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1EEA2A-D629-4323-89EE-A59D4690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E3268-AC49-44F6-9E1B-4E9FDE09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3B18-920C-476C-A227-02531A18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7F459-FDB5-4F49-AFF4-BE2FA4AF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584452-422F-48C9-837A-78BB6106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7072B4-998E-4761-B8BE-8BCF21DA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1068FD-BF3B-4952-A758-90082E9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B43EB-C440-48AE-ADD1-4DDC19A7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79907-5F6C-4AF7-82F3-94CD1842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5E6375-0267-41AA-BB2B-615E0A9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06726A-2ED3-4695-A342-FC32175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C684F2-7E22-42B1-8F78-FD5844F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AF9814-AC62-476B-8A1E-CE9DD91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A441-E084-469E-9F20-DDDD9506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B7C6B6-CF9E-4A5E-B412-22D07E7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A7F275-1F29-42E4-93D6-F2B577F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E24953-3C31-444A-923D-5B466D6C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11D9CD-CED8-4466-B7B3-4317A63D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405FAF-53B9-472D-A162-40D105C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A57D97-F030-472E-8AF5-4ACA5B2A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70A3F-0E77-4EB2-A880-D9450E47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B4C0F1-75E5-4BFD-B667-0F6D158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C912E1-3D62-4B29-813F-42E2CCC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60EBC2-E8E8-4E2F-8E8B-66B1833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B642-4285-47C5-B85E-EF95A5E0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55D95E-11A0-439A-86AD-28F68AE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81F14C-13A9-4211-A14B-370CCC9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C42CFC-F485-4A9F-B718-CBA57C10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7CA2F1-981E-4064-8741-DE32A01F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FF57B8-92F5-4A77-8F7E-AD1EF610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489B7C-CA33-4539-88F5-4D1519AA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571133-B11A-4DB2-B7C7-E65BF89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316948-71B2-4504-8A29-2ECB4681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F970D1-BCCC-4277-8409-21508B6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176AE8-42E3-472C-A7AD-3E6D6D50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B893-063A-40AE-A0DD-ACBE9FB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C12024-FABC-4B7A-9295-9ED2DF0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F516DB-C7A7-4730-A72F-2ABBFAD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99A495-D16A-4598-AA18-7D6D8EB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D05423-CB19-4A9E-8802-94321D9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5CE3D6-79EE-4153-B692-AD72286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C978BC-FF62-4944-88C7-A739482E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1946D8-9CD8-44FD-9150-18B5E89E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7189DC-BDFD-44B7-B45C-153954E2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757E87-5AAA-464F-A5D7-F5AA25F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5F9781-9703-40F2-AB94-95557A7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336-39CD-4F10-8922-EF86DFA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6BF5-AA61-4130-A97D-CFAA4A3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860665-B983-4C8A-8057-8C4B991B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F97B17-709D-4E62-AA34-FD79C00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43CF74-C115-408E-A84A-9B0B6948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B257BA-2C2D-4170-9266-23E269B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F5563E-83EF-4161-A5A7-F2E45A5D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5398CC-C535-4C66-878A-EEF5BD6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3150A-6160-4FC0-BF5B-FAECAEF8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1CAB17-1180-4BCA-BFB1-2FAEF1A3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E09B2B-BAB4-465A-9F35-02084F6B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C6B34D-21B6-43F0-B074-34022011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03DA2-7AFA-4BDF-9AC8-D5EFCB8F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2FD105-BF16-4030-BA2E-D9E49E16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E56AEF-A209-4B0D-B099-1F3C1B7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9CF23F-0C4D-4F36-8F1F-E1526C7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E51878-6805-4DAB-8DC2-ADB1574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F98E54-C52D-4542-8F38-9C79392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9D219C-F7EC-418C-9425-7477587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EF9EAF-14F8-415A-940B-D6C77DC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50A211-BEBE-465D-AF36-5493B0D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62E4D7-4AB2-426F-91FA-B2F4BC5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34790A-5A24-4DCC-B90A-DE405A40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2EBC-A6F7-44A7-9A97-30899C4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24782F-AEEB-4A3D-B3FD-20F35C0E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74061D-1B69-4D66-AEE8-29B99286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84BA6C-C5B6-49B8-A7EF-C23FA1EA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5DD448-2568-444A-97AB-AA4E8B3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254A6D-3118-4865-A25F-E9EE037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CE5C17-89A8-4816-8A2B-B907670B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2661E6-9599-43B1-94B4-ED447692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3A38C1-A3F2-41FE-950E-C6DD301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05AE89-504E-4913-A36A-823D5D1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385E8D-88DD-4472-AE7B-6030D05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ED06-1DED-4182-853E-0AEF2F1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F043C9-4A11-4DA7-9DDC-0B98FDF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7D14CD-7F4C-4377-A020-F124C370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5199BE-58CC-4B54-98E3-44BE0080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CAF7D9-75BB-4EF8-BAF8-CF4A4A32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92226C-2372-4936-A665-F8830C6A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908D97-E96C-4F36-84FC-78E43E2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46EAB1-44EF-481D-AAE6-ADB9B30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AE4D51-755F-4F55-BE1B-FF142821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ACC199-3948-4CA9-B06B-46D66792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311019-BC83-4879-B4E8-46CD9F9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CBBE-7BC3-4B9F-ABF1-BB6BC81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421E6A-8F48-49D3-87EA-852AD76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BCC554-A48A-41A5-9C4F-BEF8115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04F83D-294A-4AB7-969A-EE95AD3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87B1B-0D3A-4D74-948F-FD85EA75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88D4AE-C4F7-48C0-9812-FA874794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C34239-AB1D-4849-8094-128F2648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5256AA-5CAB-4055-9B8C-58E780CD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6CBDB7-CDF0-4507-A38F-2F137DA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E6E98A-1C55-4C25-BC33-5C90036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397BD5-A15C-4ED5-9F63-8445260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F4A7-E943-4C61-B3F4-2B4829C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15E817-E937-41EA-9540-D05BFE2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DBBF5E-7EBC-4758-A490-E630355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C04481-1510-4B44-8E61-D39A8320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72D084-430D-4357-97D3-8562FE8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1A1418-B421-4A00-B365-3CD3A9FF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62D646-A2E1-4417-97C4-157DA41A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F92E6D-567D-43DC-99EC-E038D436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451FEB-8E51-4F08-9BEF-B6DABA8F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7EDFFA-8F67-4A52-BDA8-2BB813D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2E5600-C7F0-4F0F-9397-AF870D1B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AB9D-35D9-4C8A-A3FB-0389346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661B5E-1D09-4893-AA3F-E4F9CB3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2A4C48-1706-4E1B-84F4-0F586C0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8B1D22-DB18-4FE0-A705-414335B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5B5889-96EE-4F2B-AE2C-7D33F99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0CAF3C-FCBC-46C5-89BE-641C76E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9F49E9-4A10-4220-A05C-96F77A0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770238-FEDD-46D5-95A8-F2428DEC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5762C6-B204-4A45-9FC8-0E5FB20E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6F9D04-118C-48F5-99C9-A2C708EA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8E0A2C-1E5B-493E-929D-FAB0F9C7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CD6C-0967-4D37-863E-D0AB7FC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2ED138-60B7-49B1-8CF5-DA98D9D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D05C02-8D0E-42A0-904E-136694E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4D12FC-9850-48E7-9D53-6822269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0BF3A3-A3CB-48BD-9737-CFB139C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50D7FD-0DA0-4964-BE60-31DDB07A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A3F817-C5BD-4EEB-9862-4AA54AF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3DF25D-F4FA-459A-9B52-A3F1310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914297-D704-4743-9778-04B57C70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E13166-A9FF-45C6-9FF6-A5C13F3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907CF1-69B0-410C-8FD0-3283859C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5593-5B9E-4F14-BAB5-11C18A80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BDF897-EA43-43CE-91D3-3D0C525A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A7FF34-2543-4FB4-B0B3-1E81A467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9CE722-EAA0-46EC-9391-90655E91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7F9394-A96B-4848-B95A-EE1E085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9D4981-0ECA-4BA8-83AB-4282AC52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8D9A84-0D27-44D8-B9B4-D894E62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E144E7-C38E-4E5F-A158-3EA29C5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507556-46D2-45DB-8BC3-1EEDEEF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FBFB8B-5F8B-4240-94F8-682C028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28A995-4202-4522-9D6D-8A118EB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F571-AD3A-4149-B9A0-62942FE3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290BB7-06AD-4DF5-B044-5A25C40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42C376-EA90-4B83-B78F-04B29AFA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6AC15C-1D0B-48B6-9193-3A62306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C5AA8D-0A13-4B63-8495-6E9C2194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6872D4-F729-47EB-AD62-B8B0CC5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32BB97-C942-4BA5-8C46-873338C4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97B04B-3556-4CAB-B88D-99FBA1F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3DE90E-7B87-438E-8D4E-77F648A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00C389-A785-41A8-8A05-C3C3C4B2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EB9C98-250F-4551-8733-EC2AB13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238-B6D4-4392-BFEE-33D8BBA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A9D8-993B-4D16-A749-21826D7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6AFC2D-762F-48F1-99D4-81DC33E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C4AE53-98EF-4CDF-9DEC-9C3A793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758263-646F-43BB-BFD9-2789B2E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E2A30C-9CC9-4B29-8808-4EE7700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AD0361-7E75-49AB-B2D2-4A9708CF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0077BE-8FFE-4F1B-BF15-BC454653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AF8FE2-C726-4A98-9B64-2E0000C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1F93D7-7FF1-4A0D-BCFA-AF5847C3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9A6818-60B8-4904-AA7B-B66C93D4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B5904E-03CF-4121-850C-85C9854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A6AE-2C5A-4EB8-8118-487F4ABB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59114B-4DE8-4E60-BE50-AE1FCDE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F2CD2B-DC89-4BD2-B889-1CB20E6C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2395D7-2AA2-44EF-95E3-82B8360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0B44CC-DFA5-4F25-A303-1859AE4F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B926C2-F026-4005-9EB7-DBF7BB8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21ABEB-2A1A-4618-B12A-64468BCB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D8501B-0998-49CC-A191-6C1A256E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EFBC8E-1645-429E-831B-0EDC4150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B60CB1-DD84-44D3-9797-A4E51BAA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575DD9-B501-491B-9DF5-9542EEA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D82C-3313-4CAB-A800-B844779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C8A8D0-8F5F-4F44-8E3C-9520D898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C975F9-775B-44CC-B5D3-C5FBAE49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02BA24-BDA7-48B8-B6E3-A876657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D7EA4B-0033-44F0-990B-A10A26B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6C655C-59C6-4FEB-8798-4BC9C0D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D66E20-7CF1-442D-8D3D-9EE6C6F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7E2C7D-FC8F-4E14-AA5D-65C687B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696290-DE8D-4D40-949F-2CF58410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80BAAA-369C-4918-B449-A360BEC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F34832-10F3-4F8E-9D26-952AA134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0333-405A-4A7D-BF80-16AAA279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78D621-6F24-464C-BA11-D783D542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051A08-4517-4DA9-B830-DA4CFE5C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9735DF-06F7-4986-AF48-B913836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0AF692-446E-49A8-96A5-0F93DEE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6FED14-1BC2-49AB-8DEB-67A23E8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F56988-4535-4B4A-A1C1-C30DDB6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225185-AB9D-4D24-992C-A27176A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77A7B6-B92C-4F02-A6EE-EBFE58A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272C1E-62C0-4348-AFE5-30B5B45D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2EF6FF-3AE0-4327-96C9-D3BB90A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FE32-C2B2-48F6-B8B2-49A6DAD9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C8500D-60CC-42D7-AE7E-E63FF64A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E3CC673-10B9-4C40-9644-58FA3540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7F3F31-F835-4137-BBE8-69B47EA0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FA506B-6B0F-4306-B88D-78A6DA5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7D03D5-72F9-459D-9EB0-6FAE091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3C63B8-43BE-4562-A769-62BA283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057705-C464-4F68-88F8-D0408D6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A25E9A-BDE6-4481-B97F-DDC4B46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941743-ADCC-4360-B0F1-378DEDD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6F958D-EE16-4BD7-807A-B24C051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0CEE-8707-4924-9231-2045D0B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C0153C-0A05-4EEE-AD2A-A76ABFC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934615-4DA5-44A9-ACE8-6C727BA0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5ECBAE-048D-4227-95F6-38A830E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EF1F50-386A-44C4-B821-8E1F7E00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194803-760A-43B8-B078-C2F05F9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69529C-3D86-4217-A86A-AE67DDAE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CA617A-3D70-4411-9E5B-07BB416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A8F97B-EF5E-4C48-B557-EC966B7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B71656-2B61-47B8-9AAB-44E937E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5ABA46-6E42-4AE7-82B6-4C1172C1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5FC4-9118-45B7-9989-A35988D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0AD2B2-B671-4039-AEA4-B21E6E3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C064F5-00AF-41B8-B574-DA6418B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B0EAD5-2333-48D0-BAEC-B29E23FD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1F7C26-64B3-4D55-8B74-D48E2A69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7CE90E-523B-49A8-AEDE-2BAB8BAF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5EFBAB-35CA-4B05-8259-3E1772F3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E6BAE1-B319-43BA-A6D6-105470CE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12768A-DD94-4C36-858F-ABC1191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4E8F05-015A-4620-A273-5089DF2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856AA1-8763-4682-AE85-1F38D82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7118-E01D-48A5-A205-C8FA783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604A6D-C609-4867-B918-924E7F4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D8606F-5A68-4652-9E00-77806F0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E4A98D-ED89-4B98-A3BB-10AB175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090BDA-90A7-49AC-8435-A71813E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DE9A90-C767-4182-BA1F-8DE57A7D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C9DBDC-0C60-4AA0-8157-FFCD5A55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329736-74D1-4F12-AF89-0DEEB9D1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4FE0E9-40A4-48B6-9F41-EC2D2F41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7D5578-C844-48B6-BE94-A533DD3B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0F2077-8ACE-400E-BE1D-351F6E45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8D702-FA10-43D9-9809-8C6D9E8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601FF0-7F98-467A-8503-6F008284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0A9353-C508-4096-8F7F-12837CF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BF0054-4FD2-4911-A0C2-BB6C526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730E4F-9FF5-4E81-951A-0AE05F4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58499C-D76E-43AE-91B0-B4C39199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E3B771-BA0A-40E0-9AB6-3CC2ED2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E0C3DFD-2DCE-4DBB-8404-6B6756C5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BF175B-02A1-4AC2-84AD-4626F33D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6C778C-092E-4FC1-9828-EF85CD57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A73B5E-91AB-4E32-AAF3-D7E4CF7F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F106-FEBC-4B0B-88A3-CCF7D9D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09079E-910F-4097-8CF4-589BB7AC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240102-4FAE-4833-BA24-B003441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BD0E0D-350D-46EF-B3F0-17809FD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000CE5-FBF3-4720-9382-E60AD16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0A3995-B514-48CA-8D86-EA4FAB21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C2C694-16AD-4E4A-B519-E46338D7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3CAEF4-4DA5-4DD2-9F56-329FE4D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2BD1C9A-7065-4132-B4B1-653F6A3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8BD650-7530-49F3-8732-809BE41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A5AE72-24B6-4613-897C-06EB0586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A0D-9665-4571-82B5-F17A80A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24A4-D994-4A42-9EBB-2130C554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B67EC7-92AA-4415-93F4-CD2E1C0B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B674AD3-8F2C-4707-A030-103C315B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9003A46-B988-4FD3-8026-396513A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41CC878-0086-4073-A8B4-35513AB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ED3AA72-556B-422F-97B3-E5C07B43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D87487-7F6F-4A74-B27A-DE1F947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F56A18-9E60-477E-B9B1-E55965E1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C59483-57EE-459B-9849-DC403A7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A9AB214-DF9B-408A-9F96-E220C4E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027D1A-1136-4868-A568-1E7DD28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288A-7D74-4DCE-A368-A5FDEB49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61E0F0-0E6C-4CBB-9C2D-548DA6AF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9CE0D5-53D2-413E-9B91-A1FC290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BBDBA0-95C1-43D2-BED8-057353F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1E301D-3626-4D2C-A974-8447FD7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087731-850A-4CA9-8541-CD1486B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0B64AE6-AB0D-40CD-BA53-4746D22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598598-D37F-480A-ABCE-99B4933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CD48AB-8445-418F-B34E-66A90462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7D0D41-B704-4BA1-9D40-EC13578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CBF3E8-2C47-4580-AD0A-5F5A744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E82B8-5E90-4B26-AF45-077F5AAE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3A2794A-222C-4C23-BC2A-EDDDB46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86C3D7-0069-4C15-8A8E-278FC59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DA5E5C-8D76-40D4-9080-3DE32239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ACF47C-0F4B-4EA7-8553-4B151148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77E62E-E1E6-4299-B6E4-D75C857B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A6C10D-52A3-4419-B85B-BF0AE6CD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DFD4DC-6A9A-4216-AD2B-ADF5631D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B9D390-AB7E-43AC-A8FC-BBEB788E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0A79C1-90D5-4C27-B2CA-12B1A8E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FD43210-C410-4850-B09C-F427236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1DD4-4AA5-4D33-A232-AF349F5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DA569B-C981-45E2-87BA-DD14548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4238B6-427F-4FDE-A336-6DE1188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1FE9C2-CA61-434D-BBCB-97372913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4400952-3E27-4B7B-82EF-E0E7D922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C43C7D9-50B4-4C54-AE88-BB89C85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C17D71-BF31-4AAF-89D3-2E992090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0B5EBB-C9DF-4DD5-94C6-62994F79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3DAF5A2-EFD5-4E6A-921F-EAB1ADE1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DAF1E6-D371-41D5-9647-9381280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6A7E1C-164C-4B05-ADC7-CC881AA9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6B21-BC41-4837-B3D0-FCC34027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BA7B76-DAA2-4882-8C6B-286C8BD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768F51-96E1-4884-95E0-44C3F87E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12A154-3972-4B89-ADDC-0F66E5BA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B13E24-DA94-4DF3-AC34-3A7715A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DF0370-9BA0-4394-ADB3-07325253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21D742-0401-40C5-BAE3-6384652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C08A68-71B1-409C-969A-FB20C28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8CFBBD2-C593-4161-B413-1C72CFE5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72623E-B509-4322-80DA-89845ADE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375551-22BC-4A60-AC1B-3FA921B7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EC9C-9778-4C41-907B-863DA64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4FD4DF-CAB8-4704-A747-9E7668A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5990A3-91CB-4FCA-B0F5-BB4FE051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414590-3E13-41ED-9AB8-3A3801D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E7943E-A0DC-4D6B-A0BD-F0E090D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9AB25E-385A-4E10-863B-F803804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9617DB-6FBF-40B8-ABBF-F6102D8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265086-FD3B-406F-9A88-0DBFDF1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532894-6FBB-4B49-A404-55FB445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C30F64-C0F9-43CF-87CF-682FF89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268C55-6F21-4AFD-B8EE-9043E496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C537-69A1-44A0-87B4-EAFDD32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D80D070-6934-404D-8F73-36A158F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C5C3FC5-8EEE-4945-8096-2BE22ABF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05F1A1-DC75-4A28-B096-C5B463D3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2BE4918-8151-467A-B540-9928256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99257A-F174-4A4B-9471-B861502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83DF1A-C42C-4ED3-B3E2-E17DA2B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288DC08-8B86-466A-9BA6-400B576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50449B-097C-413D-BFE0-4C62DE9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F09801-A9B5-4020-B969-BFA5F88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C33CD8-FEB6-4B37-996B-15FBE71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2F50-E55D-4DC1-ACF3-BC97582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24ED65-1FFD-4D90-9444-251035E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4D85B85-062C-4BCC-B28C-8ADACFDD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4528ECD-57CC-4B4D-9AE3-90E17B5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2BF22A5-973E-4D50-9EEC-DCA41226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77BBC1-36C9-4D74-89C8-345D1A51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35115C-F73A-4081-B323-BAAC312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D46705A-4BDB-4879-B576-687EDB0C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4AAA73-5B57-4573-8573-D0DDF28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C7C8085-204B-4EDD-9699-68C2129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8F435F-9AE6-405E-9C15-B35D5E0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304A-157D-406A-A921-3B7D6CD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9B7F5AF-DE9E-4800-90D6-C3BEC72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03B111D-C115-4766-9645-EED3EBC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731AB0-B521-45F7-8B33-2069DB4A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376007-7712-464D-9629-894D27FF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545575-C912-45EA-BB59-42B2ABC5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ABB665-53FD-4510-AC24-1F5563CA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FA5ED5-8783-46B4-A311-9693B3A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79026AB-3AC2-4452-B9DC-FC672A3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8AF3E7-6918-4165-A416-049900BB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7E9BC1A-1979-4119-A3A2-76C0893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2695-3D4D-450B-996D-9622441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ABA068D-32AE-4244-B2AD-FFF9D0A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58EAD9C-A4FE-4BE0-98F4-D5363BC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1EC74D-786D-48D5-9687-8EF7295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24EA2F-D988-45AD-90F5-0BF60A6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D8A3EC4-6A97-4799-86A4-A4583BA3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DA5F5D-E34A-49D9-9F68-60D9FDA8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27ECBC7-DAB3-48B5-B93E-0DFEBCB9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22709B2-BFE4-4535-B20E-C50C77C7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E49373-5B02-4CF5-AF22-EB2FBF6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D38C269-B152-4969-9519-F0B2496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68F-F490-42BE-83F8-1953BF5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D4D5F-7A08-4761-9850-F13570F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76824E1-43F7-4E75-8221-606BB6C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E54993E-0CB7-40BE-8462-2EE79496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4C7C4C-86FE-4E6A-AE14-E812DAE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68078AB-C118-471E-AC90-78B82B7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8DF28A-6DFE-49AB-A1B7-8936FEB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214634C-3BED-41DA-909A-4CF57E5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D41F9E-2272-4F46-A8BE-EF4D3EB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3D4961-59C8-4EAD-A94F-C8500C5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B2B7FF7-49BB-49D0-9CBA-5FD674ED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00EAEF3-78C5-4208-A2BD-B727E161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D1BB-B312-4672-BEE5-6D275190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690957-8A0E-40E5-A77E-899EEF96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DCCF624-DEEE-4688-98B6-181D5E7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348318-95B0-4180-BF6F-CEA2EB31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72E2882-D7AF-4BBC-87D4-582DAF7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E9B83DE-3738-4CCE-9115-CE0D2528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E86002-3CB5-477A-80AC-143228A0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AC83121-A582-4445-971B-1110F5E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C170982-DD98-4258-82E3-16840CD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2949D8-D417-4139-BAFB-5356F965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A86F8E3-D5FA-450B-8104-9E6E5BFD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B841-8A0C-4DEB-9CC1-C296699C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13F69CF-B04C-47B9-9348-D363AEA7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4A8D97A-77CE-4E7A-903A-3ADF55F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0EB9FE-F6D9-418D-95C4-3C13EDB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153A2F1-D319-46EF-905A-A526EA9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B26EE80-457B-4C1E-926C-12948FA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ECDF703-BAF5-40CC-9F0C-FFB059E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7787D9E-9FF4-4E1D-9B88-2212C7B5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C75C073-E24A-46FE-A76B-BC18397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682F496-3C6A-4F00-8526-AC59CC4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D43DC80-197C-4CC3-B578-A54286D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6444-C742-4E3D-BB8B-79A3E8B1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50C5DB5-A536-4F6C-A186-60553482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17B67DB-29B2-496B-810A-F9C54B1B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5011AB1-783D-4C67-B6F4-FF45C351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7B2C459-FD86-4351-8277-B70E2BB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59E9B35-D621-4C2D-8E06-3C3AFDD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06107BB-39E3-4979-BD86-B6D79E62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F13BE90-CC6D-429C-82CD-6A5AAC6B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8F551D1-FCEF-4996-A789-1D9113B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46A9A9C-41B1-4F8F-AA43-DE48D4A5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FF76E4-0006-4D25-B90A-DD10CBA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A383-04F9-47B7-9A0C-6427187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29BB35-2341-47FB-B976-FFA3B7A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4A48619-D7F4-4DA0-9C04-8A8D946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46726E5-6D46-41C3-B0A5-146DB04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7360265-E8BD-4FBA-B38B-5331AA67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7F3A2C-9CD8-4546-A843-3614C66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D06F126-FD31-469D-AB14-35E8903C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EAB05EE-EAAE-42AB-BFE0-CD7E3FB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268CCC6-612F-47A5-B210-B8715B5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40BBACD-DCF3-4F15-A415-E20AFA24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CB947F5-ADC2-4C95-9AED-46459007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300A4-AE07-4C9C-A58C-3783DD1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5F12FF1-97AC-4AB3-A6C2-2A52A990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51C7D88-52E0-462F-813D-09264B4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67520D8-B185-46AD-9356-F80E383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83D18A1-9FAA-4413-A04E-9629C7A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D0F0465-42E3-410A-986F-BE10E92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6954F91-DB96-4D9E-BE7A-303FBF4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349B1FE-49D4-4844-BC79-B31EA6E7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2E7ABC3-0A98-4A2B-932E-60DB0A89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E7963ED-5F6F-4393-96DE-3AD158DE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656157B-3C57-4E88-B53F-F20F662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971C9-09EB-4A1F-9D54-A907A849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A811B8C-9D05-445C-A531-9D03CAE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032C439-0681-471E-BD72-B4D3BB7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507AB92-D72F-416B-9B2D-CEB7EC79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2CEDC27-A174-408F-858D-DE2B7EF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A24E750-165C-4C80-9C6D-24975C9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91EADE0-4EA4-4754-A33D-D70F317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3119181-541C-4060-B260-FC1B5D1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4AE48E6-0F3D-4589-B6CF-0B877F37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A485EB2-00A8-4F55-9AC2-65D1E69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0413C2-0EF5-46CF-B4E1-479E12D7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52FD-5628-4D16-B4E8-9A228D4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223360-B3F1-41AA-A951-B2C3516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CF4B74F-4E42-4B8C-AEC2-4DEE642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892839-8C9A-4BBC-9C71-D3CC80B1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C4ADB0C-CADC-4142-9296-04190B7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EDB18D-B215-4D39-8712-A9E4119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3DB498B-DC2C-4CDD-8B07-0823C3F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98AE49-57A1-4912-B7EB-A611277A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597DAAF-4447-4987-BB78-460FF98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13981EE-15BA-4CC9-B7D7-A0FAF1E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2B17E5A-F7BE-43A7-BACF-F85AE432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1E5A-6D79-441D-8AC4-ACCBD84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583CAF5-64CF-4545-9E4D-BADF2AA4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9DF7D7-9A73-4B5C-9490-0476529C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5769897-6116-4DC1-BC98-AE631E5A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A43190-DCFB-4DDA-8EF2-CF44B6C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4ABB6E-0688-4657-9250-26C17E1C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F92E4E-7CF4-49C3-B1D3-F46DC74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AE9A3C-6369-4217-B790-1A41D2D9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042C750-5D9B-4C7C-8D1E-D42CBE92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897EAFB-D570-4ECC-9030-83B9874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DE55E31-C976-43C4-86B4-32621ED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1CE0-9597-42A0-B43D-24F247D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C14978-990C-4467-B36D-8E9BA460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C852B7F-93DC-46C0-A65F-C3A14FE1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22D38A1-EF8B-4528-95F2-12AD21B3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AC23A3-3F63-45BB-B461-217E194B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007B02-DE96-4850-A00D-DD92CEC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98EAE5-7C76-4F6B-88A8-07FC80AC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C7788E-D082-4F99-8495-C0F18166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146380F-1E58-4A77-A486-E669F4E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79584E0-C881-4728-8E2C-2849151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3739CC2-30DC-4BFB-8FB8-47FA234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17D-252D-415C-B051-4BE6F2D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0C46-C7B9-4313-9F9A-9A07FE6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B166DD-8BE8-4CF8-AEFB-AB7C779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0FAC878-3F6A-4ECE-B727-CFB5AD7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AD251A-4FBF-43C3-B54C-8345268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D61FCD6-0B2C-4499-B94B-043137EA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8CFADC2-27BC-4A10-82B0-25C6CD4F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78F3FC-CE6E-4FE4-8FEE-16CB9C51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A02A5AE-1855-42C6-B931-E90262F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8A56C9-894C-4704-ADDD-BF136E8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FDCFAE2-3862-4CC0-838D-53B8A6E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42DDDA2-CD85-43DC-8DC1-EF9F83E9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F56D-10CB-46B2-89F1-61957908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A353664-D39D-4659-A297-F13826E7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04D52F6-3B9B-402E-B96B-4E92585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D6D218-F95E-4665-856D-BED143F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EA3A284-92F8-4901-B40B-E0203D8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0E8B979-1ACD-4BB9-86B3-542C661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D614BBC-A6CA-4A8F-AAD9-6F469D7C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B1257B5-9265-4164-B1FF-31C9886D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CD1E67C-F894-4E34-8ADF-0D59A164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CCC9460-38A4-44AC-9F74-9ACECA22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9D7878-CD95-4535-BC55-F7125C2F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F6E2F-CB3B-44F3-9105-A5D95D3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C1115E0-31C9-48D2-900B-BABCA29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F33A400-E0AE-4696-BCF2-5DB552AB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A733AF-ADBC-4083-9E61-EDB0AA8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87D9E5-4A1D-4761-A95A-764173B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09E2BB4-D09F-42CD-9AE8-1F4B708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A36D20-25EB-48B1-A541-0009CEC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AFABAB8-F630-4F67-90B6-D73DA649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433E0D7-F289-41C3-A884-F460D470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4B8D90F-4BE3-4AE9-B88E-BCB762D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AA9994-E6EE-4D53-8D4C-C2AC1FDC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E3A0-9A09-4A65-B83A-178CC0C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2FCB36D-7757-403C-924E-BABA7558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559A88C-8228-4EF8-99BD-856B9A1E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7336A6-8C37-41F5-8DB4-6DABBAC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9E1FB9B-0F65-4125-AC42-E8DFC80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72FE31-1DF5-428C-8AE2-7997C0C3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4358D0-86B1-4C8D-B54C-DABA3B4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4096244-7CDC-4455-B8C3-80651C9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A6CED1-510A-4A96-8FC4-8B232B4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0379FBF-2B3A-4091-8877-BE9E4FD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96FC706-AE62-4A09-B0F1-FE6D0907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0D5C0-CDB1-4075-AB11-1025EF2C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9CE0A92-D459-4CDA-B3F8-8C8413C5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098EE3B-D63B-4D4B-B4AA-32EA76A8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9D0E51A-FA40-42A9-939E-8729DB1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774D932-3F02-414F-80A8-6E505002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2C3B3BE-6BE8-430E-8D90-1C71C0A0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B4F21ED-3C30-492E-90E6-673BCC2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0D84EB-3E7D-4CDA-9C47-DCB3C04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6ECDD5-4A00-499D-985F-15F6D89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2E25C84-87AC-4A81-862F-FB2AAEF7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8DF6301-16B5-4EA4-9EE0-61ECE82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51136-4C40-4887-AAD4-3B959A22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D5E9847-3987-4334-94A6-6B69544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671247B-62EE-4F29-AB67-5D2AC655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A5D8727-63C2-4A17-BA2E-C115E3C6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83D7540-46C3-4F49-A4A3-D86D3B53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0100059-BF04-4284-BF8F-8DC3A81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35732DE-D820-45A2-984D-DD16AE5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A72931D-CE12-4727-83A6-1D79B54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CB08AF1-2250-4AAA-97F1-E130BAB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46EA483-53D5-42A6-AF41-2EDF07A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AA5DFD5-4569-4E1B-AB72-F887A3B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8C4E1-9183-46E1-81C9-0B21BF6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E84D9A6-5BB1-4A4F-A7E2-C30D22C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57E3FC-18C4-41DC-B26F-76A6E20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3EC379C-B298-4D76-B138-8E38F60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3CD0071-8A1F-426E-9CDC-4466D474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DD57753-C362-4E4E-9F7C-9A59C914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F49563E-F595-4510-9E93-55DB0741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1502039-42C8-43A4-B921-95E2036C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E5F4BEE-4A12-448A-8A43-0DA9BDE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A7CED9A-96EC-4972-A354-E69FAC0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1293B35-C2D0-4815-938E-D7D87D9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F165-9C4E-4DBC-B90B-638E9EBB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47F65AF-51FF-4661-8F17-66ACD59B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6DADC6-E031-4692-94DA-7FBAE4C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6B0B5C2-4DAB-4555-B997-EF34D46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62944D-73C5-4EB5-A950-2F88F13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B2CDEDE-ED87-473D-B145-ADE08664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11D5F9-6DF5-4228-8B56-9FF04025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BD0B40-F48F-4D29-A1A9-1120C0A6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F2EDF3C-3A9E-4869-8D43-4F10282B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4FC75AF-121D-4B97-AA1B-28829B0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1646C0D-42A4-4151-BC29-6537C12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6D5EC-4D4A-4AF5-96C3-BDA7DE78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1ACE7ED-D98B-4248-A332-1736FBBD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330865A-E0F9-468F-9A8D-AEAF659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F0FC68-ADE3-45B9-84E7-1578DB43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81101F5-C37F-4521-AC48-1BAD1D0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ECACCFC-395D-48E7-8A29-E9E358B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6995E9C-D629-4526-9946-6F814B5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0636C3C-1F7A-4604-96D0-CB67872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B318657-092E-4416-843C-DF9F0DFD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3089A36-71C8-4B2A-A1E2-77194CF3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DFE1C86-EF66-453B-A3A7-764181EE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ABCE-3F25-4791-9856-ECC2263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7B956E1-F221-4FA9-B022-95DD7C1F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57AA707-6485-4AFA-867B-5068146B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FF3568E-BDCE-473E-A550-FC3B3900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254201B-62DA-4810-B1E8-A1F4204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C777AFE-79F4-4825-A10C-0ED1F137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B65C5EB-C3A8-46DB-8275-9DCFF1F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61EA48B-8DA4-4EED-90EF-D7E84C1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53BD3D5-BCE3-40E3-A2F9-8281CE62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BF7EEA0-08E8-427E-8471-24C80048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8E248FD-C599-43BE-B5AF-FB52CEB9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A6-07E7-4507-9A81-6BFDCF4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6E3E-C1A3-49E5-9FF6-32DA0F4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DCAA8D9-3BE2-4571-8487-0C9AA95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0E4F2F1-6A2F-48E2-9F3D-C07B4518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0F01BE0-448B-4ADA-90F0-9512059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E717841-064A-42DE-9790-42951E6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62197A3-4945-4A2F-8ECF-B560254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C431716-5ABD-480E-A48E-FB5B498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A0006AA-6AC5-472A-918F-A9E3968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196C944-9A2C-4F5E-A7EC-0898EF3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959C339-FBED-42CF-A2AF-8746474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58E5725-0ED1-481F-8D48-98D6C95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8AE0-ADEA-4E75-B0E7-D8B07C5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21E556D-76DD-4A8B-A728-DDEBCD6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E5D370-9F78-4046-BD0E-B828B550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AA5D4AF-6908-4267-8EFD-87B3BBC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70A3554-CC86-4AB2-ADA3-A2BD73A7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3276F79-850C-4C0E-AB11-C7B2E09A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6DBF3DE-8CEE-43B7-B223-E8775653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9F7A20-6D18-4404-8B45-EAC37719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86CCE4E-47CE-479A-BD4B-82C7A10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2FBC2DA-78E0-4B4F-8872-8CA093A8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AE77E02-2070-4924-93A6-6C075CD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D772-EB9C-4F51-A758-9A850EF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6BFE672-640E-4659-8C10-99F77DF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B8E2538-6047-49EA-81D5-3F2CEBB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2E6064A-ABC7-448E-B275-E15F368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31F2D8C-5E51-4DD3-8AD1-D9088A6D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DC1165D-7958-491B-B056-195C00BC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7388F9F-AEB5-4027-A9AF-60C4B795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E2ECDD-E3D4-4203-B1B9-30C95BA7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F35D65C-8BFB-427D-BEC1-9FAECDB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E449942-7FC8-4521-890C-F6BE7D40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EFB04FA-D86E-4C66-88B5-C69A168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EA7C-EC6D-4CCA-859C-4E477E2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76F3465-7A2B-4220-8186-6CCD5C17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C4F315-8544-4DD1-9B54-72C68CA6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228D6B9-A4B6-4B54-91C2-E9BAF1B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DE99F7C-40A9-4061-B28C-6C40F156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ED17FA7-FDF1-4143-BE82-01500960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DDB70FB-C05D-43AB-9462-550B4F61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F59290B-12F0-4217-BBA3-608C3637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4BEBA7B-B667-47F1-B1C3-D92C16B1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614689E-D1F0-470C-A917-7742EC4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A0AAF8D-6A6D-4CCA-8422-0F1E3B81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62C18-229C-4EA9-917F-D7763690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9817650-7D61-47C0-9619-11CA0C23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6887117-FE91-43C4-AFE0-34D426B8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2DAA385-499D-41B2-9F1E-185D133E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61035C6-C7CA-41B0-998D-473CE19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7C1F773-6DDA-4301-8C76-A28C0FD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0126E05-0E87-47C2-8BCC-3F6083E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288BEE3-91CD-491C-AA60-C42D01E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A5AB10-A80F-4850-A7F8-44B13BB3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E911AFC-0E90-4ED5-8836-E87C67B5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02A336C-E2E6-48D6-BBE0-241ED210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D97FE-4E7D-435F-8A57-512FA65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4468F0C-42D9-4CFC-BF62-EB8DBC7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38283BC-0F78-42BA-A546-EBAA744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5E161D7-3FB6-419A-9B7D-4383336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72EDB26-F73F-4E99-AA65-82ED8E7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2A37A29-CBF9-4084-B126-2E988BB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B8E7B90-C657-467E-BB0B-77AFF10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9D9970C-4CD6-4ED0-83D6-32BA7A8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7C257A4-C3D6-4228-A25F-C17AFDC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2A700B-0811-4901-8C1F-8958B0E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DA4BB51-3D96-4646-A057-CB24E71C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708D-6D0C-4126-8329-56C3CDFF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D301028-2624-42E4-B377-18790368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52BEB24-6208-4BC3-8047-4CF3E2D7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D36532C-08D5-4A3F-8B06-BE9DD44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86AE0C-9484-4889-827F-C8F7217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582A6D7-03BD-4EB4-8D52-9D2EE153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B148817-5D74-4762-94BE-48055410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27E7C7-B6D5-4438-B050-9846D91C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4F9AD84-A391-455F-9D4D-946242C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7064C72-6D29-4E14-87D0-B10BB2D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6EE3FA-5CAA-4911-85E5-235CDDD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55285-4506-41E6-8A30-3A745CAC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0F7796-F42F-4E0B-88A6-F0FACC70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E315761-0DE1-4A66-ACE2-8604DBB7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DB79B7B-5F6B-49CD-8916-80C171C1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717EB2E-D128-471F-A104-BD9253B5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4B86653-F4E9-46CE-873F-7C948C3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41870BD-C47E-4617-A846-E27F066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42D404E-B679-4030-AB03-71F2BEDA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AA14D02-1DB9-4DCE-B57C-19AEA3B6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1410353-2CC0-4946-88AD-01C6CB7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A0B8F72-6408-45F4-9903-2BC6D58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53CA6-5476-49F0-8738-DC5A0D77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BF28656-4A1F-470D-9A8F-F067D95B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003D177-5637-4BC8-95D6-B8DF7C6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FC012F4-9E66-4469-B1E8-52255D8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18EC32B-494B-4E35-9974-074DF65F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98E0CF6-AA3C-412D-BFCB-42507257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1BF5647-68CF-41D5-B4EF-FFE86C7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DA1E8FB-A531-4BE8-B796-9BFDF880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D154920-C861-49AB-ACAA-E47F054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C2F30FE-7CFA-4C17-86B7-D182D12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28E734A-82F1-46D1-9AEF-10A1286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D489-250E-4982-953C-10CAE3FD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8A49966-F516-47B7-8BA4-89A56B2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B91B9D2-0294-43DF-BF06-1BCB83E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E27C56-7329-462A-8427-7A623AC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93E25B5-3137-4A59-B088-C193928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E19193C-7FAA-4DDC-AA9B-BB3C3DC5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8DE83EB-00E1-40BE-9C57-8DC5F5A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C4FA4C9-660C-43D8-918A-7FA0DA7B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ECA517A-C3F6-45B7-AD73-14BA112E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8C17AEE-1AF0-4E14-9510-79BF16E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78C5672-6588-43B8-BEA2-05FC512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61.xml"/><Relationship Id="rId6" Type="http://schemas.openxmlformats.org/officeDocument/2006/relationships/slideLayout" Target="../slideLayouts/slideLayout962.xml"/><Relationship Id="rId7" Type="http://schemas.openxmlformats.org/officeDocument/2006/relationships/slideLayout" Target="../slideLayouts/slideLayout963.xml"/><Relationship Id="rId8" Type="http://schemas.openxmlformats.org/officeDocument/2006/relationships/slideLayout" Target="../slideLayouts/slideLayout964.xml"/><Relationship Id="rId9" Type="http://schemas.openxmlformats.org/officeDocument/2006/relationships/slideLayout" Target="../slideLayouts/slideLayout965.xml"/><Relationship Id="rId10" Type="http://schemas.openxmlformats.org/officeDocument/2006/relationships/slideLayout" Target="../slideLayouts/slideLayout966.xml"/><Relationship Id="rId11" Type="http://schemas.openxmlformats.org/officeDocument/2006/relationships/slideLayout" Target="../slideLayouts/slideLayout967.xml"/><Relationship Id="rId12" Type="http://schemas.openxmlformats.org/officeDocument/2006/relationships/slideLayout" Target="../slideLayouts/slideLayout968.xml"/><Relationship Id="rId13" Type="http://schemas.openxmlformats.org/officeDocument/2006/relationships/slideLayout" Target="../slideLayouts/slideLayout969.xml"/><Relationship Id="rId14" Type="http://schemas.openxmlformats.org/officeDocument/2006/relationships/slideLayout" Target="../slideLayouts/slideLayout970.xml"/><Relationship Id="rId15" Type="http://schemas.openxmlformats.org/officeDocument/2006/relationships/slideLayout" Target="../slideLayouts/slideLayout971.xml"/><Relationship Id="rId16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21.xml"/><Relationship Id="rId5" Type="http://schemas.openxmlformats.org/officeDocument/2006/relationships/slideLayout" Target="../slideLayouts/slideLayout1022.xml"/><Relationship Id="rId6" Type="http://schemas.openxmlformats.org/officeDocument/2006/relationships/slideLayout" Target="../slideLayouts/slideLayout1023.xml"/><Relationship Id="rId7" Type="http://schemas.openxmlformats.org/officeDocument/2006/relationships/slideLayout" Target="../slideLayouts/slideLayout1024.xml"/><Relationship Id="rId8" Type="http://schemas.openxmlformats.org/officeDocument/2006/relationships/slideLayout" Target="../slideLayouts/slideLayout1025.xml"/><Relationship Id="rId9" Type="http://schemas.openxmlformats.org/officeDocument/2006/relationships/slideLayout" Target="../slideLayouts/slideLayout1026.xml"/><Relationship Id="rId10" Type="http://schemas.openxmlformats.org/officeDocument/2006/relationships/slideLayout" Target="../slideLayouts/slideLayout1027.xml"/><Relationship Id="rId11" Type="http://schemas.openxmlformats.org/officeDocument/2006/relationships/slideLayout" Target="../slideLayouts/slideLayout1028.xml"/><Relationship Id="rId12" Type="http://schemas.openxmlformats.org/officeDocument/2006/relationships/slideLayout" Target="../slideLayouts/slideLayout1029.xml"/><Relationship Id="rId13" Type="http://schemas.openxmlformats.org/officeDocument/2006/relationships/slideLayout" Target="../slideLayouts/slideLayout1030.xml"/><Relationship Id="rId14" Type="http://schemas.openxmlformats.org/officeDocument/2006/relationships/slideLayout" Target="../slideLayouts/slideLayout1031.xml"/><Relationship Id="rId15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57.xml"/><Relationship Id="rId5" Type="http://schemas.openxmlformats.org/officeDocument/2006/relationships/slideLayout" Target="../slideLayouts/slideLayout1058.xml"/><Relationship Id="rId6" Type="http://schemas.openxmlformats.org/officeDocument/2006/relationships/slideLayout" Target="../slideLayouts/slideLayout1059.xml"/><Relationship Id="rId7" Type="http://schemas.openxmlformats.org/officeDocument/2006/relationships/slideLayout" Target="../slideLayouts/slideLayout1060.xml"/><Relationship Id="rId8" Type="http://schemas.openxmlformats.org/officeDocument/2006/relationships/slideLayout" Target="../slideLayouts/slideLayout1061.xml"/><Relationship Id="rId9" Type="http://schemas.openxmlformats.org/officeDocument/2006/relationships/slideLayout" Target="../slideLayouts/slideLayout1062.xml"/><Relationship Id="rId10" Type="http://schemas.openxmlformats.org/officeDocument/2006/relationships/slideLayout" Target="../slideLayouts/slideLayout1063.xml"/><Relationship Id="rId11" Type="http://schemas.openxmlformats.org/officeDocument/2006/relationships/slideLayout" Target="../slideLayouts/slideLayout1064.xml"/><Relationship Id="rId12" Type="http://schemas.openxmlformats.org/officeDocument/2006/relationships/slideLayout" Target="../slideLayouts/slideLayout1065.xml"/><Relationship Id="rId13" Type="http://schemas.openxmlformats.org/officeDocument/2006/relationships/slideLayout" Target="../slideLayouts/slideLayout1066.xml"/><Relationship Id="rId14" Type="http://schemas.openxmlformats.org/officeDocument/2006/relationships/slideLayout" Target="../slideLayouts/slideLayout1067.xml"/><Relationship Id="rId15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69.xml"/><Relationship Id="rId5" Type="http://schemas.openxmlformats.org/officeDocument/2006/relationships/slideLayout" Target="../slideLayouts/slideLayout1070.xml"/><Relationship Id="rId6" Type="http://schemas.openxmlformats.org/officeDocument/2006/relationships/slideLayout" Target="../slideLayouts/slideLayout1071.xml"/><Relationship Id="rId7" Type="http://schemas.openxmlformats.org/officeDocument/2006/relationships/slideLayout" Target="../slideLayouts/slideLayout1072.xml"/><Relationship Id="rId8" Type="http://schemas.openxmlformats.org/officeDocument/2006/relationships/slideLayout" Target="../slideLayouts/slideLayout1073.xml"/><Relationship Id="rId9" Type="http://schemas.openxmlformats.org/officeDocument/2006/relationships/slideLayout" Target="../slideLayouts/slideLayout1074.xml"/><Relationship Id="rId10" Type="http://schemas.openxmlformats.org/officeDocument/2006/relationships/slideLayout" Target="../slideLayouts/slideLayout1075.xml"/><Relationship Id="rId11" Type="http://schemas.openxmlformats.org/officeDocument/2006/relationships/slideLayout" Target="../slideLayouts/slideLayout1076.xml"/><Relationship Id="rId12" Type="http://schemas.openxmlformats.org/officeDocument/2006/relationships/slideLayout" Target="../slideLayouts/slideLayout1077.xml"/><Relationship Id="rId13" Type="http://schemas.openxmlformats.org/officeDocument/2006/relationships/slideLayout" Target="../slideLayouts/slideLayout1078.xml"/><Relationship Id="rId14" Type="http://schemas.openxmlformats.org/officeDocument/2006/relationships/slideLayout" Target="../slideLayouts/slideLayout1079.xml"/><Relationship Id="rId15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81.xml"/><Relationship Id="rId5" Type="http://schemas.openxmlformats.org/officeDocument/2006/relationships/slideLayout" Target="../slideLayouts/slideLayout1082.xml"/><Relationship Id="rId6" Type="http://schemas.openxmlformats.org/officeDocument/2006/relationships/slideLayout" Target="../slideLayouts/slideLayout1083.xml"/><Relationship Id="rId7" Type="http://schemas.openxmlformats.org/officeDocument/2006/relationships/slideLayout" Target="../slideLayouts/slideLayout1084.xml"/><Relationship Id="rId8" Type="http://schemas.openxmlformats.org/officeDocument/2006/relationships/slideLayout" Target="../slideLayouts/slideLayout1085.xml"/><Relationship Id="rId9" Type="http://schemas.openxmlformats.org/officeDocument/2006/relationships/slideLayout" Target="../slideLayouts/slideLayout1086.xml"/><Relationship Id="rId10" Type="http://schemas.openxmlformats.org/officeDocument/2006/relationships/slideLayout" Target="../slideLayouts/slideLayout1087.xml"/><Relationship Id="rId11" Type="http://schemas.openxmlformats.org/officeDocument/2006/relationships/slideLayout" Target="../slideLayouts/slideLayout1088.xml"/><Relationship Id="rId12" Type="http://schemas.openxmlformats.org/officeDocument/2006/relationships/slideLayout" Target="../slideLayouts/slideLayout1089.xml"/><Relationship Id="rId13" Type="http://schemas.openxmlformats.org/officeDocument/2006/relationships/slideLayout" Target="../slideLayouts/slideLayout1090.xml"/><Relationship Id="rId14" Type="http://schemas.openxmlformats.org/officeDocument/2006/relationships/slideLayout" Target="../slideLayouts/slideLayout1091.xml"/><Relationship Id="rId15" Type="http://schemas.openxmlformats.org/officeDocument/2006/relationships/slideLayout" Target="../slideLayouts/slideLayout109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A84-67B9-4757-A413-83F74F9DA3A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39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E69E-A8CC-4BF1-86FB-21BFA3E8201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563-7167-4E4C-A280-973BBD1637F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FFE-7656-4DC3-8067-7ECA7ADF60F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2E5-ECA1-4CE6-8013-102316E795A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609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4EC-4A66-41C5-8292-74DE2BDA2A8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65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6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F259-B6B1-41FB-B8CC-EF59C05E122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0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AE30-D96D-4C6B-9BCB-322F3410113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75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16D6-09E7-47FF-A9B4-E81CDCE78F4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0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A49-EFD7-455C-B313-49819D4C4F4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9D5-686B-46AF-AB26-A52458360F3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5549-D84D-4416-89CE-2F76091A523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9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CADF-44E3-439D-97E4-CA49B6AEAE3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1D30-3EDA-4934-A083-CF774ED5C9E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0A3-A494-4BB0-A524-4433D7F0716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2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0CD-086E-4A8F-9E21-3787AEF8676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7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E34-6756-4653-B7FB-D4935096098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1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072-7EF4-407B-9CD3-93C32B53AEA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6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17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484C-564C-4476-AB32-EC3CCC9190C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1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A71-6288-49B7-80C6-F980E9A1658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26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459D-C269-46B8-BCF8-C5D5E21D9EA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1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2AF4-CE36-4E28-9EFB-33F9FD714DD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5DC-48FA-4FC8-BB90-9B1732B6E12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D03-9013-4E2E-94AE-FE38D95B1DC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776-AC97-49F7-9856-91CD4891F40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668-EE06-4568-A4D9-7D68209DD34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E67-3FD3-4162-8D96-75A8F07121C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3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EF6-5B8C-45D6-A538-F7647806A95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8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82EA-63BD-41EF-92C5-89A1E0ECD00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2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CD7-8F17-4884-8FA3-F9174F0C2A1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7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68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3F56-F520-4EE0-859C-8BBA83D55F9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72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F7EC-1567-4F5F-8E38-3B80CD4076E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77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9E11-4736-4680-B509-46C8E4D8B6B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0E6-5B5B-4177-BEDC-8A6F809CB60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82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7CA-B4BD-43AD-B442-4D4A722A864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987-FF83-4931-AEE2-7772E499111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1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907-3DEC-4EBC-8611-C40B529B8D6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2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2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2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A70-1933-428B-B4BD-53573E6B168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13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3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13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0659-112A-4FDF-9AB6-452EDB6A0C0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04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 type="dt" idx="13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 type="ftr" idx="13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 type="sldNum" idx="13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F19B-E234-4CC9-B5DA-637BB279079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9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3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3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3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226-6A1A-4FAE-A08E-459E74618B9D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1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dt" idx="13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 type="ftr" idx="14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 type="sldNum" idx="14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4A3F-C357-42D7-8770-C400653ACF8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18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19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4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4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4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3206-91C0-41FA-A735-5C8F94CF092C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 type="dt" idx="14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 type="ftr" idx="14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 type="sldNum" idx="14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D51-0528-405B-AA36-7FE3402B00DF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5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702-5291-457D-9381-5F0C83C86DB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28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 type="dt" idx="14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 type="ftr" idx="14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 type="sldNum" idx="15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E0C7-B339-4A6D-8E98-485E081E31B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3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dt" idx="15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 type="ftr" idx="15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 type="sldNum" idx="15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20F-D6D8-4A06-B69A-B8DBA8A5B5A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5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5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15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0295-3799-4920-8764-9E95449355A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2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 type="dt" idx="15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 type="ftr" idx="15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 type="sldNum" idx="15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D30-12A2-4840-BF41-C4BD3619205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 type="dt" idx="16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 type="ftr" idx="16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 type="sldNum" idx="16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0251-AA97-4500-A157-36C1EAB8EFE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dt" idx="16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 type="ftr" idx="16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 type="sldNum" idx="16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AB5-74EA-46D1-A446-F78A87E5177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55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6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6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6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6B9-E6EB-4A2A-A436-C3C29DB135E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0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 type="dt" idx="16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 type="ftr" idx="17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 type="sldNum" idx="17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0DC-B916-43EC-822D-B79C2D45E2C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4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 type="dt" idx="17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 type="ftr" idx="17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 type="sldNum" idx="17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E00-92B3-4391-93CB-0053E6A2EDA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9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70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 type="dt" idx="17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 type="ftr" idx="17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5"/>
          <p:cNvSpPr>
            <a:spLocks noGrp="1"/>
          </p:cNvSpPr>
          <p:nvPr>
            <p:ph type="sldNum" idx="17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0A3-D6D4-4D6A-8A6F-EC1EEA8E6D5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29E5-1033-4141-AC80-C19163AB2DA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74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 type="dt" idx="17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 type="ftr" idx="17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 type="sldNum" idx="18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22D-AE48-49E9-95D4-5EF26EF6C29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79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 type="dt" idx="18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 type="ftr" idx="18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 type="sldNum" idx="18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689-D217-4539-932C-72F4FB941AF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4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dt" idx="18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ftr" idx="18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 type="sldNum" idx="18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304-5B75-4082-AE77-13F6E326B6E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 type="dt" idx="18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 type="ftr" idx="18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 type="sldNum" idx="18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4127-DC71-4105-B6D3-3A15C1BDDA6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93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 type="dt" idx="19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 type="ftr" idx="19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5"/>
          <p:cNvSpPr>
            <a:spLocks noGrp="1"/>
          </p:cNvSpPr>
          <p:nvPr>
            <p:ph type="sldNum" idx="19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473-37CD-49D3-9316-8D1439808CE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 type="dt" idx="19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 type="ftr" idx="19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 type="sldNum" idx="19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200-23C1-4C2A-B42B-1000776ED84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 type="dt" idx="19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 type="ftr" idx="19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 type="sldNum" idx="19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9EF-E44B-4253-B7C0-0A0DC615E7A3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06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 type="dt" idx="19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 type="ftr" idx="20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 type="sldNum" idx="20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008-5CD2-47F0-9BAE-55EECE4F9DA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11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 type="dt" idx="20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 type="ftr" idx="20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5"/>
          <p:cNvSpPr>
            <a:spLocks noGrp="1"/>
          </p:cNvSpPr>
          <p:nvPr>
            <p:ph type="sldNum" idx="20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7D45-A6B0-4865-85CE-85B28C11976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15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 type="dt" idx="20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 type="ftr" idx="20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 type="sldNum" idx="20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743D-8787-4C19-9AC0-537C7179BC5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9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8860-F7AE-4814-9D43-B09F52A7D2D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0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21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 type="dt" idx="20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 type="ftr" idx="20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 type="sldNum" idx="21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A718-2EB6-4525-A9A7-7E16D3A9AF5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5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21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2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5"/>
          <p:cNvSpPr>
            <a:spLocks noGrp="1"/>
          </p:cNvSpPr>
          <p:nvPr>
            <p:ph type="sldNum" idx="2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8B78-419C-410B-A6FF-8385A32903C7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330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 type="dt" idx="21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 type="ftr" idx="2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5"/>
          <p:cNvSpPr>
            <a:spLocks noGrp="1"/>
          </p:cNvSpPr>
          <p:nvPr>
            <p:ph type="sldNum" idx="2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CAB7-B76F-4781-9F5B-017482992AB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35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 type="dt" idx="21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 type="ftr" idx="2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5"/>
          <p:cNvSpPr>
            <a:spLocks noGrp="1"/>
          </p:cNvSpPr>
          <p:nvPr>
            <p:ph type="sldNum" idx="2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4598-43B1-4144-A165-60190D4CC3D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 type="dt" idx="22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 type="ftr" idx="2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5"/>
          <p:cNvSpPr>
            <a:spLocks noGrp="1"/>
          </p:cNvSpPr>
          <p:nvPr>
            <p:ph type="sldNum" idx="2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F93-FE54-4965-80F4-7046B5E5CB2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44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 type="dt" idx="22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 type="ftr" idx="22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 type="sldNum" idx="22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A5B-7C97-4DBE-AEF9-3D1259C7E74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 type="dt" idx="22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 type="ftr" idx="22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5"/>
          <p:cNvSpPr>
            <a:spLocks noGrp="1"/>
          </p:cNvSpPr>
          <p:nvPr>
            <p:ph type="sldNum" idx="22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6E60-C450-483C-BAE7-4BCC018889E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 type="dt" idx="22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 type="ftr" idx="23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5"/>
          <p:cNvSpPr>
            <a:spLocks noGrp="1"/>
          </p:cNvSpPr>
          <p:nvPr>
            <p:ph type="sldNum" idx="23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84D-212B-4BE1-9361-D3F49D20A3A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9" name="PlaceHolder 3"/>
          <p:cNvSpPr>
            <a:spLocks noGrp="1"/>
          </p:cNvSpPr>
          <p:nvPr>
            <p:ph type="dt" idx="23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4"/>
          <p:cNvSpPr>
            <a:spLocks noGrp="1"/>
          </p:cNvSpPr>
          <p:nvPr>
            <p:ph type="ftr" idx="23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5"/>
          <p:cNvSpPr>
            <a:spLocks noGrp="1"/>
          </p:cNvSpPr>
          <p:nvPr>
            <p:ph type="sldNum" idx="23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C54E-AA84-4C1E-8530-5F0FAB854E4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2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 type="dt" idx="23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 type="ftr" idx="23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 type="sldNum" idx="23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CAA-DA39-414C-942C-019F1C93029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3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DE7-E4AA-44CB-BA31-B34B2F36FF6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6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 type="dt" idx="23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 type="ftr" idx="23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5"/>
          <p:cNvSpPr>
            <a:spLocks noGrp="1"/>
          </p:cNvSpPr>
          <p:nvPr>
            <p:ph type="sldNum" idx="24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F7C4-BDF9-475C-AFBB-33E10C4FA41B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71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2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dt" idx="24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 type="ftr" idx="24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 type="sldNum" idx="24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2F9D-A1CB-48C1-BEFB-A7CF1221B799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5"/>
    <p:sldLayoutId id="2147484690" r:id="rId6"/>
    <p:sldLayoutId id="2147484691" r:id="rId7"/>
    <p:sldLayoutId id="2147484692" r:id="rId8"/>
    <p:sldLayoutId id="2147484693" r:id="rId9"/>
    <p:sldLayoutId id="2147484694" r:id="rId10"/>
    <p:sldLayoutId id="2147484695" r:id="rId11"/>
    <p:sldLayoutId id="2147484696" r:id="rId12"/>
    <p:sldLayoutId id="2147484697" r:id="rId13"/>
    <p:sldLayoutId id="2147484698" r:id="rId14"/>
    <p:sldLayoutId id="2147484699" r:id="rId15"/>
    <p:sldLayoutId id="2147484700" r:id="rId16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76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 type="dt" idx="24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4"/>
          <p:cNvSpPr>
            <a:spLocks noGrp="1"/>
          </p:cNvSpPr>
          <p:nvPr>
            <p:ph type="ftr" idx="24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5"/>
          <p:cNvSpPr>
            <a:spLocks noGrp="1"/>
          </p:cNvSpPr>
          <p:nvPr>
            <p:ph type="sldNum" idx="24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D1EB-E0CC-410B-9EB1-0278BF3369E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6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3817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 type="dt" idx="24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 type="ftr" idx="24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 type="sldNum" idx="24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3B5-FA5F-4972-B513-2A02AF2FDB0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3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864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6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 type="dt" idx="25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 type="ftr" idx="25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 type="sldNum" idx="25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2A3-ECE2-4B8A-9AC8-4BECC310DCD8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 type="dt" idx="25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 type="ftr" idx="25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 type="sldNum" idx="25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8F9-7821-4078-97C9-6D8E12831CAE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95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 type="dt" idx="25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 type="ftr" idx="25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5"/>
          <p:cNvSpPr>
            <a:spLocks noGrp="1"/>
          </p:cNvSpPr>
          <p:nvPr>
            <p:ph type="sldNum" idx="25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3BD-C407-4126-8F5C-042DE6E72C02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4"/>
    <p:sldLayoutId id="2147484755" r:id="rId5"/>
    <p:sldLayoutId id="2147484756" r:id="rId6"/>
    <p:sldLayoutId id="2147484757" r:id="rId7"/>
    <p:sldLayoutId id="2147484758" r:id="rId8"/>
    <p:sldLayoutId id="2147484759" r:id="rId9"/>
    <p:sldLayoutId id="2147484760" r:id="rId10"/>
    <p:sldLayoutId id="2147484761" r:id="rId11"/>
    <p:sldLayoutId id="2147484762" r:id="rId12"/>
    <p:sldLayoutId id="2147484763" r:id="rId13"/>
    <p:sldLayoutId id="2147484764" r:id="rId14"/>
    <p:sldLayoutId id="2147484765" r:id="rId15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3"/>
          <p:cNvSpPr>
            <a:spLocks noGrp="1"/>
          </p:cNvSpPr>
          <p:nvPr>
            <p:ph type="dt" idx="25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4"/>
          <p:cNvSpPr>
            <a:spLocks noGrp="1"/>
          </p:cNvSpPr>
          <p:nvPr>
            <p:ph type="ftr" idx="26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5"/>
          <p:cNvSpPr>
            <a:spLocks noGrp="1"/>
          </p:cNvSpPr>
          <p:nvPr>
            <p:ph type="sldNum" idx="26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BC8-E855-4613-95FA-E734BFA2EFD4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3" name="PlaceHolder 3"/>
          <p:cNvSpPr>
            <a:spLocks noGrp="1"/>
          </p:cNvSpPr>
          <p:nvPr>
            <p:ph type="dt" idx="26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4"/>
          <p:cNvSpPr>
            <a:spLocks noGrp="1"/>
          </p:cNvSpPr>
          <p:nvPr>
            <p:ph type="ftr" idx="26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5"/>
          <p:cNvSpPr>
            <a:spLocks noGrp="1"/>
          </p:cNvSpPr>
          <p:nvPr>
            <p:ph type="sldNum" idx="26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AD4-ED9C-4DE4-8843-699BDE6D4CBA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08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b6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c9e1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 type="dt" idx="26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4"/>
          <p:cNvSpPr>
            <a:spLocks noGrp="1"/>
          </p:cNvSpPr>
          <p:nvPr>
            <p:ph type="ftr" idx="26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PlaceHolder 5"/>
          <p:cNvSpPr>
            <a:spLocks noGrp="1"/>
          </p:cNvSpPr>
          <p:nvPr>
            <p:ph type="sldNum" idx="26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B02-0DBB-4BC0-B8AA-90D71AB12840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4"/>
    <p:sldLayoutId id="2147484794" r:id="rId5"/>
    <p:sldLayoutId id="2147484795" r:id="rId6"/>
    <p:sldLayoutId id="2147484796" r:id="rId7"/>
    <p:sldLayoutId id="2147484797" r:id="rId8"/>
    <p:sldLayoutId id="2147484798" r:id="rId9"/>
    <p:sldLayoutId id="2147484799" r:id="rId10"/>
    <p:sldLayoutId id="2147484800" r:id="rId11"/>
    <p:sldLayoutId id="2147484801" r:id="rId12"/>
    <p:sldLayoutId id="2147484802" r:id="rId13"/>
    <p:sldLayoutId id="2147484803" r:id="rId14"/>
    <p:sldLayoutId id="2147484804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87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92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e849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720-857C-4116-9F33-ABBF1C5C02A5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3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6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6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7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3D0C-C19C-43F4-840D-18C1C3934E31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4"/>
    <p:sldLayoutId id="2147484807" r:id="rId5"/>
    <p:sldLayoutId id="2147484808" r:id="rId6"/>
    <p:sldLayoutId id="2147484809" r:id="rId7"/>
    <p:sldLayoutId id="2147484810" r:id="rId8"/>
    <p:sldLayoutId id="2147484811" r:id="rId9"/>
    <p:sldLayoutId id="2147484812" r:id="rId10"/>
    <p:sldLayoutId id="2147484813" r:id="rId11"/>
    <p:sldLayoutId id="2147484814" r:id="rId12"/>
    <p:sldLayoutId id="2147484815" r:id="rId13"/>
    <p:sldLayoutId id="2147484816" r:id="rId14"/>
    <p:sldLayoutId id="2147484817" r:id="rId15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1e1">
              <a:alpha val="33000"/>
            </a:srgbClr>
          </a:solidFill>
          <a:ln cap="rnd" w="3240">
            <a:solidFill>
              <a:srgbClr val="ffa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da94"/>
            </a:solidFill>
            <a:miter/>
          </a:ln>
          <a:effectLst>
            <a:outerShdw dist="12600" dir="5400000" blurRad="0" rotWithShape="0">
              <a:srgbClr val="c57f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8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9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1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4c0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e212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7e97a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cc8e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7a6a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b493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 type="dt" idx="27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 type="ftr" idx="27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PlaceHolder 5"/>
          <p:cNvSpPr>
            <a:spLocks noGrp="1"/>
          </p:cNvSpPr>
          <p:nvPr>
            <p:ph type="sldNum" idx="27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88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882-547F-42C0-8C9F-86F545607956}" type="slidenum">
              <a:rPr b="0" lang="ar-SA" sz="1200" spc="-1" strike="noStrike">
                <a:solidFill>
                  <a:srgbClr val="e88b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4"/>
    <p:sldLayoutId id="2147484820" r:id="rId5"/>
    <p:sldLayoutId id="2147484821" r:id="rId6"/>
    <p:sldLayoutId id="2147484822" r:id="rId7"/>
    <p:sldLayoutId id="2147484823" r:id="rId8"/>
    <p:sldLayoutId id="2147484824" r:id="rId9"/>
    <p:sldLayoutId id="2147484825" r:id="rId10"/>
    <p:sldLayoutId id="2147484826" r:id="rId11"/>
    <p:sldLayoutId id="2147484827" r:id="rId12"/>
    <p:sldLayoutId id="2147484828" r:id="rId13"/>
    <p:sldLayoutId id="2147484829" r:id="rId14"/>
    <p:sldLayoutId id="214748483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137160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ffc000"/>
                </a:solidFill>
                <a:latin typeface="Gill Sans MT"/>
              </a:rPr>
              <a:t>التعريف بالأمراض وطرق علاجها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المناعة الصناعية الإيجابية:</a:t>
            </a:r>
            <a:br>
              <a:rPr sz="3900"/>
            </a:br>
            <a:r>
              <a:rPr b="0" lang="ar-SA" sz="3900" spc="-1" strike="noStrike">
                <a:solidFill>
                  <a:srgbClr val="1e2124"/>
                </a:solidFill>
                <a:latin typeface="Gill Sans MT"/>
              </a:rPr>
              <a:t>يكتسبها الانسان نتيجة للتطعيمات التي يتلقاها.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"/>
          <p:cNvSpPr txBox="1"/>
          <p:nvPr/>
        </p:nvSpPr>
        <p:spPr>
          <a:xfrm>
            <a:off x="971280" y="836640"/>
            <a:ext cx="7581960" cy="34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المناعة الصناعية السلبية:</a:t>
            </a:r>
            <a:br>
              <a:rPr sz="3900"/>
            </a:br>
            <a:r>
              <a:rPr b="0" lang="ar-SA" sz="3900" spc="-1" strike="noStrike">
                <a:solidFill>
                  <a:srgbClr val="1e2124"/>
                </a:solidFill>
                <a:latin typeface="Gill Sans MT"/>
              </a:rPr>
              <a:t>تتم عن طريق نقل الأجسام المضادة ذاتها إلى جسم الانسان المعرض للعدوى, مما يؤدي الى توافر مناعة سريعة للمرض ولكنها قصيرة المدى.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248436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أنماط انتشار الأمراض المعدية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إصابات الفردية: أي تواجد المرض بصورة محدودة وبمعدل شبه ثابت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وباء: وهو انتشار العدوى بصورة مفاجئة وحاد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وباء العالمي: وهو انتشار المرض في العديد من البلاد في وقت واح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مرض المتواطن: وهو المرض الموجود بصفة مستمرة في منطقة محدودة وبمعدل عالي وذلك لتوافر أسباب استمراره, مثل مرض البهارسيا في مص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أنواع حامل المرض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حاضن: كمرض الإيد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ناقل: كمرض التيفو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حامل المرض المخالط: وهو عندما تتغلب مناعة الانسان على المر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 ويقوم الجسم بطرد الميكروبات للخارج مما يسبب عدوى ويتميز بعدم ظهور أعراض المرض لدي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"/>
          <p:cNvSpPr txBox="1"/>
          <p:nvPr/>
        </p:nvSpPr>
        <p:spPr>
          <a:xfrm>
            <a:off x="900000" y="1125000"/>
            <a:ext cx="808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كيفية انتشار العدوى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هاز التنفسي: مرض الحصب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هاز الهضمي: الكوليرا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دم: كمرض الايد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بول: كالبلهارسيا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جلد: كالجرب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2556000" y="764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1e2124"/>
                </a:solidFill>
                <a:uFillTx/>
                <a:latin typeface="Gill Sans MT"/>
              </a:rPr>
              <a:t>وسائل انتقال العدوى:</a:t>
            </a:r>
            <a:br>
              <a:rPr sz="3900"/>
            </a:br>
            <a:endParaRPr b="0" lang="en-US" sz="39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رذا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طعام والشراب الملوث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دوى عن طريق الملامس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دوى عن طريق الحشرات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مكافحة الأمراض المعدية: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عزل المريض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بليغ بالحالات المصابة بالأمراض المعدي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علاج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طهير المستم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مكافحة الحيوان كمصدر للعدوى: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رعاية البيطرية المستمر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ذبح الحيوانات في مذابح مجهز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بعاد اماكن تربية الحيوان عن المساكن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عدام الحيوانات المريض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تعقيم اللبن قبل تناوله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"/>
          <p:cNvSpPr txBox="1"/>
          <p:nvPr/>
        </p:nvSpPr>
        <p:spPr>
          <a:xfrm>
            <a:off x="971640" y="549000"/>
            <a:ext cx="7921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الأمراض المعد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هي الأمراض التي تنتج عن تعرض الانسان للإصابة بالكائنات الحية وهي بطبيعتها قابلة للانتقال من انسان لآخ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"/>
          <p:cNvSpPr txBox="1"/>
          <p:nvPr/>
        </p:nvSpPr>
        <p:spPr>
          <a:xfrm>
            <a:off x="1186920" y="404280"/>
            <a:ext cx="7788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1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000000"/>
                </a:solidFill>
                <a:uFillTx/>
                <a:latin typeface="Gill Sans MT"/>
              </a:rPr>
              <a:t>عندما يتعرض جسم الإنسان للعدوى يبدأ الصراع بينها وتتوقف نتائجه على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حجم العدوى وقوة المكروب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قدرة الجسم على المقاومة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اذا تغلبت الميكروبات ظهر المرض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قد يستطيع الجسم التغلب على العدوى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71280"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Gill Sans MT"/>
              </a:rPr>
              <a:t>اذا عجز الجسم عن التخلص من مسبب المرض, قد تستقر العدوى وتبقى في حالة كمون واذا ضعف الجسم نشطت.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 u="sng">
                <a:solidFill>
                  <a:srgbClr val="1e2124"/>
                </a:solidFill>
                <a:uFillTx/>
                <a:latin typeface="Gill Sans MT"/>
              </a:rPr>
              <a:t>مسببات الأمرض:</a:t>
            </a:r>
            <a:endParaRPr b="0" lang="en-US" sz="35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28" name=""/>
          <p:cNvSpPr txBox="1"/>
          <p:nvPr/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الميكروبات وتشمل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أ. البكتر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ب. الفيروسات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.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الطفيليات وتشمل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أ. الطفيليات وحيدة الخلية كالملار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ب. طفيليات متعددة الخلية كالبلهارسيا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 u="sng">
                <a:solidFill>
                  <a:srgbClr val="1e2124"/>
                </a:solidFill>
                <a:uFillTx/>
                <a:latin typeface="Gill Sans MT"/>
              </a:rPr>
              <a:t>العوامل التي تشجع على انتشار الأمراض المعدية:</a:t>
            </a:r>
            <a:br>
              <a:rPr sz="3900"/>
            </a:br>
            <a:endParaRPr b="0" lang="en-US" sz="35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0" name=""/>
          <p:cNvSpPr txBox="1"/>
          <p:nvPr/>
        </p:nvSpPr>
        <p:spPr>
          <a:xfrm>
            <a:off x="106632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بيئة غير الصحي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عف الوعي الصحي وانتشار العادات الصحية السيئ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r" rtl="1"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ضعف الامكانيات الصحية المتوافرة بالبيئة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ومقاومة الأمراض المعدية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مناعة العامة: التي تقي الجسم من الإصابة بأي من الأمراض المعدي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وتشمل الحواجز الطبيعية التي تمنع مسببات الأمراض من الدخول الى جسم الانسان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جلد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أغشية المخاطي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عطس والكح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حمض الهيدروكلوريك في المعد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الدموع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كرات الدم البيضاء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 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. المناعة الخاص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التي تعمل على وقاية الجسم من مرض معين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وتنقسم إلى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أ. مناعة طبيعية (ايجابية وسلبية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ب. مناعة صناعية (ايجابية وسلبية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 u="sng">
                <a:solidFill>
                  <a:srgbClr val="1e2124"/>
                </a:solidFill>
                <a:uFillTx/>
                <a:latin typeface="Gill Sans MT"/>
              </a:rPr>
              <a:t> </a:t>
            </a:r>
            <a:endParaRPr b="0" lang="en-US" sz="4300" spc="-1" strike="noStrike">
              <a:solidFill>
                <a:srgbClr val="1e2124"/>
              </a:solidFill>
              <a:latin typeface="Gill Sans MT"/>
            </a:endParaRPr>
          </a:p>
        </p:txBody>
      </p:sp>
      <p:sp>
        <p:nvSpPr>
          <p:cNvPr id="4235" name=""/>
          <p:cNvSpPr txBox="1"/>
          <p:nvPr/>
        </p:nvSpPr>
        <p:spPr>
          <a:xfrm>
            <a:off x="1116000" y="980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الطبيعية الإيجابية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تحدث ندما يقوم الجسم بإفراز الأجسام المضادة استجابة للتعرض للعدوى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وبعض الأمراض تؤدي إلى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دائمة: أي لا يحدث المرض مرة أخرى كالحمى الصفراء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طويلة: تستمر لفترات طويلة ويندر تكرر المرض كالحصبة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متوسطة: تمتد لأعوام ثم تنخفض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</a:rPr>
              <a:t>مناعة ضعيفة: لا تقي من تكرار المرض كالانفلونزا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"/>
          <p:cNvSpPr txBox="1"/>
          <p:nvPr/>
        </p:nvSpPr>
        <p:spPr>
          <a:xfrm>
            <a:off x="1447560" y="10663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المناعة الطبيعية السلب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Gill Sans MT"/>
              </a:rPr>
              <a:t>يكتسبها الجنين من أمه وهي مناعة مؤقتة تستمر حوالي ستة أشهر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r" rtl="1">
              <a:spcBef>
                <a:spcPts val="601"/>
              </a:spcBef>
              <a:buClr>
                <a:srgbClr val="7e97a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4:54:44Z</dcterms:created>
  <dc:creator>areej</dc:creator>
  <dc:description/>
  <dc:language>en-US</dc:language>
  <cp:lastModifiedBy>Lama Aljathlan</cp:lastModifiedBy>
  <dcterms:modified xsi:type="dcterms:W3CDTF">2017-04-19T08:14:54Z</dcterms:modified>
  <cp:revision>32</cp:revision>
  <dc:subject/>
  <dc:title>الشريحة 1</dc:title>
</cp:coreProperties>
</file>