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</p:sldMasterIdLst>
  <p:sldIdLst>
    <p:sldId id="256" r:id="rId93"/>
    <p:sldId id="257" r:id="rId94"/>
    <p:sldId id="258" r:id="rId95"/>
    <p:sldId id="259" r:id="rId96"/>
    <p:sldId id="260" r:id="rId97"/>
    <p:sldId id="261" r:id="rId98"/>
    <p:sldId id="262" r:id="rId99"/>
    <p:sldId id="263" r:id="rId100"/>
    <p:sldId id="264" r:id="rId101"/>
    <p:sldId id="265" r:id="rId102"/>
    <p:sldId id="266" r:id="rId103"/>
    <p:sldId id="267" r:id="rId104"/>
    <p:sldId id="268" r:id="rId105"/>
    <p:sldId id="269" r:id="rId106"/>
    <p:sldId id="270" r:id="rId107"/>
    <p:sldId id="271" r:id="rId108"/>
    <p:sldId id="272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" Target="slides/slide1.xml"/><Relationship Id="rId94" Type="http://schemas.openxmlformats.org/officeDocument/2006/relationships/slide" Target="slides/slide2.xml"/><Relationship Id="rId95" Type="http://schemas.openxmlformats.org/officeDocument/2006/relationships/slide" Target="slides/slide3.xml"/><Relationship Id="rId96" Type="http://schemas.openxmlformats.org/officeDocument/2006/relationships/slide" Target="slides/slide4.xml"/><Relationship Id="rId97" Type="http://schemas.openxmlformats.org/officeDocument/2006/relationships/slide" Target="slides/slide5.xml"/><Relationship Id="rId98" Type="http://schemas.openxmlformats.org/officeDocument/2006/relationships/slide" Target="slides/slide6.xml"/><Relationship Id="rId99" Type="http://schemas.openxmlformats.org/officeDocument/2006/relationships/slide" Target="slides/slide7.xml"/><Relationship Id="rId100" Type="http://schemas.openxmlformats.org/officeDocument/2006/relationships/slide" Target="slides/slide8.xml"/><Relationship Id="rId101" Type="http://schemas.openxmlformats.org/officeDocument/2006/relationships/slide" Target="slides/slide9.xml"/><Relationship Id="rId102" Type="http://schemas.openxmlformats.org/officeDocument/2006/relationships/slide" Target="slides/slide10.xml"/><Relationship Id="rId103" Type="http://schemas.openxmlformats.org/officeDocument/2006/relationships/slide" Target="slides/slide11.xml"/><Relationship Id="rId104" Type="http://schemas.openxmlformats.org/officeDocument/2006/relationships/slide" Target="slides/slide12.xml"/><Relationship Id="rId105" Type="http://schemas.openxmlformats.org/officeDocument/2006/relationships/slide" Target="slides/slide13.xml"/><Relationship Id="rId106" Type="http://schemas.openxmlformats.org/officeDocument/2006/relationships/slide" Target="slides/slide14.xml"/><Relationship Id="rId107" Type="http://schemas.openxmlformats.org/officeDocument/2006/relationships/slide" Target="slides/slide15.xml"/><Relationship Id="rId108" Type="http://schemas.openxmlformats.org/officeDocument/2006/relationships/slide" Target="slides/slide16.xml"/><Relationship Id="rId109" Type="http://schemas.openxmlformats.org/officeDocument/2006/relationships/slide" Target="slides/slide1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917-BD45-4DA6-80A0-E7F73769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8E7-0A64-4FCC-833C-750C281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48E44-4374-422C-817C-01C771E5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C49ED6A-AB56-4EF8-BCA5-2FAC7139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2C0A3EF-83CF-44B0-A4A6-EB7DE57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BF7A5F8-195E-4EF3-87D8-EA37C45F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9B66994-4497-4391-88AD-7302115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094B813-0935-4674-9F66-63281FC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DAA0D82-D9DD-4655-B161-0EB7D22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9AB9E7F-4C43-4667-8C51-4CF61B0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7407B2C-D58E-48C9-9126-C96D885F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43D41D5-F12E-45B8-B8D6-BBF8D261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FE5FE6F-7C8A-4608-8E5D-B792A422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C815C-79F9-4DD2-9BC9-776CB777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C4BB5D0-E7A3-4633-B1F8-2E7865AE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EC41AB6-92EC-4160-98DC-CDF14FEF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D468609-1AF9-492E-AAFD-C317A11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CED85D6-DF7B-448D-ABD7-A3D76D2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6F77809-7D38-4C3B-93C6-AA1FAB64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6B52DBF-D084-4690-9CE0-7C4E38F0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5EFB43C-0ECE-4F0E-89D3-0BA754C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D520030-BCB3-48EA-A6A7-BB0A916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88E2DF0-AB6D-44C7-8501-A20E4331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A01DB7B-5971-43DB-8BBF-0F72B0E4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FB141-57CA-4E9D-923A-9A045CF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448E33A-B2D9-421C-AE78-69EDE1C9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BD5B003-65E4-4F83-B52D-C6912721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0BC0A7A-6F91-4958-A39E-9F4F7E38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E7FBD53-F63A-4FE0-AD1A-F0E4CF8B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6B3F190-3FB9-4D54-A197-066C29BD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13BD046-A8E8-4E79-B3FA-57F5D3D9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D8D6B29-6806-47FF-B290-A0F164B5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8481CCB-D333-44EB-A2F5-5CA8F0A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8D83C41-05B2-4CBD-A618-E0F685E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C8E770D-D73A-4275-AFD2-60A98AC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319AF-5939-4119-A6A9-B47AD4D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678080C-3323-429B-BEAF-949A0A79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2E0C37F-3DF1-412F-AD03-54E67B1B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55D35F7-3F65-4F84-A2E5-8C8B55DD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99B8DC7-0CAF-4BA5-8279-43ADF9E2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010DAD6-08F7-4EF8-B060-740076AA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4004003-241A-481B-8FB6-EB4D75F1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61CC2AE-B04B-4EB8-A921-98D8AE1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7BBEC7B-A319-4801-AEEE-B2772AD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1D2DC48-E11D-4B12-A405-C442E0DE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B21AAA7-DE75-4BAD-B7AC-0BB6846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DF314-AE6D-4C52-BF8C-B33F559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EA88786-A033-46EC-BDB5-4CC31EE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43E7333-9340-440E-9D1A-7971707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201BFB3-9882-4DED-AF2D-62057E5B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EBF8238-FDA2-4B3D-87E2-00C52B7F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10AF200-A4A7-47CC-BB01-22F11F30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FACF27D-A2D4-4D25-9DF9-02201D76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FD8B27E-F5E6-404C-90BD-3FD673DF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7C2F995-FAA5-424C-9BEC-E398292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948FDC0-6F21-4EDA-8BFC-1E181A7D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48CC89F-4660-4F8B-9A0C-1E592AE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DF047-906F-49DF-A7C5-FFEF8CF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DEA982B-793E-429F-9336-9A7712C8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6ACA46D-A1F5-462D-B5F9-D448157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988226A-1EB3-4CA7-AAB8-4D893A4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67904F0-D54D-4DF9-8BF8-834F605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B2A9A82-8DE0-4A5A-A22F-5D7489CA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03F9397-D671-4392-B5E7-2C2E5BF2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B7A70CD-DC64-47CC-96A6-FECAC30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43121C5-8247-41D4-ACF0-0F413A69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EE4F9DF-7970-47BF-A7A7-18258F0A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4C17819-66DB-43FA-B473-18DB9C3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5242A-4646-48B9-BF97-BB9AE99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3B9B0EB-7042-4EE7-B287-BA25E8A0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67B69B7-C70A-4E21-8CC7-8AD7740B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B40C0AC-8103-4CB8-B335-EB519F9E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620C51D-DD6B-45E5-8C3F-8C6A939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349068E-9288-4E19-A529-E22ADF9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15ED9F3-1B0D-4C77-8CC0-8A176D5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E562C01-A8C2-43C7-ADE3-F1388930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EEAB75E-769B-4D7A-85A1-4DF94168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521438C-B877-41B7-9A2C-381287EC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2E55C30-C41C-4AE0-BC35-C1E6E413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6DDE0-773D-4ECE-B946-E0CD690D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55BBAB4-689F-47A0-A27A-F4AE1BD5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25DCA6A-6BCC-4FC7-8AF2-3FBD53B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4546F70-086A-43DE-B0BE-9249D72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8AFDE1C-BE1F-4B76-B898-AF3E95B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199B162-86F3-461D-97DF-6FADC755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D2F3DDB-8E14-492E-9F00-5EB5971A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C761E39-2B1F-4E12-9224-5F7874B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7895C56-B243-460B-917E-2339C4EB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40459D3-89C8-4BA4-91B9-59787BDC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53642FF-577E-4ACF-837B-EE9B2324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BF4A6-9352-41CD-9D6B-CDB67DD3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6031D84-2BA6-4F17-8FC6-ED5DFA10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CDCC552-1A02-484D-AF4A-09191204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902FC14-9BEE-4862-8E2F-D8220BC5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C199FE6-1244-4FBD-AC81-F3434FC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39006E4-1174-40DA-8385-D0F231F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5DA893D-4AE2-46C0-AF23-873AF1A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810D22B-4ED0-4637-87BE-9B8CF35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7C99F01-75E7-4881-BDB1-A5981B0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9215650-1A64-42D9-B0D3-BB1F570F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5F07F17-28D4-4A9C-B5AA-B643F75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6C11F-E7A4-423F-B2A2-DCC17B7B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3644BD7-364B-4502-89E0-2722BCC4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4303B75-2BEB-4240-8393-A35F1954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300C9D5-2381-43C2-B47B-527A1502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9D2-8BD4-49E3-83E4-4EAE5C69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DCED0-2BB7-4854-879C-5D4C415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0B4A-A80F-4827-AB66-6A60330C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28BDF-C745-4762-BD9D-C8B89292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F9240-B28F-4C32-AB80-30B23D05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0B201-D724-4575-8FAC-2B5B1D9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F375C-DAB9-4D05-ACF9-5435BF1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1ADB4-B110-4DCB-B281-0122E89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2A9D4-67F3-4BC8-938D-7E1F01F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728F7-F71D-4CD8-A788-357ADAFE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7DB05-3C89-462A-A1FF-7A10D187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1C7-3E36-4D0F-822D-230B09F4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0F949-FF27-4BC9-9551-6FB863AC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B1174-14AD-4EE9-B615-0EFADB78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740A1-F85E-4E34-A9C0-4DA1AED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36FE-FD2F-49BE-9519-BF2C1668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79180-9518-429E-8A3E-1901DAD8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08119-27DA-4D31-9302-C299BEB5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65ABD-3BFE-4137-B8B8-1A47800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94EC9-7276-484F-9FA8-7FBCC9D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EE1C2-D09D-4DFA-AF1D-5A8C4B4E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4B7D6-B07D-4E29-AEA0-9EFB3F2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5C0E-FB95-4198-B5A5-2E7EE5F6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051CD-A36E-4463-9850-6B11536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98030-8859-4464-BE71-2FCA8BC2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C5D06-D230-4ABF-BC6C-F13CE7B5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3134C-E224-4D61-923E-3518670B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71847-34EF-46FC-9700-83AF4D0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B24F3-6073-48E4-BFFD-F81DCFA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4B788-50B3-43C2-A478-61BA3007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3415B-ED3C-4FF3-AF3B-DB6EDB2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94042-D520-4C62-B561-471D604E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9ADAF-5A5D-4738-B26B-9946759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49F8-B82A-4CBB-9B25-180F7243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C4451-9F5E-40CF-84E2-BAE1D7E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9AD56-8339-4ABD-B539-B313C45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B98F4-9880-4F5B-B88B-91F0893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E5DCE-78F6-42A5-AD99-3DBF3C8F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2AD47-2170-4B93-9D8D-2382A8FF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C4F02-BB16-4D10-A8F5-496769E1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3B57A-F2D2-4B02-95DC-8F222BA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263B2-A057-4A0D-AF23-4295F81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24C2F-6F09-4F7E-88B6-A243436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BF2B9-AB6C-44C6-80AA-82601BE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086A-682C-4978-B6AA-9D8376A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C2FA4-EB15-4093-900A-09EA6BD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95E54-AEB8-418B-B0EB-B7CD07F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C553F-3294-49E4-91F7-0FA341C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C6A66-EF13-4876-9A8D-C9D059F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8C5CE-C949-47D8-AACF-5E03F6C3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87FAB-4B89-4590-B63B-0887CA5E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A7E43-69A0-4C33-8A0D-2F6FDAB4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3343D-3A65-4BD4-B818-024BF9DA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0E07D-4B53-41CB-B76B-EA5489EE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AB81A-8586-4F3D-B5FD-7001FA0C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5C59-A1B1-420E-BE72-7588D71A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5CE26-5F7A-4AA7-BBA4-5C382CE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0CF56-2BC1-4B61-AA1A-C2B3CFA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75B98-DADE-4E6D-8209-5D41F5BD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0608E-1B0D-4BD7-A7DF-2F0856B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B18DC-7C64-4458-A5DA-640893E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CD748-D5C8-4EE2-91CF-70902B0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995DE-3F87-41A2-A8DD-CC4202C8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82B70-2FDC-4FB8-9C6F-76EFFA06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4952F-3D15-4B1B-962F-0AB40E67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EBEF6-0F62-4B35-8E2B-37584BF1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058B-4F9B-46C1-9CDA-39B0657F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96212-BA52-493B-A262-368CBFB9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94787-7DEF-496C-8C2B-13C677E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D7C32-B9DA-4162-A6C8-91719BF2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A8A0F-F43A-4C5D-83A5-495900D2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CC751-448F-46C9-8AA5-5917C5B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E0F12-F043-4509-8465-8A0DABE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7C918-72F8-4652-82E2-9C7F832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31F99-9CBE-42BA-842B-55A79E8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35D7E-9ECB-4E2D-8B57-21A25C37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F3F95-E605-44CC-BEB7-D583FEF4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918-51F3-421E-AF6B-ABA372A0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04D5D-25C6-4C73-B16B-1CD09CE0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0E424-C42F-4139-894B-AEA683E9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89BAE-CEB0-4FDC-A83E-7974A92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FE204-D4C3-4361-9EF2-81C6CFA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5887F-6567-4264-874D-5921613A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61990-A64E-438F-9860-F738771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1B33F-BFA2-4DC4-98A5-2CA002F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1156D9-CBD7-487D-816B-4EF4539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FE03E-1373-4630-9527-5ABE493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954BB-9BE5-4450-9EF7-D9C4ED7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224-C597-41B6-A0BE-74969DA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20D99-C3FD-42C1-9AC5-D5E5FB90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A00E0-8851-468C-8A0A-6D46A782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CBDAA-4B4F-4A66-AA74-CC0F533A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98C9B-D2FB-48C3-8048-A2631E4A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C9B10-EE09-4DC8-96BC-2D012BD5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14F69-EA07-4388-A9C4-2AC5A69C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ED9D2-4357-4BBE-B409-852F023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47AE6-4DAC-4F02-AFCA-EE5BF86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E6C05-EEF9-4152-8DCD-00B7956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8E52E-F278-445E-9F97-77B0EF4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11D-46A7-456C-93E9-A3DD5C4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F35-C8AC-4E0E-B4A2-46EAAFD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C3D6F-8672-431A-B251-EBCC36D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E755F-3665-459A-B15B-766BBD4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C1F26-F222-489E-990B-D8B1CDD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FCA6B-9BF9-4812-BD57-B7C4D3FC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35685-1A13-4799-B7DA-A0E13455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DA85A-6042-469E-B555-EE46D412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0EF6D-D1E6-4F56-861A-01F1920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4AA09-D86A-418D-95EE-280DA99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34E67-2FC3-4980-98CA-55D653C9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77426-CADF-417F-9AEF-16EADF3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10F7-F87B-4A8F-A5A6-E0E2A99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FFD95-1F67-4C06-9916-8995B64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8FA16-8632-47DE-B3AB-220E8A4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D3C69-58CB-4555-964C-A031911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A7E49-F3C6-4F7E-9986-BF50830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EAA59-7779-4ADA-BA9D-3F7A7CAB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D999E-12FF-4E66-AF06-0CAE8628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45786-8366-4744-BD40-210E0206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9B1E2-234B-43EE-BA02-669D75DE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51D03-552F-455C-8EC5-4F220F92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6B5EC-3AA2-4579-AF7B-549CDB42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757-B755-4E45-A282-5760B0FF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B443A-1F6D-4FF1-BBF3-E9104B3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A8975-258C-48FC-832E-DAD795B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CACE1-23E4-4313-BB76-3750C5D1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BEB27-ADC5-4796-9ACE-35D1521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FD68F-FA87-4837-B5DA-7625C1B7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AEFA2-152D-4DD5-8215-4446EB2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A5B73-7FA7-4ED2-8A18-25A25CE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CAA04-7811-4DA3-9365-0DF2892E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2041A-AF56-44ED-BB20-6FCC2797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2D192-A433-4DB7-A7E8-707FED99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E6C8-99B3-43C6-8035-23E77ABD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338B4-D38E-44ED-A890-922131A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C1411-AA5C-4B23-9FEE-A34F9AE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E340F-D7B3-4D4C-A98D-0AC0EC97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52A8A-89FD-4817-9CC7-0F2EAC9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531D8-D376-4893-89A2-F0C5B4C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07044-636C-4CF9-941F-752FA34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C34EB-E5F3-41F3-A4D2-227F349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C832C-500D-40D5-B3F9-5D3CD0A8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5DC5D-DE18-4F9F-B567-3243DD85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209D1-0BB9-434E-B0DB-0134A3DC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BE0B-4769-441F-8D2A-B01D0288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1343C-F507-48B9-9E64-C74D046F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55465-8152-4BF5-B62F-1D3B5354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CA72D-03F5-42D7-A058-31F0B8BA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4B82E-687B-47CA-A90E-C9735F78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22623-2C96-446B-8FE5-6627887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D69B5-0A68-4E74-A086-A1D2D1F5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F5B65-7D44-4ED9-9384-D997F2C0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55080-8DD4-4617-98A0-4FF45B0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17D7C-BC0F-4F50-8406-2A12BF9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313AB-3477-4D3C-BEC6-B6E28ACB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C342-C43C-45F4-B890-B33FCE0D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9D1627-16BE-46EF-9BED-B9FB6910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6F4DE-A22A-4958-B61B-2ED480C3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10788-3C47-4F13-A20F-A138DD10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ED561D-F7CF-441F-B2E4-38328F01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85913-6020-4EF6-8AD4-CB29B7B5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9B906-5A52-4AFC-9DEA-2D03970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034171-FBAD-4D98-93A8-FA089E0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5A9FE-39EF-4624-9E44-4AA06A40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8AB898-4A6B-46ED-B77C-4014100B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75757-88CA-4027-A1B7-CE665A1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A6E0-7FE7-407C-963F-CDD26EE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A2B55-6842-4468-BFD8-5755DC2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16E594-50A0-4B49-BD82-338126A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A4A661-87A8-40BD-9945-2F175D0F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B8D912-ECDB-4883-BA41-AAA8D5A9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41C5F1-5179-4833-ADF3-3184A3A4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E6C36-F60B-4923-BE78-39323728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B42A7-38DE-4093-B180-6FE0DC1C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CB5EC2-3B88-4CE6-9C7C-F7E2CFF5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174D2C-B11D-4516-9A28-21A7C23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AE940-BF0F-4DE5-82CC-BA5F9C8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FDAA-F0C0-4A16-BCF1-304BD6C9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E18186-AFE8-4A73-9A50-DC83C17B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A679CB-5A7B-483B-B9D0-FC97840F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1A679-40F2-4806-89E7-4204837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83342E-29C6-415C-A36F-E7DFA7C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168D66-8183-4D68-A9D8-B97430F5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ED3DA4-6980-4B6B-AAA6-1D3ADCA4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9423BC-403E-45C4-928A-A08CC96B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6FE492-C368-4B47-A6CD-87098C6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FFA2B2-B1CC-4388-B84C-0E30AD6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2270B0-B17F-4A25-865A-E2BB9FED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6066-5232-4B1D-AB99-C26BAD12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FC3BD4-C043-4482-BD0C-DC56277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520CC7-9157-4CAF-ACCD-021FC6E1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98F920-4B9E-41A0-ABCE-C4B48459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D719D9-5170-4063-A6B4-C8F8222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5E55A-4B45-4F88-BCD4-B3EC7FE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46CBC3-80EB-4994-B925-02E868E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EBF397-0243-41F9-8446-F7F1DD2B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C2EBB9-BB22-462E-A4B5-6A462848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031080-C346-41AF-8F38-179FB652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EEF33E-D240-4C18-B333-09219332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0478-C701-4177-BDB1-E40E5B05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34212-94BC-4FFD-A32A-74E8173E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08ACA8-169E-421C-8E44-9828735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0A0456-C6E4-44EF-BCC5-D92C2860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B01281-8BB5-4BE4-B0F3-93BE792C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23B4BD-8B3B-419D-A53B-D7B9A44D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D8A31E-23C8-41CE-95EC-25F8E6D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DCDF3A-3713-4753-AE77-385D780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88B168-9F7A-44A5-84C0-574F291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B03B08-A2FE-4EAB-BFF2-7CA2971F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CE1BEE-D97A-4949-BFB9-83208B6B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6A0-F0CB-4C74-A1E5-C07F073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B8E2-8209-44C9-AC89-4204E252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637DCF-B0BC-4A15-B1CA-D9372E3C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4B7025-0A21-4277-AE34-830C5584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FD314F-F3FD-4927-890A-DF8299A1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764AFF-C667-42A6-802C-320AA800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591974-9BA7-4811-9EFF-B235926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33596B-0046-4ACE-A8B9-C83605F7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01A9ED-51A2-4D30-A6BD-6BEC2BF3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90F92F-E44C-4435-9D7B-83AE6DE1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D68617-055F-4527-A7BE-A6CF5EB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49434-7CCB-445A-A9C0-7D3E0846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152E-5CC0-45AD-BB35-D2B5C20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82A3BB-BDE1-4347-9CA1-521B2E92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A77306-5C91-43DB-A600-7B05869B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C4A00-67BC-4342-A7C4-D3954859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EB01F5-678F-4D3F-BC4B-84124E57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2EB990-ECE6-4588-9AD3-61A5BC77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7E1DD8-7381-43E4-8B15-E08D19C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70125-E146-4354-8385-BFB90B2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8A650D-3999-4032-B598-54311F91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057D91-E52A-44CA-9B46-5C4E89BF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977B66-CBC4-4876-8B90-21190FF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32BD-DDC1-4C3E-8A8F-36E0C98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001BB7-BF26-45E6-8F0C-6CDD0E7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E324E8-6252-4036-8C2F-3141D28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514E56-3FD4-4F7F-9A7E-DED9E302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852357-C071-49E4-A411-9C1CEDAF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29B26C-C397-474F-B8D7-F4EF0AD4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2FBF04-32B3-41B4-9A24-A14A9270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FBCCD9-B307-45EF-8F12-7AF4F92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7EB208-D393-4E6A-9F65-A749E917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B6EF99-4C39-4027-B5FC-317B3224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5F3C97-CD2C-4EA2-B088-DACE1561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BF27-9C26-43A3-9941-9CE50D2F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873A5-3C1C-4243-B3FE-C0AFC09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92B634-2A62-4321-A574-D5525A5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E1A9E2-59BD-4359-9F0B-A4C5F1B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E39567-98A9-4758-805A-70CBE6D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FC7951-87EB-43CA-A25F-DC7E291D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BDD328-0274-4EEF-AC18-0A9A8899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0937ED-196C-45D9-B96B-C8ED007E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F19D64-DAA5-42A6-8698-99AFCED3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B3D036-AF69-4198-A89D-61FE3279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AB95D8-BA3C-4936-B346-750A12B1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E910-2723-486C-8298-DFFCF7B5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261E05-0857-4401-923D-3B01624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B04B5B-DE12-443B-8D5F-EE9ECCD6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4B062F-6354-4F85-9C86-3D322B62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261A24-C0B2-4536-9D0B-45635FE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573752-AFB9-40C1-BDCD-A991C03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C1397A-BAF4-4206-B7D5-A079617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5D3330-E736-4614-A5F1-EB08334D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CF05B1-49DB-42C0-A830-A2D75012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6EEEBD-9773-4501-8987-37142EF7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24F2A1-0958-4946-BB25-2BDEE729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C800-E4B9-41A8-A1F2-B02F82BB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F51C5E-251B-49BD-B9EA-AF4B45D5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E0E4AD-3CCD-4586-83CF-C3B37A8D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16F17A-D0DC-4349-8028-2CEA6426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B95235-E7F5-44A0-A9DE-446DB358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AF156C-1247-4EFB-B8A5-A3812CE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7A039D-4F23-45DF-A7EF-5E8ED73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CE9740-5F94-4CFB-9F21-CBDA5A8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2C11BE-086C-4D03-A81F-688C8A24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76C7CA-2F7E-4E7E-A50F-69FE019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838806-D899-415B-BFAA-AC97183A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D1B2-0E2E-4C9C-B600-1BC8F86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F4A9BD-29A3-4B8C-B774-A7A560BB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B50183-8060-41E1-9577-50B09B01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50E934-73FC-4F47-BEE9-7739CC0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692E3F-535C-48DD-933D-D954954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B04900-D72E-43C8-81E0-FF8263DA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5EEF21-4679-4961-B75A-6224B11E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005C64-1729-45C4-9850-79D22E6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1DD813-BFEF-4C0A-87F0-2DB055C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741A14-93AE-4638-A156-0B4DFB7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56330D-652A-4F35-B684-FFD7202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4D5C-617E-4160-BFA4-774DA073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16A2DD-48C9-4806-8832-8AAA42B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D150A4-2AD6-4EBA-BEAB-334412E4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8E8229-E20F-4C5A-ADC0-C57710A2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E27550-036F-4553-870D-1D1D0282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F58125-49EC-42A5-8585-B72F0DC4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6CA60B-4F42-450F-9E54-E77B0015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1A8A86-754C-4871-8C2C-50413B74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045766-E652-4266-9863-F9D73734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807DD3-7053-477A-8327-BC620E5E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261CE5-D7A3-489F-812C-3609CA1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03DC-5074-4F00-B89E-E593F33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CCC4C1-D2DF-448F-ACDA-17AA65B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7E3283-03FD-4E7F-8AD5-99086F2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7A8709-BAFF-4397-B647-5FFA57B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8D0732-14BC-4B34-AAA0-FF311CE9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35546B-94C6-4B3D-88A5-EA010936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D019E0-3D7B-436F-8C77-3AEAFE1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31EF9A-F13B-479B-AA04-EE18548D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BB2B13-6690-42DB-B3A5-874C9F27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1C2D3E-84A7-483E-B049-95325CE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96A0EB-9032-45F6-81E6-762E1E85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9BFB-FD23-4856-B1B7-7AB6FDB8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CC775D-D28C-4117-AD16-C80042AA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F56770-1AC7-48E8-A271-4E0FA1D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BA4950-4A71-40CD-9BF6-EFF3020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46EFBC-9450-4D13-AAA6-3B6AB5B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443CB5-513C-4135-A488-E3535BA8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C7285D-917D-41B2-B735-91814742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622FC9-496D-470F-8939-9FA514BD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48573F-DC99-43E7-A5F2-047FB8AE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4CFC25-7C56-46F5-8DB5-F96D9A7E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AA9C45-AD91-4801-8067-15B22E4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27E-4A86-469D-AA1F-A81BF96D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0DD7-EAB8-48EE-8D47-83EA224A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C77BC9-9F4A-4AA7-B9A5-7764BF92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A3DB32-805F-45DC-BEB3-5D88319A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A51D8E-0A11-4920-8A0D-35D19DAD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5A4704-FC24-43F8-AEA5-C560C03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5554A5-8482-4A82-A4E4-42FC321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4C6096-3DF1-4EF7-998B-FA91B83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16C7FC-2A0D-41D2-9B21-928E1A93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BD9F42-5FDD-4A86-AD24-0D62F4D1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4203C3-0DEE-4099-837B-D03106F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64F3FB-2672-446E-B74B-8BAFFDA6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6F10-4255-4FEC-A95C-E3A0FD6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673876-E639-4801-81CE-262AAB47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8A6E17-86BB-43D3-A3F8-9C4E3B1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F3D922-43DB-4022-9E50-77944FE8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459C94-76EB-4805-A3AF-325423E7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385ABA-2CFC-48A3-877C-3A5BAC5A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E26F48-7457-4063-89E5-B96BE2D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E2636B-2341-42A3-92A9-B09F5B1F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636597-3414-4DA9-A2AD-C56F009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BB4F96-1296-4DDC-99D0-4AEF7E29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20ECDD-BBEC-4A04-BCDE-B4D375CE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DC20-D57F-4AAF-8318-243E4D20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02ABE5-8A37-42E8-8D1B-B6F5AA83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678C88-0096-4F3A-8EB9-3051394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429D82-D786-4471-9173-A57878B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042EF0-BEA0-4A2E-ADDF-14382B9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1E3196-C2C2-4968-B50B-2AFC5B1D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54DCAC-80BC-4CF8-B309-DCEE1F29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9B74FE-D1EE-44D8-A3DD-6FD2E218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C699CB-1EEB-4BAD-B3D9-876F23CF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74F5DF-B7D2-4816-9E45-C89DBB4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410B98-B0C4-4F8B-A6CD-E255A66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E05A-BE7F-407C-8476-1AC47DF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37982B-9C34-4539-9F79-8326B90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5D7FF4-F51F-47C0-8374-98207366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DAB5F1-D75A-4C58-B4E1-9ED6B9D8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6DE05F-98D7-4078-A389-9A7609A2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074D33-E9A7-4045-93C5-37A41E4D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7A1BD6-4198-472E-9768-4332FAE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67769F-3562-427E-9B6F-8F32B7D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7D4453-A666-4270-9178-58C62EAB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A6A25E-79F5-419D-9F96-DD9994CE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E2EE87-E3C1-46F1-BFE1-9DBB326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1259-9EA8-46CD-AD73-44678EB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DF5546-F2F4-484F-ADC7-2129C5B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AFBC30-D56F-411B-926B-51EFFDD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80EF18-9AE2-487F-B0BD-6B27BDA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FF84CF-73FF-475A-9106-91C17EEF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E44CE1-44EF-4FDC-8E73-85FE38B9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4CBDDA-9AAA-4E85-8E6D-649A6E7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26B0A0-014E-45B2-94EA-CF2436F5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DBB44C-3262-4680-88E2-D7453E6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3C57DA-BEC7-459A-AB6A-5A07A01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2B22EF-CCC4-41B5-A886-864F1E46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FE27-68F4-400A-9497-ADDA535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A23FE5-0C94-44DF-881F-A19591F9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563E4A-470E-4D78-A903-EE5C9E2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B7BE2B-C5FC-4496-92F3-795353D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3A9389-5245-4BDB-B4D2-9B42E76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E53200-C811-4B0F-8DF9-38EFCAB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98B4B7-645A-42A3-92DC-3249E74C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B475A3-77E5-4297-AB68-46ECD7E9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C24320-7FFB-4B1B-B3C9-F5FB34F8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935D16-7E6B-40A7-92CB-C5B15A4F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ADC9E5-C4EA-4F22-8120-3D820443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C7EE-3562-4F0F-B68B-E26E2BC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373DED-632C-4D6D-9C69-804F18E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16CC11-55F2-45B6-B528-ABD9C280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C0E21C-8EF5-4E0A-891F-6DAC879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0FF738-114A-43AA-BAF0-A3DA73D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39A9D8-4982-492F-BCE9-BAC13E2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07BE97-21F2-4AF0-A85A-6BE1A586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396E07-E1F3-4C71-B638-E7735EEA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757A9B-54FB-42C1-AC77-790EDF2B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83964B-6B45-4A7A-8AEF-AC976401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4B4EE4-D3F9-48B5-AB40-695DDE36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7529-6BEB-4E44-8349-FCDE1E78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9DEA33-CB63-4D2D-95D4-9F028502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0C8831-CA4A-44D9-A295-0B31EB0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2C5414-5B07-4609-8C58-F51DE56F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DF9A57-EC5D-4238-95BB-415563D7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0C1950-28F5-4E6D-A9BE-B040855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3F279A-6086-477E-B2B6-29DBD20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0384B4-86D3-4B2D-ABE1-B57FECD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E7B3B9-2CE2-4B56-8DF5-0043694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61D82B-C7CE-4A73-9EA7-C72B22D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9076F5-7CA3-4911-95B8-84C51A3D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363F-4EB5-4D13-B34C-DB414FC6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615506-5CB4-46DE-BBE3-7BA06523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E1C9D2-14DC-4F7A-B30C-C7D779C5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641D08-E4E8-4ABA-AE7E-9914EE9C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20B7B0-292F-434A-91EC-6F17D20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45F1D3-4D3F-4822-A458-C7E6B3F9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86B82A-0A97-4718-98DE-CFC7103C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9EE763-1053-4A58-B935-7DDD817D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80A4C9-6413-4BAC-B8FF-09890059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FB3863-B2F5-4E06-A031-007F405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5F4D59-83B0-45CF-8408-5BDA469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A79A-F9D8-4D68-A7D0-F2843ABC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7AEFE9-C69C-4179-B8C4-F038CC6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A074BA-4D03-49DB-A8AC-2427375E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3619E2-EFC3-43DB-B5F9-37B5BB33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49E163-3B84-4EB4-B214-2CE0B371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EEABFB-60B0-4F8F-BD6A-28EEC9D3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229F44-A183-44B5-A33F-0259538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A0D62F-D7CD-483F-8145-96F8267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EA4BA8-8B8B-4DF4-BE5B-121D32C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48EC28-A1D5-42F3-B235-3F5755E6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C6A41F-B468-43A1-A401-9F0582C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3AD-F738-44B4-8530-50190FBB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C994-C371-421F-9CDE-69D2916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DD41B2-67DE-4503-BC34-52B0291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ED5EDD-9363-4A01-B1BD-DD86C6C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E593CB-DCD7-484F-9DCA-6BCE3E2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BBE9B0-DE0F-4AB1-90BC-C29C0305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BCCD85-06A3-46E0-8E42-26D38796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C17665-180E-4EE2-8875-7AFF8F76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9E4FBB-8121-404D-A9C9-1B4F8EA1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68F0EB-106B-40F4-A82B-B2A1CB55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6185DB-E799-4FFF-BB8D-2D1598C2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9D780D-577C-4604-A3A7-8C30ACE0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2F2D-A57A-478B-AA07-1FA11832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67288B-2239-4989-A140-0F08B9E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5FAEBD-4009-4FD4-8585-DF362A7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D5D50A-5548-4CAD-80DF-D3B2A6E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17D283-8BCB-417D-B927-4357785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26792D-42C4-4F05-B27F-105A4004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843260-159B-4031-B74E-E9D408B3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5511BA-5F53-4ECF-A134-338B42C7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27A0D1C-668A-4B9C-9C67-D03971D9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EF9390-21C1-45C9-9B88-C279A214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0C7C18-084B-4171-8F24-523ACB73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39C1-ACC6-4F16-AD96-D024141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072B72-A163-45FF-A9D9-DC5AA3C7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C12F7D-5C13-4F06-9368-229D544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34381F-BE65-48C5-B580-4A50CCAF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1A77A0-3EFE-4DD6-9928-FE187FB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FFC6FA-15D4-4827-A51C-084EA890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938F9A-3554-4922-A2F8-9EDB39C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AEE5C0-3D89-4886-A445-DEC95BBC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751649-6F9B-401A-8737-A65DBA5D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E62978-326A-40DA-8186-0108505B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71620B-CA92-4B85-98E1-06263912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C5FB-3577-45B4-B386-D57F2BD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85DC7E-F617-42D9-97B3-D090CD81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2699D62-42D0-4176-B310-E751D67E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53148E-C3E7-44A1-A698-50D76AA4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7C3BE3-4CCF-4E7B-B512-19F41DB7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6C520F1-3417-4B61-804D-BC48C61C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AC521B-A04C-4C00-BDB5-D8F6595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2E1525-89CE-4529-8D86-31A223B2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89A966-3AF3-4400-B84C-2BDFE292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77F0F4-914D-4869-9B01-551C9D1B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9CE18C-C024-4406-B4A0-68AA51DF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41DE-4F11-4C7E-9B49-8464504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1491B3-1B90-49F8-B6BB-4C55CA6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7281EE-33C1-415B-B56F-4C14B7B1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BEAE23-FED3-477B-AF2C-F9C05B7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51F0F6-38FD-49A1-8555-B35E26B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5E7305-9127-4403-A0D0-0FF3A1B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ADF041-652D-425A-BCE5-2D8CC0C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7C031A-6C1F-488A-A135-024BF096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99359B-8030-4E5B-A1A6-4374DD5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479265-E203-4DEB-A79B-1D2168A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EFD65A-64D3-4309-A5BB-C6CA3D0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F6CB-D719-4AF8-99BD-770A314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768732-5DE9-4A8E-8DD4-B94B3F36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B9DE8B-8A76-4FD2-9F80-D91272B2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814CE5-465C-4269-896C-BCF8B37C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17CC6A-D8DA-40E5-99CB-AE8827E1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8903EA-0719-4FA1-B2E7-6851AEB6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CEDC74-F3B1-485C-8ED1-2DFA3F9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B0D2E7-3A40-47F1-ABFA-993DE043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901C26-05D4-4CD6-82BD-A86060C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FF0C9D6-54ED-41DC-8182-A7E6F7D5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34C702D-89A2-486B-BC98-6EC1BBB6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46A09-5799-4798-84B5-61C2258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63965BC-2466-454D-99AE-8603105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34DBCB5-E051-44B9-99C9-FE8EB70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D6868B-B69A-45C8-9AE5-020FEBF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536891-54F7-4477-9F81-1908E871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AF6BD2-36D3-4640-8C68-368E8CB6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322CD4E-6446-4E84-8E5E-B9E8EE0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D44729-4C3F-4F73-95EB-1E68E1D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8E4BCF-822A-46CE-95A5-841FAC99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646D3F-6D79-48F5-9352-FC91E258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6F13A4-215F-45E1-B6E3-DCEAB13F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F819-D525-4AEE-BB79-283841D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B965D7-411E-456A-9DB3-B6C3029B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771E78-E974-473D-A5A4-7CB6E95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A0AFA2-90A0-4C00-9FC6-3E6F9494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DFE725-746F-4DCF-9725-F009900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78CD1C-8CA1-4C14-80E9-41CF07D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9EA894-3D37-4CC2-8969-7F6BD31B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F3C99D-EF9E-4A80-B996-2A5DF767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8C83FE0-783B-4E5C-A5B8-208DA445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DA0BD52-8805-4C65-A394-31B5233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98BA64-F83D-475E-AB3C-96070B1E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B93A-9E07-4CC9-BCF4-202358D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704F35-5863-4FC5-B874-6925CE48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A9980A-CC0F-477F-BA9B-F8018CA2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F72DFF-0F1A-434F-A3F9-4D15136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CA24B82-A3E0-4E8B-BA06-FF3CC4C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4AC6FA4-CA2F-4822-AA39-12F01A8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460AE7D-1EF7-466F-9431-BD700793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183EC0-EECE-4A41-BE6F-0C66775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F2660E-0B56-44D8-A9D7-679E1C0A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D0818C1-A97D-4905-86F8-C6F7017E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E83BDB-013B-423E-94F1-168052B0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52E1-7A60-4F51-B2BE-451438AE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A78C3F-D93A-4177-A764-279659A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314404-D402-4264-9C3A-318A19DD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565D505-C6B4-47D5-A173-B8E619C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7D9C6C-FFDA-4C12-B32B-7BB3AE4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F6EF868-7E36-45C5-8C7B-7E6D64FF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1DAC77-BCA6-49D2-A1CB-D4B4DB7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BEA281-7DAF-486E-B338-82C328A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A27AEB-C449-433C-A162-BF9F2B56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83481B-7838-475D-B9BF-308499B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15E701-5272-464E-AAA7-AA53C917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4E4-B001-4679-A89F-DFE12F9B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6319-8BC6-4379-BAE9-BCE227C1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BE816D-B2E9-40A5-B493-28021459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DBDB24-2B2C-455D-B6D2-C4B432C7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6E2B9C-0657-49AC-A1E1-1D982AE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6A4B18-7447-442B-B097-33D73A2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C11F5A-C2FE-4E84-AC0B-5CB45D90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0289FA-41F6-4022-825F-470E01B4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D9105B-829F-4EEA-947A-0E71268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9D6D76-3421-432D-BA06-1AA55419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F15EDD-A143-4F6C-9C16-93CDC05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EEF4FA8-6073-475E-AE36-4DFC84D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67DF-95B2-4B94-BB08-E21FDB84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8EF4BF-910A-413B-845A-E2BE813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756CCD4-C3D7-40EF-B998-159E9AE3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365BB7-8B07-49E4-94B0-7C096393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F8C4EE-DD3F-4811-B738-D32FD176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9B5C8AA-FA86-4054-8767-80CB269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ED185D-EBEB-4A52-959A-D93EF3FC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F01C1C9-80C5-4A70-BFC6-19D5C03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311EC8F-8357-42C8-8234-3B5F2D7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21523A-F6CF-4A70-990B-995BBBF2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548D62-987D-434D-9E54-FFA568F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9916-3C28-4663-B502-E8DEAC68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29FFEE-7E1C-4D21-BB91-E778931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AFED53-BCFA-4BA5-B978-A409C7D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99D070-22CB-4B81-8789-513C029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85BEE90-1C8F-4537-AA00-2EC36D75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7C7B9A-E6D6-4DE2-9F31-B33F370A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1E062E-0354-4B34-8591-E346C01D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922A15E-731A-48BC-865A-D35918F1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06B3D2B-04A9-4C71-A1F1-94D498FF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D5941B-42FF-4E26-BDDC-DC82D23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B5016B-7BD2-4B5B-AEF9-00BDCE4A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2CF3-1726-426F-A09A-764F47F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6DCC85-74C6-4EE4-BB81-93AF5C4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5DAF9B1-A43F-4C07-A2ED-3987AAD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EC6BA7A-4DCB-4D15-B4BC-99DEB7D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DF32A6B-7057-4AA0-8CE6-C7DB8E2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93C1C9-9A92-4D27-8046-28AB7E26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031CBA-53BD-40F6-B557-53F6B471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E07B02B-9DC8-4A6A-BFF8-DC4D7B06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BC1CF2-AEA2-4E75-9885-FD669003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FDB0FD5-1A1A-4169-9897-B1AF680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E9D17B-58D2-4B24-A84D-BCD4AF21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C4E27-6DF1-42E1-AAEF-1E2D5224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77859A-524D-43D2-9638-4AE3EF88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CB237CE-C9F4-4209-9C0E-85CE5416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AE0D0E-55E7-4EE1-8586-80A2B9C4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E11725-AE9D-4065-A37D-454541D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0C6AF6-0F26-4766-87B8-B8317DD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21B39B-CAEA-4B54-9913-18CB458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3FA2D4-4AF1-4AC7-988E-936316C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EB2558-C4B4-4F53-8E3F-9C4AFAE8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BE6AA3-6B7F-4EA9-B976-655A65C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6545AE-6844-47B1-B5D3-7E0BB8CE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0490-DD36-40CC-B557-A38FFFFC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A7E5A1E-9050-46B3-B1A8-A239C76E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A3B045-DD87-4480-83E9-D8E1C2F8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880C4A-27CA-427D-A637-0E1B1E8A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7EB83FF-949D-4F69-9A54-A8C9EFF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D44C1B5-9B8B-474F-B854-BB2CA6F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0847AF1-57E9-451B-989C-686043F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2D729C-0404-4E13-A58B-76056E6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35A641-5A83-424C-8099-31734070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11E751C-8BCD-4DD3-BFB4-B9A053C8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82026E-BB52-4BF8-A9BD-4F8C5615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EE45-45C6-4A50-9093-062C824E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28BD950-8D3C-4523-AAA5-1E6ABBFA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9AF675-FA5F-418E-B3DF-BD331535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6C30514-C7E7-4411-9055-06B9325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6656C9-4E2B-4873-8795-4CCF147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E5AF2B-CD8E-4D2F-922C-66C26146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3E1EFD-FDFA-46E0-BA07-CEC0740B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C9A837-A90F-470A-9278-BA7D3987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B21FF0-C14B-4360-9FFF-82BEED4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A16016-1D9A-4073-8F29-057B042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7527050-4F1B-4608-96D5-257CCE2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22AD-72C3-4A42-B89E-311B36A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9C4B91-A919-4E64-8CB8-386AC19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3017811-6441-4E24-9A36-43856FED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FA13A2-7EA5-4647-B2AA-3B59C51D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CBA2A6-C9F7-4AFA-A41F-DB51320F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C5205E-6992-42F7-A225-3141CEDC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377933-4E31-4ED1-BBA5-473ACC4C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F137F1-5A44-444B-A89B-0E58A5D0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0514F1-D191-409F-8A97-B018A497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1B2447-93D1-4EEA-A080-DEA02708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508F460-15D8-4206-8C47-65FE6C2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44DA-27A6-4364-837C-C34FBD0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000B7B-4DCE-4121-B4EB-DEC3238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720B49D-B269-45D0-A37A-05BB4CF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05379D7-72DD-4703-80B6-056604B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F2A7BC-C72A-4C89-826C-5209283D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CFC4494-3CEC-42FF-856B-954BF34B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983D46A-B523-4758-AE04-66EEE6D0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4A5398-D8E4-4669-9AA1-89EF9E5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1154BC-989D-4992-BD90-2EFF2E18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83CD0DE-0D9C-475F-AB54-1A60D7D8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112FCCF-3225-4BDA-9796-7258B90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C1AD-DA8B-407D-9679-86D56EB6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24C8A19-7762-4C36-AAEB-ABEB22C3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F5F2A2-3494-49C9-BA64-C1D8B34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4F89638-F1FA-45BF-9E79-A6F07FA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CF6D1E9-C0CF-4C29-8D2A-37C8463D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140D92C-D27F-4A48-A005-3578BDF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131A234-5CB0-486F-8976-DF2377CC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DC47832-1363-4C02-8811-9FA6A948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BAA9719-88D6-4F36-B1E1-FD93DAB5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60EA599-005F-4929-A0D2-F4D6EB0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34FAA46-1845-4988-87A5-D10F9E3A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363-04EA-469F-ACA0-0CD6ABE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7644-F6FA-40CB-A240-9E9FF1CC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0195F3-3621-4286-9D4B-837DF30E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195FB8C-2261-43C0-B4FF-367C28F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04EA2EF-4ED6-4BBB-B638-34D54079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514A74-575B-441A-8991-4B97620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E9BE8C-B9CB-48E4-9B28-E8DD40B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4B8321F-66A1-418B-9936-B734CC1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43E26C9-E3B9-4A8E-B749-2EA26B5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772FE0-DAE4-4EE9-B973-048A6E35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14CFF7D-CDA5-4D00-876B-130BC316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BBA8A41-03A5-4723-975C-92C82F94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C0B0-962F-4B85-AE28-BA733257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5160C7C-7D11-4B3A-A09F-50B7622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004F003-8900-4CE2-8122-285B5650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F3BB27-0073-41C7-BBCF-AF3956F3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FE28084-D35A-4B5B-8AA0-68CBAA1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BE86ED9-567A-4DE0-ADB6-40CA1867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20E07A-0269-4871-8F39-842EF6E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7CA1FA9-76AA-46CB-8DAF-F15D7528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72C0D40-4F24-42DB-8732-3176C4E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5AFB16B-891B-4814-866E-74DA469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6E4681F-87B7-4620-B5F6-B6B2F1E8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2147-EF09-4DDA-A35F-3C461788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88D17E6-3B5D-4B13-B99A-72247D45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E93D337-5526-4C27-8946-D281D622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C5451D1-5B4E-4000-BE13-EE97ABF2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3626657-5A67-4225-A324-50031B81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EB34E1C-D34B-4F36-9636-927799C6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9FAD491-EBC1-4E88-8AC1-326B3A1C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7CB678B-00B9-4E75-A945-81069E7B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2067967-9321-4C54-BDBB-980603A7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0FAF00D-6FDC-4DCC-A22A-4913BFB8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E9D9DF-AFE8-44CC-9AEF-B86F537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E667-1680-412F-9C65-64569B01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B19D78E-EB4D-4414-90D5-A6758C01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8CEAD0A-3717-406E-918A-4E08FA02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E9BC9A3-B5C3-4782-94D2-1FDDBCB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A05560F-D111-49AB-96A3-28832C4C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260FAC2-B3CE-4222-AD7A-FB2E8BC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B9BAD11-2A91-4073-A065-3A8A4407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04790E6-1F28-42C7-88B2-14D6EAF8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BFEC793-A78B-4231-9E0A-7FF14701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2C1FBAB-C64C-4719-BE55-FC3C8E36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4D20BF1-9EAA-42D3-B365-6D6E6F4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7ECBE-8FA1-447E-95F6-11339426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ACF9048-4D88-420E-BA5C-F8305FE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D75E62E-2F39-4188-8E79-37A9DDE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339F37A-0804-41C6-98AD-03383EE2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7E33842-D5B8-49EB-AF4A-D51ECFD2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3F682FC-D0EB-4F74-9CBE-0DAE5967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8436258-5109-4038-A0E5-066147AC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850211F-7F67-4522-A559-A6B1A9BD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7F0F8C6-5FD2-48C9-99B1-F51706EC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A70E142-2743-42E5-9040-C4BA4C4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1E432D-B37F-432F-B4BB-54C11EAC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58D0-CB03-44FD-9452-C86E3A9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A023A2F-8F63-4B84-8094-DA3310CD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1E42D0F-EBE9-413C-B13E-A54212D1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3095C1-0279-46FC-9CBC-CE73C5F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C54C476-0D3B-4899-8996-2E0F7AB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B3E7DF9-8381-4F4B-AB8D-4C25CAD9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B221FEA-06EE-4B66-ACFE-8DF0F13E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1647817-7830-4F72-A4D9-E6A1E42D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F91B94A-C101-404C-9F82-61F36BF8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10E0DB5-D738-44D6-A025-3E71E6E7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0DAF5D1-AF0F-4033-BBCB-5324F98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D265-D0F5-4920-BA92-B6EAE8E7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90B984F-61AE-4BDB-9A33-59E04BF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60DA625-4F19-4AD4-B55C-7A5DCFE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986A2B1-23B8-47A9-AFE8-623B6E4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A5C631B-FE9C-4906-AF36-00DD32D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ACF6188-ACFE-479F-9086-8FE6477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6728F54-712C-4D87-B57C-41A3AF5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8508356-0706-481F-88F3-F7C7137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9EAE631-D5C5-4605-A66A-8E6926C1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A5975EE-29AF-4D13-B276-63AD06A0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8B96EC8-1CC2-494B-8397-36756935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5770-22E5-47E9-8781-D39ACE51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2734C9F-F8D7-42C1-9C63-809E494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0910936-F960-4285-B734-C1EE123F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D76D511-200D-43C6-B5BB-73C07E8F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7562C5C-16DF-42D8-B3D0-997F55AB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CE751CA-796C-47F5-9AB8-D6CEA21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27A2ECE-4A4C-430B-ADFA-5CB051A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5D385B-892E-4420-A79A-B547BEC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4F7E604-6324-4279-B671-8CA0F27C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8C64696-8AAF-4667-89FD-5F667D11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F05F608-CD48-4052-A554-95690CF4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57B7-34C3-407A-93BE-2EAAA38A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A38D026-2021-4CE8-A046-A5402F5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2D9FD7D-D2AF-46B8-89EA-5C82DB2C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3189265-D0BA-44EB-BA2C-AC604FA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FD85D2E-9650-46DD-B383-F7B38B87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2DD15A9-D043-4715-A9D0-DECB087F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353ADC-6B6D-49CB-9E4A-2254456D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499FF5B-5972-4DA9-8F96-8E82E42F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572028F-F76A-462E-B7D6-A7CEE642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92720A1-9889-4B65-B01F-406B9C2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3BCDE84-E209-475F-BD5C-1FA1D36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74ECF-EF3B-482C-8847-892E4C0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DD62A5A-7B78-4052-AD27-81549EB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8456E25-F2DE-4147-B25C-B72E41C3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BE6CAEA-D05D-48A0-854B-E1485494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B5AA121-4D2A-4C30-9884-537901D8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74A1863-B2BB-4E3C-B112-976B92B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CCC4E06-178F-46B8-A909-4631C7A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D395B5-1BAD-4D70-B4C9-6A75992E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A5DAAD-50F7-49EE-A4FD-B04A3A1D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BDA8521-0DF3-46F4-AA0F-AD329DB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090ADE8-F987-4AF4-BBDC-C8A2AB3A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14B-D036-4D7B-BA1A-AE97C7A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E8C5C-EBF6-4783-9C38-CF7D5D2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D3E68A3-787E-4CE3-AEF1-85E125DD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AA9BEDC-C34E-40DC-81EF-270FB78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857E931-56AA-4C3E-ACDD-5239BD74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2F5D2CA-5E14-4E47-9660-6CC22A1E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7D7E8C7-8888-40F7-8550-63E0FF05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EF5FAB4-A227-4A57-88A1-570E4659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E063AF8-DFAF-432B-B70F-A2293DA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4592C6-5B67-4A06-86D9-79F39C1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CB2BFE6-D605-4642-8DD8-9D793CF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B90D990-BFFA-41BD-BE79-D5C3AF41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A7340-B03F-4E74-8B40-B2F324D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24AD37E-852D-42A3-A623-9E8C33AF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13F797D-166A-43C6-9F40-29FDA0F4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5D2F3F-5A39-4018-ABC4-0331E5FA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CF1716C-A9EC-4CB9-9F0D-454D5F4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391A80E-49A6-4464-A092-72F653F5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B34D7D2-2E7C-48E7-A0E9-62B4A308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A7FD408-C077-4207-8188-8559C526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CF1DE2D-F37F-48CD-946A-531BF3D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2E3D2F7-D272-40B3-9FBB-293693A8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4520AEF-FC15-4DE4-9091-5478C5E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19C2-6D13-4BCC-B0F9-CEEA9F6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DE69755-D9F2-4C55-B587-2AB4483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81285A4-E30D-4ABB-AD49-3278B9FE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F0B10CB-E1A8-4899-827B-13470A43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10B40DA-D3E3-403C-8BD3-A1CDED2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8D87A83-4C58-4587-AAC6-27D759C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9EFA4D-53AE-4461-9675-40EFB30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C60B4B6-BD85-4657-8E79-D1D214E9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1E902B6-8D3B-42D7-8654-FF5B8B92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6B517AD-4460-483A-8672-8890802D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4850CB-BCC5-4C20-B58A-D1187BA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9D8A-63EF-4069-AE23-AB48E372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2477B93-0569-4FEB-B713-5E074FE3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C37C72-0FD5-45D1-8507-8D2C232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7FD27EF-0296-4014-B99F-06D7EC9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4A9A787-33D7-4E31-920E-7970347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B4D9FF-05F4-451F-AB0F-7D58A5D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3B66E6D-5637-4DF6-97BD-CC43DF0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D1C8974-6DDE-40B5-A2ED-AD6B1C2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19B103E-CF44-4C59-9173-BB1AFDA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534A512-ECB3-4E15-8438-2D12EC0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12F0675-1B99-4512-896A-03206F16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4C8BA-AB78-4A83-B78E-A37357CB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7F22830-50D5-44DC-A653-9DB4F93F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FBD6022-F660-477E-873F-72C9F964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7951414-1E12-4D37-8877-9B7A24A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82B6734-DC3E-4BCC-8F8F-D47389A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A779E46-F034-4380-A2E5-A6BC905B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299DA72-5DD1-4A9B-B351-8BAE0BD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BDA6CF3-D481-4952-891E-09DC42EF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ABAFF29-3F5A-446E-9F23-888871E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81762C4-9710-4E2D-8DE5-80946B7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DAE6C4D-65D4-44D3-8496-EE379EE4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FB26-9220-4328-81F1-322CDE4A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FDEBB6-49AD-4161-AE56-5FC3E10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AE6C451-D46B-4B86-B7BA-90435B6B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91C404B-0209-47E5-97D9-1F2523D6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FFB562F-1559-4CB8-AFFF-258CC840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EB39329-8536-4CB4-B8EC-F5EAB291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9777A4-3CCA-490C-9D43-9B03919A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EDAC0F2-9673-4FB9-BB23-7156ACC6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B89F76C-4B5D-41F4-A47C-280EBC9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F51C1DD-70EF-4109-9D7C-2FFDFB29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675BFAA-3936-4F14-8E04-14AA25F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6615-6FA7-4BE0-9086-A4450FF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C74195F-A93E-41DB-8C68-7D7AE41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77D513B-ECA1-490C-AC22-3448EE3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242A34-BEEC-4A9B-8FEF-0C97CA6B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930E026-434E-4302-A6C6-05983D25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21290B9-28F1-4CA7-8853-18B23266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4E15431-137A-44E7-A8D8-D1FDAE51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CA3D2FB-C206-4C73-8F47-F617109B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EB47F76-4FBE-45F0-BC2F-9C6841A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A5AF93C-E8EE-427F-BD46-6477691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E02B365-3621-4836-B4B7-4E681ECA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3B03-174E-4A25-86ED-762F1D6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961781-9CD2-47C7-B27D-AAAB6E4D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B07DFD9-6CC3-4D92-80AA-8CC7A2F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48AD20E-91B6-4BEE-9BDC-95D7488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12D74BE-7F83-4A8F-981F-1535484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03C7FF9-8BDE-4F6F-86A2-F8906EAC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12A5007-23E5-4C87-8BEF-CCD2AB25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7308A51-51C2-4FA3-854F-AF2E7AF6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ED6D78-7A73-4B56-869E-692F8457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6B5599A-1231-45D7-9D1E-080A151E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BF351BC-E9DC-4C52-BE62-8B224F9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28477-D8B1-4625-8A13-6C9360A1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EF2B016-1D67-4D89-A9D8-7434F92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D73B5EA-98BA-4F40-8C55-4B585BE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E9C1B91-0708-4C06-AE64-E1325DA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132FC36-E121-4F86-99DE-39DAE10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2CAC8FA-42D4-46CE-A10B-DBA6241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A3F7DE7-ABD7-44A0-AF81-38D0654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68EB5B0-49E4-40DA-B477-8D05A42D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3CF6104-B667-4FE9-A25C-785D33CD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0BF03CF-BAF6-4081-A57E-2EA9B012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C0D3711-1DC5-4F00-8548-D58E45C7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1A28B-525D-495E-81F2-FCAF17B9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7D393E0-62B5-488D-B7F8-BF73670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4C3AE43-512F-4673-92A9-A456AD7B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194492A-29E6-4F81-8192-6827686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59E211C-F322-4CF6-88F4-1C2BE74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BBC7ED1-55DB-4D22-A6D0-510B7353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52C938E-73DA-48BA-879F-028F970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506F175-F21E-408E-90A0-D1FD972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6948988-ACBF-48AF-A74D-AAD417A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5F4A762-B843-48F8-B698-D1BEC2B3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F7FE785-F00B-4357-9A19-E5370DD7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554-6D45-44E9-9843-5A40EAE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B696C-CBE9-4C03-9C29-3FCF5B83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DD1A260-550B-4D32-AC93-D0267B0C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F06C156-FE76-4997-9B2E-C12B699D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2F244FE-2E25-4C00-A921-E5AF1DFF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70EC1CF-C352-44B2-B173-E206E1CF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96316BA-CE14-48D5-B28D-73C1DFE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3F3D6FD-795A-4B6D-BFDA-E3E09198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441B5FC-E230-4738-BDC1-314C2AA5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A44C346-0DF4-4E3F-BD7B-454F18C4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FCB35FC-BEEA-4AFC-A0B3-E7C7EF3B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2967B6-857C-4911-B622-0C68ABD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77B7-BC9D-474E-AA3C-70A5FF9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76ECD90-15F8-4A58-ADCA-0E00272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A0F9C99-CB46-42F6-976B-E7546925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EC9961D-4C3F-4E90-A086-C87D32B4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23BF51A-C64B-47B6-B673-F1848A61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A1ED994-1AE9-48DB-A822-2018239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F9ACBDD-C659-47AE-A3D3-F894980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1EA2866-061A-42B8-9BD0-51D394CC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F50A54F-462A-49D4-B657-D9F21C9F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EBB8F47-478C-407D-A79D-B365F22E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D0264C9-CAAC-41BD-A634-FD773F2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C2C3-F60C-438F-AE26-E9CF403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190E7A0-7B6F-4A73-A979-734FD240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3A49545-1A59-426E-B15D-7435C24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A8B10BD-0BE8-492A-B7D1-B4586C0F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C9BED9A-FD3F-45CE-A219-95A25A86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3DFEB02-C30D-45FE-9286-768D7438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5B7A23F-6CAA-4DE3-8B54-03324E85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DE38D66-FA88-4BC1-AA95-F49C5BB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D58457-4859-4B7A-B637-2BDCD256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AD4A41F-E820-4C2C-8044-FDCB425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9ADCE95-D29F-4313-B9F6-C6B129F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1BC09-1042-4848-8019-D12EE3EF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95DF080-B611-4711-BA5C-691BE6A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825AC0B-24F8-456A-813A-FC978FF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C947EF4-1416-4798-A5C4-A19BF929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776AAAB-90F8-47C4-8392-06ECF4E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4499DEA-B841-4E70-8598-E2C02E00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B0E687E-BB86-44FA-B2D9-BA64F30F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C311BB9-B1DC-4477-9A13-A9089643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8D1A961-201A-44AB-9BA5-8742B9D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ABB43A7-5E80-4950-9BB8-E51D217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5C6A755-2BC8-4738-ACCC-8A25C488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624B4-E2CA-409A-85A4-B3719AAD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2F9AD4F-B45D-49C2-B221-AC957BC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87AC991-AE94-4983-8BF6-1112CAC9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CD81FD0-A470-4AEC-BD7E-79B03519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8F361D6-CE46-448B-933E-7645914A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C4816FC-2F72-422C-A6E2-02EC0F4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D236542-E333-4CCE-878C-B1D42E7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CAC9B36-DD1B-4904-9DD1-529AABE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FED6EAF-1CF1-4A32-B98F-88CDF2B9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2A9DC45-5160-4CD9-8048-3510BF7E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7EA7381-A82A-4F90-B903-5FCAF8F8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6C7D0-0AF4-4C50-8A79-A9D774E3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227E873-6A45-46DB-A6E1-98DFF53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2821B04-1B88-4DBB-A079-E8345794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C2BA811-F1DA-4B0E-9194-9ABACCC2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18F2834-DCB3-4AE1-B82E-94CE6BA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B095CC1-F437-455E-8551-98686BAC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4DBF5E7-B5B2-4955-B8B4-758C073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A200591-304E-4C24-8A1D-7A3838A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5485893-DC6D-4D28-A7AE-5C932D10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754A187-5C85-4C57-A295-E6070BA0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C830313-06CE-4744-82CE-7C537332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7A816-89AB-45BB-905B-6A4263C7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85CA9A9-2925-4344-A6B8-FCA700E2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3F9CA31-3D07-4943-9EE5-8475C5D8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BE3C1D1-ADD3-478B-83AE-A433499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073E2F2-FBED-4AF9-BC6C-6345BD4F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4FBA93A-417B-4C6F-A3EA-6E35BA87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2600778-5DB7-4B8E-A064-BF192045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6737812-BD86-4140-BA10-E1C5541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182FB12-34AD-4E8E-80C7-B9FF3A2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17D3CCE-2E88-4E40-AF18-D419506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0F30CD5-7518-4136-B0B5-9B1E7F5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4EBBE-2828-4D64-84B1-F7647B09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711CE42-05BE-430B-A5FE-98F24E2A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5CCB15E-F253-45AF-89A8-EEB0D909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1BBA48E-9A18-4B74-A48B-60F8CD3B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CBA9DE7-D7BB-4A40-B7CC-02BBCB1E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3918E81-8F38-49FB-A6CF-424F16D0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42775FB-526B-4DDD-B312-3BF60FAB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A04B16E-6C6A-4FCB-8D0E-F882B8D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0819DB5-4BFA-4601-85E8-F26FD857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0599C6-C00A-430D-9281-F43C4308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7C76382-A8AE-43D3-B929-3147760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16527-DAF6-4DC4-8019-8EFF92DF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DEDC9D7-D271-42F1-A93E-72C6AF2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EFAEA43-905D-4456-BF72-4B8D9D4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EE06847-9999-4065-ADFC-2BB9FD8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A530B25-747C-4C32-911E-2F16E9D9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511CA79-CD6F-4573-9FEA-EDE33AEC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30E1818-6F5B-42C0-B4CF-53AABF39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D3A871F-3B9D-4B4E-8ED3-099E703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9D9E9A-0513-48EE-B7C3-97B4DEE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4537AFD-ADF5-46F1-9473-9D48A79C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E8F69BB-C339-4B07-84FD-272D6BE5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C4404-2868-4FA6-BAF9-1C043522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1200125-BF03-4AD3-A858-1C2E3E8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D88AB4F-BD0F-4043-9C45-F85B3B7F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05FE5CD-77AC-4918-B219-4013899A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CD35941-31D5-4280-8454-0C832AD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35AC324-E021-4DA2-B915-53C0A8EC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90CC428-E6E9-4381-B1DA-D70DBD92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682D74B-B940-412C-879F-6486D334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BD434DB-FF2A-448B-BAEF-DB9719C3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A545B81-1C12-440F-AE96-DD231192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3202613-1590-43E5-99BE-0428F61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29.xml"/><Relationship Id="rId6" Type="http://schemas.openxmlformats.org/officeDocument/2006/relationships/slideLayout" Target="../slideLayouts/slideLayout830.xml"/><Relationship Id="rId7" Type="http://schemas.openxmlformats.org/officeDocument/2006/relationships/slideLayout" Target="../slideLayouts/slideLayout831.xml"/><Relationship Id="rId8" Type="http://schemas.openxmlformats.org/officeDocument/2006/relationships/slideLayout" Target="../slideLayouts/slideLayout832.xml"/><Relationship Id="rId9" Type="http://schemas.openxmlformats.org/officeDocument/2006/relationships/slideLayout" Target="../slideLayouts/slideLayout833.xml"/><Relationship Id="rId10" Type="http://schemas.openxmlformats.org/officeDocument/2006/relationships/slideLayout" Target="../slideLayouts/slideLayout834.xml"/><Relationship Id="rId11" Type="http://schemas.openxmlformats.org/officeDocument/2006/relationships/slideLayout" Target="../slideLayouts/slideLayout835.xml"/><Relationship Id="rId12" Type="http://schemas.openxmlformats.org/officeDocument/2006/relationships/slideLayout" Target="../slideLayouts/slideLayout836.xml"/><Relationship Id="rId13" Type="http://schemas.openxmlformats.org/officeDocument/2006/relationships/slideLayout" Target="../slideLayouts/slideLayout837.xml"/><Relationship Id="rId14" Type="http://schemas.openxmlformats.org/officeDocument/2006/relationships/slideLayout" Target="../slideLayouts/slideLayout838.xml"/><Relationship Id="rId15" Type="http://schemas.openxmlformats.org/officeDocument/2006/relationships/slideLayout" Target="../slideLayouts/slideLayout839.xml"/><Relationship Id="rId16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61.xml"/><Relationship Id="rId6" Type="http://schemas.openxmlformats.org/officeDocument/2006/relationships/slideLayout" Target="../slideLayouts/slideLayout962.xml"/><Relationship Id="rId7" Type="http://schemas.openxmlformats.org/officeDocument/2006/relationships/slideLayout" Target="../slideLayouts/slideLayout963.xml"/><Relationship Id="rId8" Type="http://schemas.openxmlformats.org/officeDocument/2006/relationships/slideLayout" Target="../slideLayouts/slideLayout964.xml"/><Relationship Id="rId9" Type="http://schemas.openxmlformats.org/officeDocument/2006/relationships/slideLayout" Target="../slideLayouts/slideLayout965.xml"/><Relationship Id="rId10" Type="http://schemas.openxmlformats.org/officeDocument/2006/relationships/slideLayout" Target="../slideLayouts/slideLayout966.xml"/><Relationship Id="rId11" Type="http://schemas.openxmlformats.org/officeDocument/2006/relationships/slideLayout" Target="../slideLayouts/slideLayout967.xml"/><Relationship Id="rId12" Type="http://schemas.openxmlformats.org/officeDocument/2006/relationships/slideLayout" Target="../slideLayouts/slideLayout968.xml"/><Relationship Id="rId13" Type="http://schemas.openxmlformats.org/officeDocument/2006/relationships/slideLayout" Target="../slideLayouts/slideLayout969.xml"/><Relationship Id="rId14" Type="http://schemas.openxmlformats.org/officeDocument/2006/relationships/slideLayout" Target="../slideLayouts/slideLayout970.xml"/><Relationship Id="rId15" Type="http://schemas.openxmlformats.org/officeDocument/2006/relationships/slideLayout" Target="../slideLayouts/slideLayout971.xml"/><Relationship Id="rId16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21.xml"/><Relationship Id="rId5" Type="http://schemas.openxmlformats.org/officeDocument/2006/relationships/slideLayout" Target="../slideLayouts/slideLayout1022.xml"/><Relationship Id="rId6" Type="http://schemas.openxmlformats.org/officeDocument/2006/relationships/slideLayout" Target="../slideLayouts/slideLayout1023.xml"/><Relationship Id="rId7" Type="http://schemas.openxmlformats.org/officeDocument/2006/relationships/slideLayout" Target="../slideLayouts/slideLayout1024.xml"/><Relationship Id="rId8" Type="http://schemas.openxmlformats.org/officeDocument/2006/relationships/slideLayout" Target="../slideLayouts/slideLayout1025.xml"/><Relationship Id="rId9" Type="http://schemas.openxmlformats.org/officeDocument/2006/relationships/slideLayout" Target="../slideLayouts/slideLayout1026.xml"/><Relationship Id="rId10" Type="http://schemas.openxmlformats.org/officeDocument/2006/relationships/slideLayout" Target="../slideLayouts/slideLayout1027.xml"/><Relationship Id="rId11" Type="http://schemas.openxmlformats.org/officeDocument/2006/relationships/slideLayout" Target="../slideLayouts/slideLayout1028.xml"/><Relationship Id="rId12" Type="http://schemas.openxmlformats.org/officeDocument/2006/relationships/slideLayout" Target="../slideLayouts/slideLayout1029.xml"/><Relationship Id="rId13" Type="http://schemas.openxmlformats.org/officeDocument/2006/relationships/slideLayout" Target="../slideLayouts/slideLayout1030.xml"/><Relationship Id="rId14" Type="http://schemas.openxmlformats.org/officeDocument/2006/relationships/slideLayout" Target="../slideLayouts/slideLayout1031.xml"/><Relationship Id="rId15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57.xml"/><Relationship Id="rId5" Type="http://schemas.openxmlformats.org/officeDocument/2006/relationships/slideLayout" Target="../slideLayouts/slideLayout1058.xml"/><Relationship Id="rId6" Type="http://schemas.openxmlformats.org/officeDocument/2006/relationships/slideLayout" Target="../slideLayouts/slideLayout1059.xml"/><Relationship Id="rId7" Type="http://schemas.openxmlformats.org/officeDocument/2006/relationships/slideLayout" Target="../slideLayouts/slideLayout1060.xml"/><Relationship Id="rId8" Type="http://schemas.openxmlformats.org/officeDocument/2006/relationships/slideLayout" Target="../slideLayouts/slideLayout1061.xml"/><Relationship Id="rId9" Type="http://schemas.openxmlformats.org/officeDocument/2006/relationships/slideLayout" Target="../slideLayouts/slideLayout1062.xml"/><Relationship Id="rId10" Type="http://schemas.openxmlformats.org/officeDocument/2006/relationships/slideLayout" Target="../slideLayouts/slideLayout1063.xml"/><Relationship Id="rId11" Type="http://schemas.openxmlformats.org/officeDocument/2006/relationships/slideLayout" Target="../slideLayouts/slideLayout1064.xml"/><Relationship Id="rId12" Type="http://schemas.openxmlformats.org/officeDocument/2006/relationships/slideLayout" Target="../slideLayouts/slideLayout1065.xml"/><Relationship Id="rId13" Type="http://schemas.openxmlformats.org/officeDocument/2006/relationships/slideLayout" Target="../slideLayouts/slideLayout1066.xml"/><Relationship Id="rId14" Type="http://schemas.openxmlformats.org/officeDocument/2006/relationships/slideLayout" Target="../slideLayouts/slideLayout1067.xml"/><Relationship Id="rId15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69.xml"/><Relationship Id="rId5" Type="http://schemas.openxmlformats.org/officeDocument/2006/relationships/slideLayout" Target="../slideLayouts/slideLayout1070.xml"/><Relationship Id="rId6" Type="http://schemas.openxmlformats.org/officeDocument/2006/relationships/slideLayout" Target="../slideLayouts/slideLayout1071.xml"/><Relationship Id="rId7" Type="http://schemas.openxmlformats.org/officeDocument/2006/relationships/slideLayout" Target="../slideLayouts/slideLayout1072.xml"/><Relationship Id="rId8" Type="http://schemas.openxmlformats.org/officeDocument/2006/relationships/slideLayout" Target="../slideLayouts/slideLayout1073.xml"/><Relationship Id="rId9" Type="http://schemas.openxmlformats.org/officeDocument/2006/relationships/slideLayout" Target="../slideLayouts/slideLayout1074.xml"/><Relationship Id="rId10" Type="http://schemas.openxmlformats.org/officeDocument/2006/relationships/slideLayout" Target="../slideLayouts/slideLayout1075.xml"/><Relationship Id="rId11" Type="http://schemas.openxmlformats.org/officeDocument/2006/relationships/slideLayout" Target="../slideLayouts/slideLayout1076.xml"/><Relationship Id="rId12" Type="http://schemas.openxmlformats.org/officeDocument/2006/relationships/slideLayout" Target="../slideLayouts/slideLayout1077.xml"/><Relationship Id="rId13" Type="http://schemas.openxmlformats.org/officeDocument/2006/relationships/slideLayout" Target="../slideLayouts/slideLayout1078.xml"/><Relationship Id="rId14" Type="http://schemas.openxmlformats.org/officeDocument/2006/relationships/slideLayout" Target="../slideLayouts/slideLayout1079.xml"/><Relationship Id="rId15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81.xml"/><Relationship Id="rId5" Type="http://schemas.openxmlformats.org/officeDocument/2006/relationships/slideLayout" Target="../slideLayouts/slideLayout1082.xml"/><Relationship Id="rId6" Type="http://schemas.openxmlformats.org/officeDocument/2006/relationships/slideLayout" Target="../slideLayouts/slideLayout1083.xml"/><Relationship Id="rId7" Type="http://schemas.openxmlformats.org/officeDocument/2006/relationships/slideLayout" Target="../slideLayouts/slideLayout1084.xml"/><Relationship Id="rId8" Type="http://schemas.openxmlformats.org/officeDocument/2006/relationships/slideLayout" Target="../slideLayouts/slideLayout1085.xml"/><Relationship Id="rId9" Type="http://schemas.openxmlformats.org/officeDocument/2006/relationships/slideLayout" Target="../slideLayouts/slideLayout1086.xml"/><Relationship Id="rId10" Type="http://schemas.openxmlformats.org/officeDocument/2006/relationships/slideLayout" Target="../slideLayouts/slideLayout1087.xml"/><Relationship Id="rId11" Type="http://schemas.openxmlformats.org/officeDocument/2006/relationships/slideLayout" Target="../slideLayouts/slideLayout1088.xml"/><Relationship Id="rId12" Type="http://schemas.openxmlformats.org/officeDocument/2006/relationships/slideLayout" Target="../slideLayouts/slideLayout1089.xml"/><Relationship Id="rId13" Type="http://schemas.openxmlformats.org/officeDocument/2006/relationships/slideLayout" Target="../slideLayouts/slideLayout1090.xml"/><Relationship Id="rId14" Type="http://schemas.openxmlformats.org/officeDocument/2006/relationships/slideLayout" Target="../slideLayouts/slideLayout1091.xml"/><Relationship Id="rId15" Type="http://schemas.openxmlformats.org/officeDocument/2006/relationships/slideLayout" Target="../slideLayouts/slideLayout109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7028-C6E8-42F5-A524-8753F5D94FC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39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248-AB7D-4277-9196-896EFAC1227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E0D-D776-436B-BA29-DBBCCCABB74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395-912B-4EE1-AC00-FD5F13B15F0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54EF-B712-4E86-83F1-77F31B8F079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609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332-6FF0-4E5D-BF44-A4E5E287D1C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65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6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A18-0194-4750-AB23-33080D808D9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70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1DB-278C-4250-9C19-5F14FEBCB05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75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9CE3-8E12-41B5-9707-E2352401517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0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E28-A635-48BE-B7CE-8790F23AD15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EAB-AE60-4489-A57C-6A7139E5C91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D3B7-CAFA-49D3-8BC7-BCC8180E50E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9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CDD-A9B4-4148-B301-1E1D1F63DCA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8703-3C48-460E-9AD9-BFAC6B9805A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99D-FB72-4838-BFB4-6BE6DFEC3E7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2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62EF-A401-42F8-BCF6-097D4242DB7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7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197-B252-4373-AC15-06A7C2E9345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1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3C1-1950-4704-97F1-0FDB696556A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6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17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D26B-66CE-4DD6-B13D-02BE0227120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1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A1A1-6545-4472-8DEC-2FA321359A9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26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0BB5-E3C6-4546-A1B6-6EEBDCCE988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1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965-FD5C-4FBB-833F-C035674AA18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D77-6A9B-4D85-8356-7BA6EB4DD6B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2E4-EDCF-47EE-86A0-DF7D4716303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11DF-6776-432D-BE7A-0C68AD7CA98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733-5F68-461B-A6C0-CBD2B21DC17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5933-4DB2-403A-935E-4846BB4CC33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3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0AF-DAD7-44A1-9183-3E972A3F55E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8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30D-B935-4E58-8778-5FE1706CF46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2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10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10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10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C20A-E470-41F0-8AEA-437BB2C0F3B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7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68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0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AA42-AF10-460E-B722-18E565128C8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72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CD4-E9DB-4893-8632-FDE25A305EF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77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300D-B893-4604-8D34-6A7C7EC17B8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34A-037C-4D6E-8C45-1E9B355B69E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82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dt" idx="1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 type="ftr" idx="1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 type="sldNum" idx="1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3A6-F68C-4E72-AF34-F02619E6915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 type="dt" idx="1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 type="ftr" idx="1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 type="sldNum" idx="1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5C7-DC73-45F8-8629-FCE0DB71B5D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1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9886-46BD-4332-A7BD-9F9B1E13CD6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 type="dt" idx="12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 type="ftr" idx="12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 type="sldNum" idx="12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AF3-EF26-465C-9072-8A9E07116FF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13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13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13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CBD2-6557-4010-93A2-7E2EFE0AF97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04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 type="dt" idx="13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 type="ftr" idx="13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 type="sldNum" idx="13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7D68-3524-4670-ACC0-09960FE50CB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9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3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3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3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A234-B8D4-4E8D-94E3-AF1B1C60B8A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13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 type="dt" idx="13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 type="ftr" idx="14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 type="sldNum" idx="14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6E4-43ED-466B-926E-804E84D3518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18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19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4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4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4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CC2-C6EF-4098-93B9-A9B582B0A0A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3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 type="dt" idx="14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 type="ftr" idx="14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 type="sldNum" idx="14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5738-10A5-4B9F-A9D8-00E8B8A17D5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5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7D1D-1102-4E9C-98B7-5A950F6A746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28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 type="dt" idx="14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 type="ftr" idx="14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 type="sldNum" idx="15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6E2-AAC2-417A-AFE8-E97652E5B04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3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dt" idx="15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 type="ftr" idx="15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 type="sldNum" idx="15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C20-E3B2-445D-AF2A-448ACA958C9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5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5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 type="sldNum" idx="15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D2C-53CD-4800-93BF-6AF93EEBAA1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2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 type="dt" idx="15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 type="ftr" idx="15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 type="sldNum" idx="15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B286-70E8-4F54-BD35-2B17B83B3CD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 type="dt" idx="16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 type="ftr" idx="16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5"/>
          <p:cNvSpPr>
            <a:spLocks noGrp="1"/>
          </p:cNvSpPr>
          <p:nvPr>
            <p:ph type="sldNum" idx="16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B9BF-30C0-4BE9-ADE7-5022402FA6C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dt" idx="16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 type="ftr" idx="16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 type="sldNum" idx="16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84D-ED09-4423-979C-E259821D362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55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6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6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6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E9CF-8F8C-4369-A052-C5691C062F2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0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 type="dt" idx="16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 type="ftr" idx="17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 type="sldNum" idx="17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B03-CEAD-4CC9-A076-CD68CAC4678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4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 type="dt" idx="17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 type="ftr" idx="17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 type="sldNum" idx="17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A34D-DB4C-4907-9196-552577ACAA6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9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70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 type="dt" idx="17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 type="ftr" idx="17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5"/>
          <p:cNvSpPr>
            <a:spLocks noGrp="1"/>
          </p:cNvSpPr>
          <p:nvPr>
            <p:ph type="sldNum" idx="17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318E-8CF5-496B-8B1D-187D848A4A8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06B-4123-4A80-A957-B95ECA3AE4F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74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 type="dt" idx="17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 type="ftr" idx="17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 type="sldNum" idx="18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C3F9-4001-4FD5-B5E9-D939A2C3B3A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79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 type="dt" idx="18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 type="ftr" idx="18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 type="sldNum" idx="18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4CDC-A33A-48B1-8413-286B4C02C91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4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dt" idx="18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ftr" idx="18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 type="sldNum" idx="18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A371-CC18-434D-9B71-C00B3018A93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 type="dt" idx="18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 type="ftr" idx="18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 type="sldNum" idx="18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169-479C-4572-9239-FB4BB892B82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93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 type="dt" idx="19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 type="ftr" idx="19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5"/>
          <p:cNvSpPr>
            <a:spLocks noGrp="1"/>
          </p:cNvSpPr>
          <p:nvPr>
            <p:ph type="sldNum" idx="19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251-71E2-454C-A5C4-7EAE41CF795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 type="dt" idx="19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 type="ftr" idx="19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 type="sldNum" idx="19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7DAD-4B8B-4829-B0F5-C6AF7DD902F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 type="dt" idx="19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 type="ftr" idx="19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 type="sldNum" idx="19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9A8-2C14-4376-8854-1228A089F8C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06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 type="dt" idx="19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 type="ftr" idx="20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 type="sldNum" idx="20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6B2-31B7-47C7-BC5D-87FBA1454B4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11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 type="dt" idx="20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 type="ftr" idx="20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5"/>
          <p:cNvSpPr>
            <a:spLocks noGrp="1"/>
          </p:cNvSpPr>
          <p:nvPr>
            <p:ph type="sldNum" idx="20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BBC3-F846-4EE3-BB12-E96E4CFF117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15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 type="dt" idx="20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 type="ftr" idx="20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5"/>
          <p:cNvSpPr>
            <a:spLocks noGrp="1"/>
          </p:cNvSpPr>
          <p:nvPr>
            <p:ph type="sldNum" idx="20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5F69-0BB3-4BFC-A25D-36A5FCC6ECC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9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195A-0757-4EFF-B5E3-6EC28460937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0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21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 type="dt" idx="20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 type="ftr" idx="20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5"/>
          <p:cNvSpPr>
            <a:spLocks noGrp="1"/>
          </p:cNvSpPr>
          <p:nvPr>
            <p:ph type="sldNum" idx="21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E28-A54B-4419-8181-421D714DDAB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5"/>
    <p:sldLayoutId id="2147484547" r:id="rId6"/>
    <p:sldLayoutId id="2147484548" r:id="rId7"/>
    <p:sldLayoutId id="2147484549" r:id="rId8"/>
    <p:sldLayoutId id="2147484550" r:id="rId9"/>
    <p:sldLayoutId id="2147484551" r:id="rId10"/>
    <p:sldLayoutId id="2147484552" r:id="rId11"/>
    <p:sldLayoutId id="2147484553" r:id="rId12"/>
    <p:sldLayoutId id="2147484554" r:id="rId13"/>
    <p:sldLayoutId id="2147484555" r:id="rId14"/>
    <p:sldLayoutId id="2147484556" r:id="rId15"/>
    <p:sldLayoutId id="2147484557" r:id="rId16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5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 type="dt" idx="21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 type="ftr" idx="21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5"/>
          <p:cNvSpPr>
            <a:spLocks noGrp="1"/>
          </p:cNvSpPr>
          <p:nvPr>
            <p:ph type="sldNum" idx="21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9521-AEB4-4602-90AF-8D8662D654F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330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 type="dt" idx="21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 type="ftr" idx="21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5"/>
          <p:cNvSpPr>
            <a:spLocks noGrp="1"/>
          </p:cNvSpPr>
          <p:nvPr>
            <p:ph type="sldNum" idx="21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093-0F56-40AE-A2E0-5ADF7A19980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35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 type="dt" idx="21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 type="ftr" idx="21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5"/>
          <p:cNvSpPr>
            <a:spLocks noGrp="1"/>
          </p:cNvSpPr>
          <p:nvPr>
            <p:ph type="sldNum" idx="21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19B4-C720-419A-98E0-7888989556D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1" name="PlaceHolder 3"/>
          <p:cNvSpPr>
            <a:spLocks noGrp="1"/>
          </p:cNvSpPr>
          <p:nvPr>
            <p:ph type="dt" idx="22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4"/>
          <p:cNvSpPr>
            <a:spLocks noGrp="1"/>
          </p:cNvSpPr>
          <p:nvPr>
            <p:ph type="ftr" idx="22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5"/>
          <p:cNvSpPr>
            <a:spLocks noGrp="1"/>
          </p:cNvSpPr>
          <p:nvPr>
            <p:ph type="sldNum" idx="22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213-6B35-41FF-8F8E-6134CEFCCB7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44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 type="dt" idx="22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 type="ftr" idx="22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 type="sldNum" idx="22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845B-7396-4E26-8FEC-F3C15C40A02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 type="dt" idx="22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 type="ftr" idx="22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5"/>
          <p:cNvSpPr>
            <a:spLocks noGrp="1"/>
          </p:cNvSpPr>
          <p:nvPr>
            <p:ph type="sldNum" idx="22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5D37-176C-4FE2-A7E2-2D1D192FD18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 type="dt" idx="22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 type="ftr" idx="23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5"/>
          <p:cNvSpPr>
            <a:spLocks noGrp="1"/>
          </p:cNvSpPr>
          <p:nvPr>
            <p:ph type="sldNum" idx="23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488-3531-42B8-9838-DD65FE8FDD1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9" name="PlaceHolder 3"/>
          <p:cNvSpPr>
            <a:spLocks noGrp="1"/>
          </p:cNvSpPr>
          <p:nvPr>
            <p:ph type="dt" idx="23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4"/>
          <p:cNvSpPr>
            <a:spLocks noGrp="1"/>
          </p:cNvSpPr>
          <p:nvPr>
            <p:ph type="ftr" idx="23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5"/>
          <p:cNvSpPr>
            <a:spLocks noGrp="1"/>
          </p:cNvSpPr>
          <p:nvPr>
            <p:ph type="sldNum" idx="23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B6D-E2E2-48C3-A29F-DBA53CE43B0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2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 type="dt" idx="23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 type="ftr" idx="23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 type="sldNum" idx="23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C257-A580-4B34-8D32-1EBDDD2BC4C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3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EF4-CD07-4D05-ACB2-25FD33ADDAE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6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 type="dt" idx="23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 type="ftr" idx="23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PlaceHolder 5"/>
          <p:cNvSpPr>
            <a:spLocks noGrp="1"/>
          </p:cNvSpPr>
          <p:nvPr>
            <p:ph type="sldNum" idx="24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93D-7850-41A4-B04B-827C13D985C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71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72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dt" idx="24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 type="ftr" idx="24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 type="sldNum" idx="24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8E7-9818-41A6-A218-A7BB01A8B18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5"/>
    <p:sldLayoutId id="2147484690" r:id="rId6"/>
    <p:sldLayoutId id="2147484691" r:id="rId7"/>
    <p:sldLayoutId id="2147484692" r:id="rId8"/>
    <p:sldLayoutId id="2147484693" r:id="rId9"/>
    <p:sldLayoutId id="2147484694" r:id="rId10"/>
    <p:sldLayoutId id="2147484695" r:id="rId11"/>
    <p:sldLayoutId id="2147484696" r:id="rId12"/>
    <p:sldLayoutId id="2147484697" r:id="rId13"/>
    <p:sldLayoutId id="2147484698" r:id="rId14"/>
    <p:sldLayoutId id="2147484699" r:id="rId15"/>
    <p:sldLayoutId id="2147484700" r:id="rId16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76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dt" idx="24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4"/>
          <p:cNvSpPr>
            <a:spLocks noGrp="1"/>
          </p:cNvSpPr>
          <p:nvPr>
            <p:ph type="ftr" idx="24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5"/>
          <p:cNvSpPr>
            <a:spLocks noGrp="1"/>
          </p:cNvSpPr>
          <p:nvPr>
            <p:ph type="sldNum" idx="24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13F3-49C8-4B5C-AC8C-20E6798F73A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381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 type="dt" idx="24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 type="ftr" idx="24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 type="sldNum" idx="24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EB15-1AA3-491D-B252-365C8F5A78A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86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 type="dt" idx="25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 type="ftr" idx="25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5"/>
          <p:cNvSpPr>
            <a:spLocks noGrp="1"/>
          </p:cNvSpPr>
          <p:nvPr>
            <p:ph type="sldNum" idx="25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0FBC-E3F0-4556-9C13-64240B90662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 type="dt" idx="25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 type="ftr" idx="25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 type="sldNum" idx="25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6986-9C5C-4A3F-8482-D4A273508DA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95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 type="dt" idx="25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 type="ftr" idx="25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5"/>
          <p:cNvSpPr>
            <a:spLocks noGrp="1"/>
          </p:cNvSpPr>
          <p:nvPr>
            <p:ph type="sldNum" idx="25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E39-4A79-448A-A440-DD0D67759DF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4"/>
    <p:sldLayoutId id="2147484755" r:id="rId5"/>
    <p:sldLayoutId id="2147484756" r:id="rId6"/>
    <p:sldLayoutId id="2147484757" r:id="rId7"/>
    <p:sldLayoutId id="2147484758" r:id="rId8"/>
    <p:sldLayoutId id="2147484759" r:id="rId9"/>
    <p:sldLayoutId id="2147484760" r:id="rId10"/>
    <p:sldLayoutId id="2147484761" r:id="rId11"/>
    <p:sldLayoutId id="2147484762" r:id="rId12"/>
    <p:sldLayoutId id="2147484763" r:id="rId13"/>
    <p:sldLayoutId id="2147484764" r:id="rId14"/>
    <p:sldLayoutId id="2147484765" r:id="rId15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3"/>
          <p:cNvSpPr>
            <a:spLocks noGrp="1"/>
          </p:cNvSpPr>
          <p:nvPr>
            <p:ph type="dt" idx="25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4"/>
          <p:cNvSpPr>
            <a:spLocks noGrp="1"/>
          </p:cNvSpPr>
          <p:nvPr>
            <p:ph type="ftr" idx="26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5"/>
          <p:cNvSpPr>
            <a:spLocks noGrp="1"/>
          </p:cNvSpPr>
          <p:nvPr>
            <p:ph type="sldNum" idx="26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6989-53F2-4A1C-9D5B-4A3629421A8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3" name="PlaceHolder 3"/>
          <p:cNvSpPr>
            <a:spLocks noGrp="1"/>
          </p:cNvSpPr>
          <p:nvPr>
            <p:ph type="dt" idx="26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4"/>
          <p:cNvSpPr>
            <a:spLocks noGrp="1"/>
          </p:cNvSpPr>
          <p:nvPr>
            <p:ph type="ftr" idx="26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5"/>
          <p:cNvSpPr>
            <a:spLocks noGrp="1"/>
          </p:cNvSpPr>
          <p:nvPr>
            <p:ph type="sldNum" idx="26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1923-FF18-46D1-BA5E-89DC8DCA2EE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08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 type="dt" idx="26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 type="ftr" idx="26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 type="sldNum" idx="26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058-DCE3-4DFB-9C8A-DBA625010EB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4"/>
    <p:sldLayoutId id="2147484794" r:id="rId5"/>
    <p:sldLayoutId id="2147484795" r:id="rId6"/>
    <p:sldLayoutId id="2147484796" r:id="rId7"/>
    <p:sldLayoutId id="2147484797" r:id="rId8"/>
    <p:sldLayoutId id="2147484798" r:id="rId9"/>
    <p:sldLayoutId id="2147484799" r:id="rId10"/>
    <p:sldLayoutId id="2147484800" r:id="rId11"/>
    <p:sldLayoutId id="2147484801" r:id="rId12"/>
    <p:sldLayoutId id="2147484802" r:id="rId13"/>
    <p:sldLayoutId id="2147484803" r:id="rId14"/>
    <p:sldLayoutId id="2147484804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8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9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C9F3-990A-4705-B901-B64A4BA447B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3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6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6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7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986C-39CB-47EC-988E-11AF8247605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4"/>
    <p:sldLayoutId id="2147484807" r:id="rId5"/>
    <p:sldLayoutId id="2147484808" r:id="rId6"/>
    <p:sldLayoutId id="2147484809" r:id="rId7"/>
    <p:sldLayoutId id="2147484810" r:id="rId8"/>
    <p:sldLayoutId id="2147484811" r:id="rId9"/>
    <p:sldLayoutId id="2147484812" r:id="rId10"/>
    <p:sldLayoutId id="2147484813" r:id="rId11"/>
    <p:sldLayoutId id="2147484814" r:id="rId12"/>
    <p:sldLayoutId id="2147484815" r:id="rId13"/>
    <p:sldLayoutId id="2147484816" r:id="rId14"/>
    <p:sldLayoutId id="2147484817" r:id="rId15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7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dt" idx="27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 type="ftr" idx="27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PlaceHolder 5"/>
          <p:cNvSpPr>
            <a:spLocks noGrp="1"/>
          </p:cNvSpPr>
          <p:nvPr>
            <p:ph type="sldNum" idx="27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BA0-0F3D-47FD-AB2F-B0B8FB16CB8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4"/>
    <p:sldLayoutId id="2147484820" r:id="rId5"/>
    <p:sldLayoutId id="2147484821" r:id="rId6"/>
    <p:sldLayoutId id="2147484822" r:id="rId7"/>
    <p:sldLayoutId id="2147484823" r:id="rId8"/>
    <p:sldLayoutId id="2147484824" r:id="rId9"/>
    <p:sldLayoutId id="2147484825" r:id="rId10"/>
    <p:sldLayoutId id="2147484826" r:id="rId11"/>
    <p:sldLayoutId id="2147484827" r:id="rId12"/>
    <p:sldLayoutId id="2147484828" r:id="rId13"/>
    <p:sldLayoutId id="2147484829" r:id="rId14"/>
    <p:sldLayoutId id="214748483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137160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ffc000"/>
                </a:solidFill>
                <a:latin typeface="Gill Sans MT"/>
              </a:rPr>
              <a:t>التعريف بالأمراض وطرق علاجها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المناعة الصناعية الإيجابية:</a:t>
            </a:r>
            <a:br>
              <a:rPr sz="3900"/>
            </a:br>
            <a:r>
              <a:rPr b="0" lang="ar-SA" sz="3900" spc="-1" strike="noStrike">
                <a:solidFill>
                  <a:srgbClr val="1e2124"/>
                </a:solidFill>
                <a:latin typeface="Gill Sans MT"/>
              </a:rPr>
              <a:t>يكتسبها الانسان نتيجة للتطعيمات التي يتلقاها.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"/>
          <p:cNvSpPr txBox="1"/>
          <p:nvPr/>
        </p:nvSpPr>
        <p:spPr>
          <a:xfrm>
            <a:off x="971280" y="836640"/>
            <a:ext cx="7581960" cy="34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المناعة الصناعية السلبية:</a:t>
            </a:r>
            <a:br>
              <a:rPr sz="3900"/>
            </a:br>
            <a:r>
              <a:rPr b="0" lang="ar-SA" sz="3900" spc="-1" strike="noStrike">
                <a:solidFill>
                  <a:srgbClr val="1e2124"/>
                </a:solidFill>
                <a:latin typeface="Gill Sans MT"/>
              </a:rPr>
              <a:t>تتم عن طريق نقل الأجسام المضادة ذاتها إلى جسم الانسان المعرض للعدوى, مما يؤدي الى توافر مناعة سريعة للمرض ولكنها قصيرة المدى.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2484360" y="764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أنماط انتشار الأمراض المعدية: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إصابات الفردية: أي تواجد المرض بصورة محدودة وبمعدل شبه ثابت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وباء: وهو انتشار العدوى بصورة مفاجئة وحاد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وباء العالمي: وهو انتشار المرض في العديد من البلاد في وقت واح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مرض المتواطن: وهو المرض الموجود بصفة مستمرة في منطقة محدودة وبمعدل عالي وذلك لتوافر أسباب استمراره, مثل مرض البهارسيا في مص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أنواع حامل المرض: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حامل المرض الحاضن: كمرض الإيدز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حامل المرض الناقل: كمرض التيفو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حامل المرض المخالط: وهو عندما تتغلب مناعة الانسان على المر</a:t>
            </a: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ض ويقوم الجسم بطرد الميكروبات للخارج مما يسبب عدوى ويتميز بعدم ظهور أعراض المرض لدي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"/>
          <p:cNvSpPr txBox="1"/>
          <p:nvPr/>
        </p:nvSpPr>
        <p:spPr>
          <a:xfrm>
            <a:off x="900000" y="1125000"/>
            <a:ext cx="808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كيفية انتشار العدوى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جهاز التنفسي: مرض الحصب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جهاز الهضمي: الكوليرا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دم: كمرض الايدز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بول: كالبلهارسيا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جلد: كالجرب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2556000" y="764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وسائل انتقال العدوى: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رذا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طعام والشراب الملوث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عدوى عن طريق الملامس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عدوى عن طريق الحشرات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مكافحة الأمراض المعدية: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عزل المريض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تبليغ بالحالات المصابة بالأمراض المعدي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علاج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تطهير المستم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مكافحة الحيوان كمصدر للعدوى: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رعاية البيطرية المستمر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ذبح الحيوانات في مذابح مجهز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بعاد اماكن تربية الحيوان عن المساكن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عدام الحيوانات المريض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تعقيم اللبن قبل تناول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"/>
          <p:cNvSpPr txBox="1"/>
          <p:nvPr/>
        </p:nvSpPr>
        <p:spPr>
          <a:xfrm>
            <a:off x="971640" y="549000"/>
            <a:ext cx="7921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الأمراض المعدي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هي الأمراض التي تنتج عن تعرض الانسان للإصابة بالكائنات الحية وهي بطبيعتها قابلة للانتقال من انسان لآخ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"/>
          <p:cNvSpPr txBox="1"/>
          <p:nvPr/>
        </p:nvSpPr>
        <p:spPr>
          <a:xfrm>
            <a:off x="1186920" y="404280"/>
            <a:ext cx="7788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1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000000"/>
                </a:solidFill>
                <a:uFillTx/>
                <a:latin typeface="Gill Sans MT"/>
              </a:rPr>
              <a:t>عندما يتعرض جسم الإنسان للعدوى يبدأ الصراع بينها وتتوقف نتائجه على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حجم العدوى وقوة المكروب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قدرة الجسم على المقاومة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اذا تغلبت الميكروبات ظهر المرض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قد يستطيع الجسم التغلب على العدوى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اذا عجز الجسم عن التخلص من مسبب المرض, قد تستقر العدوى وتبقى في حالة كمون واذا ضعف الجسم نشطت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1e2124"/>
                </a:solidFill>
                <a:uFillTx/>
                <a:latin typeface="Gill Sans MT"/>
              </a:rPr>
              <a:t>مسببات الأمرض:</a:t>
            </a:r>
            <a:endParaRPr b="0" lang="en-US" sz="35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28" name=""/>
          <p:cNvSpPr txBox="1"/>
          <p:nvPr/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.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Gill Sans MT"/>
              </a:rPr>
              <a:t>الميكروبات وتشمل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أ. البكتريا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ب. الفيروسات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.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Gill Sans MT"/>
              </a:rPr>
              <a:t>الطفيليات وتشمل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أ. الطفيليات وحيدة الخلية كالملاريا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ب. طفيليات متعددة الخلية كالبلهارسيا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 u="sng">
                <a:solidFill>
                  <a:srgbClr val="1e2124"/>
                </a:solidFill>
                <a:uFillTx/>
                <a:latin typeface="Gill Sans MT"/>
              </a:rPr>
              <a:t>العوامل التي تشجع على انتشار الأمراض المعدية:</a:t>
            </a:r>
            <a:br>
              <a:rPr sz="3900"/>
            </a:br>
            <a:endParaRPr b="0" lang="en-US" sz="35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30" name=""/>
          <p:cNvSpPr txBox="1"/>
          <p:nvPr/>
        </p:nvSpPr>
        <p:spPr>
          <a:xfrm>
            <a:off x="106632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بيئة غير الصحي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ضعف الوعي الصحي وانتشار العادات الصحية السيئ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ضعف الامكانيات الصحية المتوافرة بالبيئ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Gill Sans MT"/>
              </a:rPr>
              <a:t>المناعة ومقاومة الأمراض المعدية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مناعة العامة: التي تقي الجسم من الإصابة بأي من الأمراض المعدي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وتشمل الحواجز الطبيعية التي تمنع مسببات الأمراض من الدخول الى جسم الانسان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جلد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أغشية المخاطي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عطس والكح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حمض الهيدروكلوريك في المعد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دموع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كرات الدم البيضاء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 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. المناعة الخاص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تي تعمل على وقاية الجسم من مرض معين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وتنقسم إلى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أ. مناعة طبيعية (ايجابية وسلبية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ب. مناعة صناعية (ايجابية وسلبية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 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35" name=""/>
          <p:cNvSpPr txBox="1"/>
          <p:nvPr/>
        </p:nvSpPr>
        <p:spPr>
          <a:xfrm>
            <a:off x="1116000" y="980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Gill Sans MT"/>
              </a:rPr>
              <a:t>المناعة الطبيعية الإيجابية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تحدث ندما يقوم الجسم بإفراز الأجسام المضادة استجابة للتعرض للعدوى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وبعض الأمراض تؤدي إلى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دائمة: أي لا يحدث المرض مرة أخرى كالحمى الصفراء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طويلة: تستمر لفترات طويلة ويندر تكرر المرض كالحصب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متوسطة: تمتد لأعوام ثم تنخفض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ضعيفة: لا تقي من تكرار المرض كالانفلونزا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"/>
          <p:cNvSpPr txBox="1"/>
          <p:nvPr/>
        </p:nvSpPr>
        <p:spPr>
          <a:xfrm>
            <a:off x="1447560" y="10663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المناعة الطبيعية السلبي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يكتسبها الجنين من أمه وهي مناعة مؤقتة تستمر حوالي ستة أشه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4:54:44Z</dcterms:created>
  <dc:creator>areej</dc:creator>
  <dc:description/>
  <dc:language>en-US</dc:language>
  <cp:lastModifiedBy>Lama Aljathlan</cp:lastModifiedBy>
  <dcterms:modified xsi:type="dcterms:W3CDTF">2017-04-19T08:14:54Z</dcterms:modified>
  <cp:revision>32</cp:revision>
  <dc:subject/>
  <dc:title>الشريحة 1</dc:title>
</cp:coreProperties>
</file>